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A383-F86A-4C1D-918A-971AC1D0E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6931-7DE2-4D18-B36A-C1EA2B990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B3D7-E9C9-4CBC-A2F7-B40F9FCA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50A4-74BB-4D7A-94A7-7995BF8D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9E1C-86C5-458D-AAE0-55A3E3A7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A59-EFE5-40C4-A94F-C805A08E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7279-6AD2-43E8-99AA-D12E4B82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FE1A-F35F-4948-928E-E159CAD6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DAC2-9624-44AA-AE80-7BC932B8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7069-A25B-4B6B-9AF1-4725C33D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3EE6-D595-41E6-8040-E1BABA5A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B867-A786-4D30-B06A-6623BDBE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6522-025F-42B6-83CC-A6D6391B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EBA-D13C-4B1F-AF7A-242B1DEA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0396-407C-4623-91B7-49972EA8AF9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Impact"/>
              </a:rPr>
              <a:t>Antioxidan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Enzy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uperoxide dismut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Cata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Glutathione system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(glutathione, NADPH, reductase, peroxidase  &amp; selenium)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Vitami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Vitamin C (ascorbic ac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Vitamin A and </a:t>
            </a:r>
            <a:r>
              <a:rPr b="1" lang="el-GR" sz="2400" spc="-1" strike="noStrike">
                <a:solidFill>
                  <a:srgbClr val="c00000"/>
                </a:solidFill>
                <a:latin typeface="Verdana"/>
              </a:rPr>
              <a:t>β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-carot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Vitamin E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race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elen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"/>
          <p:cNvSpPr/>
          <p:nvPr/>
        </p:nvSpPr>
        <p:spPr>
          <a:xfrm>
            <a:off x="2681280" y="76320"/>
            <a:ext cx="45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Glutathion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13_006"/>
          <p:cNvPicPr/>
          <p:nvPr/>
        </p:nvPicPr>
        <p:blipFill>
          <a:blip r:embed="rId1"/>
          <a:srcRect l="25205" t="0" r="17375" b="26800"/>
          <a:stretch/>
        </p:blipFill>
        <p:spPr>
          <a:xfrm>
            <a:off x="2438280" y="719280"/>
            <a:ext cx="5029200" cy="49989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6507360" y="487692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Selen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2407680" y="3965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533520" y="5710320"/>
            <a:ext cx="8305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2d2db9"/>
                </a:solidFill>
                <a:latin typeface="Times New Roman"/>
              </a:rPr>
              <a:t>Glucose-6-phosphate dehydrogenase  (G-6-PD) is the main source for NADPH generation and is, therefore, essential for proper function of glutathion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519120" y="822240"/>
            <a:ext cx="80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Biochemical Basi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G6PD Deficiency Hemolytic Anem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13_010"/>
          <p:cNvPicPr/>
          <p:nvPr/>
        </p:nvPicPr>
        <p:blipFill>
          <a:blip r:embed="rId1"/>
          <a:srcRect l="5615" t="4249" r="3594" b="42160"/>
          <a:stretch/>
        </p:blipFill>
        <p:spPr>
          <a:xfrm>
            <a:off x="685800" y="2492280"/>
            <a:ext cx="8077320" cy="36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Impact"/>
              </a:rPr>
              <a:t>Molecular &amp; Vascular Effects of R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Molecular effe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Lipid peroxidation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polyunsaturated fatty aci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DNA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Protein denat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activation of enz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Cytoskeletal da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Cell signaling effects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e.g., release of Ca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</a:rPr>
              <a:t>2+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from intracellular sto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Chemot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Vascular effe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Altered vascular 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ncreased endothelial cell perme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Nitric Oxide (N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5867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NO: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Free radical gas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Very short half-life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(seconds)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Metabolized into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nitrates &amp; nit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ynthesi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nzyme: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NO synthase (NOS)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recursor: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L-Argi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Effect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Relaxes vascular smooth muscle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revents platelet aggregation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Neurotransmitter in brain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Bactricidal &amp; Tumoricidal effects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13_009"/>
          <p:cNvPicPr/>
          <p:nvPr/>
        </p:nvPicPr>
        <p:blipFill>
          <a:blip r:embed="rId1"/>
          <a:srcRect l="36112" t="0" r="31482" b="12230"/>
          <a:stretch/>
        </p:blipFill>
        <p:spPr>
          <a:xfrm>
            <a:off x="6172200" y="90360"/>
            <a:ext cx="2666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Impact"/>
              </a:rPr>
              <a:t>Oxidative Stress: Role of Nitric Oxide (NO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may be both beneficial and detrimental, depending upon when and where NO is released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produced by endothelial NOS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eN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mproving vascular dilation and perfusion (i.e.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enefici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Vasodilators such a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nitroglycerin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is metabolized into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NO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and causes vasodila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ontrast, NO production by neuronal NOS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N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or by the inducible form of NOS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N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has been reported to have detrimental eff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d iNOS activity is generally associated with inflammatory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14400" y="152280"/>
            <a:ext cx="7391520" cy="13129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Pathogenesis of Atheroscler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28600" y="838080"/>
            <a:ext cx="8763120" cy="59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odified (oxidized) LDL …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xidative stress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(imbalance between oxidants and antioxida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ndothelial injury of arterial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dherence of monocytes to endothelial cells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nd their movement into intima where it becomes macroph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ptake of oxLDL by macrophage scavenger receptor: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cavenger receptor class A (SR-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ow-affinity, non-specific re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n-regulated re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oam cell transformation: Accumulation of excess lipids inside the cell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(unregulated recep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herosclerotic plaque 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18_022"/>
          <p:cNvPicPr/>
          <p:nvPr/>
        </p:nvPicPr>
        <p:blipFill>
          <a:blip r:embed="rId1"/>
          <a:srcRect l="13333" t="2223" r="10002" b="12221"/>
          <a:stretch/>
        </p:blipFill>
        <p:spPr>
          <a:xfrm>
            <a:off x="1219320" y="0"/>
            <a:ext cx="7010280" cy="58672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1046160" y="6019920"/>
            <a:ext cx="7315200" cy="7617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Athersclerotic plaque 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457200" y="144792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Compare to physiological uptak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LDL (unmodifi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by </a:t>
            </a:r>
            <a:r>
              <a:rPr b="1" lang="en-US" sz="3600" spc="-1" strike="noStrike">
                <a:solidFill>
                  <a:srgbClr val="3333cc"/>
                </a:solidFill>
                <a:latin typeface="Impact"/>
              </a:rPr>
              <a:t>high-affinity, specific &amp; tightly regul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LDL-Recep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18_020"/>
          <p:cNvPicPr/>
          <p:nvPr/>
        </p:nvPicPr>
        <p:blipFill>
          <a:blip r:embed="rId1"/>
          <a:srcRect l="4168" t="5257" r="4168" b="10643"/>
          <a:stretch/>
        </p:blipFill>
        <p:spPr>
          <a:xfrm>
            <a:off x="380880" y="0"/>
            <a:ext cx="8382240" cy="60958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685800" y="6172200"/>
            <a:ext cx="7848720" cy="60948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LDL: Receptor-Mediated End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9320" y="914040"/>
            <a:ext cx="8381880" cy="1219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cd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Oxidative Stress and Atheroscler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f8f00"/>
              </a:gs>
            </a:gsLst>
            <a:lin ang="27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63560" y="4124160"/>
            <a:ext cx="7934760" cy="764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Reem M. Sallam, M.D.; Ph.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Lecture’s 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0960" y="1208160"/>
            <a:ext cx="8722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y the end of this lecture, students are expected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fine “Oxidative Stres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termine the molecular effects of oxidative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ist some of the diseases related to oxidative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call the types and sources of Reactive Oxidative 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cognize the mechanisms of various anti-oxid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components and role of glutathione peroxidase/reductas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termine the biochemical basis of G6PD deficiency and to hemolytic an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termine molecular &amp; vascular oof 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call NO synthesis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termine the effects of NO, and its roles in oxidative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ate the oxidative stress to the pathogenesis of atheroscler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Oxidative st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condition in which cells are subjected to excessive levels of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Reactive Specie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Oxygen or Nitrative species) &amp; they are unable to counterbalance their deleterious effects with antioxid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t has been implicated in th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geing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cess &amp; in many diseases (e.g.,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therosclerosis and coronary heart disease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2836080" y="304920"/>
            <a:ext cx="372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Oxidative St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94000" y="1752480"/>
            <a:ext cx="7976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Oxidative damage to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rotei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pids (unsaturated fatty aci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Oxidative stress and dise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nflammatory conditions e.g., Rheumatoid arthr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thersclerosis and coronary heart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be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an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6PD deficiency hemolytic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066680" y="8380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mbalance between oxidant produ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d antioxidant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Passport1001001"/>
          <p:cNvPicPr/>
          <p:nvPr/>
        </p:nvPicPr>
        <p:blipFill>
          <a:blip r:embed="rId1"/>
          <a:stretch/>
        </p:blipFill>
        <p:spPr>
          <a:xfrm>
            <a:off x="838080" y="533520"/>
            <a:ext cx="747396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2"/>
          <p:cNvSpPr/>
          <p:nvPr/>
        </p:nvSpPr>
        <p:spPr>
          <a:xfrm>
            <a:off x="1219320" y="8380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Reactive Oxygen Species (RO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13_005"/>
          <p:cNvPicPr/>
          <p:nvPr/>
        </p:nvPicPr>
        <p:blipFill>
          <a:blip r:embed="rId1"/>
          <a:srcRect l="4604" t="4249" r="0" b="77453"/>
          <a:stretch/>
        </p:blipFill>
        <p:spPr>
          <a:xfrm>
            <a:off x="719280" y="1828800"/>
            <a:ext cx="789120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587600" y="4876920"/>
            <a:ext cx="60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xygen-derived free radicals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.g., Superoxide and hydroxyl rad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n-free radical: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Hydrogen per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1301040" y="838080"/>
            <a:ext cx="64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Antioxidant Mech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13_005"/>
          <p:cNvPicPr/>
          <p:nvPr/>
        </p:nvPicPr>
        <p:blipFill>
          <a:blip r:embed="rId1"/>
          <a:srcRect l="4604" t="22553" r="1578" b="47385"/>
          <a:stretch/>
        </p:blipFill>
        <p:spPr>
          <a:xfrm>
            <a:off x="228600" y="1981080"/>
            <a:ext cx="8839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Impact"/>
              </a:rPr>
              <a:t>ROS: Types and Sourc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Free radical:</a:t>
            </a:r>
            <a:br>
              <a:rPr sz="2400"/>
            </a:b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Superoxide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(O</a:t>
            </a:r>
            <a:r>
              <a:rPr b="1" lang="en-US" sz="20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)</a:t>
            </a: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Hydroxyl radical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(OH</a:t>
            </a:r>
            <a:r>
              <a:rPr b="1" lang="en-US" sz="2000" spc="-1" strike="noStrike" baseline="5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Peroxyl radical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(ROO</a:t>
            </a:r>
            <a:r>
              <a:rPr b="1" lang="en-US" sz="2000" spc="-1" strike="noStrike" baseline="5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Non free radical: </a:t>
            </a:r>
            <a:br>
              <a:rPr sz="2400"/>
            </a:b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Hydrogen peroxide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(H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Sour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During course of metabolism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.g.,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by auto-oxidation of hemoglobin</a:t>
            </a: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and xanthine oxidase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OH</a:t>
            </a:r>
            <a:r>
              <a:rPr b="1" lang="en-US" sz="2400" spc="-1" strike="noStrike" baseline="50000">
                <a:solidFill>
                  <a:srgbClr val="c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by Fenton reaction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, H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OH</a:t>
            </a:r>
            <a:r>
              <a:rPr b="1" lang="en-US" sz="2400" spc="-1" strike="noStrike" baseline="50000">
                <a:solidFill>
                  <a:srgbClr val="c00000"/>
                </a:solidFill>
                <a:latin typeface="Times New Roman"/>
              </a:rPr>
              <a:t>. 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By partial reduction of molecular oxygen in electron transport chain in mitochond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gestion of toxins, chemicals or dr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traight Connector 6"/>
          <p:cNvSpPr/>
          <p:nvPr/>
        </p:nvSpPr>
        <p:spPr>
          <a:xfrm flipH="1">
            <a:off x="3450960" y="1890720"/>
            <a:ext cx="15228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traight Connector 7"/>
          <p:cNvSpPr/>
          <p:nvPr/>
        </p:nvSpPr>
        <p:spPr>
          <a:xfrm flipH="1">
            <a:off x="2819160" y="5029200"/>
            <a:ext cx="15228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8"/>
          <p:cNvSpPr/>
          <p:nvPr/>
        </p:nvSpPr>
        <p:spPr>
          <a:xfrm flipH="1">
            <a:off x="2895480" y="5726160"/>
            <a:ext cx="15264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10"/>
          <p:cNvSpPr/>
          <p:nvPr/>
        </p:nvSpPr>
        <p:spPr>
          <a:xfrm flipH="1">
            <a:off x="2819160" y="4191120"/>
            <a:ext cx="15228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em</dc:creator>
  <dc:description/>
  <dc:language>en-US</dc:language>
  <cp:lastModifiedBy>Reem Sallam</cp:lastModifiedBy>
  <dcterms:modified xsi:type="dcterms:W3CDTF">2016-03-23T20:50:23Z</dcterms:modified>
  <cp:revision>42</cp:revision>
  <dc:subject/>
  <dc:title>PowerPoint Presentation</dc:title>
</cp:coreProperties>
</file>