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2688-4BE1-443D-98FC-DE25853EF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454B-81C3-4406-8B71-0BE525C97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58E-AD1E-428E-8A85-F5B68101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52F-2985-46A7-A0D3-C75C54DA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6340-EAF3-45A7-8BFB-EB0C79C8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D31-2974-453B-AD27-746B4B10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70D-8C2B-46B7-9015-09991B22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311-157C-4856-A90A-25510DE6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E40-85C7-4B5A-BD6F-01972902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861-DA6C-4C6B-8FDF-4E4E69F0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4383-929E-4626-A4C6-B16E4028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037B-F46C-4073-B574-5E1323C2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B0BB-1A69-473A-8990-DCFEA3A2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ABD-F9F5-4252-B756-BAB15B3B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728A-1551-4F4F-BAD7-DE3AF36F329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Antioxida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nzy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peroxide dismut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ata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lutathione system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(glutathione, NADPH, reductase, peroxidase  &amp; selenium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itam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C (ascorbic a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A and </a:t>
            </a:r>
            <a:r>
              <a:rPr b="1" lang="el-GR" sz="2400" spc="-1" strike="noStrike">
                <a:solidFill>
                  <a:srgbClr val="c00000"/>
                </a:solidFill>
                <a:latin typeface="Verdana"/>
              </a:rPr>
              <a:t>β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-carot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rac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ele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2681280" y="76320"/>
            <a:ext cx="45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Glutathion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13_006"/>
          <p:cNvPicPr/>
          <p:nvPr/>
        </p:nvPicPr>
        <p:blipFill>
          <a:blip r:embed="rId1"/>
          <a:srcRect l="25205" t="0" r="17375" b="26800"/>
          <a:stretch/>
        </p:blipFill>
        <p:spPr>
          <a:xfrm>
            <a:off x="2438280" y="719280"/>
            <a:ext cx="5029200" cy="49989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6507360" y="48769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Selen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407680" y="3965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533520" y="5710320"/>
            <a:ext cx="8305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d2db9"/>
                </a:solidFill>
                <a:latin typeface="Times New Roman"/>
              </a:rPr>
              <a:t>Glucose-6-phosphate dehydrogenase  (G-6-PD) is the main source for NADPH generation and is, therefore, essential for proper function of glutathion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519120" y="822240"/>
            <a:ext cx="80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Biochemical Basi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G6PD Deficiency 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13_010"/>
          <p:cNvPicPr/>
          <p:nvPr/>
        </p:nvPicPr>
        <p:blipFill>
          <a:blip r:embed="rId1"/>
          <a:srcRect l="5615" t="4249" r="3594" b="42160"/>
          <a:stretch/>
        </p:blipFill>
        <p:spPr>
          <a:xfrm>
            <a:off x="685800" y="2492280"/>
            <a:ext cx="807732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Molecular &amp; Vascular Effects of R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Molecular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Lipid peroxidatio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olyunsaturated fatty ac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NA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Protein den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activation of enz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ytoskeletal da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ell signaling effects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e.g., release of Ca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from intracellular st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hemot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ascular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ltered vascular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creased endothelial cell perme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Nitric Oxide (N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NO: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ree radical gas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Very short half-lif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seconds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Metabolized into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itrates &amp; nit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ynthesi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zyme: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NO synthase (NOS)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ursor: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L-Arg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ffec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laxes vascular smooth muscl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vents platelet aggregation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eurotransmitter in brain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Bactricidal &amp; Tumoricidal effects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13_009"/>
          <p:cNvPicPr/>
          <p:nvPr/>
        </p:nvPicPr>
        <p:blipFill>
          <a:blip r:embed="rId1"/>
          <a:srcRect l="36112" t="0" r="31482" b="12230"/>
          <a:stretch/>
        </p:blipFill>
        <p:spPr>
          <a:xfrm>
            <a:off x="6172200" y="90360"/>
            <a:ext cx="266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Impact"/>
              </a:rPr>
              <a:t>Oxidative Stress: Role of Nitric Oxide (N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may be both beneficial and detrimental, depending upon when and where NO is released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produced by endothelial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mproving vascular dilation and perfusion (i.e.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nefic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asodilators such a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itroglycerin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is metabolized into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O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and causes vasodila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ontrast, NO production by neuronal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or by the inducible form of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has been reported to have detrimental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 iNOS activity is generally associated with inflammatory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14400" y="152280"/>
            <a:ext cx="739152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Pathogenesis of 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28600" y="838080"/>
            <a:ext cx="876312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ified (oxidized) LDL …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xidative stress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(imbalance between oxidants and antioxid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dothelial injury of arteria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herence of monocytes to endothelial cell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d their movement into intima where it becomes macroph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oxLDL by macrophage scavenger receptor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cavenger receptor class A (SR-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-affinity, non-specific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-regulated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am cell transformation: Accumulation of excess lipids inside the cell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unregulated recep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herosclerotic plaqu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8_022"/>
          <p:cNvPicPr/>
          <p:nvPr/>
        </p:nvPicPr>
        <p:blipFill>
          <a:blip r:embed="rId1"/>
          <a:srcRect l="13333" t="2223" r="10002" b="12221"/>
          <a:stretch/>
        </p:blipFill>
        <p:spPr>
          <a:xfrm>
            <a:off x="1219320" y="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1046160" y="6019920"/>
            <a:ext cx="7315200" cy="761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457200" y="14479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Compare to physiological uptak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DL (unmodifi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by </a:t>
            </a:r>
            <a:r>
              <a:rPr b="1" lang="en-US" sz="3600" spc="-1" strike="noStrike">
                <a:solidFill>
                  <a:srgbClr val="3333cc"/>
                </a:solidFill>
                <a:latin typeface="Impact"/>
              </a:rPr>
              <a:t>high-affinity, specific &amp; tightly regu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DL-Rece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8_020"/>
          <p:cNvPicPr/>
          <p:nvPr/>
        </p:nvPicPr>
        <p:blipFill>
          <a:blip r:embed="rId1"/>
          <a:srcRect l="4168" t="5257" r="4168" b="10643"/>
          <a:stretch/>
        </p:blipFill>
        <p:spPr>
          <a:xfrm>
            <a:off x="380880" y="0"/>
            <a:ext cx="8382240" cy="6095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685800" y="6172200"/>
            <a:ext cx="7848720" cy="60948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9320" y="914040"/>
            <a:ext cx="8381880" cy="1219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Oxidative Stress and 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63560" y="4124160"/>
            <a:ext cx="79347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Reem M. Sallam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Lecture’s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10960" y="1208160"/>
            <a:ext cx="8722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y the end of this lecture, students are expected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fine “Oxidative Stres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the molecular effects of oxidative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st some of the diseases related to oxidative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all the types and sources of Reactive Oxidative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ognize the mechanisms of various anti-oxid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components and role of glutathione peroxidase/reductas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the biochemical basis of G6PD deficiency and to hemolytic an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molecular &amp; vascular oof 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call NO synthesis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termine the effects of NO, and its roles in oxidative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ate the oxidative stress to the pathogenesis of atheroscle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Oxidativ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condition in which cells are subjected to excessive levels of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Reactive Speci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Oxygen or Nitrative species) &amp; they are unable to counterbalance their deleterious effects with antioxid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has been implicated in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ge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ss &amp; in many diseases (e.g.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therosclerosis and coronary heart diseas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2836080" y="304920"/>
            <a:ext cx="37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xidativ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94000" y="1752480"/>
            <a:ext cx="7976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xidative damage to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te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pids (unsaturated fatty ac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xidative stress and dise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flammatory conditions e.g., Rheumatoid arth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thersclerosis and coronary heart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be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6PD deficiency hemol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066680" y="838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mbalance between oxidant p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d antioxidant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Passport1001001"/>
          <p:cNvPicPr/>
          <p:nvPr/>
        </p:nvPicPr>
        <p:blipFill>
          <a:blip r:embed="rId1"/>
          <a:stretch/>
        </p:blipFill>
        <p:spPr>
          <a:xfrm>
            <a:off x="838080" y="533520"/>
            <a:ext cx="747396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2"/>
          <p:cNvSpPr/>
          <p:nvPr/>
        </p:nvSpPr>
        <p:spPr>
          <a:xfrm>
            <a:off x="1219320" y="8380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Reactive Oxygen Species (RO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13_005"/>
          <p:cNvPicPr/>
          <p:nvPr/>
        </p:nvPicPr>
        <p:blipFill>
          <a:blip r:embed="rId1"/>
          <a:srcRect l="4604" t="4249" r="0" b="77453"/>
          <a:stretch/>
        </p:blipFill>
        <p:spPr>
          <a:xfrm>
            <a:off x="719280" y="1828800"/>
            <a:ext cx="789120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587600" y="4876920"/>
            <a:ext cx="60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xygen-derived free radicals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.g., Superoxide and hydroxyl rad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n-free radical: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1301040" y="838080"/>
            <a:ext cx="64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Antioxidant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6" descr="13_005"/>
          <p:cNvPicPr/>
          <p:nvPr/>
        </p:nvPicPr>
        <p:blipFill>
          <a:blip r:embed="rId1"/>
          <a:srcRect l="4604" t="22553" r="1578" b="47385"/>
          <a:stretch/>
        </p:blipFill>
        <p:spPr>
          <a:xfrm>
            <a:off x="228600" y="1981080"/>
            <a:ext cx="8839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ROS: Types and Sour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Typ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ree radical:</a:t>
            </a:r>
            <a:br>
              <a:rPr sz="2400"/>
            </a:b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Superoxide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(O</a:t>
            </a:r>
            <a:r>
              <a:rPr b="1" lang="en-US" sz="20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)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Hydroxyl radical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(OH</a:t>
            </a:r>
            <a:r>
              <a:rPr b="1" lang="en-US" sz="2000" spc="-1" strike="noStrike" baseline="5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Peroxyl radical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(ROO</a:t>
            </a:r>
            <a:r>
              <a:rPr b="1" lang="en-US" sz="2000" spc="-1" strike="noStrike" baseline="5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)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on free radical: </a:t>
            </a:r>
            <a:br>
              <a:rPr sz="2400"/>
            </a:b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Hydrogen peroxid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Sour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During course of metabolism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.g.,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by auto-oxidation of hemoglobin</a:t>
            </a:r>
            <a:br>
              <a:rPr sz="2000"/>
            </a:b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and xanthine oxidas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H</a:t>
            </a:r>
            <a:r>
              <a:rPr b="1" lang="en-US" sz="2400" spc="-1" strike="noStrike" baseline="50000">
                <a:solidFill>
                  <a:srgbClr val="c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by Fenton reaction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, H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H</a:t>
            </a:r>
            <a:r>
              <a:rPr b="1" lang="en-US" sz="2400" spc="-1" strike="noStrike" baseline="50000">
                <a:solidFill>
                  <a:srgbClr val="c00000"/>
                </a:solidFill>
                <a:latin typeface="Times New Roman"/>
              </a:rPr>
              <a:t>.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</a:rPr>
              <a:t>By partial reduction of molecular oxygen in electron transport chain in mitochond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gestion of toxins, chemicals or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traight Connector 6"/>
          <p:cNvSpPr/>
          <p:nvPr/>
        </p:nvSpPr>
        <p:spPr>
          <a:xfrm flipH="1">
            <a:off x="3450960" y="189072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traight Connector 7"/>
          <p:cNvSpPr/>
          <p:nvPr/>
        </p:nvSpPr>
        <p:spPr>
          <a:xfrm flipH="1">
            <a:off x="2819160" y="502920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8"/>
          <p:cNvSpPr/>
          <p:nvPr/>
        </p:nvSpPr>
        <p:spPr>
          <a:xfrm flipH="1">
            <a:off x="2895480" y="5726160"/>
            <a:ext cx="15264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10"/>
          <p:cNvSpPr/>
          <p:nvPr/>
        </p:nvSpPr>
        <p:spPr>
          <a:xfrm flipH="1">
            <a:off x="2819160" y="419112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em</dc:creator>
  <dc:description/>
  <dc:language>en-US</dc:language>
  <cp:lastModifiedBy>Reem Sallam</cp:lastModifiedBy>
  <dcterms:modified xsi:type="dcterms:W3CDTF">2016-03-23T20:50:23Z</dcterms:modified>
  <cp:revision>42</cp:revision>
  <dc:subject/>
  <dc:title>PowerPoint Presentation</dc:title>
</cp:coreProperties>
</file>