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20.jpeg" ContentType="image/jpeg"/>
  <Override PartName="/ppt/media/image13.png" ContentType="image/png"/>
  <Override PartName="/ppt/media/image34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8.wmf" ContentType="image/x-wmf"/>
  <Override PartName="/ppt/media/image26.jpeg" ContentType="image/jpe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7077600" cy="9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96640" y="701640"/>
            <a:ext cx="4683240" cy="351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0" y="889272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4008240" y="889272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BD848-ABE4-4B81-91AF-0FD77CE0B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C888E-6377-42B4-ACA9-12A70C450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E0B70-1D45-4D9A-8D15-3ECF46F36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00BBE-6422-458B-80A3-7F41508AB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158-3517-4041-B304-63132359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5E9-8D92-4B0B-8248-2A10F9E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991-49D7-457D-888C-8BBB9A2E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824-85C4-4814-9306-5D55262F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6D62-B1A8-4E2A-8833-C127562D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6B5F-8CF3-4BB1-A275-97BAAFE5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BE6-AE06-41A1-BDB8-C7CCEE64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766B-1605-4005-8145-490148B3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B87D-8AE7-4349-B65A-66BAC421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0DF3-8DE4-43CD-B4F7-0FF5C615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86C5-DAA5-4331-AEBC-514002C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3A2-9AAD-4A6B-B4E5-25F119EC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B356-9277-4E61-9A8E-CFFBF30F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839E-5869-4B4C-8EF2-7CBC58B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9421-C3B1-4F34-A212-7F910728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3645-1081-44D1-A85D-40CCC207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8D67-62FC-4153-9CD9-54A357CA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6ABC-30D6-449B-8B72-179902E6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6E58-47C9-4E9D-B42B-ECCAA366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8087-AFE7-4BDB-A083-C64E72A2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D3A5-5AB8-4EB1-83A8-1E2541F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E9BC-D0AC-46A8-AF8C-BFFAD68E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AEF-3251-4B95-8B54-5A7F50C0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F730-7C35-4798-822E-532AA357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77F5-3B23-4CEC-8F9C-6B098EFD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3679-54A2-4588-933A-63C90C0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6697-8AE8-4BBB-8D87-E9EE5CA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144B-C8E6-446B-9BC2-7C4D4A79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AFA42-C32F-4016-BDD5-4F7FD385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7738-4351-4892-A8D4-186BE5D9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6D57-0926-434B-8655-498A28BF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4F75-466E-4A50-9A43-2761136F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49DC-14AC-45B4-9C26-DB9B7DE5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31D-63FC-4D70-B2DA-EDBCA907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938E-5C91-44BF-B01F-552619C2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12C0-0266-444C-876D-DFB3F8F4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4DCC-BAFB-4C2D-9DCA-B22F3B0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1B6A9-0A3F-443B-B38B-30250585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01133-DB07-4F37-9081-528FA60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C68F-1078-4420-828D-A538183C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B76C2-F6EC-41C6-9853-CB3E81AD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A97F-31A7-47BE-A1FD-1A980CA9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261C-504B-4E78-9A2F-AE9CB83D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98CE-7C07-4429-9EA9-E84E73B1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880-2DA6-4217-86BE-44AF6D50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81ED7-0166-41FE-A603-83142403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053B2-5659-4671-99EC-D253F35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AD71A-5A3C-4AA6-831F-5F349C2E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46EF-EA67-44F8-A710-9B62EC9F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BCA1A-1C29-4CCA-81C1-E784D409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7B51-8E0A-4172-AC30-67AF8240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5355A-156E-4517-B699-EDAA3C0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15C70-904B-41A2-B85D-66EB9FD0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E5E2-427B-410C-B1C1-018073CE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2FE95-8220-486A-92F8-B982DA81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F0B-9FFF-4C2B-9C79-2FE77420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B457E-5583-45B5-94E6-0818D068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14722-366B-473F-B978-C1BCBBBE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3F13-65A9-4E70-8413-292214B8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24774-AD8A-4D9B-8D18-C54E6928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8A306-CDFD-4339-B73B-79193784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47714-C99E-4AC2-BFC7-0ACA4E01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0EB7-D8AF-4D8B-B919-4E8647F7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280AC-F2B3-46AA-A63C-37B414E9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5866B-835E-4122-94A3-FD73EE8D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3FCE5-C5C4-413C-9FB6-FEADCE2C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AE8-1952-433F-AF9B-35ABACD0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B1601-FE7D-4B17-87E8-7AB41CC4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2A4A0-01EE-4833-A79E-2B09CAE5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B6293-5360-4E50-9306-A9DFDF6C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A1F-EB6D-4EE0-A88D-CBC1DBE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474-E894-412A-A716-97CC3CEF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B7BEE-364C-4D1A-B5C6-F2EEB5D3F4E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EB3FF-B724-4363-9CBF-2E9B1A91985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680EB-A9A4-4616-BA90-CCD50360DA2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7147F-4277-4A0D-9038-CE78241202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787C1-D2A5-4E4D-83C2-D462CFA675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59AD7-B9BE-4B32-97F4-3441065789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en.wikibooks.org/wiki/File:Heart_frontally_PDA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7912080" cy="2189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7962840" y="98280"/>
            <a:ext cx="1073160" cy="1170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160" y="397944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nstantia"/>
              <a:ea typeface="ヒラギノ明朝 ProN W6"/>
            </a:endParaRPr>
          </a:p>
        </p:txBody>
      </p:sp>
      <p:pic>
        <p:nvPicPr>
          <p:cNvPr id="305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21240"/>
            <a:ext cx="1981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07640"/>
            <a:ext cx="8229600" cy="2241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gle p-wave precedes every QRS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-R interval is constant and within normal ran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-P interval is cons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031840" y="5035680"/>
            <a:ext cx="5080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01760" y="701640"/>
            <a:ext cx="83642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3"/>
          <p:cNvGraphicFramePr/>
          <p:nvPr/>
        </p:nvGraphicFramePr>
        <p:xfrm>
          <a:off x="1116000" y="2133720"/>
          <a:ext cx="7772400" cy="453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133720"/>
                    <a:ext cx="777240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ifferential Diagnosis of Tachycard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62120" y="2133720"/>
          <a:ext cx="7964280" cy="3790800"/>
        </p:xfrm>
        <a:graphic>
          <a:graphicData uri="http://schemas.openxmlformats.org/drawingml/2006/table">
            <a:tbl>
              <a:tblPr/>
              <a:tblGrid>
                <a:gridCol w="2133360"/>
                <a:gridCol w="3059280"/>
                <a:gridCol w="2771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chycar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rrow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e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V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trial flutt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 w/ aberranc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VT w/ aberra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V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regul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-fi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-flutter w/ variable condu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-fib w/ aberra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-fib w/ WPW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V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auses of Cardiac Arrhythmi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2151000"/>
            <a:ext cx="8229600" cy="34876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normal rhythmicity of the pacema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Shift of the pacemaker from the sinus node to another place in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Blocks at different points during the spread of the impulse through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Abnormal pathways of impulse transmission through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pontaneous generation of spurious impulses in almost any part of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auses of Cardiac Arrhythmi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2150640"/>
            <a:ext cx="8229600" cy="2141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bove or below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cf9b"/>
                </a:solidFill>
                <a:latin typeface="Constantia"/>
              </a:rPr>
              <a:t>Regular or irregular 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Narrow or broad QRS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Relation to P w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557000"/>
            <a:ext cx="8229600" cy="31669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achycard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crease in the heart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Heart rate &gt; 100 beats per 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creased body 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ympathetic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rugs: digit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s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2" descr="http://www.studentconsult.com/common/showimage.cfm?mediaISBN=0721602401&amp;FigFile=S02401-013-f001.jpg&amp;size=fullsize"/>
          <p:cNvPicPr/>
          <p:nvPr/>
        </p:nvPicPr>
        <p:blipFill>
          <a:blip r:embed="rId1"/>
          <a:srcRect l="15060" t="0" r="15664" b="16004"/>
          <a:stretch/>
        </p:blipFill>
        <p:spPr>
          <a:xfrm>
            <a:off x="2050920" y="4941720"/>
            <a:ext cx="45100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483920"/>
            <a:ext cx="8229600" cy="2808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radycardia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Constantia"/>
              </a:rPr>
              <a:t>Slow heart rate &lt; 60 beats per 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arasympathetic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Ex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http://www.studentconsult.com/common/showimage.cfm?mediaISBN=0721602401&amp;FigFile=S02401-013-f002.jpg&amp;size=fullsize"/>
          <p:cNvPicPr/>
          <p:nvPr/>
        </p:nvPicPr>
        <p:blipFill>
          <a:blip r:embed="rId1"/>
          <a:srcRect l="15060" t="0" r="15664" b="19012"/>
          <a:stretch/>
        </p:blipFill>
        <p:spPr>
          <a:xfrm>
            <a:off x="1158840" y="4508640"/>
            <a:ext cx="60055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Cardiac Rhythms that Result from Impulse Conduction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628280"/>
            <a:ext cx="8229600" cy="3149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Sinoatrial Blo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ckasde of the S-A node impulse before entering atrial musc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essation of P wa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dd9"/>
                </a:solidFill>
                <a:uFillTx/>
                <a:latin typeface="Constantia"/>
              </a:rPr>
              <a:t>Caus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Ischemia of the A-V nod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Compression of the A-V node by scar formation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Inflammation of the A-V nod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Strong vagal stimulation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rcRect l="0" t="0" r="0" b="12579"/>
          <a:stretch/>
        </p:blipFill>
        <p:spPr>
          <a:xfrm>
            <a:off x="762120" y="4881600"/>
            <a:ext cx="7618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Cardiac Rhythms that Result from Impulse Conduction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3149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-V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mpulse from the S-A node is block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schemia of the A-V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mpression of the A-V node by scar 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flammation of the A-V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trong vagal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34640"/>
            <a:ext cx="8229600" cy="16383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rst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econd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ird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Lecture 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3365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sinus ar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the main pathophysiological causes of cardiac ar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the mechanism of cardiac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the origin of an ectopic fo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umerate the common arrhythmias and describe the basic ECG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934640"/>
            <a:ext cx="8229600" cy="1133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rst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long P-R interval (0.2 secon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4" name="Picture 2" descr="http://www.studentconsult.com/common/showimage.cfm?mediaISBN=0721602401&amp;FigFile=S02401-013-f005.jpg&amp;size=fullsize"/>
          <p:cNvPicPr/>
          <p:nvPr/>
        </p:nvPicPr>
        <p:blipFill>
          <a:blip r:embed="rId1"/>
          <a:srcRect l="14987" t="0" r="16116" b="18141"/>
          <a:stretch/>
        </p:blipFill>
        <p:spPr>
          <a:xfrm>
            <a:off x="1476360" y="4002120"/>
            <a:ext cx="5616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Second Degree Block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P-R interval &gt; 0.25 seco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Only few impulses pass to the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atria beat faster than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opped beat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f the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Picture 2" descr="http://www.studentconsult.com/common/showimage.cfm?mediaISBN=0721602401&amp;FigFile=S02401-013-f006.jpg&amp;size=fullsize"/>
          <p:cNvPicPr/>
          <p:nvPr/>
        </p:nvPicPr>
        <p:blipFill>
          <a:blip r:embed="rId1"/>
          <a:srcRect l="15179" t="0" r="15331" b="11976"/>
          <a:stretch/>
        </p:blipFill>
        <p:spPr>
          <a:xfrm>
            <a:off x="1908000" y="4437000"/>
            <a:ext cx="489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557360"/>
            <a:ext cx="8229600" cy="3076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Third degree block (compl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omplete dissociation of P wave and QRS wav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4617b"/>
                </a:solidFill>
                <a:uFillTx/>
                <a:latin typeface="Constantia"/>
              </a:rPr>
              <a:t>Ventricle escape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 from the influence of S-A nod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dd9"/>
                </a:solidFill>
                <a:latin typeface="Constantia"/>
              </a:rPr>
              <a:t>Atrial rate is 100 beats/m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dd9"/>
                </a:solidFill>
                <a:latin typeface="Constantia"/>
              </a:rPr>
              <a:t>Ventricular rate is 40 beats/m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4617b"/>
                </a:solidFill>
                <a:uFillTx/>
                <a:latin typeface="Constantia"/>
              </a:rPr>
              <a:t>Stokes-Adams Syndrome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: AV block comes and go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0" name="Picture 2" descr="http://www.studentconsult.com/common/showimage.cfm?mediaISBN=0721602401&amp;FigFile=S02401-013-f007.jpg&amp;size=fullsize"/>
          <p:cNvPicPr/>
          <p:nvPr/>
        </p:nvPicPr>
        <p:blipFill>
          <a:blip r:embed="rId1"/>
          <a:srcRect l="14806" t="0" r="16077" b="15513"/>
          <a:stretch/>
        </p:blipFill>
        <p:spPr>
          <a:xfrm>
            <a:off x="1763640" y="4834080"/>
            <a:ext cx="5616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remature contra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Premature contractions, </a:t>
            </a:r>
            <a:r>
              <a:rPr b="0" i="1" lang="en-US" sz="2400" spc="-1" strike="noStrike">
                <a:solidFill>
                  <a:srgbClr val="7030a0"/>
                </a:solidFill>
                <a:latin typeface="Constantia"/>
              </a:rPr>
              <a:t>extrasystoles, or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ectopic beat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result from </a:t>
            </a:r>
            <a:r>
              <a:rPr b="0" i="1" lang="en-US" sz="2400" spc="-1" strike="noStrike">
                <a:solidFill>
                  <a:srgbClr val="7030a0"/>
                </a:solidFill>
                <a:latin typeface="Constantia"/>
              </a:rPr>
              <a:t>ectopic foci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that generate abnormal cardiac impulses (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pulse defici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chem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rritation of cardiac muscle by calcified foc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rugs like caffe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ctopic foci can cause premature contractions that originate i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The at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A-V  j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The ventric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dd9"/>
                </a:solidFill>
                <a:uFillTx/>
                <a:latin typeface="Calibri"/>
              </a:rPr>
              <a:t>Premature Atrial Contraction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447560"/>
            <a:ext cx="8229600" cy="2469960"/>
          </a:xfrm>
          <a:prstGeom prst="rect">
            <a:avLst/>
          </a:prstGeom>
          <a:noFill/>
          <a:ln w="9360">
            <a:solidFill>
              <a:srgbClr val="0bd0d9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bd0d9"/>
                </a:solidFill>
                <a:uFillTx/>
                <a:latin typeface="Constantia"/>
              </a:rPr>
              <a:t>Short P-R interval </a:t>
            </a:r>
            <a:r>
              <a:rPr b="1" lang="en-US" sz="2600" spc="-1" strike="noStrike">
                <a:solidFill>
                  <a:srgbClr val="0bd0d9"/>
                </a:solidFill>
                <a:latin typeface="Constantia"/>
              </a:rPr>
              <a:t>depending on how far  the ectopic foci from the AV no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Pulse deficit 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if there is no time for the ventricles to fill with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The time between the premature contraction and the succeeding beat is increased (</a:t>
            </a:r>
            <a:r>
              <a:rPr b="1" i="1" lang="en-US" sz="2600" spc="-1" strike="noStrike" u="sng">
                <a:solidFill>
                  <a:srgbClr val="04617b"/>
                </a:solidFill>
                <a:uFillTx/>
                <a:latin typeface="Constantia"/>
              </a:rPr>
              <a:t>Compensatory pause</a:t>
            </a:r>
            <a:r>
              <a:rPr b="1" lang="en-US" sz="2600" spc="-1" strike="noStrike">
                <a:solidFill>
                  <a:srgbClr val="0bd0d9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2" descr="http://www.studentconsult.com/common/showimage.cfm?mediaISBN=0721602401&amp;FigFile=S02401-013-f009.jpg&amp;size=fullsize"/>
          <p:cNvPicPr/>
          <p:nvPr/>
        </p:nvPicPr>
        <p:blipFill>
          <a:blip r:embed="rId1"/>
          <a:srcRect l="15410" t="0" r="15382" b="12035"/>
          <a:stretch/>
        </p:blipFill>
        <p:spPr>
          <a:xfrm>
            <a:off x="1395360" y="4248000"/>
            <a:ext cx="5769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700280"/>
            <a:ext cx="8229600" cy="2233440"/>
          </a:xfrm>
          <a:prstGeom prst="rect">
            <a:avLst/>
          </a:prstGeom>
          <a:noFill/>
          <a:ln w="9360">
            <a:solidFill>
              <a:srgbClr val="10cf9b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cf9b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10cf9b"/>
                </a:solidFill>
                <a:uFillTx/>
                <a:latin typeface="Constantia"/>
              </a:rPr>
              <a:t>rolong QRS complex </a:t>
            </a:r>
            <a:r>
              <a:rPr b="1" lang="en-US" sz="1800" spc="-1" strike="noStrike">
                <a:solidFill>
                  <a:srgbClr val="10cf9b"/>
                </a:solidFill>
                <a:latin typeface="Constantia"/>
              </a:rPr>
              <a:t>because the impulses are carried out with myocardial fibers with slower conduction rate than Purkinje fib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4617b"/>
                </a:solidFill>
                <a:uFillTx/>
                <a:latin typeface="Constantia"/>
              </a:rPr>
              <a:t>Increase QRS</a:t>
            </a:r>
            <a:r>
              <a:rPr b="1" lang="en-US" sz="1800" spc="-1" strike="noStrike">
                <a:solidFill>
                  <a:srgbClr val="04617b"/>
                </a:solidFill>
                <a:latin typeface="Constantia"/>
              </a:rPr>
              <a:t> complexes voltage because QRS wave from one ventricle can not neutralize the one from the other ventric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After PVCs, the </a:t>
            </a:r>
            <a:r>
              <a:rPr b="1" lang="en-US" sz="1800" spc="-1" strike="noStrike" u="sng">
                <a:solidFill>
                  <a:srgbClr val="0f6fc6"/>
                </a:solidFill>
                <a:uFillTx/>
                <a:latin typeface="Constantia"/>
              </a:rPr>
              <a:t>T wave has an electrical potential of opposite polarity </a:t>
            </a: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of that of the QRS because of the slow conduction in the myocardial fibers, the fibers that depolarizes first will repolarize fir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bd0d9"/>
                </a:solidFill>
                <a:uFillTx/>
                <a:latin typeface="Constantia"/>
              </a:rPr>
              <a:t>Causes: </a:t>
            </a:r>
            <a:r>
              <a:rPr b="1" lang="en-US" sz="1800" spc="-1" strike="noStrike">
                <a:solidFill>
                  <a:srgbClr val="0bd0d9"/>
                </a:solidFill>
                <a:latin typeface="Constantia"/>
              </a:rPr>
              <a:t>drugs, caffeine, smoking, lack of sleep, emotional irrit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0cf9b"/>
                </a:solidFill>
                <a:uFillTx/>
                <a:latin typeface="Calibri"/>
              </a:rPr>
              <a:t>Premature Ventricular Contractions (PVCs)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8" name="Picture 2" descr="http://www.studentconsult.com/common/showimage.cfm?mediaISBN=0721602401&amp;FigFile=S02401-013-f011.jpg&amp;size=fullsize"/>
          <p:cNvPicPr/>
          <p:nvPr/>
        </p:nvPicPr>
        <p:blipFill>
          <a:blip r:embed="rId1"/>
          <a:srcRect l="14021" t="0" r="14998" b="55043"/>
          <a:stretch/>
        </p:blipFill>
        <p:spPr>
          <a:xfrm>
            <a:off x="2023920" y="4149720"/>
            <a:ext cx="4780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e most serious of all a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Cause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: impulses stimulate one part of the ventricles, then another, then itself. Many part contracts at the same time while other parts relax </a:t>
            </a:r>
            <a:r>
              <a:rPr b="0" i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(Circus movemen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4809960" y="2349360"/>
            <a:ext cx="4226040" cy="36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bd0d9"/>
                </a:solidFill>
                <a:uFillTx/>
                <a:latin typeface="Constantia"/>
              </a:rPr>
              <a:t>Causes: </a:t>
            </a: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sudden electrical shock, ischemi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chycar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regular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oad QRS compl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P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5" name="Picture 4" descr="http://www.studentconsult.com/common/showimage.cfm?mediaISBN=0721602401&amp;FigFile=S02401-013-f016.jpg&amp;size=fullsize"/>
          <p:cNvPicPr/>
          <p:nvPr/>
        </p:nvPicPr>
        <p:blipFill>
          <a:blip r:embed="rId1"/>
          <a:srcRect l="14992" t="0" r="15721" b="14428"/>
          <a:stretch/>
        </p:blipFill>
        <p:spPr>
          <a:xfrm>
            <a:off x="1763640" y="3992400"/>
            <a:ext cx="504036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reatment : DC sh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8" name="Picture 2" descr="http://www.studentconsult.com/common/showimage.cfm?mediaISBN=0721602401&amp;FigFile=S02401-013-f017.jpg&amp;size=fullsize"/>
          <p:cNvPicPr/>
          <p:nvPr/>
        </p:nvPicPr>
        <p:blipFill>
          <a:blip r:embed="rId1"/>
          <a:srcRect l="13552" t="0" r="0" b="7681"/>
          <a:stretch/>
        </p:blipFill>
        <p:spPr>
          <a:xfrm>
            <a:off x="2268360" y="2852640"/>
            <a:ext cx="413244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trial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413000"/>
            <a:ext cx="8229600" cy="31701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ame mechanism as ventricular fibrillation. It can occur only in atria without affecting the ventri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t occurs more frequently in patients with </a:t>
            </a:r>
            <a:r>
              <a:rPr b="0" i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nlarged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he atria do not pump if they are fibrilla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fficiency of ventricular filling is decreased 20 to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No P wave, or high frequency of low voltage P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reatment: DC sho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0" t="0" r="0" b="11846"/>
          <a:stretch/>
        </p:blipFill>
        <p:spPr>
          <a:xfrm>
            <a:off x="762120" y="4649760"/>
            <a:ext cx="76183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122480" y="615960"/>
            <a:ext cx="7826400" cy="1011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onduction3"/>
          <p:cNvPicPr/>
          <p:nvPr/>
        </p:nvPicPr>
        <p:blipFill>
          <a:blip r:embed="rId2"/>
          <a:stretch/>
        </p:blipFill>
        <p:spPr>
          <a:xfrm>
            <a:off x="1447920" y="1828800"/>
            <a:ext cx="61722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6080"/>
            <a:ext cx="8229600" cy="25905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ingle large wave travels around and around in the at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he atria contracts at high rate (250 beats/mi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Constantia"/>
              </a:rPr>
              <a:t>Because one area of the atria is contracted and another one is relaxed, the amount of blood pumped by the atria is s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The refractory period of the AV node causes 2-3 beats of atria for one single ventricular beat 2:1 or 2:3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trial Flut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5173560" y="4365720"/>
            <a:ext cx="3935520" cy="2376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2"/>
          <a:srcRect l="0" t="0" r="0" b="12785"/>
          <a:stretch/>
        </p:blipFill>
        <p:spPr>
          <a:xfrm>
            <a:off x="0" y="4702320"/>
            <a:ext cx="51735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Ischemia and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935000"/>
            <a:ext cx="8229600" cy="3222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of the common uses of the ECG is in acute assessment of chest p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Cause: restriction of blood flow to the myocardium, eith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versible: angina pector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rreversible: myocardial infar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Ischemia </a:t>
            </a:r>
            <a:r>
              <a:rPr b="1" i="1" lang="en-US" sz="26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 injury </a:t>
            </a:r>
            <a:r>
              <a:rPr b="1" i="1" lang="en-US" sz="26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 infar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Reversible ischemi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934640"/>
            <a:ext cx="8229600" cy="40150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nverted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T segment de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0" name="Picture 277" descr="D:\SCContent\0721602401\graphics\fullsize\S02401-012-f023.jpg"/>
          <p:cNvPicPr/>
          <p:nvPr/>
        </p:nvPicPr>
        <p:blipFill>
          <a:blip r:embed="rId1"/>
          <a:srcRect l="14987" t="0" r="14987" b="9555"/>
          <a:stretch/>
        </p:blipFill>
        <p:spPr>
          <a:xfrm>
            <a:off x="1835280" y="3500280"/>
            <a:ext cx="4465440" cy="213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Myocardial Infar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loss of blood supply to the myocardium resulting in necrosis or death of tiss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 segment ele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ep Q w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2" descr="http://www.benbest.com/health/elevation.jpg"/>
          <p:cNvPicPr/>
          <p:nvPr/>
        </p:nvPicPr>
        <p:blipFill>
          <a:blip r:embed="rId1"/>
          <a:stretch/>
        </p:blipFill>
        <p:spPr>
          <a:xfrm>
            <a:off x="3851280" y="3495600"/>
            <a:ext cx="43243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otassium and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568240"/>
            <a:ext cx="4038480" cy="29480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ypokalemi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t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Hyperkalem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all peaked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http://www.merckmanuals.com/media/professional/figures/MMPE_12END_156_02_eps.gif"/>
          <p:cNvPicPr/>
          <p:nvPr/>
        </p:nvPicPr>
        <p:blipFill>
          <a:blip r:embed="rId1"/>
          <a:stretch/>
        </p:blipFill>
        <p:spPr>
          <a:xfrm>
            <a:off x="4648320" y="2492280"/>
            <a:ext cx="4451400" cy="301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or further readings and diagra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5000"/>
            <a:ext cx="8229600" cy="18748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extbook of Medical Physiology by Guyton &amp; H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hapter 10 (Cardiac Arrhythmias and their Electrocardiographic Interpret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th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nu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iginating from SA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 wave before every Q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 wave in same direction as Q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2" name="Object 6"/>
          <p:cNvGraphicFramePr/>
          <p:nvPr/>
        </p:nvGraphicFramePr>
        <p:xfrm>
          <a:off x="4114800" y="2209680"/>
          <a:ext cx="4680000" cy="29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09680"/>
                    <a:ext cx="468000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pqrst"/>
          <p:cNvPicPr/>
          <p:nvPr/>
        </p:nvPicPr>
        <p:blipFill>
          <a:blip r:embed="rId2"/>
          <a:stretch/>
        </p:blipFill>
        <p:spPr>
          <a:xfrm>
            <a:off x="2362320" y="2286000"/>
            <a:ext cx="37116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pre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a systematic approach to reading EKGs and use it every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ystem we will practice 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thm (including intervals and block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x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pertrop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chem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le of 300- Divide 300 by the number of boxes between each QRS = r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743200" y="3429000"/>
          <a:ext cx="2743200" cy="2916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 of big box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Sinusbradycardia"/>
          <p:cNvPicPr/>
          <p:nvPr/>
        </p:nvPicPr>
        <p:blipFill>
          <a:blip r:embed="rId2"/>
          <a:stretch/>
        </p:blipFill>
        <p:spPr>
          <a:xfrm>
            <a:off x="609480" y="2362320"/>
            <a:ext cx="7925040" cy="1773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2819520" y="4952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0 / 6) = 50 bp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7010280" y="4114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uptodate.com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R of 60-100 per minute is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R &gt; 100 = tachycar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R &lt; 60 = bradycar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52:32Z</dcterms:created>
  <dc:creator>Mona Soliman</dc:creator>
  <dc:description/>
  <dc:language>en-US</dc:language>
  <cp:lastModifiedBy>Hanan albackr</cp:lastModifiedBy>
  <cp:lastPrinted>2013-03-05T15:13:40Z</cp:lastPrinted>
  <dcterms:modified xsi:type="dcterms:W3CDTF">2016-02-24T02:55:06Z</dcterms:modified>
  <cp:revision>85</cp:revision>
  <dc:subject/>
  <dc:title>Arrhythmias</dc:title>
</cp:coreProperties>
</file>