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28.jpeg" ContentType="image/jpeg"/>
  <Override PartName="/ppt/media/image7.jpeg" ContentType="image/jpeg"/>
  <Override PartName="/ppt/media/image6.png" ContentType="image/png"/>
  <Override PartName="/ppt/media/image31.png" ContentType="image/png"/>
  <Override PartName="/ppt/media/image11.png" ContentType="image/png"/>
  <Override PartName="/ppt/media/image19.jpeg" ContentType="image/jpeg"/>
  <Override PartName="/ppt/media/image8.jpeg" ContentType="image/jpeg"/>
  <Override PartName="/ppt/media/image29.jpeg" ContentType="image/jpeg"/>
  <Override PartName="/ppt/media/image30.png" ContentType="image/png"/>
  <Override PartName="/ppt/media/image5.png" ContentType="image/png"/>
  <Override PartName="/ppt/media/image20.jpeg" ContentType="image/jpeg"/>
  <Override PartName="/ppt/media/image13.png" ContentType="image/png"/>
  <Override PartName="/ppt/media/image34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0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4.png" ContentType="image/png"/>
  <Override PartName="/ppt/media/image15.png" ContentType="image/png"/>
  <Override PartName="/ppt/media/image24.jpeg" ContentType="image/jpeg"/>
  <Override PartName="/ppt/media/image16.png" ContentType="image/png"/>
  <Override PartName="/ppt/media/image18.wmf" ContentType="image/x-wmf"/>
  <Override PartName="/ppt/media/image26.jpeg" ContentType="image/jpeg"/>
  <Override PartName="/ppt/media/image32.jpeg" ContentType="image/jpeg"/>
  <Override PartName="/ppt/media/image1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</p:sldIdLst>
  <p:sldSz cx="9144000" cy="6858000"/>
  <p:notesSz cx="7077075" cy="9363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7077600" cy="9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9"/>
          </p:nvPr>
        </p:nvSpPr>
        <p:spPr>
          <a:xfrm>
            <a:off x="4008240" y="-36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96640" y="701640"/>
            <a:ext cx="4683240" cy="351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20"/>
          </p:nvPr>
        </p:nvSpPr>
        <p:spPr>
          <a:xfrm>
            <a:off x="0" y="889272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21"/>
          </p:nvPr>
        </p:nvSpPr>
        <p:spPr>
          <a:xfrm>
            <a:off x="4008240" y="889272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EA9BA2-5646-4F29-88BF-5BECD183BC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3B8FA2-FD11-4CFF-8F49-19BF02355B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1FF7C7-9D22-4789-8372-9F775A3611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A9DD04-8150-4CAF-8F7C-8FF7B379F7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EDF9-81E4-43DB-A82D-75E6776C0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1FAC-6EF8-42D5-8CA8-C52BBE2A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E689-A0FF-44E7-815A-ED0671CB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A80B-F242-4A98-B8C7-9CAA5ADF7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4369E-2251-4D92-9D99-4D6733FE9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8379-31E2-47D7-8E9B-6FAC5931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5400-13B5-4C2B-8414-1C976F36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E85A-A80A-4076-A614-E63B9A6B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60C7-60FF-4BCC-95E2-4B475C39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2DB0-D0A1-4C71-BF47-2C05FF62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A4D9-BE00-4071-A858-964E7170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CF19-7346-4B79-A7FD-A002E52B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0324-C89A-453E-A2BE-FF3F2E39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0E79-4CED-4A89-847A-3B9773AD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E63C-9111-4F93-A86F-6FAFBBC1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BA81-3B00-490D-8DFA-04867D952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2A9C-AD23-4D64-B6AA-EE34498CE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96B7A-3606-46BC-97DF-E4F39AEE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FCF2F-1616-41BE-8B35-0B095489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38318-13AF-457B-9D11-C8792E01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5F9F5-1393-4053-A85A-6C49001E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FA6C6-E16E-463C-A773-38C640F5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7A9A-68F9-47C8-B649-2F1A282F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39FAF-D419-42D4-8E1A-DFF9D276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89D65-0673-41AC-87D7-2CE769C1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CF960-3FBB-46C3-A775-E48AC42C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28127-198D-45D3-8A20-52B8BA86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6AB9A-033A-40CE-AB38-F0F48D75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19336-04D2-4C21-A37E-CA63C3C0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0BDDC-2B00-4F43-92D0-C54B9B9A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0F4BC-8B87-4666-9C7A-49ECE76F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3DD19-2616-48B6-ADFC-8260895E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912CB-D65D-4BFC-B93C-473225A2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2598-EAAF-41AF-8849-14D2740D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6496D-0505-4FCE-B250-AA9D2CEA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43096-8DFB-46DB-B8AD-37125EFD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D6978-CC56-425C-8D33-524BC393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2FD05-1ACD-4143-BC48-9EB0E88A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860B7-E59B-426C-9BC3-9AACD61A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D1394-5AD7-419C-8BB4-D1B713A5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32517-F7BD-4D6B-92E4-6A1BABB3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E5403-8701-4F54-BBBB-60651C0A4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63F68-7967-4F62-95C7-7AB3E709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53B00-35BE-4A48-AC63-E6FB8B485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014C-2BC5-46F1-89DD-78E9277B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99A53-F0D5-4BE6-9580-012A2992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CD4DF-A0D7-4918-9981-9823FB7F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D5180-F489-422A-82FE-E0859281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5A4C9-D082-4EE2-AE78-DE1B2DA0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9F904-BDF3-4775-B88E-E5F7479B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0A100-ADED-4E93-8120-60856149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2FD09-368A-4101-B7FE-ABB0382C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4A001-1BDE-4C87-AFD2-5D6CB3F5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00431-B662-438F-8900-C5D87B59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CBE02-949E-47D2-9852-663E63FF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8340-5CEB-44D5-A264-CB900806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6B5E6-DE47-40E3-BDE4-40ADCE8A3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C8726-A793-4B99-BA41-99D77EB8E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A56B7-28AE-4047-8B1A-CAE18274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62C5E-5683-4E74-8090-53D9146D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ACB6E-817B-48B4-B5AC-F223A088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B5383-45EA-4100-8026-7EB8D002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8D8B4-184C-4EF7-8C47-BDB42140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9BE2D-155D-4656-BB05-AD7F0311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1DD90-C69C-4157-8B48-FCEA4663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8B506-5B54-4F4E-82C7-D79A6D60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B75C-DE85-4D0A-A57C-C2CCD5BC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8470E-0F60-485A-A9E7-9BBEC89D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DA37A-5FCD-4C2A-98D7-E11F1403B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77D50-9866-4A77-8335-B2A14A57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0A80-7789-493A-B896-DC40F6F3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BC79-EE3D-4B7E-AEA7-92BDF5AF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0F5EAD-E6E8-438C-8BE5-84B829E5E91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0C4F68-E897-401D-B5CA-B61BFA00D11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06DEC8-7BCC-4692-BEC0-82DE983166B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DC4C79-F659-4CE1-A5B9-D294514B766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100344-AF74-4D58-B1D1-A1BF2783554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81EAF1-4114-498C-8CA6-A88DDBE1B00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hyperlink" Target="http://en.wikibooks.org/wiki/File:Heart_frontally_PDA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Title 1" descr=""/>
          <p:cNvPicPr/>
          <p:nvPr/>
        </p:nvPicPr>
        <p:blipFill>
          <a:blip r:embed="rId1"/>
          <a:stretch/>
        </p:blipFill>
        <p:spPr>
          <a:xfrm>
            <a:off x="530280" y="1511280"/>
            <a:ext cx="7912080" cy="21891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"/>
          <p:cNvPicPr/>
          <p:nvPr/>
        </p:nvPicPr>
        <p:blipFill>
          <a:blip r:embed="rId2"/>
          <a:stretch/>
        </p:blipFill>
        <p:spPr>
          <a:xfrm>
            <a:off x="7962840" y="98280"/>
            <a:ext cx="1073160" cy="11700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533160" y="397944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nstantia"/>
              <a:ea typeface="ヒラギノ明朝 ProN W6"/>
            </a:endParaRPr>
          </a:p>
        </p:txBody>
      </p:sp>
      <p:pic>
        <p:nvPicPr>
          <p:cNvPr id="305" name="Picture 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521240"/>
            <a:ext cx="19810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Normal Sinus Rhythm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907640"/>
            <a:ext cx="8229600" cy="224172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gul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ngle p-wave precedes every QRS comple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-R interval is constant and within normal ran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-P interval is consta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2031840" y="5035680"/>
            <a:ext cx="50803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401760" y="701640"/>
            <a:ext cx="8364240" cy="121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Object 3"/>
          <p:cNvGraphicFramePr/>
          <p:nvPr/>
        </p:nvGraphicFramePr>
        <p:xfrm>
          <a:off x="1116000" y="2133720"/>
          <a:ext cx="7772400" cy="4535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3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2133720"/>
                    <a:ext cx="7772400" cy="45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Differential Diagnosis of Tachycardi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762120" y="2133720"/>
          <a:ext cx="7964280" cy="3790800"/>
        </p:xfrm>
        <a:graphic>
          <a:graphicData uri="http://schemas.openxmlformats.org/drawingml/2006/table">
            <a:tbl>
              <a:tblPr/>
              <a:tblGrid>
                <a:gridCol w="2133360"/>
                <a:gridCol w="3059280"/>
                <a:gridCol w="2771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chycar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rrow Compl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e Comple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g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SV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Atrial flutte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ST w/ aberranc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SVT w/ aberra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V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rregula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A-fi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A-flutter w/ variable conduc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MA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A-fib w/ aberra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A-fib w/ WPW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cc"/>
                          </a:solidFill>
                          <a:latin typeface="Tahoma"/>
                        </a:rPr>
                        <a:t>V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Causes of Cardiac Arrhythmia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2151000"/>
            <a:ext cx="8229600" cy="348768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623880" indent="-514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bnormal rhythmicity of the pacemak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23880" indent="-514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Shift of the pacemaker from the sinus node to another place in the he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23880" indent="-514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cf9b"/>
                </a:solidFill>
                <a:latin typeface="Constantia"/>
              </a:rPr>
              <a:t>Blocks at different points during the spread of the impulse through the he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23880" indent="-514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Abnormal pathways of impulse transmission through the he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23880" indent="-514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Spontaneous generation of spurious impulses in almost any part of the he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23880" indent="-514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Causes of Cardiac Arrhythmia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2150640"/>
            <a:ext cx="8229600" cy="214164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62388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te above or below norm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2388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cf9b"/>
                </a:solidFill>
                <a:latin typeface="Constantia"/>
              </a:rPr>
              <a:t>Regular or irregular rhyth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2388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Narrow or broad QRS comple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2388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Relation to P wa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23880" indent="-514440">
              <a:spcBef>
                <a:spcPts val="649"/>
              </a:spcBef>
              <a:buClr>
                <a:srgbClr val="0bd0d9"/>
              </a:buClr>
              <a:buSzPct val="95000"/>
              <a:buFont typeface="Calibri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Abnormal Sinus Rhythm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557000"/>
            <a:ext cx="8229600" cy="316692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Tachycardia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 increase in the heart r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Heart rate &gt; 100 beats per minu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dd9"/>
                </a:solidFill>
                <a:uFillTx/>
                <a:latin typeface="Constantia"/>
              </a:rPr>
              <a:t>Cause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Increased body tempera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Sympathetic stimul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Drugs: digital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Inspir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1" name="Picture 2" descr="http://www.studentconsult.com/common/showimage.cfm?mediaISBN=0721602401&amp;FigFile=S02401-013-f001.jpg&amp;size=fullsize"/>
          <p:cNvPicPr/>
          <p:nvPr/>
        </p:nvPicPr>
        <p:blipFill>
          <a:blip r:embed="rId1"/>
          <a:srcRect l="15060" t="0" r="15664" b="16004"/>
          <a:stretch/>
        </p:blipFill>
        <p:spPr>
          <a:xfrm>
            <a:off x="2050920" y="4941720"/>
            <a:ext cx="451008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Abnormal Sinus Rhythm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483920"/>
            <a:ext cx="8229600" cy="2808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Bradycardia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d0d9"/>
                </a:solidFill>
                <a:latin typeface="Constantia"/>
              </a:rPr>
              <a:t>Slow heart rate &lt; 60 beats per minu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dd9"/>
                </a:solidFill>
                <a:uFillTx/>
                <a:latin typeface="Constantia"/>
              </a:rPr>
              <a:t>Cause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Parasympathetic stimul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Expir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4" name="Picture 2" descr="http://www.studentconsult.com/common/showimage.cfm?mediaISBN=0721602401&amp;FigFile=S02401-013-f002.jpg&amp;size=fullsize"/>
          <p:cNvPicPr/>
          <p:nvPr/>
        </p:nvPicPr>
        <p:blipFill>
          <a:blip r:embed="rId1"/>
          <a:srcRect l="15060" t="0" r="15664" b="19012"/>
          <a:stretch/>
        </p:blipFill>
        <p:spPr>
          <a:xfrm>
            <a:off x="1158840" y="4508640"/>
            <a:ext cx="600552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Abnormal Cardiac Rhythms that Result from Impulse Conduction Block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628280"/>
            <a:ext cx="8229600" cy="314964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Sinoatrial Block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lockasde of the S-A node impulse before entering atrial muscl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essation of P wav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dd9"/>
                </a:solidFill>
                <a:uFillTx/>
                <a:latin typeface="Constantia"/>
              </a:rPr>
              <a:t>Causes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9dd9"/>
                </a:solidFill>
                <a:latin typeface="Constantia"/>
              </a:rPr>
              <a:t>Ischemia of the A-V node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9dd9"/>
                </a:solidFill>
                <a:latin typeface="Constantia"/>
              </a:rPr>
              <a:t>Compression of the A-V node by scar formation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9dd9"/>
                </a:solidFill>
                <a:latin typeface="Constantia"/>
              </a:rPr>
              <a:t>Inflammation of the A-V node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9dd9"/>
                </a:solidFill>
                <a:latin typeface="Constantia"/>
              </a:rPr>
              <a:t>Strong vagal stimulation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rcRect l="0" t="0" r="0" b="12579"/>
          <a:stretch/>
        </p:blipFill>
        <p:spPr>
          <a:xfrm>
            <a:off x="762120" y="4881600"/>
            <a:ext cx="761832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Abnormal Cardiac Rhythms that Result from Impulse Conduction Block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1934640"/>
            <a:ext cx="8229600" cy="314964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-V Blo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n impulse from the S-A node is block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dd9"/>
                </a:solidFill>
                <a:uFillTx/>
                <a:latin typeface="Constantia"/>
              </a:rPr>
              <a:t>Caus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Ischemia of the A-V no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Compression of the A-V node by scar 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Inflammation of the A-V no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Strong vagal stimul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Types of the A-V Block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934640"/>
            <a:ext cx="8229600" cy="163836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irst degree blo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econd degree blo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Third degree blo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Lecture Objectiv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336564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scribe sinus arrhythmi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scribe the main pathophysiological causes of cardiac arrhythmi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plain the mechanism of cardiac blo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plain the origin of an ectopic foc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numerate the common arrhythmias and describe the basic ECG chang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1934640"/>
            <a:ext cx="8229600" cy="113364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irst degree blo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rolong P-R interval (0.2 second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Types of the A-V Block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54" name="Picture 2" descr="http://www.studentconsult.com/common/showimage.cfm?mediaISBN=0721602401&amp;FigFile=S02401-013-f005.jpg&amp;size=fullsize"/>
          <p:cNvPicPr/>
          <p:nvPr/>
        </p:nvPicPr>
        <p:blipFill>
          <a:blip r:embed="rId1"/>
          <a:srcRect l="14987" t="0" r="16116" b="18141"/>
          <a:stretch/>
        </p:blipFill>
        <p:spPr>
          <a:xfrm>
            <a:off x="1476360" y="4002120"/>
            <a:ext cx="561672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Types of the A-V block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700280"/>
            <a:ext cx="8229600" cy="49687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4617b"/>
                </a:solidFill>
                <a:uFillTx/>
                <a:latin typeface="Constantia"/>
              </a:rPr>
              <a:t>Second Degree Block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P-R interval &gt; 0.25 secon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onstantia"/>
              </a:rPr>
              <a:t>Only few impulses pass to the ventric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4617b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4617b"/>
                </a:solidFill>
                <a:latin typeface="Constantia"/>
              </a:rPr>
              <a:t>atria beat faster than ventric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2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dropped beat</a:t>
            </a:r>
            <a:r>
              <a:rPr b="0" lang="ja-JP" sz="2800" spc="-1" strike="noStrike">
                <a:solidFill>
                  <a:srgbClr val="000000"/>
                </a:solidFill>
                <a:latin typeface="Constantia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of the ventric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7" name="Picture 2" descr="http://www.studentconsult.com/common/showimage.cfm?mediaISBN=0721602401&amp;FigFile=S02401-013-f006.jpg&amp;size=fullsize"/>
          <p:cNvPicPr/>
          <p:nvPr/>
        </p:nvPicPr>
        <p:blipFill>
          <a:blip r:embed="rId1"/>
          <a:srcRect l="15179" t="0" r="15331" b="11976"/>
          <a:stretch/>
        </p:blipFill>
        <p:spPr>
          <a:xfrm>
            <a:off x="1908000" y="4437000"/>
            <a:ext cx="4896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57200" y="1557360"/>
            <a:ext cx="8229600" cy="30765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9dd9"/>
                </a:solidFill>
                <a:uFillTx/>
                <a:latin typeface="Constantia"/>
              </a:rPr>
              <a:t>Third degree block (complet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omplete dissociation of P wave and QRS waves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4617b"/>
                </a:solidFill>
                <a:uFillTx/>
                <a:latin typeface="Constantia"/>
              </a:rPr>
              <a:t>Ventricle escape</a:t>
            </a:r>
            <a:r>
              <a:rPr b="0" lang="en-US" sz="2700" spc="-1" strike="noStrike">
                <a:solidFill>
                  <a:srgbClr val="04617b"/>
                </a:solidFill>
                <a:latin typeface="Constantia"/>
              </a:rPr>
              <a:t> from the influence of S-A node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9dd9"/>
                </a:solidFill>
                <a:latin typeface="Constantia"/>
              </a:rPr>
              <a:t>Atrial rate is 100 beats/min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9dd9"/>
                </a:solidFill>
                <a:latin typeface="Constantia"/>
              </a:rPr>
              <a:t>Ventricular rate is 40 beats/min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 u="sng">
                <a:solidFill>
                  <a:srgbClr val="04617b"/>
                </a:solidFill>
                <a:uFillTx/>
                <a:latin typeface="Constantia"/>
              </a:rPr>
              <a:t>Stokes-Adams Syndrome</a:t>
            </a:r>
            <a:r>
              <a:rPr b="0" lang="en-US" sz="2700" spc="-1" strike="noStrike">
                <a:solidFill>
                  <a:srgbClr val="04617b"/>
                </a:solidFill>
                <a:latin typeface="Constantia"/>
              </a:rPr>
              <a:t>: AV block comes and goes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Types of the A-V block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60" name="Picture 2" descr="http://www.studentconsult.com/common/showimage.cfm?mediaISBN=0721602401&amp;FigFile=S02401-013-f007.jpg&amp;size=fullsize"/>
          <p:cNvPicPr/>
          <p:nvPr/>
        </p:nvPicPr>
        <p:blipFill>
          <a:blip r:embed="rId1"/>
          <a:srcRect l="14806" t="0" r="16077" b="15513"/>
          <a:stretch/>
        </p:blipFill>
        <p:spPr>
          <a:xfrm>
            <a:off x="1763640" y="4834080"/>
            <a:ext cx="561672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Premature contrac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Premature contractions, </a:t>
            </a:r>
            <a:r>
              <a:rPr b="0" i="1" lang="en-US" sz="2400" spc="-1" strike="noStrike">
                <a:solidFill>
                  <a:srgbClr val="7030a0"/>
                </a:solidFill>
                <a:latin typeface="Constantia"/>
              </a:rPr>
              <a:t>extrasystoles, or </a:t>
            </a:r>
            <a:r>
              <a:rPr b="0" lang="en-US" sz="2400" spc="-1" strike="noStrike" u="sng">
                <a:solidFill>
                  <a:srgbClr val="7030a0"/>
                </a:solidFill>
                <a:uFillTx/>
                <a:latin typeface="Constantia"/>
              </a:rPr>
              <a:t>ectopic beat </a:t>
            </a: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result from </a:t>
            </a:r>
            <a:r>
              <a:rPr b="0" i="1" lang="en-US" sz="2400" spc="-1" strike="noStrike">
                <a:solidFill>
                  <a:srgbClr val="7030a0"/>
                </a:solidFill>
                <a:latin typeface="Constantia"/>
              </a:rPr>
              <a:t>ectopic foci </a:t>
            </a: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that generate abnormal cardiac impulses (</a:t>
            </a:r>
            <a:r>
              <a:rPr b="0" lang="en-US" sz="2400" spc="-1" strike="noStrike" u="sng">
                <a:solidFill>
                  <a:srgbClr val="7030a0"/>
                </a:solidFill>
                <a:uFillTx/>
                <a:latin typeface="Constantia"/>
              </a:rPr>
              <a:t>pulse defici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Caus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schemi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rritation of cardiac muscle by calcified foci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rugs like caffein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Ectopic foci can cause premature contractions that originate i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6fc6"/>
                </a:solidFill>
                <a:latin typeface="Constantia"/>
              </a:rPr>
              <a:t>The atri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6fc6"/>
                </a:solidFill>
                <a:latin typeface="Constantia"/>
              </a:rPr>
              <a:t>A-V  junc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6fc6"/>
                </a:solidFill>
                <a:latin typeface="Constantia"/>
              </a:rPr>
              <a:t>The ventricl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3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dd9"/>
                </a:solidFill>
                <a:uFillTx/>
                <a:latin typeface="Calibri"/>
              </a:rPr>
              <a:t>Premature Atrial Contractions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447560"/>
            <a:ext cx="8229600" cy="2469960"/>
          </a:xfrm>
          <a:prstGeom prst="rect">
            <a:avLst/>
          </a:prstGeom>
          <a:noFill/>
          <a:ln w="9360">
            <a:solidFill>
              <a:srgbClr val="0bd0d9"/>
            </a:solidFill>
            <a:miter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bd0d9"/>
                </a:solidFill>
                <a:uFillTx/>
                <a:latin typeface="Constantia"/>
              </a:rPr>
              <a:t>Short P-R interval </a:t>
            </a:r>
            <a:r>
              <a:rPr b="1" lang="en-US" sz="2600" spc="-1" strike="noStrike">
                <a:solidFill>
                  <a:srgbClr val="0bd0d9"/>
                </a:solidFill>
                <a:latin typeface="Constantia"/>
              </a:rPr>
              <a:t>depending on how far  the ectopic foci from the AV no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9dd9"/>
                </a:solidFill>
                <a:uFillTx/>
                <a:latin typeface="Constantia"/>
              </a:rPr>
              <a:t>Pulse deficit 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if there is no time for the ventricles to fill with bloo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17b"/>
                </a:solidFill>
                <a:latin typeface="Constantia"/>
              </a:rPr>
              <a:t>The time between the premature contraction and the succeeding beat is increased (</a:t>
            </a:r>
            <a:r>
              <a:rPr b="1" i="1" lang="en-US" sz="2600" spc="-1" strike="noStrike" u="sng">
                <a:solidFill>
                  <a:srgbClr val="04617b"/>
                </a:solidFill>
                <a:uFillTx/>
                <a:latin typeface="Constantia"/>
              </a:rPr>
              <a:t>Compensatory pause</a:t>
            </a:r>
            <a:r>
              <a:rPr b="1" lang="en-US" sz="2600" spc="-1" strike="noStrike">
                <a:solidFill>
                  <a:srgbClr val="0bd0d9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5" name="Picture 2" descr="http://www.studentconsult.com/common/showimage.cfm?mediaISBN=0721602401&amp;FigFile=S02401-013-f009.jpg&amp;size=fullsize"/>
          <p:cNvPicPr/>
          <p:nvPr/>
        </p:nvPicPr>
        <p:blipFill>
          <a:blip r:embed="rId1"/>
          <a:srcRect l="15410" t="0" r="15382" b="12035"/>
          <a:stretch/>
        </p:blipFill>
        <p:spPr>
          <a:xfrm>
            <a:off x="1395360" y="4248000"/>
            <a:ext cx="57690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57200" y="1700280"/>
            <a:ext cx="8229600" cy="2233440"/>
          </a:xfrm>
          <a:prstGeom prst="rect">
            <a:avLst/>
          </a:prstGeom>
          <a:noFill/>
          <a:ln w="9360">
            <a:solidFill>
              <a:srgbClr val="10cf9b"/>
            </a:solidFill>
            <a:miter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cf9b"/>
                </a:solidFill>
                <a:latin typeface="Constantia"/>
              </a:rPr>
              <a:t>P</a:t>
            </a:r>
            <a:r>
              <a:rPr b="1" lang="en-US" sz="1800" spc="-1" strike="noStrike" u="sng">
                <a:solidFill>
                  <a:srgbClr val="10cf9b"/>
                </a:solidFill>
                <a:uFillTx/>
                <a:latin typeface="Constantia"/>
              </a:rPr>
              <a:t>rolong QRS complex </a:t>
            </a:r>
            <a:r>
              <a:rPr b="1" lang="en-US" sz="1800" spc="-1" strike="noStrike">
                <a:solidFill>
                  <a:srgbClr val="10cf9b"/>
                </a:solidFill>
                <a:latin typeface="Constantia"/>
              </a:rPr>
              <a:t>because the impulses are carried out with myocardial fibers with slower conduction rate than Purkinje fiber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4617b"/>
                </a:solidFill>
                <a:uFillTx/>
                <a:latin typeface="Constantia"/>
              </a:rPr>
              <a:t>Increase QRS</a:t>
            </a:r>
            <a:r>
              <a:rPr b="1" lang="en-US" sz="1800" spc="-1" strike="noStrike">
                <a:solidFill>
                  <a:srgbClr val="04617b"/>
                </a:solidFill>
                <a:latin typeface="Constantia"/>
              </a:rPr>
              <a:t> complexes voltage because QRS wave from one ventricle can not neutralize the one from the other ventric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6fc6"/>
                </a:solidFill>
                <a:latin typeface="Constantia"/>
              </a:rPr>
              <a:t>After PVCs, the </a:t>
            </a:r>
            <a:r>
              <a:rPr b="1" lang="en-US" sz="1800" spc="-1" strike="noStrike" u="sng">
                <a:solidFill>
                  <a:srgbClr val="0f6fc6"/>
                </a:solidFill>
                <a:uFillTx/>
                <a:latin typeface="Constantia"/>
              </a:rPr>
              <a:t>T wave has an electrical potential of opposite polarity </a:t>
            </a:r>
            <a:r>
              <a:rPr b="1" lang="en-US" sz="1800" spc="-1" strike="noStrike">
                <a:solidFill>
                  <a:srgbClr val="0f6fc6"/>
                </a:solidFill>
                <a:latin typeface="Constantia"/>
              </a:rPr>
              <a:t>of that of the QRS because of the slow conduction in the myocardial fibers, the fibers that depolarizes first will repolarize firs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bd0d9"/>
                </a:solidFill>
                <a:uFillTx/>
                <a:latin typeface="Constantia"/>
              </a:rPr>
              <a:t>Causes: </a:t>
            </a:r>
            <a:r>
              <a:rPr b="1" lang="en-US" sz="1800" spc="-1" strike="noStrike">
                <a:solidFill>
                  <a:srgbClr val="0bd0d9"/>
                </a:solidFill>
                <a:latin typeface="Constantia"/>
              </a:rPr>
              <a:t>drugs, caffeine, smoking, lack of sleep, emotional irritation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10cf9b"/>
                </a:solidFill>
                <a:uFillTx/>
                <a:latin typeface="Calibri"/>
              </a:rPr>
              <a:t>Premature Ventricular Contractions (PVCs)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68" name="Picture 2" descr="http://www.studentconsult.com/common/showimage.cfm?mediaISBN=0721602401&amp;FigFile=S02401-013-f011.jpg&amp;size=fullsize"/>
          <p:cNvPicPr/>
          <p:nvPr/>
        </p:nvPicPr>
        <p:blipFill>
          <a:blip r:embed="rId1"/>
          <a:srcRect l="14021" t="0" r="14998" b="55043"/>
          <a:stretch/>
        </p:blipFill>
        <p:spPr>
          <a:xfrm>
            <a:off x="2023920" y="4149720"/>
            <a:ext cx="47800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Ventricular Fibrilla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The most serious of all arhythmi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dd9"/>
                </a:solidFill>
                <a:uFillTx/>
                <a:latin typeface="Constantia"/>
              </a:rPr>
              <a:t>Cause</a:t>
            </a: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: impulses stimulate one part of the ventricles, then another, then itself. Many part contracts at the same time while other parts relax </a:t>
            </a:r>
            <a:r>
              <a:rPr b="0" i="1" lang="en-US" sz="2600" spc="-1" strike="noStrike" u="sng">
                <a:solidFill>
                  <a:srgbClr val="009dd9"/>
                </a:solidFill>
                <a:uFillTx/>
                <a:latin typeface="Constantia"/>
              </a:rPr>
              <a:t>(Circus movemen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4809960" y="2349360"/>
            <a:ext cx="4226040" cy="364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Ventricular Fibrilla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557360"/>
            <a:ext cx="8229600" cy="417528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bd0d9"/>
                </a:solidFill>
                <a:uFillTx/>
                <a:latin typeface="Constantia"/>
              </a:rPr>
              <a:t>Causes: </a:t>
            </a:r>
            <a:r>
              <a:rPr b="0" lang="en-US" sz="2600" spc="-1" strike="noStrike">
                <a:solidFill>
                  <a:srgbClr val="0bd0d9"/>
                </a:solidFill>
                <a:latin typeface="Constantia"/>
              </a:rPr>
              <a:t>sudden electrical shock, ischemi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chycard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rregular rhyth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road QRS comple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 P wa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5" name="Picture 4" descr="http://www.studentconsult.com/common/showimage.cfm?mediaISBN=0721602401&amp;FigFile=S02401-013-f016.jpg&amp;size=fullsize"/>
          <p:cNvPicPr/>
          <p:nvPr/>
        </p:nvPicPr>
        <p:blipFill>
          <a:blip r:embed="rId1"/>
          <a:srcRect l="14992" t="0" r="15721" b="14428"/>
          <a:stretch/>
        </p:blipFill>
        <p:spPr>
          <a:xfrm>
            <a:off x="1763640" y="3992400"/>
            <a:ext cx="504036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f6fc6"/>
                </a:solidFill>
                <a:uFillTx/>
                <a:latin typeface="Constantia"/>
              </a:rPr>
              <a:t>Treatment : DC sho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Ventricular Fibrilla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78" name="Picture 2" descr="http://www.studentconsult.com/common/showimage.cfm?mediaISBN=0721602401&amp;FigFile=S02401-013-f017.jpg&amp;size=fullsize"/>
          <p:cNvPicPr/>
          <p:nvPr/>
        </p:nvPicPr>
        <p:blipFill>
          <a:blip r:embed="rId1"/>
          <a:srcRect l="13552" t="0" r="0" b="7681"/>
          <a:stretch/>
        </p:blipFill>
        <p:spPr>
          <a:xfrm>
            <a:off x="2268360" y="2852640"/>
            <a:ext cx="413244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Atrial Fibrilla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413000"/>
            <a:ext cx="8229600" cy="31701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Same mechanism as ventricular fibrillation. It can occur only in atria without affecting the ventric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It occurs more frequently in patients with </a:t>
            </a:r>
            <a:r>
              <a:rPr b="0" i="1" lang="en-US" sz="2400" spc="-1" strike="noStrike" u="sng">
                <a:solidFill>
                  <a:srgbClr val="0f6fc6"/>
                </a:solidFill>
                <a:uFillTx/>
                <a:latin typeface="Constantia"/>
              </a:rPr>
              <a:t>enlarged he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The atria do not pump if they are fibrilla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efficiency of ventricular filling is decreased 20 to 30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No P wave, or high frequency of low voltage P wa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Treatment: DC sho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rcRect l="0" t="0" r="0" b="11846"/>
          <a:stretch/>
        </p:blipFill>
        <p:spPr>
          <a:xfrm>
            <a:off x="762120" y="4649760"/>
            <a:ext cx="761832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1122480" y="615960"/>
            <a:ext cx="7826400" cy="1011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" descr="conduction3"/>
          <p:cNvPicPr/>
          <p:nvPr/>
        </p:nvPicPr>
        <p:blipFill>
          <a:blip r:embed="rId2"/>
          <a:stretch/>
        </p:blipFill>
        <p:spPr>
          <a:xfrm>
            <a:off x="1447920" y="1828800"/>
            <a:ext cx="617220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6080"/>
            <a:ext cx="8229600" cy="259056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single large wave travels around and around in the atr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The atria contracts at high rate (250 beats/min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b2c9"/>
                </a:solidFill>
                <a:latin typeface="Constantia"/>
              </a:rPr>
              <a:t>Because one area of the atria is contracted and another one is relaxed, the amount of blood pumped by the atria is s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cf9b"/>
                </a:solidFill>
                <a:latin typeface="Constantia"/>
              </a:rPr>
              <a:t>The refractory period of the AV node causes 2-3 beats of atria for one single ventricular beat 2:1 or 2:3 rhyth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Atrial Flutter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1"/>
          <a:stretch/>
        </p:blipFill>
        <p:spPr>
          <a:xfrm>
            <a:off x="5173560" y="4365720"/>
            <a:ext cx="3935520" cy="23763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"/>
          <p:cNvPicPr/>
          <p:nvPr/>
        </p:nvPicPr>
        <p:blipFill>
          <a:blip r:embed="rId2"/>
          <a:srcRect l="0" t="0" r="0" b="12785"/>
          <a:stretch/>
        </p:blipFill>
        <p:spPr>
          <a:xfrm>
            <a:off x="0" y="4702320"/>
            <a:ext cx="517356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Ischemia and the ECG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935000"/>
            <a:ext cx="8229600" cy="32227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ne of the common uses of the ECG is in acute assessment of chest pa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Constantia"/>
              </a:rPr>
              <a:t>Cause: restriction of blood flow to the myocardium, eithe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Reversible: angina pector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Irreversible: myocardial infar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4617b"/>
                </a:solidFill>
                <a:latin typeface="Constantia"/>
              </a:rPr>
              <a:t>Ischemia </a:t>
            </a:r>
            <a:r>
              <a:rPr b="1" i="1" lang="en-US" sz="2600" spc="-1" strike="noStrike">
                <a:solidFill>
                  <a:srgbClr val="04617b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4617b"/>
                </a:solidFill>
                <a:latin typeface="Constantia"/>
              </a:rPr>
              <a:t> injury </a:t>
            </a:r>
            <a:r>
              <a:rPr b="1" i="1" lang="en-US" sz="2600" spc="-1" strike="noStrike">
                <a:solidFill>
                  <a:srgbClr val="04617b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4617b"/>
                </a:solidFill>
                <a:latin typeface="Constantia"/>
              </a:rPr>
              <a:t> infar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Reversible ischemia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934640"/>
            <a:ext cx="8229600" cy="401508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lvl="1"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Inverted T wa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ST segment depress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0" name="Picture 277" descr="D:\SCContent\0721602401\graphics\fullsize\S02401-012-f023.jpg"/>
          <p:cNvPicPr/>
          <p:nvPr/>
        </p:nvPicPr>
        <p:blipFill>
          <a:blip r:embed="rId1"/>
          <a:srcRect l="14987" t="0" r="14987" b="9555"/>
          <a:stretch/>
        </p:blipFill>
        <p:spPr>
          <a:xfrm>
            <a:off x="1835280" y="3500280"/>
            <a:ext cx="4465440" cy="2136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Myocardial Infarc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935000"/>
            <a:ext cx="8229600" cy="473400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lete loss of blood supply to the myocardium resulting in necrosis or death of tiss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T segment elev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Deep Q wav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3" name="Picture 2" descr="http://www.benbest.com/health/elevation.jpg"/>
          <p:cNvPicPr/>
          <p:nvPr/>
        </p:nvPicPr>
        <p:blipFill>
          <a:blip r:embed="rId1"/>
          <a:stretch/>
        </p:blipFill>
        <p:spPr>
          <a:xfrm>
            <a:off x="3851280" y="3495600"/>
            <a:ext cx="43243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Potassium and the ECG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2568240"/>
            <a:ext cx="4038480" cy="294804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ypokalemia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lat T wa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f6fc6"/>
                </a:solidFill>
                <a:uFillTx/>
                <a:latin typeface="Constantia"/>
              </a:rPr>
              <a:t>Hyperkalemi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Tall peaked T wa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6" name="Picture 2" descr="http://www.merckmanuals.com/media/professional/figures/MMPE_12END_156_02_eps.gif"/>
          <p:cNvPicPr/>
          <p:nvPr/>
        </p:nvPicPr>
        <p:blipFill>
          <a:blip r:embed="rId1"/>
          <a:stretch/>
        </p:blipFill>
        <p:spPr>
          <a:xfrm>
            <a:off x="4648320" y="2492280"/>
            <a:ext cx="4451400" cy="301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For further readings and diagrams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935000"/>
            <a:ext cx="8229600" cy="187488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f6fc6"/>
                </a:solidFill>
                <a:uFillTx/>
                <a:latin typeface="Constantia"/>
              </a:rPr>
              <a:t>Textbook of Medical Physiology by Guyton &amp; H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hapter 10 (Cardiac Arrhythmias and their Electrocardiographic Interpreta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hyth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inu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iginating from SA no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 wave before every Q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 wave in same direction as Q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12" name="Object 6"/>
          <p:cNvGraphicFramePr/>
          <p:nvPr/>
        </p:nvGraphicFramePr>
        <p:xfrm>
          <a:off x="4114800" y="2209680"/>
          <a:ext cx="4680000" cy="297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209680"/>
                    <a:ext cx="4680000" cy="29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Rectangle 2" descr=""/>
          <p:cNvPicPr/>
          <p:nvPr/>
        </p:nvPicPr>
        <p:blipFill>
          <a:blip r:embed="rId1"/>
          <a:stretch/>
        </p:blipFill>
        <p:spPr>
          <a:xfrm>
            <a:off x="426960" y="701640"/>
            <a:ext cx="8339040" cy="12128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pqrst"/>
          <p:cNvPicPr/>
          <p:nvPr/>
        </p:nvPicPr>
        <p:blipFill>
          <a:blip r:embed="rId2"/>
          <a:stretch/>
        </p:blipFill>
        <p:spPr>
          <a:xfrm>
            <a:off x="2362320" y="2286000"/>
            <a:ext cx="371160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erpretation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 a systematic approach to reading EKGs and use it every ti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ystem we will practice i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hythm (including intervals and block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x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ypertroph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chem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at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ule of 300- Divide 300 by the number of boxes between each QRS = r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2743200" y="3429000"/>
          <a:ext cx="2743200" cy="29163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mber of big box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2" descr=""/>
          <p:cNvPicPr/>
          <p:nvPr/>
        </p:nvPicPr>
        <p:blipFill>
          <a:blip r:embed="rId1"/>
          <a:stretch/>
        </p:blipFill>
        <p:spPr>
          <a:xfrm>
            <a:off x="426960" y="701640"/>
            <a:ext cx="8339040" cy="12128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Sinusbradycardia"/>
          <p:cNvPicPr/>
          <p:nvPr/>
        </p:nvPicPr>
        <p:blipFill>
          <a:blip r:embed="rId2"/>
          <a:stretch/>
        </p:blipFill>
        <p:spPr>
          <a:xfrm>
            <a:off x="609480" y="2362320"/>
            <a:ext cx="7925040" cy="177300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4"/>
          <p:cNvSpPr/>
          <p:nvPr/>
        </p:nvSpPr>
        <p:spPr>
          <a:xfrm>
            <a:off x="2819520" y="49528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00 / 6) = 50 bp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7010280" y="41148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uptodate.com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at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R of 60-100 per minute is norm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R &gt; 100 = tachycard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R &lt; 60 = bradycard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13:52:32Z</dcterms:created>
  <dc:creator>Mona Soliman</dc:creator>
  <dc:description/>
  <dc:language>en-US</dc:language>
  <cp:lastModifiedBy>Hanan albackr</cp:lastModifiedBy>
  <cp:lastPrinted>2013-03-05T15:13:40Z</cp:lastPrinted>
  <dcterms:modified xsi:type="dcterms:W3CDTF">2016-02-24T02:55:06Z</dcterms:modified>
  <cp:revision>85</cp:revision>
  <dc:subject/>
  <dc:title>Arrhythmias</dc:title>
</cp:coreProperties>
</file>