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8A5-9F3B-44E3-8110-D88CDAB6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5CAC-7AA0-41D7-97A4-DF63C8DF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1D6-D112-4711-B9D3-918B20B8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DFC-92BE-4110-B4E6-52E8FC3D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6ABD-13B6-421D-952B-E4C71574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31A6-DD01-4225-9AF7-4EF27CC0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FC8-73E7-45B6-8285-B2981973A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FE89-8803-4270-946A-754B7CE5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0828-A5E7-4CCE-945A-6A501B66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338A-BBC7-4602-93B0-3A80A351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CC65-1B1D-4333-BF41-D44226FB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6FE-CDD4-4A7A-8CCD-C1C3F7D4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FE02-7028-4268-87E2-D7CDDDA4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B64F-45D9-4F2C-9AA9-961423D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DDF6-DF57-4686-B350-C9A6A6E3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2929-27B5-4D34-AE7C-2645A1A4C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7D3B-18F5-4DDC-A263-4401ECB3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9045B-ABEA-42C1-AF4F-C7486A7B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BB35-1527-4098-B2E1-B636DE30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8AB8-2877-46EE-9113-9A5D94ED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40AF6-4477-4AD1-8EEC-6081E874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CA57A-80A7-4845-BD54-55F12839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CFC-3292-47A2-9626-CE7406C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8C83A-F8B9-4D5A-A826-2CB5D3FF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D58B-8C25-4541-95E4-D9800043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43F5-87FB-4379-BC63-3B71B56E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06C6B-9A3E-4CE9-9D86-8E1EAFB6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5C38-300C-400C-B5A1-19ECD7D9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E22C-01FE-4660-9E0A-DC85DF93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6E149-3A52-4D27-B529-E4F5397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003-7EC7-4B12-88EE-9C0DA610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729-B283-437A-A7DB-E6330ABB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1D7D-FDB4-4EF3-8248-0796F565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4E0-749C-4EB7-A646-41C7A56C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404F-A6D3-482F-B7B9-E8C2558D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D48E-FCF4-4398-AE15-DEED2FD5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9972-B9C6-48AC-9617-58AEE7AB38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B234-541D-48C6-A4B6-E1BABE9D7F0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6863-2172-4208-A270-1042FFDECE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ynaud%27s_Syndro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ympatholytic &amp; adrenergic blockers</a:t>
            </a:r>
            <a:br>
              <a:rPr sz="4400"/>
            </a:b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-receptor  Antagon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. Hanan Ha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rmacology Un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52280" y="17524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flex tachycard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ue to the fall in B.P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ted by baroreceptor reflex and 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in he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eochromocytoma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 surgical remov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 against hypertensive cri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Adverse Effects of  non-Selective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- Adrenoceptor Antagonists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chycard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sal stuffiness or cong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tigo &amp; drowsine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le sexual dysfunction (inhibits ejaculation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elective </a:t>
            </a: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 Antagoni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Prazosi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short half-lif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Doxazosin, terazosin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long half life )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antagonists cause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sodilatation due to relaxation of arterial and venous smooth musc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ll in arterial pressure with less tachycardia than with non-selective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lock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34052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ahoma"/>
              </a:rPr>
              <a:t>Therapeutic Use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201780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ign prostatic hyperpla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ment of hypertension with prostate enlar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ynaud's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4" name="Picture 5" descr="230px-Raynaud%27s_Syndr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276720"/>
            <a:ext cx="335268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6320" y="19810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elective </a:t>
            </a: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–antagonis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 receptor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sent in prostat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used in treatment of benign prostatic hypertrophy (BPH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 produc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laxation of  smooth muscles of bladder neck &amp; prostate →improve urine flow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as minimal effect on blood pressur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8" name="Content Placeholder 3"/>
          <p:cNvGrpSpPr/>
          <p:nvPr/>
        </p:nvGrpSpPr>
        <p:grpSpPr>
          <a:xfrm>
            <a:off x="3809880" y="1905120"/>
            <a:ext cx="4800600" cy="2416680"/>
            <a:chOff x="3809880" y="1905120"/>
            <a:chExt cx="4800600" cy="2416680"/>
          </a:xfrm>
        </p:grpSpPr>
        <p:pic>
          <p:nvPicPr>
            <p:cNvPr id="359" name="Picture 6" descr="http://img.medscape.com/fullsize/migrated/editorial/clinupdates/2002/2009/2009_1.fig17.gif"/>
            <p:cNvPicPr/>
            <p:nvPr/>
          </p:nvPicPr>
          <p:blipFill>
            <a:blip r:embed="rId1"/>
            <a:srcRect l="4375" t="42453" r="3751" b="10376"/>
            <a:stretch/>
          </p:blipFill>
          <p:spPr>
            <a:xfrm>
              <a:off x="3809880" y="1905120"/>
              <a:ext cx="4800600" cy="24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Rectangle 5"/>
            <p:cNvSpPr/>
            <p:nvPr/>
          </p:nvSpPr>
          <p:spPr>
            <a:xfrm>
              <a:off x="7674120" y="371880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Times New Roman"/>
                </a:rPr>
                <a:t>BPH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80880" y="4952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Adverse effects of </a:t>
            </a: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- Antagoni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before with non selective but to a lesser degre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57200" y="2057400"/>
            <a:ext cx="2819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Tamsulo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ladder neck can improve ur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22824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aphrodisiac in the treatment of erectile dys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nitric oxide released in the corpus cavernosum thus producing vasodilator  action and contributing to the erectile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133720" y="268200"/>
            <a:ext cx="44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428760" y="1500120"/>
            <a:ext cx="3357360" cy="6429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43680" y="1461960"/>
            <a:ext cx="2428560" cy="642960"/>
          </a:xfrm>
          <a:prstGeom prst="rect">
            <a:avLst/>
          </a:prstGeom>
          <a:solidFill>
            <a:srgbClr val="ffe16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Rectangle 14"/>
          <p:cNvGrpSpPr/>
          <p:nvPr/>
        </p:nvGrpSpPr>
        <p:grpSpPr>
          <a:xfrm>
            <a:off x="3249720" y="128520"/>
            <a:ext cx="2816280" cy="676440"/>
            <a:chOff x="3249720" y="128520"/>
            <a:chExt cx="2816280" cy="676440"/>
          </a:xfrm>
        </p:grpSpPr>
        <p:pic>
          <p:nvPicPr>
            <p:cNvPr id="145" name="Rectangle 14" descr=""/>
            <p:cNvPicPr/>
            <p:nvPr/>
          </p:nvPicPr>
          <p:blipFill>
            <a:blip r:embed="rId1"/>
            <a:stretch/>
          </p:blipFill>
          <p:spPr>
            <a:xfrm>
              <a:off x="3249720" y="128520"/>
              <a:ext cx="28162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60880" y="142920"/>
              <a:ext cx="2786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>
            <a:lum bright="-20000"/>
          </a:blip>
          <a:srcRect l="0" t="0" r="0" b="55539"/>
          <a:stretch/>
        </p:blipFill>
        <p:spPr>
          <a:xfrm>
            <a:off x="285840" y="0"/>
            <a:ext cx="84294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9"/>
          <p:cNvGrpSpPr/>
          <p:nvPr/>
        </p:nvGrpSpPr>
        <p:grpSpPr>
          <a:xfrm>
            <a:off x="187200" y="4143240"/>
            <a:ext cx="5956560" cy="1378080"/>
            <a:chOff x="187200" y="4143240"/>
            <a:chExt cx="5956560" cy="1378080"/>
          </a:xfrm>
        </p:grpSpPr>
        <p:sp>
          <p:nvSpPr>
            <p:cNvPr id="149" name="Rectangle 15"/>
            <p:cNvSpPr/>
            <p:nvPr/>
          </p:nvSpPr>
          <p:spPr>
            <a:xfrm>
              <a:off x="3643200" y="4830840"/>
              <a:ext cx="25005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187200" y="4786200"/>
              <a:ext cx="27147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1" name="Picture 3" descr="C:\Users\Administrator\Pictures\nn.png"/>
            <p:cNvPicPr/>
            <p:nvPr/>
          </p:nvPicPr>
          <p:blipFill>
            <a:blip r:embed="rId3">
              <a:lum bright="-20000"/>
            </a:blip>
            <a:srcRect l="4454" t="5034" r="4444" b="4367"/>
            <a:stretch/>
          </p:blipFill>
          <p:spPr>
            <a:xfrm>
              <a:off x="214200" y="4143240"/>
              <a:ext cx="5857920" cy="12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Box 24"/>
          <p:cNvSpPr/>
          <p:nvPr/>
        </p:nvSpPr>
        <p:spPr>
          <a:xfrm>
            <a:off x="2571840" y="5929200"/>
            <a:ext cx="3286080" cy="576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lpha &amp; beta- adrenergic receptor blocke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rved Down Arrow 25"/>
          <p:cNvSpPr/>
          <p:nvPr/>
        </p:nvSpPr>
        <p:spPr>
          <a:xfrm rot="8603400">
            <a:off x="5209920" y="5571360"/>
            <a:ext cx="1071360" cy="336600"/>
          </a:xfrm>
          <a:custGeom>
            <a:avLst/>
            <a:gdLst>
              <a:gd name="textAreaLeft" fmla="*/ 201600 w 1071360"/>
              <a:gd name="textAreaRight" fmla="*/ 689760 w 1071360"/>
              <a:gd name="textAreaTop" fmla="*/ 45000 h 336600"/>
              <a:gd name="textAreaBottom" fmla="*/ 2916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0" hR="21600" stAng="10800000" swAng="5400000"/>
                <a:lnTo>
                  <a:pt x="9835" y="0"/>
                </a:lnTo>
                <a:arcTo wR="8140" hR="21600" stAng="-5400000" swAng="3334889"/>
                <a:lnTo>
                  <a:pt x="21342" y="16200"/>
                </a:lnTo>
                <a:lnTo>
                  <a:pt x="17127" y="21600"/>
                </a:lnTo>
                <a:lnTo>
                  <a:pt x="12395" y="16200"/>
                </a:lnTo>
                <a:lnTo>
                  <a:pt x="16021" y="16200"/>
                </a:lnTo>
                <a:arcTo wR="8140" hR="21600" stAng="-2065111" swAng="-3199338"/>
                <a:lnTo>
                  <a:pt x="8987" y="117"/>
                </a:lnTo>
                <a:arcTo wR="8140" hR="21600" stAng="-5535551" swAng="-5264449"/>
                <a:close/>
              </a:path>
              <a:path fill="darkenLess" w="21600" h="21600">
                <a:moveTo>
                  <a:pt x="0" y="21600"/>
                </a:moveTo>
                <a:arcTo wR="8140" hR="21600" stAng="10800000" swAng="5400000"/>
                <a:lnTo>
                  <a:pt x="8140" y="0"/>
                </a:lnTo>
                <a:arcTo wR="8140" hR="21600" stAng="-5400000" swAng="135551"/>
                <a:lnTo>
                  <a:pt x="8987" y="117"/>
                </a:lnTo>
                <a:arcTo wR="8140" hR="21600" stAng="-5535551" swAng="-5264449"/>
                <a:close/>
              </a:path>
            </a:pathLst>
          </a:cu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4896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785880" y="2128680"/>
            <a:ext cx="8143920" cy="1758240"/>
            <a:chOff x="785880" y="2128680"/>
            <a:chExt cx="8143920" cy="1758240"/>
          </a:xfrm>
        </p:grpSpPr>
        <p:pic>
          <p:nvPicPr>
            <p:cNvPr id="155" name="Picture 2" descr=""/>
            <p:cNvPicPr/>
            <p:nvPr/>
          </p:nvPicPr>
          <p:blipFill>
            <a:blip r:embed="rId4"/>
            <a:srcRect l="41964" t="46131" r="6867" b="43116"/>
            <a:stretch/>
          </p:blipFill>
          <p:spPr>
            <a:xfrm>
              <a:off x="3080880" y="2128680"/>
              <a:ext cx="54046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>
              <a:off x="785880" y="3503520"/>
              <a:ext cx="3110040" cy="38340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oceptor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Box 8"/>
            <p:cNvSpPr/>
            <p:nvPr/>
          </p:nvSpPr>
          <p:spPr>
            <a:xfrm>
              <a:off x="5375520" y="2857320"/>
              <a:ext cx="3554280" cy="383400"/>
            </a:xfrm>
            <a:prstGeom prst="rect">
              <a:avLst/>
            </a:prstGeom>
            <a:gradFill rotWithShape="0">
              <a:gsLst>
                <a:gs pos="0">
                  <a:srgbClr val="ffe161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ergic Neuron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Straight Connector 32"/>
            <p:cNvSpPr/>
            <p:nvPr/>
          </p:nvSpPr>
          <p:spPr>
            <a:xfrm>
              <a:off x="3141000" y="2830320"/>
              <a:ext cx="126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neuron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tion of False Transmit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pletion of Storage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reserp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hibition of  release &amp; enhance upta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guanethid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imulation of presynapti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clonidine and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receptor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ms false transmitter  that is released instead of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gon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ug of choice in the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treatment of hypertension in pregnancy (pre-eclampsia - gestational hyperten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lonid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directly 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agonist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ppresses sympathetic outflow activity from the br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ttle Used as Antihypertensive agent due to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rebound hypertens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pon abrupt withdraw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raclonidine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used in open angle glaucoma as eye d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by decreasing aqueous humor form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3e"/>
              </a:gs>
              <a:gs pos="100000">
                <a:srgbClr val="045b70"/>
              </a:gs>
            </a:gsLst>
            <a:lin ang="0"/>
          </a:gra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C:\Users\Administrator\Pictures\Picture2.png"/>
          <p:cNvPicPr/>
          <p:nvPr/>
        </p:nvPicPr>
        <p:blipFill>
          <a:blip r:embed="rId1"/>
          <a:srcRect l="2272" t="1345" r="3410" b="0"/>
          <a:stretch/>
        </p:blipFill>
        <p:spPr>
          <a:xfrm>
            <a:off x="1285920" y="857160"/>
            <a:ext cx="5929200" cy="602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14960" y="11066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000680" y="12574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214800" y="1238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op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117960" y="19112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3117960" y="23922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4857840" y="932040"/>
            <a:ext cx="214200" cy="263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5181480" y="81612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rc 15"/>
          <p:cNvSpPr/>
          <p:nvPr/>
        </p:nvSpPr>
        <p:spPr>
          <a:xfrm>
            <a:off x="4643280" y="110664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16"/>
          <p:cNvSpPr/>
          <p:nvPr/>
        </p:nvSpPr>
        <p:spPr>
          <a:xfrm flipV="1">
            <a:off x="4643280" y="64296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 flipV="1">
            <a:off x="3798360" y="1412640"/>
            <a:ext cx="2865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3"/>
          <p:cNvCxnSpPr/>
          <p:nvPr/>
        </p:nvCxnSpPr>
        <p:spPr>
          <a:xfrm flipH="1">
            <a:off x="3357360" y="2187720"/>
            <a:ext cx="2160" cy="265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6" name="Straight Arrow Connector 24"/>
          <p:cNvCxnSpPr/>
          <p:nvPr/>
        </p:nvCxnSpPr>
        <p:spPr>
          <a:xfrm flipH="1">
            <a:off x="3357000" y="1568160"/>
            <a:ext cx="13320" cy="316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7" name="Rounded Rectangle 25"/>
          <p:cNvSpPr/>
          <p:nvPr/>
        </p:nvSpPr>
        <p:spPr>
          <a:xfrm rot="20865600">
            <a:off x="4594320" y="6242040"/>
            <a:ext cx="642960" cy="2635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8" name="Straight Arrow Connector 27"/>
          <p:cNvCxnSpPr/>
          <p:nvPr/>
        </p:nvCxnSpPr>
        <p:spPr>
          <a:xfrm flipH="1">
            <a:off x="5428800" y="60188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28"/>
          <p:cNvCxnSpPr/>
          <p:nvPr/>
        </p:nvCxnSpPr>
        <p:spPr>
          <a:xfrm flipH="1">
            <a:off x="5174280" y="6204240"/>
            <a:ext cx="255960" cy="128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29"/>
          <p:cNvCxnSpPr/>
          <p:nvPr/>
        </p:nvCxnSpPr>
        <p:spPr>
          <a:xfrm flipH="1">
            <a:off x="4857840" y="6311880"/>
            <a:ext cx="27540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30"/>
          <p:cNvCxnSpPr/>
          <p:nvPr/>
        </p:nvCxnSpPr>
        <p:spPr>
          <a:xfrm flipH="1">
            <a:off x="4581720" y="6389280"/>
            <a:ext cx="27576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31"/>
          <p:cNvCxnSpPr/>
          <p:nvPr/>
        </p:nvCxnSpPr>
        <p:spPr>
          <a:xfrm flipH="1">
            <a:off x="4356720" y="6482160"/>
            <a:ext cx="20772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3" name="Straight Arrow Connector 32"/>
          <p:cNvCxnSpPr/>
          <p:nvPr/>
        </p:nvCxnSpPr>
        <p:spPr>
          <a:xfrm flipH="1" flipV="1">
            <a:off x="4357080" y="62834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4" name="TextBox 33"/>
          <p:cNvSpPr/>
          <p:nvPr/>
        </p:nvSpPr>
        <p:spPr>
          <a:xfrm>
            <a:off x="5214960" y="6396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OM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34"/>
          <p:cNvSpPr/>
          <p:nvPr/>
        </p:nvSpPr>
        <p:spPr>
          <a:xfrm>
            <a:off x="5857920" y="3949560"/>
            <a:ext cx="50004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ard MT Condensed"/>
                <a:ea typeface="Times New Roman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Flowchart: Stored Data 35"/>
          <p:cNvGrpSpPr/>
          <p:nvPr/>
        </p:nvGrpSpPr>
        <p:grpSpPr>
          <a:xfrm>
            <a:off x="2419200" y="5851440"/>
            <a:ext cx="347760" cy="530280"/>
            <a:chOff x="2419200" y="5851440"/>
            <a:chExt cx="347760" cy="530280"/>
          </a:xfrm>
        </p:grpSpPr>
        <p:pic>
          <p:nvPicPr>
            <p:cNvPr id="187" name="Flowchart: Stored Data 35" descr=""/>
            <p:cNvPicPr/>
            <p:nvPr/>
          </p:nvPicPr>
          <p:blipFill>
            <a:blip r:embed="rId2"/>
            <a:stretch/>
          </p:blipFill>
          <p:spPr>
            <a:xfrm>
              <a:off x="2419200" y="5851440"/>
              <a:ext cx="3477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5900000">
              <a:off x="2477880" y="6038280"/>
              <a:ext cx="2430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Flowchart: Stored Data 36"/>
          <p:cNvGrpSpPr/>
          <p:nvPr/>
        </p:nvGrpSpPr>
        <p:grpSpPr>
          <a:xfrm>
            <a:off x="1994040" y="5931000"/>
            <a:ext cx="384120" cy="549000"/>
            <a:chOff x="1994040" y="5931000"/>
            <a:chExt cx="384120" cy="549000"/>
          </a:xfrm>
        </p:grpSpPr>
        <p:pic>
          <p:nvPicPr>
            <p:cNvPr id="190" name="Flowchart: Stored Data 36" descr=""/>
            <p:cNvPicPr/>
            <p:nvPr/>
          </p:nvPicPr>
          <p:blipFill>
            <a:blip r:embed="rId3"/>
            <a:stretch/>
          </p:blipFill>
          <p:spPr>
            <a:xfrm>
              <a:off x="1994040" y="5931000"/>
              <a:ext cx="3841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rot="15600000">
              <a:off x="2068920" y="6123960"/>
              <a:ext cx="2412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" name="Flowchart: Stored Data 37"/>
          <p:cNvGrpSpPr/>
          <p:nvPr/>
        </p:nvGrpSpPr>
        <p:grpSpPr>
          <a:xfrm>
            <a:off x="1566720" y="6053040"/>
            <a:ext cx="420840" cy="567000"/>
            <a:chOff x="1566720" y="6053040"/>
            <a:chExt cx="420840" cy="567000"/>
          </a:xfrm>
        </p:grpSpPr>
        <p:pic>
          <p:nvPicPr>
            <p:cNvPr id="193" name="Flowchart: Stored Data 37" descr=""/>
            <p:cNvPicPr/>
            <p:nvPr/>
          </p:nvPicPr>
          <p:blipFill>
            <a:blip r:embed="rId4"/>
            <a:stretch/>
          </p:blipFill>
          <p:spPr>
            <a:xfrm>
              <a:off x="1566720" y="6053040"/>
              <a:ext cx="4208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rot="15300000">
              <a:off x="1667160" y="6253560"/>
              <a:ext cx="243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Box 40"/>
          <p:cNvSpPr/>
          <p:nvPr/>
        </p:nvSpPr>
        <p:spPr>
          <a:xfrm>
            <a:off x="1538280" y="841320"/>
            <a:ext cx="1747800" cy="58068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nard MT Condensed"/>
                <a:ea typeface="Times New Roman"/>
              </a:rPr>
              <a:t>Norepinephrine (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C:\Users\Administrator\Pictures\Picture2.png"/>
          <p:cNvPicPr/>
          <p:nvPr/>
        </p:nvPicPr>
        <p:blipFill>
          <a:blip r:embed="rId5"/>
          <a:stretch/>
        </p:blipFill>
        <p:spPr>
          <a:xfrm>
            <a:off x="2762280" y="3584520"/>
            <a:ext cx="4986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Oval 60"/>
          <p:cNvSpPr/>
          <p:nvPr/>
        </p:nvSpPr>
        <p:spPr>
          <a:xfrm>
            <a:off x="1785960" y="55897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61"/>
          <p:cNvSpPr/>
          <p:nvPr/>
        </p:nvSpPr>
        <p:spPr>
          <a:xfrm>
            <a:off x="1785960" y="56642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62"/>
          <p:cNvSpPr/>
          <p:nvPr/>
        </p:nvSpPr>
        <p:spPr>
          <a:xfrm>
            <a:off x="2058840" y="5191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813"/>
          <p:cNvSpPr/>
          <p:nvPr/>
        </p:nvSpPr>
        <p:spPr>
          <a:xfrm>
            <a:off x="1828800" y="526896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821"/>
          <p:cNvSpPr/>
          <p:nvPr/>
        </p:nvSpPr>
        <p:spPr>
          <a:xfrm>
            <a:off x="1905120" y="54086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899"/>
          <p:cNvSpPr/>
          <p:nvPr/>
        </p:nvSpPr>
        <p:spPr>
          <a:xfrm>
            <a:off x="1905120" y="549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811"/>
          <p:cNvSpPr/>
          <p:nvPr/>
        </p:nvSpPr>
        <p:spPr>
          <a:xfrm>
            <a:off x="1828800" y="45291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81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81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81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818"/>
          <p:cNvSpPr/>
          <p:nvPr/>
        </p:nvSpPr>
        <p:spPr>
          <a:xfrm>
            <a:off x="2013120" y="4568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821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822"/>
          <p:cNvSpPr/>
          <p:nvPr/>
        </p:nvSpPr>
        <p:spPr>
          <a:xfrm>
            <a:off x="1830240" y="464508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823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824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829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832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87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87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87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878"/>
          <p:cNvSpPr/>
          <p:nvPr/>
        </p:nvSpPr>
        <p:spPr>
          <a:xfrm>
            <a:off x="2013120" y="449280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883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886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99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01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902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811"/>
          <p:cNvSpPr/>
          <p:nvPr/>
        </p:nvSpPr>
        <p:spPr>
          <a:xfrm>
            <a:off x="2087640" y="46702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81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81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81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818"/>
          <p:cNvSpPr/>
          <p:nvPr/>
        </p:nvSpPr>
        <p:spPr>
          <a:xfrm>
            <a:off x="2271600" y="47102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821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Oval 822"/>
          <p:cNvSpPr/>
          <p:nvPr/>
        </p:nvSpPr>
        <p:spPr>
          <a:xfrm>
            <a:off x="208908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823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824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829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832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87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87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87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878"/>
          <p:cNvSpPr/>
          <p:nvPr/>
        </p:nvSpPr>
        <p:spPr>
          <a:xfrm>
            <a:off x="2271600" y="463248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83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886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899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901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02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81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81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81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818"/>
          <p:cNvSpPr/>
          <p:nvPr/>
        </p:nvSpPr>
        <p:spPr>
          <a:xfrm>
            <a:off x="2225520" y="42800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823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24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829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832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87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87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87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883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886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01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902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898"/>
          <p:cNvSpPr/>
          <p:nvPr/>
        </p:nvSpPr>
        <p:spPr>
          <a:xfrm>
            <a:off x="2075040" y="49658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825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79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126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127"/>
          <p:cNvSpPr/>
          <p:nvPr/>
        </p:nvSpPr>
        <p:spPr>
          <a:xfrm rot="600000">
            <a:off x="1999800" y="58212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128"/>
          <p:cNvSpPr/>
          <p:nvPr/>
        </p:nvSpPr>
        <p:spPr>
          <a:xfrm rot="600000">
            <a:off x="1999800" y="58975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129"/>
          <p:cNvSpPr/>
          <p:nvPr/>
        </p:nvSpPr>
        <p:spPr>
          <a:xfrm>
            <a:off x="1619280" y="5627520"/>
            <a:ext cx="921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Oval 130"/>
          <p:cNvSpPr/>
          <p:nvPr/>
        </p:nvSpPr>
        <p:spPr>
          <a:xfrm>
            <a:off x="1711440" y="570240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Oval 131"/>
          <p:cNvSpPr/>
          <p:nvPr/>
        </p:nvSpPr>
        <p:spPr>
          <a:xfrm>
            <a:off x="1585800" y="568476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32"/>
          <p:cNvSpPr/>
          <p:nvPr/>
        </p:nvSpPr>
        <p:spPr>
          <a:xfrm>
            <a:off x="1676520" y="5846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33"/>
          <p:cNvSpPr/>
          <p:nvPr/>
        </p:nvSpPr>
        <p:spPr>
          <a:xfrm>
            <a:off x="1711440" y="56275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34"/>
          <p:cNvSpPr/>
          <p:nvPr/>
        </p:nvSpPr>
        <p:spPr>
          <a:xfrm>
            <a:off x="1585800" y="57769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135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36"/>
          <p:cNvSpPr/>
          <p:nvPr/>
        </p:nvSpPr>
        <p:spPr>
          <a:xfrm rot="600000">
            <a:off x="2273400" y="542304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813"/>
          <p:cNvSpPr/>
          <p:nvPr/>
        </p:nvSpPr>
        <p:spPr>
          <a:xfrm rot="600000">
            <a:off x="2043000" y="5502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821"/>
          <p:cNvSpPr/>
          <p:nvPr/>
        </p:nvSpPr>
        <p:spPr>
          <a:xfrm rot="600000">
            <a:off x="2119320" y="564048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val 899"/>
          <p:cNvSpPr/>
          <p:nvPr/>
        </p:nvSpPr>
        <p:spPr>
          <a:xfrm rot="600000">
            <a:off x="2118960" y="5727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val 81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821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823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829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832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87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83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886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899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901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902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81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81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val 81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818"/>
          <p:cNvSpPr/>
          <p:nvPr/>
        </p:nvSpPr>
        <p:spPr>
          <a:xfrm rot="600000">
            <a:off x="2485800" y="49417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821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822"/>
          <p:cNvSpPr/>
          <p:nvPr/>
        </p:nvSpPr>
        <p:spPr>
          <a:xfrm rot="600000">
            <a:off x="230364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823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824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829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32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87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87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87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883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886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899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901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902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899"/>
          <p:cNvSpPr/>
          <p:nvPr/>
        </p:nvSpPr>
        <p:spPr>
          <a:xfrm>
            <a:off x="1676520" y="592308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Oval 898"/>
          <p:cNvSpPr/>
          <p:nvPr/>
        </p:nvSpPr>
        <p:spPr>
          <a:xfrm rot="600000">
            <a:off x="2289240" y="51973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val 825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Oval 879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175"/>
          <p:cNvSpPr/>
          <p:nvPr/>
        </p:nvSpPr>
        <p:spPr>
          <a:xfrm>
            <a:off x="2576520" y="54324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176"/>
          <p:cNvSpPr/>
          <p:nvPr/>
        </p:nvSpPr>
        <p:spPr>
          <a:xfrm>
            <a:off x="2576520" y="55069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899"/>
          <p:cNvSpPr/>
          <p:nvPr/>
        </p:nvSpPr>
        <p:spPr>
          <a:xfrm>
            <a:off x="2695680" y="53388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78"/>
          <p:cNvSpPr/>
          <p:nvPr/>
        </p:nvSpPr>
        <p:spPr>
          <a:xfrm>
            <a:off x="2376360" y="545292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79"/>
          <p:cNvSpPr/>
          <p:nvPr/>
        </p:nvSpPr>
        <p:spPr>
          <a:xfrm>
            <a:off x="2409840" y="552780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80"/>
          <p:cNvSpPr/>
          <p:nvPr/>
        </p:nvSpPr>
        <p:spPr>
          <a:xfrm>
            <a:off x="2624040" y="5272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81"/>
          <p:cNvSpPr/>
          <p:nvPr/>
        </p:nvSpPr>
        <p:spPr>
          <a:xfrm>
            <a:off x="2286000" y="5592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182"/>
          <p:cNvSpPr/>
          <p:nvPr/>
        </p:nvSpPr>
        <p:spPr>
          <a:xfrm>
            <a:off x="2467080" y="5689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183"/>
          <p:cNvSpPr/>
          <p:nvPr/>
        </p:nvSpPr>
        <p:spPr>
          <a:xfrm>
            <a:off x="2502000" y="53388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184"/>
          <p:cNvSpPr/>
          <p:nvPr/>
        </p:nvSpPr>
        <p:spPr>
          <a:xfrm>
            <a:off x="2376360" y="56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185"/>
          <p:cNvSpPr/>
          <p:nvPr/>
        </p:nvSpPr>
        <p:spPr>
          <a:xfrm>
            <a:off x="2376360" y="533880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899"/>
          <p:cNvSpPr/>
          <p:nvPr/>
        </p:nvSpPr>
        <p:spPr>
          <a:xfrm>
            <a:off x="2467080" y="576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Flowchart: Stored Data 187"/>
          <p:cNvGrpSpPr/>
          <p:nvPr/>
        </p:nvGrpSpPr>
        <p:grpSpPr>
          <a:xfrm>
            <a:off x="1523880" y="3584520"/>
            <a:ext cx="567000" cy="358920"/>
            <a:chOff x="1523880" y="3584520"/>
            <a:chExt cx="567000" cy="358920"/>
          </a:xfrm>
        </p:grpSpPr>
        <p:pic>
          <p:nvPicPr>
            <p:cNvPr id="321" name="Flowchart: Stored Data 187" descr=""/>
            <p:cNvPicPr/>
            <p:nvPr/>
          </p:nvPicPr>
          <p:blipFill>
            <a:blip r:embed="rId6"/>
            <a:stretch/>
          </p:blipFill>
          <p:spPr>
            <a:xfrm>
              <a:off x="1523880" y="3584520"/>
              <a:ext cx="567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0328400">
              <a:off x="1721880" y="3642840"/>
              <a:ext cx="2617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Rectangle 193"/>
          <p:cNvSpPr/>
          <p:nvPr/>
        </p:nvSpPr>
        <p:spPr>
          <a:xfrm>
            <a:off x="1309680" y="2147760"/>
            <a:ext cx="1785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SERP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94"/>
          <p:cNvSpPr/>
          <p:nvPr/>
        </p:nvSpPr>
        <p:spPr>
          <a:xfrm>
            <a:off x="1044360" y="3068640"/>
            <a:ext cx="233892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Depletes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195"/>
          <p:cNvSpPr/>
          <p:nvPr/>
        </p:nvSpPr>
        <p:spPr>
          <a:xfrm>
            <a:off x="3097080" y="4148280"/>
            <a:ext cx="1974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Gaunth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Box 58"/>
          <p:cNvSpPr/>
          <p:nvPr/>
        </p:nvSpPr>
        <p:spPr>
          <a:xfrm>
            <a:off x="71280" y="168120"/>
            <a:ext cx="6372360" cy="885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1. Adrenergic Neuron Blockers [SYMPATHOLYTICS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Box 188"/>
          <p:cNvSpPr/>
          <p:nvPr/>
        </p:nvSpPr>
        <p:spPr>
          <a:xfrm>
            <a:off x="650088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ff33"/>
                </a:solidFill>
                <a:latin typeface="Arial Narrow"/>
                <a:ea typeface="Times New Roman"/>
              </a:rPr>
              <a:t>-methyl tyr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90"/>
          <p:cNvSpPr/>
          <p:nvPr/>
        </p:nvSpPr>
        <p:spPr>
          <a:xfrm>
            <a:off x="6168600" y="1109520"/>
            <a:ext cx="2928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False Trans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191"/>
          <p:cNvSpPr/>
          <p:nvPr/>
        </p:nvSpPr>
        <p:spPr>
          <a:xfrm>
            <a:off x="6357960" y="214200"/>
            <a:ext cx="2482920" cy="42912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1. METHYLDOP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92"/>
          <p:cNvSpPr/>
          <p:nvPr/>
        </p:nvSpPr>
        <p:spPr>
          <a:xfrm>
            <a:off x="5857920" y="14428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Wingdings 3"/>
                <a:ea typeface="Wingdings 3"/>
              </a:rPr>
              <a:t>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Bernard MT Condensed"/>
                <a:ea typeface="Times New Roman"/>
              </a:rPr>
              <a:t>Antihypertensive in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200"/>
          <p:cNvSpPr/>
          <p:nvPr/>
        </p:nvSpPr>
        <p:spPr>
          <a:xfrm>
            <a:off x="4290120" y="4643280"/>
            <a:ext cx="25628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Enhance Uptak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201"/>
          <p:cNvSpPr/>
          <p:nvPr/>
        </p:nvSpPr>
        <p:spPr>
          <a:xfrm>
            <a:off x="1562040" y="4643280"/>
            <a:ext cx="229140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  <a:ea typeface="Times New Roman"/>
              </a:rPr>
              <a:t>Inhibit Rele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202"/>
          <p:cNvSpPr/>
          <p:nvPr/>
        </p:nvSpPr>
        <p:spPr>
          <a:xfrm>
            <a:off x="3000240" y="6021360"/>
            <a:ext cx="5964480" cy="947160"/>
          </a:xfrm>
          <a:prstGeom prst="rect">
            <a:avLst/>
          </a:prstGeom>
          <a:solidFill>
            <a:srgbClr val="001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  <a:ea typeface="Times New Roman"/>
              </a:rPr>
              <a:t>2. Adrenoceptor Blockers [ADRENOLYTIC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207"/>
          <p:cNvGrpSpPr/>
          <p:nvPr/>
        </p:nvGrpSpPr>
        <p:grpSpPr>
          <a:xfrm>
            <a:off x="1279440" y="3517920"/>
            <a:ext cx="1720800" cy="3384720"/>
            <a:chOff x="1279440" y="3517920"/>
            <a:chExt cx="1720800" cy="3384720"/>
          </a:xfrm>
        </p:grpSpPr>
        <p:sp>
          <p:nvSpPr>
            <p:cNvPr id="335" name="TextBox 203"/>
            <p:cNvSpPr/>
            <p:nvPr/>
          </p:nvSpPr>
          <p:spPr>
            <a:xfrm>
              <a:off x="1279440" y="351792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Tahoma"/>
                  <a:ea typeface="Times New Roman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Box 204"/>
            <p:cNvSpPr/>
            <p:nvPr/>
          </p:nvSpPr>
          <p:spPr>
            <a:xfrm>
              <a:off x="1500120" y="64274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Box 205"/>
            <p:cNvSpPr/>
            <p:nvPr/>
          </p:nvSpPr>
          <p:spPr>
            <a:xfrm>
              <a:off x="2013840" y="640008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TextBox 206"/>
            <p:cNvSpPr/>
            <p:nvPr/>
          </p:nvSpPr>
          <p:spPr>
            <a:xfrm>
              <a:off x="2428920" y="63140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Rectangle 174"/>
          <p:cNvSpPr/>
          <p:nvPr/>
        </p:nvSpPr>
        <p:spPr>
          <a:xfrm>
            <a:off x="279360" y="4118040"/>
            <a:ext cx="325116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. Clon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Presynapti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agon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Adrenergic receptor block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nergic receptor blockers 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renoly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lock sympathetic actions by antagoniz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receptor  antagonist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receptor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  <a:ea typeface="Times New Roman (Arabic)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Classification of 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-receptor  Antagon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on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henoxybenzamine &amp; phentolam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razosin, doxazos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Non-Selective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- Adrenoceptor Antagonists</a:t>
            </a: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1920" y="1752480"/>
            <a:ext cx="4419720" cy="464832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enoxybenzamin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24 h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4648320" y="1752480"/>
            <a:ext cx="4267080" cy="457200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entolamin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reversi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ing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&amp;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receptor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hort acting (4 hrs)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drugs caus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Decrease peripheral vascular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ncrease cardiac output (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bloc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eflex tachycar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oth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precipit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hythmias and angina and ar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contra-indicated in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patients with decreased coronary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amal</cp:lastModifiedBy>
  <dcterms:modified xsi:type="dcterms:W3CDTF">2016-02-23T08:26:27Z</dcterms:modified>
  <cp:revision>499</cp:revision>
  <dc:subject/>
  <dc:title>Noradrenergic Transmission</dc:title>
</cp:coreProperties>
</file>