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5.jpeg" ContentType="image/jpeg"/>
  <Override PartName="/ppt/media/image32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E64-1148-4DCE-900E-78097B25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6C5D-72B7-4F53-829D-7A137C66ACA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0D07-D2A4-43C4-9F38-93CBEB4B5DB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0C3-FD9F-4BB1-A6BC-EEB4BEA3C0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522-62F3-4765-A14C-ACF5B74B4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8AB-1AF4-463D-B914-D541915D9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559-BD6B-49AF-A383-74372F250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935-B635-4041-A637-ACBF201E5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3103-72B0-466C-96CE-9F18776E3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Bile Acid Seque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195-AFA1-46A2-B46D-FAC05B3897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616-6F17-4ED0-82C2-4C7CE1C35A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6390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Bile Acid Seque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D937-6CD0-4808-8BE8-ED612E5E57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E543-6907-45D6-BBE5-47FD0DFD7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054-0D0B-42C7-BABE-B9C76B13F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84F1-D303-4717-BAC9-9FC287F98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B81-54C2-405E-A83E-29FA5BFA7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D4E-E6E9-4F22-A04B-E040BD4BB0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2E9-C5BE-49F4-A979-B594C69F6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A913-D3AF-4D40-8AFE-1E3006449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5E1E-E281-49B4-B419-547C29A22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6872-FA2E-4C8B-8B74-971CD053F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0EA3-929A-4C41-A2CE-12DBB8C43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3A6-1714-44E0-ADBE-CFA94F7E6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BB7-4F83-48D0-B3DD-CB1BCDAA94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B4E-BD35-4521-82DD-4FB93A19A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4F1-8939-4EBB-8E2B-4FC8EC9C7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55D-DA3B-4D16-9160-AD811F34F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F7B-F5B6-4232-A3B9-DD8171D22D0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4C9-44E7-4460-977F-65446E7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AC6-648D-4503-9CDC-9821DB3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BEE-2267-4F70-8ABC-E72B7E68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E80-417E-4865-8B38-2972FA18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C8AE-82F0-440C-905C-8C1ED64F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9A8D-6367-470D-9F67-A1C139BF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5FB-8940-4D7A-8CC7-91311EA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CBA-BD1B-49F4-9AE1-F17A2BB5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DF6-FB82-4E24-9E82-014E7A15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2C9-C01E-4421-9821-0DB625F7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E72-1FFB-479A-8D46-54DBEBB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0A6-1F82-4863-BE66-784E3819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4A1A-18A1-4B57-8224-CBCA0B9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694-A28E-468D-9B36-E1E2090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2D4-A559-448D-92A2-70CBC68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59D-1A98-436E-B958-83C8F87D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F91-B017-49DD-B69F-FACF7A75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D72-C1B2-415D-8F70-67931187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80F-7ECC-46E5-BB80-581F39A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D61-EF09-4EBB-8636-49786EC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26C-778C-431D-8AE4-30AA6CA0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84C-30C5-4D95-A57E-39AA96A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DE4-F924-4E95-9073-3FA4129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B2-3462-437C-8E4E-B7DDCB4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1CCF-0E52-42E6-9DC8-7FAE1EC9A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42D-768B-4FB8-9D4C-9A69876C8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s://en.wikipedia.org/wiki/Enterohepatic_circulation" TargetMode="External"/><Relationship Id="rId4" Type="http://schemas.openxmlformats.org/officeDocument/2006/relationships/hyperlink" Target="https://en.wikipedia.org/wiki/Bile_acid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lipidsonline.org/slides/slide01.cfm?q=myopathy&amp;pg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Drugs for hyperlipidemi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0" y="5634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f. Yieldez Bassiou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1" descr="http://www.cbsnews.com/i/cbsnews/2006/08/08/image1876985g.jpg"/>
          <p:cNvPicPr/>
          <p:nvPr/>
        </p:nvPicPr>
        <p:blipFill>
          <a:blip r:embed="rId1"/>
          <a:srcRect l="1441" t="1921" r="1921" b="3841"/>
          <a:stretch/>
        </p:blipFill>
        <p:spPr>
          <a:xfrm>
            <a:off x="0" y="0"/>
            <a:ext cx="4572000" cy="38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3" descr="paj_plaq"/>
          <p:cNvPicPr/>
          <p:nvPr/>
        </p:nvPicPr>
        <p:blipFill>
          <a:blip r:embed="rId2"/>
          <a:stretch/>
        </p:blipFill>
        <p:spPr>
          <a:xfrm>
            <a:off x="4572000" y="0"/>
            <a:ext cx="4495680" cy="213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Picture 4" descr="paj_plaq2"/>
          <p:cNvPicPr/>
          <p:nvPr/>
        </p:nvPicPr>
        <p:blipFill>
          <a:blip r:embed="rId3"/>
          <a:stretch/>
        </p:blipFill>
        <p:spPr>
          <a:xfrm>
            <a:off x="4572000" y="2133720"/>
            <a:ext cx="4495680" cy="171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430-49D7-4D06-9F4C-EF8698547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4681440" y="1609560"/>
            <a:ext cx="4176720" cy="804960"/>
          </a:xfrm>
          <a:prstGeom prst="rect">
            <a:avLst/>
          </a:prstGeom>
          <a:ln w="0">
            <a:noFill/>
          </a:ln>
        </p:spPr>
      </p:pic>
      <p:pic>
        <p:nvPicPr>
          <p:cNvPr id="142" name="Rectangle 8" descr=""/>
          <p:cNvPicPr/>
          <p:nvPr/>
        </p:nvPicPr>
        <p:blipFill>
          <a:blip r:embed="rId2"/>
          <a:stretch/>
        </p:blipFill>
        <p:spPr>
          <a:xfrm>
            <a:off x="-6480" y="6480"/>
            <a:ext cx="9296640" cy="920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291960" y="10666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herapeutic lifestyl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2209680"/>
            <a:ext cx="8763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1. Healthy diet;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ptimal Quantitative &amp; Qualitative fat cont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iet has &lt;30% of calories as fat, &lt;7% as saturated fat and &lt;200mg cholesterol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Avoid trans-fatty acids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&amp; acute increase in C inta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e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egetable oils rich in unsaturated fatty acid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: oleic acid, linoleic acid 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linolenic acids. Diet should also contain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plant stanols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(interfere with the formation of micellar cholesterol) &amp; soluble fi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at food high in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antioxidants vitam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Regular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Cessation of hazards habits; smoking, alcohol, …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Loss of w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6246720" y="837720"/>
            <a:ext cx="1982880" cy="838800"/>
            <a:chOff x="6246720" y="837720"/>
            <a:chExt cx="1982880" cy="838800"/>
          </a:xfrm>
        </p:grpSpPr>
        <p:sp>
          <p:nvSpPr>
            <p:cNvPr id="146" name="Straight Connector 11"/>
            <p:cNvSpPr/>
            <p:nvPr/>
          </p:nvSpPr>
          <p:spPr>
            <a:xfrm>
              <a:off x="6246720" y="83808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7" name="Straight Arrow Connector 14"/>
            <p:cNvCxnSpPr/>
            <p:nvPr/>
          </p:nvCxnSpPr>
          <p:spPr>
            <a:xfrm flipH="1">
              <a:off x="8227800" y="837720"/>
              <a:ext cx="2160" cy="8391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48" name="Group 17"/>
          <p:cNvGrpSpPr/>
          <p:nvPr/>
        </p:nvGrpSpPr>
        <p:grpSpPr>
          <a:xfrm>
            <a:off x="901440" y="838080"/>
            <a:ext cx="1994040" cy="306360"/>
            <a:chOff x="901440" y="838080"/>
            <a:chExt cx="1994040" cy="306360"/>
          </a:xfrm>
        </p:grpSpPr>
        <p:sp>
          <p:nvSpPr>
            <p:cNvPr id="149" name="Straight Connector 12"/>
            <p:cNvSpPr/>
            <p:nvPr/>
          </p:nvSpPr>
          <p:spPr>
            <a:xfrm>
              <a:off x="914400" y="838080"/>
              <a:ext cx="1981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" name="Straight Arrow Connector 16"/>
            <p:cNvCxnSpPr/>
            <p:nvPr/>
          </p:nvCxnSpPr>
          <p:spPr>
            <a:xfrm flipH="1">
              <a:off x="901440" y="839160"/>
              <a:ext cx="2160" cy="3056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151" name="Rectangle 18"/>
          <p:cNvSpPr/>
          <p:nvPr/>
        </p:nvSpPr>
        <p:spPr>
          <a:xfrm>
            <a:off x="203040" y="60879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 Narrow"/>
              </a:rPr>
              <a:t>Can achieve a fall in LDL-C of 8-15% … </a:t>
            </a:r>
            <a:r>
              <a:rPr b="1" i="1" lang="en-GB" sz="2200" spc="-1" strike="noStrike">
                <a:solidFill>
                  <a:srgbClr val="66ff33"/>
                </a:solidFill>
                <a:latin typeface="Arial Narrow"/>
              </a:rPr>
              <a:t>but long-term compliance is a probl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BC2-9387-4ABF-828A-49EB733FC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75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75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75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8088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According to the mechanism of  acti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1- Inhibits cholesterol absorption in the intest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Ezetim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2-Sequester bile acids in the intest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Exchange</a:t>
            </a:r>
            <a:r>
              <a:rPr b="0" lang="en-US" sz="2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res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3-Inhibits synthesis of choleste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Inhibitors of hydroxymethylglutaryl coenzyme A reductase    (Stat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4-Alter relative levels &amp; patterns of different plasma LP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Fibrates, Nicotinic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Rectangle 13" descr=""/>
          <p:cNvPicPr/>
          <p:nvPr/>
        </p:nvPicPr>
        <p:blipFill>
          <a:blip r:embed="rId1"/>
          <a:stretch/>
        </p:blipFill>
        <p:spPr>
          <a:xfrm>
            <a:off x="1925640" y="371520"/>
            <a:ext cx="4799160" cy="92088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73D-DF3A-4BF2-A521-A05D5696C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-Agents targeting ex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Colestipol &amp; cholestyram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I-Agents targeting end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tat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Fib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Nicotin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II-Adjuvant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Omega-3-Fatty Acids, Stan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E4C5-4AAC-4116-AC54-BB57438C0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Hepatic Cholesterol Metabol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84440" y="19051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40160" y="1676520"/>
            <a:ext cx="29318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 novo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867280" y="1371600"/>
            <a:ext cx="3200400" cy="886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synthes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extrahepatic t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798560" y="2757600"/>
            <a:ext cx="4819680" cy="21351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3036" h="1345">
                <a:moveTo>
                  <a:pt x="0" y="609"/>
                </a:moveTo>
                <a:cubicBezTo>
                  <a:pt x="43" y="549"/>
                  <a:pt x="118" y="517"/>
                  <a:pt x="175" y="473"/>
                </a:cubicBezTo>
                <a:cubicBezTo>
                  <a:pt x="308" y="371"/>
                  <a:pt x="450" y="250"/>
                  <a:pt x="600" y="175"/>
                </a:cubicBezTo>
                <a:cubicBezTo>
                  <a:pt x="629" y="161"/>
                  <a:pt x="601" y="173"/>
                  <a:pt x="623" y="156"/>
                </a:cubicBezTo>
                <a:cubicBezTo>
                  <a:pt x="675" y="116"/>
                  <a:pt x="748" y="66"/>
                  <a:pt x="812" y="52"/>
                </a:cubicBezTo>
                <a:cubicBezTo>
                  <a:pt x="841" y="33"/>
                  <a:pt x="865" y="36"/>
                  <a:pt x="902" y="33"/>
                </a:cubicBezTo>
                <a:cubicBezTo>
                  <a:pt x="1153" y="44"/>
                  <a:pt x="1402" y="74"/>
                  <a:pt x="1653" y="81"/>
                </a:cubicBezTo>
                <a:cubicBezTo>
                  <a:pt x="1879" y="74"/>
                  <a:pt x="2105" y="61"/>
                  <a:pt x="2332" y="57"/>
                </a:cubicBezTo>
                <a:cubicBezTo>
                  <a:pt x="2375" y="51"/>
                  <a:pt x="2417" y="48"/>
                  <a:pt x="2460" y="43"/>
                </a:cubicBezTo>
                <a:cubicBezTo>
                  <a:pt x="2514" y="29"/>
                  <a:pt x="2560" y="15"/>
                  <a:pt x="2616" y="5"/>
                </a:cubicBezTo>
                <a:cubicBezTo>
                  <a:pt x="2625" y="3"/>
                  <a:pt x="2644" y="0"/>
                  <a:pt x="2644" y="0"/>
                </a:cubicBezTo>
                <a:cubicBezTo>
                  <a:pt x="2771" y="5"/>
                  <a:pt x="2728" y="0"/>
                  <a:pt x="2795" y="19"/>
                </a:cubicBezTo>
                <a:cubicBezTo>
                  <a:pt x="2822" y="38"/>
                  <a:pt x="2805" y="24"/>
                  <a:pt x="2838" y="67"/>
                </a:cubicBezTo>
                <a:cubicBezTo>
                  <a:pt x="2843" y="73"/>
                  <a:pt x="2852" y="85"/>
                  <a:pt x="2852" y="85"/>
                </a:cubicBezTo>
                <a:cubicBezTo>
                  <a:pt x="2869" y="131"/>
                  <a:pt x="2908" y="182"/>
                  <a:pt x="2937" y="222"/>
                </a:cubicBezTo>
                <a:cubicBezTo>
                  <a:pt x="2949" y="238"/>
                  <a:pt x="2954" y="257"/>
                  <a:pt x="2965" y="274"/>
                </a:cubicBezTo>
                <a:cubicBezTo>
                  <a:pt x="2972" y="312"/>
                  <a:pt x="2971" y="350"/>
                  <a:pt x="2979" y="388"/>
                </a:cubicBezTo>
                <a:cubicBezTo>
                  <a:pt x="2975" y="474"/>
                  <a:pt x="2975" y="559"/>
                  <a:pt x="2993" y="643"/>
                </a:cubicBezTo>
                <a:cubicBezTo>
                  <a:pt x="2998" y="668"/>
                  <a:pt x="3012" y="690"/>
                  <a:pt x="3022" y="713"/>
                </a:cubicBezTo>
                <a:cubicBezTo>
                  <a:pt x="3032" y="738"/>
                  <a:pt x="3032" y="771"/>
                  <a:pt x="3036" y="798"/>
                </a:cubicBezTo>
                <a:cubicBezTo>
                  <a:pt x="3034" y="847"/>
                  <a:pt x="3034" y="916"/>
                  <a:pt x="3022" y="968"/>
                </a:cubicBezTo>
                <a:cubicBezTo>
                  <a:pt x="3012" y="1013"/>
                  <a:pt x="2986" y="1056"/>
                  <a:pt x="2965" y="1096"/>
                </a:cubicBezTo>
                <a:cubicBezTo>
                  <a:pt x="2953" y="1119"/>
                  <a:pt x="2949" y="1146"/>
                  <a:pt x="2932" y="1167"/>
                </a:cubicBezTo>
                <a:cubicBezTo>
                  <a:pt x="2925" y="1176"/>
                  <a:pt x="2907" y="1189"/>
                  <a:pt x="2899" y="1200"/>
                </a:cubicBezTo>
                <a:cubicBezTo>
                  <a:pt x="2886" y="1218"/>
                  <a:pt x="2875" y="1238"/>
                  <a:pt x="2857" y="1252"/>
                </a:cubicBezTo>
                <a:cubicBezTo>
                  <a:pt x="2799" y="1298"/>
                  <a:pt x="2722" y="1300"/>
                  <a:pt x="2653" y="1304"/>
                </a:cubicBezTo>
                <a:cubicBezTo>
                  <a:pt x="2603" y="1311"/>
                  <a:pt x="2553" y="1320"/>
                  <a:pt x="2502" y="1327"/>
                </a:cubicBezTo>
                <a:cubicBezTo>
                  <a:pt x="2437" y="1345"/>
                  <a:pt x="2376" y="1340"/>
                  <a:pt x="2309" y="1337"/>
                </a:cubicBezTo>
                <a:cubicBezTo>
                  <a:pt x="2274" y="1329"/>
                  <a:pt x="2240" y="1321"/>
                  <a:pt x="2205" y="1313"/>
                </a:cubicBezTo>
                <a:cubicBezTo>
                  <a:pt x="2197" y="1311"/>
                  <a:pt x="2181" y="1308"/>
                  <a:pt x="2181" y="1308"/>
                </a:cubicBezTo>
                <a:cubicBezTo>
                  <a:pt x="2152" y="1289"/>
                  <a:pt x="2107" y="1276"/>
                  <a:pt x="2073" y="1270"/>
                </a:cubicBezTo>
                <a:cubicBezTo>
                  <a:pt x="2047" y="1258"/>
                  <a:pt x="2016" y="1248"/>
                  <a:pt x="1988" y="1242"/>
                </a:cubicBezTo>
                <a:cubicBezTo>
                  <a:pt x="1963" y="1230"/>
                  <a:pt x="1937" y="1221"/>
                  <a:pt x="1912" y="1209"/>
                </a:cubicBezTo>
                <a:cubicBezTo>
                  <a:pt x="1897" y="1202"/>
                  <a:pt x="1865" y="1195"/>
                  <a:pt x="1865" y="1195"/>
                </a:cubicBezTo>
                <a:cubicBezTo>
                  <a:pt x="1846" y="1174"/>
                  <a:pt x="1821" y="1168"/>
                  <a:pt x="1794" y="1162"/>
                </a:cubicBezTo>
                <a:cubicBezTo>
                  <a:pt x="1708" y="1125"/>
                  <a:pt x="1585" y="1137"/>
                  <a:pt x="1497" y="1134"/>
                </a:cubicBezTo>
                <a:cubicBezTo>
                  <a:pt x="1446" y="1123"/>
                  <a:pt x="1412" y="1080"/>
                  <a:pt x="1365" y="1067"/>
                </a:cubicBezTo>
                <a:cubicBezTo>
                  <a:pt x="1336" y="1049"/>
                  <a:pt x="1313" y="1027"/>
                  <a:pt x="1280" y="1020"/>
                </a:cubicBezTo>
                <a:cubicBezTo>
                  <a:pt x="1258" y="1004"/>
                  <a:pt x="1236" y="1000"/>
                  <a:pt x="1213" y="987"/>
                </a:cubicBezTo>
                <a:cubicBezTo>
                  <a:pt x="1150" y="951"/>
                  <a:pt x="1079" y="938"/>
                  <a:pt x="1006" y="931"/>
                </a:cubicBezTo>
                <a:cubicBezTo>
                  <a:pt x="979" y="925"/>
                  <a:pt x="953" y="917"/>
                  <a:pt x="925" y="912"/>
                </a:cubicBezTo>
                <a:cubicBezTo>
                  <a:pt x="816" y="873"/>
                  <a:pt x="709" y="828"/>
                  <a:pt x="600" y="789"/>
                </a:cubicBezTo>
                <a:cubicBezTo>
                  <a:pt x="579" y="768"/>
                  <a:pt x="497" y="750"/>
                  <a:pt x="468" y="746"/>
                </a:cubicBezTo>
                <a:cubicBezTo>
                  <a:pt x="446" y="736"/>
                  <a:pt x="423" y="733"/>
                  <a:pt x="401" y="723"/>
                </a:cubicBezTo>
                <a:cubicBezTo>
                  <a:pt x="379" y="713"/>
                  <a:pt x="368" y="705"/>
                  <a:pt x="345" y="699"/>
                </a:cubicBezTo>
                <a:cubicBezTo>
                  <a:pt x="328" y="688"/>
                  <a:pt x="307" y="680"/>
                  <a:pt x="288" y="671"/>
                </a:cubicBezTo>
                <a:cubicBezTo>
                  <a:pt x="279" y="667"/>
                  <a:pt x="260" y="661"/>
                  <a:pt x="260" y="661"/>
                </a:cubicBezTo>
                <a:cubicBezTo>
                  <a:pt x="236" y="640"/>
                  <a:pt x="200" y="639"/>
                  <a:pt x="170" y="633"/>
                </a:cubicBezTo>
                <a:cubicBezTo>
                  <a:pt x="114" y="621"/>
                  <a:pt x="56" y="619"/>
                  <a:pt x="0" y="609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471760" y="2971800"/>
            <a:ext cx="386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ver cholesterol po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1592280" y="228600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886200" y="2209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6095520" y="2362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030560" y="4495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149640" y="5638680"/>
            <a:ext cx="231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e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095880" y="4952880"/>
            <a:ext cx="3812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910120" y="5486400"/>
            <a:ext cx="32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sion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le salts/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1795320" y="4114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57200" y="533412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retion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DL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28600" y="2590920"/>
            <a:ext cx="17524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484F-6768-4100-AC97-09B6E3796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5"/>
          <p:cNvGrpSpPr/>
          <p:nvPr/>
        </p:nvGrpSpPr>
        <p:grpSpPr>
          <a:xfrm>
            <a:off x="380880" y="1066680"/>
            <a:ext cx="8763120" cy="5334120"/>
            <a:chOff x="380880" y="1066680"/>
            <a:chExt cx="8763120" cy="5334120"/>
          </a:xfrm>
        </p:grpSpPr>
        <p:pic>
          <p:nvPicPr>
            <p:cNvPr id="176" name="Picture 15" descr="C:\Documents and Settings\DR.OMNIA\My Documents\My Pictures\intestine.jpg"/>
            <p:cNvPicPr/>
            <p:nvPr/>
          </p:nvPicPr>
          <p:blipFill>
            <a:blip r:embed="rId1"/>
            <a:stretch/>
          </p:blipFill>
          <p:spPr>
            <a:xfrm>
              <a:off x="380880" y="1066680"/>
              <a:ext cx="7842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Flowchart: Direct Access Storage 10"/>
            <p:cNvGrpSpPr/>
            <p:nvPr/>
          </p:nvGrpSpPr>
          <p:grpSpPr>
            <a:xfrm>
              <a:off x="4761000" y="5407200"/>
              <a:ext cx="1097280" cy="383760"/>
              <a:chOff x="4761000" y="5407200"/>
              <a:chExt cx="1097280" cy="383760"/>
            </a:xfrm>
          </p:grpSpPr>
          <p:pic>
            <p:nvPicPr>
              <p:cNvPr id="178" name="Flowchart: Direct Access Storag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1000" y="5409000"/>
                <a:ext cx="109728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4944600" y="5407200"/>
                <a:ext cx="54432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23"/>
            <p:cNvGrpSpPr/>
            <p:nvPr/>
          </p:nvGrpSpPr>
          <p:grpSpPr>
            <a:xfrm>
              <a:off x="5265720" y="5024160"/>
              <a:ext cx="837360" cy="380880"/>
              <a:chOff x="5265720" y="5024160"/>
              <a:chExt cx="837360" cy="380880"/>
            </a:xfrm>
          </p:grpSpPr>
          <p:sp>
            <p:nvSpPr>
              <p:cNvPr id="181" name="Rectangle 11"/>
              <p:cNvSpPr/>
              <p:nvPr/>
            </p:nvSpPr>
            <p:spPr>
              <a:xfrm>
                <a:off x="5265720" y="5061960"/>
                <a:ext cx="83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d4"/>
                    </a:solidFill>
                    <a:latin typeface="Arial Narrow"/>
                  </a:rPr>
                  <a:t>NPC1L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Oval 22"/>
              <p:cNvSpPr/>
              <p:nvPr/>
            </p:nvSpPr>
            <p:spPr>
              <a:xfrm>
                <a:off x="5265720" y="5024160"/>
                <a:ext cx="83736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83" name="Picture 4" descr="http://www.caymanchem.com/images/articles/screen/2102-2.jpg"/>
            <p:cNvPicPr/>
            <p:nvPr/>
          </p:nvPicPr>
          <p:blipFill>
            <a:blip r:embed="rId3"/>
            <a:srcRect l="70676" t="3509" r="0" b="38477"/>
            <a:stretch/>
          </p:blipFill>
          <p:spPr>
            <a:xfrm>
              <a:off x="8222760" y="2285640"/>
              <a:ext cx="92124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Box 14"/>
          <p:cNvSpPr/>
          <p:nvPr/>
        </p:nvSpPr>
        <p:spPr>
          <a:xfrm>
            <a:off x="216000" y="239760"/>
            <a:ext cx="8699400" cy="5814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I-Agents Targeting Exogenous Choleste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685520" y="5329080"/>
            <a:ext cx="1597680" cy="459720"/>
          </a:xfrm>
          <a:prstGeom prst="rect">
            <a:avLst/>
          </a:pr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545400" y="4002120"/>
            <a:ext cx="1634760" cy="642600"/>
          </a:xfrm>
          <a:prstGeom prst="rect">
            <a:avLst/>
          </a:pr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Colestipo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Cholestyram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3E24-1B84-4B3D-BAB9-314C26EDA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Exchange resins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Bile acid sequestrants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Cholestyramine &amp; Colestip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Colesevel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ACA9-24CD-4163-81F6-BA0E0AD5B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Resins: Mechanism of 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4503600" y="1523880"/>
            <a:ext cx="433548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379440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4" name="Rectangle 2"/>
          <p:cNvSpPr/>
          <p:nvPr/>
        </p:nvSpPr>
        <p:spPr>
          <a:xfrm>
            <a:off x="380880" y="6103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hey disrupt the 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hlinkClick r:id="rId3"/>
              </a:rPr>
              <a:t>enterohepatic circulation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 of 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hlinkClick r:id="rId4"/>
              </a:rPr>
              <a:t>bile 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A5C-5B39-4B2E-8E47-EB298BF16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8053-43C8-40C7-AFEB-B38D903B9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Bile Acid-Binding Res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derately effective with excellent safety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rge MW polymers which bind to </a:t>
            </a: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bile acids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d the acid-resin complex is excreted so their fecal excretion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10 fol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vents enterohepatic cycling of bile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ligates the liver to synthesize replacement bile acids from choleste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liver increases the number of LDL receptors to obtain more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levels of LDL-C in the serum are reduced as more cholesterol is delivered to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ellent choice for people that cannot tolerate other types of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Resins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2600" y="1599840"/>
            <a:ext cx="82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Resins are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linically safe as they are not systemically absorb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GIT upset: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bdominal discomfort, bloating, const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ecreased absorption of: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fat soluble vitamins (Vitamin A, D,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 concentration of HDL-C is un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29E-61C0-4622-9960-3F458078D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Resins:</a:t>
            </a: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Drugs interactions</a:t>
            </a: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terfere with the absorption o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ins,  Ezetimi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hlothiazides,  Digoxin,  Warf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.B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wait 1 hour before or 4 hrs after administration of re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4222800"/>
            <a:ext cx="8534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Colesevelam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has not been shown to interfere with the absorption of co-administered medications and is a better choice for patients on multiple drug regime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27E-F875-49C3-94B8-6F6F00B86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I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96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520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y the end of those 2 lectures the student will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fine hyperlipidemia vs normal lipid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scuss the non-pharmacological treatment of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ify lipid lowering agents targeting exogenous &amp; endogenous path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pand on the pharmacology of drugs related to each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int on adjuvant drugs that can help in lipid low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437-354C-4C02-8055-98395835E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25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25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25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ontraindications of res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8908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- Complete biliary obstruction ( because bile is not  secreted into the intest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- Chronic const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-Severe hypertriglyceridemia  (TG &gt;400 mg/dL)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bile acid binding resins can raise triglycerides modestly ( about 5%) and cannot be used if the triglycerides are elev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7AA2-F7E3-4920-8DDE-00F9CCD16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holesterol Absorption Inhibito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45B8-BED3-45A4-9726-91C1B2AAA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506520" y="1444680"/>
            <a:ext cx="8101080" cy="4727520"/>
          </a:xfrm>
          <a:prstGeom prst="roundRect">
            <a:avLst>
              <a:gd name="adj" fmla="val 9579"/>
            </a:avLst>
          </a:prstGeom>
          <a:gradFill rotWithShape="0">
            <a:gsLst>
              <a:gs pos="0">
                <a:srgbClr val="000099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3"/>
          <p:cNvSpPr/>
          <p:nvPr/>
        </p:nvSpPr>
        <p:spPr>
          <a:xfrm flipH="1" rot="18628200">
            <a:off x="4700880" y="4091760"/>
            <a:ext cx="2211480" cy="412560"/>
          </a:xfrm>
          <a:prstGeom prst="rightArrow">
            <a:avLst>
              <a:gd name="adj1" fmla="val 39046"/>
              <a:gd name="adj2" fmla="val 90829"/>
            </a:avLst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4"/>
          <p:cNvSpPr/>
          <p:nvPr/>
        </p:nvSpPr>
        <p:spPr>
          <a:xfrm flipH="1" rot="17020800">
            <a:off x="1582200" y="3394080"/>
            <a:ext cx="1635120" cy="1104840"/>
          </a:xfrm>
          <a:custGeom>
            <a:avLst/>
            <a:gdLst>
              <a:gd name="textAreaLeft" fmla="*/ 360 w 1635120"/>
              <a:gd name="textAreaRight" fmla="*/ 1635840 w 16351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4675" h="3640">
                <a:moveTo>
                  <a:pt x="1108" y="612"/>
                </a:moveTo>
                <a:lnTo>
                  <a:pt x="1275" y="623"/>
                </a:lnTo>
                <a:lnTo>
                  <a:pt x="1440" y="641"/>
                </a:lnTo>
                <a:lnTo>
                  <a:pt x="1604" y="667"/>
                </a:lnTo>
                <a:lnTo>
                  <a:pt x="1764" y="698"/>
                </a:lnTo>
                <a:lnTo>
                  <a:pt x="1922" y="736"/>
                </a:lnTo>
                <a:lnTo>
                  <a:pt x="2078" y="780"/>
                </a:lnTo>
                <a:lnTo>
                  <a:pt x="2231" y="831"/>
                </a:lnTo>
                <a:lnTo>
                  <a:pt x="2381" y="887"/>
                </a:lnTo>
                <a:lnTo>
                  <a:pt x="2527" y="949"/>
                </a:lnTo>
                <a:lnTo>
                  <a:pt x="2671" y="1018"/>
                </a:lnTo>
                <a:lnTo>
                  <a:pt x="2811" y="1091"/>
                </a:lnTo>
                <a:lnTo>
                  <a:pt x="2947" y="1169"/>
                </a:lnTo>
                <a:lnTo>
                  <a:pt x="3080" y="1253"/>
                </a:lnTo>
                <a:lnTo>
                  <a:pt x="3209" y="1343"/>
                </a:lnTo>
                <a:lnTo>
                  <a:pt x="3333" y="1436"/>
                </a:lnTo>
                <a:lnTo>
                  <a:pt x="3454" y="1534"/>
                </a:lnTo>
                <a:lnTo>
                  <a:pt x="3569" y="1638"/>
                </a:lnTo>
                <a:lnTo>
                  <a:pt x="3681" y="1746"/>
                </a:lnTo>
                <a:lnTo>
                  <a:pt x="3787" y="1858"/>
                </a:lnTo>
                <a:lnTo>
                  <a:pt x="3890" y="1975"/>
                </a:lnTo>
                <a:lnTo>
                  <a:pt x="3987" y="2095"/>
                </a:lnTo>
                <a:lnTo>
                  <a:pt x="4079" y="2219"/>
                </a:lnTo>
                <a:lnTo>
                  <a:pt x="4165" y="2347"/>
                </a:lnTo>
                <a:lnTo>
                  <a:pt x="4245" y="2479"/>
                </a:lnTo>
                <a:lnTo>
                  <a:pt x="4321" y="2613"/>
                </a:lnTo>
                <a:lnTo>
                  <a:pt x="4390" y="2751"/>
                </a:lnTo>
                <a:lnTo>
                  <a:pt x="4454" y="2892"/>
                </a:lnTo>
                <a:lnTo>
                  <a:pt x="4510" y="3037"/>
                </a:lnTo>
                <a:lnTo>
                  <a:pt x="4561" y="3183"/>
                </a:lnTo>
                <a:lnTo>
                  <a:pt x="4606" y="3334"/>
                </a:lnTo>
                <a:lnTo>
                  <a:pt x="4644" y="3485"/>
                </a:lnTo>
                <a:lnTo>
                  <a:pt x="4675" y="3640"/>
                </a:lnTo>
                <a:lnTo>
                  <a:pt x="3730" y="3606"/>
                </a:lnTo>
                <a:lnTo>
                  <a:pt x="3723" y="3474"/>
                </a:lnTo>
                <a:lnTo>
                  <a:pt x="3710" y="3343"/>
                </a:lnTo>
                <a:lnTo>
                  <a:pt x="3689" y="3216"/>
                </a:lnTo>
                <a:lnTo>
                  <a:pt x="3663" y="3092"/>
                </a:lnTo>
                <a:lnTo>
                  <a:pt x="3632" y="2968"/>
                </a:lnTo>
                <a:lnTo>
                  <a:pt x="3592" y="2849"/>
                </a:lnTo>
                <a:lnTo>
                  <a:pt x="3549" y="2732"/>
                </a:lnTo>
                <a:lnTo>
                  <a:pt x="3499" y="2618"/>
                </a:lnTo>
                <a:lnTo>
                  <a:pt x="3443" y="2507"/>
                </a:lnTo>
                <a:lnTo>
                  <a:pt x="3382" y="2399"/>
                </a:lnTo>
                <a:lnTo>
                  <a:pt x="3317" y="2293"/>
                </a:lnTo>
                <a:lnTo>
                  <a:pt x="3246" y="2192"/>
                </a:lnTo>
                <a:lnTo>
                  <a:pt x="3169" y="2094"/>
                </a:lnTo>
                <a:lnTo>
                  <a:pt x="3089" y="1999"/>
                </a:lnTo>
                <a:lnTo>
                  <a:pt x="3004" y="1906"/>
                </a:lnTo>
                <a:lnTo>
                  <a:pt x="2914" y="1819"/>
                </a:lnTo>
                <a:lnTo>
                  <a:pt x="2822" y="1734"/>
                </a:lnTo>
                <a:lnTo>
                  <a:pt x="2724" y="1653"/>
                </a:lnTo>
                <a:lnTo>
                  <a:pt x="2623" y="1576"/>
                </a:lnTo>
                <a:lnTo>
                  <a:pt x="2519" y="1502"/>
                </a:lnTo>
                <a:lnTo>
                  <a:pt x="2410" y="1432"/>
                </a:lnTo>
                <a:lnTo>
                  <a:pt x="2298" y="1367"/>
                </a:lnTo>
                <a:lnTo>
                  <a:pt x="2184" y="1306"/>
                </a:lnTo>
                <a:lnTo>
                  <a:pt x="2067" y="1248"/>
                </a:lnTo>
                <a:lnTo>
                  <a:pt x="1946" y="1194"/>
                </a:lnTo>
                <a:lnTo>
                  <a:pt x="1824" y="1145"/>
                </a:lnTo>
                <a:lnTo>
                  <a:pt x="1699" y="1101"/>
                </a:lnTo>
                <a:lnTo>
                  <a:pt x="1571" y="1060"/>
                </a:lnTo>
                <a:lnTo>
                  <a:pt x="1443" y="1024"/>
                </a:lnTo>
                <a:lnTo>
                  <a:pt x="1311" y="993"/>
                </a:lnTo>
                <a:lnTo>
                  <a:pt x="1178" y="966"/>
                </a:lnTo>
                <a:lnTo>
                  <a:pt x="1044" y="945"/>
                </a:lnTo>
                <a:lnTo>
                  <a:pt x="1364" y="1692"/>
                </a:lnTo>
                <a:lnTo>
                  <a:pt x="0" y="670"/>
                </a:lnTo>
                <a:lnTo>
                  <a:pt x="1567" y="0"/>
                </a:lnTo>
                <a:lnTo>
                  <a:pt x="1108" y="61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2cb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 flipH="1" rot="5400000">
            <a:off x="3750480" y="4668480"/>
            <a:ext cx="365040" cy="730440"/>
          </a:xfrm>
          <a:prstGeom prst="downArrow">
            <a:avLst>
              <a:gd name="adj1" fmla="val 37639"/>
              <a:gd name="adj2" fmla="val 97103"/>
            </a:avLst>
          </a:prstGeom>
          <a:gradFill rotWithShape="0">
            <a:gsLst>
              <a:gs pos="0">
                <a:srgbClr val="00ffff"/>
              </a:gs>
              <a:gs pos="100000">
                <a:srgbClr val="002ab2"/>
              </a:gs>
            </a:gsLst>
            <a:lin ang="0"/>
          </a:gradFill>
          <a:ln w="0">
            <a:noFill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6"/>
          <p:cNvSpPr/>
          <p:nvPr/>
        </p:nvSpPr>
        <p:spPr>
          <a:xfrm flipH="1" rot="18628200">
            <a:off x="4700880" y="4002840"/>
            <a:ext cx="2211480" cy="412560"/>
          </a:xfrm>
          <a:prstGeom prst="rightArrow">
            <a:avLst>
              <a:gd name="adj1" fmla="val 39046"/>
              <a:gd name="adj2" fmla="val 90829"/>
            </a:avLst>
          </a:prstGeom>
          <a:gradFill rotWithShape="0">
            <a:gsLst>
              <a:gs pos="0">
                <a:srgbClr val="00ffff"/>
              </a:gs>
              <a:gs pos="100000">
                <a:srgbClr val="00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520" y="228600"/>
            <a:ext cx="86025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holesterol Absorption Inhibi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230640" y="1908000"/>
            <a:ext cx="2697120" cy="374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12" h="236">
                <a:moveTo>
                  <a:pt x="1912" y="118"/>
                </a:moveTo>
                <a:lnTo>
                  <a:pt x="1912" y="130"/>
                </a:lnTo>
                <a:lnTo>
                  <a:pt x="1911" y="142"/>
                </a:lnTo>
                <a:lnTo>
                  <a:pt x="1910" y="153"/>
                </a:lnTo>
                <a:lnTo>
                  <a:pt x="1909" y="164"/>
                </a:lnTo>
                <a:lnTo>
                  <a:pt x="1906" y="174"/>
                </a:lnTo>
                <a:lnTo>
                  <a:pt x="1904" y="184"/>
                </a:lnTo>
                <a:lnTo>
                  <a:pt x="1901" y="193"/>
                </a:lnTo>
                <a:lnTo>
                  <a:pt x="1899" y="201"/>
                </a:lnTo>
                <a:lnTo>
                  <a:pt x="1895" y="209"/>
                </a:lnTo>
                <a:lnTo>
                  <a:pt x="1892" y="216"/>
                </a:lnTo>
                <a:lnTo>
                  <a:pt x="1888" y="222"/>
                </a:lnTo>
                <a:lnTo>
                  <a:pt x="1884" y="227"/>
                </a:lnTo>
                <a:lnTo>
                  <a:pt x="1882" y="229"/>
                </a:lnTo>
                <a:lnTo>
                  <a:pt x="1880" y="231"/>
                </a:lnTo>
                <a:lnTo>
                  <a:pt x="1877" y="232"/>
                </a:lnTo>
                <a:lnTo>
                  <a:pt x="1875" y="234"/>
                </a:lnTo>
                <a:lnTo>
                  <a:pt x="1873" y="235"/>
                </a:lnTo>
                <a:lnTo>
                  <a:pt x="1871" y="236"/>
                </a:lnTo>
                <a:lnTo>
                  <a:pt x="1866" y="236"/>
                </a:lnTo>
                <a:lnTo>
                  <a:pt x="1864" y="236"/>
                </a:lnTo>
                <a:lnTo>
                  <a:pt x="1862" y="236"/>
                </a:lnTo>
                <a:lnTo>
                  <a:pt x="1857" y="234"/>
                </a:lnTo>
                <a:lnTo>
                  <a:pt x="1857" y="236"/>
                </a:lnTo>
                <a:lnTo>
                  <a:pt x="0" y="236"/>
                </a:lnTo>
                <a:lnTo>
                  <a:pt x="0" y="0"/>
                </a:lnTo>
                <a:lnTo>
                  <a:pt x="1857" y="0"/>
                </a:lnTo>
                <a:lnTo>
                  <a:pt x="1857" y="2"/>
                </a:lnTo>
                <a:lnTo>
                  <a:pt x="1859" y="1"/>
                </a:lnTo>
                <a:lnTo>
                  <a:pt x="1862" y="0"/>
                </a:lnTo>
                <a:lnTo>
                  <a:pt x="1864" y="0"/>
                </a:lnTo>
                <a:lnTo>
                  <a:pt x="1866" y="0"/>
                </a:lnTo>
                <a:lnTo>
                  <a:pt x="1869" y="0"/>
                </a:lnTo>
                <a:lnTo>
                  <a:pt x="1871" y="0"/>
                </a:lnTo>
                <a:lnTo>
                  <a:pt x="1873" y="1"/>
                </a:lnTo>
                <a:lnTo>
                  <a:pt x="1875" y="2"/>
                </a:lnTo>
                <a:lnTo>
                  <a:pt x="1877" y="4"/>
                </a:lnTo>
                <a:lnTo>
                  <a:pt x="1880" y="5"/>
                </a:lnTo>
                <a:lnTo>
                  <a:pt x="1882" y="7"/>
                </a:lnTo>
                <a:lnTo>
                  <a:pt x="1884" y="9"/>
                </a:lnTo>
                <a:lnTo>
                  <a:pt x="1888" y="14"/>
                </a:lnTo>
                <a:lnTo>
                  <a:pt x="1892" y="20"/>
                </a:lnTo>
                <a:lnTo>
                  <a:pt x="1895" y="27"/>
                </a:lnTo>
                <a:lnTo>
                  <a:pt x="1899" y="35"/>
                </a:lnTo>
                <a:lnTo>
                  <a:pt x="1901" y="43"/>
                </a:lnTo>
                <a:lnTo>
                  <a:pt x="1904" y="52"/>
                </a:lnTo>
                <a:lnTo>
                  <a:pt x="1906" y="62"/>
                </a:lnTo>
                <a:lnTo>
                  <a:pt x="1909" y="72"/>
                </a:lnTo>
                <a:lnTo>
                  <a:pt x="1910" y="83"/>
                </a:lnTo>
                <a:lnTo>
                  <a:pt x="1911" y="94"/>
                </a:lnTo>
                <a:lnTo>
                  <a:pt x="1912" y="106"/>
                </a:lnTo>
                <a:lnTo>
                  <a:pt x="1912" y="118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9"/>
          <p:cNvSpPr/>
          <p:nvPr/>
        </p:nvSpPr>
        <p:spPr>
          <a:xfrm>
            <a:off x="2928960" y="1959120"/>
            <a:ext cx="1436760" cy="1604880"/>
          </a:xfrm>
          <a:custGeom>
            <a:avLst/>
            <a:gdLst/>
            <a:ahLst/>
            <a:rect l="l" t="t" r="r" b="b"/>
            <a:pathLst>
              <a:path w="845" h="794">
                <a:moveTo>
                  <a:pt x="429" y="274"/>
                </a:moveTo>
                <a:lnTo>
                  <a:pt x="379" y="284"/>
                </a:lnTo>
                <a:lnTo>
                  <a:pt x="331" y="295"/>
                </a:lnTo>
                <a:lnTo>
                  <a:pt x="287" y="309"/>
                </a:lnTo>
                <a:lnTo>
                  <a:pt x="247" y="326"/>
                </a:lnTo>
                <a:lnTo>
                  <a:pt x="209" y="343"/>
                </a:lnTo>
                <a:lnTo>
                  <a:pt x="174" y="362"/>
                </a:lnTo>
                <a:lnTo>
                  <a:pt x="143" y="384"/>
                </a:lnTo>
                <a:lnTo>
                  <a:pt x="115" y="407"/>
                </a:lnTo>
                <a:lnTo>
                  <a:pt x="90" y="430"/>
                </a:lnTo>
                <a:lnTo>
                  <a:pt x="69" y="453"/>
                </a:lnTo>
                <a:lnTo>
                  <a:pt x="49" y="478"/>
                </a:lnTo>
                <a:lnTo>
                  <a:pt x="34" y="503"/>
                </a:lnTo>
                <a:lnTo>
                  <a:pt x="21" y="528"/>
                </a:lnTo>
                <a:lnTo>
                  <a:pt x="11" y="552"/>
                </a:lnTo>
                <a:lnTo>
                  <a:pt x="3" y="577"/>
                </a:lnTo>
                <a:lnTo>
                  <a:pt x="0" y="602"/>
                </a:lnTo>
                <a:lnTo>
                  <a:pt x="0" y="625"/>
                </a:lnTo>
                <a:lnTo>
                  <a:pt x="0" y="648"/>
                </a:lnTo>
                <a:lnTo>
                  <a:pt x="5" y="671"/>
                </a:lnTo>
                <a:lnTo>
                  <a:pt x="11" y="693"/>
                </a:lnTo>
                <a:lnTo>
                  <a:pt x="21" y="712"/>
                </a:lnTo>
                <a:lnTo>
                  <a:pt x="34" y="729"/>
                </a:lnTo>
                <a:lnTo>
                  <a:pt x="49" y="746"/>
                </a:lnTo>
                <a:lnTo>
                  <a:pt x="67" y="760"/>
                </a:lnTo>
                <a:lnTo>
                  <a:pt x="88" y="771"/>
                </a:lnTo>
                <a:lnTo>
                  <a:pt x="111" y="781"/>
                </a:lnTo>
                <a:lnTo>
                  <a:pt x="136" y="789"/>
                </a:lnTo>
                <a:lnTo>
                  <a:pt x="165" y="792"/>
                </a:lnTo>
                <a:lnTo>
                  <a:pt x="195" y="794"/>
                </a:lnTo>
                <a:lnTo>
                  <a:pt x="228" y="790"/>
                </a:lnTo>
                <a:lnTo>
                  <a:pt x="264" y="785"/>
                </a:lnTo>
                <a:lnTo>
                  <a:pt x="301" y="777"/>
                </a:lnTo>
                <a:lnTo>
                  <a:pt x="318" y="771"/>
                </a:lnTo>
                <a:lnTo>
                  <a:pt x="333" y="764"/>
                </a:lnTo>
                <a:lnTo>
                  <a:pt x="349" y="758"/>
                </a:lnTo>
                <a:lnTo>
                  <a:pt x="360" y="748"/>
                </a:lnTo>
                <a:lnTo>
                  <a:pt x="372" y="741"/>
                </a:lnTo>
                <a:lnTo>
                  <a:pt x="381" y="731"/>
                </a:lnTo>
                <a:lnTo>
                  <a:pt x="391" y="719"/>
                </a:lnTo>
                <a:lnTo>
                  <a:pt x="400" y="708"/>
                </a:lnTo>
                <a:lnTo>
                  <a:pt x="414" y="685"/>
                </a:lnTo>
                <a:lnTo>
                  <a:pt x="425" y="660"/>
                </a:lnTo>
                <a:lnTo>
                  <a:pt x="435" y="633"/>
                </a:lnTo>
                <a:lnTo>
                  <a:pt x="443" y="606"/>
                </a:lnTo>
                <a:lnTo>
                  <a:pt x="456" y="551"/>
                </a:lnTo>
                <a:lnTo>
                  <a:pt x="473" y="499"/>
                </a:lnTo>
                <a:lnTo>
                  <a:pt x="487" y="474"/>
                </a:lnTo>
                <a:lnTo>
                  <a:pt x="500" y="453"/>
                </a:lnTo>
                <a:lnTo>
                  <a:pt x="510" y="441"/>
                </a:lnTo>
                <a:lnTo>
                  <a:pt x="519" y="432"/>
                </a:lnTo>
                <a:lnTo>
                  <a:pt x="529" y="424"/>
                </a:lnTo>
                <a:lnTo>
                  <a:pt x="542" y="416"/>
                </a:lnTo>
                <a:lnTo>
                  <a:pt x="594" y="382"/>
                </a:lnTo>
                <a:lnTo>
                  <a:pt x="646" y="343"/>
                </a:lnTo>
                <a:lnTo>
                  <a:pt x="669" y="324"/>
                </a:lnTo>
                <a:lnTo>
                  <a:pt x="694" y="303"/>
                </a:lnTo>
                <a:lnTo>
                  <a:pt x="717" y="284"/>
                </a:lnTo>
                <a:lnTo>
                  <a:pt x="738" y="263"/>
                </a:lnTo>
                <a:lnTo>
                  <a:pt x="759" y="242"/>
                </a:lnTo>
                <a:lnTo>
                  <a:pt x="776" y="220"/>
                </a:lnTo>
                <a:lnTo>
                  <a:pt x="794" y="199"/>
                </a:lnTo>
                <a:lnTo>
                  <a:pt x="809" y="178"/>
                </a:lnTo>
                <a:lnTo>
                  <a:pt x="822" y="157"/>
                </a:lnTo>
                <a:lnTo>
                  <a:pt x="832" y="136"/>
                </a:lnTo>
                <a:lnTo>
                  <a:pt x="842" y="117"/>
                </a:lnTo>
                <a:lnTo>
                  <a:pt x="845" y="96"/>
                </a:lnTo>
                <a:lnTo>
                  <a:pt x="717" y="0"/>
                </a:lnTo>
                <a:lnTo>
                  <a:pt x="657" y="73"/>
                </a:lnTo>
                <a:lnTo>
                  <a:pt x="583" y="161"/>
                </a:lnTo>
                <a:lnTo>
                  <a:pt x="563" y="180"/>
                </a:lnTo>
                <a:lnTo>
                  <a:pt x="544" y="201"/>
                </a:lnTo>
                <a:lnTo>
                  <a:pt x="523" y="218"/>
                </a:lnTo>
                <a:lnTo>
                  <a:pt x="504" y="236"/>
                </a:lnTo>
                <a:lnTo>
                  <a:pt x="485" y="249"/>
                </a:lnTo>
                <a:lnTo>
                  <a:pt x="466" y="261"/>
                </a:lnTo>
                <a:lnTo>
                  <a:pt x="446" y="268"/>
                </a:lnTo>
                <a:lnTo>
                  <a:pt x="429" y="27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round/>
          </a:ln>
          <a:effectLst>
            <a:outerShdw dist="99192" dir="3018055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10"/>
          <p:cNvSpPr/>
          <p:nvPr/>
        </p:nvSpPr>
        <p:spPr>
          <a:xfrm>
            <a:off x="5830920" y="1427040"/>
            <a:ext cx="1116000" cy="1363680"/>
          </a:xfrm>
          <a:custGeom>
            <a:avLst/>
            <a:gdLst/>
            <a:ahLst/>
            <a:rect l="l" t="t" r="r" b="b"/>
            <a:pathLst>
              <a:path w="791" h="859">
                <a:moveTo>
                  <a:pt x="550" y="15"/>
                </a:moveTo>
                <a:lnTo>
                  <a:pt x="508" y="6"/>
                </a:lnTo>
                <a:lnTo>
                  <a:pt x="466" y="1"/>
                </a:lnTo>
                <a:lnTo>
                  <a:pt x="426" y="0"/>
                </a:lnTo>
                <a:lnTo>
                  <a:pt x="387" y="2"/>
                </a:lnTo>
                <a:lnTo>
                  <a:pt x="348" y="7"/>
                </a:lnTo>
                <a:lnTo>
                  <a:pt x="312" y="15"/>
                </a:lnTo>
                <a:lnTo>
                  <a:pt x="276" y="26"/>
                </a:lnTo>
                <a:lnTo>
                  <a:pt x="243" y="39"/>
                </a:lnTo>
                <a:lnTo>
                  <a:pt x="211" y="55"/>
                </a:lnTo>
                <a:lnTo>
                  <a:pt x="180" y="73"/>
                </a:lnTo>
                <a:lnTo>
                  <a:pt x="152" y="94"/>
                </a:lnTo>
                <a:lnTo>
                  <a:pt x="126" y="116"/>
                </a:lnTo>
                <a:lnTo>
                  <a:pt x="102" y="140"/>
                </a:lnTo>
                <a:lnTo>
                  <a:pt x="80" y="165"/>
                </a:lnTo>
                <a:lnTo>
                  <a:pt x="61" y="192"/>
                </a:lnTo>
                <a:lnTo>
                  <a:pt x="44" y="220"/>
                </a:lnTo>
                <a:lnTo>
                  <a:pt x="29" y="249"/>
                </a:lnTo>
                <a:lnTo>
                  <a:pt x="18" y="279"/>
                </a:lnTo>
                <a:lnTo>
                  <a:pt x="9" y="310"/>
                </a:lnTo>
                <a:lnTo>
                  <a:pt x="3" y="341"/>
                </a:lnTo>
                <a:lnTo>
                  <a:pt x="0" y="373"/>
                </a:lnTo>
                <a:lnTo>
                  <a:pt x="0" y="404"/>
                </a:lnTo>
                <a:lnTo>
                  <a:pt x="4" y="436"/>
                </a:lnTo>
                <a:lnTo>
                  <a:pt x="36" y="529"/>
                </a:lnTo>
                <a:lnTo>
                  <a:pt x="53" y="559"/>
                </a:lnTo>
                <a:lnTo>
                  <a:pt x="75" y="588"/>
                </a:lnTo>
                <a:lnTo>
                  <a:pt x="101" y="616"/>
                </a:lnTo>
                <a:lnTo>
                  <a:pt x="131" y="643"/>
                </a:lnTo>
                <a:lnTo>
                  <a:pt x="164" y="668"/>
                </a:lnTo>
                <a:lnTo>
                  <a:pt x="203" y="691"/>
                </a:lnTo>
                <a:lnTo>
                  <a:pt x="216" y="698"/>
                </a:lnTo>
                <a:lnTo>
                  <a:pt x="228" y="704"/>
                </a:lnTo>
                <a:lnTo>
                  <a:pt x="241" y="711"/>
                </a:lnTo>
                <a:lnTo>
                  <a:pt x="253" y="716"/>
                </a:lnTo>
                <a:lnTo>
                  <a:pt x="265" y="721"/>
                </a:lnTo>
                <a:lnTo>
                  <a:pt x="277" y="726"/>
                </a:lnTo>
                <a:lnTo>
                  <a:pt x="289" y="730"/>
                </a:lnTo>
                <a:lnTo>
                  <a:pt x="300" y="734"/>
                </a:lnTo>
                <a:lnTo>
                  <a:pt x="322" y="741"/>
                </a:lnTo>
                <a:lnTo>
                  <a:pt x="343" y="748"/>
                </a:lnTo>
                <a:lnTo>
                  <a:pt x="362" y="754"/>
                </a:lnTo>
                <a:lnTo>
                  <a:pt x="381" y="760"/>
                </a:lnTo>
                <a:lnTo>
                  <a:pt x="389" y="763"/>
                </a:lnTo>
                <a:lnTo>
                  <a:pt x="397" y="767"/>
                </a:lnTo>
                <a:lnTo>
                  <a:pt x="404" y="770"/>
                </a:lnTo>
                <a:lnTo>
                  <a:pt x="411" y="774"/>
                </a:lnTo>
                <a:lnTo>
                  <a:pt x="418" y="778"/>
                </a:lnTo>
                <a:lnTo>
                  <a:pt x="424" y="782"/>
                </a:lnTo>
                <a:lnTo>
                  <a:pt x="430" y="787"/>
                </a:lnTo>
                <a:lnTo>
                  <a:pt x="435" y="792"/>
                </a:lnTo>
                <a:lnTo>
                  <a:pt x="440" y="797"/>
                </a:lnTo>
                <a:lnTo>
                  <a:pt x="443" y="804"/>
                </a:lnTo>
                <a:lnTo>
                  <a:pt x="447" y="810"/>
                </a:lnTo>
                <a:lnTo>
                  <a:pt x="450" y="817"/>
                </a:lnTo>
                <a:lnTo>
                  <a:pt x="452" y="825"/>
                </a:lnTo>
                <a:lnTo>
                  <a:pt x="453" y="833"/>
                </a:lnTo>
                <a:lnTo>
                  <a:pt x="455" y="843"/>
                </a:lnTo>
                <a:lnTo>
                  <a:pt x="455" y="852"/>
                </a:lnTo>
                <a:lnTo>
                  <a:pt x="455" y="853"/>
                </a:lnTo>
                <a:lnTo>
                  <a:pt x="456" y="853"/>
                </a:lnTo>
                <a:lnTo>
                  <a:pt x="458" y="853"/>
                </a:lnTo>
                <a:lnTo>
                  <a:pt x="461" y="853"/>
                </a:lnTo>
                <a:lnTo>
                  <a:pt x="468" y="852"/>
                </a:lnTo>
                <a:lnTo>
                  <a:pt x="477" y="851"/>
                </a:lnTo>
                <a:lnTo>
                  <a:pt x="500" y="847"/>
                </a:lnTo>
                <a:lnTo>
                  <a:pt x="527" y="842"/>
                </a:lnTo>
                <a:lnTo>
                  <a:pt x="556" y="837"/>
                </a:lnTo>
                <a:lnTo>
                  <a:pt x="584" y="831"/>
                </a:lnTo>
                <a:lnTo>
                  <a:pt x="596" y="829"/>
                </a:lnTo>
                <a:lnTo>
                  <a:pt x="607" y="828"/>
                </a:lnTo>
                <a:lnTo>
                  <a:pt x="616" y="827"/>
                </a:lnTo>
                <a:lnTo>
                  <a:pt x="623" y="826"/>
                </a:lnTo>
                <a:lnTo>
                  <a:pt x="628" y="827"/>
                </a:lnTo>
                <a:lnTo>
                  <a:pt x="634" y="827"/>
                </a:lnTo>
                <a:lnTo>
                  <a:pt x="639" y="827"/>
                </a:lnTo>
                <a:lnTo>
                  <a:pt x="645" y="828"/>
                </a:lnTo>
                <a:lnTo>
                  <a:pt x="656" y="830"/>
                </a:lnTo>
                <a:lnTo>
                  <a:pt x="667" y="831"/>
                </a:lnTo>
                <a:lnTo>
                  <a:pt x="678" y="834"/>
                </a:lnTo>
                <a:lnTo>
                  <a:pt x="689" y="837"/>
                </a:lnTo>
                <a:lnTo>
                  <a:pt x="700" y="840"/>
                </a:lnTo>
                <a:lnTo>
                  <a:pt x="711" y="843"/>
                </a:lnTo>
                <a:lnTo>
                  <a:pt x="733" y="848"/>
                </a:lnTo>
                <a:lnTo>
                  <a:pt x="753" y="854"/>
                </a:lnTo>
                <a:lnTo>
                  <a:pt x="763" y="856"/>
                </a:lnTo>
                <a:lnTo>
                  <a:pt x="773" y="858"/>
                </a:lnTo>
                <a:lnTo>
                  <a:pt x="778" y="858"/>
                </a:lnTo>
                <a:lnTo>
                  <a:pt x="782" y="859"/>
                </a:lnTo>
                <a:lnTo>
                  <a:pt x="787" y="859"/>
                </a:lnTo>
                <a:lnTo>
                  <a:pt x="791" y="859"/>
                </a:lnTo>
                <a:lnTo>
                  <a:pt x="791" y="858"/>
                </a:lnTo>
                <a:lnTo>
                  <a:pt x="791" y="852"/>
                </a:lnTo>
                <a:lnTo>
                  <a:pt x="790" y="842"/>
                </a:lnTo>
                <a:lnTo>
                  <a:pt x="789" y="828"/>
                </a:lnTo>
                <a:lnTo>
                  <a:pt x="788" y="820"/>
                </a:lnTo>
                <a:lnTo>
                  <a:pt x="787" y="812"/>
                </a:lnTo>
                <a:lnTo>
                  <a:pt x="786" y="803"/>
                </a:lnTo>
                <a:lnTo>
                  <a:pt x="784" y="793"/>
                </a:lnTo>
                <a:lnTo>
                  <a:pt x="782" y="783"/>
                </a:lnTo>
                <a:lnTo>
                  <a:pt x="780" y="772"/>
                </a:lnTo>
                <a:lnTo>
                  <a:pt x="777" y="762"/>
                </a:lnTo>
                <a:lnTo>
                  <a:pt x="774" y="750"/>
                </a:lnTo>
                <a:lnTo>
                  <a:pt x="771" y="739"/>
                </a:lnTo>
                <a:lnTo>
                  <a:pt x="767" y="728"/>
                </a:lnTo>
                <a:lnTo>
                  <a:pt x="762" y="716"/>
                </a:lnTo>
                <a:lnTo>
                  <a:pt x="757" y="705"/>
                </a:lnTo>
                <a:lnTo>
                  <a:pt x="752" y="694"/>
                </a:lnTo>
                <a:lnTo>
                  <a:pt x="746" y="683"/>
                </a:lnTo>
                <a:lnTo>
                  <a:pt x="739" y="672"/>
                </a:lnTo>
                <a:lnTo>
                  <a:pt x="731" y="661"/>
                </a:lnTo>
                <a:lnTo>
                  <a:pt x="723" y="651"/>
                </a:lnTo>
                <a:lnTo>
                  <a:pt x="715" y="641"/>
                </a:lnTo>
                <a:lnTo>
                  <a:pt x="705" y="633"/>
                </a:lnTo>
                <a:lnTo>
                  <a:pt x="695" y="624"/>
                </a:lnTo>
                <a:lnTo>
                  <a:pt x="684" y="616"/>
                </a:lnTo>
                <a:lnTo>
                  <a:pt x="672" y="609"/>
                </a:lnTo>
                <a:lnTo>
                  <a:pt x="660" y="602"/>
                </a:lnTo>
                <a:lnTo>
                  <a:pt x="646" y="597"/>
                </a:lnTo>
                <a:lnTo>
                  <a:pt x="592" y="594"/>
                </a:lnTo>
                <a:lnTo>
                  <a:pt x="542" y="590"/>
                </a:lnTo>
                <a:lnTo>
                  <a:pt x="498" y="582"/>
                </a:lnTo>
                <a:lnTo>
                  <a:pt x="459" y="572"/>
                </a:lnTo>
                <a:lnTo>
                  <a:pt x="423" y="560"/>
                </a:lnTo>
                <a:lnTo>
                  <a:pt x="392" y="546"/>
                </a:lnTo>
                <a:lnTo>
                  <a:pt x="366" y="531"/>
                </a:lnTo>
                <a:lnTo>
                  <a:pt x="343" y="514"/>
                </a:lnTo>
                <a:lnTo>
                  <a:pt x="325" y="496"/>
                </a:lnTo>
                <a:lnTo>
                  <a:pt x="310" y="477"/>
                </a:lnTo>
                <a:lnTo>
                  <a:pt x="298" y="457"/>
                </a:lnTo>
                <a:lnTo>
                  <a:pt x="290" y="437"/>
                </a:lnTo>
                <a:lnTo>
                  <a:pt x="285" y="416"/>
                </a:lnTo>
                <a:lnTo>
                  <a:pt x="283" y="395"/>
                </a:lnTo>
                <a:lnTo>
                  <a:pt x="284" y="374"/>
                </a:lnTo>
                <a:lnTo>
                  <a:pt x="287" y="353"/>
                </a:lnTo>
                <a:lnTo>
                  <a:pt x="293" y="332"/>
                </a:lnTo>
                <a:lnTo>
                  <a:pt x="301" y="313"/>
                </a:lnTo>
                <a:lnTo>
                  <a:pt x="312" y="294"/>
                </a:lnTo>
                <a:lnTo>
                  <a:pt x="324" y="276"/>
                </a:lnTo>
                <a:lnTo>
                  <a:pt x="338" y="259"/>
                </a:lnTo>
                <a:lnTo>
                  <a:pt x="354" y="243"/>
                </a:lnTo>
                <a:lnTo>
                  <a:pt x="371" y="230"/>
                </a:lnTo>
                <a:lnTo>
                  <a:pt x="390" y="218"/>
                </a:lnTo>
                <a:lnTo>
                  <a:pt x="409" y="208"/>
                </a:lnTo>
                <a:lnTo>
                  <a:pt x="430" y="201"/>
                </a:lnTo>
                <a:lnTo>
                  <a:pt x="451" y="196"/>
                </a:lnTo>
                <a:lnTo>
                  <a:pt x="473" y="193"/>
                </a:lnTo>
                <a:lnTo>
                  <a:pt x="495" y="194"/>
                </a:lnTo>
                <a:lnTo>
                  <a:pt x="517" y="197"/>
                </a:lnTo>
                <a:lnTo>
                  <a:pt x="539" y="204"/>
                </a:lnTo>
                <a:lnTo>
                  <a:pt x="562" y="214"/>
                </a:lnTo>
                <a:lnTo>
                  <a:pt x="563" y="214"/>
                </a:lnTo>
                <a:lnTo>
                  <a:pt x="561" y="212"/>
                </a:lnTo>
                <a:lnTo>
                  <a:pt x="560" y="210"/>
                </a:lnTo>
                <a:lnTo>
                  <a:pt x="558" y="207"/>
                </a:lnTo>
                <a:lnTo>
                  <a:pt x="557" y="205"/>
                </a:lnTo>
                <a:lnTo>
                  <a:pt x="553" y="199"/>
                </a:lnTo>
                <a:lnTo>
                  <a:pt x="550" y="192"/>
                </a:lnTo>
                <a:lnTo>
                  <a:pt x="548" y="186"/>
                </a:lnTo>
                <a:lnTo>
                  <a:pt x="545" y="179"/>
                </a:lnTo>
                <a:lnTo>
                  <a:pt x="543" y="171"/>
                </a:lnTo>
                <a:lnTo>
                  <a:pt x="541" y="164"/>
                </a:lnTo>
                <a:lnTo>
                  <a:pt x="540" y="156"/>
                </a:lnTo>
                <a:lnTo>
                  <a:pt x="539" y="149"/>
                </a:lnTo>
                <a:lnTo>
                  <a:pt x="538" y="141"/>
                </a:lnTo>
                <a:lnTo>
                  <a:pt x="537" y="133"/>
                </a:lnTo>
                <a:lnTo>
                  <a:pt x="537" y="125"/>
                </a:lnTo>
                <a:lnTo>
                  <a:pt x="537" y="118"/>
                </a:lnTo>
                <a:lnTo>
                  <a:pt x="537" y="110"/>
                </a:lnTo>
                <a:lnTo>
                  <a:pt x="537" y="102"/>
                </a:lnTo>
                <a:lnTo>
                  <a:pt x="537" y="95"/>
                </a:lnTo>
                <a:lnTo>
                  <a:pt x="538" y="87"/>
                </a:lnTo>
                <a:lnTo>
                  <a:pt x="540" y="73"/>
                </a:lnTo>
                <a:lnTo>
                  <a:pt x="541" y="60"/>
                </a:lnTo>
                <a:lnTo>
                  <a:pt x="543" y="48"/>
                </a:lnTo>
                <a:lnTo>
                  <a:pt x="545" y="37"/>
                </a:lnTo>
                <a:lnTo>
                  <a:pt x="547" y="29"/>
                </a:lnTo>
                <a:lnTo>
                  <a:pt x="549" y="22"/>
                </a:lnTo>
                <a:lnTo>
                  <a:pt x="550" y="17"/>
                </a:lnTo>
                <a:lnTo>
                  <a:pt x="550" y="15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4600" dir="67483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6472080" y="2738520"/>
            <a:ext cx="474840" cy="1508040"/>
          </a:xfrm>
          <a:custGeom>
            <a:avLst/>
            <a:gdLst/>
            <a:ahLst/>
            <a:rect l="l" t="t" r="r" b="b"/>
            <a:pathLst>
              <a:path w="1435" h="4052">
                <a:moveTo>
                  <a:pt x="0" y="117"/>
                </a:moveTo>
                <a:lnTo>
                  <a:pt x="0" y="110"/>
                </a:lnTo>
                <a:lnTo>
                  <a:pt x="3" y="105"/>
                </a:lnTo>
                <a:lnTo>
                  <a:pt x="8" y="99"/>
                </a:lnTo>
                <a:lnTo>
                  <a:pt x="15" y="93"/>
                </a:lnTo>
                <a:lnTo>
                  <a:pt x="23" y="88"/>
                </a:lnTo>
                <a:lnTo>
                  <a:pt x="32" y="82"/>
                </a:lnTo>
                <a:lnTo>
                  <a:pt x="43" y="76"/>
                </a:lnTo>
                <a:lnTo>
                  <a:pt x="56" y="71"/>
                </a:lnTo>
                <a:lnTo>
                  <a:pt x="87" y="61"/>
                </a:lnTo>
                <a:lnTo>
                  <a:pt x="122" y="52"/>
                </a:lnTo>
                <a:lnTo>
                  <a:pt x="164" y="43"/>
                </a:lnTo>
                <a:lnTo>
                  <a:pt x="210" y="35"/>
                </a:lnTo>
                <a:lnTo>
                  <a:pt x="261" y="27"/>
                </a:lnTo>
                <a:lnTo>
                  <a:pt x="316" y="20"/>
                </a:lnTo>
                <a:lnTo>
                  <a:pt x="376" y="14"/>
                </a:lnTo>
                <a:lnTo>
                  <a:pt x="438" y="9"/>
                </a:lnTo>
                <a:lnTo>
                  <a:pt x="505" y="5"/>
                </a:lnTo>
                <a:lnTo>
                  <a:pt x="573" y="2"/>
                </a:lnTo>
                <a:lnTo>
                  <a:pt x="644" y="1"/>
                </a:lnTo>
                <a:lnTo>
                  <a:pt x="717" y="0"/>
                </a:lnTo>
                <a:lnTo>
                  <a:pt x="790" y="1"/>
                </a:lnTo>
                <a:lnTo>
                  <a:pt x="862" y="2"/>
                </a:lnTo>
                <a:lnTo>
                  <a:pt x="930" y="5"/>
                </a:lnTo>
                <a:lnTo>
                  <a:pt x="996" y="9"/>
                </a:lnTo>
                <a:lnTo>
                  <a:pt x="1059" y="14"/>
                </a:lnTo>
                <a:lnTo>
                  <a:pt x="1118" y="20"/>
                </a:lnTo>
                <a:lnTo>
                  <a:pt x="1173" y="27"/>
                </a:lnTo>
                <a:lnTo>
                  <a:pt x="1224" y="35"/>
                </a:lnTo>
                <a:lnTo>
                  <a:pt x="1270" y="43"/>
                </a:lnTo>
                <a:lnTo>
                  <a:pt x="1312" y="52"/>
                </a:lnTo>
                <a:lnTo>
                  <a:pt x="1348" y="61"/>
                </a:lnTo>
                <a:lnTo>
                  <a:pt x="1379" y="71"/>
                </a:lnTo>
                <a:lnTo>
                  <a:pt x="1391" y="76"/>
                </a:lnTo>
                <a:lnTo>
                  <a:pt x="1402" y="82"/>
                </a:lnTo>
                <a:lnTo>
                  <a:pt x="1413" y="88"/>
                </a:lnTo>
                <a:lnTo>
                  <a:pt x="1421" y="93"/>
                </a:lnTo>
                <a:lnTo>
                  <a:pt x="1426" y="99"/>
                </a:lnTo>
                <a:lnTo>
                  <a:pt x="1432" y="105"/>
                </a:lnTo>
                <a:lnTo>
                  <a:pt x="1434" y="110"/>
                </a:lnTo>
                <a:lnTo>
                  <a:pt x="1435" y="117"/>
                </a:lnTo>
                <a:lnTo>
                  <a:pt x="1434" y="123"/>
                </a:lnTo>
                <a:lnTo>
                  <a:pt x="1432" y="128"/>
                </a:lnTo>
                <a:lnTo>
                  <a:pt x="1427" y="133"/>
                </a:lnTo>
                <a:lnTo>
                  <a:pt x="1422" y="139"/>
                </a:lnTo>
                <a:lnTo>
                  <a:pt x="1435" y="139"/>
                </a:lnTo>
                <a:lnTo>
                  <a:pt x="1435" y="3926"/>
                </a:lnTo>
                <a:lnTo>
                  <a:pt x="1433" y="3926"/>
                </a:lnTo>
                <a:lnTo>
                  <a:pt x="1434" y="3931"/>
                </a:lnTo>
                <a:lnTo>
                  <a:pt x="1435" y="3935"/>
                </a:lnTo>
                <a:lnTo>
                  <a:pt x="1434" y="3941"/>
                </a:lnTo>
                <a:lnTo>
                  <a:pt x="1432" y="3948"/>
                </a:lnTo>
                <a:lnTo>
                  <a:pt x="1426" y="3954"/>
                </a:lnTo>
                <a:lnTo>
                  <a:pt x="1421" y="3959"/>
                </a:lnTo>
                <a:lnTo>
                  <a:pt x="1413" y="3965"/>
                </a:lnTo>
                <a:lnTo>
                  <a:pt x="1402" y="3970"/>
                </a:lnTo>
                <a:lnTo>
                  <a:pt x="1391" y="3976"/>
                </a:lnTo>
                <a:lnTo>
                  <a:pt x="1379" y="3981"/>
                </a:lnTo>
                <a:lnTo>
                  <a:pt x="1348" y="3991"/>
                </a:lnTo>
                <a:lnTo>
                  <a:pt x="1312" y="4001"/>
                </a:lnTo>
                <a:lnTo>
                  <a:pt x="1270" y="4010"/>
                </a:lnTo>
                <a:lnTo>
                  <a:pt x="1224" y="4018"/>
                </a:lnTo>
                <a:lnTo>
                  <a:pt x="1173" y="4026"/>
                </a:lnTo>
                <a:lnTo>
                  <a:pt x="1118" y="4033"/>
                </a:lnTo>
                <a:lnTo>
                  <a:pt x="1059" y="4038"/>
                </a:lnTo>
                <a:lnTo>
                  <a:pt x="996" y="4043"/>
                </a:lnTo>
                <a:lnTo>
                  <a:pt x="930" y="4047"/>
                </a:lnTo>
                <a:lnTo>
                  <a:pt x="862" y="4050"/>
                </a:lnTo>
                <a:lnTo>
                  <a:pt x="790" y="4052"/>
                </a:lnTo>
                <a:lnTo>
                  <a:pt x="717" y="4052"/>
                </a:lnTo>
                <a:lnTo>
                  <a:pt x="644" y="4052"/>
                </a:lnTo>
                <a:lnTo>
                  <a:pt x="573" y="4050"/>
                </a:lnTo>
                <a:lnTo>
                  <a:pt x="505" y="4047"/>
                </a:lnTo>
                <a:lnTo>
                  <a:pt x="438" y="4043"/>
                </a:lnTo>
                <a:lnTo>
                  <a:pt x="376" y="4038"/>
                </a:lnTo>
                <a:lnTo>
                  <a:pt x="316" y="4033"/>
                </a:lnTo>
                <a:lnTo>
                  <a:pt x="261" y="4026"/>
                </a:lnTo>
                <a:lnTo>
                  <a:pt x="210" y="4018"/>
                </a:lnTo>
                <a:lnTo>
                  <a:pt x="164" y="4010"/>
                </a:lnTo>
                <a:lnTo>
                  <a:pt x="122" y="4001"/>
                </a:lnTo>
                <a:lnTo>
                  <a:pt x="87" y="3991"/>
                </a:lnTo>
                <a:lnTo>
                  <a:pt x="56" y="3981"/>
                </a:lnTo>
                <a:lnTo>
                  <a:pt x="43" y="3976"/>
                </a:lnTo>
                <a:lnTo>
                  <a:pt x="32" y="3970"/>
                </a:lnTo>
                <a:lnTo>
                  <a:pt x="23" y="3965"/>
                </a:lnTo>
                <a:lnTo>
                  <a:pt x="15" y="3959"/>
                </a:lnTo>
                <a:lnTo>
                  <a:pt x="8" y="3954"/>
                </a:lnTo>
                <a:lnTo>
                  <a:pt x="3" y="3948"/>
                </a:lnTo>
                <a:lnTo>
                  <a:pt x="0" y="3941"/>
                </a:lnTo>
                <a:lnTo>
                  <a:pt x="0" y="3935"/>
                </a:lnTo>
                <a:lnTo>
                  <a:pt x="0" y="3931"/>
                </a:lnTo>
                <a:lnTo>
                  <a:pt x="1" y="3926"/>
                </a:lnTo>
                <a:lnTo>
                  <a:pt x="0" y="3926"/>
                </a:lnTo>
                <a:lnTo>
                  <a:pt x="0" y="3688"/>
                </a:lnTo>
                <a:lnTo>
                  <a:pt x="0" y="3450"/>
                </a:lnTo>
                <a:lnTo>
                  <a:pt x="0" y="3212"/>
                </a:lnTo>
                <a:lnTo>
                  <a:pt x="0" y="2973"/>
                </a:lnTo>
                <a:lnTo>
                  <a:pt x="0" y="2735"/>
                </a:lnTo>
                <a:lnTo>
                  <a:pt x="0" y="2496"/>
                </a:lnTo>
                <a:lnTo>
                  <a:pt x="0" y="2257"/>
                </a:lnTo>
                <a:lnTo>
                  <a:pt x="0" y="2019"/>
                </a:lnTo>
                <a:lnTo>
                  <a:pt x="0" y="1779"/>
                </a:lnTo>
                <a:lnTo>
                  <a:pt x="0" y="1541"/>
                </a:lnTo>
                <a:lnTo>
                  <a:pt x="0" y="1303"/>
                </a:lnTo>
                <a:lnTo>
                  <a:pt x="0" y="1066"/>
                </a:lnTo>
                <a:lnTo>
                  <a:pt x="0" y="827"/>
                </a:lnTo>
                <a:lnTo>
                  <a:pt x="0" y="590"/>
                </a:lnTo>
                <a:lnTo>
                  <a:pt x="0" y="353"/>
                </a:lnTo>
                <a:lnTo>
                  <a:pt x="0" y="117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8321" dir="131817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12"/>
          <p:cNvSpPr/>
          <p:nvPr/>
        </p:nvSpPr>
        <p:spPr>
          <a:xfrm>
            <a:off x="6472080" y="4156200"/>
            <a:ext cx="474840" cy="1666800"/>
          </a:xfrm>
          <a:custGeom>
            <a:avLst/>
            <a:gdLst/>
            <a:ahLst/>
            <a:rect l="l" t="t" r="r" b="b"/>
            <a:pathLst>
              <a:path w="1435" h="4488">
                <a:moveTo>
                  <a:pt x="717" y="0"/>
                </a:moveTo>
                <a:lnTo>
                  <a:pt x="790" y="0"/>
                </a:lnTo>
                <a:lnTo>
                  <a:pt x="862" y="2"/>
                </a:lnTo>
                <a:lnTo>
                  <a:pt x="930" y="4"/>
                </a:lnTo>
                <a:lnTo>
                  <a:pt x="996" y="8"/>
                </a:lnTo>
                <a:lnTo>
                  <a:pt x="1059" y="13"/>
                </a:lnTo>
                <a:lnTo>
                  <a:pt x="1118" y="18"/>
                </a:lnTo>
                <a:lnTo>
                  <a:pt x="1173" y="25"/>
                </a:lnTo>
                <a:lnTo>
                  <a:pt x="1224" y="31"/>
                </a:lnTo>
                <a:lnTo>
                  <a:pt x="1270" y="39"/>
                </a:lnTo>
                <a:lnTo>
                  <a:pt x="1312" y="47"/>
                </a:lnTo>
                <a:lnTo>
                  <a:pt x="1348" y="56"/>
                </a:lnTo>
                <a:lnTo>
                  <a:pt x="1379" y="66"/>
                </a:lnTo>
                <a:lnTo>
                  <a:pt x="1391" y="71"/>
                </a:lnTo>
                <a:lnTo>
                  <a:pt x="1402" y="75"/>
                </a:lnTo>
                <a:lnTo>
                  <a:pt x="1413" y="81"/>
                </a:lnTo>
                <a:lnTo>
                  <a:pt x="1421" y="87"/>
                </a:lnTo>
                <a:lnTo>
                  <a:pt x="1426" y="91"/>
                </a:lnTo>
                <a:lnTo>
                  <a:pt x="1432" y="97"/>
                </a:lnTo>
                <a:lnTo>
                  <a:pt x="1434" y="102"/>
                </a:lnTo>
                <a:lnTo>
                  <a:pt x="1435" y="108"/>
                </a:lnTo>
                <a:lnTo>
                  <a:pt x="1434" y="113"/>
                </a:lnTo>
                <a:lnTo>
                  <a:pt x="1432" y="118"/>
                </a:lnTo>
                <a:lnTo>
                  <a:pt x="1427" y="124"/>
                </a:lnTo>
                <a:lnTo>
                  <a:pt x="1422" y="128"/>
                </a:lnTo>
                <a:lnTo>
                  <a:pt x="1435" y="128"/>
                </a:lnTo>
                <a:lnTo>
                  <a:pt x="1435" y="4488"/>
                </a:lnTo>
                <a:lnTo>
                  <a:pt x="0" y="4488"/>
                </a:lnTo>
                <a:lnTo>
                  <a:pt x="0" y="128"/>
                </a:lnTo>
                <a:lnTo>
                  <a:pt x="12" y="128"/>
                </a:lnTo>
                <a:lnTo>
                  <a:pt x="7" y="124"/>
                </a:lnTo>
                <a:lnTo>
                  <a:pt x="3" y="118"/>
                </a:lnTo>
                <a:lnTo>
                  <a:pt x="0" y="113"/>
                </a:lnTo>
                <a:lnTo>
                  <a:pt x="0" y="108"/>
                </a:lnTo>
                <a:lnTo>
                  <a:pt x="0" y="102"/>
                </a:lnTo>
                <a:lnTo>
                  <a:pt x="3" y="97"/>
                </a:lnTo>
                <a:lnTo>
                  <a:pt x="8" y="91"/>
                </a:lnTo>
                <a:lnTo>
                  <a:pt x="15" y="87"/>
                </a:lnTo>
                <a:lnTo>
                  <a:pt x="23" y="81"/>
                </a:lnTo>
                <a:lnTo>
                  <a:pt x="32" y="75"/>
                </a:lnTo>
                <a:lnTo>
                  <a:pt x="43" y="71"/>
                </a:lnTo>
                <a:lnTo>
                  <a:pt x="56" y="66"/>
                </a:lnTo>
                <a:lnTo>
                  <a:pt x="87" y="56"/>
                </a:lnTo>
                <a:lnTo>
                  <a:pt x="122" y="47"/>
                </a:lnTo>
                <a:lnTo>
                  <a:pt x="164" y="39"/>
                </a:lnTo>
                <a:lnTo>
                  <a:pt x="210" y="31"/>
                </a:lnTo>
                <a:lnTo>
                  <a:pt x="261" y="25"/>
                </a:lnTo>
                <a:lnTo>
                  <a:pt x="316" y="18"/>
                </a:lnTo>
                <a:lnTo>
                  <a:pt x="376" y="13"/>
                </a:lnTo>
                <a:lnTo>
                  <a:pt x="438" y="8"/>
                </a:lnTo>
                <a:lnTo>
                  <a:pt x="505" y="4"/>
                </a:lnTo>
                <a:lnTo>
                  <a:pt x="573" y="2"/>
                </a:lnTo>
                <a:lnTo>
                  <a:pt x="644" y="0"/>
                </a:lnTo>
                <a:lnTo>
                  <a:pt x="717" y="0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8321" dir="131817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13"/>
          <p:cNvSpPr/>
          <p:nvPr/>
        </p:nvSpPr>
        <p:spPr>
          <a:xfrm rot="20667000">
            <a:off x="2126880" y="1671120"/>
            <a:ext cx="2900520" cy="993960"/>
          </a:xfrm>
          <a:custGeom>
            <a:avLst/>
            <a:gdLst>
              <a:gd name="textAreaLeft" fmla="*/ 0 w 2900520"/>
              <a:gd name="textAreaRight" fmla="*/ 2900880 w 29005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16502" h="4627">
                <a:moveTo>
                  <a:pt x="0" y="4498"/>
                </a:moveTo>
                <a:lnTo>
                  <a:pt x="5" y="4502"/>
                </a:lnTo>
                <a:lnTo>
                  <a:pt x="22" y="4514"/>
                </a:lnTo>
                <a:lnTo>
                  <a:pt x="36" y="4524"/>
                </a:lnTo>
                <a:lnTo>
                  <a:pt x="53" y="4533"/>
                </a:lnTo>
                <a:lnTo>
                  <a:pt x="74" y="4544"/>
                </a:lnTo>
                <a:lnTo>
                  <a:pt x="99" y="4555"/>
                </a:lnTo>
                <a:lnTo>
                  <a:pt x="127" y="4566"/>
                </a:lnTo>
                <a:lnTo>
                  <a:pt x="160" y="4578"/>
                </a:lnTo>
                <a:lnTo>
                  <a:pt x="198" y="4588"/>
                </a:lnTo>
                <a:lnTo>
                  <a:pt x="239" y="4599"/>
                </a:lnTo>
                <a:lnTo>
                  <a:pt x="286" y="4607"/>
                </a:lnTo>
                <a:lnTo>
                  <a:pt x="338" y="4615"/>
                </a:lnTo>
                <a:lnTo>
                  <a:pt x="394" y="4621"/>
                </a:lnTo>
                <a:lnTo>
                  <a:pt x="456" y="4625"/>
                </a:lnTo>
                <a:lnTo>
                  <a:pt x="523" y="4627"/>
                </a:lnTo>
                <a:lnTo>
                  <a:pt x="596" y="4626"/>
                </a:lnTo>
                <a:lnTo>
                  <a:pt x="675" y="4623"/>
                </a:lnTo>
                <a:lnTo>
                  <a:pt x="760" y="4615"/>
                </a:lnTo>
                <a:lnTo>
                  <a:pt x="851" y="4606"/>
                </a:lnTo>
                <a:lnTo>
                  <a:pt x="948" y="4591"/>
                </a:lnTo>
                <a:lnTo>
                  <a:pt x="1052" y="4573"/>
                </a:lnTo>
                <a:lnTo>
                  <a:pt x="1162" y="4551"/>
                </a:lnTo>
                <a:lnTo>
                  <a:pt x="1279" y="4524"/>
                </a:lnTo>
                <a:lnTo>
                  <a:pt x="1404" y="4492"/>
                </a:lnTo>
                <a:lnTo>
                  <a:pt x="1535" y="4454"/>
                </a:lnTo>
                <a:lnTo>
                  <a:pt x="1674" y="4411"/>
                </a:lnTo>
                <a:lnTo>
                  <a:pt x="1821" y="4362"/>
                </a:lnTo>
                <a:lnTo>
                  <a:pt x="1974" y="4307"/>
                </a:lnTo>
                <a:lnTo>
                  <a:pt x="2137" y="4245"/>
                </a:lnTo>
                <a:lnTo>
                  <a:pt x="2307" y="4177"/>
                </a:lnTo>
                <a:lnTo>
                  <a:pt x="2637" y="4040"/>
                </a:lnTo>
                <a:lnTo>
                  <a:pt x="2932" y="3915"/>
                </a:lnTo>
                <a:lnTo>
                  <a:pt x="3196" y="3803"/>
                </a:lnTo>
                <a:lnTo>
                  <a:pt x="3432" y="3703"/>
                </a:lnTo>
                <a:lnTo>
                  <a:pt x="3540" y="3658"/>
                </a:lnTo>
                <a:lnTo>
                  <a:pt x="3644" y="3615"/>
                </a:lnTo>
                <a:lnTo>
                  <a:pt x="3741" y="3575"/>
                </a:lnTo>
                <a:lnTo>
                  <a:pt x="3835" y="3537"/>
                </a:lnTo>
                <a:lnTo>
                  <a:pt x="3924" y="3502"/>
                </a:lnTo>
                <a:lnTo>
                  <a:pt x="4009" y="3470"/>
                </a:lnTo>
                <a:lnTo>
                  <a:pt x="4091" y="3440"/>
                </a:lnTo>
                <a:lnTo>
                  <a:pt x="4169" y="3413"/>
                </a:lnTo>
                <a:lnTo>
                  <a:pt x="4246" y="3387"/>
                </a:lnTo>
                <a:lnTo>
                  <a:pt x="4320" y="3364"/>
                </a:lnTo>
                <a:lnTo>
                  <a:pt x="4392" y="3344"/>
                </a:lnTo>
                <a:lnTo>
                  <a:pt x="4463" y="3325"/>
                </a:lnTo>
                <a:lnTo>
                  <a:pt x="4533" y="3309"/>
                </a:lnTo>
                <a:lnTo>
                  <a:pt x="4604" y="3295"/>
                </a:lnTo>
                <a:lnTo>
                  <a:pt x="4673" y="3282"/>
                </a:lnTo>
                <a:lnTo>
                  <a:pt x="4745" y="3272"/>
                </a:lnTo>
                <a:lnTo>
                  <a:pt x="4817" y="3263"/>
                </a:lnTo>
                <a:lnTo>
                  <a:pt x="4889" y="3256"/>
                </a:lnTo>
                <a:lnTo>
                  <a:pt x="4964" y="3251"/>
                </a:lnTo>
                <a:lnTo>
                  <a:pt x="5042" y="3247"/>
                </a:lnTo>
                <a:lnTo>
                  <a:pt x="5122" y="3245"/>
                </a:lnTo>
                <a:lnTo>
                  <a:pt x="5205" y="3245"/>
                </a:lnTo>
                <a:lnTo>
                  <a:pt x="5293" y="3246"/>
                </a:lnTo>
                <a:lnTo>
                  <a:pt x="5383" y="3249"/>
                </a:lnTo>
                <a:lnTo>
                  <a:pt x="5476" y="3251"/>
                </a:lnTo>
                <a:lnTo>
                  <a:pt x="5566" y="3252"/>
                </a:lnTo>
                <a:lnTo>
                  <a:pt x="5655" y="3251"/>
                </a:lnTo>
                <a:lnTo>
                  <a:pt x="5742" y="3247"/>
                </a:lnTo>
                <a:lnTo>
                  <a:pt x="5828" y="3244"/>
                </a:lnTo>
                <a:lnTo>
                  <a:pt x="5912" y="3238"/>
                </a:lnTo>
                <a:lnTo>
                  <a:pt x="5994" y="3232"/>
                </a:lnTo>
                <a:lnTo>
                  <a:pt x="6074" y="3222"/>
                </a:lnTo>
                <a:lnTo>
                  <a:pt x="6153" y="3212"/>
                </a:lnTo>
                <a:lnTo>
                  <a:pt x="6230" y="3199"/>
                </a:lnTo>
                <a:lnTo>
                  <a:pt x="6306" y="3185"/>
                </a:lnTo>
                <a:lnTo>
                  <a:pt x="6379" y="3170"/>
                </a:lnTo>
                <a:lnTo>
                  <a:pt x="6451" y="3152"/>
                </a:lnTo>
                <a:lnTo>
                  <a:pt x="6522" y="3133"/>
                </a:lnTo>
                <a:lnTo>
                  <a:pt x="6590" y="3112"/>
                </a:lnTo>
                <a:lnTo>
                  <a:pt x="6657" y="3089"/>
                </a:lnTo>
                <a:lnTo>
                  <a:pt x="6723" y="3063"/>
                </a:lnTo>
                <a:lnTo>
                  <a:pt x="6786" y="3036"/>
                </a:lnTo>
                <a:lnTo>
                  <a:pt x="6848" y="3008"/>
                </a:lnTo>
                <a:lnTo>
                  <a:pt x="6908" y="2977"/>
                </a:lnTo>
                <a:lnTo>
                  <a:pt x="6966" y="2944"/>
                </a:lnTo>
                <a:lnTo>
                  <a:pt x="7023" y="2910"/>
                </a:lnTo>
                <a:lnTo>
                  <a:pt x="7079" y="2873"/>
                </a:lnTo>
                <a:lnTo>
                  <a:pt x="7131" y="2834"/>
                </a:lnTo>
                <a:lnTo>
                  <a:pt x="7183" y="2793"/>
                </a:lnTo>
                <a:lnTo>
                  <a:pt x="7233" y="2750"/>
                </a:lnTo>
                <a:lnTo>
                  <a:pt x="7282" y="2706"/>
                </a:lnTo>
                <a:lnTo>
                  <a:pt x="7328" y="2658"/>
                </a:lnTo>
                <a:lnTo>
                  <a:pt x="7373" y="2609"/>
                </a:lnTo>
                <a:lnTo>
                  <a:pt x="7417" y="2557"/>
                </a:lnTo>
                <a:lnTo>
                  <a:pt x="7458" y="2504"/>
                </a:lnTo>
                <a:lnTo>
                  <a:pt x="7498" y="2448"/>
                </a:lnTo>
                <a:lnTo>
                  <a:pt x="7515" y="2453"/>
                </a:lnTo>
                <a:lnTo>
                  <a:pt x="7562" y="2467"/>
                </a:lnTo>
                <a:lnTo>
                  <a:pt x="7597" y="2476"/>
                </a:lnTo>
                <a:lnTo>
                  <a:pt x="7639" y="2486"/>
                </a:lnTo>
                <a:lnTo>
                  <a:pt x="7687" y="2496"/>
                </a:lnTo>
                <a:lnTo>
                  <a:pt x="7743" y="2506"/>
                </a:lnTo>
                <a:lnTo>
                  <a:pt x="7805" y="2515"/>
                </a:lnTo>
                <a:lnTo>
                  <a:pt x="7874" y="2524"/>
                </a:lnTo>
                <a:lnTo>
                  <a:pt x="7948" y="2531"/>
                </a:lnTo>
                <a:lnTo>
                  <a:pt x="8028" y="2535"/>
                </a:lnTo>
                <a:lnTo>
                  <a:pt x="8115" y="2538"/>
                </a:lnTo>
                <a:lnTo>
                  <a:pt x="8205" y="2538"/>
                </a:lnTo>
                <a:lnTo>
                  <a:pt x="8302" y="2535"/>
                </a:lnTo>
                <a:lnTo>
                  <a:pt x="8403" y="2528"/>
                </a:lnTo>
                <a:lnTo>
                  <a:pt x="8510" y="2516"/>
                </a:lnTo>
                <a:lnTo>
                  <a:pt x="8620" y="2501"/>
                </a:lnTo>
                <a:lnTo>
                  <a:pt x="8734" y="2480"/>
                </a:lnTo>
                <a:lnTo>
                  <a:pt x="8853" y="2454"/>
                </a:lnTo>
                <a:lnTo>
                  <a:pt x="8975" y="2421"/>
                </a:lnTo>
                <a:lnTo>
                  <a:pt x="9102" y="2384"/>
                </a:lnTo>
                <a:lnTo>
                  <a:pt x="9231" y="2338"/>
                </a:lnTo>
                <a:lnTo>
                  <a:pt x="9364" y="2286"/>
                </a:lnTo>
                <a:lnTo>
                  <a:pt x="9500" y="2226"/>
                </a:lnTo>
                <a:lnTo>
                  <a:pt x="9638" y="2157"/>
                </a:lnTo>
                <a:lnTo>
                  <a:pt x="9778" y="2081"/>
                </a:lnTo>
                <a:lnTo>
                  <a:pt x="9921" y="1994"/>
                </a:lnTo>
                <a:lnTo>
                  <a:pt x="10066" y="1898"/>
                </a:lnTo>
                <a:lnTo>
                  <a:pt x="10213" y="1793"/>
                </a:lnTo>
                <a:lnTo>
                  <a:pt x="10361" y="1678"/>
                </a:lnTo>
                <a:lnTo>
                  <a:pt x="10511" y="1551"/>
                </a:lnTo>
                <a:lnTo>
                  <a:pt x="10525" y="1553"/>
                </a:lnTo>
                <a:lnTo>
                  <a:pt x="10566" y="1560"/>
                </a:lnTo>
                <a:lnTo>
                  <a:pt x="10634" y="1569"/>
                </a:lnTo>
                <a:lnTo>
                  <a:pt x="10725" y="1580"/>
                </a:lnTo>
                <a:lnTo>
                  <a:pt x="10779" y="1586"/>
                </a:lnTo>
                <a:lnTo>
                  <a:pt x="10838" y="1591"/>
                </a:lnTo>
                <a:lnTo>
                  <a:pt x="10902" y="1596"/>
                </a:lnTo>
                <a:lnTo>
                  <a:pt x="10972" y="1602"/>
                </a:lnTo>
                <a:lnTo>
                  <a:pt x="11045" y="1606"/>
                </a:lnTo>
                <a:lnTo>
                  <a:pt x="11123" y="1610"/>
                </a:lnTo>
                <a:lnTo>
                  <a:pt x="11206" y="1613"/>
                </a:lnTo>
                <a:lnTo>
                  <a:pt x="11292" y="1615"/>
                </a:lnTo>
                <a:lnTo>
                  <a:pt x="11381" y="1616"/>
                </a:lnTo>
                <a:lnTo>
                  <a:pt x="11474" y="1615"/>
                </a:lnTo>
                <a:lnTo>
                  <a:pt x="11571" y="1614"/>
                </a:lnTo>
                <a:lnTo>
                  <a:pt x="11670" y="1610"/>
                </a:lnTo>
                <a:lnTo>
                  <a:pt x="11772" y="1605"/>
                </a:lnTo>
                <a:lnTo>
                  <a:pt x="11876" y="1599"/>
                </a:lnTo>
                <a:lnTo>
                  <a:pt x="11983" y="1589"/>
                </a:lnTo>
                <a:lnTo>
                  <a:pt x="12092" y="1579"/>
                </a:lnTo>
                <a:lnTo>
                  <a:pt x="12203" y="1565"/>
                </a:lnTo>
                <a:lnTo>
                  <a:pt x="12315" y="1548"/>
                </a:lnTo>
                <a:lnTo>
                  <a:pt x="12429" y="1530"/>
                </a:lnTo>
                <a:lnTo>
                  <a:pt x="12544" y="1508"/>
                </a:lnTo>
                <a:lnTo>
                  <a:pt x="12660" y="1484"/>
                </a:lnTo>
                <a:lnTo>
                  <a:pt x="12776" y="1457"/>
                </a:lnTo>
                <a:lnTo>
                  <a:pt x="12893" y="1425"/>
                </a:lnTo>
                <a:lnTo>
                  <a:pt x="13010" y="1391"/>
                </a:lnTo>
                <a:lnTo>
                  <a:pt x="13125" y="1358"/>
                </a:lnTo>
                <a:lnTo>
                  <a:pt x="13236" y="1328"/>
                </a:lnTo>
                <a:lnTo>
                  <a:pt x="13343" y="1302"/>
                </a:lnTo>
                <a:lnTo>
                  <a:pt x="13446" y="1281"/>
                </a:lnTo>
                <a:lnTo>
                  <a:pt x="13545" y="1263"/>
                </a:lnTo>
                <a:lnTo>
                  <a:pt x="13641" y="1248"/>
                </a:lnTo>
                <a:lnTo>
                  <a:pt x="13733" y="1238"/>
                </a:lnTo>
                <a:lnTo>
                  <a:pt x="13821" y="1229"/>
                </a:lnTo>
                <a:lnTo>
                  <a:pt x="13907" y="1224"/>
                </a:lnTo>
                <a:lnTo>
                  <a:pt x="13988" y="1222"/>
                </a:lnTo>
                <a:lnTo>
                  <a:pt x="14066" y="1222"/>
                </a:lnTo>
                <a:lnTo>
                  <a:pt x="14140" y="1224"/>
                </a:lnTo>
                <a:lnTo>
                  <a:pt x="14212" y="1228"/>
                </a:lnTo>
                <a:lnTo>
                  <a:pt x="14280" y="1234"/>
                </a:lnTo>
                <a:lnTo>
                  <a:pt x="14346" y="1242"/>
                </a:lnTo>
                <a:lnTo>
                  <a:pt x="14408" y="1251"/>
                </a:lnTo>
                <a:lnTo>
                  <a:pt x="14467" y="1261"/>
                </a:lnTo>
                <a:lnTo>
                  <a:pt x="14524" y="1272"/>
                </a:lnTo>
                <a:lnTo>
                  <a:pt x="14577" y="1285"/>
                </a:lnTo>
                <a:lnTo>
                  <a:pt x="14629" y="1298"/>
                </a:lnTo>
                <a:lnTo>
                  <a:pt x="14677" y="1310"/>
                </a:lnTo>
                <a:lnTo>
                  <a:pt x="14724" y="1324"/>
                </a:lnTo>
                <a:lnTo>
                  <a:pt x="14767" y="1338"/>
                </a:lnTo>
                <a:lnTo>
                  <a:pt x="14808" y="1350"/>
                </a:lnTo>
                <a:lnTo>
                  <a:pt x="14884" y="1376"/>
                </a:lnTo>
                <a:lnTo>
                  <a:pt x="14950" y="1397"/>
                </a:lnTo>
                <a:lnTo>
                  <a:pt x="14981" y="1406"/>
                </a:lnTo>
                <a:lnTo>
                  <a:pt x="15009" y="1413"/>
                </a:lnTo>
                <a:lnTo>
                  <a:pt x="15036" y="1419"/>
                </a:lnTo>
                <a:lnTo>
                  <a:pt x="15061" y="1423"/>
                </a:lnTo>
                <a:lnTo>
                  <a:pt x="15073" y="1425"/>
                </a:lnTo>
                <a:lnTo>
                  <a:pt x="15109" y="1430"/>
                </a:lnTo>
                <a:lnTo>
                  <a:pt x="15166" y="1438"/>
                </a:lnTo>
                <a:lnTo>
                  <a:pt x="15241" y="1447"/>
                </a:lnTo>
                <a:lnTo>
                  <a:pt x="15284" y="1451"/>
                </a:lnTo>
                <a:lnTo>
                  <a:pt x="15330" y="1454"/>
                </a:lnTo>
                <a:lnTo>
                  <a:pt x="15380" y="1459"/>
                </a:lnTo>
                <a:lnTo>
                  <a:pt x="15433" y="1462"/>
                </a:lnTo>
                <a:lnTo>
                  <a:pt x="15487" y="1465"/>
                </a:lnTo>
                <a:lnTo>
                  <a:pt x="15544" y="1466"/>
                </a:lnTo>
                <a:lnTo>
                  <a:pt x="15602" y="1467"/>
                </a:lnTo>
                <a:lnTo>
                  <a:pt x="15662" y="1467"/>
                </a:lnTo>
                <a:lnTo>
                  <a:pt x="15722" y="1466"/>
                </a:lnTo>
                <a:lnTo>
                  <a:pt x="15783" y="1463"/>
                </a:lnTo>
                <a:lnTo>
                  <a:pt x="15844" y="1459"/>
                </a:lnTo>
                <a:lnTo>
                  <a:pt x="15905" y="1452"/>
                </a:lnTo>
                <a:lnTo>
                  <a:pt x="15966" y="1445"/>
                </a:lnTo>
                <a:lnTo>
                  <a:pt x="16026" y="1435"/>
                </a:lnTo>
                <a:lnTo>
                  <a:pt x="16085" y="1424"/>
                </a:lnTo>
                <a:lnTo>
                  <a:pt x="16142" y="1409"/>
                </a:lnTo>
                <a:lnTo>
                  <a:pt x="16198" y="1393"/>
                </a:lnTo>
                <a:lnTo>
                  <a:pt x="16251" y="1374"/>
                </a:lnTo>
                <a:lnTo>
                  <a:pt x="16301" y="1352"/>
                </a:lnTo>
                <a:lnTo>
                  <a:pt x="16349" y="1328"/>
                </a:lnTo>
                <a:lnTo>
                  <a:pt x="16393" y="1301"/>
                </a:lnTo>
                <a:lnTo>
                  <a:pt x="16434" y="1270"/>
                </a:lnTo>
                <a:lnTo>
                  <a:pt x="16471" y="1237"/>
                </a:lnTo>
                <a:lnTo>
                  <a:pt x="16502" y="1199"/>
                </a:lnTo>
                <a:lnTo>
                  <a:pt x="16488" y="1185"/>
                </a:lnTo>
                <a:lnTo>
                  <a:pt x="16443" y="1146"/>
                </a:lnTo>
                <a:lnTo>
                  <a:pt x="16410" y="1119"/>
                </a:lnTo>
                <a:lnTo>
                  <a:pt x="16368" y="1086"/>
                </a:lnTo>
                <a:lnTo>
                  <a:pt x="16319" y="1049"/>
                </a:lnTo>
                <a:lnTo>
                  <a:pt x="16263" y="1009"/>
                </a:lnTo>
                <a:lnTo>
                  <a:pt x="16200" y="966"/>
                </a:lnTo>
                <a:lnTo>
                  <a:pt x="16129" y="920"/>
                </a:lnTo>
                <a:lnTo>
                  <a:pt x="16051" y="871"/>
                </a:lnTo>
                <a:lnTo>
                  <a:pt x="15964" y="821"/>
                </a:lnTo>
                <a:lnTo>
                  <a:pt x="15871" y="770"/>
                </a:lnTo>
                <a:lnTo>
                  <a:pt x="15771" y="718"/>
                </a:lnTo>
                <a:lnTo>
                  <a:pt x="15662" y="666"/>
                </a:lnTo>
                <a:lnTo>
                  <a:pt x="15546" y="614"/>
                </a:lnTo>
                <a:lnTo>
                  <a:pt x="15423" y="563"/>
                </a:lnTo>
                <a:lnTo>
                  <a:pt x="15292" y="514"/>
                </a:lnTo>
                <a:lnTo>
                  <a:pt x="15155" y="465"/>
                </a:lnTo>
                <a:lnTo>
                  <a:pt x="15009" y="420"/>
                </a:lnTo>
                <a:lnTo>
                  <a:pt x="14857" y="377"/>
                </a:lnTo>
                <a:lnTo>
                  <a:pt x="14696" y="338"/>
                </a:lnTo>
                <a:lnTo>
                  <a:pt x="14529" y="302"/>
                </a:lnTo>
                <a:lnTo>
                  <a:pt x="14354" y="271"/>
                </a:lnTo>
                <a:lnTo>
                  <a:pt x="14172" y="244"/>
                </a:lnTo>
                <a:lnTo>
                  <a:pt x="13982" y="223"/>
                </a:lnTo>
                <a:lnTo>
                  <a:pt x="13786" y="209"/>
                </a:lnTo>
                <a:lnTo>
                  <a:pt x="13580" y="199"/>
                </a:lnTo>
                <a:lnTo>
                  <a:pt x="13369" y="198"/>
                </a:lnTo>
                <a:lnTo>
                  <a:pt x="13149" y="203"/>
                </a:lnTo>
                <a:lnTo>
                  <a:pt x="12923" y="217"/>
                </a:lnTo>
                <a:lnTo>
                  <a:pt x="12689" y="238"/>
                </a:lnTo>
                <a:lnTo>
                  <a:pt x="12479" y="262"/>
                </a:lnTo>
                <a:lnTo>
                  <a:pt x="12282" y="286"/>
                </a:lnTo>
                <a:lnTo>
                  <a:pt x="12100" y="310"/>
                </a:lnTo>
                <a:lnTo>
                  <a:pt x="11929" y="333"/>
                </a:lnTo>
                <a:lnTo>
                  <a:pt x="11772" y="355"/>
                </a:lnTo>
                <a:lnTo>
                  <a:pt x="11626" y="377"/>
                </a:lnTo>
                <a:lnTo>
                  <a:pt x="11491" y="397"/>
                </a:lnTo>
                <a:lnTo>
                  <a:pt x="11366" y="417"/>
                </a:lnTo>
                <a:lnTo>
                  <a:pt x="11141" y="452"/>
                </a:lnTo>
                <a:lnTo>
                  <a:pt x="10949" y="481"/>
                </a:lnTo>
                <a:lnTo>
                  <a:pt x="10862" y="493"/>
                </a:lnTo>
                <a:lnTo>
                  <a:pt x="10781" y="502"/>
                </a:lnTo>
                <a:lnTo>
                  <a:pt x="10705" y="511"/>
                </a:lnTo>
                <a:lnTo>
                  <a:pt x="10634" y="516"/>
                </a:lnTo>
                <a:lnTo>
                  <a:pt x="10564" y="518"/>
                </a:lnTo>
                <a:lnTo>
                  <a:pt x="10498" y="519"/>
                </a:lnTo>
                <a:lnTo>
                  <a:pt x="10434" y="516"/>
                </a:lnTo>
                <a:lnTo>
                  <a:pt x="10369" y="511"/>
                </a:lnTo>
                <a:lnTo>
                  <a:pt x="10306" y="502"/>
                </a:lnTo>
                <a:lnTo>
                  <a:pt x="10243" y="491"/>
                </a:lnTo>
                <a:lnTo>
                  <a:pt x="10178" y="476"/>
                </a:lnTo>
                <a:lnTo>
                  <a:pt x="10111" y="458"/>
                </a:lnTo>
                <a:lnTo>
                  <a:pt x="10042" y="436"/>
                </a:lnTo>
                <a:lnTo>
                  <a:pt x="9968" y="410"/>
                </a:lnTo>
                <a:lnTo>
                  <a:pt x="9891" y="380"/>
                </a:lnTo>
                <a:lnTo>
                  <a:pt x="9809" y="346"/>
                </a:lnTo>
                <a:lnTo>
                  <a:pt x="9722" y="307"/>
                </a:lnTo>
                <a:lnTo>
                  <a:pt x="9627" y="265"/>
                </a:lnTo>
                <a:lnTo>
                  <a:pt x="9526" y="218"/>
                </a:lnTo>
                <a:lnTo>
                  <a:pt x="9416" y="166"/>
                </a:lnTo>
                <a:lnTo>
                  <a:pt x="9417" y="165"/>
                </a:lnTo>
                <a:lnTo>
                  <a:pt x="9417" y="164"/>
                </a:lnTo>
                <a:lnTo>
                  <a:pt x="9401" y="189"/>
                </a:lnTo>
                <a:lnTo>
                  <a:pt x="9380" y="216"/>
                </a:lnTo>
                <a:lnTo>
                  <a:pt x="9355" y="246"/>
                </a:lnTo>
                <a:lnTo>
                  <a:pt x="9327" y="280"/>
                </a:lnTo>
                <a:lnTo>
                  <a:pt x="9295" y="317"/>
                </a:lnTo>
                <a:lnTo>
                  <a:pt x="9258" y="356"/>
                </a:lnTo>
                <a:lnTo>
                  <a:pt x="9218" y="396"/>
                </a:lnTo>
                <a:lnTo>
                  <a:pt x="9173" y="439"/>
                </a:lnTo>
                <a:lnTo>
                  <a:pt x="9125" y="482"/>
                </a:lnTo>
                <a:lnTo>
                  <a:pt x="9071" y="527"/>
                </a:lnTo>
                <a:lnTo>
                  <a:pt x="9013" y="573"/>
                </a:lnTo>
                <a:lnTo>
                  <a:pt x="8950" y="619"/>
                </a:lnTo>
                <a:lnTo>
                  <a:pt x="8882" y="665"/>
                </a:lnTo>
                <a:lnTo>
                  <a:pt x="8810" y="710"/>
                </a:lnTo>
                <a:lnTo>
                  <a:pt x="8732" y="756"/>
                </a:lnTo>
                <a:lnTo>
                  <a:pt x="8650" y="801"/>
                </a:lnTo>
                <a:lnTo>
                  <a:pt x="8561" y="844"/>
                </a:lnTo>
                <a:lnTo>
                  <a:pt x="8468" y="885"/>
                </a:lnTo>
                <a:lnTo>
                  <a:pt x="8369" y="925"/>
                </a:lnTo>
                <a:lnTo>
                  <a:pt x="8264" y="963"/>
                </a:lnTo>
                <a:lnTo>
                  <a:pt x="8155" y="999"/>
                </a:lnTo>
                <a:lnTo>
                  <a:pt x="8039" y="1031"/>
                </a:lnTo>
                <a:lnTo>
                  <a:pt x="7917" y="1061"/>
                </a:lnTo>
                <a:lnTo>
                  <a:pt x="7789" y="1087"/>
                </a:lnTo>
                <a:lnTo>
                  <a:pt x="7655" y="1109"/>
                </a:lnTo>
                <a:lnTo>
                  <a:pt x="7515" y="1127"/>
                </a:lnTo>
                <a:lnTo>
                  <a:pt x="7368" y="1142"/>
                </a:lnTo>
                <a:lnTo>
                  <a:pt x="7215" y="1151"/>
                </a:lnTo>
                <a:lnTo>
                  <a:pt x="7055" y="1156"/>
                </a:lnTo>
                <a:lnTo>
                  <a:pt x="6889" y="1155"/>
                </a:lnTo>
                <a:lnTo>
                  <a:pt x="6716" y="1147"/>
                </a:lnTo>
                <a:lnTo>
                  <a:pt x="6536" y="1135"/>
                </a:lnTo>
                <a:lnTo>
                  <a:pt x="6324" y="1120"/>
                </a:lnTo>
                <a:lnTo>
                  <a:pt x="6112" y="1112"/>
                </a:lnTo>
                <a:lnTo>
                  <a:pt x="5901" y="1111"/>
                </a:lnTo>
                <a:lnTo>
                  <a:pt x="5691" y="1118"/>
                </a:lnTo>
                <a:lnTo>
                  <a:pt x="5482" y="1130"/>
                </a:lnTo>
                <a:lnTo>
                  <a:pt x="5275" y="1149"/>
                </a:lnTo>
                <a:lnTo>
                  <a:pt x="5068" y="1176"/>
                </a:lnTo>
                <a:lnTo>
                  <a:pt x="4863" y="1208"/>
                </a:lnTo>
                <a:lnTo>
                  <a:pt x="4660" y="1246"/>
                </a:lnTo>
                <a:lnTo>
                  <a:pt x="4459" y="1291"/>
                </a:lnTo>
                <a:lnTo>
                  <a:pt x="4258" y="1343"/>
                </a:lnTo>
                <a:lnTo>
                  <a:pt x="4061" y="1401"/>
                </a:lnTo>
                <a:lnTo>
                  <a:pt x="3865" y="1465"/>
                </a:lnTo>
                <a:lnTo>
                  <a:pt x="3671" y="1534"/>
                </a:lnTo>
                <a:lnTo>
                  <a:pt x="3479" y="1610"/>
                </a:lnTo>
                <a:lnTo>
                  <a:pt x="3290" y="1691"/>
                </a:lnTo>
                <a:lnTo>
                  <a:pt x="3103" y="1779"/>
                </a:lnTo>
                <a:lnTo>
                  <a:pt x="2919" y="1872"/>
                </a:lnTo>
                <a:lnTo>
                  <a:pt x="2738" y="1970"/>
                </a:lnTo>
                <a:lnTo>
                  <a:pt x="2559" y="2074"/>
                </a:lnTo>
                <a:lnTo>
                  <a:pt x="2383" y="2185"/>
                </a:lnTo>
                <a:lnTo>
                  <a:pt x="2210" y="2299"/>
                </a:lnTo>
                <a:lnTo>
                  <a:pt x="2041" y="2419"/>
                </a:lnTo>
                <a:lnTo>
                  <a:pt x="1874" y="2546"/>
                </a:lnTo>
                <a:lnTo>
                  <a:pt x="1711" y="2676"/>
                </a:lnTo>
                <a:lnTo>
                  <a:pt x="1551" y="2812"/>
                </a:lnTo>
                <a:lnTo>
                  <a:pt x="1395" y="2953"/>
                </a:lnTo>
                <a:lnTo>
                  <a:pt x="1243" y="3098"/>
                </a:lnTo>
                <a:lnTo>
                  <a:pt x="1094" y="3249"/>
                </a:lnTo>
                <a:lnTo>
                  <a:pt x="950" y="3404"/>
                </a:lnTo>
                <a:lnTo>
                  <a:pt x="809" y="3564"/>
                </a:lnTo>
                <a:lnTo>
                  <a:pt x="673" y="3728"/>
                </a:lnTo>
                <a:lnTo>
                  <a:pt x="606" y="3810"/>
                </a:lnTo>
                <a:lnTo>
                  <a:pt x="544" y="3886"/>
                </a:lnTo>
                <a:lnTo>
                  <a:pt x="486" y="3957"/>
                </a:lnTo>
                <a:lnTo>
                  <a:pt x="433" y="4022"/>
                </a:lnTo>
                <a:lnTo>
                  <a:pt x="382" y="4082"/>
                </a:lnTo>
                <a:lnTo>
                  <a:pt x="336" y="4137"/>
                </a:lnTo>
                <a:lnTo>
                  <a:pt x="293" y="4187"/>
                </a:lnTo>
                <a:lnTo>
                  <a:pt x="253" y="4233"/>
                </a:lnTo>
                <a:lnTo>
                  <a:pt x="215" y="4276"/>
                </a:lnTo>
                <a:lnTo>
                  <a:pt x="181" y="4313"/>
                </a:lnTo>
                <a:lnTo>
                  <a:pt x="150" y="4347"/>
                </a:lnTo>
                <a:lnTo>
                  <a:pt x="122" y="4377"/>
                </a:lnTo>
                <a:lnTo>
                  <a:pt x="97" y="4403"/>
                </a:lnTo>
                <a:lnTo>
                  <a:pt x="74" y="4426"/>
                </a:lnTo>
                <a:lnTo>
                  <a:pt x="53" y="4447"/>
                </a:lnTo>
                <a:lnTo>
                  <a:pt x="35" y="4464"/>
                </a:lnTo>
                <a:lnTo>
                  <a:pt x="27" y="4469"/>
                </a:lnTo>
                <a:lnTo>
                  <a:pt x="21" y="4473"/>
                </a:lnTo>
                <a:lnTo>
                  <a:pt x="15" y="4478"/>
                </a:lnTo>
                <a:lnTo>
                  <a:pt x="7" y="4480"/>
                </a:lnTo>
                <a:lnTo>
                  <a:pt x="0" y="4498"/>
                </a:lnTo>
                <a:close/>
                <a:moveTo>
                  <a:pt x="9421" y="0"/>
                </a:moveTo>
                <a:lnTo>
                  <a:pt x="9424" y="12"/>
                </a:lnTo>
                <a:lnTo>
                  <a:pt x="9427" y="23"/>
                </a:lnTo>
                <a:lnTo>
                  <a:pt x="9430" y="34"/>
                </a:lnTo>
                <a:lnTo>
                  <a:pt x="9433" y="45"/>
                </a:lnTo>
                <a:lnTo>
                  <a:pt x="9430" y="34"/>
                </a:lnTo>
                <a:lnTo>
                  <a:pt x="9427" y="23"/>
                </a:lnTo>
                <a:lnTo>
                  <a:pt x="9424" y="12"/>
                </a:lnTo>
                <a:lnTo>
                  <a:pt x="9421" y="0"/>
                </a:lnTo>
                <a:close/>
                <a:moveTo>
                  <a:pt x="9435" y="53"/>
                </a:moveTo>
                <a:lnTo>
                  <a:pt x="9440" y="68"/>
                </a:lnTo>
                <a:lnTo>
                  <a:pt x="9444" y="81"/>
                </a:lnTo>
                <a:lnTo>
                  <a:pt x="9448" y="96"/>
                </a:lnTo>
                <a:lnTo>
                  <a:pt x="9453" y="110"/>
                </a:lnTo>
                <a:lnTo>
                  <a:pt x="9448" y="96"/>
                </a:lnTo>
                <a:lnTo>
                  <a:pt x="9444" y="81"/>
                </a:lnTo>
                <a:lnTo>
                  <a:pt x="9440" y="68"/>
                </a:lnTo>
                <a:lnTo>
                  <a:pt x="9435" y="53"/>
                </a:lnTo>
                <a:close/>
                <a:moveTo>
                  <a:pt x="9451" y="113"/>
                </a:moveTo>
                <a:lnTo>
                  <a:pt x="9451" y="113"/>
                </a:lnTo>
                <a:lnTo>
                  <a:pt x="9451" y="114"/>
                </a:lnTo>
                <a:lnTo>
                  <a:pt x="9451" y="113"/>
                </a:lnTo>
                <a:close/>
                <a:moveTo>
                  <a:pt x="9448" y="119"/>
                </a:moveTo>
                <a:lnTo>
                  <a:pt x="9447" y="120"/>
                </a:lnTo>
                <a:lnTo>
                  <a:pt x="9447" y="121"/>
                </a:lnTo>
                <a:lnTo>
                  <a:pt x="9447" y="120"/>
                </a:lnTo>
                <a:lnTo>
                  <a:pt x="9448" y="119"/>
                </a:lnTo>
                <a:close/>
                <a:moveTo>
                  <a:pt x="9444" y="125"/>
                </a:moveTo>
                <a:lnTo>
                  <a:pt x="9443" y="128"/>
                </a:lnTo>
                <a:lnTo>
                  <a:pt x="9441" y="130"/>
                </a:lnTo>
                <a:lnTo>
                  <a:pt x="9443" y="128"/>
                </a:lnTo>
                <a:lnTo>
                  <a:pt x="9444" y="125"/>
                </a:lnTo>
                <a:close/>
                <a:moveTo>
                  <a:pt x="9439" y="134"/>
                </a:moveTo>
                <a:lnTo>
                  <a:pt x="9437" y="135"/>
                </a:lnTo>
                <a:lnTo>
                  <a:pt x="9436" y="136"/>
                </a:lnTo>
                <a:lnTo>
                  <a:pt x="9437" y="135"/>
                </a:lnTo>
                <a:lnTo>
                  <a:pt x="9439" y="134"/>
                </a:lnTo>
                <a:close/>
                <a:moveTo>
                  <a:pt x="9432" y="144"/>
                </a:moveTo>
                <a:lnTo>
                  <a:pt x="9431" y="145"/>
                </a:lnTo>
                <a:lnTo>
                  <a:pt x="9430" y="146"/>
                </a:lnTo>
                <a:lnTo>
                  <a:pt x="9431" y="145"/>
                </a:lnTo>
                <a:lnTo>
                  <a:pt x="9432" y="144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4"/>
          <p:cNvSpPr/>
          <p:nvPr/>
        </p:nvSpPr>
        <p:spPr>
          <a:xfrm>
            <a:off x="3230640" y="1817640"/>
            <a:ext cx="2697120" cy="374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12" h="236">
                <a:moveTo>
                  <a:pt x="1912" y="118"/>
                </a:moveTo>
                <a:lnTo>
                  <a:pt x="1912" y="130"/>
                </a:lnTo>
                <a:lnTo>
                  <a:pt x="1911" y="142"/>
                </a:lnTo>
                <a:lnTo>
                  <a:pt x="1910" y="153"/>
                </a:lnTo>
                <a:lnTo>
                  <a:pt x="1909" y="164"/>
                </a:lnTo>
                <a:lnTo>
                  <a:pt x="1906" y="174"/>
                </a:lnTo>
                <a:lnTo>
                  <a:pt x="1904" y="184"/>
                </a:lnTo>
                <a:lnTo>
                  <a:pt x="1901" y="193"/>
                </a:lnTo>
                <a:lnTo>
                  <a:pt x="1899" y="201"/>
                </a:lnTo>
                <a:lnTo>
                  <a:pt x="1895" y="209"/>
                </a:lnTo>
                <a:lnTo>
                  <a:pt x="1892" y="216"/>
                </a:lnTo>
                <a:lnTo>
                  <a:pt x="1888" y="222"/>
                </a:lnTo>
                <a:lnTo>
                  <a:pt x="1884" y="227"/>
                </a:lnTo>
                <a:lnTo>
                  <a:pt x="1882" y="229"/>
                </a:lnTo>
                <a:lnTo>
                  <a:pt x="1880" y="231"/>
                </a:lnTo>
                <a:lnTo>
                  <a:pt x="1877" y="232"/>
                </a:lnTo>
                <a:lnTo>
                  <a:pt x="1875" y="234"/>
                </a:lnTo>
                <a:lnTo>
                  <a:pt x="1873" y="235"/>
                </a:lnTo>
                <a:lnTo>
                  <a:pt x="1871" y="236"/>
                </a:lnTo>
                <a:lnTo>
                  <a:pt x="1866" y="236"/>
                </a:lnTo>
                <a:lnTo>
                  <a:pt x="1864" y="236"/>
                </a:lnTo>
                <a:lnTo>
                  <a:pt x="1862" y="236"/>
                </a:lnTo>
                <a:lnTo>
                  <a:pt x="1857" y="234"/>
                </a:lnTo>
                <a:lnTo>
                  <a:pt x="1857" y="236"/>
                </a:lnTo>
                <a:lnTo>
                  <a:pt x="0" y="236"/>
                </a:lnTo>
                <a:lnTo>
                  <a:pt x="0" y="0"/>
                </a:lnTo>
                <a:lnTo>
                  <a:pt x="1857" y="0"/>
                </a:lnTo>
                <a:lnTo>
                  <a:pt x="1857" y="2"/>
                </a:lnTo>
                <a:lnTo>
                  <a:pt x="1859" y="1"/>
                </a:lnTo>
                <a:lnTo>
                  <a:pt x="1862" y="0"/>
                </a:lnTo>
                <a:lnTo>
                  <a:pt x="1864" y="0"/>
                </a:lnTo>
                <a:lnTo>
                  <a:pt x="1866" y="0"/>
                </a:lnTo>
                <a:lnTo>
                  <a:pt x="1869" y="0"/>
                </a:lnTo>
                <a:lnTo>
                  <a:pt x="1871" y="0"/>
                </a:lnTo>
                <a:lnTo>
                  <a:pt x="1873" y="1"/>
                </a:lnTo>
                <a:lnTo>
                  <a:pt x="1875" y="2"/>
                </a:lnTo>
                <a:lnTo>
                  <a:pt x="1877" y="4"/>
                </a:lnTo>
                <a:lnTo>
                  <a:pt x="1880" y="5"/>
                </a:lnTo>
                <a:lnTo>
                  <a:pt x="1882" y="7"/>
                </a:lnTo>
                <a:lnTo>
                  <a:pt x="1884" y="9"/>
                </a:lnTo>
                <a:lnTo>
                  <a:pt x="1888" y="14"/>
                </a:lnTo>
                <a:lnTo>
                  <a:pt x="1892" y="20"/>
                </a:lnTo>
                <a:lnTo>
                  <a:pt x="1895" y="27"/>
                </a:lnTo>
                <a:lnTo>
                  <a:pt x="1899" y="35"/>
                </a:lnTo>
                <a:lnTo>
                  <a:pt x="1901" y="43"/>
                </a:lnTo>
                <a:lnTo>
                  <a:pt x="1904" y="52"/>
                </a:lnTo>
                <a:lnTo>
                  <a:pt x="1906" y="62"/>
                </a:lnTo>
                <a:lnTo>
                  <a:pt x="1909" y="72"/>
                </a:lnTo>
                <a:lnTo>
                  <a:pt x="1910" y="83"/>
                </a:lnTo>
                <a:lnTo>
                  <a:pt x="1911" y="94"/>
                </a:lnTo>
                <a:lnTo>
                  <a:pt x="1912" y="106"/>
                </a:lnTo>
                <a:lnTo>
                  <a:pt x="1912" y="118"/>
                </a:lnTo>
                <a:close/>
              </a:path>
            </a:pathLst>
          </a:cu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1820880" y="695520"/>
            <a:ext cx="3249000" cy="2215080"/>
            <a:chOff x="1820880" y="695520"/>
            <a:chExt cx="3249000" cy="2215080"/>
          </a:xfrm>
        </p:grpSpPr>
        <p:sp>
          <p:nvSpPr>
            <p:cNvPr id="226" name="Freeform 16"/>
            <p:cNvSpPr/>
            <p:nvPr/>
          </p:nvSpPr>
          <p:spPr>
            <a:xfrm rot="20667000">
              <a:off x="2012760" y="1042200"/>
              <a:ext cx="1717200" cy="16686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9849" h="8473">
                  <a:moveTo>
                    <a:pt x="17" y="7921"/>
                  </a:moveTo>
                  <a:lnTo>
                    <a:pt x="28" y="7892"/>
                  </a:lnTo>
                  <a:lnTo>
                    <a:pt x="41" y="7861"/>
                  </a:lnTo>
                  <a:lnTo>
                    <a:pt x="56" y="7829"/>
                  </a:lnTo>
                  <a:lnTo>
                    <a:pt x="73" y="7796"/>
                  </a:lnTo>
                  <a:lnTo>
                    <a:pt x="91" y="7763"/>
                  </a:lnTo>
                  <a:lnTo>
                    <a:pt x="111" y="7728"/>
                  </a:lnTo>
                  <a:lnTo>
                    <a:pt x="132" y="7692"/>
                  </a:lnTo>
                  <a:lnTo>
                    <a:pt x="155" y="7654"/>
                  </a:lnTo>
                  <a:lnTo>
                    <a:pt x="180" y="7615"/>
                  </a:lnTo>
                  <a:lnTo>
                    <a:pt x="207" y="7575"/>
                  </a:lnTo>
                  <a:lnTo>
                    <a:pt x="237" y="7534"/>
                  </a:lnTo>
                  <a:lnTo>
                    <a:pt x="267" y="7491"/>
                  </a:lnTo>
                  <a:lnTo>
                    <a:pt x="301" y="7446"/>
                  </a:lnTo>
                  <a:lnTo>
                    <a:pt x="336" y="7400"/>
                  </a:lnTo>
                  <a:lnTo>
                    <a:pt x="373" y="7352"/>
                  </a:lnTo>
                  <a:lnTo>
                    <a:pt x="413" y="7303"/>
                  </a:lnTo>
                  <a:lnTo>
                    <a:pt x="484" y="7209"/>
                  </a:lnTo>
                  <a:lnTo>
                    <a:pt x="553" y="7111"/>
                  </a:lnTo>
                  <a:lnTo>
                    <a:pt x="621" y="7009"/>
                  </a:lnTo>
                  <a:lnTo>
                    <a:pt x="687" y="6902"/>
                  </a:lnTo>
                  <a:lnTo>
                    <a:pt x="751" y="6790"/>
                  </a:lnTo>
                  <a:lnTo>
                    <a:pt x="814" y="6676"/>
                  </a:lnTo>
                  <a:lnTo>
                    <a:pt x="875" y="6557"/>
                  </a:lnTo>
                  <a:lnTo>
                    <a:pt x="934" y="6435"/>
                  </a:lnTo>
                  <a:lnTo>
                    <a:pt x="993" y="6309"/>
                  </a:lnTo>
                  <a:lnTo>
                    <a:pt x="1050" y="6182"/>
                  </a:lnTo>
                  <a:lnTo>
                    <a:pt x="1106" y="6053"/>
                  </a:lnTo>
                  <a:lnTo>
                    <a:pt x="1159" y="5921"/>
                  </a:lnTo>
                  <a:lnTo>
                    <a:pt x="1213" y="5787"/>
                  </a:lnTo>
                  <a:lnTo>
                    <a:pt x="1265" y="5653"/>
                  </a:lnTo>
                  <a:lnTo>
                    <a:pt x="1316" y="5517"/>
                  </a:lnTo>
                  <a:lnTo>
                    <a:pt x="1366" y="5381"/>
                  </a:lnTo>
                  <a:lnTo>
                    <a:pt x="1415" y="5244"/>
                  </a:lnTo>
                  <a:lnTo>
                    <a:pt x="1464" y="5108"/>
                  </a:lnTo>
                  <a:lnTo>
                    <a:pt x="1511" y="4971"/>
                  </a:lnTo>
                  <a:lnTo>
                    <a:pt x="1557" y="4835"/>
                  </a:lnTo>
                  <a:lnTo>
                    <a:pt x="1649" y="4566"/>
                  </a:lnTo>
                  <a:lnTo>
                    <a:pt x="1738" y="4304"/>
                  </a:lnTo>
                  <a:lnTo>
                    <a:pt x="1782" y="4175"/>
                  </a:lnTo>
                  <a:lnTo>
                    <a:pt x="1825" y="4049"/>
                  </a:lnTo>
                  <a:lnTo>
                    <a:pt x="1868" y="3926"/>
                  </a:lnTo>
                  <a:lnTo>
                    <a:pt x="1910" y="3806"/>
                  </a:lnTo>
                  <a:lnTo>
                    <a:pt x="1952" y="3689"/>
                  </a:lnTo>
                  <a:lnTo>
                    <a:pt x="1995" y="3577"/>
                  </a:lnTo>
                  <a:lnTo>
                    <a:pt x="2037" y="3468"/>
                  </a:lnTo>
                  <a:lnTo>
                    <a:pt x="2079" y="3364"/>
                  </a:lnTo>
                  <a:lnTo>
                    <a:pt x="2123" y="3260"/>
                  </a:lnTo>
                  <a:lnTo>
                    <a:pt x="2170" y="3155"/>
                  </a:lnTo>
                  <a:lnTo>
                    <a:pt x="2221" y="3048"/>
                  </a:lnTo>
                  <a:lnTo>
                    <a:pt x="2275" y="2939"/>
                  </a:lnTo>
                  <a:lnTo>
                    <a:pt x="2333" y="2830"/>
                  </a:lnTo>
                  <a:lnTo>
                    <a:pt x="2393" y="2718"/>
                  </a:lnTo>
                  <a:lnTo>
                    <a:pt x="2457" y="2606"/>
                  </a:lnTo>
                  <a:lnTo>
                    <a:pt x="2523" y="2494"/>
                  </a:lnTo>
                  <a:lnTo>
                    <a:pt x="2594" y="2381"/>
                  </a:lnTo>
                  <a:lnTo>
                    <a:pt x="2666" y="2269"/>
                  </a:lnTo>
                  <a:lnTo>
                    <a:pt x="2742" y="2155"/>
                  </a:lnTo>
                  <a:lnTo>
                    <a:pt x="2821" y="2043"/>
                  </a:lnTo>
                  <a:lnTo>
                    <a:pt x="2903" y="1931"/>
                  </a:lnTo>
                  <a:lnTo>
                    <a:pt x="2988" y="1820"/>
                  </a:lnTo>
                  <a:lnTo>
                    <a:pt x="3075" y="1711"/>
                  </a:lnTo>
                  <a:lnTo>
                    <a:pt x="3164" y="1603"/>
                  </a:lnTo>
                  <a:lnTo>
                    <a:pt x="3257" y="1495"/>
                  </a:lnTo>
                  <a:lnTo>
                    <a:pt x="3353" y="1391"/>
                  </a:lnTo>
                  <a:lnTo>
                    <a:pt x="3451" y="1288"/>
                  </a:lnTo>
                  <a:lnTo>
                    <a:pt x="3551" y="1188"/>
                  </a:lnTo>
                  <a:lnTo>
                    <a:pt x="3654" y="1090"/>
                  </a:lnTo>
                  <a:lnTo>
                    <a:pt x="3759" y="995"/>
                  </a:lnTo>
                  <a:lnTo>
                    <a:pt x="3867" y="904"/>
                  </a:lnTo>
                  <a:lnTo>
                    <a:pt x="3976" y="814"/>
                  </a:lnTo>
                  <a:lnTo>
                    <a:pt x="4088" y="730"/>
                  </a:lnTo>
                  <a:lnTo>
                    <a:pt x="4203" y="649"/>
                  </a:lnTo>
                  <a:lnTo>
                    <a:pt x="4320" y="572"/>
                  </a:lnTo>
                  <a:lnTo>
                    <a:pt x="4438" y="500"/>
                  </a:lnTo>
                  <a:lnTo>
                    <a:pt x="4558" y="431"/>
                  </a:lnTo>
                  <a:lnTo>
                    <a:pt x="4681" y="368"/>
                  </a:lnTo>
                  <a:lnTo>
                    <a:pt x="4805" y="310"/>
                  </a:lnTo>
                  <a:lnTo>
                    <a:pt x="4931" y="258"/>
                  </a:lnTo>
                  <a:lnTo>
                    <a:pt x="5058" y="210"/>
                  </a:lnTo>
                  <a:lnTo>
                    <a:pt x="5182" y="168"/>
                  </a:lnTo>
                  <a:lnTo>
                    <a:pt x="5305" y="130"/>
                  </a:lnTo>
                  <a:lnTo>
                    <a:pt x="5426" y="99"/>
                  </a:lnTo>
                  <a:lnTo>
                    <a:pt x="5548" y="72"/>
                  </a:lnTo>
                  <a:lnTo>
                    <a:pt x="5667" y="48"/>
                  </a:lnTo>
                  <a:lnTo>
                    <a:pt x="5786" y="31"/>
                  </a:lnTo>
                  <a:lnTo>
                    <a:pt x="5903" y="16"/>
                  </a:lnTo>
                  <a:lnTo>
                    <a:pt x="6020" y="6"/>
                  </a:lnTo>
                  <a:lnTo>
                    <a:pt x="6136" y="1"/>
                  </a:lnTo>
                  <a:lnTo>
                    <a:pt x="6253" y="0"/>
                  </a:lnTo>
                  <a:lnTo>
                    <a:pt x="6369" y="2"/>
                  </a:lnTo>
                  <a:lnTo>
                    <a:pt x="6485" y="8"/>
                  </a:lnTo>
                  <a:lnTo>
                    <a:pt x="6601" y="19"/>
                  </a:lnTo>
                  <a:lnTo>
                    <a:pt x="6717" y="33"/>
                  </a:lnTo>
                  <a:lnTo>
                    <a:pt x="6833" y="49"/>
                  </a:lnTo>
                  <a:lnTo>
                    <a:pt x="6951" y="69"/>
                  </a:lnTo>
                  <a:lnTo>
                    <a:pt x="7069" y="93"/>
                  </a:lnTo>
                  <a:lnTo>
                    <a:pt x="7187" y="119"/>
                  </a:lnTo>
                  <a:lnTo>
                    <a:pt x="7307" y="148"/>
                  </a:lnTo>
                  <a:lnTo>
                    <a:pt x="7428" y="180"/>
                  </a:lnTo>
                  <a:lnTo>
                    <a:pt x="7550" y="215"/>
                  </a:lnTo>
                  <a:lnTo>
                    <a:pt x="7674" y="251"/>
                  </a:lnTo>
                  <a:lnTo>
                    <a:pt x="7799" y="290"/>
                  </a:lnTo>
                  <a:lnTo>
                    <a:pt x="7925" y="331"/>
                  </a:lnTo>
                  <a:lnTo>
                    <a:pt x="8054" y="376"/>
                  </a:lnTo>
                  <a:lnTo>
                    <a:pt x="8184" y="421"/>
                  </a:lnTo>
                  <a:lnTo>
                    <a:pt x="8317" y="468"/>
                  </a:lnTo>
                  <a:lnTo>
                    <a:pt x="8590" y="568"/>
                  </a:lnTo>
                  <a:lnTo>
                    <a:pt x="8873" y="673"/>
                  </a:lnTo>
                  <a:lnTo>
                    <a:pt x="8936" y="698"/>
                  </a:lnTo>
                  <a:lnTo>
                    <a:pt x="8997" y="722"/>
                  </a:lnTo>
                  <a:lnTo>
                    <a:pt x="9057" y="745"/>
                  </a:lnTo>
                  <a:lnTo>
                    <a:pt x="9116" y="769"/>
                  </a:lnTo>
                  <a:lnTo>
                    <a:pt x="9172" y="793"/>
                  </a:lnTo>
                  <a:lnTo>
                    <a:pt x="9228" y="818"/>
                  </a:lnTo>
                  <a:lnTo>
                    <a:pt x="9281" y="842"/>
                  </a:lnTo>
                  <a:lnTo>
                    <a:pt x="9332" y="866"/>
                  </a:lnTo>
                  <a:lnTo>
                    <a:pt x="9382" y="891"/>
                  </a:lnTo>
                  <a:lnTo>
                    <a:pt x="9429" y="915"/>
                  </a:lnTo>
                  <a:lnTo>
                    <a:pt x="9473" y="941"/>
                  </a:lnTo>
                  <a:lnTo>
                    <a:pt x="9517" y="966"/>
                  </a:lnTo>
                  <a:lnTo>
                    <a:pt x="9558" y="992"/>
                  </a:lnTo>
                  <a:lnTo>
                    <a:pt x="9596" y="1019"/>
                  </a:lnTo>
                  <a:lnTo>
                    <a:pt x="9631" y="1045"/>
                  </a:lnTo>
                  <a:lnTo>
                    <a:pt x="9665" y="1072"/>
                  </a:lnTo>
                  <a:lnTo>
                    <a:pt x="9697" y="1101"/>
                  </a:lnTo>
                  <a:lnTo>
                    <a:pt x="9724" y="1128"/>
                  </a:lnTo>
                  <a:lnTo>
                    <a:pt x="9750" y="1157"/>
                  </a:lnTo>
                  <a:lnTo>
                    <a:pt x="9772" y="1187"/>
                  </a:lnTo>
                  <a:lnTo>
                    <a:pt x="9792" y="1216"/>
                  </a:lnTo>
                  <a:lnTo>
                    <a:pt x="9810" y="1247"/>
                  </a:lnTo>
                  <a:lnTo>
                    <a:pt x="9824" y="1279"/>
                  </a:lnTo>
                  <a:lnTo>
                    <a:pt x="9836" y="1311"/>
                  </a:lnTo>
                  <a:lnTo>
                    <a:pt x="9843" y="1344"/>
                  </a:lnTo>
                  <a:lnTo>
                    <a:pt x="9848" y="1377"/>
                  </a:lnTo>
                  <a:lnTo>
                    <a:pt x="9849" y="1412"/>
                  </a:lnTo>
                  <a:lnTo>
                    <a:pt x="9848" y="1448"/>
                  </a:lnTo>
                  <a:lnTo>
                    <a:pt x="9843" y="1484"/>
                  </a:lnTo>
                  <a:lnTo>
                    <a:pt x="9835" y="1522"/>
                  </a:lnTo>
                  <a:lnTo>
                    <a:pt x="9822" y="1559"/>
                  </a:lnTo>
                  <a:lnTo>
                    <a:pt x="9806" y="1599"/>
                  </a:lnTo>
                  <a:lnTo>
                    <a:pt x="9780" y="1659"/>
                  </a:lnTo>
                  <a:lnTo>
                    <a:pt x="9746" y="1734"/>
                  </a:lnTo>
                  <a:lnTo>
                    <a:pt x="9728" y="1777"/>
                  </a:lnTo>
                  <a:lnTo>
                    <a:pt x="9709" y="1825"/>
                  </a:lnTo>
                  <a:lnTo>
                    <a:pt x="9689" y="1875"/>
                  </a:lnTo>
                  <a:lnTo>
                    <a:pt x="9668" y="1930"/>
                  </a:lnTo>
                  <a:lnTo>
                    <a:pt x="9648" y="1987"/>
                  </a:lnTo>
                  <a:lnTo>
                    <a:pt x="9627" y="2048"/>
                  </a:lnTo>
                  <a:lnTo>
                    <a:pt x="9607" y="2112"/>
                  </a:lnTo>
                  <a:lnTo>
                    <a:pt x="9587" y="2179"/>
                  </a:lnTo>
                  <a:lnTo>
                    <a:pt x="9567" y="2251"/>
                  </a:lnTo>
                  <a:lnTo>
                    <a:pt x="9548" y="2324"/>
                  </a:lnTo>
                  <a:lnTo>
                    <a:pt x="9531" y="2401"/>
                  </a:lnTo>
                  <a:lnTo>
                    <a:pt x="9514" y="2480"/>
                  </a:lnTo>
                  <a:lnTo>
                    <a:pt x="9500" y="2563"/>
                  </a:lnTo>
                  <a:lnTo>
                    <a:pt x="9487" y="2649"/>
                  </a:lnTo>
                  <a:lnTo>
                    <a:pt x="9477" y="2737"/>
                  </a:lnTo>
                  <a:lnTo>
                    <a:pt x="9467" y="2827"/>
                  </a:lnTo>
                  <a:lnTo>
                    <a:pt x="9461" y="2921"/>
                  </a:lnTo>
                  <a:lnTo>
                    <a:pt x="9457" y="3017"/>
                  </a:lnTo>
                  <a:lnTo>
                    <a:pt x="9455" y="3116"/>
                  </a:lnTo>
                  <a:lnTo>
                    <a:pt x="9458" y="3217"/>
                  </a:lnTo>
                  <a:lnTo>
                    <a:pt x="9463" y="3320"/>
                  </a:lnTo>
                  <a:lnTo>
                    <a:pt x="9471" y="3425"/>
                  </a:lnTo>
                  <a:lnTo>
                    <a:pt x="9484" y="3532"/>
                  </a:lnTo>
                  <a:lnTo>
                    <a:pt x="9501" y="3642"/>
                  </a:lnTo>
                  <a:lnTo>
                    <a:pt x="9521" y="3753"/>
                  </a:lnTo>
                  <a:lnTo>
                    <a:pt x="9546" y="3867"/>
                  </a:lnTo>
                  <a:lnTo>
                    <a:pt x="9575" y="3983"/>
                  </a:lnTo>
                  <a:lnTo>
                    <a:pt x="9610" y="4100"/>
                  </a:lnTo>
                  <a:lnTo>
                    <a:pt x="9602" y="4113"/>
                  </a:lnTo>
                  <a:lnTo>
                    <a:pt x="9577" y="4152"/>
                  </a:lnTo>
                  <a:lnTo>
                    <a:pt x="9558" y="4180"/>
                  </a:lnTo>
                  <a:lnTo>
                    <a:pt x="9533" y="4211"/>
                  </a:lnTo>
                  <a:lnTo>
                    <a:pt x="9504" y="4247"/>
                  </a:lnTo>
                  <a:lnTo>
                    <a:pt x="9470" y="4287"/>
                  </a:lnTo>
                  <a:lnTo>
                    <a:pt x="9430" y="4330"/>
                  </a:lnTo>
                  <a:lnTo>
                    <a:pt x="9385" y="4376"/>
                  </a:lnTo>
                  <a:lnTo>
                    <a:pt x="9334" y="4425"/>
                  </a:lnTo>
                  <a:lnTo>
                    <a:pt x="9279" y="4475"/>
                  </a:lnTo>
                  <a:lnTo>
                    <a:pt x="9216" y="4527"/>
                  </a:lnTo>
                  <a:lnTo>
                    <a:pt x="9148" y="4579"/>
                  </a:lnTo>
                  <a:lnTo>
                    <a:pt x="9074" y="4632"/>
                  </a:lnTo>
                  <a:lnTo>
                    <a:pt x="8993" y="4685"/>
                  </a:lnTo>
                  <a:lnTo>
                    <a:pt x="8906" y="4736"/>
                  </a:lnTo>
                  <a:lnTo>
                    <a:pt x="8811" y="4788"/>
                  </a:lnTo>
                  <a:lnTo>
                    <a:pt x="8710" y="4837"/>
                  </a:lnTo>
                  <a:lnTo>
                    <a:pt x="8602" y="4885"/>
                  </a:lnTo>
                  <a:lnTo>
                    <a:pt x="8487" y="4930"/>
                  </a:lnTo>
                  <a:lnTo>
                    <a:pt x="8364" y="4972"/>
                  </a:lnTo>
                  <a:lnTo>
                    <a:pt x="8234" y="5011"/>
                  </a:lnTo>
                  <a:lnTo>
                    <a:pt x="8096" y="5046"/>
                  </a:lnTo>
                  <a:lnTo>
                    <a:pt x="7950" y="5076"/>
                  </a:lnTo>
                  <a:lnTo>
                    <a:pt x="7796" y="5101"/>
                  </a:lnTo>
                  <a:lnTo>
                    <a:pt x="7634" y="5121"/>
                  </a:lnTo>
                  <a:lnTo>
                    <a:pt x="7463" y="5136"/>
                  </a:lnTo>
                  <a:lnTo>
                    <a:pt x="7284" y="5143"/>
                  </a:lnTo>
                  <a:lnTo>
                    <a:pt x="7097" y="5145"/>
                  </a:lnTo>
                  <a:lnTo>
                    <a:pt x="6900" y="5139"/>
                  </a:lnTo>
                  <a:lnTo>
                    <a:pt x="6693" y="5125"/>
                  </a:lnTo>
                  <a:lnTo>
                    <a:pt x="6481" y="5110"/>
                  </a:lnTo>
                  <a:lnTo>
                    <a:pt x="6269" y="5102"/>
                  </a:lnTo>
                  <a:lnTo>
                    <a:pt x="6058" y="5101"/>
                  </a:lnTo>
                  <a:lnTo>
                    <a:pt x="5848" y="5108"/>
                  </a:lnTo>
                  <a:lnTo>
                    <a:pt x="5639" y="5120"/>
                  </a:lnTo>
                  <a:lnTo>
                    <a:pt x="5432" y="5139"/>
                  </a:lnTo>
                  <a:lnTo>
                    <a:pt x="5225" y="5166"/>
                  </a:lnTo>
                  <a:lnTo>
                    <a:pt x="5020" y="5198"/>
                  </a:lnTo>
                  <a:lnTo>
                    <a:pt x="4817" y="5236"/>
                  </a:lnTo>
                  <a:lnTo>
                    <a:pt x="4616" y="5281"/>
                  </a:lnTo>
                  <a:lnTo>
                    <a:pt x="4415" y="5333"/>
                  </a:lnTo>
                  <a:lnTo>
                    <a:pt x="4218" y="5391"/>
                  </a:lnTo>
                  <a:lnTo>
                    <a:pt x="4022" y="5455"/>
                  </a:lnTo>
                  <a:lnTo>
                    <a:pt x="3828" y="5524"/>
                  </a:lnTo>
                  <a:lnTo>
                    <a:pt x="3636" y="5600"/>
                  </a:lnTo>
                  <a:lnTo>
                    <a:pt x="3447" y="5681"/>
                  </a:lnTo>
                  <a:lnTo>
                    <a:pt x="3260" y="5769"/>
                  </a:lnTo>
                  <a:lnTo>
                    <a:pt x="3076" y="5862"/>
                  </a:lnTo>
                  <a:lnTo>
                    <a:pt x="2895" y="5960"/>
                  </a:lnTo>
                  <a:lnTo>
                    <a:pt x="2716" y="6064"/>
                  </a:lnTo>
                  <a:lnTo>
                    <a:pt x="2540" y="6175"/>
                  </a:lnTo>
                  <a:lnTo>
                    <a:pt x="2367" y="6289"/>
                  </a:lnTo>
                  <a:lnTo>
                    <a:pt x="2198" y="6409"/>
                  </a:lnTo>
                  <a:lnTo>
                    <a:pt x="2031" y="6536"/>
                  </a:lnTo>
                  <a:lnTo>
                    <a:pt x="1868" y="6666"/>
                  </a:lnTo>
                  <a:lnTo>
                    <a:pt x="1708" y="6802"/>
                  </a:lnTo>
                  <a:lnTo>
                    <a:pt x="1552" y="6943"/>
                  </a:lnTo>
                  <a:lnTo>
                    <a:pt x="1400" y="7088"/>
                  </a:lnTo>
                  <a:lnTo>
                    <a:pt x="1251" y="7239"/>
                  </a:lnTo>
                  <a:lnTo>
                    <a:pt x="1107" y="7394"/>
                  </a:lnTo>
                  <a:lnTo>
                    <a:pt x="966" y="7554"/>
                  </a:lnTo>
                  <a:lnTo>
                    <a:pt x="830" y="7718"/>
                  </a:lnTo>
                  <a:lnTo>
                    <a:pt x="763" y="7800"/>
                  </a:lnTo>
                  <a:lnTo>
                    <a:pt x="701" y="7876"/>
                  </a:lnTo>
                  <a:lnTo>
                    <a:pt x="643" y="7947"/>
                  </a:lnTo>
                  <a:lnTo>
                    <a:pt x="590" y="8012"/>
                  </a:lnTo>
                  <a:lnTo>
                    <a:pt x="539" y="8072"/>
                  </a:lnTo>
                  <a:lnTo>
                    <a:pt x="493" y="8127"/>
                  </a:lnTo>
                  <a:lnTo>
                    <a:pt x="450" y="8177"/>
                  </a:lnTo>
                  <a:lnTo>
                    <a:pt x="410" y="8223"/>
                  </a:lnTo>
                  <a:lnTo>
                    <a:pt x="372" y="8266"/>
                  </a:lnTo>
                  <a:lnTo>
                    <a:pt x="338" y="8303"/>
                  </a:lnTo>
                  <a:lnTo>
                    <a:pt x="307" y="8337"/>
                  </a:lnTo>
                  <a:lnTo>
                    <a:pt x="279" y="8367"/>
                  </a:lnTo>
                  <a:lnTo>
                    <a:pt x="254" y="8393"/>
                  </a:lnTo>
                  <a:lnTo>
                    <a:pt x="231" y="8416"/>
                  </a:lnTo>
                  <a:lnTo>
                    <a:pt x="210" y="8437"/>
                  </a:lnTo>
                  <a:lnTo>
                    <a:pt x="192" y="8454"/>
                  </a:lnTo>
                  <a:lnTo>
                    <a:pt x="179" y="8463"/>
                  </a:lnTo>
                  <a:lnTo>
                    <a:pt x="166" y="8470"/>
                  </a:lnTo>
                  <a:lnTo>
                    <a:pt x="155" y="8473"/>
                  </a:lnTo>
                  <a:lnTo>
                    <a:pt x="143" y="8472"/>
                  </a:lnTo>
                  <a:lnTo>
                    <a:pt x="132" y="8469"/>
                  </a:lnTo>
                  <a:lnTo>
                    <a:pt x="120" y="8463"/>
                  </a:lnTo>
                  <a:lnTo>
                    <a:pt x="110" y="8455"/>
                  </a:lnTo>
                  <a:lnTo>
                    <a:pt x="99" y="8444"/>
                  </a:lnTo>
                  <a:lnTo>
                    <a:pt x="90" y="8431"/>
                  </a:lnTo>
                  <a:lnTo>
                    <a:pt x="80" y="8416"/>
                  </a:lnTo>
                  <a:lnTo>
                    <a:pt x="71" y="8399"/>
                  </a:lnTo>
                  <a:lnTo>
                    <a:pt x="62" y="8381"/>
                  </a:lnTo>
                  <a:lnTo>
                    <a:pt x="54" y="8360"/>
                  </a:lnTo>
                  <a:lnTo>
                    <a:pt x="46" y="8339"/>
                  </a:lnTo>
                  <a:lnTo>
                    <a:pt x="39" y="8317"/>
                  </a:lnTo>
                  <a:lnTo>
                    <a:pt x="32" y="8293"/>
                  </a:lnTo>
                  <a:lnTo>
                    <a:pt x="26" y="8269"/>
                  </a:lnTo>
                  <a:lnTo>
                    <a:pt x="20" y="8243"/>
                  </a:lnTo>
                  <a:lnTo>
                    <a:pt x="16" y="8218"/>
                  </a:lnTo>
                  <a:lnTo>
                    <a:pt x="12" y="8192"/>
                  </a:lnTo>
                  <a:lnTo>
                    <a:pt x="7" y="8167"/>
                  </a:lnTo>
                  <a:lnTo>
                    <a:pt x="4" y="8140"/>
                  </a:lnTo>
                  <a:lnTo>
                    <a:pt x="2" y="8115"/>
                  </a:lnTo>
                  <a:lnTo>
                    <a:pt x="1" y="8090"/>
                  </a:lnTo>
                  <a:lnTo>
                    <a:pt x="0" y="8065"/>
                  </a:lnTo>
                  <a:lnTo>
                    <a:pt x="0" y="8040"/>
                  </a:lnTo>
                  <a:lnTo>
                    <a:pt x="1" y="8017"/>
                  </a:lnTo>
                  <a:lnTo>
                    <a:pt x="2" y="7995"/>
                  </a:lnTo>
                  <a:lnTo>
                    <a:pt x="4" y="7975"/>
                  </a:lnTo>
                  <a:lnTo>
                    <a:pt x="7" y="7955"/>
                  </a:lnTo>
                  <a:lnTo>
                    <a:pt x="12" y="7938"/>
                  </a:lnTo>
                  <a:lnTo>
                    <a:pt x="17" y="7921"/>
                  </a:lnTo>
                  <a:close/>
                </a:path>
              </a:pathLst>
            </a:custGeom>
            <a:gradFill rotWithShape="0">
              <a:gsLst>
                <a:gs pos="0">
                  <a:srgbClr val="ff6699"/>
                </a:gs>
                <a:gs pos="100000">
                  <a:srgbClr val="800000"/>
                </a:gs>
              </a:gsLst>
              <a:lin ang="0"/>
            </a:gradFill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 rot="20667000">
              <a:off x="3560400" y="853920"/>
              <a:ext cx="1288800" cy="7833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7394" h="3984">
                  <a:moveTo>
                    <a:pt x="4774" y="2204"/>
                  </a:moveTo>
                  <a:lnTo>
                    <a:pt x="5002" y="2270"/>
                  </a:lnTo>
                  <a:lnTo>
                    <a:pt x="5220" y="2336"/>
                  </a:lnTo>
                  <a:lnTo>
                    <a:pt x="5426" y="2401"/>
                  </a:lnTo>
                  <a:lnTo>
                    <a:pt x="5620" y="2466"/>
                  </a:lnTo>
                  <a:lnTo>
                    <a:pt x="5802" y="2533"/>
                  </a:lnTo>
                  <a:lnTo>
                    <a:pt x="5973" y="2598"/>
                  </a:lnTo>
                  <a:lnTo>
                    <a:pt x="6133" y="2662"/>
                  </a:lnTo>
                  <a:lnTo>
                    <a:pt x="6284" y="2727"/>
                  </a:lnTo>
                  <a:lnTo>
                    <a:pt x="6423" y="2792"/>
                  </a:lnTo>
                  <a:lnTo>
                    <a:pt x="6552" y="2856"/>
                  </a:lnTo>
                  <a:lnTo>
                    <a:pt x="6671" y="2919"/>
                  </a:lnTo>
                  <a:lnTo>
                    <a:pt x="6780" y="2981"/>
                  </a:lnTo>
                  <a:lnTo>
                    <a:pt x="6879" y="3043"/>
                  </a:lnTo>
                  <a:lnTo>
                    <a:pt x="6970" y="3104"/>
                  </a:lnTo>
                  <a:lnTo>
                    <a:pt x="7051" y="3164"/>
                  </a:lnTo>
                  <a:lnTo>
                    <a:pt x="7122" y="3224"/>
                  </a:lnTo>
                  <a:lnTo>
                    <a:pt x="7184" y="3282"/>
                  </a:lnTo>
                  <a:lnTo>
                    <a:pt x="7239" y="3339"/>
                  </a:lnTo>
                  <a:lnTo>
                    <a:pt x="7284" y="3396"/>
                  </a:lnTo>
                  <a:lnTo>
                    <a:pt x="7322" y="3450"/>
                  </a:lnTo>
                  <a:lnTo>
                    <a:pt x="7352" y="3504"/>
                  </a:lnTo>
                  <a:lnTo>
                    <a:pt x="7373" y="3555"/>
                  </a:lnTo>
                  <a:lnTo>
                    <a:pt x="7388" y="3606"/>
                  </a:lnTo>
                  <a:lnTo>
                    <a:pt x="7394" y="3655"/>
                  </a:lnTo>
                  <a:lnTo>
                    <a:pt x="7393" y="3703"/>
                  </a:lnTo>
                  <a:lnTo>
                    <a:pt x="7386" y="3749"/>
                  </a:lnTo>
                  <a:lnTo>
                    <a:pt x="7372" y="3792"/>
                  </a:lnTo>
                  <a:lnTo>
                    <a:pt x="7351" y="3835"/>
                  </a:lnTo>
                  <a:lnTo>
                    <a:pt x="7323" y="3875"/>
                  </a:lnTo>
                  <a:lnTo>
                    <a:pt x="7290" y="3913"/>
                  </a:lnTo>
                  <a:lnTo>
                    <a:pt x="7250" y="3950"/>
                  </a:lnTo>
                  <a:lnTo>
                    <a:pt x="7204" y="3984"/>
                  </a:lnTo>
                  <a:lnTo>
                    <a:pt x="7190" y="3970"/>
                  </a:lnTo>
                  <a:lnTo>
                    <a:pt x="7145" y="3931"/>
                  </a:lnTo>
                  <a:lnTo>
                    <a:pt x="7112" y="3904"/>
                  </a:lnTo>
                  <a:lnTo>
                    <a:pt x="7070" y="3871"/>
                  </a:lnTo>
                  <a:lnTo>
                    <a:pt x="7021" y="3834"/>
                  </a:lnTo>
                  <a:lnTo>
                    <a:pt x="6965" y="3794"/>
                  </a:lnTo>
                  <a:lnTo>
                    <a:pt x="6902" y="3751"/>
                  </a:lnTo>
                  <a:lnTo>
                    <a:pt x="6831" y="3705"/>
                  </a:lnTo>
                  <a:lnTo>
                    <a:pt x="6753" y="3656"/>
                  </a:lnTo>
                  <a:lnTo>
                    <a:pt x="6666" y="3606"/>
                  </a:lnTo>
                  <a:lnTo>
                    <a:pt x="6573" y="3555"/>
                  </a:lnTo>
                  <a:lnTo>
                    <a:pt x="6473" y="3503"/>
                  </a:lnTo>
                  <a:lnTo>
                    <a:pt x="6364" y="3451"/>
                  </a:lnTo>
                  <a:lnTo>
                    <a:pt x="6248" y="3399"/>
                  </a:lnTo>
                  <a:lnTo>
                    <a:pt x="6125" y="3348"/>
                  </a:lnTo>
                  <a:lnTo>
                    <a:pt x="5994" y="3299"/>
                  </a:lnTo>
                  <a:lnTo>
                    <a:pt x="5857" y="3250"/>
                  </a:lnTo>
                  <a:lnTo>
                    <a:pt x="5711" y="3205"/>
                  </a:lnTo>
                  <a:lnTo>
                    <a:pt x="5559" y="3162"/>
                  </a:lnTo>
                  <a:lnTo>
                    <a:pt x="5398" y="3123"/>
                  </a:lnTo>
                  <a:lnTo>
                    <a:pt x="5231" y="3087"/>
                  </a:lnTo>
                  <a:lnTo>
                    <a:pt x="5056" y="3056"/>
                  </a:lnTo>
                  <a:lnTo>
                    <a:pt x="4874" y="3029"/>
                  </a:lnTo>
                  <a:lnTo>
                    <a:pt x="4684" y="3008"/>
                  </a:lnTo>
                  <a:lnTo>
                    <a:pt x="4488" y="2994"/>
                  </a:lnTo>
                  <a:lnTo>
                    <a:pt x="4282" y="2984"/>
                  </a:lnTo>
                  <a:lnTo>
                    <a:pt x="4071" y="2983"/>
                  </a:lnTo>
                  <a:lnTo>
                    <a:pt x="3851" y="2988"/>
                  </a:lnTo>
                  <a:lnTo>
                    <a:pt x="3625" y="3002"/>
                  </a:lnTo>
                  <a:lnTo>
                    <a:pt x="3391" y="3023"/>
                  </a:lnTo>
                  <a:lnTo>
                    <a:pt x="3181" y="3047"/>
                  </a:lnTo>
                  <a:lnTo>
                    <a:pt x="2984" y="3071"/>
                  </a:lnTo>
                  <a:lnTo>
                    <a:pt x="2802" y="3095"/>
                  </a:lnTo>
                  <a:lnTo>
                    <a:pt x="2631" y="3118"/>
                  </a:lnTo>
                  <a:lnTo>
                    <a:pt x="2474" y="3140"/>
                  </a:lnTo>
                  <a:lnTo>
                    <a:pt x="2328" y="3162"/>
                  </a:lnTo>
                  <a:lnTo>
                    <a:pt x="2193" y="3182"/>
                  </a:lnTo>
                  <a:lnTo>
                    <a:pt x="2068" y="3202"/>
                  </a:lnTo>
                  <a:lnTo>
                    <a:pt x="1843" y="3237"/>
                  </a:lnTo>
                  <a:lnTo>
                    <a:pt x="1651" y="3266"/>
                  </a:lnTo>
                  <a:lnTo>
                    <a:pt x="1564" y="3278"/>
                  </a:lnTo>
                  <a:lnTo>
                    <a:pt x="1483" y="3287"/>
                  </a:lnTo>
                  <a:lnTo>
                    <a:pt x="1407" y="3296"/>
                  </a:lnTo>
                  <a:lnTo>
                    <a:pt x="1336" y="3301"/>
                  </a:lnTo>
                  <a:lnTo>
                    <a:pt x="1266" y="3303"/>
                  </a:lnTo>
                  <a:lnTo>
                    <a:pt x="1200" y="3304"/>
                  </a:lnTo>
                  <a:lnTo>
                    <a:pt x="1136" y="3301"/>
                  </a:lnTo>
                  <a:lnTo>
                    <a:pt x="1071" y="3296"/>
                  </a:lnTo>
                  <a:lnTo>
                    <a:pt x="1008" y="3287"/>
                  </a:lnTo>
                  <a:lnTo>
                    <a:pt x="945" y="3276"/>
                  </a:lnTo>
                  <a:lnTo>
                    <a:pt x="880" y="3261"/>
                  </a:lnTo>
                  <a:lnTo>
                    <a:pt x="813" y="3243"/>
                  </a:lnTo>
                  <a:lnTo>
                    <a:pt x="744" y="3221"/>
                  </a:lnTo>
                  <a:lnTo>
                    <a:pt x="670" y="3195"/>
                  </a:lnTo>
                  <a:lnTo>
                    <a:pt x="593" y="3165"/>
                  </a:lnTo>
                  <a:lnTo>
                    <a:pt x="511" y="3131"/>
                  </a:lnTo>
                  <a:lnTo>
                    <a:pt x="424" y="3092"/>
                  </a:lnTo>
                  <a:lnTo>
                    <a:pt x="329" y="3050"/>
                  </a:lnTo>
                  <a:lnTo>
                    <a:pt x="228" y="3003"/>
                  </a:lnTo>
                  <a:lnTo>
                    <a:pt x="118" y="2951"/>
                  </a:lnTo>
                  <a:lnTo>
                    <a:pt x="135" y="2927"/>
                  </a:lnTo>
                  <a:lnTo>
                    <a:pt x="146" y="2909"/>
                  </a:lnTo>
                  <a:lnTo>
                    <a:pt x="153" y="2899"/>
                  </a:lnTo>
                  <a:lnTo>
                    <a:pt x="155" y="2895"/>
                  </a:lnTo>
                  <a:lnTo>
                    <a:pt x="120" y="2778"/>
                  </a:lnTo>
                  <a:lnTo>
                    <a:pt x="91" y="2662"/>
                  </a:lnTo>
                  <a:lnTo>
                    <a:pt x="66" y="2548"/>
                  </a:lnTo>
                  <a:lnTo>
                    <a:pt x="46" y="2437"/>
                  </a:lnTo>
                  <a:lnTo>
                    <a:pt x="29" y="2327"/>
                  </a:lnTo>
                  <a:lnTo>
                    <a:pt x="16" y="2220"/>
                  </a:lnTo>
                  <a:lnTo>
                    <a:pt x="8" y="2115"/>
                  </a:lnTo>
                  <a:lnTo>
                    <a:pt x="3" y="2012"/>
                  </a:lnTo>
                  <a:lnTo>
                    <a:pt x="0" y="1911"/>
                  </a:lnTo>
                  <a:lnTo>
                    <a:pt x="2" y="1812"/>
                  </a:lnTo>
                  <a:lnTo>
                    <a:pt x="6" y="1716"/>
                  </a:lnTo>
                  <a:lnTo>
                    <a:pt x="12" y="1622"/>
                  </a:lnTo>
                  <a:lnTo>
                    <a:pt x="22" y="1532"/>
                  </a:lnTo>
                  <a:lnTo>
                    <a:pt x="32" y="1444"/>
                  </a:lnTo>
                  <a:lnTo>
                    <a:pt x="45" y="1358"/>
                  </a:lnTo>
                  <a:lnTo>
                    <a:pt x="59" y="1275"/>
                  </a:lnTo>
                  <a:lnTo>
                    <a:pt x="76" y="1196"/>
                  </a:lnTo>
                  <a:lnTo>
                    <a:pt x="93" y="1119"/>
                  </a:lnTo>
                  <a:lnTo>
                    <a:pt x="112" y="1046"/>
                  </a:lnTo>
                  <a:lnTo>
                    <a:pt x="132" y="974"/>
                  </a:lnTo>
                  <a:lnTo>
                    <a:pt x="152" y="907"/>
                  </a:lnTo>
                  <a:lnTo>
                    <a:pt x="172" y="843"/>
                  </a:lnTo>
                  <a:lnTo>
                    <a:pt x="193" y="782"/>
                  </a:lnTo>
                  <a:lnTo>
                    <a:pt x="213" y="725"/>
                  </a:lnTo>
                  <a:lnTo>
                    <a:pt x="234" y="670"/>
                  </a:lnTo>
                  <a:lnTo>
                    <a:pt x="254" y="620"/>
                  </a:lnTo>
                  <a:lnTo>
                    <a:pt x="273" y="572"/>
                  </a:lnTo>
                  <a:lnTo>
                    <a:pt x="291" y="529"/>
                  </a:lnTo>
                  <a:lnTo>
                    <a:pt x="325" y="454"/>
                  </a:lnTo>
                  <a:lnTo>
                    <a:pt x="351" y="394"/>
                  </a:lnTo>
                  <a:lnTo>
                    <a:pt x="363" y="366"/>
                  </a:lnTo>
                  <a:lnTo>
                    <a:pt x="372" y="339"/>
                  </a:lnTo>
                  <a:lnTo>
                    <a:pt x="381" y="311"/>
                  </a:lnTo>
                  <a:lnTo>
                    <a:pt x="387" y="285"/>
                  </a:lnTo>
                  <a:lnTo>
                    <a:pt x="391" y="259"/>
                  </a:lnTo>
                  <a:lnTo>
                    <a:pt x="394" y="233"/>
                  </a:lnTo>
                  <a:lnTo>
                    <a:pt x="394" y="208"/>
                  </a:lnTo>
                  <a:lnTo>
                    <a:pt x="394" y="183"/>
                  </a:lnTo>
                  <a:lnTo>
                    <a:pt x="391" y="159"/>
                  </a:lnTo>
                  <a:lnTo>
                    <a:pt x="388" y="135"/>
                  </a:lnTo>
                  <a:lnTo>
                    <a:pt x="382" y="111"/>
                  </a:lnTo>
                  <a:lnTo>
                    <a:pt x="374" y="88"/>
                  </a:lnTo>
                  <a:lnTo>
                    <a:pt x="366" y="66"/>
                  </a:lnTo>
                  <a:lnTo>
                    <a:pt x="355" y="43"/>
                  </a:lnTo>
                  <a:lnTo>
                    <a:pt x="344" y="22"/>
                  </a:lnTo>
                  <a:lnTo>
                    <a:pt x="330" y="0"/>
                  </a:lnTo>
                  <a:lnTo>
                    <a:pt x="420" y="14"/>
                  </a:lnTo>
                  <a:lnTo>
                    <a:pt x="513" y="36"/>
                  </a:lnTo>
                  <a:lnTo>
                    <a:pt x="612" y="66"/>
                  </a:lnTo>
                  <a:lnTo>
                    <a:pt x="717" y="104"/>
                  </a:lnTo>
                  <a:lnTo>
                    <a:pt x="825" y="148"/>
                  </a:lnTo>
                  <a:lnTo>
                    <a:pt x="939" y="200"/>
                  </a:lnTo>
                  <a:lnTo>
                    <a:pt x="1056" y="257"/>
                  </a:lnTo>
                  <a:lnTo>
                    <a:pt x="1177" y="320"/>
                  </a:lnTo>
                  <a:lnTo>
                    <a:pt x="1302" y="388"/>
                  </a:lnTo>
                  <a:lnTo>
                    <a:pt x="1431" y="461"/>
                  </a:lnTo>
                  <a:lnTo>
                    <a:pt x="1562" y="538"/>
                  </a:lnTo>
                  <a:lnTo>
                    <a:pt x="1698" y="618"/>
                  </a:lnTo>
                  <a:lnTo>
                    <a:pt x="1977" y="786"/>
                  </a:lnTo>
                  <a:lnTo>
                    <a:pt x="2267" y="964"/>
                  </a:lnTo>
                  <a:lnTo>
                    <a:pt x="2415" y="1054"/>
                  </a:lnTo>
                  <a:lnTo>
                    <a:pt x="2566" y="1145"/>
                  </a:lnTo>
                  <a:lnTo>
                    <a:pt x="2718" y="1236"/>
                  </a:lnTo>
                  <a:lnTo>
                    <a:pt x="2872" y="1327"/>
                  </a:lnTo>
                  <a:lnTo>
                    <a:pt x="3027" y="1417"/>
                  </a:lnTo>
                  <a:lnTo>
                    <a:pt x="3184" y="1506"/>
                  </a:lnTo>
                  <a:lnTo>
                    <a:pt x="3341" y="1592"/>
                  </a:lnTo>
                  <a:lnTo>
                    <a:pt x="3500" y="1676"/>
                  </a:lnTo>
                  <a:lnTo>
                    <a:pt x="3659" y="1758"/>
                  </a:lnTo>
                  <a:lnTo>
                    <a:pt x="3819" y="1836"/>
                  </a:lnTo>
                  <a:lnTo>
                    <a:pt x="3978" y="1910"/>
                  </a:lnTo>
                  <a:lnTo>
                    <a:pt x="4138" y="1979"/>
                  </a:lnTo>
                  <a:lnTo>
                    <a:pt x="4298" y="2044"/>
                  </a:lnTo>
                  <a:lnTo>
                    <a:pt x="4457" y="2103"/>
                  </a:lnTo>
                  <a:lnTo>
                    <a:pt x="4616" y="2157"/>
                  </a:lnTo>
                  <a:lnTo>
                    <a:pt x="4774" y="2204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800000"/>
                </a:gs>
              </a:gsLst>
              <a:lin ang="0"/>
            </a:gradFill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 rot="20667000">
              <a:off x="2120040" y="1619280"/>
              <a:ext cx="2880360" cy="910080"/>
            </a:xfrm>
            <a:custGeom>
              <a:avLst/>
              <a:gdLst>
                <a:gd name="textAreaLeft" fmla="*/ 0 w 2880360"/>
                <a:gd name="textAreaRight" fmla="*/ 2880720 w 288036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16502" h="4627">
                  <a:moveTo>
                    <a:pt x="0" y="4498"/>
                  </a:moveTo>
                  <a:lnTo>
                    <a:pt x="5" y="4502"/>
                  </a:lnTo>
                  <a:lnTo>
                    <a:pt x="22" y="4514"/>
                  </a:lnTo>
                  <a:lnTo>
                    <a:pt x="36" y="4524"/>
                  </a:lnTo>
                  <a:lnTo>
                    <a:pt x="53" y="4533"/>
                  </a:lnTo>
                  <a:lnTo>
                    <a:pt x="74" y="4544"/>
                  </a:lnTo>
                  <a:lnTo>
                    <a:pt x="99" y="4555"/>
                  </a:lnTo>
                  <a:lnTo>
                    <a:pt x="127" y="4566"/>
                  </a:lnTo>
                  <a:lnTo>
                    <a:pt x="160" y="4578"/>
                  </a:lnTo>
                  <a:lnTo>
                    <a:pt x="198" y="4588"/>
                  </a:lnTo>
                  <a:lnTo>
                    <a:pt x="239" y="4599"/>
                  </a:lnTo>
                  <a:lnTo>
                    <a:pt x="286" y="4607"/>
                  </a:lnTo>
                  <a:lnTo>
                    <a:pt x="338" y="4615"/>
                  </a:lnTo>
                  <a:lnTo>
                    <a:pt x="394" y="4621"/>
                  </a:lnTo>
                  <a:lnTo>
                    <a:pt x="456" y="4625"/>
                  </a:lnTo>
                  <a:lnTo>
                    <a:pt x="523" y="4627"/>
                  </a:lnTo>
                  <a:lnTo>
                    <a:pt x="596" y="4626"/>
                  </a:lnTo>
                  <a:lnTo>
                    <a:pt x="675" y="4623"/>
                  </a:lnTo>
                  <a:lnTo>
                    <a:pt x="760" y="4615"/>
                  </a:lnTo>
                  <a:lnTo>
                    <a:pt x="851" y="4606"/>
                  </a:lnTo>
                  <a:lnTo>
                    <a:pt x="948" y="4591"/>
                  </a:lnTo>
                  <a:lnTo>
                    <a:pt x="1052" y="4573"/>
                  </a:lnTo>
                  <a:lnTo>
                    <a:pt x="1162" y="4551"/>
                  </a:lnTo>
                  <a:lnTo>
                    <a:pt x="1279" y="4524"/>
                  </a:lnTo>
                  <a:lnTo>
                    <a:pt x="1404" y="4492"/>
                  </a:lnTo>
                  <a:lnTo>
                    <a:pt x="1535" y="4454"/>
                  </a:lnTo>
                  <a:lnTo>
                    <a:pt x="1674" y="4411"/>
                  </a:lnTo>
                  <a:lnTo>
                    <a:pt x="1821" y="4362"/>
                  </a:lnTo>
                  <a:lnTo>
                    <a:pt x="1974" y="4307"/>
                  </a:lnTo>
                  <a:lnTo>
                    <a:pt x="2137" y="4245"/>
                  </a:lnTo>
                  <a:lnTo>
                    <a:pt x="2307" y="4177"/>
                  </a:lnTo>
                  <a:lnTo>
                    <a:pt x="2637" y="4040"/>
                  </a:lnTo>
                  <a:lnTo>
                    <a:pt x="2932" y="3915"/>
                  </a:lnTo>
                  <a:lnTo>
                    <a:pt x="3196" y="3803"/>
                  </a:lnTo>
                  <a:lnTo>
                    <a:pt x="3432" y="3703"/>
                  </a:lnTo>
                  <a:lnTo>
                    <a:pt x="3540" y="3658"/>
                  </a:lnTo>
                  <a:lnTo>
                    <a:pt x="3644" y="3615"/>
                  </a:lnTo>
                  <a:lnTo>
                    <a:pt x="3741" y="3575"/>
                  </a:lnTo>
                  <a:lnTo>
                    <a:pt x="3835" y="3537"/>
                  </a:lnTo>
                  <a:lnTo>
                    <a:pt x="3924" y="3502"/>
                  </a:lnTo>
                  <a:lnTo>
                    <a:pt x="4009" y="3470"/>
                  </a:lnTo>
                  <a:lnTo>
                    <a:pt x="4091" y="3440"/>
                  </a:lnTo>
                  <a:lnTo>
                    <a:pt x="4169" y="3413"/>
                  </a:lnTo>
                  <a:lnTo>
                    <a:pt x="4246" y="3387"/>
                  </a:lnTo>
                  <a:lnTo>
                    <a:pt x="4320" y="3364"/>
                  </a:lnTo>
                  <a:lnTo>
                    <a:pt x="4392" y="3344"/>
                  </a:lnTo>
                  <a:lnTo>
                    <a:pt x="4463" y="3325"/>
                  </a:lnTo>
                  <a:lnTo>
                    <a:pt x="4533" y="3309"/>
                  </a:lnTo>
                  <a:lnTo>
                    <a:pt x="4604" y="3295"/>
                  </a:lnTo>
                  <a:lnTo>
                    <a:pt x="4673" y="3282"/>
                  </a:lnTo>
                  <a:lnTo>
                    <a:pt x="4745" y="3272"/>
                  </a:lnTo>
                  <a:lnTo>
                    <a:pt x="4817" y="3263"/>
                  </a:lnTo>
                  <a:lnTo>
                    <a:pt x="4889" y="3256"/>
                  </a:lnTo>
                  <a:lnTo>
                    <a:pt x="4964" y="3251"/>
                  </a:lnTo>
                  <a:lnTo>
                    <a:pt x="5042" y="3247"/>
                  </a:lnTo>
                  <a:lnTo>
                    <a:pt x="5122" y="3245"/>
                  </a:lnTo>
                  <a:lnTo>
                    <a:pt x="5205" y="3245"/>
                  </a:lnTo>
                  <a:lnTo>
                    <a:pt x="5293" y="3246"/>
                  </a:lnTo>
                  <a:lnTo>
                    <a:pt x="5383" y="3249"/>
                  </a:lnTo>
                  <a:lnTo>
                    <a:pt x="5476" y="3251"/>
                  </a:lnTo>
                  <a:lnTo>
                    <a:pt x="5566" y="3252"/>
                  </a:lnTo>
                  <a:lnTo>
                    <a:pt x="5655" y="3251"/>
                  </a:lnTo>
                  <a:lnTo>
                    <a:pt x="5742" y="3247"/>
                  </a:lnTo>
                  <a:lnTo>
                    <a:pt x="5828" y="3244"/>
                  </a:lnTo>
                  <a:lnTo>
                    <a:pt x="5912" y="3238"/>
                  </a:lnTo>
                  <a:lnTo>
                    <a:pt x="5994" y="3232"/>
                  </a:lnTo>
                  <a:lnTo>
                    <a:pt x="6074" y="3222"/>
                  </a:lnTo>
                  <a:lnTo>
                    <a:pt x="6153" y="3212"/>
                  </a:lnTo>
                  <a:lnTo>
                    <a:pt x="6230" y="3199"/>
                  </a:lnTo>
                  <a:lnTo>
                    <a:pt x="6306" y="3185"/>
                  </a:lnTo>
                  <a:lnTo>
                    <a:pt x="6379" y="3170"/>
                  </a:lnTo>
                  <a:lnTo>
                    <a:pt x="6451" y="3152"/>
                  </a:lnTo>
                  <a:lnTo>
                    <a:pt x="6522" y="3133"/>
                  </a:lnTo>
                  <a:lnTo>
                    <a:pt x="6590" y="3112"/>
                  </a:lnTo>
                  <a:lnTo>
                    <a:pt x="6657" y="3089"/>
                  </a:lnTo>
                  <a:lnTo>
                    <a:pt x="6723" y="3063"/>
                  </a:lnTo>
                  <a:lnTo>
                    <a:pt x="6786" y="3036"/>
                  </a:lnTo>
                  <a:lnTo>
                    <a:pt x="6848" y="3008"/>
                  </a:lnTo>
                  <a:lnTo>
                    <a:pt x="6908" y="2977"/>
                  </a:lnTo>
                  <a:lnTo>
                    <a:pt x="6966" y="2944"/>
                  </a:lnTo>
                  <a:lnTo>
                    <a:pt x="7023" y="2910"/>
                  </a:lnTo>
                  <a:lnTo>
                    <a:pt x="7079" y="2873"/>
                  </a:lnTo>
                  <a:lnTo>
                    <a:pt x="7131" y="2834"/>
                  </a:lnTo>
                  <a:lnTo>
                    <a:pt x="7183" y="2793"/>
                  </a:lnTo>
                  <a:lnTo>
                    <a:pt x="7233" y="2750"/>
                  </a:lnTo>
                  <a:lnTo>
                    <a:pt x="7282" y="2706"/>
                  </a:lnTo>
                  <a:lnTo>
                    <a:pt x="7328" y="2658"/>
                  </a:lnTo>
                  <a:lnTo>
                    <a:pt x="7373" y="2609"/>
                  </a:lnTo>
                  <a:lnTo>
                    <a:pt x="7417" y="2557"/>
                  </a:lnTo>
                  <a:lnTo>
                    <a:pt x="7458" y="2504"/>
                  </a:lnTo>
                  <a:lnTo>
                    <a:pt x="7498" y="2448"/>
                  </a:lnTo>
                  <a:lnTo>
                    <a:pt x="7515" y="2453"/>
                  </a:lnTo>
                  <a:lnTo>
                    <a:pt x="7562" y="2467"/>
                  </a:lnTo>
                  <a:lnTo>
                    <a:pt x="7597" y="2476"/>
                  </a:lnTo>
                  <a:lnTo>
                    <a:pt x="7639" y="2486"/>
                  </a:lnTo>
                  <a:lnTo>
                    <a:pt x="7687" y="2496"/>
                  </a:lnTo>
                  <a:lnTo>
                    <a:pt x="7743" y="2506"/>
                  </a:lnTo>
                  <a:lnTo>
                    <a:pt x="7805" y="2515"/>
                  </a:lnTo>
                  <a:lnTo>
                    <a:pt x="7874" y="2524"/>
                  </a:lnTo>
                  <a:lnTo>
                    <a:pt x="7948" y="2531"/>
                  </a:lnTo>
                  <a:lnTo>
                    <a:pt x="8028" y="2535"/>
                  </a:lnTo>
                  <a:lnTo>
                    <a:pt x="8115" y="2538"/>
                  </a:lnTo>
                  <a:lnTo>
                    <a:pt x="8205" y="2538"/>
                  </a:lnTo>
                  <a:lnTo>
                    <a:pt x="8302" y="2535"/>
                  </a:lnTo>
                  <a:lnTo>
                    <a:pt x="8403" y="2528"/>
                  </a:lnTo>
                  <a:lnTo>
                    <a:pt x="8510" y="2516"/>
                  </a:lnTo>
                  <a:lnTo>
                    <a:pt x="8620" y="2501"/>
                  </a:lnTo>
                  <a:lnTo>
                    <a:pt x="8734" y="2480"/>
                  </a:lnTo>
                  <a:lnTo>
                    <a:pt x="8853" y="2454"/>
                  </a:lnTo>
                  <a:lnTo>
                    <a:pt x="8975" y="2421"/>
                  </a:lnTo>
                  <a:lnTo>
                    <a:pt x="9102" y="2384"/>
                  </a:lnTo>
                  <a:lnTo>
                    <a:pt x="9231" y="2338"/>
                  </a:lnTo>
                  <a:lnTo>
                    <a:pt x="9364" y="2286"/>
                  </a:lnTo>
                  <a:lnTo>
                    <a:pt x="9500" y="2226"/>
                  </a:lnTo>
                  <a:lnTo>
                    <a:pt x="9638" y="2157"/>
                  </a:lnTo>
                  <a:lnTo>
                    <a:pt x="9778" y="2081"/>
                  </a:lnTo>
                  <a:lnTo>
                    <a:pt x="9921" y="1994"/>
                  </a:lnTo>
                  <a:lnTo>
                    <a:pt x="10066" y="1898"/>
                  </a:lnTo>
                  <a:lnTo>
                    <a:pt x="10213" y="1793"/>
                  </a:lnTo>
                  <a:lnTo>
                    <a:pt x="10361" y="1678"/>
                  </a:lnTo>
                  <a:lnTo>
                    <a:pt x="10511" y="1551"/>
                  </a:lnTo>
                  <a:lnTo>
                    <a:pt x="10525" y="1553"/>
                  </a:lnTo>
                  <a:lnTo>
                    <a:pt x="10566" y="1560"/>
                  </a:lnTo>
                  <a:lnTo>
                    <a:pt x="10634" y="1569"/>
                  </a:lnTo>
                  <a:lnTo>
                    <a:pt x="10725" y="1580"/>
                  </a:lnTo>
                  <a:lnTo>
                    <a:pt x="10779" y="1586"/>
                  </a:lnTo>
                  <a:lnTo>
                    <a:pt x="10838" y="1591"/>
                  </a:lnTo>
                  <a:lnTo>
                    <a:pt x="10902" y="1596"/>
                  </a:lnTo>
                  <a:lnTo>
                    <a:pt x="10972" y="1602"/>
                  </a:lnTo>
                  <a:lnTo>
                    <a:pt x="11045" y="1606"/>
                  </a:lnTo>
                  <a:lnTo>
                    <a:pt x="11123" y="1610"/>
                  </a:lnTo>
                  <a:lnTo>
                    <a:pt x="11206" y="1613"/>
                  </a:lnTo>
                  <a:lnTo>
                    <a:pt x="11292" y="1615"/>
                  </a:lnTo>
                  <a:lnTo>
                    <a:pt x="11381" y="1616"/>
                  </a:lnTo>
                  <a:lnTo>
                    <a:pt x="11474" y="1615"/>
                  </a:lnTo>
                  <a:lnTo>
                    <a:pt x="11571" y="1614"/>
                  </a:lnTo>
                  <a:lnTo>
                    <a:pt x="11670" y="1610"/>
                  </a:lnTo>
                  <a:lnTo>
                    <a:pt x="11772" y="1605"/>
                  </a:lnTo>
                  <a:lnTo>
                    <a:pt x="11876" y="1599"/>
                  </a:lnTo>
                  <a:lnTo>
                    <a:pt x="11983" y="1589"/>
                  </a:lnTo>
                  <a:lnTo>
                    <a:pt x="12092" y="1579"/>
                  </a:lnTo>
                  <a:lnTo>
                    <a:pt x="12203" y="1565"/>
                  </a:lnTo>
                  <a:lnTo>
                    <a:pt x="12315" y="1548"/>
                  </a:lnTo>
                  <a:lnTo>
                    <a:pt x="12429" y="1530"/>
                  </a:lnTo>
                  <a:lnTo>
                    <a:pt x="12544" y="1508"/>
                  </a:lnTo>
                  <a:lnTo>
                    <a:pt x="12660" y="1484"/>
                  </a:lnTo>
                  <a:lnTo>
                    <a:pt x="12776" y="1457"/>
                  </a:lnTo>
                  <a:lnTo>
                    <a:pt x="12893" y="1425"/>
                  </a:lnTo>
                  <a:lnTo>
                    <a:pt x="13010" y="1391"/>
                  </a:lnTo>
                  <a:lnTo>
                    <a:pt x="13125" y="1358"/>
                  </a:lnTo>
                  <a:lnTo>
                    <a:pt x="13236" y="1328"/>
                  </a:lnTo>
                  <a:lnTo>
                    <a:pt x="13343" y="1302"/>
                  </a:lnTo>
                  <a:lnTo>
                    <a:pt x="13446" y="1281"/>
                  </a:lnTo>
                  <a:lnTo>
                    <a:pt x="13545" y="1263"/>
                  </a:lnTo>
                  <a:lnTo>
                    <a:pt x="13641" y="1248"/>
                  </a:lnTo>
                  <a:lnTo>
                    <a:pt x="13733" y="1238"/>
                  </a:lnTo>
                  <a:lnTo>
                    <a:pt x="13821" y="1229"/>
                  </a:lnTo>
                  <a:lnTo>
                    <a:pt x="13907" y="1224"/>
                  </a:lnTo>
                  <a:lnTo>
                    <a:pt x="13988" y="1222"/>
                  </a:lnTo>
                  <a:lnTo>
                    <a:pt x="14066" y="1222"/>
                  </a:lnTo>
                  <a:lnTo>
                    <a:pt x="14140" y="1224"/>
                  </a:lnTo>
                  <a:lnTo>
                    <a:pt x="14212" y="1228"/>
                  </a:lnTo>
                  <a:lnTo>
                    <a:pt x="14280" y="1234"/>
                  </a:lnTo>
                  <a:lnTo>
                    <a:pt x="14346" y="1242"/>
                  </a:lnTo>
                  <a:lnTo>
                    <a:pt x="14408" y="1251"/>
                  </a:lnTo>
                  <a:lnTo>
                    <a:pt x="14467" y="1261"/>
                  </a:lnTo>
                  <a:lnTo>
                    <a:pt x="14524" y="1272"/>
                  </a:lnTo>
                  <a:lnTo>
                    <a:pt x="14577" y="1285"/>
                  </a:lnTo>
                  <a:lnTo>
                    <a:pt x="14629" y="1298"/>
                  </a:lnTo>
                  <a:lnTo>
                    <a:pt x="14677" y="1310"/>
                  </a:lnTo>
                  <a:lnTo>
                    <a:pt x="14724" y="1324"/>
                  </a:lnTo>
                  <a:lnTo>
                    <a:pt x="14767" y="1338"/>
                  </a:lnTo>
                  <a:lnTo>
                    <a:pt x="14808" y="1350"/>
                  </a:lnTo>
                  <a:lnTo>
                    <a:pt x="14884" y="1376"/>
                  </a:lnTo>
                  <a:lnTo>
                    <a:pt x="14950" y="1397"/>
                  </a:lnTo>
                  <a:lnTo>
                    <a:pt x="14981" y="1406"/>
                  </a:lnTo>
                  <a:lnTo>
                    <a:pt x="15009" y="1413"/>
                  </a:lnTo>
                  <a:lnTo>
                    <a:pt x="15036" y="1419"/>
                  </a:lnTo>
                  <a:lnTo>
                    <a:pt x="15061" y="1423"/>
                  </a:lnTo>
                  <a:lnTo>
                    <a:pt x="15073" y="1425"/>
                  </a:lnTo>
                  <a:lnTo>
                    <a:pt x="15109" y="1430"/>
                  </a:lnTo>
                  <a:lnTo>
                    <a:pt x="15166" y="1438"/>
                  </a:lnTo>
                  <a:lnTo>
                    <a:pt x="15241" y="1447"/>
                  </a:lnTo>
                  <a:lnTo>
                    <a:pt x="15284" y="1451"/>
                  </a:lnTo>
                  <a:lnTo>
                    <a:pt x="15330" y="1454"/>
                  </a:lnTo>
                  <a:lnTo>
                    <a:pt x="15380" y="1459"/>
                  </a:lnTo>
                  <a:lnTo>
                    <a:pt x="15433" y="1462"/>
                  </a:lnTo>
                  <a:lnTo>
                    <a:pt x="15487" y="1465"/>
                  </a:lnTo>
                  <a:lnTo>
                    <a:pt x="15544" y="1466"/>
                  </a:lnTo>
                  <a:lnTo>
                    <a:pt x="15602" y="1467"/>
                  </a:lnTo>
                  <a:lnTo>
                    <a:pt x="15662" y="1467"/>
                  </a:lnTo>
                  <a:lnTo>
                    <a:pt x="15722" y="1466"/>
                  </a:lnTo>
                  <a:lnTo>
                    <a:pt x="15783" y="1463"/>
                  </a:lnTo>
                  <a:lnTo>
                    <a:pt x="15844" y="1459"/>
                  </a:lnTo>
                  <a:lnTo>
                    <a:pt x="15905" y="1452"/>
                  </a:lnTo>
                  <a:lnTo>
                    <a:pt x="15966" y="1445"/>
                  </a:lnTo>
                  <a:lnTo>
                    <a:pt x="16026" y="1435"/>
                  </a:lnTo>
                  <a:lnTo>
                    <a:pt x="16085" y="1424"/>
                  </a:lnTo>
                  <a:lnTo>
                    <a:pt x="16142" y="1409"/>
                  </a:lnTo>
                  <a:lnTo>
                    <a:pt x="16198" y="1393"/>
                  </a:lnTo>
                  <a:lnTo>
                    <a:pt x="16251" y="1374"/>
                  </a:lnTo>
                  <a:lnTo>
                    <a:pt x="16301" y="1352"/>
                  </a:lnTo>
                  <a:lnTo>
                    <a:pt x="16349" y="1328"/>
                  </a:lnTo>
                  <a:lnTo>
                    <a:pt x="16393" y="1301"/>
                  </a:lnTo>
                  <a:lnTo>
                    <a:pt x="16434" y="1270"/>
                  </a:lnTo>
                  <a:lnTo>
                    <a:pt x="16471" y="1237"/>
                  </a:lnTo>
                  <a:lnTo>
                    <a:pt x="16502" y="1199"/>
                  </a:lnTo>
                  <a:lnTo>
                    <a:pt x="16488" y="1185"/>
                  </a:lnTo>
                  <a:lnTo>
                    <a:pt x="16443" y="1146"/>
                  </a:lnTo>
                  <a:lnTo>
                    <a:pt x="16410" y="1119"/>
                  </a:lnTo>
                  <a:lnTo>
                    <a:pt x="16368" y="1086"/>
                  </a:lnTo>
                  <a:lnTo>
                    <a:pt x="16319" y="1049"/>
                  </a:lnTo>
                  <a:lnTo>
                    <a:pt x="16263" y="1009"/>
                  </a:lnTo>
                  <a:lnTo>
                    <a:pt x="16200" y="966"/>
                  </a:lnTo>
                  <a:lnTo>
                    <a:pt x="16129" y="920"/>
                  </a:lnTo>
                  <a:lnTo>
                    <a:pt x="16051" y="871"/>
                  </a:lnTo>
                  <a:lnTo>
                    <a:pt x="15964" y="821"/>
                  </a:lnTo>
                  <a:lnTo>
                    <a:pt x="15871" y="770"/>
                  </a:lnTo>
                  <a:lnTo>
                    <a:pt x="15771" y="718"/>
                  </a:lnTo>
                  <a:lnTo>
                    <a:pt x="15662" y="666"/>
                  </a:lnTo>
                  <a:lnTo>
                    <a:pt x="15546" y="614"/>
                  </a:lnTo>
                  <a:lnTo>
                    <a:pt x="15423" y="563"/>
                  </a:lnTo>
                  <a:lnTo>
                    <a:pt x="15292" y="514"/>
                  </a:lnTo>
                  <a:lnTo>
                    <a:pt x="15155" y="465"/>
                  </a:lnTo>
                  <a:lnTo>
                    <a:pt x="15009" y="420"/>
                  </a:lnTo>
                  <a:lnTo>
                    <a:pt x="14857" y="377"/>
                  </a:lnTo>
                  <a:lnTo>
                    <a:pt x="14696" y="338"/>
                  </a:lnTo>
                  <a:lnTo>
                    <a:pt x="14529" y="302"/>
                  </a:lnTo>
                  <a:lnTo>
                    <a:pt x="14354" y="271"/>
                  </a:lnTo>
                  <a:lnTo>
                    <a:pt x="14172" y="244"/>
                  </a:lnTo>
                  <a:lnTo>
                    <a:pt x="13982" y="223"/>
                  </a:lnTo>
                  <a:lnTo>
                    <a:pt x="13786" y="209"/>
                  </a:lnTo>
                  <a:lnTo>
                    <a:pt x="13580" y="199"/>
                  </a:lnTo>
                  <a:lnTo>
                    <a:pt x="13369" y="198"/>
                  </a:lnTo>
                  <a:lnTo>
                    <a:pt x="13149" y="203"/>
                  </a:lnTo>
                  <a:lnTo>
                    <a:pt x="12923" y="217"/>
                  </a:lnTo>
                  <a:lnTo>
                    <a:pt x="12689" y="238"/>
                  </a:lnTo>
                  <a:lnTo>
                    <a:pt x="12479" y="262"/>
                  </a:lnTo>
                  <a:lnTo>
                    <a:pt x="12282" y="286"/>
                  </a:lnTo>
                  <a:lnTo>
                    <a:pt x="12100" y="310"/>
                  </a:lnTo>
                  <a:lnTo>
                    <a:pt x="11929" y="333"/>
                  </a:lnTo>
                  <a:lnTo>
                    <a:pt x="11772" y="355"/>
                  </a:lnTo>
                  <a:lnTo>
                    <a:pt x="11626" y="377"/>
                  </a:lnTo>
                  <a:lnTo>
                    <a:pt x="11491" y="397"/>
                  </a:lnTo>
                  <a:lnTo>
                    <a:pt x="11366" y="417"/>
                  </a:lnTo>
                  <a:lnTo>
                    <a:pt x="11141" y="452"/>
                  </a:lnTo>
                  <a:lnTo>
                    <a:pt x="10949" y="481"/>
                  </a:lnTo>
                  <a:lnTo>
                    <a:pt x="10862" y="493"/>
                  </a:lnTo>
                  <a:lnTo>
                    <a:pt x="10781" y="502"/>
                  </a:lnTo>
                  <a:lnTo>
                    <a:pt x="10705" y="511"/>
                  </a:lnTo>
                  <a:lnTo>
                    <a:pt x="10634" y="516"/>
                  </a:lnTo>
                  <a:lnTo>
                    <a:pt x="10564" y="518"/>
                  </a:lnTo>
                  <a:lnTo>
                    <a:pt x="10498" y="519"/>
                  </a:lnTo>
                  <a:lnTo>
                    <a:pt x="10434" y="516"/>
                  </a:lnTo>
                  <a:lnTo>
                    <a:pt x="10369" y="511"/>
                  </a:lnTo>
                  <a:lnTo>
                    <a:pt x="10306" y="502"/>
                  </a:lnTo>
                  <a:lnTo>
                    <a:pt x="10243" y="491"/>
                  </a:lnTo>
                  <a:lnTo>
                    <a:pt x="10178" y="476"/>
                  </a:lnTo>
                  <a:lnTo>
                    <a:pt x="10111" y="458"/>
                  </a:lnTo>
                  <a:lnTo>
                    <a:pt x="10042" y="436"/>
                  </a:lnTo>
                  <a:lnTo>
                    <a:pt x="9968" y="410"/>
                  </a:lnTo>
                  <a:lnTo>
                    <a:pt x="9891" y="380"/>
                  </a:lnTo>
                  <a:lnTo>
                    <a:pt x="9809" y="346"/>
                  </a:lnTo>
                  <a:lnTo>
                    <a:pt x="9722" y="307"/>
                  </a:lnTo>
                  <a:lnTo>
                    <a:pt x="9627" y="265"/>
                  </a:lnTo>
                  <a:lnTo>
                    <a:pt x="9526" y="218"/>
                  </a:lnTo>
                  <a:lnTo>
                    <a:pt x="9416" y="166"/>
                  </a:lnTo>
                  <a:lnTo>
                    <a:pt x="9417" y="165"/>
                  </a:lnTo>
                  <a:lnTo>
                    <a:pt x="9417" y="164"/>
                  </a:lnTo>
                  <a:lnTo>
                    <a:pt x="9401" y="189"/>
                  </a:lnTo>
                  <a:lnTo>
                    <a:pt x="9380" y="216"/>
                  </a:lnTo>
                  <a:lnTo>
                    <a:pt x="9355" y="246"/>
                  </a:lnTo>
                  <a:lnTo>
                    <a:pt x="9327" y="280"/>
                  </a:lnTo>
                  <a:lnTo>
                    <a:pt x="9295" y="317"/>
                  </a:lnTo>
                  <a:lnTo>
                    <a:pt x="9258" y="356"/>
                  </a:lnTo>
                  <a:lnTo>
                    <a:pt x="9218" y="396"/>
                  </a:lnTo>
                  <a:lnTo>
                    <a:pt x="9173" y="439"/>
                  </a:lnTo>
                  <a:lnTo>
                    <a:pt x="9125" y="482"/>
                  </a:lnTo>
                  <a:lnTo>
                    <a:pt x="9071" y="527"/>
                  </a:lnTo>
                  <a:lnTo>
                    <a:pt x="9013" y="573"/>
                  </a:lnTo>
                  <a:lnTo>
                    <a:pt x="8950" y="619"/>
                  </a:lnTo>
                  <a:lnTo>
                    <a:pt x="8882" y="665"/>
                  </a:lnTo>
                  <a:lnTo>
                    <a:pt x="8810" y="710"/>
                  </a:lnTo>
                  <a:lnTo>
                    <a:pt x="8732" y="756"/>
                  </a:lnTo>
                  <a:lnTo>
                    <a:pt x="8650" y="801"/>
                  </a:lnTo>
                  <a:lnTo>
                    <a:pt x="8561" y="844"/>
                  </a:lnTo>
                  <a:lnTo>
                    <a:pt x="8468" y="885"/>
                  </a:lnTo>
                  <a:lnTo>
                    <a:pt x="8369" y="925"/>
                  </a:lnTo>
                  <a:lnTo>
                    <a:pt x="8264" y="963"/>
                  </a:lnTo>
                  <a:lnTo>
                    <a:pt x="8155" y="999"/>
                  </a:lnTo>
                  <a:lnTo>
                    <a:pt x="8039" y="1031"/>
                  </a:lnTo>
                  <a:lnTo>
                    <a:pt x="7917" y="1061"/>
                  </a:lnTo>
                  <a:lnTo>
                    <a:pt x="7789" y="1087"/>
                  </a:lnTo>
                  <a:lnTo>
                    <a:pt x="7655" y="1109"/>
                  </a:lnTo>
                  <a:lnTo>
                    <a:pt x="7515" y="1127"/>
                  </a:lnTo>
                  <a:lnTo>
                    <a:pt x="7368" y="1142"/>
                  </a:lnTo>
                  <a:lnTo>
                    <a:pt x="7215" y="1151"/>
                  </a:lnTo>
                  <a:lnTo>
                    <a:pt x="7055" y="1156"/>
                  </a:lnTo>
                  <a:lnTo>
                    <a:pt x="6889" y="1155"/>
                  </a:lnTo>
                  <a:lnTo>
                    <a:pt x="6716" y="1147"/>
                  </a:lnTo>
                  <a:lnTo>
                    <a:pt x="6536" y="1135"/>
                  </a:lnTo>
                  <a:lnTo>
                    <a:pt x="6324" y="1120"/>
                  </a:lnTo>
                  <a:lnTo>
                    <a:pt x="6112" y="1112"/>
                  </a:lnTo>
                  <a:lnTo>
                    <a:pt x="5901" y="1111"/>
                  </a:lnTo>
                  <a:lnTo>
                    <a:pt x="5691" y="1118"/>
                  </a:lnTo>
                  <a:lnTo>
                    <a:pt x="5482" y="1130"/>
                  </a:lnTo>
                  <a:lnTo>
                    <a:pt x="5275" y="1149"/>
                  </a:lnTo>
                  <a:lnTo>
                    <a:pt x="5068" y="1176"/>
                  </a:lnTo>
                  <a:lnTo>
                    <a:pt x="4863" y="1208"/>
                  </a:lnTo>
                  <a:lnTo>
                    <a:pt x="4660" y="1246"/>
                  </a:lnTo>
                  <a:lnTo>
                    <a:pt x="4459" y="1291"/>
                  </a:lnTo>
                  <a:lnTo>
                    <a:pt x="4258" y="1343"/>
                  </a:lnTo>
                  <a:lnTo>
                    <a:pt x="4061" y="1401"/>
                  </a:lnTo>
                  <a:lnTo>
                    <a:pt x="3865" y="1465"/>
                  </a:lnTo>
                  <a:lnTo>
                    <a:pt x="3671" y="1534"/>
                  </a:lnTo>
                  <a:lnTo>
                    <a:pt x="3479" y="1610"/>
                  </a:lnTo>
                  <a:lnTo>
                    <a:pt x="3290" y="1691"/>
                  </a:lnTo>
                  <a:lnTo>
                    <a:pt x="3103" y="1779"/>
                  </a:lnTo>
                  <a:lnTo>
                    <a:pt x="2919" y="1872"/>
                  </a:lnTo>
                  <a:lnTo>
                    <a:pt x="2738" y="1970"/>
                  </a:lnTo>
                  <a:lnTo>
                    <a:pt x="2559" y="2074"/>
                  </a:lnTo>
                  <a:lnTo>
                    <a:pt x="2383" y="2185"/>
                  </a:lnTo>
                  <a:lnTo>
                    <a:pt x="2210" y="2299"/>
                  </a:lnTo>
                  <a:lnTo>
                    <a:pt x="2041" y="2419"/>
                  </a:lnTo>
                  <a:lnTo>
                    <a:pt x="1874" y="2546"/>
                  </a:lnTo>
                  <a:lnTo>
                    <a:pt x="1711" y="2676"/>
                  </a:lnTo>
                  <a:lnTo>
                    <a:pt x="1551" y="2812"/>
                  </a:lnTo>
                  <a:lnTo>
                    <a:pt x="1395" y="2953"/>
                  </a:lnTo>
                  <a:lnTo>
                    <a:pt x="1243" y="3098"/>
                  </a:lnTo>
                  <a:lnTo>
                    <a:pt x="1094" y="3249"/>
                  </a:lnTo>
                  <a:lnTo>
                    <a:pt x="950" y="3404"/>
                  </a:lnTo>
                  <a:lnTo>
                    <a:pt x="809" y="3564"/>
                  </a:lnTo>
                  <a:lnTo>
                    <a:pt x="673" y="3728"/>
                  </a:lnTo>
                  <a:lnTo>
                    <a:pt x="606" y="3810"/>
                  </a:lnTo>
                  <a:lnTo>
                    <a:pt x="544" y="3886"/>
                  </a:lnTo>
                  <a:lnTo>
                    <a:pt x="486" y="3957"/>
                  </a:lnTo>
                  <a:lnTo>
                    <a:pt x="433" y="4022"/>
                  </a:lnTo>
                  <a:lnTo>
                    <a:pt x="382" y="4082"/>
                  </a:lnTo>
                  <a:lnTo>
                    <a:pt x="336" y="4137"/>
                  </a:lnTo>
                  <a:lnTo>
                    <a:pt x="293" y="4187"/>
                  </a:lnTo>
                  <a:lnTo>
                    <a:pt x="253" y="4233"/>
                  </a:lnTo>
                  <a:lnTo>
                    <a:pt x="215" y="4276"/>
                  </a:lnTo>
                  <a:lnTo>
                    <a:pt x="181" y="4313"/>
                  </a:lnTo>
                  <a:lnTo>
                    <a:pt x="150" y="4347"/>
                  </a:lnTo>
                  <a:lnTo>
                    <a:pt x="122" y="4377"/>
                  </a:lnTo>
                  <a:lnTo>
                    <a:pt x="97" y="4403"/>
                  </a:lnTo>
                  <a:lnTo>
                    <a:pt x="74" y="4426"/>
                  </a:lnTo>
                  <a:lnTo>
                    <a:pt x="53" y="4447"/>
                  </a:lnTo>
                  <a:lnTo>
                    <a:pt x="35" y="4464"/>
                  </a:lnTo>
                  <a:lnTo>
                    <a:pt x="27" y="4469"/>
                  </a:lnTo>
                  <a:lnTo>
                    <a:pt x="21" y="4473"/>
                  </a:lnTo>
                  <a:lnTo>
                    <a:pt x="15" y="4478"/>
                  </a:lnTo>
                  <a:lnTo>
                    <a:pt x="7" y="4480"/>
                  </a:lnTo>
                  <a:lnTo>
                    <a:pt x="0" y="4498"/>
                  </a:lnTo>
                  <a:close/>
                  <a:moveTo>
                    <a:pt x="9421" y="0"/>
                  </a:moveTo>
                  <a:lnTo>
                    <a:pt x="9424" y="12"/>
                  </a:lnTo>
                  <a:lnTo>
                    <a:pt x="9427" y="23"/>
                  </a:lnTo>
                  <a:lnTo>
                    <a:pt x="9430" y="34"/>
                  </a:lnTo>
                  <a:lnTo>
                    <a:pt x="9433" y="45"/>
                  </a:lnTo>
                  <a:lnTo>
                    <a:pt x="9430" y="34"/>
                  </a:lnTo>
                  <a:lnTo>
                    <a:pt x="9427" y="23"/>
                  </a:lnTo>
                  <a:lnTo>
                    <a:pt x="9424" y="12"/>
                  </a:lnTo>
                  <a:lnTo>
                    <a:pt x="9421" y="0"/>
                  </a:lnTo>
                  <a:close/>
                  <a:moveTo>
                    <a:pt x="9435" y="53"/>
                  </a:moveTo>
                  <a:lnTo>
                    <a:pt x="9440" y="68"/>
                  </a:lnTo>
                  <a:lnTo>
                    <a:pt x="9444" y="81"/>
                  </a:lnTo>
                  <a:lnTo>
                    <a:pt x="9448" y="96"/>
                  </a:lnTo>
                  <a:lnTo>
                    <a:pt x="9453" y="110"/>
                  </a:lnTo>
                  <a:lnTo>
                    <a:pt x="9448" y="96"/>
                  </a:lnTo>
                  <a:lnTo>
                    <a:pt x="9444" y="81"/>
                  </a:lnTo>
                  <a:lnTo>
                    <a:pt x="9440" y="68"/>
                  </a:lnTo>
                  <a:lnTo>
                    <a:pt x="9435" y="53"/>
                  </a:lnTo>
                  <a:close/>
                  <a:moveTo>
                    <a:pt x="9451" y="113"/>
                  </a:moveTo>
                  <a:lnTo>
                    <a:pt x="9451" y="113"/>
                  </a:lnTo>
                  <a:lnTo>
                    <a:pt x="9451" y="114"/>
                  </a:lnTo>
                  <a:lnTo>
                    <a:pt x="9451" y="113"/>
                  </a:lnTo>
                  <a:close/>
                  <a:moveTo>
                    <a:pt x="9448" y="119"/>
                  </a:moveTo>
                  <a:lnTo>
                    <a:pt x="9447" y="120"/>
                  </a:lnTo>
                  <a:lnTo>
                    <a:pt x="9447" y="121"/>
                  </a:lnTo>
                  <a:lnTo>
                    <a:pt x="9447" y="120"/>
                  </a:lnTo>
                  <a:lnTo>
                    <a:pt x="9448" y="119"/>
                  </a:lnTo>
                  <a:close/>
                  <a:moveTo>
                    <a:pt x="9444" y="125"/>
                  </a:moveTo>
                  <a:lnTo>
                    <a:pt x="9443" y="128"/>
                  </a:lnTo>
                  <a:lnTo>
                    <a:pt x="9441" y="130"/>
                  </a:lnTo>
                  <a:lnTo>
                    <a:pt x="9443" y="128"/>
                  </a:lnTo>
                  <a:lnTo>
                    <a:pt x="9444" y="125"/>
                  </a:lnTo>
                  <a:close/>
                  <a:moveTo>
                    <a:pt x="9439" y="134"/>
                  </a:moveTo>
                  <a:lnTo>
                    <a:pt x="9437" y="135"/>
                  </a:lnTo>
                  <a:lnTo>
                    <a:pt x="9436" y="136"/>
                  </a:lnTo>
                  <a:lnTo>
                    <a:pt x="9437" y="135"/>
                  </a:lnTo>
                  <a:lnTo>
                    <a:pt x="9439" y="134"/>
                  </a:lnTo>
                  <a:close/>
                  <a:moveTo>
                    <a:pt x="9432" y="144"/>
                  </a:moveTo>
                  <a:lnTo>
                    <a:pt x="9431" y="145"/>
                  </a:lnTo>
                  <a:lnTo>
                    <a:pt x="9430" y="146"/>
                  </a:lnTo>
                  <a:lnTo>
                    <a:pt x="9431" y="145"/>
                  </a:lnTo>
                  <a:lnTo>
                    <a:pt x="9432" y="144"/>
                  </a:lnTo>
                  <a:close/>
                </a:path>
              </a:pathLst>
            </a:custGeom>
            <a:gradFill rotWithShape="0">
              <a:gsLst>
                <a:gs pos="0">
                  <a:srgbClr val="260c05"/>
                </a:gs>
                <a:gs pos="100000">
                  <a:srgbClr val="5219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Text Box 19"/>
          <p:cNvSpPr/>
          <p:nvPr/>
        </p:nvSpPr>
        <p:spPr>
          <a:xfrm>
            <a:off x="6985080" y="1955880"/>
            <a:ext cx="215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ode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7002360" y="3211560"/>
            <a:ext cx="16081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ju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985080" y="4734000"/>
            <a:ext cx="1384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l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2"/>
          <p:cNvSpPr/>
          <p:nvPr/>
        </p:nvSpPr>
        <p:spPr>
          <a:xfrm rot="21526200">
            <a:off x="6594120" y="909720"/>
            <a:ext cx="1363680" cy="1019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929" h="573">
                <a:moveTo>
                  <a:pt x="305" y="0"/>
                </a:moveTo>
                <a:lnTo>
                  <a:pt x="303" y="23"/>
                </a:lnTo>
                <a:lnTo>
                  <a:pt x="301" y="44"/>
                </a:lnTo>
                <a:lnTo>
                  <a:pt x="296" y="67"/>
                </a:lnTo>
                <a:lnTo>
                  <a:pt x="290" y="89"/>
                </a:lnTo>
                <a:lnTo>
                  <a:pt x="284" y="109"/>
                </a:lnTo>
                <a:lnTo>
                  <a:pt x="278" y="131"/>
                </a:lnTo>
                <a:lnTo>
                  <a:pt x="269" y="152"/>
                </a:lnTo>
                <a:lnTo>
                  <a:pt x="260" y="172"/>
                </a:lnTo>
                <a:lnTo>
                  <a:pt x="250" y="190"/>
                </a:lnTo>
                <a:lnTo>
                  <a:pt x="239" y="209"/>
                </a:lnTo>
                <a:lnTo>
                  <a:pt x="225" y="225"/>
                </a:lnTo>
                <a:lnTo>
                  <a:pt x="213" y="241"/>
                </a:lnTo>
                <a:lnTo>
                  <a:pt x="198" y="256"/>
                </a:lnTo>
                <a:lnTo>
                  <a:pt x="183" y="268"/>
                </a:lnTo>
                <a:lnTo>
                  <a:pt x="167" y="281"/>
                </a:lnTo>
                <a:lnTo>
                  <a:pt x="151" y="290"/>
                </a:lnTo>
                <a:lnTo>
                  <a:pt x="133" y="298"/>
                </a:lnTo>
                <a:lnTo>
                  <a:pt x="115" y="303"/>
                </a:lnTo>
                <a:lnTo>
                  <a:pt x="96" y="308"/>
                </a:lnTo>
                <a:lnTo>
                  <a:pt x="76" y="309"/>
                </a:lnTo>
                <a:lnTo>
                  <a:pt x="57" y="309"/>
                </a:lnTo>
                <a:lnTo>
                  <a:pt x="36" y="306"/>
                </a:lnTo>
                <a:lnTo>
                  <a:pt x="14" y="301"/>
                </a:lnTo>
                <a:lnTo>
                  <a:pt x="9" y="319"/>
                </a:lnTo>
                <a:lnTo>
                  <a:pt x="2" y="364"/>
                </a:lnTo>
                <a:lnTo>
                  <a:pt x="0" y="394"/>
                </a:lnTo>
                <a:lnTo>
                  <a:pt x="3" y="422"/>
                </a:lnTo>
                <a:lnTo>
                  <a:pt x="4" y="436"/>
                </a:lnTo>
                <a:lnTo>
                  <a:pt x="8" y="450"/>
                </a:lnTo>
                <a:lnTo>
                  <a:pt x="13" y="463"/>
                </a:lnTo>
                <a:lnTo>
                  <a:pt x="21" y="474"/>
                </a:lnTo>
                <a:lnTo>
                  <a:pt x="32" y="491"/>
                </a:lnTo>
                <a:lnTo>
                  <a:pt x="48" y="505"/>
                </a:lnTo>
                <a:lnTo>
                  <a:pt x="68" y="518"/>
                </a:lnTo>
                <a:lnTo>
                  <a:pt x="91" y="531"/>
                </a:lnTo>
                <a:lnTo>
                  <a:pt x="117" y="541"/>
                </a:lnTo>
                <a:lnTo>
                  <a:pt x="144" y="551"/>
                </a:lnTo>
                <a:lnTo>
                  <a:pt x="175" y="560"/>
                </a:lnTo>
                <a:lnTo>
                  <a:pt x="207" y="566"/>
                </a:lnTo>
                <a:lnTo>
                  <a:pt x="243" y="570"/>
                </a:lnTo>
                <a:lnTo>
                  <a:pt x="279" y="571"/>
                </a:lnTo>
                <a:lnTo>
                  <a:pt x="318" y="573"/>
                </a:lnTo>
                <a:lnTo>
                  <a:pt x="357" y="570"/>
                </a:lnTo>
                <a:lnTo>
                  <a:pt x="396" y="566"/>
                </a:lnTo>
                <a:lnTo>
                  <a:pt x="437" y="560"/>
                </a:lnTo>
                <a:lnTo>
                  <a:pt x="478" y="549"/>
                </a:lnTo>
                <a:lnTo>
                  <a:pt x="518" y="536"/>
                </a:lnTo>
                <a:lnTo>
                  <a:pt x="558" y="520"/>
                </a:lnTo>
                <a:lnTo>
                  <a:pt x="599" y="502"/>
                </a:lnTo>
                <a:lnTo>
                  <a:pt x="638" y="479"/>
                </a:lnTo>
                <a:lnTo>
                  <a:pt x="676" y="453"/>
                </a:lnTo>
                <a:lnTo>
                  <a:pt x="713" y="424"/>
                </a:lnTo>
                <a:lnTo>
                  <a:pt x="749" y="390"/>
                </a:lnTo>
                <a:lnTo>
                  <a:pt x="781" y="354"/>
                </a:lnTo>
                <a:lnTo>
                  <a:pt x="814" y="313"/>
                </a:lnTo>
                <a:lnTo>
                  <a:pt x="843" y="267"/>
                </a:lnTo>
                <a:lnTo>
                  <a:pt x="869" y="218"/>
                </a:lnTo>
                <a:lnTo>
                  <a:pt x="892" y="163"/>
                </a:lnTo>
                <a:lnTo>
                  <a:pt x="913" y="106"/>
                </a:lnTo>
                <a:lnTo>
                  <a:pt x="929" y="41"/>
                </a:lnTo>
                <a:lnTo>
                  <a:pt x="305" y="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3"/>
          <p:cNvSpPr/>
          <p:nvPr/>
        </p:nvSpPr>
        <p:spPr>
          <a:xfrm>
            <a:off x="6566040" y="681120"/>
            <a:ext cx="1441440" cy="12729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23" h="813">
                <a:moveTo>
                  <a:pt x="321" y="0"/>
                </a:moveTo>
                <a:lnTo>
                  <a:pt x="330" y="22"/>
                </a:lnTo>
                <a:lnTo>
                  <a:pt x="335" y="45"/>
                </a:lnTo>
                <a:lnTo>
                  <a:pt x="340" y="67"/>
                </a:lnTo>
                <a:lnTo>
                  <a:pt x="343" y="93"/>
                </a:lnTo>
                <a:lnTo>
                  <a:pt x="345" y="116"/>
                </a:lnTo>
                <a:lnTo>
                  <a:pt x="345" y="142"/>
                </a:lnTo>
                <a:lnTo>
                  <a:pt x="345" y="165"/>
                </a:lnTo>
                <a:lnTo>
                  <a:pt x="343" y="191"/>
                </a:lnTo>
                <a:lnTo>
                  <a:pt x="340" y="216"/>
                </a:lnTo>
                <a:lnTo>
                  <a:pt x="336" y="240"/>
                </a:lnTo>
                <a:lnTo>
                  <a:pt x="331" y="263"/>
                </a:lnTo>
                <a:lnTo>
                  <a:pt x="325" y="287"/>
                </a:lnTo>
                <a:lnTo>
                  <a:pt x="318" y="311"/>
                </a:lnTo>
                <a:lnTo>
                  <a:pt x="309" y="333"/>
                </a:lnTo>
                <a:lnTo>
                  <a:pt x="299" y="355"/>
                </a:lnTo>
                <a:lnTo>
                  <a:pt x="289" y="375"/>
                </a:lnTo>
                <a:lnTo>
                  <a:pt x="279" y="395"/>
                </a:lnTo>
                <a:lnTo>
                  <a:pt x="265" y="415"/>
                </a:lnTo>
                <a:lnTo>
                  <a:pt x="252" y="432"/>
                </a:lnTo>
                <a:lnTo>
                  <a:pt x="238" y="449"/>
                </a:lnTo>
                <a:lnTo>
                  <a:pt x="223" y="464"/>
                </a:lnTo>
                <a:lnTo>
                  <a:pt x="208" y="480"/>
                </a:lnTo>
                <a:lnTo>
                  <a:pt x="191" y="491"/>
                </a:lnTo>
                <a:lnTo>
                  <a:pt x="172" y="502"/>
                </a:lnTo>
                <a:lnTo>
                  <a:pt x="157" y="508"/>
                </a:lnTo>
                <a:lnTo>
                  <a:pt x="142" y="513"/>
                </a:lnTo>
                <a:lnTo>
                  <a:pt x="125" y="519"/>
                </a:lnTo>
                <a:lnTo>
                  <a:pt x="110" y="520"/>
                </a:lnTo>
                <a:lnTo>
                  <a:pt x="93" y="522"/>
                </a:lnTo>
                <a:lnTo>
                  <a:pt x="74" y="522"/>
                </a:lnTo>
                <a:lnTo>
                  <a:pt x="57" y="519"/>
                </a:lnTo>
                <a:lnTo>
                  <a:pt x="39" y="515"/>
                </a:lnTo>
                <a:lnTo>
                  <a:pt x="35" y="530"/>
                </a:lnTo>
                <a:lnTo>
                  <a:pt x="32" y="549"/>
                </a:lnTo>
                <a:lnTo>
                  <a:pt x="30" y="571"/>
                </a:lnTo>
                <a:lnTo>
                  <a:pt x="29" y="593"/>
                </a:lnTo>
                <a:lnTo>
                  <a:pt x="29" y="618"/>
                </a:lnTo>
                <a:lnTo>
                  <a:pt x="32" y="642"/>
                </a:lnTo>
                <a:lnTo>
                  <a:pt x="34" y="652"/>
                </a:lnTo>
                <a:lnTo>
                  <a:pt x="37" y="664"/>
                </a:lnTo>
                <a:lnTo>
                  <a:pt x="42" y="674"/>
                </a:lnTo>
                <a:lnTo>
                  <a:pt x="47" y="684"/>
                </a:lnTo>
                <a:lnTo>
                  <a:pt x="57" y="698"/>
                </a:lnTo>
                <a:lnTo>
                  <a:pt x="71" y="711"/>
                </a:lnTo>
                <a:lnTo>
                  <a:pt x="88" y="725"/>
                </a:lnTo>
                <a:lnTo>
                  <a:pt x="106" y="737"/>
                </a:lnTo>
                <a:lnTo>
                  <a:pt x="128" y="747"/>
                </a:lnTo>
                <a:lnTo>
                  <a:pt x="154" y="757"/>
                </a:lnTo>
                <a:lnTo>
                  <a:pt x="179" y="765"/>
                </a:lnTo>
                <a:lnTo>
                  <a:pt x="208" y="772"/>
                </a:lnTo>
                <a:lnTo>
                  <a:pt x="240" y="779"/>
                </a:lnTo>
                <a:lnTo>
                  <a:pt x="274" y="782"/>
                </a:lnTo>
                <a:lnTo>
                  <a:pt x="309" y="786"/>
                </a:lnTo>
                <a:lnTo>
                  <a:pt x="345" y="786"/>
                </a:lnTo>
                <a:lnTo>
                  <a:pt x="382" y="784"/>
                </a:lnTo>
                <a:lnTo>
                  <a:pt x="421" y="779"/>
                </a:lnTo>
                <a:lnTo>
                  <a:pt x="458" y="772"/>
                </a:lnTo>
                <a:lnTo>
                  <a:pt x="497" y="762"/>
                </a:lnTo>
                <a:lnTo>
                  <a:pt x="536" y="750"/>
                </a:lnTo>
                <a:lnTo>
                  <a:pt x="575" y="735"/>
                </a:lnTo>
                <a:lnTo>
                  <a:pt x="614" y="716"/>
                </a:lnTo>
                <a:lnTo>
                  <a:pt x="653" y="694"/>
                </a:lnTo>
                <a:lnTo>
                  <a:pt x="671" y="682"/>
                </a:lnTo>
                <a:lnTo>
                  <a:pt x="690" y="671"/>
                </a:lnTo>
                <a:lnTo>
                  <a:pt x="707" y="657"/>
                </a:lnTo>
                <a:lnTo>
                  <a:pt x="725" y="642"/>
                </a:lnTo>
                <a:lnTo>
                  <a:pt x="742" y="627"/>
                </a:lnTo>
                <a:lnTo>
                  <a:pt x="759" y="610"/>
                </a:lnTo>
                <a:lnTo>
                  <a:pt x="776" y="593"/>
                </a:lnTo>
                <a:lnTo>
                  <a:pt x="793" y="576"/>
                </a:lnTo>
                <a:lnTo>
                  <a:pt x="813" y="552"/>
                </a:lnTo>
                <a:lnTo>
                  <a:pt x="832" y="527"/>
                </a:lnTo>
                <a:lnTo>
                  <a:pt x="851" y="500"/>
                </a:lnTo>
                <a:lnTo>
                  <a:pt x="868" y="471"/>
                </a:lnTo>
                <a:lnTo>
                  <a:pt x="885" y="442"/>
                </a:lnTo>
                <a:lnTo>
                  <a:pt x="900" y="410"/>
                </a:lnTo>
                <a:lnTo>
                  <a:pt x="915" y="377"/>
                </a:lnTo>
                <a:lnTo>
                  <a:pt x="928" y="343"/>
                </a:lnTo>
                <a:lnTo>
                  <a:pt x="940" y="306"/>
                </a:lnTo>
                <a:lnTo>
                  <a:pt x="952" y="268"/>
                </a:lnTo>
                <a:lnTo>
                  <a:pt x="962" y="228"/>
                </a:lnTo>
                <a:lnTo>
                  <a:pt x="971" y="186"/>
                </a:lnTo>
                <a:lnTo>
                  <a:pt x="979" y="143"/>
                </a:lnTo>
                <a:lnTo>
                  <a:pt x="986" y="98"/>
                </a:lnTo>
                <a:lnTo>
                  <a:pt x="991" y="50"/>
                </a:lnTo>
                <a:lnTo>
                  <a:pt x="994" y="0"/>
                </a:lnTo>
                <a:lnTo>
                  <a:pt x="1023" y="0"/>
                </a:lnTo>
                <a:lnTo>
                  <a:pt x="1018" y="50"/>
                </a:lnTo>
                <a:lnTo>
                  <a:pt x="1013" y="99"/>
                </a:lnTo>
                <a:lnTo>
                  <a:pt x="1006" y="147"/>
                </a:lnTo>
                <a:lnTo>
                  <a:pt x="1000" y="192"/>
                </a:lnTo>
                <a:lnTo>
                  <a:pt x="989" y="235"/>
                </a:lnTo>
                <a:lnTo>
                  <a:pt x="979" y="275"/>
                </a:lnTo>
                <a:lnTo>
                  <a:pt x="967" y="316"/>
                </a:lnTo>
                <a:lnTo>
                  <a:pt x="954" y="353"/>
                </a:lnTo>
                <a:lnTo>
                  <a:pt x="940" y="388"/>
                </a:lnTo>
                <a:lnTo>
                  <a:pt x="925" y="422"/>
                </a:lnTo>
                <a:lnTo>
                  <a:pt x="908" y="456"/>
                </a:lnTo>
                <a:lnTo>
                  <a:pt x="891" y="486"/>
                </a:lnTo>
                <a:lnTo>
                  <a:pt x="874" y="515"/>
                </a:lnTo>
                <a:lnTo>
                  <a:pt x="854" y="544"/>
                </a:lnTo>
                <a:lnTo>
                  <a:pt x="835" y="569"/>
                </a:lnTo>
                <a:lnTo>
                  <a:pt x="815" y="595"/>
                </a:lnTo>
                <a:lnTo>
                  <a:pt x="797" y="613"/>
                </a:lnTo>
                <a:lnTo>
                  <a:pt x="780" y="630"/>
                </a:lnTo>
                <a:lnTo>
                  <a:pt x="761" y="647"/>
                </a:lnTo>
                <a:lnTo>
                  <a:pt x="744" y="664"/>
                </a:lnTo>
                <a:lnTo>
                  <a:pt x="724" y="679"/>
                </a:lnTo>
                <a:lnTo>
                  <a:pt x="705" y="693"/>
                </a:lnTo>
                <a:lnTo>
                  <a:pt x="687" y="706"/>
                </a:lnTo>
                <a:lnTo>
                  <a:pt x="666" y="720"/>
                </a:lnTo>
                <a:lnTo>
                  <a:pt x="627" y="742"/>
                </a:lnTo>
                <a:lnTo>
                  <a:pt x="587" y="760"/>
                </a:lnTo>
                <a:lnTo>
                  <a:pt x="546" y="777"/>
                </a:lnTo>
                <a:lnTo>
                  <a:pt x="506" y="789"/>
                </a:lnTo>
                <a:lnTo>
                  <a:pt x="465" y="799"/>
                </a:lnTo>
                <a:lnTo>
                  <a:pt x="424" y="806"/>
                </a:lnTo>
                <a:lnTo>
                  <a:pt x="384" y="811"/>
                </a:lnTo>
                <a:lnTo>
                  <a:pt x="345" y="813"/>
                </a:lnTo>
                <a:lnTo>
                  <a:pt x="308" y="813"/>
                </a:lnTo>
                <a:lnTo>
                  <a:pt x="270" y="811"/>
                </a:lnTo>
                <a:lnTo>
                  <a:pt x="235" y="806"/>
                </a:lnTo>
                <a:lnTo>
                  <a:pt x="201" y="801"/>
                </a:lnTo>
                <a:lnTo>
                  <a:pt x="171" y="792"/>
                </a:lnTo>
                <a:lnTo>
                  <a:pt x="142" y="782"/>
                </a:lnTo>
                <a:lnTo>
                  <a:pt x="115" y="772"/>
                </a:lnTo>
                <a:lnTo>
                  <a:pt x="91" y="758"/>
                </a:lnTo>
                <a:lnTo>
                  <a:pt x="69" y="745"/>
                </a:lnTo>
                <a:lnTo>
                  <a:pt x="51" y="731"/>
                </a:lnTo>
                <a:lnTo>
                  <a:pt x="35" y="715"/>
                </a:lnTo>
                <a:lnTo>
                  <a:pt x="23" y="698"/>
                </a:lnTo>
                <a:lnTo>
                  <a:pt x="15" y="684"/>
                </a:lnTo>
                <a:lnTo>
                  <a:pt x="10" y="669"/>
                </a:lnTo>
                <a:lnTo>
                  <a:pt x="5" y="652"/>
                </a:lnTo>
                <a:lnTo>
                  <a:pt x="3" y="635"/>
                </a:lnTo>
                <a:lnTo>
                  <a:pt x="1" y="618"/>
                </a:lnTo>
                <a:lnTo>
                  <a:pt x="0" y="601"/>
                </a:lnTo>
                <a:lnTo>
                  <a:pt x="1" y="584"/>
                </a:lnTo>
                <a:lnTo>
                  <a:pt x="1" y="569"/>
                </a:lnTo>
                <a:lnTo>
                  <a:pt x="10" y="515"/>
                </a:lnTo>
                <a:lnTo>
                  <a:pt x="15" y="493"/>
                </a:lnTo>
                <a:lnTo>
                  <a:pt x="18" y="480"/>
                </a:lnTo>
                <a:lnTo>
                  <a:pt x="32" y="485"/>
                </a:lnTo>
                <a:lnTo>
                  <a:pt x="51" y="490"/>
                </a:lnTo>
                <a:lnTo>
                  <a:pt x="67" y="491"/>
                </a:lnTo>
                <a:lnTo>
                  <a:pt x="84" y="493"/>
                </a:lnTo>
                <a:lnTo>
                  <a:pt x="100" y="493"/>
                </a:lnTo>
                <a:lnTo>
                  <a:pt x="116" y="491"/>
                </a:lnTo>
                <a:lnTo>
                  <a:pt x="132" y="488"/>
                </a:lnTo>
                <a:lnTo>
                  <a:pt x="145" y="483"/>
                </a:lnTo>
                <a:lnTo>
                  <a:pt x="160" y="476"/>
                </a:lnTo>
                <a:lnTo>
                  <a:pt x="176" y="466"/>
                </a:lnTo>
                <a:lnTo>
                  <a:pt x="191" y="456"/>
                </a:lnTo>
                <a:lnTo>
                  <a:pt x="204" y="444"/>
                </a:lnTo>
                <a:lnTo>
                  <a:pt x="218" y="431"/>
                </a:lnTo>
                <a:lnTo>
                  <a:pt x="232" y="415"/>
                </a:lnTo>
                <a:lnTo>
                  <a:pt x="243" y="399"/>
                </a:lnTo>
                <a:lnTo>
                  <a:pt x="254" y="382"/>
                </a:lnTo>
                <a:lnTo>
                  <a:pt x="265" y="363"/>
                </a:lnTo>
                <a:lnTo>
                  <a:pt x="274" y="343"/>
                </a:lnTo>
                <a:lnTo>
                  <a:pt x="282" y="323"/>
                </a:lnTo>
                <a:lnTo>
                  <a:pt x="291" y="301"/>
                </a:lnTo>
                <a:lnTo>
                  <a:pt x="298" y="279"/>
                </a:lnTo>
                <a:lnTo>
                  <a:pt x="304" y="257"/>
                </a:lnTo>
                <a:lnTo>
                  <a:pt x="308" y="235"/>
                </a:lnTo>
                <a:lnTo>
                  <a:pt x="313" y="211"/>
                </a:lnTo>
                <a:lnTo>
                  <a:pt x="314" y="189"/>
                </a:lnTo>
                <a:lnTo>
                  <a:pt x="318" y="164"/>
                </a:lnTo>
                <a:lnTo>
                  <a:pt x="318" y="138"/>
                </a:lnTo>
                <a:lnTo>
                  <a:pt x="316" y="113"/>
                </a:lnTo>
                <a:lnTo>
                  <a:pt x="314" y="89"/>
                </a:lnTo>
                <a:lnTo>
                  <a:pt x="311" y="66"/>
                </a:lnTo>
                <a:lnTo>
                  <a:pt x="306" y="44"/>
                </a:lnTo>
                <a:lnTo>
                  <a:pt x="299" y="22"/>
                </a:lnTo>
                <a:lnTo>
                  <a:pt x="292" y="0"/>
                </a:lnTo>
                <a:lnTo>
                  <a:pt x="321" y="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7051680" y="27637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7051680" y="41623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6427800" y="5823000"/>
            <a:ext cx="561960" cy="266760"/>
          </a:xfrm>
          <a:custGeom>
            <a:avLst/>
            <a:gdLst/>
            <a:ahLst/>
            <a:rect l="l" t="t" r="r" b="b"/>
            <a:pathLst>
              <a:path w="1698" h="714">
                <a:moveTo>
                  <a:pt x="1556" y="0"/>
                </a:moveTo>
                <a:lnTo>
                  <a:pt x="1572" y="17"/>
                </a:lnTo>
                <a:lnTo>
                  <a:pt x="1587" y="34"/>
                </a:lnTo>
                <a:lnTo>
                  <a:pt x="1602" y="52"/>
                </a:lnTo>
                <a:lnTo>
                  <a:pt x="1615" y="71"/>
                </a:lnTo>
                <a:lnTo>
                  <a:pt x="1629" y="89"/>
                </a:lnTo>
                <a:lnTo>
                  <a:pt x="1640" y="108"/>
                </a:lnTo>
                <a:lnTo>
                  <a:pt x="1650" y="127"/>
                </a:lnTo>
                <a:lnTo>
                  <a:pt x="1661" y="148"/>
                </a:lnTo>
                <a:lnTo>
                  <a:pt x="1670" y="168"/>
                </a:lnTo>
                <a:lnTo>
                  <a:pt x="1676" y="188"/>
                </a:lnTo>
                <a:lnTo>
                  <a:pt x="1683" y="209"/>
                </a:lnTo>
                <a:lnTo>
                  <a:pt x="1689" y="229"/>
                </a:lnTo>
                <a:lnTo>
                  <a:pt x="1692" y="251"/>
                </a:lnTo>
                <a:lnTo>
                  <a:pt x="1696" y="272"/>
                </a:lnTo>
                <a:lnTo>
                  <a:pt x="1698" y="293"/>
                </a:lnTo>
                <a:lnTo>
                  <a:pt x="1698" y="315"/>
                </a:lnTo>
                <a:lnTo>
                  <a:pt x="1697" y="344"/>
                </a:lnTo>
                <a:lnTo>
                  <a:pt x="1693" y="373"/>
                </a:lnTo>
                <a:lnTo>
                  <a:pt x="1689" y="401"/>
                </a:lnTo>
                <a:lnTo>
                  <a:pt x="1681" y="428"/>
                </a:lnTo>
                <a:lnTo>
                  <a:pt x="1672" y="455"/>
                </a:lnTo>
                <a:lnTo>
                  <a:pt x="1661" y="482"/>
                </a:lnTo>
                <a:lnTo>
                  <a:pt x="1648" y="508"/>
                </a:lnTo>
                <a:lnTo>
                  <a:pt x="1633" y="534"/>
                </a:lnTo>
                <a:lnTo>
                  <a:pt x="1617" y="559"/>
                </a:lnTo>
                <a:lnTo>
                  <a:pt x="1598" y="583"/>
                </a:lnTo>
                <a:lnTo>
                  <a:pt x="1579" y="606"/>
                </a:lnTo>
                <a:lnTo>
                  <a:pt x="1558" y="630"/>
                </a:lnTo>
                <a:lnTo>
                  <a:pt x="1535" y="652"/>
                </a:lnTo>
                <a:lnTo>
                  <a:pt x="1510" y="673"/>
                </a:lnTo>
                <a:lnTo>
                  <a:pt x="1484" y="693"/>
                </a:lnTo>
                <a:lnTo>
                  <a:pt x="1457" y="714"/>
                </a:lnTo>
                <a:lnTo>
                  <a:pt x="240" y="714"/>
                </a:lnTo>
                <a:lnTo>
                  <a:pt x="213" y="693"/>
                </a:lnTo>
                <a:lnTo>
                  <a:pt x="187" y="673"/>
                </a:lnTo>
                <a:lnTo>
                  <a:pt x="163" y="652"/>
                </a:lnTo>
                <a:lnTo>
                  <a:pt x="140" y="630"/>
                </a:lnTo>
                <a:lnTo>
                  <a:pt x="118" y="606"/>
                </a:lnTo>
                <a:lnTo>
                  <a:pt x="99" y="583"/>
                </a:lnTo>
                <a:lnTo>
                  <a:pt x="81" y="559"/>
                </a:lnTo>
                <a:lnTo>
                  <a:pt x="64" y="534"/>
                </a:lnTo>
                <a:lnTo>
                  <a:pt x="49" y="508"/>
                </a:lnTo>
                <a:lnTo>
                  <a:pt x="37" y="482"/>
                </a:lnTo>
                <a:lnTo>
                  <a:pt x="26" y="455"/>
                </a:lnTo>
                <a:lnTo>
                  <a:pt x="16" y="428"/>
                </a:lnTo>
                <a:lnTo>
                  <a:pt x="9" y="401"/>
                </a:lnTo>
                <a:lnTo>
                  <a:pt x="4" y="373"/>
                </a:lnTo>
                <a:lnTo>
                  <a:pt x="1" y="344"/>
                </a:lnTo>
                <a:lnTo>
                  <a:pt x="0" y="315"/>
                </a:lnTo>
                <a:lnTo>
                  <a:pt x="1" y="293"/>
                </a:lnTo>
                <a:lnTo>
                  <a:pt x="2" y="272"/>
                </a:lnTo>
                <a:lnTo>
                  <a:pt x="5" y="251"/>
                </a:lnTo>
                <a:lnTo>
                  <a:pt x="10" y="229"/>
                </a:lnTo>
                <a:lnTo>
                  <a:pt x="14" y="209"/>
                </a:lnTo>
                <a:lnTo>
                  <a:pt x="21" y="188"/>
                </a:lnTo>
                <a:lnTo>
                  <a:pt x="29" y="168"/>
                </a:lnTo>
                <a:lnTo>
                  <a:pt x="37" y="148"/>
                </a:lnTo>
                <a:lnTo>
                  <a:pt x="47" y="127"/>
                </a:lnTo>
                <a:lnTo>
                  <a:pt x="57" y="108"/>
                </a:lnTo>
                <a:lnTo>
                  <a:pt x="70" y="89"/>
                </a:lnTo>
                <a:lnTo>
                  <a:pt x="82" y="71"/>
                </a:lnTo>
                <a:lnTo>
                  <a:pt x="96" y="52"/>
                </a:lnTo>
                <a:lnTo>
                  <a:pt x="110" y="34"/>
                </a:lnTo>
                <a:lnTo>
                  <a:pt x="125" y="17"/>
                </a:lnTo>
                <a:lnTo>
                  <a:pt x="142" y="0"/>
                </a:lnTo>
                <a:lnTo>
                  <a:pt x="155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800000"/>
            </a:solidFill>
            <a:round/>
          </a:ln>
          <a:effectLst>
            <a:outerShdw dist="80486" dir="1110959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27"/>
          <p:cNvSpPr/>
          <p:nvPr/>
        </p:nvSpPr>
        <p:spPr>
          <a:xfrm>
            <a:off x="6427800" y="6087960"/>
            <a:ext cx="561960" cy="265320"/>
          </a:xfrm>
          <a:custGeom>
            <a:avLst/>
            <a:gdLst/>
            <a:ahLst/>
            <a:rect l="l" t="t" r="r" b="b"/>
            <a:pathLst>
              <a:path w="1698" h="714">
                <a:moveTo>
                  <a:pt x="1556" y="714"/>
                </a:moveTo>
                <a:lnTo>
                  <a:pt x="1572" y="697"/>
                </a:lnTo>
                <a:lnTo>
                  <a:pt x="1587" y="679"/>
                </a:lnTo>
                <a:lnTo>
                  <a:pt x="1602" y="661"/>
                </a:lnTo>
                <a:lnTo>
                  <a:pt x="1615" y="643"/>
                </a:lnTo>
                <a:lnTo>
                  <a:pt x="1629" y="624"/>
                </a:lnTo>
                <a:lnTo>
                  <a:pt x="1640" y="604"/>
                </a:lnTo>
                <a:lnTo>
                  <a:pt x="1650" y="585"/>
                </a:lnTo>
                <a:lnTo>
                  <a:pt x="1661" y="566"/>
                </a:lnTo>
                <a:lnTo>
                  <a:pt x="1670" y="546"/>
                </a:lnTo>
                <a:lnTo>
                  <a:pt x="1676" y="525"/>
                </a:lnTo>
                <a:lnTo>
                  <a:pt x="1683" y="505"/>
                </a:lnTo>
                <a:lnTo>
                  <a:pt x="1689" y="484"/>
                </a:lnTo>
                <a:lnTo>
                  <a:pt x="1692" y="462"/>
                </a:lnTo>
                <a:lnTo>
                  <a:pt x="1696" y="442"/>
                </a:lnTo>
                <a:lnTo>
                  <a:pt x="1698" y="419"/>
                </a:lnTo>
                <a:lnTo>
                  <a:pt x="1698" y="398"/>
                </a:lnTo>
                <a:lnTo>
                  <a:pt x="1697" y="370"/>
                </a:lnTo>
                <a:lnTo>
                  <a:pt x="1693" y="340"/>
                </a:lnTo>
                <a:lnTo>
                  <a:pt x="1689" y="313"/>
                </a:lnTo>
                <a:lnTo>
                  <a:pt x="1681" y="285"/>
                </a:lnTo>
                <a:lnTo>
                  <a:pt x="1672" y="258"/>
                </a:lnTo>
                <a:lnTo>
                  <a:pt x="1661" y="232"/>
                </a:lnTo>
                <a:lnTo>
                  <a:pt x="1648" y="205"/>
                </a:lnTo>
                <a:lnTo>
                  <a:pt x="1633" y="180"/>
                </a:lnTo>
                <a:lnTo>
                  <a:pt x="1617" y="155"/>
                </a:lnTo>
                <a:lnTo>
                  <a:pt x="1598" y="130"/>
                </a:lnTo>
                <a:lnTo>
                  <a:pt x="1579" y="106"/>
                </a:lnTo>
                <a:lnTo>
                  <a:pt x="1558" y="84"/>
                </a:lnTo>
                <a:lnTo>
                  <a:pt x="1535" y="61"/>
                </a:lnTo>
                <a:lnTo>
                  <a:pt x="1510" y="40"/>
                </a:lnTo>
                <a:lnTo>
                  <a:pt x="1484" y="19"/>
                </a:lnTo>
                <a:lnTo>
                  <a:pt x="1457" y="0"/>
                </a:lnTo>
                <a:lnTo>
                  <a:pt x="240" y="0"/>
                </a:lnTo>
                <a:lnTo>
                  <a:pt x="213" y="19"/>
                </a:lnTo>
                <a:lnTo>
                  <a:pt x="187" y="40"/>
                </a:lnTo>
                <a:lnTo>
                  <a:pt x="163" y="61"/>
                </a:lnTo>
                <a:lnTo>
                  <a:pt x="140" y="84"/>
                </a:lnTo>
                <a:lnTo>
                  <a:pt x="118" y="106"/>
                </a:lnTo>
                <a:lnTo>
                  <a:pt x="99" y="130"/>
                </a:lnTo>
                <a:lnTo>
                  <a:pt x="81" y="155"/>
                </a:lnTo>
                <a:lnTo>
                  <a:pt x="64" y="180"/>
                </a:lnTo>
                <a:lnTo>
                  <a:pt x="49" y="205"/>
                </a:lnTo>
                <a:lnTo>
                  <a:pt x="37" y="232"/>
                </a:lnTo>
                <a:lnTo>
                  <a:pt x="26" y="258"/>
                </a:lnTo>
                <a:lnTo>
                  <a:pt x="16" y="285"/>
                </a:lnTo>
                <a:lnTo>
                  <a:pt x="9" y="313"/>
                </a:lnTo>
                <a:lnTo>
                  <a:pt x="4" y="340"/>
                </a:lnTo>
                <a:lnTo>
                  <a:pt x="1" y="370"/>
                </a:lnTo>
                <a:lnTo>
                  <a:pt x="0" y="398"/>
                </a:lnTo>
                <a:lnTo>
                  <a:pt x="1" y="419"/>
                </a:lnTo>
                <a:lnTo>
                  <a:pt x="2" y="442"/>
                </a:lnTo>
                <a:lnTo>
                  <a:pt x="5" y="462"/>
                </a:lnTo>
                <a:lnTo>
                  <a:pt x="10" y="484"/>
                </a:lnTo>
                <a:lnTo>
                  <a:pt x="14" y="505"/>
                </a:lnTo>
                <a:lnTo>
                  <a:pt x="21" y="525"/>
                </a:lnTo>
                <a:lnTo>
                  <a:pt x="29" y="546"/>
                </a:lnTo>
                <a:lnTo>
                  <a:pt x="37" y="566"/>
                </a:lnTo>
                <a:lnTo>
                  <a:pt x="47" y="585"/>
                </a:lnTo>
                <a:lnTo>
                  <a:pt x="57" y="604"/>
                </a:lnTo>
                <a:lnTo>
                  <a:pt x="70" y="624"/>
                </a:lnTo>
                <a:lnTo>
                  <a:pt x="82" y="643"/>
                </a:lnTo>
                <a:lnTo>
                  <a:pt x="96" y="661"/>
                </a:lnTo>
                <a:lnTo>
                  <a:pt x="110" y="679"/>
                </a:lnTo>
                <a:lnTo>
                  <a:pt x="125" y="697"/>
                </a:lnTo>
                <a:lnTo>
                  <a:pt x="142" y="714"/>
                </a:lnTo>
                <a:lnTo>
                  <a:pt x="1556" y="71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800000"/>
            </a:solidFill>
            <a:round/>
          </a:ln>
          <a:effectLst>
            <a:outerShdw dist="80486" dir="1110959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Freeform 28"/>
          <p:cNvSpPr/>
          <p:nvPr/>
        </p:nvSpPr>
        <p:spPr>
          <a:xfrm>
            <a:off x="6026040" y="1930320"/>
            <a:ext cx="754200" cy="1463760"/>
          </a:xfrm>
          <a:custGeom>
            <a:avLst/>
            <a:gdLst>
              <a:gd name="textAreaLeft" fmla="*/ 0 w 754200"/>
              <a:gd name="textAreaRight" fmla="*/ 754560 w 75420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535" h="922">
                <a:moveTo>
                  <a:pt x="59" y="3"/>
                </a:moveTo>
                <a:lnTo>
                  <a:pt x="57" y="39"/>
                </a:lnTo>
                <a:lnTo>
                  <a:pt x="59" y="70"/>
                </a:lnTo>
                <a:lnTo>
                  <a:pt x="62" y="99"/>
                </a:lnTo>
                <a:lnTo>
                  <a:pt x="67" y="126"/>
                </a:lnTo>
                <a:lnTo>
                  <a:pt x="73" y="153"/>
                </a:lnTo>
                <a:lnTo>
                  <a:pt x="82" y="175"/>
                </a:lnTo>
                <a:lnTo>
                  <a:pt x="93" y="196"/>
                </a:lnTo>
                <a:lnTo>
                  <a:pt x="106" y="216"/>
                </a:lnTo>
                <a:lnTo>
                  <a:pt x="122" y="240"/>
                </a:lnTo>
                <a:lnTo>
                  <a:pt x="142" y="257"/>
                </a:lnTo>
                <a:lnTo>
                  <a:pt x="161" y="274"/>
                </a:lnTo>
                <a:lnTo>
                  <a:pt x="184" y="288"/>
                </a:lnTo>
                <a:lnTo>
                  <a:pt x="207" y="300"/>
                </a:lnTo>
                <a:lnTo>
                  <a:pt x="229" y="310"/>
                </a:lnTo>
                <a:lnTo>
                  <a:pt x="254" y="317"/>
                </a:lnTo>
                <a:lnTo>
                  <a:pt x="278" y="321"/>
                </a:lnTo>
                <a:lnTo>
                  <a:pt x="302" y="327"/>
                </a:lnTo>
                <a:lnTo>
                  <a:pt x="327" y="335"/>
                </a:lnTo>
                <a:lnTo>
                  <a:pt x="352" y="342"/>
                </a:lnTo>
                <a:lnTo>
                  <a:pt x="376" y="355"/>
                </a:lnTo>
                <a:lnTo>
                  <a:pt x="401" y="368"/>
                </a:lnTo>
                <a:lnTo>
                  <a:pt x="424" y="386"/>
                </a:lnTo>
                <a:lnTo>
                  <a:pt x="446" y="407"/>
                </a:lnTo>
                <a:lnTo>
                  <a:pt x="467" y="431"/>
                </a:lnTo>
                <a:lnTo>
                  <a:pt x="474" y="444"/>
                </a:lnTo>
                <a:lnTo>
                  <a:pt x="485" y="458"/>
                </a:lnTo>
                <a:lnTo>
                  <a:pt x="493" y="473"/>
                </a:lnTo>
                <a:lnTo>
                  <a:pt x="500" y="489"/>
                </a:lnTo>
                <a:lnTo>
                  <a:pt x="507" y="507"/>
                </a:lnTo>
                <a:lnTo>
                  <a:pt x="513" y="524"/>
                </a:lnTo>
                <a:lnTo>
                  <a:pt x="519" y="543"/>
                </a:lnTo>
                <a:lnTo>
                  <a:pt x="524" y="565"/>
                </a:lnTo>
                <a:lnTo>
                  <a:pt x="528" y="586"/>
                </a:lnTo>
                <a:lnTo>
                  <a:pt x="532" y="609"/>
                </a:lnTo>
                <a:lnTo>
                  <a:pt x="534" y="633"/>
                </a:lnTo>
                <a:lnTo>
                  <a:pt x="535" y="916"/>
                </a:lnTo>
                <a:lnTo>
                  <a:pt x="478" y="922"/>
                </a:lnTo>
                <a:lnTo>
                  <a:pt x="477" y="624"/>
                </a:lnTo>
                <a:lnTo>
                  <a:pt x="470" y="586"/>
                </a:lnTo>
                <a:lnTo>
                  <a:pt x="463" y="552"/>
                </a:lnTo>
                <a:lnTo>
                  <a:pt x="451" y="522"/>
                </a:lnTo>
                <a:lnTo>
                  <a:pt x="439" y="495"/>
                </a:lnTo>
                <a:lnTo>
                  <a:pt x="424" y="473"/>
                </a:lnTo>
                <a:lnTo>
                  <a:pt x="407" y="454"/>
                </a:lnTo>
                <a:lnTo>
                  <a:pt x="390" y="438"/>
                </a:lnTo>
                <a:lnTo>
                  <a:pt x="371" y="425"/>
                </a:lnTo>
                <a:lnTo>
                  <a:pt x="351" y="412"/>
                </a:lnTo>
                <a:lnTo>
                  <a:pt x="331" y="403"/>
                </a:lnTo>
                <a:lnTo>
                  <a:pt x="311" y="395"/>
                </a:lnTo>
                <a:lnTo>
                  <a:pt x="289" y="389"/>
                </a:lnTo>
                <a:lnTo>
                  <a:pt x="269" y="386"/>
                </a:lnTo>
                <a:lnTo>
                  <a:pt x="241" y="380"/>
                </a:lnTo>
                <a:lnTo>
                  <a:pt x="212" y="370"/>
                </a:lnTo>
                <a:lnTo>
                  <a:pt x="184" y="361"/>
                </a:lnTo>
                <a:lnTo>
                  <a:pt x="156" y="344"/>
                </a:lnTo>
                <a:lnTo>
                  <a:pt x="130" y="329"/>
                </a:lnTo>
                <a:lnTo>
                  <a:pt x="106" y="308"/>
                </a:lnTo>
                <a:lnTo>
                  <a:pt x="93" y="296"/>
                </a:lnTo>
                <a:lnTo>
                  <a:pt x="83" y="284"/>
                </a:lnTo>
                <a:lnTo>
                  <a:pt x="71" y="270"/>
                </a:lnTo>
                <a:lnTo>
                  <a:pt x="62" y="257"/>
                </a:lnTo>
                <a:lnTo>
                  <a:pt x="46" y="234"/>
                </a:lnTo>
                <a:lnTo>
                  <a:pt x="33" y="206"/>
                </a:lnTo>
                <a:lnTo>
                  <a:pt x="22" y="179"/>
                </a:lnTo>
                <a:lnTo>
                  <a:pt x="13" y="147"/>
                </a:lnTo>
                <a:lnTo>
                  <a:pt x="6" y="115"/>
                </a:lnTo>
                <a:lnTo>
                  <a:pt x="2" y="77"/>
                </a:lnTo>
                <a:lnTo>
                  <a:pt x="0" y="41"/>
                </a:lnTo>
                <a:lnTo>
                  <a:pt x="2" y="0"/>
                </a:lnTo>
                <a:lnTo>
                  <a:pt x="59" y="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6627960" y="3373560"/>
            <a:ext cx="220680" cy="339480"/>
          </a:xfrm>
          <a:prstGeom prst="flowChartMerg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0"/>
          <p:cNvGrpSpPr/>
          <p:nvPr/>
        </p:nvGrpSpPr>
        <p:grpSpPr>
          <a:xfrm>
            <a:off x="4206960" y="4465800"/>
            <a:ext cx="1006560" cy="1096920"/>
            <a:chOff x="4206960" y="4465800"/>
            <a:chExt cx="1006560" cy="1096920"/>
          </a:xfrm>
        </p:grpSpPr>
        <p:sp>
          <p:nvSpPr>
            <p:cNvPr id="241" name="Oval 31"/>
            <p:cNvSpPr/>
            <p:nvPr/>
          </p:nvSpPr>
          <p:spPr>
            <a:xfrm>
              <a:off x="4206960" y="4465800"/>
              <a:ext cx="1006560" cy="10969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32"/>
            <p:cNvGrpSpPr/>
            <p:nvPr/>
          </p:nvGrpSpPr>
          <p:grpSpPr>
            <a:xfrm>
              <a:off x="4256280" y="4526280"/>
              <a:ext cx="886320" cy="979200"/>
              <a:chOff x="4256280" y="4526280"/>
              <a:chExt cx="886320" cy="979200"/>
            </a:xfrm>
          </p:grpSpPr>
          <p:sp>
            <p:nvSpPr>
              <p:cNvPr id="243" name="Freeform 33"/>
              <p:cNvSpPr/>
              <p:nvPr/>
            </p:nvSpPr>
            <p:spPr>
              <a:xfrm>
                <a:off x="4273200" y="4526280"/>
                <a:ext cx="869400" cy="979200"/>
              </a:xfrm>
              <a:custGeom>
                <a:avLst/>
                <a:gdLst>
                  <a:gd name="textAreaLeft" fmla="*/ 0 w 869400"/>
                  <a:gd name="textAreaRight" fmla="*/ 869760 w 869400"/>
                  <a:gd name="textAreaTop" fmla="*/ 0 h 979200"/>
                  <a:gd name="textAreaBottom" fmla="*/ 979560 h 97920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34"/>
              <p:cNvSpPr/>
              <p:nvPr/>
            </p:nvSpPr>
            <p:spPr>
              <a:xfrm>
                <a:off x="4256280" y="4527720"/>
                <a:ext cx="878040" cy="93492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Text Box 35"/>
          <p:cNvSpPr/>
          <p:nvPr/>
        </p:nvSpPr>
        <p:spPr>
          <a:xfrm>
            <a:off x="4098960" y="5638680"/>
            <a:ext cx="1262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6"/>
          <p:cNvSpPr/>
          <p:nvPr/>
        </p:nvSpPr>
        <p:spPr>
          <a:xfrm>
            <a:off x="7051680" y="58309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2459160" y="136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8"/>
          <p:cNvGrpSpPr/>
          <p:nvPr/>
        </p:nvGrpSpPr>
        <p:grpSpPr>
          <a:xfrm>
            <a:off x="2717640" y="4603680"/>
            <a:ext cx="784440" cy="854280"/>
            <a:chOff x="2717640" y="4603680"/>
            <a:chExt cx="784440" cy="854280"/>
          </a:xfrm>
        </p:grpSpPr>
        <p:sp>
          <p:nvSpPr>
            <p:cNvPr id="249" name="Oval 39"/>
            <p:cNvSpPr/>
            <p:nvPr/>
          </p:nvSpPr>
          <p:spPr>
            <a:xfrm>
              <a:off x="2717640" y="4603680"/>
              <a:ext cx="784440" cy="85428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Group 40"/>
            <p:cNvGrpSpPr/>
            <p:nvPr/>
          </p:nvGrpSpPr>
          <p:grpSpPr>
            <a:xfrm>
              <a:off x="2756160" y="4650480"/>
              <a:ext cx="690480" cy="762840"/>
              <a:chOff x="2756160" y="4650480"/>
              <a:chExt cx="690480" cy="762840"/>
            </a:xfrm>
          </p:grpSpPr>
          <p:sp>
            <p:nvSpPr>
              <p:cNvPr id="251" name="Freeform 41"/>
              <p:cNvSpPr/>
              <p:nvPr/>
            </p:nvSpPr>
            <p:spPr>
              <a:xfrm>
                <a:off x="2769120" y="4650480"/>
                <a:ext cx="677520" cy="762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62840"/>
                  <a:gd name="textAreaBottom" fmla="*/ 763200 h 76284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42"/>
              <p:cNvSpPr/>
              <p:nvPr/>
            </p:nvSpPr>
            <p:spPr>
              <a:xfrm>
                <a:off x="2756160" y="4654080"/>
                <a:ext cx="684360" cy="72576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Text Box 43"/>
          <p:cNvSpPr/>
          <p:nvPr/>
        </p:nvSpPr>
        <p:spPr>
          <a:xfrm>
            <a:off x="2286000" y="5586480"/>
            <a:ext cx="16444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M Remnant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4"/>
          <p:cNvSpPr/>
          <p:nvPr/>
        </p:nvSpPr>
        <p:spPr>
          <a:xfrm flipH="1" rot="5400000">
            <a:off x="1825560" y="1946880"/>
            <a:ext cx="276480" cy="871560"/>
          </a:xfrm>
          <a:prstGeom prst="downArrow">
            <a:avLst>
              <a:gd name="adj1" fmla="val 46287"/>
              <a:gd name="adj2" fmla="val 14003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45"/>
          <p:cNvSpPr/>
          <p:nvPr/>
        </p:nvSpPr>
        <p:spPr>
          <a:xfrm>
            <a:off x="461880" y="2874960"/>
            <a:ext cx="14558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VLD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46"/>
          <p:cNvGrpSpPr/>
          <p:nvPr/>
        </p:nvGrpSpPr>
        <p:grpSpPr>
          <a:xfrm>
            <a:off x="3922560" y="3174840"/>
            <a:ext cx="2670120" cy="703440"/>
            <a:chOff x="3922560" y="3174840"/>
            <a:chExt cx="2670120" cy="703440"/>
          </a:xfrm>
        </p:grpSpPr>
        <p:sp>
          <p:nvSpPr>
            <p:cNvPr id="257" name="Text Box 47"/>
            <p:cNvSpPr/>
            <p:nvPr/>
          </p:nvSpPr>
          <p:spPr>
            <a:xfrm>
              <a:off x="3922560" y="3300120"/>
              <a:ext cx="23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Verdana"/>
                </a:rPr>
                <a:t>Ezetimi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48"/>
            <p:cNvSpPr/>
            <p:nvPr/>
          </p:nvSpPr>
          <p:spPr>
            <a:xfrm>
              <a:off x="5691600" y="3174840"/>
              <a:ext cx="90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99"/>
                  </a:solidFill>
                  <a:latin typeface="Verdana"/>
                </a:rPr>
                <a:t>X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49"/>
          <p:cNvGrpSpPr/>
          <p:nvPr/>
        </p:nvGrpSpPr>
        <p:grpSpPr>
          <a:xfrm>
            <a:off x="900000" y="922320"/>
            <a:ext cx="577800" cy="628560"/>
            <a:chOff x="900000" y="922320"/>
            <a:chExt cx="577800" cy="628560"/>
          </a:xfrm>
        </p:grpSpPr>
        <p:sp>
          <p:nvSpPr>
            <p:cNvPr id="260" name="Oval 50"/>
            <p:cNvSpPr/>
            <p:nvPr/>
          </p:nvSpPr>
          <p:spPr>
            <a:xfrm>
              <a:off x="900000" y="922320"/>
              <a:ext cx="577800" cy="6285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51"/>
            <p:cNvGrpSpPr/>
            <p:nvPr/>
          </p:nvGrpSpPr>
          <p:grpSpPr>
            <a:xfrm>
              <a:off x="928440" y="956880"/>
              <a:ext cx="508680" cy="561240"/>
              <a:chOff x="928440" y="956880"/>
              <a:chExt cx="508680" cy="561240"/>
            </a:xfrm>
          </p:grpSpPr>
          <p:sp>
            <p:nvSpPr>
              <p:cNvPr id="262" name="Freeform 52"/>
              <p:cNvSpPr/>
              <p:nvPr/>
            </p:nvSpPr>
            <p:spPr>
              <a:xfrm>
                <a:off x="938160" y="956880"/>
                <a:ext cx="498960" cy="56124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561240"/>
                  <a:gd name="textAreaBottom" fmla="*/ 561600 h 56124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53"/>
              <p:cNvSpPr/>
              <p:nvPr/>
            </p:nvSpPr>
            <p:spPr>
              <a:xfrm>
                <a:off x="928440" y="958320"/>
                <a:ext cx="504000" cy="53496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AutoShape 54"/>
          <p:cNvSpPr/>
          <p:nvPr/>
        </p:nvSpPr>
        <p:spPr>
          <a:xfrm flipH="1" flipV="1">
            <a:off x="1035000" y="1577160"/>
            <a:ext cx="309600" cy="606600"/>
          </a:xfrm>
          <a:prstGeom prst="downArrow">
            <a:avLst>
              <a:gd name="adj1" fmla="val 37639"/>
              <a:gd name="adj2" fmla="val 75125"/>
            </a:avLst>
          </a:prstGeom>
          <a:gradFill rotWithShape="0">
            <a:gsLst>
              <a:gs pos="0">
                <a:srgbClr val="00ffff"/>
              </a:gs>
              <a:gs pos="100000">
                <a:srgbClr val="002ab2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55"/>
          <p:cNvGrpSpPr/>
          <p:nvPr/>
        </p:nvGrpSpPr>
        <p:grpSpPr>
          <a:xfrm>
            <a:off x="844560" y="2084400"/>
            <a:ext cx="689040" cy="749160"/>
            <a:chOff x="844560" y="2084400"/>
            <a:chExt cx="689040" cy="749160"/>
          </a:xfrm>
        </p:grpSpPr>
        <p:sp>
          <p:nvSpPr>
            <p:cNvPr id="266" name="Oval 56"/>
            <p:cNvSpPr/>
            <p:nvPr/>
          </p:nvSpPr>
          <p:spPr>
            <a:xfrm>
              <a:off x="844560" y="2084400"/>
              <a:ext cx="689040" cy="749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Group 57"/>
            <p:cNvGrpSpPr/>
            <p:nvPr/>
          </p:nvGrpSpPr>
          <p:grpSpPr>
            <a:xfrm>
              <a:off x="878400" y="2125440"/>
              <a:ext cx="606600" cy="668880"/>
              <a:chOff x="878400" y="2125440"/>
              <a:chExt cx="606600" cy="668880"/>
            </a:xfrm>
          </p:grpSpPr>
          <p:sp>
            <p:nvSpPr>
              <p:cNvPr id="268" name="Freeform 58"/>
              <p:cNvSpPr/>
              <p:nvPr/>
            </p:nvSpPr>
            <p:spPr>
              <a:xfrm>
                <a:off x="889920" y="2125440"/>
                <a:ext cx="595080" cy="66888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668880"/>
                  <a:gd name="textAreaBottom" fmla="*/ 669240 h 66888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59"/>
              <p:cNvSpPr/>
              <p:nvPr/>
            </p:nvSpPr>
            <p:spPr>
              <a:xfrm>
                <a:off x="878400" y="2127240"/>
                <a:ext cx="600840" cy="63864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AutoShape 60"/>
          <p:cNvSpPr/>
          <p:nvPr/>
        </p:nvSpPr>
        <p:spPr>
          <a:xfrm flipH="1">
            <a:off x="607320" y="988920"/>
            <a:ext cx="282600" cy="552600"/>
          </a:xfrm>
          <a:prstGeom prst="downArrow">
            <a:avLst>
              <a:gd name="adj1" fmla="val 37639"/>
              <a:gd name="adj2" fmla="val 74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177920" y="1065240"/>
            <a:ext cx="10238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D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62"/>
          <p:cNvSpPr/>
          <p:nvPr/>
        </p:nvSpPr>
        <p:spPr>
          <a:xfrm flipH="1">
            <a:off x="505800" y="1978200"/>
            <a:ext cx="393480" cy="1161720"/>
          </a:xfrm>
          <a:prstGeom prst="downArrow">
            <a:avLst>
              <a:gd name="adj1" fmla="val 38352"/>
              <a:gd name="adj2" fmla="val 81028"/>
            </a:avLst>
          </a:prstGeom>
          <a:solidFill>
            <a:srgbClr val="c00000"/>
          </a:solidFill>
          <a:ln w="0">
            <a:noFill/>
          </a:ln>
          <a:effectLst>
            <a:outerShdw dist="63504" dir="318390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3"/>
          <p:cNvSpPr/>
          <p:nvPr/>
        </p:nvSpPr>
        <p:spPr>
          <a:xfrm rot="7800000">
            <a:off x="2487240" y="2450880"/>
            <a:ext cx="2589480" cy="395280"/>
          </a:xfrm>
          <a:prstGeom prst="rightArrow">
            <a:avLst>
              <a:gd name="adj1" fmla="val 28889"/>
              <a:gd name="adj2" fmla="val 110275"/>
            </a:avLst>
          </a:prstGeom>
          <a:gradFill rotWithShape="0">
            <a:gsLst>
              <a:gs pos="0">
                <a:srgbClr val="00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64"/>
          <p:cNvSpPr/>
          <p:nvPr/>
        </p:nvSpPr>
        <p:spPr>
          <a:xfrm>
            <a:off x="3260880" y="1857240"/>
            <a:ext cx="2554200" cy="290520"/>
          </a:xfrm>
          <a:custGeom>
            <a:avLst/>
            <a:gdLst/>
            <a:ahLst/>
            <a:rect l="l" t="t" r="r" b="b"/>
            <a:pathLst>
              <a:path w="2211" h="183">
                <a:moveTo>
                  <a:pt x="0" y="54"/>
                </a:moveTo>
                <a:lnTo>
                  <a:pt x="1851" y="54"/>
                </a:lnTo>
                <a:lnTo>
                  <a:pt x="1836" y="0"/>
                </a:lnTo>
                <a:lnTo>
                  <a:pt x="2211" y="90"/>
                </a:lnTo>
                <a:lnTo>
                  <a:pt x="1896" y="183"/>
                </a:lnTo>
                <a:lnTo>
                  <a:pt x="1881" y="123"/>
                </a:lnTo>
                <a:lnTo>
                  <a:pt x="3" y="123"/>
                </a:lnTo>
                <a:lnTo>
                  <a:pt x="0" y="5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7074000" y="5811840"/>
            <a:ext cx="1384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BCA-0359-4D3A-AB35-47FE4AFE7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Mechanism of action of Ezetimibe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zetimibe reduces C absorption. Therefore, ezetimibe reduces the flux of C from the intestine to the liv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ecause this C  is packaged and resecreted by the liver into the blood as VLDL  (precursor of LDL in plasma), reduced flux of C to VLDL particles will lower LDL-C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s mechanism is distinct from that of statins, which promote the clearance of LDL principally in the live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08E-158C-4D40-8E13-D081797C0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25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25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25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380880" y="1523880"/>
            <a:ext cx="167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62800" y="30492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Pharmacological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04920" y="1143000"/>
            <a:ext cx="8680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 20%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TG  8% , </a:t>
            </a:r>
            <a:r>
              <a:rPr b="1" lang="en-US" sz="2800" spc="-1" strike="noStrike">
                <a:solidFill>
                  <a:srgbClr val="ffc000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c000"/>
                </a:solidFill>
                <a:latin typeface="Arial Narrow"/>
              </a:rPr>
              <a:t> HDL 1-4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 effect on steroids, lipid-soluble vitamins, bile aci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1760" y="236232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Pharmacokinetic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 Narrow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371520" y="312408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bsorbed &amp; conjugated in intestine to active glucuron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aches peak blood level in 12–14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ndergoes enterohepatic cir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ts half-life is 22 ho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st of the drug is excreted in f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7E4-AA78-4771-82F0-7D6056040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152280" y="866880"/>
            <a:ext cx="88423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Monotherap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imary prevention of low risk of CHD which needs modest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63440" y="2001960"/>
            <a:ext cx="456084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Combination Therapy;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With </a:t>
            </a:r>
            <a:r>
              <a:rPr b="1" lang="en-GB" sz="2400" spc="-1" strike="noStrike">
                <a:solidFill>
                  <a:srgbClr val="66ff33"/>
                </a:solidFill>
                <a:latin typeface="Arial Narrow"/>
              </a:rPr>
              <a:t>statins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;  synergistic 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moderate/severe </a:t>
            </a:r>
            <a:r>
              <a:rPr b="1" lang="en-GB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L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If must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statin dose                                                                       because of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with other lipid lowering drugs; as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fibrat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61640" y="25560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236520" y="480060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ADRs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228600" y="5230800"/>
            <a:ext cx="4495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t 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IT disturbance, headache, fatigue, artheralgia &amp;  myal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4724280" y="1981080"/>
            <a:ext cx="4572000" cy="4572000"/>
            <a:chOff x="4724280" y="1981080"/>
            <a:chExt cx="4572000" cy="4572000"/>
          </a:xfrm>
        </p:grpSpPr>
        <p:pic>
          <p:nvPicPr>
            <p:cNvPr id="292" name="Picture 2" descr="http://www.sisalombardia.it/diapo/ezetimibe/ezetimibe2.JPG"/>
            <p:cNvPicPr/>
            <p:nvPr/>
          </p:nvPicPr>
          <p:blipFill>
            <a:blip r:embed="rId1"/>
            <a:srcRect l="5555" t="20740" r="1110" b="5927"/>
            <a:stretch/>
          </p:blipFill>
          <p:spPr>
            <a:xfrm>
              <a:off x="4724280" y="1981080"/>
              <a:ext cx="42710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13"/>
            <p:cNvSpPr/>
            <p:nvPr/>
          </p:nvSpPr>
          <p:spPr>
            <a:xfrm>
              <a:off x="8001000" y="5514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Arial Rounded MT Bold"/>
                </a:rPr>
                <a:t>Ezatimib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BD7-A2E8-46BA-A7D1-10F147E9A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MG-Co A Reductase Inhibito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Statin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338C-A092-4902-AF43-026F82341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HMG-Co A Reductase Inhibitor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ydroxy MethylGlutaryl-Coenzyme A reductase inhibitors or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stati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re the most effective and best-tolerated agents for treating hyperlipid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Statins are considered as first-line drugs when LDL-lowering drugs are 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A07-D119-4311-981F-154DD97C6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6520" y="4857840"/>
            <a:ext cx="875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tatins are potent competitive inhibitors of 3-hydroxy-3-methyl glutaryl coenzyme A (HMG-CoA) reductase, which catalyzes an early, rate-limiting step in do-novo hepatic C synthesis. Thus, HMG-Co A is not converted to mevalon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3" descr="Cholesterol Synthesis"/>
          <p:cNvPicPr/>
          <p:nvPr/>
        </p:nvPicPr>
        <p:blipFill>
          <a:blip r:embed="rId1"/>
          <a:stretch/>
        </p:blipFill>
        <p:spPr>
          <a:xfrm>
            <a:off x="236520" y="1066680"/>
            <a:ext cx="860256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Statins: Mechanism of Actio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3505320" y="1828800"/>
            <a:ext cx="1447560" cy="1371600"/>
          </a:xfrm>
          <a:prstGeom prst="ellipse">
            <a:avLst/>
          </a:prstGeom>
          <a:noFill/>
          <a:ln w="5724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1E5A-A7AF-4FE3-9A1B-C108F8085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Statins: Mechanism of Actio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Mechanism of action of Lipitor (atorvastatin)"/>
          <p:cNvPicPr/>
          <p:nvPr/>
        </p:nvPicPr>
        <p:blipFill>
          <a:blip r:embed="rId2"/>
          <a:stretch/>
        </p:blipFill>
        <p:spPr>
          <a:xfrm>
            <a:off x="457200" y="1025640"/>
            <a:ext cx="8534520" cy="552744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3AC-5543-42A5-9497-B0B1C3A0E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Hyperlipid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yperlipidemia is a major cause of atherosclerosis which may lead to CAD and ischemic cerebrovascular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notes  abnormall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levels  of any or all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id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and/or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oprotein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[LP] in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Lipid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originate from two sour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5760" indent="-145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dogenou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pids, synthesized in the l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5760" indent="-145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xogenou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pids, ingested and processed in the intes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principle lipids in the blood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- Cholesterol (C)                      - Triglycerides (T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Phospholipids (PL)               - Cholesterol esters (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Non-estrified fatty acids (NEF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B83-19BB-41E6-B2E5-592CCCF5B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25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25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25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25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25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25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ins lower blood C levels by inhibiting do-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o hepatic C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The liver compensates by   the number of  LDL receptors on the surface of hepatocytes (upregulation of LDL-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- This results in     removal of LDL from the blood and lowering of serum LDL- C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 Because C is required for the synthesis of (the precursor of  LDL-C), production of VLD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Statins cause modest      in plasma TG and slight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HDL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Down Arrow 3"/>
          <p:cNvSpPr/>
          <p:nvPr/>
        </p:nvSpPr>
        <p:spPr>
          <a:xfrm>
            <a:off x="6858000" y="4114800"/>
            <a:ext cx="304920" cy="31104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Up Arrow 5"/>
          <p:cNvSpPr/>
          <p:nvPr/>
        </p:nvSpPr>
        <p:spPr>
          <a:xfrm>
            <a:off x="7543800" y="4495680"/>
            <a:ext cx="304920" cy="373320"/>
          </a:xfrm>
          <a:prstGeom prst="upArrow">
            <a:avLst>
              <a:gd name="adj1" fmla="val 50000"/>
              <a:gd name="adj2" fmla="val 4996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Up Arrow 6"/>
          <p:cNvSpPr/>
          <p:nvPr/>
        </p:nvSpPr>
        <p:spPr>
          <a:xfrm>
            <a:off x="4952880" y="1608120"/>
            <a:ext cx="304920" cy="449280"/>
          </a:xfrm>
          <a:prstGeom prst="upArrow">
            <a:avLst>
              <a:gd name="adj1" fmla="val 50000"/>
              <a:gd name="adj2" fmla="val 6511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Up Arrow 7"/>
          <p:cNvSpPr/>
          <p:nvPr/>
        </p:nvSpPr>
        <p:spPr>
          <a:xfrm>
            <a:off x="3124080" y="2819520"/>
            <a:ext cx="304920" cy="372960"/>
          </a:xfrm>
          <a:prstGeom prst="upArrow">
            <a:avLst>
              <a:gd name="adj1" fmla="val 50000"/>
              <a:gd name="adj2" fmla="val 4991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Down Arrow 8"/>
          <p:cNvSpPr/>
          <p:nvPr/>
        </p:nvSpPr>
        <p:spPr>
          <a:xfrm>
            <a:off x="3886200" y="4641840"/>
            <a:ext cx="304920" cy="31104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E858-19DE-4207-B9E9-590DA9BF1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PLEIOTROPIC EFFECTS OF STATI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eyond cholesterol lowering , recent studies indicate that some of the cholesterol-independent or "pleiotropic" effects of statins invol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roving endothelial fun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nhancing the stability of atherosclerotic plaqu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creasing oxidative stress and inflamma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hibiting the thrombogenic respon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rthermore, statins have beneficial extrahepatic effects on the immune system, CNS, and b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F78-1A8D-4158-9489-77DF6EA2F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Statins: Advant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2280" y="914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leiotropic effects of statin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include improvement of endothelial dysfunction, increased nitric oxide bioavailability, antioxidant properties, inhibition of inflammatory responses, and stabilization of atherosclerotic pla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o statins are drugs of choice in patients  with high risk of CV disease,  they reduce MI, strokes and mort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tatins are the drug of first choice for treating hypercholesterolaemia and moderate triglycerid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DL 18-5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DL 5-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G  &amp; VLDL 10-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Used alone or with other anti-hyperlipidemic drugs  in R/ of elevated plasma levels of LDL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Picture 5" descr="fig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380880" y="84240"/>
            <a:ext cx="8382240" cy="1068840"/>
          </a:xfrm>
          <a:prstGeom prst="rect">
            <a:avLst/>
          </a:pr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IOTROPIC EFFECTS OF STATINS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5D42-5873-4C3B-87E4-3F7193003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Prepar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Rosuvastatin (Crestor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Atorvastatin (Lipitor)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Simvastatin (Zocor)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Pravastatin (Pravachol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Lovastatin (Mevac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  <a:ea typeface="Arial"/>
              </a:rPr>
              <a:t>Used alone or with other anti-hyperlipidemic drugs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( e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zetimibe ) 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  <a:ea typeface="Arial"/>
              </a:rPr>
              <a:t>for treatment  of drug-resistant dyslipid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BB2E-CA70-4419-91BB-CE110F8D6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  <a:ea typeface="Arial"/>
              </a:rPr>
              <a:t>Statins: Pharmacokine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st statins have a high first-pass clearance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reater than 95% of most of these drugs are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bound to plasma proteins with short 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ug-drug interactions involve specific interactions with the cytochrome P-450 drug metabolizing system, especially CYP3A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l statins are taken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orally at bedtim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because of hepatic C synthesis is maximal between midnight and 2:00 a.m. 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except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atorvastatin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taken at any time because of its long half-life (14 hou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387-4B74-4144-AD2B-AAE96CC83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25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25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25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25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254160" y="228600"/>
            <a:ext cx="58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Indicatio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228600" y="91584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 Narrow"/>
              </a:rPr>
              <a:t>As monotherapy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2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ry Prevention;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 all ischemic insults [stroke, AMI, …..etc.]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So given from the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day of ischemic at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228600" y="257508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Pry Prevention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Patients with hyperlipidemia and with other risks for ischemic insul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Type IIa Hyperlipoprotinem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f no control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combine (sequestrants / ezetimibe, niacin,.. ) to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228600" y="4508640"/>
            <a:ext cx="8534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 Narrow"/>
              </a:rPr>
              <a:t>As Combination therap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Mixed dyslipidaemias; added to fibrates or niacin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 diabetics and patients with insulin resistance [metabolic syndrome] because these patients will possess small dense LDL (severely atherogenic) + evident endothelial dysfunction + increased thrombotic profi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6E8-6390-462B-8625-D1E652F34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6520" y="277920"/>
            <a:ext cx="86025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: Adverse Effec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36520" y="1600200"/>
            <a:ext cx="86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Common side effects: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Headache , myalgia, fatigue, GI intolerance, and flu-like symp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epatotoxicity,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raised concentrations of liver enzymes (serum aminotransferases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yopath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(increased creatine kinase  [CK] released from muscl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eratogenicit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tatins should be avoid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550-25A4-4AE7-9B9E-53A1EB10E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: Drug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6858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tins potentiate the action of oral anticoagulant and anti-diabetic drugs (by displacement from plasma protein binding si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rugs that increase the risk of statin-induced myopath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ther antihyperlipidemics ( fibrate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ugs metabolized by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A4 isoform of cytochrome  P450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erythromycin, verapamil, cyclosporin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ketoconaz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2120" indent="-402120" algn="just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Pravastatin and fluvastatin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re the statins of choice in patients taking other drugs metabolized by  cytochrome 3A4 syst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13A1-65CB-4D5E-BEDE-BE29FD61B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Statin-induced myopath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32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Muscle aches, soreness, or weakness associated with an elevation of creatine kinase (CK) , are the best indicator of statin-induced myopat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Failure to recognize myopathy and to discontinue drug therapy can lead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habdomyolysis,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myoglobinuria, and acute renal necro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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serum transaminase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can progress to evident hepatotoxicit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 lab investigations recommended every 6 month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if level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up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 3 folds at any time, statin must be stopped then dose adjus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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reatine kinase activity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index of muscle injury)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easured only if myalgia or myositis develop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if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3-5 fold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tatin doses / omit combination with  fibrate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18F-475C-4990-B02A-916266A49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25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25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25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25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25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6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6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25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7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25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Niacin (Nicotinic Acid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  <a:ea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630A-9E6B-4962-8805-619E8E3AB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ew Concepts"/>
          <p:cNvPicPr/>
          <p:nvPr/>
        </p:nvPicPr>
        <p:blipFill>
          <a:blip r:embed="rId1"/>
          <a:stretch/>
        </p:blipFill>
        <p:spPr>
          <a:xfrm>
            <a:off x="33480" y="83808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3232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Lipoprotein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lasses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330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6320" y="5133960"/>
            <a:ext cx="883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Endogenous molecules that contain both proteins and lipids i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ir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transport (carry) lipids around the body in the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48F9-6D25-4225-9F75-48884C7F9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Niacin (Nicotinic Aci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Water soluble B-complex vitamin with multiple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Niacin is the most effective medication for increasing HDL cholesterol levels and it has positive effects on the complete lipid pro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t is useful for patients with mixed dyslipidemi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iacin exerts greatest beneficial effects on wide range of lipoprotein abnormal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216D-38A6-4B14-8499-0E7E5C8B9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152280" y="3805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 adipose tissue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binds to adipose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nicotinic acid receptors, this will lead to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crease in free fatty acids mobilization from adipocytes to the liver resulting i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G and thus VLDL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 liver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iacin inhibits hepatocy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diacylglycerol acyltransferase-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, a key enzyme for TG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us, it decreases VLDL production (decreased TG synthesis and estr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3. In plasma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increases LPL activity that increases clearance of VLDL &amp;  chylomic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Niacin also promotes hepatic apoA-I production and slows hepatic clearance of apoA-I and 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24A1-395A-49E3-93EC-E35A29B1C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Pharmacological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Effect on VLDL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VLDL by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)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synthesis in liver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) increased clearance i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)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mobilization of free fatty acids from adipos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ffect on LDL: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LDL due to reduction in its precursor (VL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ffect on HDL: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duces modest increase in HDL-C (The catabolism of HDL can be inhibited by nicotinic acid through a mechanism that is largely unknow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iacin also promotes hepatic apoA-I production and slows hepatic clearance of apoA-I and 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2DDC-832A-42D9-82ED-F7C41305E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1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2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8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Niacin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361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he most common side effect is cutaneous flushing,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(which is prostaglandin -mediated , can be avoided by low dose aspirin ½ h before nia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GIT disturbances: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yspepsia , n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usea , vomiting ,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activation of peptic ulcer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( can be  decreased if taken after me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igh do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versible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liver enzymes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pato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mpairment of glucose tolerance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overt diabe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5484-C2A1-4F6D-9983-6B15A9B9F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Box 5" descr=""/>
          <p:cNvPicPr/>
          <p:nvPr/>
        </p:nvPicPr>
        <p:blipFill>
          <a:blip r:embed="rId1"/>
          <a:stretch/>
        </p:blipFill>
        <p:spPr>
          <a:xfrm>
            <a:off x="-103320" y="4462560"/>
            <a:ext cx="6809040" cy="16207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169560" y="38098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4160" y="30492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228600" y="1901880"/>
            <a:ext cx="89154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ype IIa hypercholestro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ype IIa, IIb hypercholesterolemia &amp; any combined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Patient with hypertriglyceridemia &amp; low HDL-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152280" y="1093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 Narrow"/>
              </a:rPr>
              <a:t>Monotherapy or in combination with fibrate, resin or 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EBF-7A05-4720-AB79-61A6E2E9B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 Black"/>
              </a:rPr>
              <a:t>Fibric acid Derivatives (Fibrates)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  <a:ea typeface="Arial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CCCC-5116-4B61-8F07-F2C4EC47B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16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Fibrates :Mechanism of Acti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3616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brates are agonists of peroxisome proliferator activated receptors (PPAR</a:t>
            </a:r>
            <a:r>
              <a:rPr b="1" lang="el-GR" sz="3200" spc="-1" strike="noStrike">
                <a:solidFill>
                  <a:srgbClr val="ffffff"/>
                </a:solidFill>
                <a:latin typeface="Arial Narrow"/>
              </a:rPr>
              <a:t>α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 which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  <a:ea typeface="Times New Roman"/>
              </a:rPr>
              <a:t>are a class of intracellular receptors that modulate fat metabol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y increase genes transcription for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lipoprotein lipase (LPL)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ading to increased catabolism of TG in  VLDL and chylomic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xamples: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Clofibrate &amp; Gemfibrozil &amp; Fenofib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09D-8006-4D17-A542-85A28BEDE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Fibrates: pharmacological eff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PL activity, which increases clearance of VLDL &amp; chylomicron i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 marked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duction in TG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(due to stimulation of catabolism of VL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FA uptake by the li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-C uptake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C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by increasing the production of the apoprotein components of H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retion of hepatic C in bile , thus endogenous hepatic C synthesis may be de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7D2C-8B71-466F-9DAB-903881ED5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25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0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25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25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25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25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25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Fibrates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1680" indent="-571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GI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indigestion, abdominal pain, diarrhe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yositi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: can occur resulting in weakness and tenderness of muscles,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use of fibrates with statins is  generally inadvis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Gallstones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lofibrate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increases C content of bile, predisposes to gallstones, and its use is therefore limited to patients who have  cholecyst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A959-303A-4569-9C0E-001640995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31640" y="63828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ndication of 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Fib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Arial Narrow"/>
              </a:rPr>
              <a:t>1st-line defense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59220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973080" y="5445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0" y="1990800"/>
            <a:ext cx="82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mixed dyslipidemia</a:t>
            </a:r>
            <a:r>
              <a:rPr b="1" lang="cs-CZ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  <a:ea typeface="Arial"/>
              </a:rPr>
              <a:t>(i.e. raised serum TG and 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03120" y="3594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28600" y="2703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atients with low HDL and high risk of atheromatous disea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(often type 2 diabetic patients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8"/>
          <p:cNvSpPr/>
          <p:nvPr/>
        </p:nvSpPr>
        <p:spPr>
          <a:xfrm>
            <a:off x="152280" y="388476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atients with severe treatment- resistant dyslipidemia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(combination with other lipid-lowering drug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1139760" y="26114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2073-4470-430D-85AC-BBDE26E30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0"/>
          <p:cNvSpPr/>
          <p:nvPr/>
        </p:nvSpPr>
        <p:spPr>
          <a:xfrm>
            <a:off x="2003400" y="304920"/>
            <a:ext cx="26668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ery low Density lipo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VL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40"/>
          <p:cNvSpPr/>
          <p:nvPr/>
        </p:nvSpPr>
        <p:spPr>
          <a:xfrm>
            <a:off x="4467240" y="304920"/>
            <a:ext cx="2438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w Density lipo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L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606600" y="304920"/>
            <a:ext cx="1600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hylomic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CM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0"/>
          <p:cNvSpPr/>
          <p:nvPr/>
        </p:nvSpPr>
        <p:spPr>
          <a:xfrm>
            <a:off x="7010280" y="304920"/>
            <a:ext cx="21304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igh Density lipoprot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H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Impact of lipoproteins on the biological activity and disposition of hydrophobic drugs: implications for drug discovery"/>
          <p:cNvPicPr/>
          <p:nvPr/>
        </p:nvPicPr>
        <p:blipFill>
          <a:blip r:embed="rId1"/>
          <a:stretch/>
        </p:blipFill>
        <p:spPr>
          <a:xfrm>
            <a:off x="3200400" y="993600"/>
            <a:ext cx="2517840" cy="245592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1" descr=""/>
          <p:cNvPicPr/>
          <p:nvPr/>
        </p:nvPicPr>
        <p:blipFill>
          <a:blip r:embed="rId2"/>
          <a:stretch/>
        </p:blipFill>
        <p:spPr>
          <a:xfrm>
            <a:off x="-171360" y="0"/>
            <a:ext cx="1116000" cy="963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2"/>
          <p:cNvSpPr/>
          <p:nvPr/>
        </p:nvSpPr>
        <p:spPr>
          <a:xfrm>
            <a:off x="1066680" y="1611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uter</a:t>
            </a:r>
            <a:r>
              <a:rPr b="0" lang="en-US" sz="2400" spc="-1" strike="noStrike">
                <a:solidFill>
                  <a:srgbClr val="ffff00"/>
                </a:solidFill>
                <a:latin typeface="Bernard MT Condense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55"/>
          <p:cNvSpPr/>
          <p:nvPr/>
        </p:nvSpPr>
        <p:spPr>
          <a:xfrm>
            <a:off x="6172200" y="161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ner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63"/>
          <p:cNvSpPr/>
          <p:nvPr/>
        </p:nvSpPr>
        <p:spPr>
          <a:xfrm>
            <a:off x="1055520" y="1959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hospholipids Choleste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6154560" y="192708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Triglyceri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holesterol ester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7"/>
          <p:cNvSpPr/>
          <p:nvPr/>
        </p:nvSpPr>
        <p:spPr>
          <a:xfrm>
            <a:off x="1071720" y="26258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Narrow"/>
              </a:rPr>
              <a:t>Hydrophilic Gp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69"/>
          <p:cNvSpPr/>
          <p:nvPr/>
        </p:nvSpPr>
        <p:spPr>
          <a:xfrm>
            <a:off x="6157800" y="25876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Narrow"/>
              </a:rPr>
              <a:t>Lipophylic G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ight Arrow 70"/>
          <p:cNvSpPr/>
          <p:nvPr/>
        </p:nvSpPr>
        <p:spPr>
          <a:xfrm>
            <a:off x="2743200" y="23623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55000"/>
          </a:solidFill>
          <a:ln w="255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ight Arrow 71"/>
          <p:cNvSpPr/>
          <p:nvPr/>
        </p:nvSpPr>
        <p:spPr>
          <a:xfrm flipH="1" rot="20322000">
            <a:off x="4984560" y="1905120"/>
            <a:ext cx="1199880" cy="3045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00000"/>
          </a:solidFill>
          <a:ln w="255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ight Arrow 72"/>
          <p:cNvSpPr/>
          <p:nvPr/>
        </p:nvSpPr>
        <p:spPr>
          <a:xfrm flipH="1">
            <a:off x="4343400" y="9907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73"/>
          <p:cNvSpPr/>
          <p:nvPr/>
        </p:nvSpPr>
        <p:spPr>
          <a:xfrm>
            <a:off x="5181480" y="936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o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33520" y="4014720"/>
            <a:ext cx="81532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oproteins are classified into five major families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hich differ in the amounts of C, TG and typ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oproteins they cont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Chylomicro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Very low density 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VL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Intermediate - density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I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Low density 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L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High density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H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3AE-624C-482B-8CC4-C8ED7EB35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8"/>
          <p:cNvSpPr/>
          <p:nvPr/>
        </p:nvSpPr>
        <p:spPr>
          <a:xfrm>
            <a:off x="228600" y="955800"/>
            <a:ext cx="89154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G.I.T upset, headache, fatigue, weight g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Rash, urticaria, hair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Myalagia, Myositis, Rhabdomyolysi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cute renal failure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ard MT Condensed"/>
              </a:rPr>
              <a:t>Occurs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In alcoholic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If combined with statins (each –ve metabolism of other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In impaired renal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fibrates should be used with caution in patients with biliary tract diseas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, as they i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ncrease the risk of cholesterol gallstone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s a result of 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an increase in the cholesterol content of b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9"/>
          <p:cNvSpPr/>
          <p:nvPr/>
        </p:nvSpPr>
        <p:spPr>
          <a:xfrm>
            <a:off x="285840" y="40924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Interactions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5228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ADRs</a:t>
            </a:r>
            <a:r>
              <a:rPr b="0" lang="en-US" sz="2200" spc="-1" strike="noStrike">
                <a:solidFill>
                  <a:srgbClr val="ff6600"/>
                </a:solidFill>
                <a:latin typeface="Bernard MT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228600" y="4933800"/>
            <a:ext cx="8839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y displace warfarin from their protein binding site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bleeding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tendenc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nticoagulant dose must be adju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metabolism of  statin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toxicit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myalgia, myositis, …….etc. Give lower d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1930-BDD7-4FE9-9D2B-64AC15E31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Drug intera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creased risk of myopathy when combined with stat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splace drugs from plasma proteins (e.g.oral anticoagulants and oral hypoglycemic dru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tients with impaired renal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egnant or nursing wo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eexisting gall bladder disea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1E1-2228-4781-B05E-1D9B98B23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F72-5BC1-4ECD-B4BE-016CE1F61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S29847-015-f002"/>
          <p:cNvPicPr/>
          <p:nvPr/>
        </p:nvPicPr>
        <p:blipFill>
          <a:blip r:embed="rId1"/>
          <a:stretch/>
        </p:blipFill>
        <p:spPr>
          <a:xfrm>
            <a:off x="228600" y="1422360"/>
            <a:ext cx="8748720" cy="42163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1024920" y="49356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Sites and mechanism of drugs for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Medications for Hyperlipidem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3520" y="1066680"/>
          <a:ext cx="8153280" cy="549936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  <a:gridCol w="2514600"/>
                <a:gridCol w="2362320"/>
              </a:tblGrid>
              <a:tr h="44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Drug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Ag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Effects (% chang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de Eff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MG CoA reductase inhibito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ast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vast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DL (18-55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5-1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lycerides (7-3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opathy, increased liver enzy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olesterol absorption inhibi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zetimi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ff"/>
                        </a:buClr>
                        <a:buSzPct val="75000"/>
                        <a:buFont typeface="Symbol" charset="2"/>
                        <a:buChar char="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( 14-18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ff"/>
                        </a:buClr>
                        <a:buSzPct val="75000"/>
                        <a:buFont typeface="Symbol" charset="2"/>
                        <a:buChar char="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1-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lyceride 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dache, GI dist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cotinic Ac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 (15-30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DL (15-3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riglyceride (20-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lush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yperglycemia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uricemia, GI distress, hepatotoxi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bric Aci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mfibroz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ofib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 (5-20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10-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riglyceride (20-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pepsia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gallston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opath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e Acid sequest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lestyram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hange in triglyceri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distress, constipation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creased absorption of other dru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5A00-8524-472D-89BA-2DDC64783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ntihyperlipedemic combin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Indic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re hypertriglycerdemia or severe hypercholesterol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o take lower doses of each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igh LDL or VLDL not normalized with a single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083-060C-4B70-AD2F-8ED02A506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66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si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reases the absorption of statins and ezetimib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Statin &amp; ezetimibe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ynergisti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tin blocks synthesis of endogenous cholesterol while ezetimibe blocks ex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Statins &amp; Fibrate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raindicated (in full dose) because the incidence of myopathy may incre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o, use not more than ¼ maximum dose of statin and use prava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F7E-D73A-44EB-8FA7-B39F47BB4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3"/>
          <p:cNvSpPr/>
          <p:nvPr/>
        </p:nvSpPr>
        <p:spPr>
          <a:xfrm>
            <a:off x="457200" y="2533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 Narrow"/>
              </a:rPr>
              <a:t>Adjuvants in hyperlipid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22D-52DE-4800-B8DD-00333FC0F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6" descr=""/>
          <p:cNvPicPr/>
          <p:nvPr/>
        </p:nvPicPr>
        <p:blipFill>
          <a:blip r:embed="rId1"/>
          <a:stretch/>
        </p:blipFill>
        <p:spPr>
          <a:xfrm>
            <a:off x="23760" y="92160"/>
            <a:ext cx="2743200" cy="10602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707200" y="30312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und in fish oils containing highly unsaturated 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41120" y="1927080"/>
            <a:ext cx="4572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latelet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longation of bleeding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ti-inflammatory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141120" y="1146240"/>
            <a:ext cx="4915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nzymes involved in TG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ta-oxidation of F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141120" y="71136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Narrow"/>
              </a:rPr>
              <a:t>Mechanis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Group 34"/>
          <p:cNvGrpSpPr/>
          <p:nvPr/>
        </p:nvGrpSpPr>
        <p:grpSpPr>
          <a:xfrm>
            <a:off x="293760" y="3505320"/>
            <a:ext cx="8850240" cy="429120"/>
            <a:chOff x="293760" y="3505320"/>
            <a:chExt cx="8850240" cy="429120"/>
          </a:xfrm>
        </p:grpSpPr>
        <p:sp>
          <p:nvSpPr>
            <p:cNvPr id="413" name="Rectangle 12"/>
            <p:cNvSpPr/>
            <p:nvPr/>
          </p:nvSpPr>
          <p:spPr>
            <a:xfrm>
              <a:off x="293760" y="350532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Indications</a:t>
              </a:r>
              <a:r>
                <a:rPr b="0" lang="en-US" sz="2200" spc="-1" strike="noStrike">
                  <a:solidFill>
                    <a:srgbClr val="ff6600"/>
                  </a:solidFill>
                  <a:latin typeface="Bernard MT Condense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1752480" y="3516120"/>
              <a:ext cx="7391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Approved as adjunctive for treatment of very high  TG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27"/>
          <p:cNvGrpSpPr/>
          <p:nvPr/>
        </p:nvGrpSpPr>
        <p:grpSpPr>
          <a:xfrm>
            <a:off x="4952880" y="1246320"/>
            <a:ext cx="1371600" cy="609480"/>
            <a:chOff x="4952880" y="1246320"/>
            <a:chExt cx="1371600" cy="609480"/>
          </a:xfrm>
        </p:grpSpPr>
        <p:sp>
          <p:nvSpPr>
            <p:cNvPr id="416" name="Right Brace 17"/>
            <p:cNvSpPr/>
            <p:nvPr/>
          </p:nvSpPr>
          <p:spPr>
            <a:xfrm>
              <a:off x="4952880" y="124632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 h 609480"/>
                <a:gd name="textAreaBottom" fmla="*/ 605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25"/>
                    <a:pt x="10800" y="450"/>
                  </a:cubicBezTo>
                  <a:lnTo>
                    <a:pt x="10800" y="10350"/>
                  </a:lnTo>
                  <a:cubicBezTo>
                    <a:pt x="10800" y="10575"/>
                    <a:pt x="16200" y="10800"/>
                    <a:pt x="21600" y="10800"/>
                  </a:cubicBezTo>
                  <a:cubicBezTo>
                    <a:pt x="16200" y="10800"/>
                    <a:pt x="10800" y="11025"/>
                    <a:pt x="10800" y="11250"/>
                  </a:cubicBezTo>
                  <a:lnTo>
                    <a:pt x="10800" y="21150"/>
                  </a:lnTo>
                  <a:cubicBezTo>
                    <a:pt x="10800" y="21375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5181480" y="13222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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T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19"/>
          <p:cNvSpPr/>
          <p:nvPr/>
        </p:nvSpPr>
        <p:spPr>
          <a:xfrm>
            <a:off x="5181480" y="762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Narrow"/>
              </a:rPr>
              <a:t>Pharmacological Eff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Group 32"/>
          <p:cNvGrpSpPr/>
          <p:nvPr/>
        </p:nvGrpSpPr>
        <p:grpSpPr>
          <a:xfrm>
            <a:off x="4951440" y="2057400"/>
            <a:ext cx="3735360" cy="1079640"/>
            <a:chOff x="4951440" y="2057400"/>
            <a:chExt cx="3735360" cy="1079640"/>
          </a:xfrm>
        </p:grpSpPr>
        <p:sp>
          <p:nvSpPr>
            <p:cNvPr id="420" name="Right Brace 20"/>
            <p:cNvSpPr/>
            <p:nvPr/>
          </p:nvSpPr>
          <p:spPr>
            <a:xfrm>
              <a:off x="4951440" y="2057400"/>
              <a:ext cx="166680" cy="1079640"/>
            </a:xfrm>
            <a:custGeom>
              <a:avLst/>
              <a:gdLst>
                <a:gd name="textAreaLeft" fmla="*/ 0 w 166680"/>
                <a:gd name="textAreaRight" fmla="*/ 60120 w 166680"/>
                <a:gd name="textAreaTop" fmla="*/ 4320 h 1079640"/>
                <a:gd name="textAreaBottom" fmla="*/ 10753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9"/>
                    <a:pt x="10800" y="278"/>
                  </a:cubicBezTo>
                  <a:lnTo>
                    <a:pt x="10800" y="10522"/>
                  </a:lnTo>
                  <a:cubicBezTo>
                    <a:pt x="10800" y="10661"/>
                    <a:pt x="16200" y="10800"/>
                    <a:pt x="21600" y="10800"/>
                  </a:cubicBezTo>
                  <a:cubicBezTo>
                    <a:pt x="16200" y="10800"/>
                    <a:pt x="10800" y="10939"/>
                    <a:pt x="10800" y="11078"/>
                  </a:cubicBezTo>
                  <a:lnTo>
                    <a:pt x="10800" y="21322"/>
                  </a:lnTo>
                  <a:cubicBezTo>
                    <a:pt x="10800" y="2146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21"/>
            <p:cNvSpPr/>
            <p:nvPr/>
          </p:nvSpPr>
          <p:spPr>
            <a:xfrm>
              <a:off x="5181480" y="2427120"/>
              <a:ext cx="3505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ome vascular pro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Rectangle 23"/>
          <p:cNvSpPr/>
          <p:nvPr/>
        </p:nvSpPr>
        <p:spPr>
          <a:xfrm>
            <a:off x="387720" y="402912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Arial Narrow"/>
              </a:rPr>
              <a:t>β-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itostero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24"/>
          <p:cNvSpPr/>
          <p:nvPr/>
        </p:nvSpPr>
        <p:spPr>
          <a:xfrm>
            <a:off x="2475000" y="441792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und in plants with structure similar to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36"/>
          <p:cNvGrpSpPr/>
          <p:nvPr/>
        </p:nvGrpSpPr>
        <p:grpSpPr>
          <a:xfrm>
            <a:off x="152280" y="4971960"/>
            <a:ext cx="8763120" cy="770760"/>
            <a:chOff x="152280" y="4971960"/>
            <a:chExt cx="8763120" cy="770760"/>
          </a:xfrm>
        </p:grpSpPr>
        <p:sp>
          <p:nvSpPr>
            <p:cNvPr id="425" name="Rectangle 25"/>
            <p:cNvSpPr/>
            <p:nvPr/>
          </p:nvSpPr>
          <p:spPr>
            <a:xfrm>
              <a:off x="152280" y="4971960"/>
              <a:ext cx="525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Mechanism &amp;Pharmacological Effect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Bernard MT Condense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26"/>
            <p:cNvSpPr/>
            <p:nvPr/>
          </p:nvSpPr>
          <p:spPr>
            <a:xfrm>
              <a:off x="152280" y="528300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ete with dietary &amp; biliary C absorp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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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 levels LDL levels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 Narrow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1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37"/>
          <p:cNvGrpSpPr/>
          <p:nvPr/>
        </p:nvGrpSpPr>
        <p:grpSpPr>
          <a:xfrm>
            <a:off x="139680" y="5962680"/>
            <a:ext cx="8699400" cy="436320"/>
            <a:chOff x="139680" y="5962680"/>
            <a:chExt cx="8699400" cy="436320"/>
          </a:xfrm>
        </p:grpSpPr>
        <p:sp>
          <p:nvSpPr>
            <p:cNvPr id="428" name="Rectangle 28"/>
            <p:cNvSpPr/>
            <p:nvPr/>
          </p:nvSpPr>
          <p:spPr>
            <a:xfrm>
              <a:off x="139680" y="59626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Ind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30"/>
            <p:cNvSpPr/>
            <p:nvPr/>
          </p:nvSpPr>
          <p:spPr>
            <a:xfrm>
              <a:off x="1447560" y="6000480"/>
              <a:ext cx="7391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Given as food supplement before meal  in hypercholestrolemi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Straight Connector 33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588-F11A-4B5F-BDA9-E3F4DC70F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Atherogenic</a:t>
            </a:r>
            <a:r>
              <a:rPr b="1" lang="en-US" sz="44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Partic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4647960" cy="207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0" y="1219320"/>
            <a:ext cx="89154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Oval 5"/>
          <p:cNvSpPr/>
          <p:nvPr/>
        </p:nvSpPr>
        <p:spPr>
          <a:xfrm rot="20692800">
            <a:off x="2592360" y="1600200"/>
            <a:ext cx="601992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 rot="20692800">
            <a:off x="3416400" y="4657320"/>
            <a:ext cx="404964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136-F8A1-4D5D-BACF-29056F5CF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520" y="277920"/>
            <a:ext cx="86025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Normal Lipid lev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6520" y="1676520"/>
            <a:ext cx="86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             &lt; 200 mg/dl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G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&lt;  220 m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DL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&lt;  130 mg/dl  (Bad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HDL         &gt; 50 mg/dl   (Good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pids levels are detected in serum after a 12-hour f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98C3-BCF3-4B68-AD31-1F82456B5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Factors promoting elevated blood lipi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amily history of C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moking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(reduced levels of HDL, cytotoxic effects on the endothelium, increased oxidation of lipoproteins, and stimulation of thrombogenes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M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increased generation of VLDL and free fatty acids presented to the li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activity / lack of exer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lcohol intak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 increases T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6224-09DB-4945-91CB-0374C1F19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544760"/>
          <a:ext cx="6019920" cy="4475160"/>
        </p:xfrm>
        <a:graphic>
          <a:graphicData uri="http://schemas.openxmlformats.org/drawingml/2006/table">
            <a:tbl>
              <a:tblPr/>
              <a:tblGrid>
                <a:gridCol w="1594080"/>
                <a:gridCol w="1681200"/>
                <a:gridCol w="1328760"/>
                <a:gridCol w="1415880"/>
              </a:tblGrid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Protein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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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 &amp; 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8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 &amp;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</a:tbl>
          </a:graphicData>
        </a:graphic>
      </p:graphicFrame>
      <p:sp>
        <p:nvSpPr>
          <p:cNvPr id="138" name="Oval 28"/>
          <p:cNvSpPr/>
          <p:nvPr/>
        </p:nvSpPr>
        <p:spPr>
          <a:xfrm>
            <a:off x="1447920" y="2362320"/>
            <a:ext cx="601956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Rectangle 32" descr=""/>
          <p:cNvPicPr/>
          <p:nvPr/>
        </p:nvPicPr>
        <p:blipFill>
          <a:blip r:embed="rId1"/>
          <a:stretch/>
        </p:blipFill>
        <p:spPr>
          <a:xfrm>
            <a:off x="1006560" y="291960"/>
            <a:ext cx="7472160" cy="11764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62A-DC79-4F2C-B81C-15FE6F35C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1:26:52Z</dcterms:created>
  <dc:creator>Computer Services</dc:creator>
  <dc:description/>
  <dc:language>en-US</dc:language>
  <cp:lastModifiedBy>Bassiouni</cp:lastModifiedBy>
  <cp:lastPrinted>2000-03-16T13:34:08Z</cp:lastPrinted>
  <dcterms:modified xsi:type="dcterms:W3CDTF">2016-03-21T20:10:10Z</dcterms:modified>
  <cp:revision>167</cp:revision>
  <dc:subject/>
  <dc:title>Autoimmune Diseases</dc:title>
</cp:coreProperties>
</file>