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4F2-7697-4C2F-AF9E-C91C7B3FA37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8453-7902-48EA-8A10-A012A36619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986-5352-4571-8EE8-60115930D3F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1D0-6605-4E89-8CC2-A57FC5BB0F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F091-B2A1-49E5-8542-C9042B7A2A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C87B-C84C-4A1D-A6C2-44554A6580B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96E9-243F-425C-A833-EF3AC0AA22C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3440-F773-41BE-B3EA-D7DCAAD1B2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11C9-2B84-49F1-8FBC-F01967378D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3EA-15AD-440D-8018-29FA9F626C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7EF7-B8DE-4A0D-A5B6-C567927761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76AB-FE87-4497-89CA-AB3535560172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D328-5133-44D7-975F-577C13127B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8D1-FF3F-467C-9031-5385CB625F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7DA-1FA5-4D5C-8B97-2BF858F634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3E78-1B6C-46A3-B978-6E67CA1B28F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50D6-7AE5-41EA-85FA-C8C0489BAE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5352-4BF9-40BF-86F4-D70FBD4B55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939-481F-414B-9E2A-3016585E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E43-2B6A-425F-BAE0-ADF9FCBD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8DD-DF8E-46E1-8D13-55644FB9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F8E-9D01-4643-B902-2A6DCC9E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6E4-9A89-4BFC-B80C-5091D270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5E0-BCC7-48CC-86D4-D441A9D7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78B-96DB-4A82-9EA3-17F5BCD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06C-7B43-4F95-9B5D-CC4879E8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5EA-3622-43F4-984A-8CA570A5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CF8-2985-4E63-9522-77E9658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D50-897D-4FCC-8EC7-18BE2423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BEC-9D1F-4A41-B3E6-96BA5692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EC8-9A6C-4402-88E9-486EADF3B45C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harmacology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Metabolic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ycogenolysi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ucagon secretion in panc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ysis in adipocy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ten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Narrow"/>
              </a:rPr>
              <a:t>ndr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P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nal perfu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l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–Adrenergic blockers mask hypoglycemic manifestations in diabetic patients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2280" y="1519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ardiovascular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hyth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stive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hronic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yperthyroidism (thyrotoxic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igraine prophyl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Hypertensio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pranolol, atenolol, bisoprol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Labetalol: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e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hypertensive pregnant &amp; hypertensive cri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cardiac arrhythmi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supraventricular &amp; ventricular arrhythmi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isoprolol and carvedilol are preferr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Angina pector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rt rate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cardiac work &amp; oxygen dem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frequency of angina episo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ongestive heart fail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 carvedilo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8a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3e"/>
                </a:solidFill>
                <a:latin typeface="Times New Roman"/>
              </a:rPr>
              <a:t>antioxid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non selectiv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B blo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remodeling &amp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sk of sudden death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yocardial infar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Have cardio-protective eff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rct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bidity &amp; mortality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O2 dem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-arrhythmic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 of sudden dea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-883800" y="152280"/>
            <a:ext cx="8343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320" y="152280"/>
            <a:ext cx="8991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Hyperthyro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tect the heart against sympathetic over st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anxiety (Social and performance ty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g. 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5960" y="759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Migrai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ophylac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episodes of chronic migra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atecholamine-induced vasodilatation in the brain vascula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e.g. proprano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sed wit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(never al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lower the elevated blood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protect the heart from 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1- recep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adycardia, hypotension,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- recep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nly with non-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ypoglyc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#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sthma, emphyse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ld extremities &amp; intermittent claudication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y vasoconstr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rectile dysfunction &amp; impo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G hyertriglyceri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onary spasm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 variant angina pat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All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Adrenergic block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sk hypoglycemic manifestations i.e. tachycardia, sweating,…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pression, and hallucin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astrointestinal disturb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dium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Sudden stoppage will give rise to a withdrawal syndr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bound angina, arrhythmia, myocardial infarction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ertension </a:t>
            </a: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WHY ?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Up-regulation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-recep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prevent withdrawal manifestations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rug withdrawn gradu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9144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Heart Block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beta blockers can precipitate heart bloc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Bronchial Asthm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Peripheral vascular diseas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iabetic patient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asking of hypoglycaemia /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GIVEN CAUSIOUS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one in pheochromocytoma (must be given with 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ontraindication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6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0" y="1828800"/>
            <a:ext cx="10717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Kinet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0" y="609480"/>
            <a:ext cx="885816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n-Selective Competitive Block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mbrane stabilizing action/ quinidine-like /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dative actions /No 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0" y="2286000"/>
            <a:ext cx="9117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Lipophili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mpletely absorbed, 70% destroyed during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ass hepatic metabolism, 90-95% protein bound, cross BBB and excreted in uri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n be given p.o or parente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152280" y="3657600"/>
            <a:ext cx="12859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Dynam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6019920" y="152280"/>
            <a:ext cx="29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s the chosen as  proto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152280" y="4233960"/>
            <a:ext cx="89154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-blocking Effec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Membrane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Block Na channel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irect depressan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yocardium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has local anesthetic effect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(anti-arrhythmic eff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CNS Effect: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 Has sedative ac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remors &amp; anxiety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used to protect against social anxiety performance anxie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lassification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-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66720" y="1143000"/>
            <a:ext cx="44960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Antagon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ocks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&amp;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recep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a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im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 </a:t>
            </a:r>
            <a:r>
              <a:rPr b="1" lang="en-US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(P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1143000"/>
            <a:ext cx="4038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 antagon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ten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is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s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(CAT BITES 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981080" y="3962520"/>
            <a:ext cx="4800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Monotype Corsiva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xed </a:t>
            </a:r>
            <a:r>
              <a:rPr b="1" lang="el-GR" sz="2800" spc="-1" strike="noStrike">
                <a:solidFill>
                  <a:srgbClr val="0000ff"/>
                </a:solidFill>
                <a:latin typeface="Times New Roman"/>
              </a:rPr>
              <a:t>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receptors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vedi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ta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6"/>
          <p:cNvSpPr/>
          <p:nvPr/>
        </p:nvSpPr>
        <p:spPr>
          <a:xfrm>
            <a:off x="0" y="0"/>
            <a:ext cx="26258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357120" y="4530600"/>
            <a:ext cx="885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0" y="45720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8"/>
          <p:cNvSpPr/>
          <p:nvPr/>
        </p:nvSpPr>
        <p:spPr>
          <a:xfrm>
            <a:off x="0" y="914400"/>
            <a:ext cx="88581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eart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 -ischemic a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work +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O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on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-arrhythmic effect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excitability, automaticity &amp;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y membrane stabilizing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0" y="3352680"/>
            <a:ext cx="88581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hypertensive action by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blockade :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renin &amp; RASS sys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sympathetic outflow in C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"/>
          <p:cNvSpPr/>
          <p:nvPr/>
        </p:nvSpPr>
        <p:spPr>
          <a:xfrm>
            <a:off x="228600" y="2143080"/>
            <a:ext cx="6143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ronchi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onchospasm specially in susceptible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1200" y="3000240"/>
            <a:ext cx="5357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ntestine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stinal mo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85840" y="3857760"/>
            <a:ext cx="885816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etabolism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mainl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liver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ycogenolysis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Hypoglycaem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ancrea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ucagon secr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dipocyt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Lipoly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skeletal muscl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85840" y="5661000"/>
            <a:ext cx="885816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n peripheral &amp; central nervous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as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tremors &amp; </a:t>
            </a: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anxie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85840" y="60948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1631520" y="6732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14200" y="1143000"/>
            <a:ext cx="88585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lood Vessels [BV]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soconstri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blood flow specially to muscles, other organs except bra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76320" y="103320"/>
            <a:ext cx="248256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152280" y="685800"/>
            <a:ext cx="15004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INDIC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285840" y="154764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Arrhythm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Ang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Myocardial infar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Migraine [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hylaxis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Pheochromocytoma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blockers (never al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Chronic glauc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Trem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Anxiety;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specially social &amp; performance type)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46160" y="76320"/>
            <a:ext cx="19112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LABETA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3657600"/>
            <a:ext cx="242892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VEDI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52280" y="463680"/>
            <a:ext cx="8634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id acting, non-selective with ISA &amp;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 not alter serum lipids or blood 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iven p.o and i.v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re hypertension in pheochromocyto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ypertensive crisis (e.g. during abrupt withdrawal of clonidin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in pregnancy-induced 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thostatic hypotension, sedation &amp; dizzin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0" y="4114800"/>
            <a:ext cx="8786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n-selective with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o ISA &amp; no local anesthetic effec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NTIOXIDANT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vorable metabolic pro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effective i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CONGESTIVE HEART FAILUR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verses its  pathophysiological chan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lective </a:t>
            </a: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lectivity present in low doses but is lost at high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change in lipid or gluco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are preferable in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sthma, CO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aynaud's phenomenon &amp; PV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abetics/ Dyslipidemia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t Angina (coronary spas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76320" y="228600"/>
            <a:ext cx="899136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Bernard MT Condensed"/>
                <a:ea typeface="Times New Roman"/>
              </a:rPr>
              <a:t>Summary of B-blockers u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Hypertens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 Bisoprolol &gt;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cardiac arrhythmia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molol (ultra-short acting), Atenolol, Propranol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Congestive heart failu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vedilol, Bisoprolol, Metopr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Myocardial infarction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Glaucom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im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Migraine prophylaxi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Relief of anxiety (social &amp; performance)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Thyrotoxicosis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34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533520"/>
          <a:ext cx="8915400" cy="6218280"/>
        </p:xfrm>
        <a:graphic>
          <a:graphicData uri="http://schemas.openxmlformats.org/drawingml/2006/table">
            <a:tbl>
              <a:tblPr/>
              <a:tblGrid>
                <a:gridCol w="1876680"/>
                <a:gridCol w="1955520"/>
                <a:gridCol w="5083200"/>
              </a:tblGrid>
              <a:tr h="13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ra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raine prophyl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hyroidism (thyrotoxico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eve anxiety (social performanc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uc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ocardial infar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Ultra 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ac arrhythm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vedi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estive heart fail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ta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 in pregna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ve emerg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8"/>
          <p:cNvSpPr/>
          <p:nvPr/>
        </p:nvSpPr>
        <p:spPr>
          <a:xfrm>
            <a:off x="0" y="5791320"/>
            <a:ext cx="9144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 membrane stabilizing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lock Na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Quinidine-like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arrythmic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31"/>
          <p:cNvSpPr/>
          <p:nvPr/>
        </p:nvSpPr>
        <p:spPr>
          <a:xfrm>
            <a:off x="2320920" y="21420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1000080" y="1649160"/>
            <a:ext cx="7072200" cy="285840"/>
            <a:chOff x="1000080" y="1649160"/>
            <a:chExt cx="7072200" cy="285840"/>
          </a:xfrm>
        </p:grpSpPr>
        <p:sp>
          <p:nvSpPr>
            <p:cNvPr id="57" name="Straight Connector 5"/>
            <p:cNvSpPr/>
            <p:nvPr/>
          </p:nvSpPr>
          <p:spPr>
            <a:xfrm>
              <a:off x="1000080" y="16495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8" name="Straight Arrow Connector 9"/>
            <p:cNvCxnSpPr/>
            <p:nvPr/>
          </p:nvCxnSpPr>
          <p:spPr>
            <a:xfrm flipH="1">
              <a:off x="1047240" y="1649160"/>
              <a:ext cx="36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Straight Arrow Connector 14"/>
            <p:cNvCxnSpPr/>
            <p:nvPr/>
          </p:nvCxnSpPr>
          <p:spPr>
            <a:xfrm flipH="1">
              <a:off x="8016120" y="1649160"/>
              <a:ext cx="54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0" name="TextBox 33"/>
          <p:cNvSpPr/>
          <p:nvPr/>
        </p:nvSpPr>
        <p:spPr>
          <a:xfrm>
            <a:off x="7143840" y="2008080"/>
            <a:ext cx="157140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428760" y="1928880"/>
            <a:ext cx="164304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Non-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Group 85"/>
          <p:cNvGrpSpPr/>
          <p:nvPr/>
        </p:nvGrpSpPr>
        <p:grpSpPr>
          <a:xfrm>
            <a:off x="485640" y="2266920"/>
            <a:ext cx="7728120" cy="787320"/>
            <a:chOff x="485640" y="2266920"/>
            <a:chExt cx="7728120" cy="787320"/>
          </a:xfrm>
        </p:grpSpPr>
        <p:sp>
          <p:nvSpPr>
            <p:cNvPr id="63" name="Rectangle 36"/>
            <p:cNvSpPr/>
            <p:nvPr/>
          </p:nvSpPr>
          <p:spPr>
            <a:xfrm>
              <a:off x="485640" y="2266920"/>
              <a:ext cx="1483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&amp;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37"/>
            <p:cNvSpPr/>
            <p:nvPr/>
          </p:nvSpPr>
          <p:spPr>
            <a:xfrm>
              <a:off x="7121880" y="2332440"/>
              <a:ext cx="109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38"/>
          <p:cNvGrpSpPr/>
          <p:nvPr/>
        </p:nvGrpSpPr>
        <p:grpSpPr>
          <a:xfrm>
            <a:off x="1000080" y="4230720"/>
            <a:ext cx="7072200" cy="286200"/>
            <a:chOff x="1000080" y="4230720"/>
            <a:chExt cx="7072200" cy="286200"/>
          </a:xfrm>
        </p:grpSpPr>
        <p:sp>
          <p:nvSpPr>
            <p:cNvPr id="66" name="Straight Connector 39"/>
            <p:cNvSpPr/>
            <p:nvPr/>
          </p:nvSpPr>
          <p:spPr>
            <a:xfrm>
              <a:off x="1000080" y="42307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7" name="Straight Arrow Connector 40"/>
            <p:cNvCxnSpPr/>
            <p:nvPr/>
          </p:nvCxnSpPr>
          <p:spPr>
            <a:xfrm flipH="1">
              <a:off x="1047240" y="423072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41"/>
            <p:cNvCxnSpPr/>
            <p:nvPr/>
          </p:nvCxnSpPr>
          <p:spPr>
            <a:xfrm flipH="1">
              <a:off x="8016120" y="423072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9" name="TextBox 42"/>
          <p:cNvSpPr/>
          <p:nvPr/>
        </p:nvSpPr>
        <p:spPr>
          <a:xfrm>
            <a:off x="357120" y="2587680"/>
            <a:ext cx="40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, Sotalol, Timolol (E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Box 43"/>
          <p:cNvSpPr/>
          <p:nvPr/>
        </p:nvSpPr>
        <p:spPr>
          <a:xfrm>
            <a:off x="4788000" y="258768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Bisoprolol, Metoprolol, Esm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500040" y="4491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out I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6516720" y="4562640"/>
            <a:ext cx="255600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 ISA (</a:t>
            </a:r>
            <a:r>
              <a:rPr b="0" lang="en-US" sz="1200" spc="-1" strike="noStrike">
                <a:solidFill>
                  <a:srgbClr val="000000"/>
                </a:solidFill>
                <a:latin typeface="Bernard MT Condensed"/>
              </a:rPr>
              <a:t>may activate beta recepto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095880" y="48830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labeta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49"/>
          <p:cNvSpPr/>
          <p:nvPr/>
        </p:nvSpPr>
        <p:spPr>
          <a:xfrm>
            <a:off x="357120" y="48531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 Bisoprolol, Metopr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, Sotalol, Timolol, carvedi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traight Connector 56"/>
          <p:cNvSpPr/>
          <p:nvPr/>
        </p:nvSpPr>
        <p:spPr>
          <a:xfrm>
            <a:off x="0" y="342756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70"/>
          <p:cNvSpPr/>
          <p:nvPr/>
        </p:nvSpPr>
        <p:spPr>
          <a:xfrm>
            <a:off x="395280" y="2894040"/>
            <a:ext cx="76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Labetalol, Carvedilol (mixed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 blocke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75"/>
          <p:cNvSpPr/>
          <p:nvPr/>
        </p:nvSpPr>
        <p:spPr>
          <a:xfrm>
            <a:off x="428760" y="11955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cording to sel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-34920" y="76500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  <a:ea typeface="Times New Roman"/>
              </a:rPr>
              <a:t>Pharmacodynamic 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79"/>
          <p:cNvSpPr/>
          <p:nvPr/>
        </p:nvSpPr>
        <p:spPr>
          <a:xfrm>
            <a:off x="47520" y="6242040"/>
            <a:ext cx="62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, labeta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Straight Connector 80"/>
          <p:cNvSpPr/>
          <p:nvPr/>
        </p:nvSpPr>
        <p:spPr>
          <a:xfrm>
            <a:off x="0" y="564048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3"/>
          <p:cNvSpPr/>
          <p:nvPr/>
        </p:nvSpPr>
        <p:spPr>
          <a:xfrm>
            <a:off x="0" y="314172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0" y="3516480"/>
            <a:ext cx="914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agonistic/antagonistic action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insic Sympathomimetic Activity </a:t>
            </a:r>
            <a:r>
              <a:rPr b="0" lang="en-US" sz="2400" spc="-1" strike="noStrike">
                <a:solidFill>
                  <a:srgbClr val="4e00c0"/>
                </a:solidFill>
                <a:latin typeface="Bernard MT Condensed"/>
              </a:rPr>
              <a:t>( ISA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Box 84"/>
          <p:cNvSpPr/>
          <p:nvPr/>
        </p:nvSpPr>
        <p:spPr>
          <a:xfrm>
            <a:off x="0" y="5516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traight Connector 86"/>
          <p:cNvSpPr/>
          <p:nvPr/>
        </p:nvSpPr>
        <p:spPr>
          <a:xfrm>
            <a:off x="71280" y="126684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82"/>
          <p:cNvSpPr/>
          <p:nvPr/>
        </p:nvSpPr>
        <p:spPr>
          <a:xfrm>
            <a:off x="0" y="1052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5228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their lipid solu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1066680" y="1085760"/>
            <a:ext cx="7072560" cy="286200"/>
            <a:chOff x="1066680" y="1085760"/>
            <a:chExt cx="7072560" cy="286200"/>
          </a:xfrm>
        </p:grpSpPr>
        <p:sp>
          <p:nvSpPr>
            <p:cNvPr id="88" name="Straight Connector 9"/>
            <p:cNvSpPr/>
            <p:nvPr/>
          </p:nvSpPr>
          <p:spPr>
            <a:xfrm>
              <a:off x="1066680" y="1085760"/>
              <a:ext cx="7072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9" name="Straight Arrow Connector 10"/>
            <p:cNvCxnSpPr/>
            <p:nvPr/>
          </p:nvCxnSpPr>
          <p:spPr>
            <a:xfrm flipH="1">
              <a:off x="1113840" y="108576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Straight Arrow Connector 11"/>
            <p:cNvCxnSpPr/>
            <p:nvPr/>
          </p:nvCxnSpPr>
          <p:spPr>
            <a:xfrm flipH="1">
              <a:off x="8083080" y="108576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1" name="TextBox 12"/>
          <p:cNvSpPr/>
          <p:nvPr/>
        </p:nvSpPr>
        <p:spPr>
          <a:xfrm>
            <a:off x="7162920" y="1390680"/>
            <a:ext cx="171432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Hydrophi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533520" y="1467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Lipophyl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63648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  <a:ea typeface="Times New Roman"/>
              </a:rPr>
              <a:t>Pharmacokinetic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2128680"/>
          <a:ext cx="8839440" cy="366264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733920"/>
              </a:tblGrid>
              <a:tr h="570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p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 absor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 metabol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/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S 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pr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ranolol, Tim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talol , Carvedilol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olol, Bisprolol, Esmolol Sotalol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0"/>
          <p:cNvSpPr/>
          <p:nvPr/>
        </p:nvSpPr>
        <p:spPr>
          <a:xfrm>
            <a:off x="0" y="6027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NS depressant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Sedative effect</a:t>
            </a:r>
            <a:r>
              <a:rPr b="1" lang="en-US" sz="2400" spc="-1" strike="noStrike">
                <a:solidFill>
                  <a:srgbClr val="4e00c0"/>
                </a:solidFill>
                <a:latin typeface="Wingdings 3"/>
                <a:ea typeface="Wingdings 3"/>
              </a:rPr>
              <a:t>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Anx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2320920" y="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1519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armacokinetis of </a:t>
            </a:r>
            <a:r>
              <a:rPr b="1" i="1" lang="en-US" sz="33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blocker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are lipid sol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Lipid solubl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ell absorbed ora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re rapidly distributed, cross readily BBB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NS depressant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olol, propranolol, timolol, labetalol, carvedilol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have half-life from 3-10 hrs excep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Esmo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(10 min. given  intravenousl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metabolized in liver &amp; excreted in ur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receptor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(Heart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heart Rat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chronotropic effe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tractil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inotropic a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duction veloc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dromotropi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Arial"/>
              </a:rPr>
              <a:t>2: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laxation of smooth musc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ease of glucagon from 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lycogenolysis &amp; gluconeogenesis in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3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polysis by adipose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CV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gative inotropic, chronotropic, dromotropic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anginal effects (ischemic heart diseas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rt rate (bradycard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ce of contraction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ardiac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xygen consumption due to bradycard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-arrhythmic e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citability,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automaticity &amp;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nductivity (due to its sympathetic block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280" y="1066320"/>
            <a:ext cx="883944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vessel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ipheral resistance (PR) by blocking vasodilatory effect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od flow to organ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contraindic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eripheral diseases like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eynaud's dis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2280" y="152280"/>
            <a:ext cx="8686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Adrenergic block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ontent Placeholder 3"/>
          <p:cNvSpPr/>
          <p:nvPr/>
        </p:nvSpPr>
        <p:spPr>
          <a:xfrm>
            <a:off x="76320" y="3276720"/>
            <a:ext cx="891540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hypertensiv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P in hypertensive patients due to effect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ckad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nin secre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g II &amp; aldosterone secretion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Respiratory tract: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contraindicat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 asthmatic pat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Eye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aqueous humor production from ciliary bod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intraocular pressure (IO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Intest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al mot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28600" y="152280"/>
            <a:ext cx="7848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actions of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Adrenergic block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amal</cp:lastModifiedBy>
  <dcterms:modified xsi:type="dcterms:W3CDTF">2016-02-23T09:40:09Z</dcterms:modified>
  <cp:revision>518</cp:revision>
  <dc:subject/>
  <dc:title>Noradrenergic Transmission</dc:title>
</cp:coreProperties>
</file>