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BEA1-CD35-4C26-B2B6-BF16E658502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A08-390B-4876-8B0A-C66B547C908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F234-49C9-4F7E-AC45-79F3AB3EBB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2185-AAF5-42D0-9E1F-1E91898454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DA4B-F797-4A07-BB22-BC43ACFB1FC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0021-22E1-449F-9C27-A5B7CAF8C4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24E-43BD-4B38-8829-F5FCAA59D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EAE-3875-4B92-B4CA-CB88CC49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799-CAC1-4163-BC32-5E07264E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530-314D-471B-B02D-B5C91C8A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DD5C-7586-4D74-B73A-D55E13F4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5E71-F01D-46C2-A771-FAA2218D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03F0-357D-4CBE-9217-867F21D3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3685-6EFD-49B2-B0BF-6A7B53A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311A-E8F1-4129-86BD-AADA348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026E-3EA8-43FE-A63A-CE3E93D1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E4F4-3231-4465-B90C-D58295EE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8F7D-0BB4-4BFA-894A-253AA005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292A-8291-4909-A614-B2664787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AEFB-48B3-412E-B3DD-64E2DD5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5C19-418A-47A5-B8C3-B5202DAF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ABEB-45E3-4A95-B92C-C289D208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09F3-B81F-4131-8DC8-184B9686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4D3-E10B-4855-A759-885DAE2A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682-F105-49B5-BB56-6655DEB3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D27A-CF29-4471-BE05-52069624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758-FD77-43BF-AB8D-B7822A3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DFB-2E93-4106-A5A6-0D6C1E3A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EF2-C81C-497C-82FD-94E253D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ACE-A3DD-4454-A0D6-153DD9CC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4B98-F3FF-49F1-9DB3-83245DC0DFA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B508-E3F0-4CBE-8D15-D505B12F8C0A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0" y="785880"/>
            <a:ext cx="9112320" cy="3714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00040" y="6345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785880" y="712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714240" y="4643280"/>
            <a:ext cx="7858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 specific plasminogen activators activ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plasminogen bound to clot surf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ave less effect on circulating plasmin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692280"/>
            <a:ext cx="8929800" cy="3808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24000" y="712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42920" y="4643280"/>
            <a:ext cx="878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 bo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 bound to clot su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lating plasmin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lood leading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and factor VI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fibrin-specific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148428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s plasminogen both i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us produce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-specific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"/>
          <p:cNvSpPr/>
          <p:nvPr/>
        </p:nvSpPr>
        <p:spPr>
          <a:xfrm>
            <a:off x="714240" y="1643040"/>
            <a:ext cx="455796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2280" indent="-152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fibrin-specific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plasminogen-streptokinase complex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"activator comple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is non-fibrin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124000" y="15969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35280" y="430848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338560" y="2357280"/>
            <a:ext cx="0" cy="1803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234000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708360" y="3324240"/>
            <a:ext cx="410544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4857840" y="23572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143680" y="1571760"/>
            <a:ext cx="3143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 among oth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42920"/>
            <a:ext cx="876600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Learning objectiv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streptococcal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yla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inogen combined with streptokin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ut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678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785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issue Plasminogen Activators (t-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human tissue plasminogen activators (t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7878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ind to fibrin in a thrombus and convert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-antigenic (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be used in patients with recent streptococcal infections or antistreptococcal antibod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200" spc="-1" strike="noStrike">
                <a:solidFill>
                  <a:srgbClr val="0000ff"/>
                </a:solidFill>
                <a:latin typeface="Times New Roman"/>
              </a:rPr>
              <a:t>Definition of Thrombolyt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drugs used to lys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read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enec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solute contraindic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lative contraindication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olytic inhibitors 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tiplasmins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18676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What is the role of thrombolytic therapy in antithrombotic plan ?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1643040"/>
            <a:ext cx="8218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pid 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blood vessel by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celerating proteoly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 thromboembolic disorder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7b7b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1320" y="1599840"/>
            <a:ext cx="835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ment of ventricul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the incidence of congestive heart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tion of mortality following 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7b7b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8400" y="259920"/>
            <a:ext cx="85532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hat is plasm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s a nonspecific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rotease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capable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reaking dow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buClr>
                <a:srgbClr val="99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br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50000"/>
              </a:lnSpc>
              <a:buClr>
                <a:srgbClr val="9900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ther circulating protei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rinogen, factor V, and factor VI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User</cp:lastModifiedBy>
  <dcterms:modified xsi:type="dcterms:W3CDTF">2016-03-20T23:04:02Z</dcterms:modified>
  <cp:revision>128</cp:revision>
  <dc:subject/>
  <dc:title>THROMBOLYTIC DRUGS</dc:title>
</cp:coreProperties>
</file>