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5DCD-00F3-4313-9F9E-60AD99CA3A5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ensive systemic plasminogen activation, with degradation of several plasma proteins including fibrinogen, factor V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factor VI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F3D5-7B98-40B5-A777-90CC8A969F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3A3D-3940-415B-9DDF-61FDA98E879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F8E2-E5B5-4D8B-800B-9F94688C20F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nternal bleeding; history of cerebrovascular accident; recent intracranial or intraspinal surgery or trauma; intracranial neoplasm, arteriovenous malformations, or aneurysm; known bleeding diathesis; severe uncontrolled hyper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FE70-A965-4B31-9156-5D514BED782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43A8-B5D9-4C06-9DF2-6A148C6BCC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482-5C8D-483C-82EF-645240E6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8E6-8BD6-4AAF-8D39-6283F24E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6D9-4123-4A35-87A6-2654FB70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03E-0227-4AA5-BDFC-9D05CD05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5F04-7D1E-4B30-8D18-7B91E951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6656-3684-4A5A-9790-819EB29E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DAA1-A4C9-4900-8BAC-3A206D0A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B340-82D5-48D9-9E0A-F309DAFB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BAE0-D4FC-4D49-8541-0BE31934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1BA2-F786-48B1-A770-117E0FD1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DF26-F771-418A-B224-E348AF62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B3B-AD04-4BBD-BB69-A167B1C3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406D-ACD4-4501-8519-857B47A3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FA6D-7A4A-404F-9E04-59EDFD4E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32A8-1F0A-4471-9C5B-5EE1E1B1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7842-E0D3-4F15-BB1A-99591EE4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8AD3-BEB7-4849-8858-124BC8D2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9C4-F17B-42DC-8F49-5CC9A445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C9A-4160-4477-97C2-6B7F2978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E72-8388-4DB1-A876-A3562E4E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D5C-7840-411A-93A9-8022664D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F56-789E-4121-B67D-5057F072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509-7259-4856-B0B3-CA64CC50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3A4-F1E2-4BF2-99E1-5712AE5F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3266-043F-40FF-B902-35A5EECD1323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B966-D83E-402C-BD23-DCD111226791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192888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OMBOLYTIC DRUGS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Fibrinolytic drugs)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. Hanan Hagar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95280" y="1484280"/>
            <a:ext cx="4140360" cy="3313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fibrin speci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kin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streplas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643280" y="1484280"/>
            <a:ext cx="4392720" cy="4608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brin speci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plasmin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ors (t-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c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accessmedicine.com/loadBinary.aspx?name=hurs13&amp;filename=%09hurs13_c061f008.gif"/>
          <p:cNvPicPr/>
          <p:nvPr/>
        </p:nvPicPr>
        <p:blipFill>
          <a:blip r:embed="rId1">
            <a:lum bright="-24000"/>
          </a:blip>
          <a:srcRect l="2827" t="3523" r="1414" b="51085"/>
          <a:stretch/>
        </p:blipFill>
        <p:spPr>
          <a:xfrm>
            <a:off x="0" y="785880"/>
            <a:ext cx="9112320" cy="37148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500040" y="634536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= plasminogen activator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785880" y="71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specific plasminogen activ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714240" y="4643280"/>
            <a:ext cx="7858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in specific plasminogen activators activ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plasminogen bound to clot surfa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ave less effect on circulating plasmin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accessmedicine.com/loadBinary.aspx?name=hurs13&amp;filename=%09hurs13_c061f008.gif"/>
          <p:cNvPicPr/>
          <p:nvPr/>
        </p:nvPicPr>
        <p:blipFill>
          <a:blip r:embed="rId1">
            <a:lum bright="-20000"/>
          </a:blip>
          <a:srcRect l="2827" t="49324" r="4241" b="8807"/>
          <a:stretch/>
        </p:blipFill>
        <p:spPr>
          <a:xfrm>
            <a:off x="34920" y="692280"/>
            <a:ext cx="8929800" cy="38084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324000" y="71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fibrin specific plasminogen activ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42920" y="4643280"/>
            <a:ext cx="878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 bo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 bound to clot surfa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lating plasmino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lood leading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systemic plasminogen activation, with degradation of several plasma proteins including fibrinogen, factor V, and factor VI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69720" y="115920"/>
            <a:ext cx="856944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fibrin-specific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9640" y="1484280"/>
            <a:ext cx="842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eptokin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istrepla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es plasminogen both i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t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ot su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us produce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ot lys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fibrinolys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ing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eeding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115560"/>
            <a:ext cx="8569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-specific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39640" y="1484280"/>
            <a:ext cx="842508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issue plaminogen acti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epl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tepl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nec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in action (clot or fibrin 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preferentially to plasminogen at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surface (non-circulating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rcula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inogen in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of bleeding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s th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pecific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is enhanced upon binding to fib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7"/>
          <p:cNvSpPr/>
          <p:nvPr/>
        </p:nvSpPr>
        <p:spPr>
          <a:xfrm>
            <a:off x="714240" y="1643040"/>
            <a:ext cx="455796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7b7b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kin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7b7b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strepl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7b7b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okin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69720" y="115920"/>
            <a:ext cx="8569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280" indent="-152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fibrin-specific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58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eptokinase (S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cterial protein produc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-hemoly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eptococc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c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rec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forming plasminogen-streptokinase complex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"activator complex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onverts inactive plasminogen into active plas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kinase is non-fibrin spe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egrad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clo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ell a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o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other plasma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streptokin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124000" y="15969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835280" y="4308480"/>
            <a:ext cx="2520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338560" y="2357280"/>
            <a:ext cx="0" cy="180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22200" y="6021360"/>
            <a:ext cx="13701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140360" y="5705640"/>
            <a:ext cx="309708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degra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 flipH="1">
            <a:off x="2340000" y="371628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2338560" y="4997520"/>
            <a:ext cx="144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1835280" y="634536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708360" y="3324240"/>
            <a:ext cx="4105440" cy="830160"/>
          </a:xfrm>
          <a:prstGeom prst="rect">
            <a:avLst/>
          </a:prstGeom>
          <a:solidFill>
            <a:srgbClr val="f5f5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ctivator com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eptokinase + Plasmin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4857840" y="235728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143680" y="1571760"/>
            <a:ext cx="31431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Strept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4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reptokin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1/2 = less than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20 min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intravenous infu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50,000 U then 100,000 U/h for 24-72 h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least expensive among othe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venous or arterial thrombo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142920"/>
            <a:ext cx="876600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de effects of streptokin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genicit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titer antibodies develop 1 to 2 weeks after use, precluding retreatment until the titer dec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lergic re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ke rashes, fever, 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ee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e to activation of circulating plasminogen (systemic fibrinoly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fibrin specif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66ff"/>
                </a:solidFill>
                <a:uFillTx/>
                <a:latin typeface="Times New Roman"/>
              </a:rPr>
              <a:t>Learning objectiv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mechanism of action of thrombolytic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fferentiate between different types of thrombolytic dru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cribe indications, side effects and contraindications of thrombolytic dru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cognize the mechanisms, uses and side effects of antiplasm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4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ca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 in patients with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streptococcal infections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 administration of the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patients may develo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ver, allergic reactions and res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on treatment with streptokinase due to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streptococcal antibo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istreplase (APSAC)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3901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Times New Roman"/>
              </a:rPr>
              <a:t>Anisoylated Plasminogen Streptokinase Activator Complex (APSAC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cylat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minogen combined with streptokin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rodru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-acylated in circulation into the active plasminogen-streptokinase comp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70-12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02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s a bolus I.V. injection (30 U over 3 - 5 min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er duration of action than streptokin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rombolytic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lot sele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5136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adva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but less than streptokinase alon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ici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eac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fibrin specificit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ly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t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xpensive than streptokin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rokin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enzyme synthesized by the kidne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ed from either urine or cultures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embryonic kidney cell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rec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sminogen activ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travenous infusion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,000U over 10 min then 300,000U/h for 12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rokinase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67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n elimination half-life of 12-2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he lyses of acute massive pulmonary em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aphylaxis (not antigeni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fibrin specif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lysi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cts upon fibrin-bound and circulating plasmino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ts use is now limit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560" y="213840"/>
            <a:ext cx="878508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issue Plasminogen Activators (t-P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7878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recombinant human tissue plasminogen activators (t–PA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7878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recombinant DNA technolog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7878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drugs a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7878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7878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7878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c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560" y="331920"/>
            <a:ext cx="8607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t-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ctivat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brin-bound plasmino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her than free plasminogen in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action 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hanced by the presence of fib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ind to fibrin in a thrombus and convert the entrapped plasminogen to plasmin followed by activated local fibrinolysis with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imited systemic fibrino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560" y="331920"/>
            <a:ext cx="8607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of t-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brin-specific drugs (clot specific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ed systemic fibrinoly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risk of ble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-antigenic (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be used in patients with recent streptococcal infections or antistreptococcal antibod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teplas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 recombinant form of human tP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very short half life (~5 mi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usually administered as an intravenous bolus followed by an infus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60 mg i.v. bolus + 40 mg infusion over 2 h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T-elevation myocardial infarction (STEM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monary embolis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Definition of Thrombolyt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rombolytic age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drugs used to lys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read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ed blood clots in clinical settings where ischemia may be fa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62000" y="259920"/>
            <a:ext cx="8820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tepl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variant of recombinant tP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has longer duration than alteplas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(15 min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enhanced fibrin specifici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n as two I.V. bolus injections of 10 U eac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U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T-elevation myocardial infarction (STEM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monary embolis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enectepl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nother modified human t-P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pared by recombinant techn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has half life of more than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30 m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It can be administered as a single IV bolu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more fibrin-specif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longer du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pla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only approved for use in acute myocardial infarc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605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traindications to thrombo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solute contraindication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internal bl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al hemorrhagic stro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intracranial trauma or ne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surgery within two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lative contraindication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peptic ul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uncontrolled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Fibrinolytic Inhibitors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brinolytic inhibitors 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tiplasmins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hibit plasminogen  activation   and   thus  inhibit  fibrinolysis  and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promote clot stab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Fibrinolytic Inhibitors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ntiplasmin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ff"/>
                </a:solidFill>
                <a:uFillTx/>
                <a:latin typeface="Arial"/>
              </a:rPr>
              <a:t>Aminocaproic Acid &amp; tranexamic 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by competitive inhibition of plasminogen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o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Aproti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hibits fibrinolysis by blocking the action of plasm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plasmin antagon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en orally or i.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Uses of Fibrinolytic Inhibitors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vant therapy in h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inolytic therapy-induced bleeding (antido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surgica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work like antidotes for fibrinolytic drugs. Similar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amin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dote of the anticoagulant, hepari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dote of the oral anticoagulant warfar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18676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 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What is the role of thrombolytic therapy in antithrombotic plan 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000" y="164304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lytic thera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one part of an overall antithrombotic plan that frequently include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coagul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platelet ag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echanical approaches to rapidly restore flow and prevent re-oc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lytic thera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apid restoration of blood f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occluded blood vessel by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ccelerating proteoly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throm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dications of thrombo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he treatment of thromboembolic disorders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7b7b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myocardial  infarction (ST elevation,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EM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7b7b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ischemic stro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7b7b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artery occl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7b7b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venous thrombo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7b7b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mbolis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Rational for use of thrombolytic drugs in AMI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1320" y="1599840"/>
            <a:ext cx="8358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7b7b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 of ventricul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7b7b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of the incidence of congestive heart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7b7b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of mortality following 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7b7b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mbolytic drugs need to be give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mediately to the patient after diagnosis of 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elay in administration will be of no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28400" y="259920"/>
            <a:ext cx="85532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of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common mechanism of action b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ng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inogen activation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oge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oenzyme) t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ctive enzyme)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ysis of th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oluble fibrin clot into soluble derivative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3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at is plasm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: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s a nonspecific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roteas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capable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reaking dow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buClr>
                <a:srgbClr val="99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br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buClr>
                <a:srgbClr val="99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 circulating protei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rinogen, factor V, and factor VI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31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ogen activ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771640" y="15573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771640" y="40053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3924360" y="2349360"/>
            <a:ext cx="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537372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oluble 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5796000" y="5157720"/>
            <a:ext cx="309708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degra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932360" y="2637000"/>
            <a:ext cx="3960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ombo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Plasminogen activ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3995640" y="2997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3924360" y="4653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5:15:36Z</dcterms:created>
  <dc:creator>mahmoud.khattab</dc:creator>
  <dc:description/>
  <dc:language>en-US</dc:language>
  <cp:lastModifiedBy>User</cp:lastModifiedBy>
  <dcterms:modified xsi:type="dcterms:W3CDTF">2016-03-20T23:04:02Z</dcterms:modified>
  <cp:revision>128</cp:revision>
  <dc:subject/>
  <dc:title>THROMBOLYTIC DRUGS</dc:title>
</cp:coreProperties>
</file>