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139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3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44.xml" ContentType="application/vnd.openxmlformats-officedocument.theme+xml"/>
  <Override PartName="/ppt/theme/theme138.xml" ContentType="application/vnd.openxmlformats-officedocument.theme+xml"/>
  <Override PartName="/ppt/theme/theme13.xml" ContentType="application/vnd.openxmlformats-officedocument.theme+xml"/>
  <Override PartName="/ppt/theme/theme81.xml" ContentType="application/vnd.openxmlformats-officedocument.theme+xml"/>
  <Override PartName="/ppt/theme/theme56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45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30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99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</p:sldMasterIdLst>
  <p:notesMasterIdLst>
    <p:notesMasterId r:id="rId153"/>
  </p:notesMasterIdLst>
  <p:sldIdLst>
    <p:sldId id="256" r:id="rId154"/>
    <p:sldId id="257" r:id="rId155"/>
    <p:sldId id="258" r:id="rId156"/>
    <p:sldId id="259" r:id="rId157"/>
    <p:sldId id="260" r:id="rId158"/>
    <p:sldId id="261" r:id="rId159"/>
    <p:sldId id="262" r:id="rId160"/>
    <p:sldId id="263" r:id="rId161"/>
    <p:sldId id="264" r:id="rId162"/>
    <p:sldId id="265" r:id="rId163"/>
    <p:sldId id="266" r:id="rId164"/>
    <p:sldId id="267" r:id="rId165"/>
    <p:sldId id="268" r:id="rId166"/>
    <p:sldId id="269" r:id="rId167"/>
    <p:sldId id="270" r:id="rId168"/>
    <p:sldId id="271" r:id="rId169"/>
    <p:sldId id="272" r:id="rId170"/>
    <p:sldId id="273" r:id="rId171"/>
    <p:sldId id="274" r:id="rId172"/>
    <p:sldId id="275" r:id="rId173"/>
    <p:sldId id="276" r:id="rId174"/>
    <p:sldId id="277" r:id="rId175"/>
    <p:sldId id="278" r:id="rId176"/>
    <p:sldId id="279" r:id="rId177"/>
    <p:sldId id="280" r:id="rId178"/>
    <p:sldId id="281" r:id="rId179"/>
    <p:sldId id="282" r:id="rId180"/>
    <p:sldId id="283" r:id="rId181"/>
    <p:sldId id="284" r:id="rId182"/>
    <p:sldId id="285" r:id="rId183"/>
    <p:sldId id="286" r:id="rId184"/>
    <p:sldId id="287" r:id="rId185"/>
    <p:sldId id="288" r:id="rId186"/>
    <p:sldId id="289" r:id="rId187"/>
    <p:sldId id="290" r:id="rId188"/>
    <p:sldId id="291" r:id="rId1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notesMaster" Target="notesMasters/notesMaster1.xml"/><Relationship Id="rId154" Type="http://schemas.openxmlformats.org/officeDocument/2006/relationships/slide" Target="slides/slide1.xml"/><Relationship Id="rId155" Type="http://schemas.openxmlformats.org/officeDocument/2006/relationships/slide" Target="slides/slide2.xml"/><Relationship Id="rId156" Type="http://schemas.openxmlformats.org/officeDocument/2006/relationships/slide" Target="slides/slide3.xml"/><Relationship Id="rId157" Type="http://schemas.openxmlformats.org/officeDocument/2006/relationships/slide" Target="slides/slide4.xml"/><Relationship Id="rId158" Type="http://schemas.openxmlformats.org/officeDocument/2006/relationships/slide" Target="slides/slide5.xml"/><Relationship Id="rId159" Type="http://schemas.openxmlformats.org/officeDocument/2006/relationships/slide" Target="slides/slide6.xml"/><Relationship Id="rId160" Type="http://schemas.openxmlformats.org/officeDocument/2006/relationships/slide" Target="slides/slide7.xml"/><Relationship Id="rId161" Type="http://schemas.openxmlformats.org/officeDocument/2006/relationships/slide" Target="slides/slide8.xml"/><Relationship Id="rId162" Type="http://schemas.openxmlformats.org/officeDocument/2006/relationships/slide" Target="slides/slide9.xml"/><Relationship Id="rId163" Type="http://schemas.openxmlformats.org/officeDocument/2006/relationships/slide" Target="slides/slide10.xml"/><Relationship Id="rId164" Type="http://schemas.openxmlformats.org/officeDocument/2006/relationships/slide" Target="slides/slide11.xml"/><Relationship Id="rId165" Type="http://schemas.openxmlformats.org/officeDocument/2006/relationships/slide" Target="slides/slide12.xml"/><Relationship Id="rId166" Type="http://schemas.openxmlformats.org/officeDocument/2006/relationships/slide" Target="slides/slide13.xml"/><Relationship Id="rId167" Type="http://schemas.openxmlformats.org/officeDocument/2006/relationships/slide" Target="slides/slide14.xml"/><Relationship Id="rId168" Type="http://schemas.openxmlformats.org/officeDocument/2006/relationships/slide" Target="slides/slide15.xml"/><Relationship Id="rId169" Type="http://schemas.openxmlformats.org/officeDocument/2006/relationships/slide" Target="slides/slide16.xml"/><Relationship Id="rId170" Type="http://schemas.openxmlformats.org/officeDocument/2006/relationships/slide" Target="slides/slide17.xml"/><Relationship Id="rId171" Type="http://schemas.openxmlformats.org/officeDocument/2006/relationships/slide" Target="slides/slide18.xml"/><Relationship Id="rId172" Type="http://schemas.openxmlformats.org/officeDocument/2006/relationships/slide" Target="slides/slide19.xml"/><Relationship Id="rId173" Type="http://schemas.openxmlformats.org/officeDocument/2006/relationships/slide" Target="slides/slide20.xml"/><Relationship Id="rId174" Type="http://schemas.openxmlformats.org/officeDocument/2006/relationships/slide" Target="slides/slide21.xml"/><Relationship Id="rId175" Type="http://schemas.openxmlformats.org/officeDocument/2006/relationships/slide" Target="slides/slide22.xml"/><Relationship Id="rId176" Type="http://schemas.openxmlformats.org/officeDocument/2006/relationships/slide" Target="slides/slide23.xml"/><Relationship Id="rId177" Type="http://schemas.openxmlformats.org/officeDocument/2006/relationships/slide" Target="slides/slide24.xml"/><Relationship Id="rId178" Type="http://schemas.openxmlformats.org/officeDocument/2006/relationships/slide" Target="slides/slide25.xml"/><Relationship Id="rId179" Type="http://schemas.openxmlformats.org/officeDocument/2006/relationships/slide" Target="slides/slide26.xml"/><Relationship Id="rId180" Type="http://schemas.openxmlformats.org/officeDocument/2006/relationships/slide" Target="slides/slide27.xml"/><Relationship Id="rId181" Type="http://schemas.openxmlformats.org/officeDocument/2006/relationships/slide" Target="slides/slide28.xml"/><Relationship Id="rId182" Type="http://schemas.openxmlformats.org/officeDocument/2006/relationships/slide" Target="slides/slide29.xml"/><Relationship Id="rId183" Type="http://schemas.openxmlformats.org/officeDocument/2006/relationships/slide" Target="slides/slide30.xml"/><Relationship Id="rId184" Type="http://schemas.openxmlformats.org/officeDocument/2006/relationships/slide" Target="slides/slide31.xml"/><Relationship Id="rId185" Type="http://schemas.openxmlformats.org/officeDocument/2006/relationships/slide" Target="slides/slide32.xml"/><Relationship Id="rId186" Type="http://schemas.openxmlformats.org/officeDocument/2006/relationships/slide" Target="slides/slide33.xml"/><Relationship Id="rId187" Type="http://schemas.openxmlformats.org/officeDocument/2006/relationships/slide" Target="slides/slide34.xml"/><Relationship Id="rId188" Type="http://schemas.openxmlformats.org/officeDocument/2006/relationships/slide" Target="slides/slide35.xml"/><Relationship Id="rId189" Type="http://schemas.openxmlformats.org/officeDocument/2006/relationships/slide" Target="slides/slide36.xml"/><Relationship Id="rId1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2"/>
          <p:cNvSpPr>
            <a:spLocks noGrp="1"/>
          </p:cNvSpPr>
          <p:nvPr>
            <p:ph type="dt" idx="4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5"/>
          <p:cNvSpPr>
            <a:spLocks noGrp="1"/>
          </p:cNvSpPr>
          <p:nvPr>
            <p:ph type="ftr" idx="4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6"/>
          <p:cNvSpPr>
            <a:spLocks noGrp="1"/>
          </p:cNvSpPr>
          <p:nvPr>
            <p:ph type="sldNum" idx="4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B50A-04A1-4862-9634-C231C25BB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7585-FD06-4C80-857F-7115C21A80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023-F990-4F1F-9699-979AE6EB1A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. (Name) say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explanation of the diagnostic process – what might take place during each 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ommonly done test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ing the role of the echocardiogra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218-C975-4A70-BD9B-B978DBC9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B5B-F970-4046-AFF3-6B71DFE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45E85-9E98-4D01-9AA8-CE1775C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9A41206-BAEA-4FC8-B089-75D16922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E08182A-1A6D-4B46-B47F-35507251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DE985F1-7A6E-41FB-822D-BBA9F06C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EAD84A5-ACDB-4C80-8ED8-B7EF0F1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A4000A3-F565-42BD-9115-1B04B7C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AEAFE97-86F1-424E-9BF3-887AB72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D538655-B8D6-4B6F-8F2E-3BDB12D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AA5BB9E-5657-4B7A-AA47-F4CBE72A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E46B59F-74AA-49A6-A2A9-D199B5A9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88ED6E2-DCF9-441A-97E9-0F3CDC6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48719-ECCA-4EFF-8C40-699E1115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33E25B7-0717-4B57-BEC8-67A6589C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FA1536B-9E25-4AAB-8F47-9377C80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30950FF-E00E-433D-9DAB-9232E058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1F0F008-F12C-4222-A536-8A7A62F4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7D238B2-5F6B-49FD-AE2E-FCEF672F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A3B7E6D-B04E-4FEF-A996-534EDE1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4087EAA-7235-4052-9B0C-6F2DD01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3F1B817-B693-4236-BA63-C913D4FB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83F0E14-5126-4041-B55D-1F71E587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FE09508-C2AA-4369-9575-3E141E72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8862D-2561-44EF-B2EF-6F334CD2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0539714-0088-4F09-AE4F-2417787C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AD3144E-4883-4168-96A4-F52F4ED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C8C131A-7DDB-4D78-9135-C60204F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8F5B62D-4A82-4B04-902C-F40A3E9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35AAB76-B9F2-43B2-A5B6-787D5EFA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6BAE36D-635E-40DC-BC9F-CA12C793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6B635E8-247B-46A6-9D12-4A1FFF8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335D64D-B556-41CA-8D4F-3DDE9B8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E91D118-61C5-43A8-B67E-FABADED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B794276-8813-45F6-8156-67CE08E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9BEE8-CE09-4FE4-8A69-11BE7711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D27DDC0-C10C-4CD5-8D6C-100E0082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9BFA9A8-C514-478F-B907-BE66EB09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D99212D-69AA-4446-95F1-6D8C7439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429A624-7A1A-4114-B931-41C98BBE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89DE6E6-8A6A-474F-B5FD-B0220AE5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B6D8D1F-C088-44B7-82F7-E77E13BE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0362C19-8F9B-40DE-BD8E-50A7F0F0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95553FF-E257-424C-B8F0-E44E6237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9BC0A11-F4CA-451E-98E3-B786E8F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1A3D440-3C7D-44EA-8956-5A169D49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9E524-C41B-4139-A37B-3A2EF4E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FE2B5A6-72E8-4264-8A8A-DE00B4E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EFB7F17-BD6B-4D6E-A5D1-31F215BD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CD77260-ADB9-43B8-98F4-61B43DE3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669DAD0-CFC6-45F3-97F7-751BF9DC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F012777-5D8E-446F-9A24-FA737BC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27B4597-6FF0-4128-8501-052787FA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DAF7089-227B-4B4D-B586-12F26F49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44CD5BB-9615-4ACC-90C1-6512424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1DCE06E-26CF-4B38-AFF8-9D581784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225ACBE-1B89-49F4-B0E9-1B9D3B73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47620-DE5A-4F8E-8A9B-38D3AAF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F7B0591-7914-4434-AB50-64327403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A45D8CC-0AF4-4D39-93D4-35AFC481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C18B24E-B2C9-4F7B-9217-8BBE130C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414B7D6-7A2E-4101-BC4C-9861EF8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3E24B36-A436-449D-AFFB-028AE276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1A91A1E-7B4F-47EC-98A1-699B1D73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7370BC2-10A9-418C-961E-21206C04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A98597C-6A3F-44B4-8A1D-8B45E0EE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B591185-4CDC-464F-8582-A347B4BF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A660A55-03DF-4E5F-88CF-9592171D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58DC2-7C17-4939-8925-4F768176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E31DC70-9EF5-47B7-BDB9-79AD226A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5983161-130B-4ED0-864D-95EE1FD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90152E5-9094-45B5-BFB5-9F443BAE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48BC323-EDDF-4F49-B735-048EC53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5279E05-CE91-4CB5-85E5-7634B9A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C5BF53D-E993-4A1B-A46D-F6A17077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06B053D-EA8C-4B44-A1AF-C8F70E7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E1648DF-6C83-498C-AFA6-55367C9C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FD167FB-698F-46A9-A318-F951058D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A2E69CD-C204-4EDD-8E78-5439BFAB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A64B0-9633-4F90-97B1-12C26921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1B6112D-2BD9-4CA6-8244-32A2E005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BDAD76F-4DF6-4D1F-B386-FCABF04D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9D3AE2F-9DB6-4686-BB31-65922629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2012976-E870-4765-9541-EE327D10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AAB5818-C500-4822-82DB-7FDDCF1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46862B6-0DED-4ED2-B029-12F2CB5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A69048E-7DC1-4C34-BC93-58DDCCC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2E112F8-CC9F-40E6-BD2E-07EE7CF5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28C6098-1DFD-40DF-8492-35C0993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9817EC8-036F-4DB0-A7F5-880E9DF1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51A7F-85CB-4CF3-8BD8-9C6C5FBE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84CF496-9025-4018-9C5A-0A7B875E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8EA1170-1CA1-4A4E-977C-FA1E9D8B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F677B7F-86C7-4F28-B548-24F96268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2B1B156-8F47-4967-856C-64A555F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EEBC202-1E69-4CB7-98F1-01016C1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6EEEAF5-9EA4-4D80-A55E-85410B6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433CFDA-57E9-4DDA-B03F-FB3E639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9CBD75C-3530-4498-8C65-2F0D42EF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34A6890-0E1F-47ED-827D-13C2315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7FA27DA-7225-4533-BC70-D4C0613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3147D-7617-4B66-9777-ECD7F583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C407708-6D27-4ED0-AACE-4D40E642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6C7ED34-3955-4145-8EF0-DE3595D5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49DD5D1-3B5C-49AD-A3BB-C4984566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312C4D2-0B01-4268-9907-68D0114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6B76252-629A-4AD0-A448-D1ACF641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05B9504-30F4-4AF7-9CEA-22DA943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99CD653-50F1-45FE-8994-2DA5443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BC71AE7-F89E-48FE-BA1B-4277C5E7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9F26BC7-9941-4E67-AB9E-4A562475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B510A34-B8FA-4C95-BB89-FFB4F27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047-DBB7-47F0-AC5D-A615B272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55436-3DF2-4EFB-8103-DE1E63EC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864D31B-3B46-405D-8F0C-9F23A97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8889EBF-8131-444C-A3F3-A62F069E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BCBA8A1-7548-4E5C-908A-0C0D7689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5FF78AC-8F2C-4960-B6E7-05F2FAD3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4761654-CF75-487F-B717-E36195EB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9FB3F4C-77FB-4416-AAFB-BCA11B18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B81621B-C322-4456-B0F8-F918CE16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4E6CBD9-46EE-4600-9243-733E2899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572FFB6-9B28-46D9-BC55-0C177F30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99ABC5A-DDEE-408D-8941-1C37C57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D0F36-21EF-4010-B05F-7544FD6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3CACFFE-C2AD-447B-97E1-CD466400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7C95609-25DE-4A97-92B1-C864FBA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51898AD-6297-4FE5-A19E-A09B8B4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1523476-AD81-4394-AF39-F526070C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53BF169-E488-4009-84B7-D12143F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42EA0C2-75F9-4315-A6E9-2F42E6DB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4FC49B8-D7BA-4A45-828C-B0E224D2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6E5BA9C-2957-41D5-BB3A-DBAC8092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213C8B8-B90C-43C8-B28C-C632CA58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6AC2700-D06B-4DF1-9AD7-EF0FB330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257B6-0C25-4F3B-9785-BC18C25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C983112-4B2A-45D1-8FE9-D29840BF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3A305EC-BB29-498B-8682-671A40E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D2B5AD7-6341-4B5E-A195-54533A50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FEFCB2F-B3A0-4F5C-868E-77C441A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7804166-AF8D-4D89-B192-D1163DB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D2CD582-7500-4D32-B320-163E5363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744DCA8-7A02-49DB-9CD6-BCD4A41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9473605-B012-4659-A8DB-DEBF7746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01815B3-E8D4-4A93-866A-8A27B8DC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51267A6-13B2-40F0-BBA8-5F530F4B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F0E2-AE31-4F69-A6B1-559530A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B722FAB-7003-4C29-ADF8-9ABD287F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7797F6A-4F1E-44DB-936A-D7138DE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DB3AD78-ED3F-4B4B-8009-BAA3DA6B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2AE643B-8E0E-4A82-8723-D240302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49B08A7-A8EC-4BEC-BE78-5A1684C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5EA8C96-02C5-4BCE-818F-CDB93EF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BFD7529-7121-4C24-AF84-F40F210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91A1AD6-872E-4BB4-B0E3-EB2F9A1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3E48271-6C4F-4C0A-B94F-0204631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85D8F2B-D0F7-498E-87CF-8D6DBB06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138CA-C5EA-488D-8CC6-BAAD5EA8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AC1E4A8-F6B0-4A83-81F3-634260A2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8A4471D-DEAD-4649-8103-FBB9BAA3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35702C0-1E35-4641-9F89-534E720C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C4194CF-425E-4131-9826-FD266675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6B7F78B-9489-4320-AEB8-C5E4CEFF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AE3D8FC-E252-4C31-8F23-A6F69D2E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5788BF6-B52C-4B88-8618-F8E4A2E7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6717560-E5A3-422A-8285-F55ECE2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00D0490-1D3E-4727-836A-E6B4204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6641FB6-3F62-4F41-9E53-794986A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F8EE5-861C-4260-BE43-04BBD66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B2DC78F-57C5-4B06-AD19-99F9C0D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5FE91BE-3283-4622-A503-78340CE9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0E878DF-AFC1-498B-82C2-F979EB07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BC1F83C-A47C-46CD-A27C-FD49A5DB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CA8BD4F-8A64-48F9-9065-BB4FAB6B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49ED278-2CFF-44FC-ACF4-C5AFF0D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ED08517-6AE6-4B33-9E96-A48E7B76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4EDBDC9-6D1E-4144-8E62-B03031F4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B6A3569-923C-4522-A55E-72F9A139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F39A65A-B5E5-4A0D-8DB1-75EA375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FB148-4DAA-4162-857D-B9E8A85F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C6D4971-9552-4280-85FE-68D7165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6F19893-85DF-42B0-9AC2-9E0D697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2CADA23-6FF0-4D89-AD8F-B21893A5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19CFFFF-1B52-409D-88B3-9D369043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6999866-87E3-45B1-AFCB-8C3ABEC1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55A204F-84C5-4B7E-A200-BB77EDF1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7FF57A9-7C88-4AF7-A939-2D4F780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CF487EA-84BA-4170-9425-22543EB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325DEEF-4A50-40AF-8387-55EA67C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9C797BE-036B-4C52-8FBA-F6943BA3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6480-ED72-483A-A82F-505579F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77197C2-C326-40BF-9663-2894F50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3072FD6-A3EE-462E-ABB7-979CF5B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B282E2C-023C-4257-AF95-260799E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1CC00BB-FE8B-4444-AD8B-84F0960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AB2A4A3-B43E-4419-9BB6-74596BD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C289242-6553-49F1-AA25-B745F1AE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16760F5-19CB-4FA2-B7FF-7A2D72B5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A21B225-6664-43C8-8FE0-111FB196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7AE5577-C14A-46CB-9EEC-9A137BF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6F8688B-B68C-4775-A313-34F0CC7C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06EA0-2F02-4612-901F-5956306B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BE2BF62-7C67-4740-8B70-512FD3B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25DA454-5211-4BFF-8E49-7172F45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802CA42-5739-4BF8-B129-CC65337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6538870-C0C5-4C65-8551-CB54C32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299B8C1-ACB3-4428-956D-EE81E34E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07558B5-83DD-4629-93BC-7FF2AFE8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5C7CF76-6D4C-4343-9085-EDDFD02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B56561F-A023-45BC-8F8D-DEFB40FE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DBEE09E-798A-432F-BC8B-D4BAE0B3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30C0295-8BA1-4AB5-B578-AAC03A49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8959-0028-409F-B1FA-975A49AD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6CEA4B0-C65F-4379-B3B1-81D7902B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956CE13-9D61-479F-8E84-2C7DA928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9F5EBE3-76DF-4DE4-9A50-E487499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0BC70EF-1C05-4029-A0E3-80F458D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B946655-9648-4549-BBD3-BEC6277F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C5A89C5-F338-49DB-AB8B-5FA7464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F24B981-BEEA-4CD3-B2AC-0ED154F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78BA1E0-61E2-41B6-A540-8B31358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7F143FD-B72E-4F3D-9C45-D90913F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803B141-47F8-4904-AD12-7088C805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CA8-C5B2-42FE-B703-4A25D8C2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51CA6-81A3-4AE3-A538-08EE19B5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C12DA7C-7719-4341-948D-C7482A03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F40EA89-B2D4-47FC-880D-061338F9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81DBE86-B7F4-463A-AFEA-FE6E50A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5C6A970-968B-4CBC-B0DB-44A66E65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62D316A-EFEE-4EE0-A77C-B46E872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CFB187C-DFD6-4256-8150-393535E4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E5D0016-0931-4E1B-92C4-294A38B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0B2A24D-BBEA-4C62-8438-B1DFD90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8D5D8D2-212B-4356-892A-4A9BD86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9669F49-CC3E-4EE4-B5DC-F7CFEE5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21663-D308-4EF7-99CC-EA6A400E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FEEBD6C-875F-45CC-B1DE-A61B2342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C4C298A-32C1-479B-9B66-8AC6D556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48E07E5-B8EC-4894-B262-B767E9E4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1BC925D-86C0-4E55-887D-0BC3A88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4BB8A27-36E8-4154-9908-BF6F9D9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05823E4-5EC8-48B1-A782-9506518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CC3988E-649A-4B6B-B6D9-1193353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3B4EEA1-9D80-46DB-B528-48B75E95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F7D8B2B-4A5D-4FDD-B17C-E67213C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DB2241B-2245-4188-B83B-BBE7E2A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3104E-496B-4E7E-B76D-8FD3645D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886EF2B-D93A-47BF-AAB0-4CB445F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C506006-4907-4B48-A80B-4CDD754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8AAEB84-4BF8-4B93-86DB-ABCFD395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98CEB37-C3BA-445A-BA7B-55B3F56F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DE990A3-D9F2-4D9E-B122-8696A719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4AA57AD-47E2-447B-ABCE-5C1744E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B27CAF5-6119-48B9-8DC2-6338536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FA95652-DEC9-445D-8573-D829BA81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C5010BA-7DEB-4F84-9C72-4001826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43E704A-75AB-4579-B310-52D9721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4C0BF-1D42-4827-8F05-F2DACFA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4DAA4A0-36A1-4EF6-BBC5-62A027F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240DC51-977A-4BA1-8787-4A82B81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93B4F2C-E9EB-47ED-8EF7-E4892AD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92F141E-3B9F-4CCC-A3F3-940F9AE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B908BDB-8A7F-4C1F-9DCA-57FF7A16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F663D40-037F-49EC-95D1-9F7EAEC3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062D921-141B-45D3-97DF-C7C54E50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7740054-3C1A-4382-9F0D-4EEF6682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C7593F6-E690-44C9-8119-69E2BEF2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3B97423-2168-43CF-B405-5D17DD90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75333-01C7-4F79-AC3A-565BA5B4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2126B00-8531-4816-A4AB-871F13F5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193CDE1-8993-4717-9A0F-2F5060C0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9EB0818-01BD-4B02-BEF9-C644DEDB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906FF90-9DF2-42D5-8B1D-8923FFD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C488FDB-84A0-4F1C-8BD8-924B536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1BF872B-65C4-46FF-85B2-1C9B226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0B41713-11F7-4FA7-BC3B-9473FAF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E5B61C7-62C6-4E39-9383-F720FF03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82F73AD-2EFE-4AC3-9AF1-5967D06F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1B70570-E90A-40D2-9DCB-A273A8D1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C59D-7DAE-4863-B9F9-025DDC64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28268D7-0D11-4091-9F2E-CE31C9DE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27C1D80-C357-4672-936D-C7CBA35C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0E8E597-5D4E-42C0-B92E-E4DB3D20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7D133F5-0F62-4838-9D49-A23CD013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413D925-E1A7-466E-A184-366A71C6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A339ABD-142D-4645-B1E4-2EA34B3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A7B6F0A-5550-4809-A2DA-D196199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E192F9D-476F-48F3-B550-060440E3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FB5FA92-B95B-4F58-AB50-569564A1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B405923-C500-4ACC-9517-C1008496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EE93-1411-46DC-B8A4-8557FB48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C72369E-CD4F-493B-8DEC-862A95C4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48A1D0E-9CCA-4A8C-9AE9-F66DE669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5D75F2C-7252-437C-B7A6-1F34D5EE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2CB9A49-099F-4167-8C07-A15FFF45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7C9DA75-8699-4AFA-8FD7-3E6D541C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6EC1007-A8E7-4BD9-A098-2534AE2A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9CC5838-BAB0-44E1-A29A-F75BAD77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2700EB2-112D-45A1-96BD-BF5A6C5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F22D65A-70DF-4A5D-A934-2A4575A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1CD2907-CF43-4150-A078-82927C5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29967-A2A2-43A3-B6AB-EB888F7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0153109-8C2E-4EE5-91AE-B9CF896F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E6A9AA2-C64F-4CB8-8C18-CE89ADB9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71EF311-3160-46E8-A108-3AF59901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9E79F10-EDAC-464B-9E37-DF015E9E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159454D-6534-46DE-AB29-528A959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E655CF8-2C8E-4A0E-B472-851F5B2B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146C5C9-1786-4CC7-823B-FA0C379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D4C6FE0-50E0-4865-A85E-C8120A78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A0AC24F-CE6B-4089-BCBA-F522147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A48DFA3-5F21-4D94-A2E6-5E1A753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198A-40FC-4FC2-89A5-149FCC2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80A0B1C-0E98-4243-9237-89FB9E3F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00AE8AA-2294-4B7E-8328-4EB6466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AF79384-6CF8-4D57-A503-63A1632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D41E51B-6B93-4786-B55A-4BD37330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066C244-3734-4A2C-ACA3-0E1A4104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C423DB2-FDA9-4708-B865-0BF6BEB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F554B2D-6BEA-44B1-865E-D3C0BAA2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D0E134D-A798-41E4-9FB6-E0A88D0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1FE444F-A1E3-46CC-A20D-C4DFCFE9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860A8A6-2C12-4943-AEEB-0F15559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A4482-0AA4-456F-8A66-A90E5B4B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4996AB7-DFE3-4553-9B0E-535FB8F9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1FFA558-CC56-4735-A432-99AD3EF5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2FFAE7E-B3CD-4B87-B9FB-D906B7EB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9540E4F-8370-4F7E-A0D6-249C716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695B65E-754D-41E3-9673-A8A431D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D43BF3D-80E9-4705-9BE6-C0AB8584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501DC3E-F430-4402-948E-C01FE8F1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A84B6D7-3045-45BB-9E02-28E3B368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44403A6-4B65-48F0-866D-D348E9A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3F8D418-8A3C-44A0-B80D-37BA500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4271-2460-41AE-9BC4-DAF09480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9975D-31A8-4F37-96BE-CD211B5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57A770B-D7A9-4588-875F-F715CCBF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4B85F7F-511A-42E3-A88B-D4C857F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C754B90-30B7-44E5-AAFE-2529AD24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393463D-B4F3-4300-8FA2-2A08A597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722F79E-D7B3-4A80-B6F0-F92FDA8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346D494-AD6A-4EE9-8EE0-EBE543A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B2C1A42-9499-48FE-A4BE-9ED6AE9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7472636-FF3D-407E-9AFB-FFD92556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48BA1FF-9B9E-4216-89D7-6EB1F921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8A5B726-7D38-4FDD-B1F1-3843EAFE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ED25E-9A4E-4379-B830-A69CAC7A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0EB8759-2720-444D-B3EA-C25F5EA3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B8B4067-57D0-4100-ABB0-62565B4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8A76232-A750-4552-BABE-7D3933B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BBD69F6-F85F-4AA8-AF8F-23C5B3B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374DF4E-28BF-436B-BEAE-5ABD8221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B5E218C-93B3-4BC8-9DE3-3693D278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E0EA6A4-B678-4430-B514-A18E00F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00B64E61-D70B-44BF-AC23-B1963C3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3D440A7-AA8F-4568-BFA1-1BE1C20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062432B-32DB-4DCE-9E3A-E0DD8338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AAE6C-3B83-4550-8C0F-FB62ED5F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0B0897E-8589-491F-9119-3E602D00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18B077F-3B95-4420-9421-2995566D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431338B-8A4A-4404-A5BA-B9B2B71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38C17AE-28E9-41AD-AD17-402F78AB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B8A42CE-62A8-4281-BC0F-A724B9B5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46F5D67-3407-4DC3-8514-D9885CB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CD39E19-4B52-4EFF-9CD7-43ED58D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905BAA3-6974-4B67-B16A-8FC65E4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DFC889B-EAEE-4CE8-8D2D-53CA6AB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3502DE2-432F-4B76-88F9-DA65C3B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E3C71-635F-4407-84C1-5DCB5667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8B83F8F-7945-4FC5-9E5F-9D43B9A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3E22884-1C30-4E73-8F40-6160A40F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2D33C97-1E88-41D4-B1F9-5B5D642D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87A52C0-946B-4770-88EB-357F6F7D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1D7AE7D-9E97-4118-8DA7-CEDDF1F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A36C50B-487C-435C-887F-5C8D132E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B758088-23B5-44D0-8148-433B599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E5D3EEC-0840-4695-881E-B351FDED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54D5D2E-86FF-4F38-A0F9-E348CD3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04E58C4-75AD-4E80-9E6D-EE7D8ABE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D8E07-D464-48DD-9183-34E71CBA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751C891-E91E-471F-967C-5128BE6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9AD0BFE2-700A-4345-A4EA-234A2BC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51EF905-3D2E-4E42-B017-C43E5F8E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11C71A2-DE8B-4A49-9CCA-5638F9AB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F949894-3661-4C58-B57D-AC0F7D48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042FFF2-09ED-46B5-BB91-12D8D76E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262BBE5-380C-4A14-9506-969F4C85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54EDCD2-E28C-4FC9-9DE6-0E10072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AD7E421-170C-4877-93BB-D36F8BDF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19375D4-0528-488D-B55F-8874D4D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E67FA-990D-4317-BC8F-A147D075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92D4F5B-8D5D-4783-B15C-3158CB36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4B371B2-5C5F-436E-8EC8-0F924C1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B785036-9BDD-4D3E-B24D-C8F3760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4B95DBF-1177-4A30-8E41-5238758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D00453B-28D3-4142-9BD2-A845A767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771D746-9501-42FE-ACC9-615DF8F4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D8CAD47-D67B-40BC-9BEF-10EA0B32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40752AF-4302-4F84-A940-11E4CF7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506EFBC-33C2-45C2-AD46-442F3D99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67E6BCA-020E-4825-A915-8A683A6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C51F2-DCA1-48AB-90BF-3C4C485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A6D5AF8-DDD0-45EF-BB45-0AB4CCE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36099EA-6B0F-4B20-BE1E-1C5BE4F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53FD447-B49C-49C0-8F53-F406C31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8FB625F-59B3-4E3D-A92C-DEED3FD1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D1504A0-C52A-4CD5-849A-909BA88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54DEDCF-B8D9-4564-BDAD-3EEB635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AFEBC19-B8A2-430C-A42B-E2CAA09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95507B0-2DF5-4DA2-B8B4-4DE8BB92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2EF5DDB-D51F-43C5-B64E-7520CED9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2D72938-74B7-4341-B99B-64A277CF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A482E-3891-4F9C-9648-1602CDCD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E745D3A-77F7-4E40-9FDC-5D5CF507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C00E60A-EFB3-44C8-BFC3-64548E8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578A398-FF5F-44E7-B678-2887006F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3E63C35-B266-4250-82D7-985E469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3275A55-7453-4A02-BB95-FF2A3F2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AD0A93E-2AC8-4B3E-9C4A-648CFE8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E4AA1D9-D379-4091-88AB-8298916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FEBAB03-50CD-4F69-9E18-6E4F822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F1C4562-991C-45B3-9B0A-2AB71FA4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0CEFA21-E8DE-4EAA-A03E-5D0E711D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196E4-7FC1-439E-9867-64A9D4C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A12C06F-5537-4E1A-90B1-43B7B298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6F2E5FA-0726-4C85-9B24-E108FCF0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F4E898E-3016-4877-824D-4E56E5A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FC0A047-2A9D-4ACA-8CE5-A462A8EB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498DEDB-EC20-46D5-A67B-9FB0B365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973B9C1-16BC-41B2-B4AE-57FE83FD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A8FC623-CF65-4A10-8B36-F50C64D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C16EF19-4FC4-4751-9438-18D0649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F7AEB7D-FADC-46B9-A361-DE2FCE84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3885B7E-F974-4DCE-A85A-894E2726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129AA-7F58-4AEA-AD91-58A3B6C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FDFA9FA-8E52-49E5-AF0B-0CC83D0B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714C4B1-DF15-4501-91B0-F9760CA0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BC97278-F37F-43B7-B658-4497E614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6B7B128-CF73-41B1-9DB8-3ED50C9C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BAEE3BD-F908-4A67-BB0E-32D0750F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53427E0-80C9-49DC-9D21-F91BB5A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942E3DD-A2F9-408D-8748-C450BCFE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0776D40-9230-4103-86FD-47082EC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C9355DB-851A-467A-9CAF-3EF6E21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5A1E069-553C-491C-A185-D408A95E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E1E-8B21-455D-BFD4-1D9CE34D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76BDA-CC1B-492A-A345-86A233DE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2660C0C-A0D6-44EE-9F31-A08E953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A067F5B-BFAD-4FDA-B4EE-C7BB1B6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8EE6CD4-D88D-4AA1-A992-2274DA06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93FBDAC-85BB-4341-B156-5A41B99A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A58114E-FEBC-45BC-8960-8F9CFB92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E17B905-40EC-4C2C-BA3D-6E00F90E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CAF3E88-5655-42D6-8C42-DF7F4409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E0BDAC1-BB70-4E12-B823-E1784472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68303D7-AB9A-4FF2-ADCC-5BED83E4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8F62BE9-6930-401D-ABDE-B4EA9CC0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11DAE-365B-4469-9BDF-2B604A31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106BC06-6E99-4A4E-96C3-5A1FBA21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D650FA6-93C6-48F4-ACE8-1DC9E94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6F60373-CCBF-449E-9587-0DEEAB3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A526ED6-220D-42EF-AADE-47749CDF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661553C-1830-4B53-ACAA-2FC6C1BD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7A69E0C-2671-41F2-AAD5-31E8A45D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32DF732-8FD0-4BF9-B7F3-E68F714F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4BAE46C-B108-4836-BD82-CC441824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9042C74-02E2-4BDE-A197-E4371B83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7864794-9C23-4297-9C33-13DF0A6B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E2530-8D29-4926-8EA1-15D972DF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CF714BB-D972-4516-8E3E-C65CAFBE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DDD1A43-5DC7-4E43-A344-30003EF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09BB4CF-16EC-4268-B3FD-2839426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D57804D-E1E6-4B4C-89B2-55CFDB0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CF549FD4-8F8A-4A3E-A026-16F0245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53271AC-1D70-4C81-8BFA-7157230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D0217A5-7828-44F8-95ED-09864B25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EF9FB35-9C42-43D2-B6DC-D1F5F16D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882B8AB-D2D1-484D-9B64-38BEBE4C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0D52484-78CE-42DA-8C4F-FB75AE6C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69A91-6FC1-4530-9DE1-07B9F047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0504744-285C-4509-9F8D-91298B16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F702DA5-298A-4998-8DD5-DB802348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D27C2B2-1441-43B8-ACD6-74800C3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10A473D-85C6-4116-B3C5-1BB19561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2AE2290-7D48-484C-AD1E-1A16EFE4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6F3302F-71D7-4A36-8853-ADC255C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D950F83-FEC9-4BBE-9A92-581EE35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EAA73D3-1396-4145-9C9D-8448696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62A6921-0836-46E1-930D-73E8ED1E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672FA03-F6E2-43A5-8B6A-E49CD6CF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B907B-BCF0-4A3A-840D-2A44C1A1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76BB643-5C02-43F1-A79E-C8A30D4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12A23CE-C069-4973-BB18-98334ACB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74A0934-906A-4C44-8CEC-07247DE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DB773D1-D46E-4823-AEEA-7D08C03B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8FD2D9E-64AD-4660-BEF6-ED62F57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DE8DEAA-2D79-49DB-83ED-46902F9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AC01F92-F882-42F9-BA5E-3ADF4E95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B9C1A4A-E21B-41F5-920A-A02511A6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92BC16F-2200-4E85-ADD4-0D9CABFE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14F221A-49CA-43B8-97D4-06113EC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5157E-AF5B-4E69-AA2F-B6FC2D59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3AF47CB-AE67-47E7-8EFF-48A558F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5322287-DA65-4CBF-B11C-42ACA799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D61E26B-68E5-4745-9661-74C8CACE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3E5108A-9E98-4253-893E-E812D770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A1FCA62-878C-479D-A9A5-FB4AD39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7FC5DC5-BEE3-45D1-83BB-C6A96FD5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49D9925-77BE-4F70-96B8-090FC618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B2DB180-86BC-45BF-AFB7-359C0EF4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782CE2E-046A-491F-9833-91B5A92C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3EC6BFE-23AA-4F18-887F-03041E8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0665E-44EA-4B4B-BE28-4F89F5AD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7D35615-70ED-4450-A36E-656D900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790078E-725F-4D42-A6D7-F1B2BC3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3665940-13B1-4BDD-B5E8-F0ABE3E4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B10F2BC-059C-407E-B5D7-A235F185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7413A66-24B9-4B21-95D6-92268EA4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6F120A9-37E6-4EC7-B16A-CD6CF888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8059CD2-91BD-423B-9A2C-87A0B765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0AA7979-440A-4550-BA7D-27097180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ED92638-3262-48B0-A84D-F1FA4D1A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80AD0AC-C7A8-4F77-8DE4-BA453B12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06A76-1C69-4FEA-8B4C-2763C595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F6CED2D-4134-4251-897E-F121CD93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BAD135D-683C-4F44-BC2B-41984E5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85B9AEF-D1AC-48FA-8BEF-2069687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AFD8544-5C85-4A3A-BFEE-6F1D05A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DA33C6A-8CD4-4158-896A-74AB0E3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6A81106-5DE0-43B3-B90A-0317D9AE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9A28D7A-46FB-4A36-8E17-6800DDA2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0C1500A-E06E-45BD-BD67-E61B096A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DB6420D-15C2-4C45-BD68-8F85665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C3A3BD5-5248-4584-86EB-7308367E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F5EC5-877F-4F56-9B9A-C5B07A70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B170D03-2387-4514-9220-47097236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1D60F86-E9D8-4427-9F0D-3A738C56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27A7012-4292-496B-BAF4-8368ED91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E8AD94F-C20D-42F1-9B2C-944CCCB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CEA8788-8139-4EA7-80A9-BAE4F851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F53A4B1-E646-489F-A307-4646E4F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C9D900C-CD5A-4453-89FB-DB601E52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906BC05-77CF-40D8-94D7-40181822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FA4D3FB-B02E-4317-A4EA-315B9DFC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AD34F11-2381-4B27-99CA-59111110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5044B-D4B2-41CC-BE8E-D84666C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D9CC40C-076F-4375-B95F-95C173F6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F412EF1-6DFE-4748-835D-E7718A3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1E5F63C-A4A6-48E1-B4E0-F33CED2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E2C5B6E-94D5-4773-AA2D-099C1312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1CA02C0-44ED-49D4-BA44-179401A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16B81FD-E3B6-4C94-80E4-CCB9910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BE8ED41-A22D-4080-A35D-330874B3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C102149-2B1A-4AC9-8B1E-C395249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96F2E24-EEFD-4692-A53D-3460032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54388FCF-42F4-4CC5-B685-90211D2C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B41-8BB4-434E-80BA-A68E5271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77FC3-38F3-444A-AA8C-2DD6842D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AA550BC-4F7F-4DE0-A5F1-A1CE17F3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ACCDB36-CC93-413F-945F-68CACA18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A8B462D-C54A-4851-BCBA-7214F185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FC9B281-3099-4649-A3D3-4F383D03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627BEA1-64AB-45C3-8779-D7BC5F4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D8E27B1-6A04-41F5-9F38-FE80D9C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B47FB78-3945-4310-B743-BF0727CD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7346E5A-526B-432D-B664-9F38157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6C1D9DA-2888-465F-A67F-BA409A3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9B9F3B4-18DF-4B4C-9642-0F65384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BD2FE-0F4E-4348-A8AA-1E39499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26A78E2-48D2-49BE-95B1-ED0780C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DAFD43D-97BD-4642-8010-2652F5D4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05DB6DA-4439-4974-A1A4-EC22B361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E51703E-E392-485C-835C-1D906AD9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7AA358D-A3EB-4E0F-978E-48BEEA2A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47750F9-B18A-4BC3-8037-B65C5F03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A9C3284-2B66-4585-905E-218A9730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97CB110-1DFB-4477-B0F1-66A6B5F8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2286D4E-AD16-4426-97C0-48577F8C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024D575-F40B-48AE-AF6F-3835A44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5AB3F-0AF6-491E-8EF4-4DE280C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1FDAADF-BFF1-44E2-9995-3C8B9C8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C01DA42-CCEA-4D90-846D-D19DA3C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1477EC0-48EF-4842-83AB-019C9CA9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3491A9B-80EE-4F29-A532-AF2F6F99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3F5D257-9C7E-4747-95BA-1DEA8CE3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3C4926B-4EF7-49EE-8F35-7F9EC2BA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6028387-31B8-4A41-8A3D-661CA45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FF67821-B11C-4183-A47A-8DEC0D8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AB74AA4-19CB-4DD7-83B9-90839F1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C1C59D1-FB33-44CE-A285-5F94DD1C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3FD78-EB18-4BF3-B357-03D1789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B26F875-78CC-409F-813F-429EF21D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2B57BBB-2F0D-4F88-80E6-6CC358F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78A56F9-3B77-49CA-8579-438CDCC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9811328-66A5-4A7E-9642-D6DD75F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E02A95F-4FD0-42A2-B7A5-25A8449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3B45D74-5630-4E97-BB4E-DBFDEB19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EE7057A-C51E-43E9-8E1E-DE0E397F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1156207-83D1-4BBC-B43F-BD27C35C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68A50A7-F4E4-4E32-B85A-4C6CCDBD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2B700C0-0EBA-424F-A6F4-874D4D2F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A7D33-A84C-43B3-BEA0-A186576B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68A551B-3A24-4DDB-8F4F-F088D7D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ACED532-5615-4090-AC14-384C09CE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468B0D6A-D383-4F7C-A28D-CF17265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72CBB55-3A89-441F-8DE4-99435D44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47D9D30-E36B-4D6A-A48D-F5176B9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6AB82BF-9A8B-41BC-8C7C-749B86B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CF19B3E-6E1B-4AF2-B7F5-BC96C3CF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2CB708C-93FB-4FB2-AC90-072F7DC7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6FFC9C5-9C68-4C77-B020-6F6AB2DC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7BC16EE-DEF7-41B2-850B-89996C5D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3EB49-4F49-4ADE-8D31-4FC64F1C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1E76837-A6C1-4853-B6B1-D54E943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6D7E063-5FDD-4186-801E-E2BEA2BE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46470E9-31C7-4C4E-9841-57E32E9D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CE424BB-D6C9-4A9B-85B4-1E313DC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12F3B80-628A-4ECD-933B-529C007F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024146B-ACA4-493F-A310-A23BBBD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306E76C-8DBB-40DB-B123-F7C7DE9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2CE097D-87D5-4471-A109-D8AE621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D7E68CB-F2D7-4C19-8DAF-CE7356E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1311D97-1281-435D-A70A-346CA413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1C2B6-50AA-4B2F-91EF-F05B16E5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4FBD3E3-FD31-4A29-8C13-136EB69B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E8C5DB7-8075-4763-8E7E-0A045EAA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0575904-73B0-4E4E-A83B-C4827AA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F08F8A8-252C-4A2D-A17A-D532DF0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F995DF6-A179-4DC3-B325-0CB7BE47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2722E7A-6028-4902-A956-619EDAAF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90D44BA-5014-497F-BC76-5E562CF0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6305A59-378D-4FAD-B2B2-10FA348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218F073-828B-4ED1-A52F-5F8F872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AB588F2-303A-49D3-85DF-1A74845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E0060-BED0-4001-9A97-04C105BD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DAA4D04-F88A-4465-91B5-F0ABD388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0EA6CA7-A481-43F0-B57A-C26F406B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E044470-0BE3-440B-8863-4134139B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4C49AF0-AF3E-4442-A7B9-1BE6A088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7410928-2016-4BDA-A0DD-99FEECE1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8499DE3-69CB-4C55-A84F-DBC6718D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44D8DA6-0F79-49A6-9393-8416848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98B52FF-7F3F-4F3C-AD62-3BB658E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FC6A1A4-C470-47BB-B6B0-E5F0E5D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44A66A2-3E06-4346-B636-D29C955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E4E96-A90D-4D2D-B5BE-0C8F9C6F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BFCAE05-53ED-4AE0-9EAF-2F94CCF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C477B93-A4DF-497C-86FC-E5BDA20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6E1E155-C640-41F6-9F02-3B3A7AD4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3EB6875-B16B-4A73-B8F0-B1F47C0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6B9D3FA-BC7F-4779-9781-7090B48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7965548-4C68-45D9-A360-045D6319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697B9E8-0128-4C00-A003-A246A45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EFE33D1-F6F5-4168-A34E-D305A7B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568ED02-7E2A-4FDC-BC42-1639804D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D244E64-7758-49DC-9B27-2F1155E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5B17B-A3D4-4821-AD6C-1818412E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93F7B17-0F89-4B09-9E9D-F683247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EA6A243-94A9-4E38-9435-58B9298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F723CC1-8F9A-46A3-80DF-2604E29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E003F7BA-E7B1-4CC4-B1F3-0257023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6956466-D599-405F-927A-42A376D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6977F46-E56B-4466-BE86-108FF01E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5587454-B390-41FC-A010-443EF897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464D586-7253-43A3-BBA2-BEAE8837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19C5A7A-09A4-4294-8C17-29EE83E6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260306C-D24B-4C33-BFFB-3CEEEDB9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8D77-7EFF-49FF-A769-2E9700C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19292-E5D7-4F42-A841-CF7F75C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877C7DB-D83B-4ADE-B6B9-63EFAFC4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876CC21-2BFE-40F0-BCA4-EE0101C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178FFAB-E268-4190-822A-2603C15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8D985A7-24EE-4C63-89CB-4DAFC8C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92C824C-A838-42E1-9576-F29E3F2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26AF89D-D9D3-4733-B11B-009466D2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234DA7E-1638-4CE0-9243-1EBEDE4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BD0D45F-95E7-458C-B5B5-E4BB5F1C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937CBB1-845F-41D8-8E6E-A094A24F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53A847A-A083-46E5-93C3-E6657CAB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6C2F9-251E-4C03-85A5-7D705C9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B806817-87B4-488F-90B2-3C1324B7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89F36F5-5E38-443B-8ADB-7DC06EB2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E6E67B7-3253-46AF-A12E-C10D5C4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A9070C3-8692-47C7-8591-7D705EEB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41D2C0E-7465-4EB6-AF92-1009858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EF63956-E851-4BFD-AF98-5FD977FB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4BB3452-1813-473A-8883-504A8815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92C7753-F8B1-4DA4-9C7D-FEB5BA2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0202019-A79D-4DBD-BDC6-9FA8F97A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F6D10FA-FC2B-40D6-9C2D-B099FBCE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0F263-6B08-412B-AB24-284B5761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755F329-E7D3-438B-8F8B-54265536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6C4EE43-E8D4-43D8-B675-56360666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BCCF711-E655-4232-B15B-689D3C2C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B5516AB-598A-44F8-A381-856BB51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8CDCE20-E197-4835-9FB5-26B3CFA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0B3CE3B-992C-43E4-9249-C7F9654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7B08920-17D6-4F5F-B5C1-9758D4B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B5B5E27-95DF-4152-B6FA-FCDC6E5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AB9034C-EE5E-48D8-9AFD-AC67162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7D733B8-B83A-46AF-B9CD-241CE4C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8BE1A-1C93-44D2-A0E4-84A5F84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622708C-58A3-4806-AF17-51978B63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296F5A6-1E95-4B6D-B784-E4F9551D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2B75176-4967-493B-BB11-AA1C721C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B9070CD-11C1-419B-AEB1-6CD7B893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EF07558-9591-44BC-ADE9-9C6A7D5E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6CE0001-0AFA-4462-AAEC-298E2A46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52326BE-2FEE-417D-906D-606004A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4436757-ECF1-477A-815B-DC5C780F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BC933CC-ACDF-4BB0-84A1-412A69B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E46AF5A-FBDA-43B5-9E32-94A81CD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FA0BB-7ACE-4EE6-9E42-3A11D71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5C23B0D-8DD5-4A18-A8CF-F86917C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9B71304-B42C-4B4D-8828-FC4396A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C521630-E4BA-4AF3-92CE-17D120D5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E67FAA1-337D-4506-9B36-1CF82A55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65F63F0-3ADA-4117-AE40-215F7EA6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03E2E2B-1470-4778-BD98-59F3BAF2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F2AC2EF-4579-428F-BCC6-3CEBECE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AA0DF59-82F9-4793-AA7B-203B22E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BC7A811-5CA7-4455-9C5A-079EB4D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33AF2F0-D89E-481A-89DC-1DF0DCEE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D6378-0DA9-48AD-A22C-089CB21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DCF8650-B819-4CEE-BA42-EE4CE4F3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7F39562-1971-4E17-8AB9-F44048B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0CD4999-11F2-4DD7-8F50-A35CF68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E33ED43-51D8-435F-86E3-AD88257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0B1C97A-1C64-4145-A59F-E1A78649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8D42DA6-CC4D-477E-A110-35E9FB3E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0B41557-D620-4FD5-8CE7-E6C5AF87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5AE711B-C4F1-41AD-9026-50FA7394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1FE73D9-D283-4C5C-8A46-D33A1379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4D671E9-D6AE-44AA-AB00-DC75606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4EC42-22C1-4485-9140-B84AE328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A4E57D8-9F0D-424F-8F18-B26F778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E1B9399-69C3-46BE-A142-0B42656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0B4F248-51E9-4EB6-8842-38E6A684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41AE460-A9AF-4586-8A92-4FBF29D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0A8D309-5851-455D-8C9A-E38BCC0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635F379-B397-48D4-8B8E-5B4CC1E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26DDED8-F302-41B9-91B9-AAD3E300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CD0265A-2EC3-4972-B6DB-25F5F696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4AFDF91-E0F9-4F68-9D70-95E80CAC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7518E41-28E8-46A1-844A-D11E4AE2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36914-5B1B-46C8-B290-3AFF861B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5272EAB-967A-44DE-8429-62707A6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0F66814-60B4-4103-8B2E-D9F09A9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A0771D6-9FC5-404E-8F28-5EC43F0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F2D71D1-82C9-4A08-990E-7E87A1C2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1F4A7C4-4C47-4B29-8AF4-EDC5CFFC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80552688-12BE-44A8-8895-CF4F206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89E9225D-5E24-46BC-ABDF-EFF1396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C5FDD9C6-CDD2-4883-86D7-709C1A01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A02D486-33E1-4348-8B11-7266B93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87AE402-3216-4C1B-B95A-1A3B6C94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91970-1857-49C4-9EDB-272B4CE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D5E976D-9777-46B9-8486-7227A3E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DD1D9AE-CBCB-491F-9DEC-6A8FDD60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776214E-DB8A-4560-9B76-C4D38611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0F426C4-8C2C-4774-BA0E-7C2631B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43875BE-DEDF-4791-B1E1-FAF19AC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8D2A4A0-FBEB-41A8-AEE4-5880BD90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DEED7F1-2B9C-4596-BA2F-49A64D4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B474CC9-730D-48B7-8C88-29E5AA0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6DF1FDA-FDFC-478B-93F6-2002978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BD33DF3-C7A4-42E0-A6C7-9F3FEB5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8766D-D68B-4371-9266-408BAF27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607BAEB-A8C2-40BE-B618-F658186F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C43434F-C03E-4BF7-9D84-A4E8CD7B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51D3A37-8456-4969-AB14-E9C7F778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7341174-4FCB-4A27-A7CC-228EF2D1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3758DF4-CDDE-4E2F-9586-98BCA29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66F96CF-C249-43CD-AC06-C4BE750E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4607826-BAB4-423A-A129-817755AC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4189FC9-58A0-4628-921F-1135C20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CBF6970-0A64-4116-9602-455F45E7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4E8D633-258F-409F-8B02-63561C5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0810-FB19-40FB-BCAA-2FDC7A5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6F6CF-A1D5-4D16-98ED-227413EA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0B9F9FB-A53F-41B0-A424-52B3035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2A3C3FC-5C6B-4BAA-B3CD-F59C081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DFF9C56-7A41-4EC1-8228-4020095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87990D0-A5CA-4E72-A880-02E020FD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8E2B62D-80CF-4CF3-856F-4DA6A807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B03ECBD-296D-4510-8D79-F42844BA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F3A2264-847D-48DE-BEAE-7982458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F0267F9-B3D8-4F7A-8BAB-C67272D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93177A0-B523-4081-8193-0C5C93F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26CCB8B-A69E-4E1E-885B-4539A79F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D94A9-554C-4ABE-AA47-9F17104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2752438-3A94-44E0-B321-52D660D4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6E19BE7-BF39-4BAD-84A2-3A62640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B8030E8-A8D5-4461-A28A-E7FB038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615ADB2-E868-4CAD-B7E2-1907435F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0183AE4-9338-44A9-8937-2BAE9EE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3F51D7F-F842-4322-8551-FE3F2E7A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622A556-7307-408C-B26B-B4A80B0C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65F2D98-0055-495A-A8B0-10A434AC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CF1C471-8C9A-40A3-9DE1-97E3878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52FED10-4D8A-44F3-A325-FEB84D7B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CA5A6-ECDB-4568-B5B6-C983DDA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BCE81FE-D22E-48BA-B457-934F30E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E4557BD-078D-44D9-978A-C112117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DA57F9C-7998-430B-AFD6-CF1776F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C0E1F7E-4563-4361-AF5E-94DDF14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A876D7B-8D32-43F9-BF59-614AC35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E8DF86B-436A-4E10-A98B-AF56E8B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D82A12D-6D77-4B7D-B598-A17DA66D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2BFEFA6-725E-40A2-9B6C-C82E35D8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0906034-906D-44CC-836B-0872E510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315D7C3-86FD-4190-B85F-799DE00F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507E0-785F-425F-8F1D-15CE38E5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5DBFF43-6729-430E-A3E6-6E79992F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D5ABE9C-BD08-4E23-98C3-07BEFA0E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B7651BA-7B1B-4C10-89E3-3083C87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5CF8D70-220D-45EB-A9F1-00E5DAC7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3EE0B41-5AD0-425F-8C75-6ABB6AA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988B2F6-33BB-4B12-A6CD-B3693709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C63A936-4551-4F3E-831B-A2B4BDF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8E03E57-F80E-4E2C-BB97-C0DD7EF9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8AF372F-374F-46C5-8B26-9DC20469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E6B8535-8EEE-471C-9899-6992E1DD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34E9D-AF2B-488C-BEAB-5DEF3D1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CB75A75-5ACD-464F-B5B6-5A14DCB6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F496A54C-0A19-4828-B3F5-1BCDF08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DD8442BF-A20C-4A05-8202-39A9A20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E02A0C9-6432-4909-9B29-AC75D220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8E547F4-016C-4014-9B84-6C06D1B8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701AA09-DAF8-43A1-B745-AB28038A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6261B4C-71C4-4AC2-BC5B-CD7FB53B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1DE04FE-0A8C-4DF4-91B5-0A09371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9FC6B1B-A42A-4006-839B-93C4D6FA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033219D-A05C-4E92-B9DC-E25D33F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D4E0E-4BB2-446B-89F8-11ACDB0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7946C47-A081-48B6-9024-B6638344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867977D-BC8A-4252-AE12-409E495A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AB36258-8A28-430A-BEE1-295B236B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726827AA-2D5A-464D-A15A-2F4E9AEB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1687F81-B367-487E-B0A0-63FFEC4B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86D9421-5A25-4405-85AC-A6C703B1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1E6A353-16C9-4974-8B4C-2DEB61FA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530C3EF-ECBD-4617-A301-58635A83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9090BFC-BF8A-4E85-A749-F383F6D5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B0BDC424-D0AB-4F1A-B1E6-8B5251CD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AC93A-2878-4985-9847-5694796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7DB2E63E-CEA8-444C-957B-023E945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B409DD15-E02C-457B-8F68-B104844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583406E-0D61-4534-B6BF-B51B707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1B541E1-EA3F-4C28-B550-DDC6897E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E364EEB1-9317-4998-A56F-909382C8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101477E-7A74-4FD0-9C8B-0454CE78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B90A2B7-3562-4565-8950-9D353AC1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9E638302-5F19-4443-A2A4-0D31ABC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9970BF7-E998-4944-B35E-0A6A8AF2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BDF41EF-CC83-4990-8286-D8285565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10E4E-5394-4C19-9E5D-A960806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5F67FEF-8CE2-46F6-A641-1C163688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A424C2A8-4E2D-4D12-8184-FAF7D0E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F1F0405-8B1B-4565-BEFB-647AB5F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17988E5-0AA9-41DC-91A8-D3CE245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462A744-95DE-4829-B842-2D97E2FF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C7ADF9F-A0E5-4B06-B63C-7CFB304A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FF065FFB-495F-41F7-9464-DAE36F65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EE5F35C-DB28-4E12-B973-00AC4A08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E5227F6-274B-4283-B624-5AB392E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C6EF4033-501A-47DB-9D5E-98648D1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542C2-CB7B-41C3-A96A-0DF5947B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589B041-FFBD-434D-BD37-7BC4AA28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FE3DC4A-87DC-4917-A620-9C3E6D38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CE75163-E801-4474-9B7C-A1F7A66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532F31D-2491-43B6-897D-C5528AF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5206296C-F287-46E7-82FB-6ECD9FC3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7982DBF-ED8E-4EC4-A462-747286F4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985C8C3-A927-43C8-BC89-618B7BF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DFC6410-0778-4749-B022-A3FE839C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58ABFB8-5E39-4ED0-96A2-F39B640E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C2F30BF-4090-4998-AA85-52DEA2F6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B9E36-131B-4FA8-A993-FCF78AA3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4622C1D1-7E88-4F02-AA63-D3332151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1985359-80F6-464C-B59A-E6CDCBB9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7B65517-DCB6-4537-8C52-CF4E54C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F833B04-2600-4E80-A38A-A130F945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42DD176-5BB5-4800-94A8-22553AF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FCDD2E27-2435-4314-84EA-2AC96C4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39825D6-1F57-4FEE-BF5B-FC55A22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2FAE5A6C-8D11-4392-9369-AA4872F2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47F39F5-E95A-4257-B6E7-D06A7A4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119EF45-A0BC-4CB8-97D1-48013553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DFE-2510-45DB-846F-892A2C2C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658D2-8054-458C-9AED-42D1815F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73E05E0-777D-4EC4-AE4D-497591A4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6B7E202-4E1F-42B5-8781-F4A7600A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DCA3F95-02CF-4277-86FB-9A26E6F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270B12B-783D-442E-98F2-3809B85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7A1E3F5-A904-4DDA-928F-E6E8137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F8B0DDD-4F50-4C59-87AC-AA8FE394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FBACA52-9E2F-4C0A-9484-52599EF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6C2431E-C821-44DC-A3D4-47CBD3A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B8BD712-C1F3-466B-8136-87213D19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25A377F-8C4B-4410-AE53-F0DFEC4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C4343-8392-40D9-B4B1-951238B0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73CF8B4-9A7C-47B7-9842-8A20CE2F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E6260B1F-9A75-4080-A926-76CF30EB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D630B62-E0DF-4817-9769-552A8F2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A8952-F02E-4800-99CD-CBE220CB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A04F9-B3FA-4ED0-83F5-CC7674E6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EBD9A-EFB6-44F5-8A39-79926DA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97F82-7C33-426D-BCB5-67867C02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0064E-3FB0-4F0D-94E8-A9A3D72F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8D5F2-A783-4A85-955E-A95DD7FD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4E118-E159-4F9C-9774-8C35ADC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2942B-8B18-45A2-A824-D7668DE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B04D-A8A5-4B25-B119-6A56AF4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6B08F-00AD-4491-8EF1-21CE35B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7A00E-6472-4D19-AA8A-0BBD29C9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E681D-D572-4030-9308-3C622885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B1E1B-C063-4DFE-9FD5-3B9DC625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4E454-82A4-4BE4-9760-99DF75B5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7F483-7000-4E87-9B47-DC04E943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49CF1-E217-4747-A0C0-1D16B75F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62DE6-282A-4F63-B806-40442A0A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B4E75-023B-4F34-A41E-9C6F7520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5D109-0803-4A6D-B588-B6A36C8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518-405A-4C43-A5E8-188B1C9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DAA-EB58-49B7-99F4-32F9AC0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13829-08F1-45D8-8EF4-18346B9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779B0-E3AA-4CBB-BCAB-D7FABBF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C0B13-4826-40BF-9EBE-18D18CE6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CB6CD-6610-4105-8F0A-A54DCAE5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952AC-1966-4B9B-B39C-697B045C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60FFD-4591-4275-99E0-2394C8EB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8DCB1-641C-46C9-AA1E-D1270665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79CFD-D38B-42B9-B2FF-2E7DC061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9796F-4396-4103-8CC5-48FFAE84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6BEFF-CD5E-4D31-887E-823AB5C3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CF5-A024-4480-9402-A915DA7D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A3D24-A9FC-43E6-B804-BFEB77B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3E47A-267F-40C7-A4FE-394D5E2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1C055-F8A6-4FE2-A4E6-E3D15C1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476D9-71B2-44A5-9302-9DC588B7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7C04B-2678-44DB-B87D-04FEEB8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2B849-CC8A-49D4-8760-30A10989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F8C04-34BF-4246-89D8-A1CECFA1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61077-BEBB-4CEF-BF0A-BE16801E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7B80D-EDEE-436F-95DC-F49962DB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CE6FC-F17B-46B5-81B6-1050CE1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35D4-1AEA-4581-ADEE-94063CB0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FD3DB-2AB7-430B-8D52-D4DC55B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55CDC-E54A-41FA-843E-4B252E4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9DA1A-3ADA-432D-A200-A4CE635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F5387-A84C-4B3A-8F27-0E9A43D3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33B0D-618C-435D-BE1F-985C1E5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A1F19-902F-45B5-BD45-B8B0749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A8A0F-6BD3-4470-98E1-DCBEBA3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31BA7-22DB-4EE9-9969-4E5DBD2E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CB0B6-E971-44DA-B71A-71698671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20DC4-0AF1-4F5A-BF33-8987BB41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0FE-5381-43F2-9F37-2209E92F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BBFCA-B0B7-4465-A927-82B0BEF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D296D-B5B2-4F47-A8A7-7322C8B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85964-AA80-4D42-A0E1-D1AF4BE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41B85-A863-47C3-9A51-CFB78069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60AB0-35D5-495E-B634-540FB4D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62BF2-0A43-43C2-BECF-6C2D575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214CA-F3E8-4F05-990A-96240D6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0DBCF-0BAC-4128-97F2-6B90240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95318-C545-4C47-9A5F-50E0188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99FDE-3077-4E55-9E87-268F60D0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748E-E6E1-45B3-B952-1348347D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7C813-FB3F-4EDB-8657-A3DEA7FC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84010-868E-407E-ACDC-6D412D75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10820-8E32-4971-931D-FFACF587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A1D3E-769D-4EB2-BDCB-1A802440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56C39-FE40-47E6-B27E-8C833AC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6C965-0BC6-44CC-BF8E-38B7A815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BC01F-E477-4C75-A9E4-2475987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6B2FE-B2A5-4A54-80F5-222141B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6F10C-AA15-4E04-BF96-DBCB4A9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16F1E-E60D-4FC1-B69B-8DE1A31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234A-C063-4413-956F-248316E3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38021-D838-437F-AF2B-30ED122F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DAA2B-2914-4C11-8AEF-E064A88C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2FD6D-6A42-4BE9-B93F-421C1256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1C0E0-0388-4FB2-9B41-4B4013DF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BF58F-77C4-4588-9ECF-0C542539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E1224E-ADE9-445C-A143-1E26F0CB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35CE9-9D1B-4963-88A1-34FE6DA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DC8BC-958B-48A3-A72A-1B900C1A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99D6D5-BED6-4B44-A49F-6B98D5A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B0528-4DCB-419E-9F45-BA5CBE2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9BA4-C4B5-4991-AF42-1723E7EC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B1A29D-4475-4B82-BDB4-7DAD8A7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944943-867B-4B3D-94C6-770A5BF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8CC4D1-279D-4D8D-9997-98589B53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352A88-0CE5-432D-A1BB-CB5BB3A1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91B1C-43EB-4E03-8C8E-BDE63C6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2C677-20A5-4953-92CC-07BB83CA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20459-5357-442E-83DF-6F194CF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6AA51-E52A-4568-8998-62B9471F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F6A55-EE93-4FD7-8C98-C20CE278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A9DBE-7AF2-44A5-BC0D-28007D5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1F1D-B147-4D40-9901-B0124C73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43A1A4-2673-4240-AF89-241D6034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9535C-801F-435E-95A4-30F1896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B5D076-4899-4640-B3BA-275D023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82149B-61AE-4863-95F3-901A128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5B31B7-EEB8-453A-8972-B8AD922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D304DA-10BF-4E63-870C-EB71EC11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1EC398-F714-4750-AF35-0DDC373A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527FBD-C8F7-434F-BFCE-99D8FF8E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A6F06-703E-44F6-A4BC-883300C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70D0F7-016D-4CB0-8DFE-B079C1A9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ACB7-C54B-4A32-BF48-55077A4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36462D-6985-4240-8974-490EC157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35C9E7-69EE-4144-9A87-A98B57AE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DC388E-8F36-421E-95F0-28C116EE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A4CF33-512B-48A8-A0FA-8370237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F13DCD-D8BC-465F-B872-D1F8311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1671E5-D060-46E0-8FC6-AE0958B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1121FA-8330-461F-ABB8-A54D393C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0ACD5-7EC3-447F-9A8E-2C1EC7E9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F28E43-7ECA-4994-BB6B-2B74AA7F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9CF24C-BF84-4BC4-9B41-5C555BBD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EC2B-EC78-41A8-9E3E-0F55FD18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D0FA69-6C62-4DCF-A167-BDDA2620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E6635B-E076-4AB9-AA3A-8D0DD66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311216-764D-4BBB-96DD-FB29B15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8EDFE1-E04B-45F7-8686-3A7CEFE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D0132F-FA3B-4443-AE35-C6DA225F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68FA80-D73D-40D0-A1CE-E129F4D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0B512E-93B1-4D25-85EF-002F63A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20256F-27CA-41D0-A0C3-C1BB54A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7CCEC7-3F06-4527-917A-CF65F29D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D0731C-7F57-4A68-A096-6A816737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73B-5910-43B7-B824-584A70C4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73BE-80E7-4A5F-AA5F-18D59336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B9272E-E345-4CD7-8970-50A8F030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A937DE-CCFC-41D4-BB9D-EDE488F2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AB97D3-A4F4-4C6B-B205-AB181CBC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AA981F-32D9-48BC-99FC-86A789A2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EE9BFC-1112-456B-8C48-485AA8E4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0B0BA-B090-4344-B373-77B67AA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3A5D73-4BED-4729-9477-F688A17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B5CE2F-5864-460B-90ED-3CAA30A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E89526-60FE-4D52-AB3B-92D9AB0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4687C7-EF41-4FF2-8540-DC360DF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DA32-AE78-4500-A7C4-543DE3CC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6F258-1F39-4E1C-9493-AFA7B649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8E7D77-287F-44F2-8E29-6DC99BF3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F5AF2B-F70E-41D9-A8B5-A4C9022D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C0FE1B-8E6F-4F48-9629-55655A99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BC07F9-4EA5-4250-810C-26E99B47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293A10-03EB-4A47-B61E-6A6B0E5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6A474C-8DA5-43E1-BBB6-752E1EA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BE4BC9-B18D-4380-B003-C93680CC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9F859C-1D55-4FBC-B617-CC907ED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614F0A-3E44-432C-B60F-E546DA6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D31F-EF12-42CF-84B2-D733F38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5A9051-D297-4AA2-8DB8-0659132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D7E7FA-3CC9-4558-A0A8-ECD6DD35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812FCC-DB98-40C0-A2A6-CE5D33F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874F74-7343-4B55-848E-F2D5B510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626A62-14B4-437E-B51E-CAB102E0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BF29D6-6F29-46D8-9F82-C226A4E7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887272-5D5C-492C-825B-E3D833FB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E8A1CA-94A1-4771-8DAF-E1215720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77FA8E-4905-42D2-BCF1-0F0031B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3CB291-3148-42FB-8D29-E0BA01A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6123-C291-4E44-AFBD-6987FAB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FEF664-D2CD-4673-B668-01F43E6D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493A8F-F650-4B23-BDE3-85B95D0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DCCF42-CE92-43D4-937D-A1FA9BB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2F090F-8E5F-4C2E-9F8E-4D3E01E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EBDF24-6A21-4238-875B-72B66E89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9E206A-215E-4075-B37C-8247D7B3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81FAB6-B0FA-4754-8A27-C75974A8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02EE6C-2AE7-412A-AF73-EDA4B38E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C153EA-7460-4FDE-A366-D4E3F71C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EF0558-74E8-43D9-8EBF-25A18CF1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2EA2-7A4C-4FA2-8053-34050CE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6819EE-A6B5-4E16-BC7F-013079D5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7C66B0-430D-4082-90DF-589716EB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99A4E7-B2CB-4360-8B9D-4DBCD409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C15F4B-687A-43F1-B5FD-6D8D565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1C09DA-49E7-4EF8-B426-3D46D89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220EFD-01F6-4CA6-AC9D-F8E113E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F14C6E-DBEE-46DF-9968-3E3DBF05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B2DCC1-F6BB-4F0D-ADD3-08157E29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E707A2-78B7-4267-981E-CA03B48D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A36EA9-2964-4873-94C2-8BCCBE94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61E5-8A43-465B-8883-304AC423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917C18-8A9F-483E-99B3-2B5FA34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CDE470-616C-45A4-9BF0-A77B0EE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FC3B8E-567A-49DE-8245-4107FF87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E4F823-F4C5-46F4-9B2A-85841F59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F47D12-0708-471E-8ADE-5D01054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7DA7EA-EFE5-44FE-AE8A-AD2CFC8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5B54D8-54DF-4C50-AC37-B3DC7F6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17BA97-53F2-4D20-A80C-B50189BE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3E7B70-EFC8-4E18-BE4F-9F9C031C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1F57AA-1E72-4BBD-A74B-404E2175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58D8-46E1-4820-898F-1B7C5DE4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5ECD3B-1B11-44D7-B0CC-A08DFA5E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7F8B38-1D42-4074-8A6E-9EC7556E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EA14F7-A46B-4AB4-9FE6-00F908E1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E98605-1360-4D2A-9160-F3E03C0D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EAE20C-EB05-4793-A364-294B7C9B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4A2140-1341-4B97-9DB4-BFCA8AD6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502EC8-7116-4B45-8C13-545FEF8F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FAF626-52B7-4910-8015-9ECCCDE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3A8CDF-F472-44B0-A8AE-3510B409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CA7873-A137-4114-8947-B582DB9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D2BB-1DE0-4B57-AD7C-0FA55CAE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9A97DD-EE51-45CE-9C58-F8B6F50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AC890A-67EF-4A85-A5BF-82F2E534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0E648F-FD45-4CE3-B228-4C3F6153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8420E5-3B9F-4264-A007-242940E2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0ED5C2-5526-4460-B3D0-8DE3746B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2745E9-3ADD-44BE-8376-788F3EB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27FA11-9833-4604-B381-742EB07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4165AE-E9E8-4C0B-AE8B-DDD6708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A9264C-64FB-49E0-B985-EE6F874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05E760-B155-4CEA-9336-E1A11DC5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66C7-62EF-43E7-A133-D157A286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17F684-0E14-444A-B7F5-96E7E56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EF682B-E31B-4B13-B436-F434838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C0D1F6-9D91-469F-849B-20A4C35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C6D295-05C8-44EB-BE62-DE818C6A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6A3038-4801-4859-A68F-23563653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BE610D-3EAF-4694-86DB-3B6AF659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63EDE2-4016-4EA4-BBDB-E44BEDA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E4CD79-F059-4572-8EC9-69251019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5428B0-D136-49D3-AF84-EFF1AD04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55B1FB-5115-44C6-B68D-6AE5E2A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3040-10B1-4ECA-BDBB-87B99CD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E9B1FF-4CEC-4557-B667-779F1B6E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B4E775-29BC-4747-9D40-605384BE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9B1CDA-5DCC-49DD-935A-0355C69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CDEB18-5896-464C-A780-BD0FA33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70C543-2049-454A-A467-D0D74F04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7B80E8-FDC2-4380-A79B-11D78A06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389816-080B-414C-896C-791D503A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EF5A77-BA38-426F-B930-5D8C8221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83CAE8-11E9-4864-9D95-DC42665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962E12-F915-445B-BF15-7ECE93DC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79B-D1EB-4764-9A28-9179206A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98D1-28EE-4551-87DF-1C269BD6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1E5DCC-092D-4892-81E1-2E6852F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DBE5F2-2046-4A0E-AC03-25DFF3C7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05BC0D-5142-419F-9821-6D3DFEA5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B4C207-59A7-48DC-91FC-7993EBB3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445F26-071B-4C60-8275-50CD374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A21998-A3D0-4D5D-8FE1-056E13F3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3FCF66-B814-40C7-B73A-1A9E512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25B5A5-6970-47EC-82E6-B344F339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205DD1-0014-4188-B553-7EC0B54F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2CAAE7-788D-4207-AA5E-0DC04357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BFD9-DFD6-4ACE-8FC0-83C96EA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606506-03D8-4966-9CF4-FBB9E03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48D191-071A-4BC7-AAF7-78564570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13C844-E0FA-46E7-92B1-31955CA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F4467E-0922-41B5-81E8-F87E41DD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7CE1D4-93B3-42F9-829F-47EBFB2C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B496D8-E521-4AE8-A127-5D52FCB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DA19B1-2467-47B6-B988-9922E08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0F497A-2F11-41FF-ABC0-B306E64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9E7D92-BA1A-429E-8AAE-F7408803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C7E33A-0493-4568-9322-ED924182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A46B-B2CF-4CAD-9889-D8BE3783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7132CD-8980-4E8E-9ED2-5656A9D9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B9DE10-A726-45F3-8CB3-25BA359E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9BB240-328E-48D6-9B5C-000D5214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943AD3-A0DD-4D20-9FDC-3CA3AB2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0F849E-6C4B-42A6-8C1E-54F41A14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B99864-207E-4EEA-B6C7-39D39E4C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E25B6F-8D85-4A04-8C31-1D7EF82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BD454E-2F66-483B-A404-79573225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DD05FE-C393-44EF-921E-6AAB4978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5A3A2A-B010-47A0-BC82-CFE646BC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DC5F-3E1B-4284-93B2-835F3085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C9BE07-127B-46E4-AB48-C1C93364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98874E-76A4-40B6-94CF-CAB6B79F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EAB4B2-867C-43C6-982C-09A1A219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AC75CF-D257-437F-A84C-5BE1F6AC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3ADF93-884A-435C-BE79-CFCE43D3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FB6BE1-3093-47D8-B2BD-4CEAC403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7C1E5C-5296-443D-BA52-C07D369F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FE4822-846F-43E0-822F-0AF3A69F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7AC200-F928-4EDC-95C8-4B7C8594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23FB6F-E856-4FEC-8821-D5FC592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413D-C958-4532-B48D-10C06F1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C98882-983F-45AF-8EE8-84328CF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0B3E79-99CE-4AC8-A4F9-6555FAB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753424-DAB3-463A-9A3C-939560E8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49ECC7-E9CD-4D36-871E-805FF0B5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0DA937-C299-476D-A60F-CB8C5C6D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EF7755-91E7-4101-8074-E5622A03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681A06-734D-4BDB-800A-C384649D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A15BB0-7A84-47E4-8B74-0C7F8E8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7AD3395-A0C2-4C44-BFC9-1B1683A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98EACA-AC81-4E6A-88CB-073D0890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1234-030C-4458-8A99-CB14CD6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9125DE-E9A9-4CEE-88C2-4E9C794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2BDBC-A15B-40F1-8224-58EF48B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E3E130-DC6E-4394-98E0-369717B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086B75-F853-4721-9D43-D4736E0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04AAC6-71A3-4262-84EA-92E12C2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0F0C9C-DFC8-4F5A-8165-887C6889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E21F48-0F42-45BD-8906-FBF71CF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CCF14C-02D5-4A13-83C2-8BDCFA13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1B30EF-51F1-43DE-A1FA-41B41B73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93CFC0-B50E-497C-82AE-36BDB47A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FF0F-2657-46F8-900C-16B64CBC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65C124-50CD-4132-AFAE-C08E718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75CB6A-1B35-48F3-AC28-CF97D61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0BF0B2-08F6-43F2-A9A7-E5F6B682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596E50-6662-4CAB-85F1-709997A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EDFA7E-374D-4AE3-9116-4CA02CDF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1F6335-F61C-400E-A1BF-F3BDBF5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54AB41-6C0C-4BD7-B44C-6F697591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EB3820-742A-415B-9F04-86F068C0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21E0EF-F64B-4D32-BFC3-A647F6CE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1F6379-58A9-4EB8-8BBC-E3752719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F5CE-F689-4739-8F73-F2267800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1F2517-F105-4817-8E36-D40BAD98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088B15-671E-4780-9646-26F7F345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6D9447-5A14-44D4-8AFB-78AC1CDC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E6834C-564F-4E2F-AF0D-5C3C64B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039EC7-2908-4C1B-972E-80AF223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702B76-E58A-41E1-B2A7-F5F2ACF1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B3B607-619C-44D7-82E5-E922CFE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43DEE9-1C73-41EC-85A0-D27CD772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0817C2-0078-46E7-81D8-7B01DC20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9347C9-802E-4916-B024-CCBCA890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E578-E91D-4F5D-BB28-8F9293CA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F6E55B-22EB-4824-9AD7-E4596211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3308CE-4F66-4146-B067-1692B30E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0BCC3C-A1DC-47D6-9EE2-F19D26AE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F4AA46-FE40-467B-A4C2-AAB8248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F8B683-5934-46AA-880D-7B14531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25ECA8-6284-423B-8316-25E50126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AC93C6-2BA6-4905-A5BF-6C24DF40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9806D6-57D0-490E-B47D-64A1FC2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105F7F-B3DF-47EE-9D77-F80700D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E0E61C-D386-4ADE-9858-2621458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EE71-7673-43BA-94CA-952546B9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AEA26B-B036-464C-9445-CBE0333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67C3D5-6E18-46D3-B809-249EC989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7D3D76-24AE-42C1-BB31-A1E8D048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AC64A0-D1B1-41DE-9193-37FED721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ADC954-7D31-4879-B592-8BE5B512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DF0291-F035-465E-BB0D-B0FFDA1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E9DF15-6F00-456C-B75C-DFEA7FC1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236385-DAEA-434A-899C-29BDBB9A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72C78E-6B78-4EFB-BF7C-49B83BFA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A9AF56-4C94-4A8F-994B-E93F480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278-6AC1-409E-9780-18474E13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6630-477C-4AD2-AC31-91BB26C9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75B5DC-45ED-482F-B58C-BF580BE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15391D-3D91-4875-A359-871E8932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005EDA-CB39-4182-AEC1-9C8A50A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6EAB74-07D1-42F0-AFED-30B8DED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AC3F6C-F9C9-4024-BA8B-2ADA2B76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45EFED-C2CE-46F0-8E06-65BFF9AF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75FEE9D-A779-4DE3-BCD8-581B8490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71F361-AF0A-464E-BEC7-B750F42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1097C5-96FC-4150-8515-7B1EE5FB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452203-CADD-4F9F-B0C7-6E766B6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0428-6694-4128-B2EC-06CFD3F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C1F329-3C9B-4891-9254-B494B4BA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E9E25A-3FDF-4C23-9044-4B94046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60E67B-83E8-47F7-B96B-676F9B66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12FFA3-59CA-4383-8357-ACEF739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5B49F8-744A-4ED3-A0DE-BE59BA8C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87228F4-33E8-44B1-A098-4CB1AF3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C174BC-1C3B-4768-B7FE-4B72F9F7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16BA42-7FED-4212-A16E-07F1D25E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03DCF1-8080-41E7-B069-85EC39C4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DA6821-BF0F-428D-806B-3F84B2C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1B00-4AB2-4DC4-957E-4C303C2F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7F90C4-8C64-4939-A679-C834C09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C91AB0-790A-42C8-87CE-2313F39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D9E3F3-F0D1-4552-9812-35988F6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9BDE31-A970-4A02-83E6-F8F7197D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89D23E-B8DB-42B8-A707-7ED3ACC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077368-0E2B-4A42-A4DC-6B78943F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9DE1890-AD32-4C53-B504-D2A49518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FFC2E7-740F-44E1-A2AF-EFC8B9E1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95CBDA-BB6D-4AC3-86BD-4DE9933C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2634F8-7C75-4ADE-8040-603BAD94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F871-6B1B-4102-A22A-E84CE2B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515146-6C2D-4760-B27C-FB5C579C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8FA8510-D008-4C5B-993F-0EF1E14B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4C18BC-8594-4B5A-9F18-E96E9E1D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868C65-C1A3-44C6-AFE6-4EF6F433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2820E7-9376-40EC-AB84-37FFA4D3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710B31-3BBB-460B-8F57-7BF421B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8ECBBA-3F6D-4994-9C34-0C7A40E8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BE13F9-28F0-4C51-BDFC-04B8F08B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9D390D-F53E-4F83-A96F-0B6FA8CE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0826C3-417C-4C24-A9BD-FE257689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3304-3290-4CDC-96B1-A719F34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D73C04-36E5-43FE-A6AA-2F0002E5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746E54-B9A6-486E-8226-CFE35681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5D9B12-F134-41D5-BAC2-0DC129C9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C77CEE-0F0B-43DF-984F-F81904D3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657F21-1B87-490B-945E-14088CA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DE1C71-395B-40C2-A6B6-894E4CB3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4BA2E5-8B7B-46CB-B1B8-0006EC8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98EFD7-45F9-41D7-A792-7708C76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387B5AD-7D5A-44B2-834A-40BF8F0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35B56B-5968-4AAE-91E3-B40B7C1C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3D55-B337-4C03-BB9C-231DEE3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65329F-CF0E-4C8F-9C68-433EA64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F5EC20-D720-43A9-8136-89FE1DA0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1C030D-8A5F-45B6-8FD8-3C689DD1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CA8B78-4083-4AA6-818A-2ACE1E1C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EB70438-49A0-4382-BE66-A555EC0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B6AEC2-7DF8-4764-9CFF-16B3F1C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A32F66-336C-4261-B167-011EB292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7190B5-0EEC-4547-B758-2AD0DA45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C3BA0F-9911-4285-A54D-417F10C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B64F09-A10C-4335-A4DC-C5A35D4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C6792-9E91-40E2-95C8-341D0E3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FE5D4F-D288-4BE1-BDA9-C359A44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901C47-B21F-480A-B70E-2650038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57D114B-2575-4400-A30B-E3EC60A3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FE1633-B71D-4BE0-A138-F6806014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CDA76B-664B-4BD3-B272-4A9DCBA8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1C8CF0-73C5-42B9-9738-961B1343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96ECF1-DEE4-4C6C-9E0D-C7FC7BA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8A26E2-D3DE-4C2F-8302-96C3B63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818F01-F71F-42EA-80A1-AF352EF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E5F623-4DC3-4EB6-962B-542BCA3F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8B45E-7E3F-4019-9948-5DD4E21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EA0234-AF29-47D2-A5D4-3FFC9420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D93DBF-C19A-48EE-94F7-F04E12A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EC0C6F-AC90-41EC-BE10-19EFFEE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A614E8-F210-4754-8490-C45E91B3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F732D4-E2A3-4427-BF92-6797328A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694528-59E5-477B-A5B3-AFE55F60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C6CEC8-D170-4671-9150-EB33E217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99D088-5643-4F39-BF20-D3E7FBA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7F7345-EB21-411F-AB1C-BCABF64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A43B75-96B2-40EC-8206-536629E8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A72A-335F-40A4-B9B9-DA7DDED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E3AA88-6E0F-4C69-A7BC-2CF9379E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2B7213-90E3-47A8-8522-A83B33F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B5F3D5-8F14-4AFA-AE2E-124CB50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037247-23A8-4DE8-BBB4-17E13962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22F50B8-44BB-4836-8630-4501A8E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28552A3-D59A-4DDF-BE5C-D00543A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92BB87-FB5B-4B2D-879A-6B35B861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2062D2-D0EE-4EFF-B5D5-BD3332E5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7B7E903-6F90-484E-BD00-BB741455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443AF7-F2A2-408B-A8EC-3A157D12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A0A9-34A0-4EB7-BF2D-5C21A744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54D424-25E6-4478-8091-757933A9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A83054-EF87-465C-AE14-BE6F8B67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D70ACD-1E15-4504-8512-BCCBE85B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96AFCB-28E0-490C-9C27-8513E3D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48291A-F3D3-4C77-AAAF-558E1768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9D775E-5D65-4F37-A120-665FC11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8F49CA-DAB1-472A-A5B3-CDE3285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A05E59-1A7A-48FF-B1E6-23E8211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D77BC31-A302-4F7D-80E4-BBC68B2C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05D477A-12EB-4DE2-8995-21DE9867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AA8-BDA6-49F0-AB84-47888B6E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9E60-D0AF-4ACC-91D5-055B22B0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BDF9F9-267B-4E70-BB60-3C4BA519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F223CD-1423-494A-B211-307F7977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2EDAB0-B12B-4A97-AD8C-F8D6680B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2808600-30E1-43E4-9516-951CED8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365D776-E5E5-4418-84A5-15814028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4853A4-D81B-4667-98F7-25A9CDE0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276EF43-DA9F-4FC9-AE5C-F57D990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4BB691-98F1-4B9E-9F75-02168F0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E5AEBEA-66C8-4B27-BEC2-99BA65BD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34951A-FC40-4000-9F31-84AA8DB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F773-C753-48D4-85F3-258F2008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859FAC3-27C9-4B42-855E-2C17156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56700C-D634-490E-BFB1-A3100EA9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1FA750-D309-4A14-B2CD-5709B1AD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23523E1-4283-4F88-9BA2-7CF64410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C53DFE-1EB1-4D12-A6F5-C61079EE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358AC61-07A5-44F6-A2CE-0165DD6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5499DC-4155-418A-BBE1-8BFAFA8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468AB9-6C96-4E5E-A996-0FBB075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912E1FE-87B7-4111-A90B-672F0DB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875362-C3A0-474C-BAD6-16B98C9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AEFC-580F-4383-BF92-85BF3AB8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ECCDAD-0C1D-40D0-B4BF-E56B706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DF0101-E47F-4BA2-87F6-A9AA437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D8ED53-3199-4627-BC32-40C96FE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2035A9-C596-4B2F-9652-8665CA38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BEAA0AC-63D9-4F73-86FF-D31F0856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D4C822-D46B-4DBE-B975-B10859A0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25F902-3A45-45F8-952D-13A96BD1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38C63B-0F59-4D4E-B133-C14E054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B7E925-1917-456A-8306-30BD72ED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DAEC3D3-054F-4C1E-927B-B8FCF1D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A279-D39D-413E-9473-03C17194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77D995-E427-4F15-967D-158624D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BA2B731-420F-4C1C-AE72-6EB17C00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7EEE2D-B844-40F6-A298-ACA12ED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444AF90-79A1-456A-8431-81454CF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7143B7F-FF82-4793-A04E-BBABD401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D688BC5-A4A7-405A-9407-3F505AE0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CA486C-7EF7-4C54-9E7B-1566F9D9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796CE9C-50F4-42C4-9ECA-866D2783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CF2346-3231-4EA4-8FC6-CBCD98D7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92A656-8921-4D20-A565-DBFBFAB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02A71-415A-435A-943C-CDA8D8E0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7E7A09D-0E1E-4A70-A788-78673A0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D80BF8-A3C2-4F5E-8930-504CB7E8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DFE759-D293-4526-9C86-4D223EF4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BCA84C-E336-42B7-A1D9-CF75A1D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FA3F4DE-9E6A-44F6-ABDD-EC50E61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46178A8-7637-4D2A-A985-F4F5B18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54049E9-0245-4184-88F1-1B90C746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0CCC5E4-6284-4A9B-979A-458952F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E3F080-F3AB-4620-A783-917F70C1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4422BD9-7395-418A-8360-E865A15E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9D79F-C27B-4375-A027-2EA1DDE6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8CC31C-636D-4A16-A4D7-A5394F3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925240-72EB-4754-AA85-5EF3C00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E8D2DF-C975-4A7F-8371-8EAE7D6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8EA1AD-BFB8-402D-8481-FAFB283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86B8D7-4557-47E8-B622-BC1755D0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A675AA-3E08-4FE4-840B-EB51865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BBBFB92-DEA2-4305-9118-9F4DFF6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E355C6-D62D-43E3-8EF7-1E80B40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6E74F7-4845-44CE-A3E3-23AF7203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F33429-66F3-4104-81AD-F8A14065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E6B5-9F3D-4239-B60A-CC39D8D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FE46EC-BA2B-4777-A36D-23B15821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7BF14C-F932-46BC-B721-58200E3F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10A50E-58FD-4A45-9FF9-8E636960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7AF03B-AEB2-44D8-92B1-2D226F00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5DBAF3-B0B0-41FE-AE00-18FE992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AB02EF-FF2C-42CF-B065-49F32FE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87616A-2480-4F04-B32E-BC8EFF1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471A7B-5A81-4422-871B-F80ABA5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683AD0-1609-4C6B-83FB-C804606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B5FB806-8EE7-4D3C-8F85-F1F1D6F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D09F-8FA5-4CCD-A51A-0DB72CA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930878-59D2-438E-8D46-0689DEC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1EB849-3B7F-42A4-817D-008D432B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CAF7FA-1006-4852-97A7-FF9F09D0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26543E-6672-4D8E-8694-985433FB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0A7F2DE-3626-4DFC-A403-C5D1130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1C939D-F0BD-4CC3-8829-AEBB610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46C261-5D01-41E3-9B1B-42535A71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5FDEF8-AA24-45C8-9AC1-6DC74FF2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0DCB79-7004-42CD-8DA5-6E711F8C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503118-7DDB-41BF-B07E-79BFAC6B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14D3-7052-4F14-BA62-6095110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D5FD0F2-901D-4F0E-A41F-FCAAD68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3B090E4-EEF6-4C12-A569-3F5E6DF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CF9F83-757D-4934-B6A9-D633E78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F22AF8-7316-4581-9129-4C9B7EDB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03C6172-97FA-4FF9-8327-FF062AF0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11A3C7-86E1-452B-AADC-BE77C9B4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0800946-D42A-41FF-A6E8-063F1849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6FD892A-8BC9-4951-90FE-77D0F019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070193E-7361-4926-B8BC-1DD3EBC8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C1A0550-A58E-4C89-8A57-187D69C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29BB-B6D0-4C82-8FFB-F3F0BCE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69F6735-B8A4-4AB7-959F-F3552056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687FAFF-9DD7-4E35-9955-CDFEAB39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34F04B9-5559-492B-8352-2C8ADF8E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3DE9FA-51C4-4B7F-B562-1F51F20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98067C-B47F-4F4E-AEC3-3C33A0D0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EC1176-D558-4B6C-8F46-88BD342D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02CACA-0141-4AC0-BF67-58AD19F0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6BDB52-65E5-4588-8497-717BF7D2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6633302-D71C-4C9D-A369-0A8B7A1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20B5BE0-4D13-4DE1-AB1A-D7622BE0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D69-ADA9-42BE-B42D-C30930A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766A-7F5B-4B78-8B19-A3CBC479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3F6DBB5-7894-4A98-9209-0EEF93F5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A06CF3-0A39-44BB-890D-ED3EB0C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5B2246C-19E4-4031-B93A-2CFAD6F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879767B-F83E-4844-8F92-F6F852B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CE27DF0-FC1C-44C6-A0E0-1F9F46C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512D3E0-8B4A-422B-A73B-F2E0258E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36BDF9-4D84-4C49-943A-CFEFFC30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6EA152D-9A9D-4553-85C6-6F14BE02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9B47347-A4B7-4B59-9F49-36862C27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0AEE8B2-52DD-413E-81A6-5A20C450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E312-84D9-4EE1-9738-3A86D7FF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0375F66-52FF-4487-A25D-164DDCD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2E1036C-04F1-4E56-90ED-2F68F7FA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70CA681-EB60-4FF0-A769-48D4DFC6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69CCA4-E399-490F-86B1-AB471E8A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3AB972-D2B3-4CEF-A18E-EB25553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5DCA6CA-B617-4698-99A9-BCD01C4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B63FDD9-5591-4F39-AF15-FC34C09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DD09CCA-0784-4A22-B8AE-F8FA64E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460209C-C321-4933-8B4E-84742A8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65528B9-6C1F-40BE-9449-FEB7C38C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46B7-477D-4C98-A9E5-B5433EB5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69D80E-54DA-47B1-BB6F-91E284F6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6DFDC9C-33F4-40C9-9E56-C11702B2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B66B6A1-AFB5-4E08-8689-DC6E3BFE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06C9CD4-2D8A-459C-BE7C-AF5EE53D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2D2526-6B3F-4C2F-83D8-20E3A7F4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CC66538-251D-4D06-86AA-62CAD02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29149EB-9061-4D2F-90CE-C92556FF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192936-F9CC-47BF-825A-91E7DB2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8976E3E-B697-4D69-A53A-804158A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5470813-EB9C-42B7-87AF-A924218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9731-2114-4E40-A185-D9BBE01D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7406E95-518F-422B-B3AC-3498A839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B84F0CB-B2A6-47D3-8B02-AF701D2E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D95E48-3BE3-4DD4-ABEE-5A2915E0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4928D5A-6D73-41AF-828E-D9DDDA27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F7FCEF0-86DB-4149-B31F-EFCD97A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6A433E1-E7A2-4888-A09F-27C13CE1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3661AD5-EB12-42A8-8D0A-47220CDA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346CEE-A4B6-4504-91C4-3A14D064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2509C7E-DE8F-49DE-9C87-E4DEB162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700ABAC-9A12-4B84-91CD-72C3E04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23AA-1F5D-4589-8259-166BDE8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CD6260C-0D44-4B37-B4BC-420C352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5749E94-479E-4285-9A62-595469E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3AD4F55-B6E8-428E-A90D-69419E8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A9227B3-4C83-4ECF-9668-1E63770F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82A99D3-CB3E-4C8D-AD79-935BE5B8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EDBE7AB-3253-43DF-BD19-655D6DF5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55BC6DE-11DC-4D7D-8415-9CA764C7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5442698-D9BA-40A6-A492-83100D1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F2AE51C-5892-45F9-9AFD-1DDE48F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D5686E-1C21-46B4-8CDB-6639D79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5E60-6330-4094-9F07-855E583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0BFF9B9-70D0-4FD7-9F51-93202B9F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80AE495-18C8-48BB-9EE2-2FB11AA4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AE3715D-E4B8-45C9-98BF-04682E9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B117992-7D1E-49D9-88FA-A66A767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F9A2B90-BB35-4E63-B660-19C6424B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779AE2B-27FB-43E4-81FE-53FCD39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DA31DA2-CA59-4C2C-898F-F271C7AC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2A9F23-EAFD-4C68-AA72-F2AF2B12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48EAC2B-7496-4F26-B8B3-088DD72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D184C3B-A9C7-4AC1-9229-6BEDAC2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054CB-23F7-407E-AD73-0C57739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A38F367-BA89-48FF-B501-2B6FDBB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88E0CBA-C0FC-40F7-B880-BB296BEF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615C48F-F39D-440D-9289-2123B341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A81AD7C-D402-4053-AFB8-4DFC3DF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728B776-5FCC-4E33-87F2-3894F39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D5CA767-F147-4314-A11F-993E07C6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7355A2B-C11A-4C03-BE07-626198F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9EF08AA-8BA1-4EFE-A574-05CDB972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81D1E16-E43C-4833-997B-EE6342DC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9C42EE9-2D92-4ADC-9F52-8F25D8EE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46E52-091C-42F7-9791-1F4B2D80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4542ECE-FF94-487B-82D7-0B2490C4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4770DED-C574-4C3A-BB8E-DCDB9B8A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7679453-9230-43EA-BEFD-D69EE38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AA0F15E-566A-44E0-B43E-D60DB52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7B48837-1248-4C91-8A8B-A30A5EBD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7E0E7CC-9E01-4841-9B76-E298D11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8B08367-2A20-4D06-AF7D-08ED26C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57FD19E-9076-4B04-97B7-085CEF7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E8D9D9E-2719-4B5E-950B-6A76E5F5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5A2A9B-786E-4077-BD88-B62E1A0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0ED6C-1859-41AD-9024-B53EB170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BBA2BA2-62B6-41D1-A1D9-4E3F238C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159B761-B345-4BD5-A0EE-95ABD670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71F7284-8DB2-47A1-8834-31918A9D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527B79-688D-486E-B539-B5DB29A9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75A77A-404B-4D8C-B1F9-2818259A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0E2B31F-0935-43F0-A0C7-E4D9A9C8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8BD1623-81E8-4D05-934D-8C5348C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53A5EC2-5401-4982-8751-834D52D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4CC1C00-1C95-4A77-8B54-5EB3E76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53A7FD0-FA71-438D-B4FF-7BCE752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C1D3-D4FF-4E50-9958-7D9077BD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D5D9816-40DD-4D79-8E5B-461E6337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3636E1-27CA-4F6D-BA57-641B41CA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82D1D3D-6454-412A-85D6-0B4D86B1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4E053D-41BC-4571-A78D-A10BC8E0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EB6643F-8172-4673-A1DB-244422BF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D087C2D-8BA9-4542-BF57-64A175A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1131A55-ADE1-43EE-B9A1-6C719E7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15F2B7B-3ACC-4718-913B-826C47DD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FA410B1-C38E-4484-9245-23F47C6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4018861-010A-4765-853E-F589D8D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BD7-1BAD-4797-B840-665BDBF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7167-40B3-42F2-99D8-29BB0E80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97DA5D7-B824-48FB-91D8-7ACB1F9E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C7F58C-D18F-40FB-9A53-E11F177E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F166157-1933-4D60-875B-7EE5FCEC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E946EF8-D923-4748-A605-6B71447A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E9056FE-19B1-4CC5-9B74-13E323FA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D55D457-A959-48E8-B57E-DF8F55C3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9049DC6-E931-450D-B1E0-05DC56B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26A8BD3-FDA4-4540-9896-7F6E8CB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359801F-ED6F-4A88-864E-A636BBF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DF65B16-6E5C-4D64-BEEB-F25D4E4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7A94-0993-4A45-8AEF-5B056F97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9CAB66D-F18D-45B3-9A6D-A7F96B1D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47FB064-7235-4256-BCF1-6884CF8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FF05AB8-F16E-4A16-BFF9-E0B6F10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BD23EF3-258A-4D14-B1AC-D6EB6B3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05909A3-CEEC-4EA1-B987-A5ECE42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F2C7688-DCE9-477C-874D-3153E745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DBA2F1-85B7-459D-9BD7-F051A665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DA90E70-9560-4E90-B596-B59FDABC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0DC804C-9315-4863-B7B0-9F1BA9EF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6ED45A-6419-4DFD-9026-CDBCFB69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7C341-A443-4279-87B7-412B2A58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2CF4E9B-3EC9-4B14-978F-1D3F4650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251F950-5BB0-4462-B13A-2E08FD9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DD15921-31AB-4318-A715-4E8475D6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059405F-A67B-4210-983C-E6853C7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AF36525-40BF-4F6F-B06C-CB78067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C068090-43E7-4582-9156-A3C8087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89A4EB2-6255-4328-92EC-2763D08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042D3F5-4704-4DCC-8F6E-95FA950D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AB9A64A-6DF0-4DD2-B768-C9CCDB69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1D734B4-D437-4100-B321-4EFBBDD2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85EE-BFE1-43BE-8D07-CDA5C7E7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338DF5C-FE3D-4E72-A264-D1777718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89D1025-7B0A-434E-928A-EAB3B820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F4AC9D8-0A28-4E7E-B00C-F36B62B1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588BCD6-54CC-461A-B822-1A6BAE83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499429-ECB4-4134-AA37-65AC6B18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466A36C-EBEC-4958-BC01-AAF9BD2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8EF88E7-AE96-45C3-AD61-A14A858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ADAFF23-BEC3-41B4-BF0F-027B64F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BFD79F6-75D6-4F72-B6A4-16118DC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1D04FA-33F6-45A0-91C5-CE615F8A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15A3-AF7F-46F4-8370-5E6E6218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BBDD6FF-DE06-45CE-B617-D20E2490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625CB63-E676-4BFB-8412-53ECAE9E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F91D554-3043-40D6-8D08-9A9EE3B6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6BE57D4-8CC5-4A2D-B233-4312EFF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C92CC7-854D-44E8-A7DD-C46C94E1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D65688D-82B7-4501-8DD5-D2DABD32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FF8D0D4-44B8-46FF-86AB-E80D7F1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933EDD4-857E-49D0-99A5-834F32D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488F52-0490-4897-B0A2-2C2C5F2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5B173F8-A6A4-4AA8-9869-0269D93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79C4B-16BD-4198-A835-BDF31876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E0B0A93-DE64-4899-8321-4CDEC6A4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E3E7F46-4C82-49A5-882A-477B0000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BD36EB-977A-4856-931C-81684B49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F8DD68D-1C7D-488A-9736-0BE194DF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07DC406-9B54-47EE-B323-3439772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0D57D30-0028-4E6D-A1EE-C6A7C405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24E8108-2933-43EB-BB1C-3F0AD321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8EC8B9E-0F99-40C3-8F1D-79E1876F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10D07E-3BC3-45F0-A6E9-D62F403E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1F9270-56B7-48B5-BE48-D239B31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8EFC-6EA7-4EA7-83B8-2B7F0D8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4E68C19-C9F7-4BE9-B94A-C1BB2AA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EEB8C17-2A6A-478C-A57E-71865D7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D81B772-17CA-4C3E-9078-C0A10B0F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30B9555-6926-4E27-ABCC-45B72862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975274B-56F1-4D6F-B7F1-8113F042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D138F90-A4EC-401E-BEF8-182703BD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AD6B79-00E5-48EB-BC6C-E60A20D7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3D3FB70-9483-472A-B03D-7F15876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4F5A0C1-C573-479E-80A6-5E8A1469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4943D80-A892-4895-9674-D30D301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2D85E-99D5-4AA2-842A-5AE8740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56E8EC0-E88B-4FCB-8ACF-98C5BB6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D969F8C-D08F-441D-92E5-265F7CB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05A1D31-ADE3-4FB5-BF5B-F75F496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6D4CE7F-A663-4F7E-83DE-B03E2C5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7C651D-041B-400F-A142-89D781E0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869EF04-F97A-4055-9DCD-4891D9C5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C2BA5AB-0FF9-447C-AB33-A6D7BB0D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537D1DF-1357-49E9-9785-D1B0C2E3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641471F-88F4-41DC-8785-9CB8FC36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E8AA126-95CB-4036-8806-44CB50A9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98BE-A549-4AA1-9DC8-14C9E82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3A79DF4-D9BA-4848-9EA4-2FB51837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4FFA1EF-2F10-491C-AA5B-FC78806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785C318-7208-44B2-9780-A18EE72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BEC5B9E-5CA0-4141-A44F-8D89A80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D66B556-5754-4241-9A12-4F716E8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4779C5F-0E2E-41BE-9FDF-E686FD0C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BB49904-3819-4A34-8486-1447E8F2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BD458CF-83EA-4F1E-B43F-135FCF51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537CC15-60B4-48D1-9D08-8897B722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BA4D54-A2C0-4F50-BED5-4863320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0CAB9-CEB0-4C68-B0F6-FB5701C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A13ED4F-6B83-4D50-BDC2-59CECB98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FA09355-9D77-4585-88DF-09F998E2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213D89B-5AA1-4CD1-99AC-93AA520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C67485E-5A36-4F5D-9CE2-CEF56B8A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9B176F8-AA17-42C3-9419-FD01A33C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A201F30-CE2C-4DFB-BF5F-3BBCD2D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9ACC970-FF69-4D41-90F7-B83AFED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025D922-A6A3-4F93-A9E3-92F8362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5F269EA-8649-4B20-8523-0093E546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60CA5E8-8C07-48DB-BA83-D431DD86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0FD-0060-48C0-AB10-CF8291D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7F40B-1F9C-4D02-975F-58DD6B2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4FF55C6-2B9A-4EBE-B233-45BAAEA6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D23292A-4E96-45EB-8F9A-B26EA3F4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D974718-56E7-49D5-81EC-68773D6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3B8364A-7757-4FE8-87E4-2DC0E294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724F946-27EB-4CCD-A2BD-45B31160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1DB6446-6765-4560-92AF-87ED94E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A691285-8779-419D-9D4C-965DC6A8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57B21E9-B668-4D94-952F-1423C12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C9C2D3-5145-4BC1-98B7-B46604C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C079A41-99EC-4087-8903-BE298A6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84EB-24C5-44F7-AA68-6495024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C9F8FDA-7B6D-456E-8D19-4C09F6E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7E41EDF-ACFD-4FF4-AB2F-821432A6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DBF2932-F081-4C84-8D20-880A955D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88B6065-C668-4154-9312-D97F184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28E0BAE-10DA-43E2-B4E7-1D331941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75DA597-69F3-4684-91ED-CB2E4EEE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EFDC467-8B27-4D41-AF30-F156C04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D6E0BB2-5318-4144-9219-7B3DAC1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8CC1C59-3984-4BB2-A5FF-A78E3D9E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621B5DE-8460-4B35-A531-3E12CFF5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A1FB-EC59-43A2-BD77-DAC4A1EE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4A98CB3-0D9B-49D1-81FA-7DA5B96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5FF48E-C7C7-4090-9077-2195E3D0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8C9CCB9-E0C3-4F61-B228-273E13A9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97F5B8A-FDCB-4AE5-91DD-E37DF63F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2BEA465-3C37-4C5D-8B0A-9B04FE59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EAA1BF5-F584-4E3B-9FBF-D07F942E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D68ACF6-C66D-486A-8E3C-CE41A348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B90409B-7F38-4E72-8928-E528D66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35E78C2-6631-43F5-9A75-B4E4E6C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035147E-7156-465A-867C-41475EE8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ED19-09AB-48A5-AF9C-46A1BEB8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520958D-5396-4F26-9E5B-AA81EE69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3C82944-3549-4697-B304-652EBE5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BBE440D-94C5-4A29-B085-21DA334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657E8D4-0783-430C-9549-324BD4C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C315417-E314-458F-ABD3-7DE1840E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8D214B5-EC01-4614-8A83-4D2F2456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7362342-05ED-4B6A-AB33-6B256E38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48B3939-EB94-42EE-AB0D-979F0220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AE5F728-C316-408F-BCA8-9DA1816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39957BA-E7EB-4FD7-A352-5971A43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212C3-971A-4BC7-BA88-290B863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2910999-19A6-481D-9138-D89C75D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2ADB8A9-6CFF-4DED-AEA0-BC69E91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04B9F9F-7390-4298-B4D3-BF4DB58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B15F59-7113-4058-A2C8-AF97CEB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595A6AD-7A35-47B5-B28C-AF739B4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79AEFC-EC26-43AC-BF11-5490B36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4C9C29E-C103-496A-98EF-1F71CBB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11C7309-5BF4-4016-A454-17CF2DD9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28F11D0-4BCE-482D-996C-FB3D187E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538E889-7A4B-44A5-99F3-5B209F11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A859-9052-4899-8034-CFC428A6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0C4FC8C-FCE1-4107-84A3-BF418866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110C74A-5698-41DF-9FEC-BD2B220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AB082DF-D490-435B-A260-4796C70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F5FD0CC-6082-4723-9F05-894B2A3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3E4EE40-1864-4A14-AEA4-7BF59D7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18755D6-9C05-44B7-BF14-B476E17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B98ED17-21C4-431E-A1E0-F698283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22B79CA-E8DA-40F2-A8AA-2F4B17B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167DBBC-2ADD-496D-B38B-70B51D2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23DC187-B341-4935-9CD5-372549B9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C0DA-10E8-4614-B1C2-E2E0EA7C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D530345-C4B3-4223-AA1A-CCA3EC91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1FEDA95-AB1F-4DAB-ACAB-7AA2413A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B87BCE3-0223-45FE-95F7-2F5A200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101F965-C625-4082-83CA-1AD962C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DF260D8-9B6B-4344-8340-D8E12D1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DAC5AA-1FCC-41FA-90C7-4E9562B5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4BE612C-713A-496E-B7E6-560CE688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9BF6157-23BB-4E74-9C61-9810D2E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31F92E-E239-4C8C-A486-F5002D9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1CB5A35-311B-4167-B238-84CAD5AE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6FF27-E0F5-40AE-8F0F-E5993919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EEAC26E-8244-46F6-9519-9A6884D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F6027D-FE6E-4496-8E3A-C170E281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85D114D-630F-42AC-A248-FB12512E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8A2B546-5414-4EAE-9569-538FC748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8BB316-0761-499A-840B-9C5367C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5C3D67A-820C-44D9-87C7-37C927F9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78BB8B0-8038-4AD1-96BF-1B23D92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15596AF-F9C1-4E63-850A-0C6DAA00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73AEA10-D96E-44EC-B565-610E7A24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92BF6B7-6FE3-49FA-9D96-1FD6E0B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55BB6-2B5F-4D6A-AE62-7F17CEBC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6CDF0F5-4CD3-4585-A8DF-1C95A4F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7BDF19A-07A5-425A-BFE5-95C5D56B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E218B4A-62DD-4A7A-85A3-A7F8ADD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D794C84-B361-4537-B2A5-9E05ED2F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3D866F8-A2C7-4226-BF8F-988A4047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9799E69-D92F-4DAB-9B81-7CAF8ACF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F034A53-0C57-4A05-AFBB-D819B21C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6529661-F8F1-4805-8786-1C83B05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7037511-FDAC-46C9-AC27-913FD8B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3267893-885C-4DA8-B7EA-84E50E64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3FDD-A3CF-405C-A686-B68CE641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AA74D19-277A-47BD-8D15-9C9D56F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D17117F-FB1E-4B45-AAC1-B481518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D849002-7D88-4270-ACE2-8FB3B6E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D791644-4D41-4851-A94D-1B97A60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88927BA-5090-4C0A-84E3-28F22A72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77DFFD-D20D-4815-8F74-0634A27A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819012-452C-46F3-B754-BBECE4EC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107FF26-70E7-4E42-B1E9-13B1D35B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9E8639C-0574-4F25-B806-992E2B8A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CB5A7AB-0EB5-4BA6-81AA-5DB6DF5F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1A05-960B-4853-9A24-BEABA4BF378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A302-4DA5-4993-A861-37A8F0088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 type="dt" idx="2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 type="ftr" idx="2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PlaceHolder 5"/>
          <p:cNvSpPr>
            <a:spLocks noGrp="1"/>
          </p:cNvSpPr>
          <p:nvPr>
            <p:ph type="sldNum" idx="3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8222-6497-4D2B-ADB8-EAFD61058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 type="dt" idx="3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 type="ftr" idx="3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PlaceHolder 5"/>
          <p:cNvSpPr>
            <a:spLocks noGrp="1"/>
          </p:cNvSpPr>
          <p:nvPr>
            <p:ph type="sldNum" idx="3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347-1FAF-43CF-B835-C54CF1D32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8" name="Group 2"/>
          <p:cNvGrpSpPr/>
          <p:nvPr/>
        </p:nvGrpSpPr>
        <p:grpSpPr>
          <a:xfrm>
            <a:off x="0" y="0"/>
            <a:ext cx="9129600" cy="6842160"/>
            <a:chOff x="0" y="0"/>
            <a:chExt cx="9129600" cy="6842160"/>
          </a:xfrm>
        </p:grpSpPr>
        <p:grpSp>
          <p:nvGrpSpPr>
            <p:cNvPr id="4199" name="Group 3"/>
            <p:cNvGrpSpPr/>
            <p:nvPr/>
          </p:nvGrpSpPr>
          <p:grpSpPr>
            <a:xfrm>
              <a:off x="0" y="0"/>
              <a:ext cx="9129600" cy="6842160"/>
              <a:chOff x="0" y="0"/>
              <a:chExt cx="9129600" cy="6842160"/>
            </a:xfrm>
          </p:grpSpPr>
          <p:sp>
            <p:nvSpPr>
              <p:cNvPr id="4200" name="Line 4"/>
              <p:cNvSpPr/>
              <p:nvPr/>
            </p:nvSpPr>
            <p:spPr>
              <a:xfrm>
                <a:off x="0" y="26208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5"/>
              <p:cNvSpPr/>
              <p:nvPr/>
            </p:nvSpPr>
            <p:spPr>
              <a:xfrm>
                <a:off x="0" y="74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6"/>
              <p:cNvSpPr/>
              <p:nvPr/>
            </p:nvSpPr>
            <p:spPr>
              <a:xfrm>
                <a:off x="0" y="122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Line 7"/>
              <p:cNvSpPr/>
              <p:nvPr/>
            </p:nvSpPr>
            <p:spPr>
              <a:xfrm>
                <a:off x="0" y="17017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8"/>
              <p:cNvSpPr/>
              <p:nvPr/>
            </p:nvSpPr>
            <p:spPr>
              <a:xfrm>
                <a:off x="0" y="218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9"/>
              <p:cNvSpPr/>
              <p:nvPr/>
            </p:nvSpPr>
            <p:spPr>
              <a:xfrm>
                <a:off x="0" y="266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0"/>
              <p:cNvSpPr/>
              <p:nvPr/>
            </p:nvSpPr>
            <p:spPr>
              <a:xfrm>
                <a:off x="0" y="313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Line 11"/>
              <p:cNvSpPr/>
              <p:nvPr/>
            </p:nvSpPr>
            <p:spPr>
              <a:xfrm>
                <a:off x="0" y="361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2"/>
              <p:cNvSpPr/>
              <p:nvPr/>
            </p:nvSpPr>
            <p:spPr>
              <a:xfrm>
                <a:off x="0" y="409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3"/>
              <p:cNvSpPr/>
              <p:nvPr/>
            </p:nvSpPr>
            <p:spPr>
              <a:xfrm>
                <a:off x="0" y="457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Line 14"/>
              <p:cNvSpPr/>
              <p:nvPr/>
            </p:nvSpPr>
            <p:spPr>
              <a:xfrm>
                <a:off x="0" y="505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"/>
              <p:cNvSpPr/>
              <p:nvPr/>
            </p:nvSpPr>
            <p:spPr>
              <a:xfrm>
                <a:off x="0" y="553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6"/>
              <p:cNvSpPr/>
              <p:nvPr/>
            </p:nvSpPr>
            <p:spPr>
              <a:xfrm>
                <a:off x="0" y="60181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7"/>
              <p:cNvSpPr/>
              <p:nvPr/>
            </p:nvSpPr>
            <p:spPr>
              <a:xfrm>
                <a:off x="0" y="64976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Line 18"/>
              <p:cNvSpPr/>
              <p:nvPr/>
            </p:nvSpPr>
            <p:spPr>
              <a:xfrm>
                <a:off x="885672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9"/>
              <p:cNvSpPr/>
              <p:nvPr/>
            </p:nvSpPr>
            <p:spPr>
              <a:xfrm>
                <a:off x="845028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20"/>
              <p:cNvSpPr/>
              <p:nvPr/>
            </p:nvSpPr>
            <p:spPr>
              <a:xfrm>
                <a:off x="804240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21"/>
              <p:cNvSpPr/>
              <p:nvPr/>
            </p:nvSpPr>
            <p:spPr>
              <a:xfrm>
                <a:off x="763596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8" name="Group 22"/>
              <p:cNvGrpSpPr/>
              <p:nvPr/>
            </p:nvGrpSpPr>
            <p:grpSpPr>
              <a:xfrm>
                <a:off x="307800" y="0"/>
                <a:ext cx="6919920" cy="6842160"/>
                <a:chOff x="307800" y="0"/>
                <a:chExt cx="6919920" cy="6842160"/>
              </a:xfrm>
            </p:grpSpPr>
            <p:sp>
              <p:nvSpPr>
                <p:cNvPr id="4219" name="Line 23"/>
                <p:cNvSpPr/>
                <p:nvPr/>
              </p:nvSpPr>
              <p:spPr>
                <a:xfrm>
                  <a:off x="72277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0" name="Line 24"/>
                <p:cNvSpPr/>
                <p:nvPr/>
              </p:nvSpPr>
              <p:spPr>
                <a:xfrm>
                  <a:off x="6821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1" name="Line 25"/>
                <p:cNvSpPr/>
                <p:nvPr/>
              </p:nvSpPr>
              <p:spPr>
                <a:xfrm>
                  <a:off x="64134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2" name="Line 26"/>
                <p:cNvSpPr/>
                <p:nvPr/>
              </p:nvSpPr>
              <p:spPr>
                <a:xfrm>
                  <a:off x="60069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3" name="Line 27"/>
                <p:cNvSpPr/>
                <p:nvPr/>
              </p:nvSpPr>
              <p:spPr>
                <a:xfrm>
                  <a:off x="55990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4" name="Line 28"/>
                <p:cNvSpPr/>
                <p:nvPr/>
              </p:nvSpPr>
              <p:spPr>
                <a:xfrm>
                  <a:off x="5192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5" name="Line 29"/>
                <p:cNvSpPr/>
                <p:nvPr/>
              </p:nvSpPr>
              <p:spPr>
                <a:xfrm>
                  <a:off x="47847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6" name="Line 30"/>
                <p:cNvSpPr/>
                <p:nvPr/>
              </p:nvSpPr>
              <p:spPr>
                <a:xfrm>
                  <a:off x="43783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7" name="Line 31"/>
                <p:cNvSpPr/>
                <p:nvPr/>
              </p:nvSpPr>
              <p:spPr>
                <a:xfrm>
                  <a:off x="39704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8" name="Line 32"/>
                <p:cNvSpPr/>
                <p:nvPr/>
              </p:nvSpPr>
              <p:spPr>
                <a:xfrm>
                  <a:off x="35640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9" name="Line 33"/>
                <p:cNvSpPr/>
                <p:nvPr/>
              </p:nvSpPr>
              <p:spPr>
                <a:xfrm>
                  <a:off x="31561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0" name="Line 34"/>
                <p:cNvSpPr/>
                <p:nvPr/>
              </p:nvSpPr>
              <p:spPr>
                <a:xfrm>
                  <a:off x="27496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1" name="Line 35"/>
                <p:cNvSpPr/>
                <p:nvPr/>
              </p:nvSpPr>
              <p:spPr>
                <a:xfrm>
                  <a:off x="2343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2" name="Line 36"/>
                <p:cNvSpPr/>
                <p:nvPr/>
              </p:nvSpPr>
              <p:spPr>
                <a:xfrm>
                  <a:off x="1936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3" name="Line 37"/>
                <p:cNvSpPr/>
                <p:nvPr/>
              </p:nvSpPr>
              <p:spPr>
                <a:xfrm>
                  <a:off x="15289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4" name="Line 38"/>
                <p:cNvSpPr/>
                <p:nvPr/>
              </p:nvSpPr>
              <p:spPr>
                <a:xfrm>
                  <a:off x="11224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5" name="Line 39"/>
                <p:cNvSpPr/>
                <p:nvPr/>
              </p:nvSpPr>
              <p:spPr>
                <a:xfrm>
                  <a:off x="714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6" name="Line 40"/>
                <p:cNvSpPr/>
                <p:nvPr/>
              </p:nvSpPr>
              <p:spPr>
                <a:xfrm>
                  <a:off x="307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7" name="Group 41"/>
            <p:cNvGrpSpPr/>
            <p:nvPr/>
          </p:nvGrpSpPr>
          <p:grpSpPr>
            <a:xfrm>
              <a:off x="7223040" y="258840"/>
              <a:ext cx="1636920" cy="6243480"/>
              <a:chOff x="7223040" y="258840"/>
              <a:chExt cx="1636920" cy="6243480"/>
            </a:xfrm>
          </p:grpSpPr>
          <p:sp>
            <p:nvSpPr>
              <p:cNvPr id="4238" name="Rectangle 42"/>
              <p:cNvSpPr/>
              <p:nvPr/>
            </p:nvSpPr>
            <p:spPr>
              <a:xfrm>
                <a:off x="8035920" y="60166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Rectangle 43"/>
              <p:cNvSpPr/>
              <p:nvPr/>
            </p:nvSpPr>
            <p:spPr>
              <a:xfrm>
                <a:off x="8443800" y="553572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Rectangle 44"/>
              <p:cNvSpPr/>
              <p:nvPr/>
            </p:nvSpPr>
            <p:spPr>
              <a:xfrm>
                <a:off x="8035920" y="553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Rectangle 45"/>
              <p:cNvSpPr/>
              <p:nvPr/>
            </p:nvSpPr>
            <p:spPr>
              <a:xfrm>
                <a:off x="8443800" y="457668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Rectangle 46"/>
              <p:cNvSpPr/>
              <p:nvPr/>
            </p:nvSpPr>
            <p:spPr>
              <a:xfrm>
                <a:off x="8407440" y="4095720"/>
                <a:ext cx="45252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Rectangle 47"/>
              <p:cNvSpPr/>
              <p:nvPr/>
            </p:nvSpPr>
            <p:spPr>
              <a:xfrm>
                <a:off x="8035920" y="409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Rectangle 48"/>
              <p:cNvSpPr/>
              <p:nvPr/>
            </p:nvSpPr>
            <p:spPr>
              <a:xfrm>
                <a:off x="8443800" y="36180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Rectangle 49"/>
              <p:cNvSpPr/>
              <p:nvPr/>
            </p:nvSpPr>
            <p:spPr>
              <a:xfrm>
                <a:off x="8035920" y="313704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Rectangle 50"/>
              <p:cNvSpPr/>
              <p:nvPr/>
            </p:nvSpPr>
            <p:spPr>
              <a:xfrm>
                <a:off x="8035920" y="26575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Rectangle 51"/>
              <p:cNvSpPr/>
              <p:nvPr/>
            </p:nvSpPr>
            <p:spPr>
              <a:xfrm>
                <a:off x="8443800" y="217800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Rectangle 52"/>
              <p:cNvSpPr/>
              <p:nvPr/>
            </p:nvSpPr>
            <p:spPr>
              <a:xfrm>
                <a:off x="8443800" y="170028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Rectangle 53"/>
              <p:cNvSpPr/>
              <p:nvPr/>
            </p:nvSpPr>
            <p:spPr>
              <a:xfrm>
                <a:off x="8035920" y="17002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Rectangle 54"/>
              <p:cNvSpPr/>
              <p:nvPr/>
            </p:nvSpPr>
            <p:spPr>
              <a:xfrm>
                <a:off x="7631280" y="12193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Rectangle 55"/>
              <p:cNvSpPr/>
              <p:nvPr/>
            </p:nvSpPr>
            <p:spPr>
              <a:xfrm>
                <a:off x="844380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Rectangle 56"/>
              <p:cNvSpPr/>
              <p:nvPr/>
            </p:nvSpPr>
            <p:spPr>
              <a:xfrm>
                <a:off x="722304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Rectangle 57"/>
              <p:cNvSpPr/>
              <p:nvPr/>
            </p:nvSpPr>
            <p:spPr>
              <a:xfrm>
                <a:off x="8443800" y="25884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Rectangle 58"/>
              <p:cNvSpPr/>
              <p:nvPr/>
            </p:nvSpPr>
            <p:spPr>
              <a:xfrm>
                <a:off x="8035920" y="258840"/>
                <a:ext cx="41112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30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305"/>
          </p:nvPr>
        </p:nvSpPr>
        <p:spPr>
          <a:xfrm>
            <a:off x="2590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30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0601-8076-45FC-B957-5D5AF258B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307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308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30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FBC4-AB0B-4BEE-846D-624B6925F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310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311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312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C69-91F3-4DEA-83B6-3A854371B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31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314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315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8085-4BFE-4BFA-81F3-424BF1A5D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316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317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318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FE93-3D20-45FB-8969-FF6C339A0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319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320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321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960-217D-4B52-8FC5-27EBE258A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322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323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324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319-C6C7-4B10-9486-3CA1B0390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PlaceHolder 3"/>
          <p:cNvSpPr>
            <a:spLocks noGrp="1"/>
          </p:cNvSpPr>
          <p:nvPr>
            <p:ph type="dt" idx="32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5" name="PlaceHolder 4"/>
          <p:cNvSpPr>
            <a:spLocks noGrp="1"/>
          </p:cNvSpPr>
          <p:nvPr>
            <p:ph type="ftr" idx="326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6" name="PlaceHolder 5"/>
          <p:cNvSpPr>
            <a:spLocks noGrp="1"/>
          </p:cNvSpPr>
          <p:nvPr>
            <p:ph type="sldNum" idx="327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98F-EF05-419F-A409-574E0BD8D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CAC-ED2C-467D-B821-E48D48EC0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 type="dt" idx="328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 type="ftr" idx="329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 type="sldNum" idx="330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C72F-1528-41CA-B4E5-128DFC176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6" name="PlaceHolder 3"/>
          <p:cNvSpPr>
            <a:spLocks noGrp="1"/>
          </p:cNvSpPr>
          <p:nvPr>
            <p:ph type="dt" idx="33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7" name="PlaceHolder 4"/>
          <p:cNvSpPr>
            <a:spLocks noGrp="1"/>
          </p:cNvSpPr>
          <p:nvPr>
            <p:ph type="ftr" idx="33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8" name="PlaceHolder 5"/>
          <p:cNvSpPr>
            <a:spLocks noGrp="1"/>
          </p:cNvSpPr>
          <p:nvPr>
            <p:ph type="sldNum" idx="33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A15-B5C3-4C50-8E96-69B21C8FC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7" name="PlaceHolder 3"/>
          <p:cNvSpPr>
            <a:spLocks noGrp="1"/>
          </p:cNvSpPr>
          <p:nvPr>
            <p:ph type="dt" idx="33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8" name="PlaceHolder 4"/>
          <p:cNvSpPr>
            <a:spLocks noGrp="1"/>
          </p:cNvSpPr>
          <p:nvPr>
            <p:ph type="ftr" idx="335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9" name="PlaceHolder 5"/>
          <p:cNvSpPr>
            <a:spLocks noGrp="1"/>
          </p:cNvSpPr>
          <p:nvPr>
            <p:ph type="sldNum" idx="33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6B0-3EFE-4CC2-BB9E-D33B7DD1E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8" name="PlaceHolder 3"/>
          <p:cNvSpPr>
            <a:spLocks noGrp="1"/>
          </p:cNvSpPr>
          <p:nvPr>
            <p:ph type="dt" idx="3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9" name="PlaceHolder 4"/>
          <p:cNvSpPr>
            <a:spLocks noGrp="1"/>
          </p:cNvSpPr>
          <p:nvPr>
            <p:ph type="ftr" idx="3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0" name="PlaceHolder 5"/>
          <p:cNvSpPr>
            <a:spLocks noGrp="1"/>
          </p:cNvSpPr>
          <p:nvPr>
            <p:ph type="sldNum" idx="3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B9F4-5572-4193-80E7-F445FDEAC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 type="dt" idx="3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 type="ftr" idx="3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1" name="PlaceHolder 5"/>
          <p:cNvSpPr>
            <a:spLocks noGrp="1"/>
          </p:cNvSpPr>
          <p:nvPr>
            <p:ph type="sldNum" idx="3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28C-E296-4ABD-94FF-FD9152898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 type="dt" idx="3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1" name="PlaceHolder 4"/>
          <p:cNvSpPr>
            <a:spLocks noGrp="1"/>
          </p:cNvSpPr>
          <p:nvPr>
            <p:ph type="ftr" idx="3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2" name="PlaceHolder 5"/>
          <p:cNvSpPr>
            <a:spLocks noGrp="1"/>
          </p:cNvSpPr>
          <p:nvPr>
            <p:ph type="sldNum" idx="3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133-05C7-4925-9642-759510361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 type="dt" idx="3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 type="ftr" idx="3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3" name="PlaceHolder 5"/>
          <p:cNvSpPr>
            <a:spLocks noGrp="1"/>
          </p:cNvSpPr>
          <p:nvPr>
            <p:ph type="sldNum" idx="3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E23C-0112-4A1B-85EA-D0724A968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 type="dt" idx="3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3" name="PlaceHolder 4"/>
          <p:cNvSpPr>
            <a:spLocks noGrp="1"/>
          </p:cNvSpPr>
          <p:nvPr>
            <p:ph type="ftr" idx="3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4" name="PlaceHolder 5"/>
          <p:cNvSpPr>
            <a:spLocks noGrp="1"/>
          </p:cNvSpPr>
          <p:nvPr>
            <p:ph type="sldNum" idx="3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C5A2-4067-40D9-A5CD-B17F926A8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3" name="PlaceHolder 3"/>
          <p:cNvSpPr>
            <a:spLocks noGrp="1"/>
          </p:cNvSpPr>
          <p:nvPr>
            <p:ph type="dt" idx="3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4" name="PlaceHolder 4"/>
          <p:cNvSpPr>
            <a:spLocks noGrp="1"/>
          </p:cNvSpPr>
          <p:nvPr>
            <p:ph type="ftr" idx="3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5" name="PlaceHolder 5"/>
          <p:cNvSpPr>
            <a:spLocks noGrp="1"/>
          </p:cNvSpPr>
          <p:nvPr>
            <p:ph type="sldNum" idx="3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066-304D-4256-9E8F-2BF4601C7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4" name="PlaceHolder 3"/>
          <p:cNvSpPr>
            <a:spLocks noGrp="1"/>
          </p:cNvSpPr>
          <p:nvPr>
            <p:ph type="dt" idx="3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5" name="PlaceHolder 4"/>
          <p:cNvSpPr>
            <a:spLocks noGrp="1"/>
          </p:cNvSpPr>
          <p:nvPr>
            <p:ph type="ftr" idx="3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6" name="PlaceHolder 5"/>
          <p:cNvSpPr>
            <a:spLocks noGrp="1"/>
          </p:cNvSpPr>
          <p:nvPr>
            <p:ph type="sldNum" idx="3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CDB6-7485-40FB-B783-A096E8913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A35D-4338-4E99-927F-CCECFFD37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 type="dt" idx="3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6" name="PlaceHolder 4"/>
          <p:cNvSpPr>
            <a:spLocks noGrp="1"/>
          </p:cNvSpPr>
          <p:nvPr>
            <p:ph type="ftr" idx="3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7" name="PlaceHolder 5"/>
          <p:cNvSpPr>
            <a:spLocks noGrp="1"/>
          </p:cNvSpPr>
          <p:nvPr>
            <p:ph type="sldNum" idx="3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49FA-6D04-4489-AFE1-30B103CE9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6" name="PlaceHolder 3"/>
          <p:cNvSpPr>
            <a:spLocks noGrp="1"/>
          </p:cNvSpPr>
          <p:nvPr>
            <p:ph type="dt" idx="3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7" name="PlaceHolder 4"/>
          <p:cNvSpPr>
            <a:spLocks noGrp="1"/>
          </p:cNvSpPr>
          <p:nvPr>
            <p:ph type="ftr" idx="3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8" name="PlaceHolder 5"/>
          <p:cNvSpPr>
            <a:spLocks noGrp="1"/>
          </p:cNvSpPr>
          <p:nvPr>
            <p:ph type="sldNum" idx="3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EF6-D6FF-4ECC-9D0E-10363973E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7" name="PlaceHolder 3"/>
          <p:cNvSpPr>
            <a:spLocks noGrp="1"/>
          </p:cNvSpPr>
          <p:nvPr>
            <p:ph type="dt" idx="3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8" name="PlaceHolder 4"/>
          <p:cNvSpPr>
            <a:spLocks noGrp="1"/>
          </p:cNvSpPr>
          <p:nvPr>
            <p:ph type="ftr" idx="3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9" name="PlaceHolder 5"/>
          <p:cNvSpPr>
            <a:spLocks noGrp="1"/>
          </p:cNvSpPr>
          <p:nvPr>
            <p:ph type="sldNum" idx="3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7A8C-942A-4F5D-8CED-DC233A296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8" name="PlaceHolder 3"/>
          <p:cNvSpPr>
            <a:spLocks noGrp="1"/>
          </p:cNvSpPr>
          <p:nvPr>
            <p:ph type="dt" idx="3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9" name="PlaceHolder 4"/>
          <p:cNvSpPr>
            <a:spLocks noGrp="1"/>
          </p:cNvSpPr>
          <p:nvPr>
            <p:ph type="ftr" idx="3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PlaceHolder 5"/>
          <p:cNvSpPr>
            <a:spLocks noGrp="1"/>
          </p:cNvSpPr>
          <p:nvPr>
            <p:ph type="sldNum" idx="3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4BA8-CEA8-4900-B22C-89BF1FF97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9" name="PlaceHolder 3"/>
          <p:cNvSpPr>
            <a:spLocks noGrp="1"/>
          </p:cNvSpPr>
          <p:nvPr>
            <p:ph type="dt" idx="3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0" name="PlaceHolder 4"/>
          <p:cNvSpPr>
            <a:spLocks noGrp="1"/>
          </p:cNvSpPr>
          <p:nvPr>
            <p:ph type="ftr" idx="3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1" name="PlaceHolder 5"/>
          <p:cNvSpPr>
            <a:spLocks noGrp="1"/>
          </p:cNvSpPr>
          <p:nvPr>
            <p:ph type="sldNum" idx="3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B235-4E9C-4366-9CDA-D87DA0F14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0" name="PlaceHolder 3"/>
          <p:cNvSpPr>
            <a:spLocks noGrp="1"/>
          </p:cNvSpPr>
          <p:nvPr>
            <p:ph type="dt" idx="3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1" name="PlaceHolder 4"/>
          <p:cNvSpPr>
            <a:spLocks noGrp="1"/>
          </p:cNvSpPr>
          <p:nvPr>
            <p:ph type="ftr" idx="3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2" name="PlaceHolder 5"/>
          <p:cNvSpPr>
            <a:spLocks noGrp="1"/>
          </p:cNvSpPr>
          <p:nvPr>
            <p:ph type="sldNum" idx="3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E2A1-53D0-4A23-A8D8-8167D0DC4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1" name="PlaceHolder 3"/>
          <p:cNvSpPr>
            <a:spLocks noGrp="1"/>
          </p:cNvSpPr>
          <p:nvPr>
            <p:ph type="dt" idx="3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2" name="PlaceHolder 4"/>
          <p:cNvSpPr>
            <a:spLocks noGrp="1"/>
          </p:cNvSpPr>
          <p:nvPr>
            <p:ph type="ftr" idx="3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3" name="PlaceHolder 5"/>
          <p:cNvSpPr>
            <a:spLocks noGrp="1"/>
          </p:cNvSpPr>
          <p:nvPr>
            <p:ph type="sldNum" idx="3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6FA-2B6F-43F5-B6D5-F35030C08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 type="dt" idx="3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3" name="PlaceHolder 4"/>
          <p:cNvSpPr>
            <a:spLocks noGrp="1"/>
          </p:cNvSpPr>
          <p:nvPr>
            <p:ph type="ftr" idx="3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4" name="PlaceHolder 5"/>
          <p:cNvSpPr>
            <a:spLocks noGrp="1"/>
          </p:cNvSpPr>
          <p:nvPr>
            <p:ph type="sldNum" idx="3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116-8023-4705-ADB8-2429BF098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3" name="PlaceHolder 3"/>
          <p:cNvSpPr>
            <a:spLocks noGrp="1"/>
          </p:cNvSpPr>
          <p:nvPr>
            <p:ph type="dt" idx="3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4" name="PlaceHolder 4"/>
          <p:cNvSpPr>
            <a:spLocks noGrp="1"/>
          </p:cNvSpPr>
          <p:nvPr>
            <p:ph type="ftr" idx="3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5" name="PlaceHolder 5"/>
          <p:cNvSpPr>
            <a:spLocks noGrp="1"/>
          </p:cNvSpPr>
          <p:nvPr>
            <p:ph type="sldNum" idx="3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206A-ECC7-4E7E-9EA4-881D7B56F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 type="dt" idx="3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 type="ftr" idx="3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6" name="PlaceHolder 5"/>
          <p:cNvSpPr>
            <a:spLocks noGrp="1"/>
          </p:cNvSpPr>
          <p:nvPr>
            <p:ph type="sldNum" idx="3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9FD-B3C5-43E7-A4DD-D80981EB9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FAC-2CAA-4BB6-BA75-939266508CC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5" name="PlaceHolder 3"/>
          <p:cNvSpPr>
            <a:spLocks noGrp="1"/>
          </p:cNvSpPr>
          <p:nvPr>
            <p:ph type="dt" idx="3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6" name="PlaceHolder 4"/>
          <p:cNvSpPr>
            <a:spLocks noGrp="1"/>
          </p:cNvSpPr>
          <p:nvPr>
            <p:ph type="ftr" idx="3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7" name="PlaceHolder 5"/>
          <p:cNvSpPr>
            <a:spLocks noGrp="1"/>
          </p:cNvSpPr>
          <p:nvPr>
            <p:ph type="sldNum" idx="3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4B5-3450-4945-9E40-BF3D6F92B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6" name="PlaceHolder 3"/>
          <p:cNvSpPr>
            <a:spLocks noGrp="1"/>
          </p:cNvSpPr>
          <p:nvPr>
            <p:ph type="dt" idx="3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7" name="PlaceHolder 4"/>
          <p:cNvSpPr>
            <a:spLocks noGrp="1"/>
          </p:cNvSpPr>
          <p:nvPr>
            <p:ph type="ftr" idx="3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8" name="PlaceHolder 5"/>
          <p:cNvSpPr>
            <a:spLocks noGrp="1"/>
          </p:cNvSpPr>
          <p:nvPr>
            <p:ph type="sldNum" idx="3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CD55-D8E8-4889-85BF-51EC9B230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7" name="PlaceHolder 3"/>
          <p:cNvSpPr>
            <a:spLocks noGrp="1"/>
          </p:cNvSpPr>
          <p:nvPr>
            <p:ph type="dt" idx="3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8" name="PlaceHolder 4"/>
          <p:cNvSpPr>
            <a:spLocks noGrp="1"/>
          </p:cNvSpPr>
          <p:nvPr>
            <p:ph type="ftr" idx="3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9" name="PlaceHolder 5"/>
          <p:cNvSpPr>
            <a:spLocks noGrp="1"/>
          </p:cNvSpPr>
          <p:nvPr>
            <p:ph type="sldNum" idx="3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E4E-11EB-4D0C-91D2-90F07F07D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8" name="PlaceHolder 3"/>
          <p:cNvSpPr>
            <a:spLocks noGrp="1"/>
          </p:cNvSpPr>
          <p:nvPr>
            <p:ph type="dt" idx="3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9" name="PlaceHolder 4"/>
          <p:cNvSpPr>
            <a:spLocks noGrp="1"/>
          </p:cNvSpPr>
          <p:nvPr>
            <p:ph type="ftr" idx="3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0" name="PlaceHolder 5"/>
          <p:cNvSpPr>
            <a:spLocks noGrp="1"/>
          </p:cNvSpPr>
          <p:nvPr>
            <p:ph type="sldNum" idx="3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2D5E-0705-4AB2-8990-6B2C81BBB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9" name="PlaceHolder 3"/>
          <p:cNvSpPr>
            <a:spLocks noGrp="1"/>
          </p:cNvSpPr>
          <p:nvPr>
            <p:ph type="dt" idx="4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0" name="PlaceHolder 4"/>
          <p:cNvSpPr>
            <a:spLocks noGrp="1"/>
          </p:cNvSpPr>
          <p:nvPr>
            <p:ph type="ftr" idx="4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1" name="PlaceHolder 5"/>
          <p:cNvSpPr>
            <a:spLocks noGrp="1"/>
          </p:cNvSpPr>
          <p:nvPr>
            <p:ph type="sldNum" idx="4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903-43FB-4E46-8B76-77F7DEB7E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0" name="PlaceHolder 3"/>
          <p:cNvSpPr>
            <a:spLocks noGrp="1"/>
          </p:cNvSpPr>
          <p:nvPr>
            <p:ph type="dt" idx="4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1" name="PlaceHolder 4"/>
          <p:cNvSpPr>
            <a:spLocks noGrp="1"/>
          </p:cNvSpPr>
          <p:nvPr>
            <p:ph type="ftr" idx="4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2" name="PlaceHolder 5"/>
          <p:cNvSpPr>
            <a:spLocks noGrp="1"/>
          </p:cNvSpPr>
          <p:nvPr>
            <p:ph type="sldNum" idx="4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6387-FF94-448F-BEA9-41C4E5C42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1" name="PlaceHolder 3"/>
          <p:cNvSpPr>
            <a:spLocks noGrp="1"/>
          </p:cNvSpPr>
          <p:nvPr>
            <p:ph type="dt" idx="4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2" name="PlaceHolder 4"/>
          <p:cNvSpPr>
            <a:spLocks noGrp="1"/>
          </p:cNvSpPr>
          <p:nvPr>
            <p:ph type="ftr" idx="4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3" name="PlaceHolder 5"/>
          <p:cNvSpPr>
            <a:spLocks noGrp="1"/>
          </p:cNvSpPr>
          <p:nvPr>
            <p:ph type="sldNum" idx="4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EDF1-3E96-47A0-8EBE-348A57962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2" name="PlaceHolder 3"/>
          <p:cNvSpPr>
            <a:spLocks noGrp="1"/>
          </p:cNvSpPr>
          <p:nvPr>
            <p:ph type="dt" idx="4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3" name="PlaceHolder 4"/>
          <p:cNvSpPr>
            <a:spLocks noGrp="1"/>
          </p:cNvSpPr>
          <p:nvPr>
            <p:ph type="ftr" idx="4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4" name="PlaceHolder 5"/>
          <p:cNvSpPr>
            <a:spLocks noGrp="1"/>
          </p:cNvSpPr>
          <p:nvPr>
            <p:ph type="sldNum" idx="4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409-14F8-4D03-9E24-20C2DB530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3" name="PlaceHolder 3"/>
          <p:cNvSpPr>
            <a:spLocks noGrp="1"/>
          </p:cNvSpPr>
          <p:nvPr>
            <p:ph type="dt" idx="4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4" name="PlaceHolder 4"/>
          <p:cNvSpPr>
            <a:spLocks noGrp="1"/>
          </p:cNvSpPr>
          <p:nvPr>
            <p:ph type="ftr" idx="4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5" name="PlaceHolder 5"/>
          <p:cNvSpPr>
            <a:spLocks noGrp="1"/>
          </p:cNvSpPr>
          <p:nvPr>
            <p:ph type="sldNum" idx="4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5405-D572-436E-912C-8B924ABC2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4" name="PlaceHolder 3"/>
          <p:cNvSpPr>
            <a:spLocks noGrp="1"/>
          </p:cNvSpPr>
          <p:nvPr>
            <p:ph type="dt" idx="4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5" name="PlaceHolder 4"/>
          <p:cNvSpPr>
            <a:spLocks noGrp="1"/>
          </p:cNvSpPr>
          <p:nvPr>
            <p:ph type="ftr" idx="4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6" name="PlaceHolder 5"/>
          <p:cNvSpPr>
            <a:spLocks noGrp="1"/>
          </p:cNvSpPr>
          <p:nvPr>
            <p:ph type="sldNum" idx="4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57B8-C093-4C96-AB1D-6EF1AE99A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3784-02C6-43FD-A7FB-EB1B4070BF4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5" name="PlaceHolder 3"/>
          <p:cNvSpPr>
            <a:spLocks noGrp="1"/>
          </p:cNvSpPr>
          <p:nvPr>
            <p:ph type="dt" idx="4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6" name="PlaceHolder 4"/>
          <p:cNvSpPr>
            <a:spLocks noGrp="1"/>
          </p:cNvSpPr>
          <p:nvPr>
            <p:ph type="ftr" idx="4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7" name="PlaceHolder 5"/>
          <p:cNvSpPr>
            <a:spLocks noGrp="1"/>
          </p:cNvSpPr>
          <p:nvPr>
            <p:ph type="sldNum" idx="4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4C12-EA7F-4E9D-8164-FBDDE5160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6" name="PlaceHolder 3"/>
          <p:cNvSpPr>
            <a:spLocks noGrp="1"/>
          </p:cNvSpPr>
          <p:nvPr>
            <p:ph type="dt" idx="4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7" name="PlaceHolder 4"/>
          <p:cNvSpPr>
            <a:spLocks noGrp="1"/>
          </p:cNvSpPr>
          <p:nvPr>
            <p:ph type="ftr" idx="4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8" name="PlaceHolder 5"/>
          <p:cNvSpPr>
            <a:spLocks noGrp="1"/>
          </p:cNvSpPr>
          <p:nvPr>
            <p:ph type="sldNum" idx="4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E16-CC03-4030-B51C-D5F49D484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7" name="PlaceHolder 3"/>
          <p:cNvSpPr>
            <a:spLocks noGrp="1"/>
          </p:cNvSpPr>
          <p:nvPr>
            <p:ph type="dt" idx="4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8" name="PlaceHolder 4"/>
          <p:cNvSpPr>
            <a:spLocks noGrp="1"/>
          </p:cNvSpPr>
          <p:nvPr>
            <p:ph type="ftr" idx="4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9" name="PlaceHolder 5"/>
          <p:cNvSpPr>
            <a:spLocks noGrp="1"/>
          </p:cNvSpPr>
          <p:nvPr>
            <p:ph type="sldNum" idx="4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4262-1B7F-487E-97CD-B2A48BCF9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8" name="PlaceHolder 3"/>
          <p:cNvSpPr>
            <a:spLocks noGrp="1"/>
          </p:cNvSpPr>
          <p:nvPr>
            <p:ph type="dt" idx="4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9" name="PlaceHolder 4"/>
          <p:cNvSpPr>
            <a:spLocks noGrp="1"/>
          </p:cNvSpPr>
          <p:nvPr>
            <p:ph type="ftr" idx="4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0" name="PlaceHolder 5"/>
          <p:cNvSpPr>
            <a:spLocks noGrp="1"/>
          </p:cNvSpPr>
          <p:nvPr>
            <p:ph type="sldNum" idx="4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6A8B-A4A1-4795-893F-EB7FE19E2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 type="dt" idx="4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 type="ftr" idx="4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 type="sldNum" idx="4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4EB-4CAC-4B19-B726-94B7A2EA6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0" name="PlaceHolder 3"/>
          <p:cNvSpPr>
            <a:spLocks noGrp="1"/>
          </p:cNvSpPr>
          <p:nvPr>
            <p:ph type="dt" idx="4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1" name="PlaceHolder 4"/>
          <p:cNvSpPr>
            <a:spLocks noGrp="1"/>
          </p:cNvSpPr>
          <p:nvPr>
            <p:ph type="ftr" idx="4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2" name="PlaceHolder 5"/>
          <p:cNvSpPr>
            <a:spLocks noGrp="1"/>
          </p:cNvSpPr>
          <p:nvPr>
            <p:ph type="sldNum" idx="4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6036-4576-475A-97B1-DD18E5838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1" name="PlaceHolder 3"/>
          <p:cNvSpPr>
            <a:spLocks noGrp="1"/>
          </p:cNvSpPr>
          <p:nvPr>
            <p:ph type="dt" idx="4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2" name="PlaceHolder 4"/>
          <p:cNvSpPr>
            <a:spLocks noGrp="1"/>
          </p:cNvSpPr>
          <p:nvPr>
            <p:ph type="ftr" idx="4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3" name="PlaceHolder 5"/>
          <p:cNvSpPr>
            <a:spLocks noGrp="1"/>
          </p:cNvSpPr>
          <p:nvPr>
            <p:ph type="sldNum" idx="4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7992-9EB5-4693-9B3D-6B4A5E0FC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2" name="PlaceHolder 3"/>
          <p:cNvSpPr>
            <a:spLocks noGrp="1"/>
          </p:cNvSpPr>
          <p:nvPr>
            <p:ph type="dt" idx="4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3" name="PlaceHolder 4"/>
          <p:cNvSpPr>
            <a:spLocks noGrp="1"/>
          </p:cNvSpPr>
          <p:nvPr>
            <p:ph type="ftr" idx="4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4" name="PlaceHolder 5"/>
          <p:cNvSpPr>
            <a:spLocks noGrp="1"/>
          </p:cNvSpPr>
          <p:nvPr>
            <p:ph type="sldNum" idx="4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CA01-B234-4DA5-8E9F-F47CE4A0E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PlaceHolder 3"/>
          <p:cNvSpPr>
            <a:spLocks noGrp="1"/>
          </p:cNvSpPr>
          <p:nvPr>
            <p:ph type="dt" idx="4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4" name="PlaceHolder 4"/>
          <p:cNvSpPr>
            <a:spLocks noGrp="1"/>
          </p:cNvSpPr>
          <p:nvPr>
            <p:ph type="ftr" idx="4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5" name="PlaceHolder 5"/>
          <p:cNvSpPr>
            <a:spLocks noGrp="1"/>
          </p:cNvSpPr>
          <p:nvPr>
            <p:ph type="sldNum" idx="4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6E8-B312-43C8-B6BC-4D83C6B33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4" name="PlaceHolder 3"/>
          <p:cNvSpPr>
            <a:spLocks noGrp="1"/>
          </p:cNvSpPr>
          <p:nvPr>
            <p:ph type="dt" idx="4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5" name="PlaceHolder 4"/>
          <p:cNvSpPr>
            <a:spLocks noGrp="1"/>
          </p:cNvSpPr>
          <p:nvPr>
            <p:ph type="ftr" idx="4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6" name="PlaceHolder 5"/>
          <p:cNvSpPr>
            <a:spLocks noGrp="1"/>
          </p:cNvSpPr>
          <p:nvPr>
            <p:ph type="sldNum" idx="4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5A0-1757-4D30-A9C5-5A674E43C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C17-B313-4213-A342-BE424F73A0B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5" name="PlaceHolder 3"/>
          <p:cNvSpPr>
            <a:spLocks noGrp="1"/>
          </p:cNvSpPr>
          <p:nvPr>
            <p:ph type="dt" idx="4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PlaceHolder 4"/>
          <p:cNvSpPr>
            <a:spLocks noGrp="1"/>
          </p:cNvSpPr>
          <p:nvPr>
            <p:ph type="ftr" idx="4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PlaceHolder 5"/>
          <p:cNvSpPr>
            <a:spLocks noGrp="1"/>
          </p:cNvSpPr>
          <p:nvPr>
            <p:ph type="sldNum" idx="4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641-1D56-4FE0-8BAE-01682D0F3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4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ftr" idx="4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8" name="PlaceHolder 5"/>
          <p:cNvSpPr>
            <a:spLocks noGrp="1"/>
          </p:cNvSpPr>
          <p:nvPr>
            <p:ph type="sldNum" idx="4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5520-3D39-4C45-BDF3-E195BB0D6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6AB3-B2D5-43BA-B923-6659E808F3B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1D5E-89AC-4A74-B41B-98C7010840D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490-1215-4929-9597-797FA469ED8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F679-B4F6-4980-BA94-3BF7FE0F708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BA4-1F0D-4589-AAB8-025315B2E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DC54-5D10-4424-A20F-E3A60C34196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605-692F-4FCC-B3AA-8AECFAFE0C1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0361-B835-42F3-A1E9-2A8EC6CD8F0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2CF3-59B1-4DB8-893B-C5082A9B616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EFD6-14CD-4254-AF96-B00FA6531D9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413A-7AAC-4713-B673-CEFE8CF5B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B3B2-F0ED-4602-8C5F-4AF586053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C40B-C952-44D5-A74C-19B363A71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6455-EB86-4800-968C-62F316DCF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313-B423-4ED2-A9C2-1C9328320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8F6F-936E-47F9-BAF0-1EF1348B4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E724-595A-4EDE-BD0E-68356AC20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85D-448C-4DC3-8B5B-57462B377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36D2-D583-44A2-8C26-E08DA412D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E7B-F516-4A33-A77A-73EB78585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180-D15E-4FAD-9448-A2D95BF1F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74E-66B8-43A9-B3EF-9EBEDED34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21BE-1213-42B8-881E-B3F463ADF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FBEE-A1A8-4A1F-9E7D-55B9C0E76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3C8-8971-4DBB-88FD-144D1796A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358-09F6-4788-9A08-6D61A5A49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4CF-C23A-4A06-BFF9-03C65BFD7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C869-98DE-4D52-9580-42C63A9FB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F1C0-5ABF-47E4-9F1B-5800737C7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505-3BB0-4DC0-B5CD-58B4DAAD6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8192-3B8C-4869-9D26-A7CBC72AE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F6D-8CD8-4C3E-9675-8F869009D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2A9-1747-4AD7-BE2E-01B00183F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A0F1-633E-4CE5-A7EF-C37AF4C63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84E-B145-4F93-B409-9D7600306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40CC-1A0C-403C-8D79-EF8F64D83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0C50-EE4D-4107-9822-80A2DEED9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656-43EA-433D-8C44-375EC7ED8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0215-7353-41E3-934B-C68032553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1B3-6DDE-4A48-8D12-EC0708D79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DB1-6ABC-4AB2-9E16-B2FE1032A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EEF-323A-42FB-ADAF-844F7EEFA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3C29-C88E-4C32-ADD7-14F6E53DF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41EB-F2B3-4F0E-B6E4-71B3638AB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408-9AC9-4E58-998B-BEAF9228B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FC9-E5BB-4967-A361-AA79B9FAE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9CF3-FB34-4636-A2E5-6916B171D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F25D-2F13-4B4F-9129-42E5EDFB7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B6EC-9078-4E19-A2D8-1986604AE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F2A-D754-4302-BFA5-0DC4923AB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A15-1454-4322-8448-F24B385A6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EDE-71B2-49B8-B8C6-5AF59DB79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4D7E-73C5-41B8-B75C-CD762930D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9D4-FD7E-4B89-B7F1-284EFE47E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5526-C1A8-4837-BB49-25DE3FC28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D17B-5451-4FDC-9BFF-36489A386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067D-045F-4F98-BE2F-71D162E48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37C-2E9C-4900-9AA5-F05EBFE9C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C5C-790F-478E-B554-325820C2A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AE8D-882E-449C-9522-262ECB5A3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 type="dt" idx="2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610-73CF-4D6E-80DB-A8629EFD6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 type="dt" idx="2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688-C23A-4C91-A6A8-CD6B4258B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 type="dt" idx="2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A45B-0325-4AFF-BC1D-25A38E45D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dt" idx="2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 type="sldNum" idx="2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C47-723A-4606-B2DC-485A5E8EA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dt" idx="2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PlaceHolder 5"/>
          <p:cNvSpPr>
            <a:spLocks noGrp="1"/>
          </p:cNvSpPr>
          <p:nvPr>
            <p:ph type="sldNum" idx="2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46B8-47CB-40B2-9354-B658F6ED6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 type="dt" idx="2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 type="sldNum" idx="2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007-8FEC-436A-B30C-F752A175B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 type="dt" idx="2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5"/>
          <p:cNvSpPr>
            <a:spLocks noGrp="1"/>
          </p:cNvSpPr>
          <p:nvPr>
            <p:ph type="sldNum" idx="2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122-7054-49D0-BBD0-E03DE98BE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 type="dt" idx="2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 type="ftr" idx="2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 type="sldNum" idx="2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6AA-84EF-4F6A-BFF9-57DAD786F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 type="dt" idx="2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 type="ftr" idx="2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 type="sldNum" idx="2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C55-1BF0-4989-A037-3146FD87E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2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2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2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4526-9D25-4A6D-BF13-9410BFE21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6D41-2DE1-44A0-97FC-4A20772FB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 type="dt" idx="2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 type="ftr" idx="2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 type="sldNum" idx="2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2DB-2CBC-41A3-9C3A-407994723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 type="dt" idx="2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 type="ftr" idx="2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5"/>
          <p:cNvSpPr>
            <a:spLocks noGrp="1"/>
          </p:cNvSpPr>
          <p:nvPr>
            <p:ph type="sldNum" idx="2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2896-DA96-499C-B68B-08C924B4F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 type="dt" idx="2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 type="ftr" idx="2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PlaceHolder 5"/>
          <p:cNvSpPr>
            <a:spLocks noGrp="1"/>
          </p:cNvSpPr>
          <p:nvPr>
            <p:ph type="sldNum" idx="2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9DBE-B77E-4870-9B09-421948E56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 type="dt" idx="2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 type="ftr" idx="2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PlaceHolder 5"/>
          <p:cNvSpPr>
            <a:spLocks noGrp="1"/>
          </p:cNvSpPr>
          <p:nvPr>
            <p:ph type="sldNum" idx="2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3003-779F-41F7-ADD6-96BE48648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 type="dt" idx="2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 type="ftr" idx="2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PlaceHolder 5"/>
          <p:cNvSpPr>
            <a:spLocks noGrp="1"/>
          </p:cNvSpPr>
          <p:nvPr>
            <p:ph type="sldNum" idx="2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C1B0-78C0-4037-8B8A-EF2D0662B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 type="dt" idx="2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 type="ftr" idx="2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5"/>
          <p:cNvSpPr>
            <a:spLocks noGrp="1"/>
          </p:cNvSpPr>
          <p:nvPr>
            <p:ph type="sldNum" idx="2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8864-A061-4823-BCCC-E9E47802C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PlaceHolder 3"/>
          <p:cNvSpPr>
            <a:spLocks noGrp="1"/>
          </p:cNvSpPr>
          <p:nvPr>
            <p:ph type="dt" idx="2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4"/>
          <p:cNvSpPr>
            <a:spLocks noGrp="1"/>
          </p:cNvSpPr>
          <p:nvPr>
            <p:ph type="ftr" idx="2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PlaceHolder 5"/>
          <p:cNvSpPr>
            <a:spLocks noGrp="1"/>
          </p:cNvSpPr>
          <p:nvPr>
            <p:ph type="sldNum" idx="2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1D5-0E21-4568-943C-4B5A65CBA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 type="dt" idx="2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PlaceHolder 4"/>
          <p:cNvSpPr>
            <a:spLocks noGrp="1"/>
          </p:cNvSpPr>
          <p:nvPr>
            <p:ph type="ftr" idx="2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PlaceHolder 5"/>
          <p:cNvSpPr>
            <a:spLocks noGrp="1"/>
          </p:cNvSpPr>
          <p:nvPr>
            <p:ph type="sldNum" idx="2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C70A-F953-4C67-9B84-471E1C561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 type="dt" idx="2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PlaceHolder 4"/>
          <p:cNvSpPr>
            <a:spLocks noGrp="1"/>
          </p:cNvSpPr>
          <p:nvPr>
            <p:ph type="ftr" idx="2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PlaceHolder 5"/>
          <p:cNvSpPr>
            <a:spLocks noGrp="1"/>
          </p:cNvSpPr>
          <p:nvPr>
            <p:ph type="sldNum" idx="2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B18-C071-43C8-B346-D705A4406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 type="dt" idx="2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 type="ftr" idx="2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PlaceHolder 5"/>
          <p:cNvSpPr>
            <a:spLocks noGrp="1"/>
          </p:cNvSpPr>
          <p:nvPr>
            <p:ph type="sldNum" idx="2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07EA-3E32-41B6-8AFD-032B6F2E6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29600" cy="6842160"/>
            <a:chOff x="0" y="0"/>
            <a:chExt cx="9129600" cy="6842160"/>
          </a:xfrm>
        </p:grpSpPr>
        <p:grpSp>
          <p:nvGrpSpPr>
            <p:cNvPr id="329" name="Group 3"/>
            <p:cNvGrpSpPr/>
            <p:nvPr/>
          </p:nvGrpSpPr>
          <p:grpSpPr>
            <a:xfrm>
              <a:off x="0" y="0"/>
              <a:ext cx="9129600" cy="6842160"/>
              <a:chOff x="0" y="0"/>
              <a:chExt cx="9129600" cy="6842160"/>
            </a:xfrm>
          </p:grpSpPr>
          <p:sp>
            <p:nvSpPr>
              <p:cNvPr id="330" name="Line 4"/>
              <p:cNvSpPr/>
              <p:nvPr/>
            </p:nvSpPr>
            <p:spPr>
              <a:xfrm>
                <a:off x="0" y="26208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5"/>
              <p:cNvSpPr/>
              <p:nvPr/>
            </p:nvSpPr>
            <p:spPr>
              <a:xfrm>
                <a:off x="0" y="74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6"/>
              <p:cNvSpPr/>
              <p:nvPr/>
            </p:nvSpPr>
            <p:spPr>
              <a:xfrm>
                <a:off x="0" y="122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>
                <a:off x="0" y="17017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8"/>
              <p:cNvSpPr/>
              <p:nvPr/>
            </p:nvSpPr>
            <p:spPr>
              <a:xfrm>
                <a:off x="0" y="218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>
                <a:off x="0" y="266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0"/>
              <p:cNvSpPr/>
              <p:nvPr/>
            </p:nvSpPr>
            <p:spPr>
              <a:xfrm>
                <a:off x="0" y="313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0" y="361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0" y="409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3"/>
              <p:cNvSpPr/>
              <p:nvPr/>
            </p:nvSpPr>
            <p:spPr>
              <a:xfrm>
                <a:off x="0" y="457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4"/>
              <p:cNvSpPr/>
              <p:nvPr/>
            </p:nvSpPr>
            <p:spPr>
              <a:xfrm>
                <a:off x="0" y="505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5"/>
              <p:cNvSpPr/>
              <p:nvPr/>
            </p:nvSpPr>
            <p:spPr>
              <a:xfrm>
                <a:off x="0" y="553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0" y="60181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7"/>
              <p:cNvSpPr/>
              <p:nvPr/>
            </p:nvSpPr>
            <p:spPr>
              <a:xfrm>
                <a:off x="0" y="64976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"/>
              <p:cNvSpPr/>
              <p:nvPr/>
            </p:nvSpPr>
            <p:spPr>
              <a:xfrm>
                <a:off x="885672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>
                <a:off x="845028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804240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"/>
              <p:cNvSpPr/>
              <p:nvPr/>
            </p:nvSpPr>
            <p:spPr>
              <a:xfrm>
                <a:off x="763596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22"/>
              <p:cNvGrpSpPr/>
              <p:nvPr/>
            </p:nvGrpSpPr>
            <p:grpSpPr>
              <a:xfrm>
                <a:off x="307800" y="0"/>
                <a:ext cx="6919920" cy="6842160"/>
                <a:chOff x="307800" y="0"/>
                <a:chExt cx="6919920" cy="6842160"/>
              </a:xfrm>
            </p:grpSpPr>
            <p:sp>
              <p:nvSpPr>
                <p:cNvPr id="349" name="Line 23"/>
                <p:cNvSpPr/>
                <p:nvPr/>
              </p:nvSpPr>
              <p:spPr>
                <a:xfrm>
                  <a:off x="72277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4"/>
                <p:cNvSpPr/>
                <p:nvPr/>
              </p:nvSpPr>
              <p:spPr>
                <a:xfrm>
                  <a:off x="6821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5"/>
                <p:cNvSpPr/>
                <p:nvPr/>
              </p:nvSpPr>
              <p:spPr>
                <a:xfrm>
                  <a:off x="64134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6"/>
                <p:cNvSpPr/>
                <p:nvPr/>
              </p:nvSpPr>
              <p:spPr>
                <a:xfrm>
                  <a:off x="60069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27"/>
                <p:cNvSpPr/>
                <p:nvPr/>
              </p:nvSpPr>
              <p:spPr>
                <a:xfrm>
                  <a:off x="55990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"/>
                <p:cNvSpPr/>
                <p:nvPr/>
              </p:nvSpPr>
              <p:spPr>
                <a:xfrm>
                  <a:off x="5192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29"/>
                <p:cNvSpPr/>
                <p:nvPr/>
              </p:nvSpPr>
              <p:spPr>
                <a:xfrm>
                  <a:off x="47847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30"/>
                <p:cNvSpPr/>
                <p:nvPr/>
              </p:nvSpPr>
              <p:spPr>
                <a:xfrm>
                  <a:off x="43783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31"/>
                <p:cNvSpPr/>
                <p:nvPr/>
              </p:nvSpPr>
              <p:spPr>
                <a:xfrm>
                  <a:off x="39704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32"/>
                <p:cNvSpPr/>
                <p:nvPr/>
              </p:nvSpPr>
              <p:spPr>
                <a:xfrm>
                  <a:off x="35640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33"/>
                <p:cNvSpPr/>
                <p:nvPr/>
              </p:nvSpPr>
              <p:spPr>
                <a:xfrm>
                  <a:off x="31561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34"/>
                <p:cNvSpPr/>
                <p:nvPr/>
              </p:nvSpPr>
              <p:spPr>
                <a:xfrm>
                  <a:off x="27496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35"/>
                <p:cNvSpPr/>
                <p:nvPr/>
              </p:nvSpPr>
              <p:spPr>
                <a:xfrm>
                  <a:off x="2343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Line 36"/>
                <p:cNvSpPr/>
                <p:nvPr/>
              </p:nvSpPr>
              <p:spPr>
                <a:xfrm>
                  <a:off x="1936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37"/>
                <p:cNvSpPr/>
                <p:nvPr/>
              </p:nvSpPr>
              <p:spPr>
                <a:xfrm>
                  <a:off x="15289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38"/>
                <p:cNvSpPr/>
                <p:nvPr/>
              </p:nvSpPr>
              <p:spPr>
                <a:xfrm>
                  <a:off x="11224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9"/>
                <p:cNvSpPr/>
                <p:nvPr/>
              </p:nvSpPr>
              <p:spPr>
                <a:xfrm>
                  <a:off x="714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40"/>
                <p:cNvSpPr/>
                <p:nvPr/>
              </p:nvSpPr>
              <p:spPr>
                <a:xfrm>
                  <a:off x="307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Group 41"/>
            <p:cNvGrpSpPr/>
            <p:nvPr/>
          </p:nvGrpSpPr>
          <p:grpSpPr>
            <a:xfrm>
              <a:off x="7223040" y="258840"/>
              <a:ext cx="1636920" cy="6243480"/>
              <a:chOff x="7223040" y="258840"/>
              <a:chExt cx="1636920" cy="6243480"/>
            </a:xfrm>
          </p:grpSpPr>
          <p:sp>
            <p:nvSpPr>
              <p:cNvPr id="368" name="Rectangle 42"/>
              <p:cNvSpPr/>
              <p:nvPr/>
            </p:nvSpPr>
            <p:spPr>
              <a:xfrm>
                <a:off x="8035920" y="60166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43"/>
              <p:cNvSpPr/>
              <p:nvPr/>
            </p:nvSpPr>
            <p:spPr>
              <a:xfrm>
                <a:off x="8443800" y="553572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44"/>
              <p:cNvSpPr/>
              <p:nvPr/>
            </p:nvSpPr>
            <p:spPr>
              <a:xfrm>
                <a:off x="8035920" y="553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45"/>
              <p:cNvSpPr/>
              <p:nvPr/>
            </p:nvSpPr>
            <p:spPr>
              <a:xfrm>
                <a:off x="8443800" y="457668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46"/>
              <p:cNvSpPr/>
              <p:nvPr/>
            </p:nvSpPr>
            <p:spPr>
              <a:xfrm>
                <a:off x="8407440" y="4095720"/>
                <a:ext cx="45252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47"/>
              <p:cNvSpPr/>
              <p:nvPr/>
            </p:nvSpPr>
            <p:spPr>
              <a:xfrm>
                <a:off x="8035920" y="409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48"/>
              <p:cNvSpPr/>
              <p:nvPr/>
            </p:nvSpPr>
            <p:spPr>
              <a:xfrm>
                <a:off x="8443800" y="36180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49"/>
              <p:cNvSpPr/>
              <p:nvPr/>
            </p:nvSpPr>
            <p:spPr>
              <a:xfrm>
                <a:off x="8035920" y="313704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50"/>
              <p:cNvSpPr/>
              <p:nvPr/>
            </p:nvSpPr>
            <p:spPr>
              <a:xfrm>
                <a:off x="8035920" y="26575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51"/>
              <p:cNvSpPr/>
              <p:nvPr/>
            </p:nvSpPr>
            <p:spPr>
              <a:xfrm>
                <a:off x="8443800" y="217800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52"/>
              <p:cNvSpPr/>
              <p:nvPr/>
            </p:nvSpPr>
            <p:spPr>
              <a:xfrm>
                <a:off x="8443800" y="170028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53"/>
              <p:cNvSpPr/>
              <p:nvPr/>
            </p:nvSpPr>
            <p:spPr>
              <a:xfrm>
                <a:off x="8035920" y="17002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54"/>
              <p:cNvSpPr/>
              <p:nvPr/>
            </p:nvSpPr>
            <p:spPr>
              <a:xfrm>
                <a:off x="7631280" y="12193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55"/>
              <p:cNvSpPr/>
              <p:nvPr/>
            </p:nvSpPr>
            <p:spPr>
              <a:xfrm>
                <a:off x="844380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56"/>
              <p:cNvSpPr/>
              <p:nvPr/>
            </p:nvSpPr>
            <p:spPr>
              <a:xfrm>
                <a:off x="722304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57"/>
              <p:cNvSpPr/>
              <p:nvPr/>
            </p:nvSpPr>
            <p:spPr>
              <a:xfrm>
                <a:off x="8443800" y="25884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58"/>
              <p:cNvSpPr/>
              <p:nvPr/>
            </p:nvSpPr>
            <p:spPr>
              <a:xfrm>
                <a:off x="8035920" y="258840"/>
                <a:ext cx="41112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C0C7-8A8D-4186-A547-790F29E1E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PlaceHolder 3"/>
          <p:cNvSpPr>
            <a:spLocks noGrp="1"/>
          </p:cNvSpPr>
          <p:nvPr>
            <p:ph type="dt" idx="2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9" name="PlaceHolder 4"/>
          <p:cNvSpPr>
            <a:spLocks noGrp="1"/>
          </p:cNvSpPr>
          <p:nvPr>
            <p:ph type="ftr" idx="2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5"/>
          <p:cNvSpPr>
            <a:spLocks noGrp="1"/>
          </p:cNvSpPr>
          <p:nvPr>
            <p:ph type="sldNum" idx="2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B0D8-3B8C-498E-A867-FD79300C0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 type="dt" idx="2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 type="ftr" idx="2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PlaceHolder 5"/>
          <p:cNvSpPr>
            <a:spLocks noGrp="1"/>
          </p:cNvSpPr>
          <p:nvPr>
            <p:ph type="sldNum" idx="2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F09-0372-4748-AA45-09C259C8C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dt" idx="2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ftr" idx="2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PlaceHolder 5"/>
          <p:cNvSpPr>
            <a:spLocks noGrp="1"/>
          </p:cNvSpPr>
          <p:nvPr>
            <p:ph type="sldNum" idx="2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8BA4-FBF4-4382-9DEB-FA000B87D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 type="dt" idx="2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 type="ftr" idx="2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PlaceHolder 5"/>
          <p:cNvSpPr>
            <a:spLocks noGrp="1"/>
          </p:cNvSpPr>
          <p:nvPr>
            <p:ph type="sldNum" idx="2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23F2-2CDE-4AFF-B31C-53664DAD9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PlaceHolder 3"/>
          <p:cNvSpPr>
            <a:spLocks noGrp="1"/>
          </p:cNvSpPr>
          <p:nvPr>
            <p:ph type="dt" idx="2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PlaceHolder 4"/>
          <p:cNvSpPr>
            <a:spLocks noGrp="1"/>
          </p:cNvSpPr>
          <p:nvPr>
            <p:ph type="ftr" idx="2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PlaceHolder 5"/>
          <p:cNvSpPr>
            <a:spLocks noGrp="1"/>
          </p:cNvSpPr>
          <p:nvPr>
            <p:ph type="sldNum" idx="2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82F-7290-4677-8F88-E17613AE6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 type="dt" idx="2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PlaceHolder 4"/>
          <p:cNvSpPr>
            <a:spLocks noGrp="1"/>
          </p:cNvSpPr>
          <p:nvPr>
            <p:ph type="ftr" idx="2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PlaceHolder 5"/>
          <p:cNvSpPr>
            <a:spLocks noGrp="1"/>
          </p:cNvSpPr>
          <p:nvPr>
            <p:ph type="sldNum" idx="2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94C5-0C66-4189-9C74-C963B5784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PlaceHolder 3"/>
          <p:cNvSpPr>
            <a:spLocks noGrp="1"/>
          </p:cNvSpPr>
          <p:nvPr>
            <p:ph type="dt" idx="2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PlaceHolder 4"/>
          <p:cNvSpPr>
            <a:spLocks noGrp="1"/>
          </p:cNvSpPr>
          <p:nvPr>
            <p:ph type="ftr" idx="2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PlaceHolder 5"/>
          <p:cNvSpPr>
            <a:spLocks noGrp="1"/>
          </p:cNvSpPr>
          <p:nvPr>
            <p:ph type="sldNum" idx="2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499-1AE8-4F5E-833A-AA64A60BC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 type="dt" idx="2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 type="ftr" idx="2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 type="sldNum" idx="2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4736-5EAE-4078-80CA-74E6F6355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 type="dt" idx="2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 type="ftr" idx="2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PlaceHolder 5"/>
          <p:cNvSpPr>
            <a:spLocks noGrp="1"/>
          </p:cNvSpPr>
          <p:nvPr>
            <p:ph type="sldNum" idx="2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6913-A868-4F0F-93B7-F1E5998B7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 type="dt" idx="2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 type="ftr" idx="2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 type="sldNum" idx="2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CEB0-4CA2-4FB1-BBBD-2D1E117CE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6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8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troke volu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8280" indent="0" algn="ctr">
              <a:lnSpc>
                <a:spcPct val="6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. Mona Soliman, MBBS, MSc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ad, Medical Education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ociate Professor of Physi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ir of Cardiovascular B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ing Sau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Affecting Stroke Volum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339" name="Group 14"/>
          <p:cNvGrpSpPr/>
          <p:nvPr/>
        </p:nvGrpSpPr>
        <p:grpSpPr>
          <a:xfrm>
            <a:off x="539640" y="836640"/>
            <a:ext cx="8136000" cy="5904720"/>
            <a:chOff x="539640" y="836640"/>
            <a:chExt cx="8136000" cy="5904720"/>
          </a:xfrm>
        </p:grpSpPr>
        <p:grpSp>
          <p:nvGrpSpPr>
            <p:cNvPr id="6340" name="Group 13"/>
            <p:cNvGrpSpPr/>
            <p:nvPr/>
          </p:nvGrpSpPr>
          <p:grpSpPr>
            <a:xfrm>
              <a:off x="539640" y="836640"/>
              <a:ext cx="8136000" cy="5904720"/>
              <a:chOff x="539640" y="836640"/>
              <a:chExt cx="8136000" cy="5904720"/>
            </a:xfrm>
          </p:grpSpPr>
          <p:pic>
            <p:nvPicPr>
              <p:cNvPr id="634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836640"/>
                <a:ext cx="8136000" cy="59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2" name="Rectangle 7"/>
              <p:cNvSpPr/>
              <p:nvPr/>
            </p:nvSpPr>
            <p:spPr>
              <a:xfrm>
                <a:off x="4676400" y="2828520"/>
                <a:ext cx="1240920" cy="104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ractility of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uscle cel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 =   ESV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 =   ESV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43" name="Line 8"/>
            <p:cNvSpPr/>
            <p:nvPr/>
          </p:nvSpPr>
          <p:spPr>
            <a:xfrm>
              <a:off x="4814280" y="3398040"/>
              <a:ext cx="0" cy="18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4" name="Line 9"/>
            <p:cNvSpPr/>
            <p:nvPr/>
          </p:nvSpPr>
          <p:spPr>
            <a:xfrm>
              <a:off x="4814280" y="3682440"/>
              <a:ext cx="0" cy="189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5" name="Line 10"/>
            <p:cNvSpPr/>
            <p:nvPr/>
          </p:nvSpPr>
          <p:spPr>
            <a:xfrm>
              <a:off x="5365800" y="3398040"/>
              <a:ext cx="0" cy="189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6" name="Line 12"/>
            <p:cNvSpPr/>
            <p:nvPr/>
          </p:nvSpPr>
          <p:spPr>
            <a:xfrm flipV="1">
              <a:off x="5365800" y="3587040"/>
              <a:ext cx="0" cy="18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jection Fra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8" name=""/>
          <p:cNvSpPr txBox="1"/>
          <p:nvPr/>
        </p:nvSpPr>
        <p:spPr>
          <a:xfrm>
            <a:off x="826560" y="2060280"/>
            <a:ext cx="7201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ction of end-diastolic volume ejected during a heart b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jection fraction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oke volume / end diastolic vol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= 70 mL / 130 mL = 0.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affecting myocardial contractility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(Inotropic effector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0" name=""/>
          <p:cNvSpPr txBox="1"/>
          <p:nvPr/>
        </p:nvSpPr>
        <p:spPr>
          <a:xfrm>
            <a:off x="1186920" y="2205000"/>
            <a:ext cx="6480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End-Diastolic Volum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Starling’s law of the hear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Cardiac innerv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 Oxygen supp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.  Calcium &amp; potassium ions concentration in EC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.  Physical fa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.  Hormonal &amp; chemical factors (drug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.  Mechanical fa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1" name=""/>
          <p:cNvSpPr txBox="1"/>
          <p:nvPr/>
        </p:nvSpPr>
        <p:spPr>
          <a:xfrm>
            <a:off x="1042560" y="981000"/>
            <a:ext cx="67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- Starling’s law of the hear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ngth-tension relationship”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ithin limits, the power of contraction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irectly proportional to the initial length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muscle fib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stretching the fiber as 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eart failu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wer of contractil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cre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"/>
          <p:cNvSpPr txBox="1"/>
          <p:nvPr/>
        </p:nvSpPr>
        <p:spPr>
          <a:xfrm>
            <a:off x="826920" y="907560"/>
            <a:ext cx="7058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2- Cardiac Innerv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pathetic N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force of contra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asympathetic NS (vagus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trial forc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action with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o significa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ct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ntricular contra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"/>
          <p:cNvSpPr txBox="1"/>
          <p:nvPr/>
        </p:nvSpPr>
        <p:spPr>
          <a:xfrm>
            <a:off x="1258560" y="549000"/>
            <a:ext cx="655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3- Oxygen supply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ypoxia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4- Calcium &amp; potassium ions concentration in ECF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5-    Physical factors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rming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ling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"/>
          <p:cNvSpPr txBox="1"/>
          <p:nvPr/>
        </p:nvSpPr>
        <p:spPr>
          <a:xfrm>
            <a:off x="1116000" y="765000"/>
            <a:ext cx="6912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6- Hormonal &amp; chemical factors (drug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itive inotrop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Adrenaline, noradrenaline, alkalosis, digitali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and caffi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gative inotrop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Acetylcholine, acidosis, ether, chlorofor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ome bacterial toxins (e.g. diphtheria toxins), K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"/>
          <p:cNvSpPr txBox="1"/>
          <p:nvPr/>
        </p:nvSpPr>
        <p:spPr>
          <a:xfrm>
            <a:off x="826560" y="765000"/>
            <a:ext cx="7417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7- Mechanical factor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Cardiac muscle obeys ‘all or none la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imal or threshold stimuli lead to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aximal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action, because cardiac muscle behaves as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yncyti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. Cardiac muscle can’t be stimulated while it is contrac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it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xcitability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ring contraction i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ero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e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o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solute refractory period, so it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an’t be tetaniz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ac muscle can perform both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ometr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oto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ypes of contra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eart failur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8" name=""/>
          <p:cNvSpPr txBox="1"/>
          <p:nvPr/>
        </p:nvSpPr>
        <p:spPr>
          <a:xfrm>
            <a:off x="1258920" y="1699920"/>
            <a:ext cx="6337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t is the pathophysiological process in which the heart as a pump is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nable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to meet th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tabolic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requirements of the tissu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xygen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nd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bstrates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despite the venous return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to heart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 is either normal or increa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0" name=""/>
          <p:cNvSpPr txBox="1"/>
          <p:nvPr/>
        </p:nvSpPr>
        <p:spPr>
          <a:xfrm>
            <a:off x="539640" y="1844280"/>
            <a:ext cx="7777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 can involve the left or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de of the heart or b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ft si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ffected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 occurs when either sid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rt cannot keep up with the flow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roke volu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5" name=""/>
          <p:cNvSpPr txBox="1"/>
          <p:nvPr/>
        </p:nvSpPr>
        <p:spPr>
          <a:xfrm>
            <a:off x="1042560" y="160020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the volume of blood pumped by each ventricle per b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 it is about 70 ml/b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2" name=""/>
          <p:cNvSpPr txBox="1"/>
          <p:nvPr/>
        </p:nvSpPr>
        <p:spPr>
          <a:xfrm>
            <a:off x="468000" y="1483920"/>
            <a:ext cx="74883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olic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eart looses it’s ability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ac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mp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lood into the cir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stolic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eart looses it’s ability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x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ecause it becom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rt cannot fill properly between each b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gestive Heart Failu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4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 swelling (ede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thing worsens with lying flat (orthopn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762120" y="1628640"/>
            <a:ext cx="73389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is Left Heart Fail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olic and diastolic heart failure are treated with different types of med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both types, blood may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k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in the lungs causing fluid to leak into the lun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lmonary ede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id may also build up in tissues throughout the body (ede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8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3389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is Right Heart Fail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occurs as a result of left heart fail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asionally isolated right heart failure can occur due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ng dise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blood clots to the lung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lmonary embolis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762120" y="162864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fast does heart failure develo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rt tries to compensate for the loss in pumping function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Developing more muscle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Enlar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Pumping f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uses of Heart Failur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2" name=""/>
          <p:cNvSpPr txBox="1"/>
          <p:nvPr/>
        </p:nvSpPr>
        <p:spPr>
          <a:xfrm>
            <a:off x="900000" y="764640"/>
            <a:ext cx="6120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 Impaired cardiac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ronary heart dis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ardiomyopathies (muscle dise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heumatic f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ndocardi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- Increased cardiac work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Valvular dis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genital heart def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- Acute non-cardiac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Volume over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yperthyroidism, Fever, 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dicator for Diagnosing Heart Failu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272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jection Fraction (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jection Fraction (EF) is the percentage of blood that is pumped out of your heart during each b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5" name="Picture 4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640908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w Heart Failure Is Diagno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7" name="PlaceHolder 2"/>
          <p:cNvSpPr>
            <a:spLocks noGrp="1"/>
          </p:cNvSpPr>
          <p:nvPr>
            <p:ph/>
          </p:nvPr>
        </p:nvSpPr>
        <p:spPr>
          <a:xfrm>
            <a:off x="930240" y="1844280"/>
            <a:ext cx="7026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cal history is taken to reveal symp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exam i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st X-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od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ical tracing of heart (Electrocardiogram or “ECG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ltrasound of heart (Echocardiogram or “Echo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-ray of the inside of blood vessels (Angiogr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8" name="Text Box 4"/>
          <p:cNvSpPr/>
          <p:nvPr/>
        </p:nvSpPr>
        <p:spPr>
          <a:xfrm>
            <a:off x="746280" y="613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istent Cough or Whee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id “backs up” in the lu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ing that produces white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k blood-tinged spu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1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82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3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7047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creased blood flow out of the weak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lood returning to the heart from the veins 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s u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” causing fluid to build up in t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welling in feet, ankles, legs or abdo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6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87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0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SYSTOLIC VOLUME (ESV) and</a:t>
            </a:r>
            <a:br>
              <a:rPr sz="2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DIASTOLIC VOLUME (EDV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ring ventricular diastole, filling of the ventricles with blood normally increases the volume of each ventricle to ab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0-130 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volume of blood present in each ventricle at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 of ventricular diastole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diasto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lum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(EDV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eload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ch is about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0-130 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volume of blood ejected by each ventricle du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ch ventricular systole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troke volum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=70-80 m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volume of blood present in each ventricle at the end of ventricular systole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systolic volum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(ESV) and it is about 50-60 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69739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dness,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art can’t pump enough blood to meet needs of bodies t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diverts blood away fro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vit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rgans (muscles in limbs) and sends it to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r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 tired fe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fficulty with everyday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1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92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5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73342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appetite/ 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digestive system receives less blood causing problems with dig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eling of being full or sick to your stom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6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97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eft Ventricular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0" name=""/>
          <p:cNvSpPr txBox="1"/>
          <p:nvPr/>
        </p:nvSpPr>
        <p:spPr>
          <a:xfrm>
            <a:off x="539280" y="836640"/>
            <a:ext cx="381636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gns and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ysp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thopnea and paroxysmal nocturnal dyspno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yne Stokes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tig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llor, cya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d HR and 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01" name="Object 4"/>
          <p:cNvGraphicFramePr/>
          <p:nvPr/>
        </p:nvGraphicFramePr>
        <p:xfrm>
          <a:off x="4427640" y="1557360"/>
          <a:ext cx="36003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36003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ight 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4" name=""/>
          <p:cNvSpPr txBox="1"/>
          <p:nvPr/>
        </p:nvSpPr>
        <p:spPr>
          <a:xfrm>
            <a:off x="-360" y="836640"/>
            <a:ext cx="5181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gns and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tig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ak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ha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ight gain, including  abdominal gir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vated neck v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patomega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05" name="Object 1"/>
          <p:cNvGraphicFramePr/>
          <p:nvPr/>
        </p:nvGraphicFramePr>
        <p:xfrm>
          <a:off x="4140360" y="836640"/>
          <a:ext cx="3168360" cy="50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836640"/>
                    <a:ext cx="3168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7" name="Picture 1026" descr="CHF pitting edema"/>
          <p:cNvPicPr/>
          <p:nvPr/>
        </p:nvPicPr>
        <p:blipFill>
          <a:blip r:embed="rId1"/>
          <a:stretch/>
        </p:blipFill>
        <p:spPr>
          <a:xfrm>
            <a:off x="5486400" y="14479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6408" name="TextBox 2"/>
          <p:cNvSpPr/>
          <p:nvPr/>
        </p:nvSpPr>
        <p:spPr>
          <a:xfrm>
            <a:off x="838080" y="53352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What is present in this extremity, common to right sided H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9" name="Straight Arrow Connector 4"/>
          <p:cNvCxnSpPr/>
          <p:nvPr/>
        </p:nvCxnSpPr>
        <p:spPr>
          <a:xfrm>
            <a:off x="5180400" y="838080"/>
            <a:ext cx="2057760" cy="22867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410" name="Picture 2" descr="http://www.genderandhealth.ca/en/modules/congestiveheartfailure/imageContent/55PJ35JA.jpg"/>
          <p:cNvPicPr/>
          <p:nvPr/>
        </p:nvPicPr>
        <p:blipFill>
          <a:blip r:embed="rId2"/>
          <a:stretch/>
        </p:blipFill>
        <p:spPr>
          <a:xfrm>
            <a:off x="533520" y="1295280"/>
            <a:ext cx="434340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n You Have RVF without LVF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2" name=""/>
          <p:cNvSpPr txBox="1"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call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R PULM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3" name="Picture 2050" descr="cor pulmonale"/>
          <p:cNvPicPr/>
          <p:nvPr/>
        </p:nvPicPr>
        <p:blipFill>
          <a:blip r:embed="rId1"/>
          <a:stretch/>
        </p:blipFill>
        <p:spPr>
          <a:xfrm>
            <a:off x="684360" y="1628640"/>
            <a:ext cx="6624360" cy="48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or further readings and diagram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extbook of Medical Physiology by Guyton &amp; H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pter 19 (Cardiac Fail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Affecting the Stroke Volume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9" name=""/>
          <p:cNvSpPr txBox="1"/>
          <p:nvPr/>
        </p:nvSpPr>
        <p:spPr>
          <a:xfrm>
            <a:off x="900000" y="1700280"/>
            <a:ext cx="7128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 The end diastolic volume (EDV) or pre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 the amount of blood a ventricle contains at the end of diastole, depends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- Filling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hich is the duration of ventricular dia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- Venous retur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rate of blood flow during ventricular dia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763120" cy="9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Frank–Starling Principl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tarling’s law of the hear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21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1298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Frank Starling principle is based o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ngth-tens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lationship within the ventr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ventricular end diastolic volum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preload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 increased, it follows that the ventricular fiber length is also increased, resulting in an increased ‘tension’ of the mus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ac output is directly related to venous return, the most important determining factor is preload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ntraction and therefore stroke volume in response to changes in venous return is called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Frank-Starling mechanis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or Starling's Law of the heart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Affecting the Stroke Volume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3" name=""/>
          <p:cNvSpPr txBox="1"/>
          <p:nvPr/>
        </p:nvSpPr>
        <p:spPr>
          <a:xfrm>
            <a:off x="1042920" y="1557000"/>
            <a:ext cx="6337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- End-Systolic Volume (ES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he amount of blood that remains in the ventricle at the end of ventricular systole is the ES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-Systolic Volume (ESV) → ↓ stroke volu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-Systolic Volume (ESV) → ↑ stroke volu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terload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5" name=""/>
          <p:cNvSpPr txBox="1"/>
          <p:nvPr/>
        </p:nvSpPr>
        <p:spPr>
          <a:xfrm>
            <a:off x="971280" y="1484280"/>
            <a:ext cx="67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It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expressed a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ension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ich must be developed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the wall of ventricles during systole t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open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emilunar valv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eject blood to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or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/pulmunary ar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 increased by any factor that restricts arterial blood flow lik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- Increased arterial blood press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- Vasoconstrictio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s afterloa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creas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stroke volum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ecreas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oke Volume Control Factor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7" name=""/>
          <p:cNvSpPr txBox="1"/>
          <p:nvPr/>
        </p:nvSpPr>
        <p:spPr>
          <a:xfrm>
            <a:off x="971280" y="1700280"/>
            <a:ext cx="68403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-  End-Diastolic Volume (EDV) or Pre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lling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te of venous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-  End-Systolic Volume (ES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eload              ↑ preload → ↓ ES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actility      ↑ Contractility → ↓ ES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fterload           ↑ Afterload → ↑ ESV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Influencing Stroke Volu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29" name="Group 7"/>
          <p:cNvGrpSpPr/>
          <p:nvPr/>
        </p:nvGrpSpPr>
        <p:grpSpPr>
          <a:xfrm>
            <a:off x="684360" y="1432080"/>
            <a:ext cx="7704000" cy="4359240"/>
            <a:chOff x="684360" y="1432080"/>
            <a:chExt cx="7704000" cy="4359240"/>
          </a:xfrm>
        </p:grpSpPr>
        <p:pic>
          <p:nvPicPr>
            <p:cNvPr id="6330" name="Picture 8" descr="_x0012_Figure_13_30.1.jpg                                             00029D3E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684360" y="1432080"/>
              <a:ext cx="7704000" cy="43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1" name="Rectangle 9"/>
            <p:cNvSpPr/>
            <p:nvPr/>
          </p:nvSpPr>
          <p:spPr>
            <a:xfrm>
              <a:off x="2397240" y="5070600"/>
              <a:ext cx="122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oke volu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2" name="Rectangle 10"/>
            <p:cNvSpPr/>
            <p:nvPr/>
          </p:nvSpPr>
          <p:spPr>
            <a:xfrm>
              <a:off x="1265760" y="3632040"/>
              <a:ext cx="1119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d-diastoli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3" name="Rectangle 11"/>
            <p:cNvSpPr/>
            <p:nvPr/>
          </p:nvSpPr>
          <p:spPr>
            <a:xfrm>
              <a:off x="1212120" y="1577880"/>
              <a:ext cx="120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nous retur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4" name="Rectangle 12"/>
            <p:cNvSpPr/>
            <p:nvPr/>
          </p:nvSpPr>
          <p:spPr>
            <a:xfrm>
              <a:off x="3780360" y="3632040"/>
              <a:ext cx="104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act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5" name="Rectangle 13"/>
            <p:cNvSpPr/>
            <p:nvPr/>
          </p:nvSpPr>
          <p:spPr>
            <a:xfrm>
              <a:off x="6253920" y="3632040"/>
              <a:ext cx="1430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erial press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fterloa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6" name="Rectangle 14"/>
            <p:cNvSpPr/>
            <p:nvPr/>
          </p:nvSpPr>
          <p:spPr>
            <a:xfrm>
              <a:off x="3743640" y="1577880"/>
              <a:ext cx="1059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patheti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y 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inephr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Rectangle 15"/>
            <p:cNvSpPr/>
            <p:nvPr/>
          </p:nvSpPr>
          <p:spPr>
            <a:xfrm>
              <a:off x="2647440" y="301932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entric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4:04:45Z</dcterms:created>
  <dc:creator>tarig</dc:creator>
  <dc:description/>
  <dc:language>en-US</dc:language>
  <cp:lastModifiedBy>Sulaiman Mona</cp:lastModifiedBy>
  <dcterms:modified xsi:type="dcterms:W3CDTF">2016-02-28T11:41:12Z</dcterms:modified>
  <cp:revision>158</cp:revision>
  <dc:subject/>
  <dc:title>Venous Return</dc:title>
</cp:coreProperties>
</file>