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9.xml" ContentType="application/vnd.openxmlformats-officedocument.theme+xml"/>
  <Override PartName="/ppt/theme/theme146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149.xml" ContentType="application/vnd.openxmlformats-officedocument.theme+xml"/>
  <Override PartName="/ppt/theme/theme21.xml" ContentType="application/vnd.openxmlformats-officedocument.theme+xml"/>
  <Override PartName="/ppt/theme/theme143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147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148.xml" ContentType="application/vnd.openxmlformats-officedocument.theme+xml"/>
  <Override PartName="/ppt/theme/theme4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145.xml" ContentType="application/vnd.openxmlformats-officedocument.theme+xml"/>
  <Override PartName="/ppt/theme/theme8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139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0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13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44.xml" ContentType="application/vnd.openxmlformats-officedocument.theme+xml"/>
  <Override PartName="/ppt/theme/theme138.xml" ContentType="application/vnd.openxmlformats-officedocument.theme+xml"/>
  <Override PartName="/ppt/theme/theme13.xml" ContentType="application/vnd.openxmlformats-officedocument.theme+xml"/>
  <Override PartName="/ppt/theme/theme81.xml" ContentType="application/vnd.openxmlformats-officedocument.theme+xml"/>
  <Override PartName="/ppt/theme/theme56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45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12.xml" ContentType="application/vnd.openxmlformats-officedocument.theme+xml"/>
  <Override PartName="/ppt/theme/theme80.xml" ContentType="application/vnd.openxmlformats-officedocument.theme+xml"/>
  <Override PartName="/ppt/theme/theme30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6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102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499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</p:sldMasterIdLst>
  <p:notesMasterIdLst>
    <p:notesMasterId r:id="rId153"/>
  </p:notesMasterIdLst>
  <p:sldIdLst>
    <p:sldId id="256" r:id="rId154"/>
    <p:sldId id="257" r:id="rId155"/>
    <p:sldId id="258" r:id="rId156"/>
    <p:sldId id="259" r:id="rId157"/>
    <p:sldId id="260" r:id="rId158"/>
    <p:sldId id="261" r:id="rId159"/>
    <p:sldId id="262" r:id="rId160"/>
    <p:sldId id="263" r:id="rId161"/>
    <p:sldId id="264" r:id="rId162"/>
    <p:sldId id="265" r:id="rId163"/>
    <p:sldId id="266" r:id="rId164"/>
    <p:sldId id="267" r:id="rId165"/>
    <p:sldId id="268" r:id="rId166"/>
    <p:sldId id="269" r:id="rId167"/>
    <p:sldId id="270" r:id="rId168"/>
    <p:sldId id="271" r:id="rId169"/>
    <p:sldId id="272" r:id="rId170"/>
    <p:sldId id="273" r:id="rId171"/>
    <p:sldId id="274" r:id="rId172"/>
    <p:sldId id="275" r:id="rId173"/>
    <p:sldId id="276" r:id="rId174"/>
    <p:sldId id="277" r:id="rId175"/>
    <p:sldId id="278" r:id="rId176"/>
    <p:sldId id="279" r:id="rId177"/>
    <p:sldId id="280" r:id="rId178"/>
    <p:sldId id="281" r:id="rId179"/>
    <p:sldId id="282" r:id="rId180"/>
    <p:sldId id="283" r:id="rId181"/>
    <p:sldId id="284" r:id="rId182"/>
    <p:sldId id="285" r:id="rId183"/>
    <p:sldId id="286" r:id="rId184"/>
    <p:sldId id="287" r:id="rId185"/>
    <p:sldId id="288" r:id="rId186"/>
    <p:sldId id="289" r:id="rId187"/>
    <p:sldId id="290" r:id="rId188"/>
    <p:sldId id="291" r:id="rId1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notesMaster" Target="notesMasters/notesMaster1.xml"/><Relationship Id="rId154" Type="http://schemas.openxmlformats.org/officeDocument/2006/relationships/slide" Target="slides/slide1.xml"/><Relationship Id="rId155" Type="http://schemas.openxmlformats.org/officeDocument/2006/relationships/slide" Target="slides/slide2.xml"/><Relationship Id="rId156" Type="http://schemas.openxmlformats.org/officeDocument/2006/relationships/slide" Target="slides/slide3.xml"/><Relationship Id="rId157" Type="http://schemas.openxmlformats.org/officeDocument/2006/relationships/slide" Target="slides/slide4.xml"/><Relationship Id="rId158" Type="http://schemas.openxmlformats.org/officeDocument/2006/relationships/slide" Target="slides/slide5.xml"/><Relationship Id="rId159" Type="http://schemas.openxmlformats.org/officeDocument/2006/relationships/slide" Target="slides/slide6.xml"/><Relationship Id="rId160" Type="http://schemas.openxmlformats.org/officeDocument/2006/relationships/slide" Target="slides/slide7.xml"/><Relationship Id="rId161" Type="http://schemas.openxmlformats.org/officeDocument/2006/relationships/slide" Target="slides/slide8.xml"/><Relationship Id="rId162" Type="http://schemas.openxmlformats.org/officeDocument/2006/relationships/slide" Target="slides/slide9.xml"/><Relationship Id="rId163" Type="http://schemas.openxmlformats.org/officeDocument/2006/relationships/slide" Target="slides/slide10.xml"/><Relationship Id="rId164" Type="http://schemas.openxmlformats.org/officeDocument/2006/relationships/slide" Target="slides/slide11.xml"/><Relationship Id="rId165" Type="http://schemas.openxmlformats.org/officeDocument/2006/relationships/slide" Target="slides/slide12.xml"/><Relationship Id="rId166" Type="http://schemas.openxmlformats.org/officeDocument/2006/relationships/slide" Target="slides/slide13.xml"/><Relationship Id="rId167" Type="http://schemas.openxmlformats.org/officeDocument/2006/relationships/slide" Target="slides/slide14.xml"/><Relationship Id="rId168" Type="http://schemas.openxmlformats.org/officeDocument/2006/relationships/slide" Target="slides/slide15.xml"/><Relationship Id="rId169" Type="http://schemas.openxmlformats.org/officeDocument/2006/relationships/slide" Target="slides/slide16.xml"/><Relationship Id="rId170" Type="http://schemas.openxmlformats.org/officeDocument/2006/relationships/slide" Target="slides/slide17.xml"/><Relationship Id="rId171" Type="http://schemas.openxmlformats.org/officeDocument/2006/relationships/slide" Target="slides/slide18.xml"/><Relationship Id="rId172" Type="http://schemas.openxmlformats.org/officeDocument/2006/relationships/slide" Target="slides/slide19.xml"/><Relationship Id="rId173" Type="http://schemas.openxmlformats.org/officeDocument/2006/relationships/slide" Target="slides/slide20.xml"/><Relationship Id="rId174" Type="http://schemas.openxmlformats.org/officeDocument/2006/relationships/slide" Target="slides/slide21.xml"/><Relationship Id="rId175" Type="http://schemas.openxmlformats.org/officeDocument/2006/relationships/slide" Target="slides/slide22.xml"/><Relationship Id="rId176" Type="http://schemas.openxmlformats.org/officeDocument/2006/relationships/slide" Target="slides/slide23.xml"/><Relationship Id="rId177" Type="http://schemas.openxmlformats.org/officeDocument/2006/relationships/slide" Target="slides/slide24.xml"/><Relationship Id="rId178" Type="http://schemas.openxmlformats.org/officeDocument/2006/relationships/slide" Target="slides/slide25.xml"/><Relationship Id="rId179" Type="http://schemas.openxmlformats.org/officeDocument/2006/relationships/slide" Target="slides/slide26.xml"/><Relationship Id="rId180" Type="http://schemas.openxmlformats.org/officeDocument/2006/relationships/slide" Target="slides/slide27.xml"/><Relationship Id="rId181" Type="http://schemas.openxmlformats.org/officeDocument/2006/relationships/slide" Target="slides/slide28.xml"/><Relationship Id="rId182" Type="http://schemas.openxmlformats.org/officeDocument/2006/relationships/slide" Target="slides/slide29.xml"/><Relationship Id="rId183" Type="http://schemas.openxmlformats.org/officeDocument/2006/relationships/slide" Target="slides/slide30.xml"/><Relationship Id="rId184" Type="http://schemas.openxmlformats.org/officeDocument/2006/relationships/slide" Target="slides/slide31.xml"/><Relationship Id="rId185" Type="http://schemas.openxmlformats.org/officeDocument/2006/relationships/slide" Target="slides/slide32.xml"/><Relationship Id="rId186" Type="http://schemas.openxmlformats.org/officeDocument/2006/relationships/slide" Target="slides/slide33.xml"/><Relationship Id="rId187" Type="http://schemas.openxmlformats.org/officeDocument/2006/relationships/slide" Target="slides/slide34.xml"/><Relationship Id="rId188" Type="http://schemas.openxmlformats.org/officeDocument/2006/relationships/slide" Target="slides/slide35.xml"/><Relationship Id="rId189" Type="http://schemas.openxmlformats.org/officeDocument/2006/relationships/slide" Target="slides/slide36.xml"/><Relationship Id="rId1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PlaceHolder 2"/>
          <p:cNvSpPr>
            <a:spLocks noGrp="1"/>
          </p:cNvSpPr>
          <p:nvPr>
            <p:ph type="dt" idx="4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0" name="PlaceHolder 5"/>
          <p:cNvSpPr>
            <a:spLocks noGrp="1"/>
          </p:cNvSpPr>
          <p:nvPr>
            <p:ph type="ftr" idx="4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PlaceHolder 6"/>
          <p:cNvSpPr>
            <a:spLocks noGrp="1"/>
          </p:cNvSpPr>
          <p:nvPr>
            <p:ph type="sldNum" idx="4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F696-29A5-4F9B-B26A-4936EDF75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F65E-729D-4645-B529-B837870BD02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4207-3580-4859-A4EA-99DC5B9540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r. (Name) say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explanation of the diagnostic process – what might take place during each 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commonly done tests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cluding the role of the echocardiogra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19D-32F0-4860-9F83-DC38B560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608-3011-4F62-A6F5-E2A9146D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08864-E520-49B8-947E-3C9423F3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CC45A20-D5D0-4101-AF3C-1035CB25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A168EF77-CC9E-4416-B701-10C547D1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68D9611-7FF0-479C-8A07-22FBC416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B60BE71-7D2D-4ECE-83F5-F30F7556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BFF5D3EF-D917-4663-B7D4-18CEDB69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37A2FE56-4197-4489-9728-0984F6BC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6A26A4CD-BE7E-4EB5-AE96-54CFFC87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71DF003-9A60-4491-8843-5C93A600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CF7FB9C-1DA8-4595-993A-8729F6FC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C9550FF-3814-44F7-AC88-069EAEBA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1D6B5-6EB5-429F-8BFC-D69984F8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FDAAAD3-BE6B-4F8A-BAA7-C9680D47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4792464-F42C-45CD-9C88-21C03465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9A3BC4E-F282-4B4A-82E4-CD8B1218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ED5F58D-4950-4796-BF64-F547F1DF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4817B33A-278F-419C-9656-EF807D0A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35D9C8A-B60E-4428-9A0E-8A019EC0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3F7DF6FD-B595-4CFF-B909-3F6C7354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0226165-F46A-40E2-B604-4C240C3F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AC5D0B8-04D6-4CF3-B01A-2F6DFDAEB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D3F04A8-8E98-4805-8284-4267989D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1C637-A9F1-4BB0-9B8F-5637EEB3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7FC247C1-0A56-4891-BA82-86785E0B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CB2DB7E-F52E-4C95-95CB-C7B4B1E7F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41046A3-BEC2-4204-9D85-F6E80517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154C2A6-71CF-40A2-A9D7-6184018D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E8A9F2A-8691-4371-B629-A4F3D397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D537E73-D929-4199-B105-DBB6F01B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3257E60-670B-40CC-8F11-C7B332F7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668B82B1-0BBF-483A-9AE9-680B3025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CF1FFEA2-76A6-4FC7-AF2F-CC6A29BD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76955E88-CD2B-40C3-8AA1-821430E9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D7A49-F27E-468C-A2AC-6F2A4D49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28AFD70-EBCB-423A-9128-840A4D44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8EA32461-88D8-4A1C-A471-B81B678D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DE9E5A48-DD85-4B4F-8F2E-A0EC613D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6B804A6-7095-4110-947A-19B3F2DD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E17A943-5C93-472C-B63D-F9AFEF78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19734EB-CB7A-4FBE-87F9-74C44E1E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6CBBDE4-853A-41EB-8684-5344398A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E10B162B-73F6-4B49-BBB4-D6D19417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20082A3-C163-4204-8742-3F041F49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B65E5043-D06A-4441-92F8-8C8931CE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63F59-D1B2-4265-8E14-CB92A838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3435DBB-39FB-4053-9938-2BB9A350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5055B1F-253D-4E07-BA17-CF7B7F23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413C9E8-CA59-475B-AA7E-DF8950DA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559D190C-96E8-4202-8D24-A188B1C4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11E0ABF1-AC46-4D3C-BC13-F628425B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AC4D8B0-93B2-40AD-96DB-5D10F8A9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355329A-086C-48F3-915C-5BA2A098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95235A6-443D-445B-9C6A-C6AEC70A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4EDB975-DA27-4349-A2CA-EC7CD6F9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C8BE44B-03A8-4692-9B13-C41528D4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DF203-EB93-484D-B506-8EEE05B5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EBB6DB31-F979-4E77-B175-B0182802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DFDD914-308A-4471-A502-50E1E668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FFEAD6A-D84C-4E86-B268-F614CC22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FE4A1D6-8AD3-4CCF-879B-AFA6EAC9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10AA3186-52E5-497A-AC7B-3EC91DFD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9DC0EBFC-A874-46C9-A050-F6967B0F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4FB3F735-8794-401B-996C-688B2C48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F96C7F8-42DA-4664-81AA-19813532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A3969DA-9D63-45BE-849D-BA731C1D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15C59BDC-1218-4A85-95E4-DD6C7338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2F2BA-E43A-4381-B990-711696AC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E49BB69-F550-4A97-B728-0C4FA535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2404ADC-ED6B-4A1C-A4E9-219C9BD9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D2262E56-A6F3-41DD-9B9A-DBADFB97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4893CC1-82DA-4C25-8EF1-F674449D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F741AA0-4D32-4C3F-8EBD-92D61A94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BEFD14E-3882-484C-8D5C-8B7FB4A6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0FAC481-C477-4203-B66D-9E550B7A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68DDCEB-8A43-4A66-BE99-30892EAD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ECD9DF8-B9B8-402D-B1E4-8DED2913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64AAE858-F26C-4879-9950-E63E0138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C6482-8A87-43C7-837F-7FE457F7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2918DEA-5B06-4A7D-A9A2-F06DEA84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419248F-F608-4CF8-B90D-DDC971C3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4167FD8-9DD0-4C0D-93D6-6CE59F32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AE84D78-8FA1-4988-B935-7F501664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6A11C069-8F57-4955-9603-FBAA8389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308C107-BC39-4DAA-9B0B-02CA6D06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DD6E90D0-E04B-4C24-A807-9FDA9391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FAD1414E-2CAD-4310-B5CD-CDA534E0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3DF31965-5948-4F36-91B7-24C8CF85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D3E9AD9-66E6-4D17-AC9B-2784834D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48D3D-5E17-4817-8CA2-A9BCA86E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98DE3F7-7276-464B-8236-8C8EB148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85F37D5B-DE01-4AAF-9B61-B39EF007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EA6DF0A-F1BA-4D32-ABC3-E1F8A389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1F49210-C6BB-4928-A752-CCA234B6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E592C69-D6F2-41C7-835E-DC3B7981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7D614A82-6BCB-461B-9D97-5DA61C90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A1D0BFC-8C49-4689-BF81-CE6E3003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FD2855C-0FDD-406D-B8C7-FBDA957B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B34D99BA-39B5-4FFB-BE2D-B7AD44E4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FA7FF05-64F6-46A1-953C-F1871502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BDAAD-9BF6-4440-BA9A-050DF250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7D289D7-698E-4711-AE46-B9141919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6B7D7CF-99CE-4A8C-AA2B-2B5D0422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27215B85-2DC9-43E1-82BD-37E7AA70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B8F32C6-6C96-4116-996C-3DA5E7F8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9A4D98B-8BC5-4792-B029-100E5AA6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042DCE9C-8A5F-40A1-AA73-D26143E7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DCDB1FC-E234-4996-B242-A08EEC9E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FAB0213F-9A50-458D-8BDB-8E8A964E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9731490-1F7E-4445-AF06-46953F9E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2AC0594E-F6CF-4345-9C0D-46AA665A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C16-CA2D-4EDF-9D45-1E816CAC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0D266-AD9D-431E-B25B-5E9D4B1D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2E4229B2-F973-4304-96AD-0BD264B0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8E6B821-9324-48E7-B8FD-14063C00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C86005D-C5B8-44F4-A091-A50C756A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17AE976D-8C1B-4F0E-81F7-AF571DD7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954C02E8-8CBF-4D8E-A89B-F9650450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69AB2C0-CC5A-45A1-8DED-3CA31FF7D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0EB0B3BA-80FD-4C3D-A7F8-7968A4D2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3779223-6774-4B66-A350-8D0E4377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9BD7F4D4-EA9E-47C5-9D56-A0B9CD02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FC27BBE-5400-4065-B9FB-290F2B98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B1161-E233-452D-BD87-CD22E3A2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C3E9639-6CCA-4CAD-81FB-EF90BAF5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435FE99-CD12-4940-B5BD-1969C705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82E73A14-727A-4A0A-AC50-473B582A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1411363-9C03-4459-8834-6320E77D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9427E4E-C755-4236-9499-A0AD01AE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5CF0C1A-DBCF-4AC8-8BC8-6BE5E4E1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7699D1D-61B8-40DD-A5AC-18313272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864A150-ED06-4297-8279-34E278CE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A43FF741-3272-4918-AEFC-EBF61A62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B42C959-1CFF-4F16-A5DB-16699E6E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147C67-36AE-4E59-8499-1762D981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FEB7605-5187-42FF-9846-7E4909F5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F3258606-151F-44DA-9B9A-CD9AC323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EDAC9230-3EEC-461A-8786-5034601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0384F767-DA49-4604-AF78-F7139F28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384135D1-67F3-41E5-B5B6-60963258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1B897059-D519-4425-A82C-955FBA7E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D9C8781-7355-458E-BFCF-823A5284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5C308FE9-20AB-433A-A057-35C4B5CB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2997D69-672B-4E66-8345-07FE72DF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DDACCDA-2A7F-442F-BCC3-27C25528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699D2-02A8-4694-ADE5-C1A81529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482DAA88-8703-418A-A745-B82C0F8C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8C980E1E-5F94-445D-9AF4-2F7AF5D9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66B4E7C-9387-4316-8E70-3D9C74B9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2F88903C-C9DC-483C-9823-8B21029D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D151D4D2-601A-4BEA-9D47-40EAD39E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FDE01BA-53AB-4BFB-9FBD-051EFBE0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72FE4F02-82FC-4869-9777-520FD173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E4F7254-E39A-4493-8DE7-FE8ADBAC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87176D35-EDC3-4575-8FA3-E316EE07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DC28C4C-A7CD-428B-B765-50E5E825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1E079-8A3C-459A-9AE1-060AE6B4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72798D7-9C85-4554-ABD5-04647FF3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F80BDB95-C11C-45F6-AF8E-65724285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E76FBC0-9F8C-4F10-8CC3-53D48521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2E73B10-61DE-402E-8536-408BA3BD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F0C721E6-5B82-4530-BA7E-28806CF3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C89B692F-C324-4E45-A116-17E28ADA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23E5D16-3C45-4957-A6C5-9E53FDE2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965674C6-C563-443B-AE25-1E3DAA33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C4B6E85-9991-4550-9043-80C3C56D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4B7F911E-ABF8-43E1-A66D-42D7112F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004A3-F0AD-4FAC-A6C7-7D903931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075220B-567F-42A3-AFE7-4CFB2A4B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25B004CF-561D-4CBF-888D-C9D8A70A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6A8C3DF7-AE48-4FDE-82CD-51AC4902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11344A77-D3C9-455F-90AF-12C9023A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E6B8A3A-6B37-4B69-AF80-CB0799A8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154ED2B-16B6-4F48-BF86-B1AE8E3B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58FEA05-B788-4DEB-8B61-0A45489B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F907023D-FD55-48C1-BA80-6E0E9CCF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3BCB499B-12A2-4E9F-AD90-505C7BB9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BAAC652-5C7C-46F2-AF5E-2B503034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9B16E-2496-4FB0-9B20-ABE40F08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733A6ED7-EA35-4DBA-A257-B22F9D7F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E4D31A72-2CE3-4676-A523-5B107916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CADD74F6-7241-4D92-9799-8F25D7E6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28BA96AF-35B0-45A1-8A85-EBFFACEC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DF83D81-4D9B-4454-93FB-35092409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D841CD23-BAC2-439B-80A6-18F01636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2D306366-4CD8-4049-B692-1DC479BD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B08941C-6787-46CD-A3BF-B79D194B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BB7885F4-8C1F-4B73-81E9-ABF2E8D2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C842BDC-78FD-478D-8445-6133B876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5B606-02BD-4284-A65C-368AF6FA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2898DBE-2F5B-457D-84B7-358420B7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934CA5D-4C6C-4DCD-A960-8FF062D0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EE2162DB-00DC-4DB7-9B32-38A9BB6B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D28E9DC-B37F-4A5B-BB89-90BFCDB1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A6E06CB5-466B-4446-8BAF-C5B212BA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DE617B5-8010-4D89-8634-1D9F0D077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6769210-BB57-4343-BF29-DEC8F6F5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F313A51-EA4A-44FC-BF8C-6A019036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D270885-88AA-4C4A-9973-4E2CC72C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B3496D6-ED89-45D0-9A3D-8EBA80A8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0217E2-0E9C-4A0E-A820-F84A89C2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1749D14-1A51-48A0-BD3E-1A7989CF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465A76F3-E862-40A6-8C14-E62EF65D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0581D44E-8399-4C55-B2E3-0423057F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139F16F-1301-4930-B9FF-98CCB66C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F5155E8-1741-414A-9091-AE9EE9D1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DF723C2-026A-4CE2-9C46-800483BF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6A4926C-ACAD-42A1-82AB-E83CB9C6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EAE71D9D-2F79-4B85-83E5-B9852B83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19321764-0793-497B-9A67-78A8E793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42F5090-2324-4DA9-9CDF-99599A10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C54AD-9BF1-4E65-9717-E6BE8F28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D3C9182-C079-4C3D-A033-5967B3FB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3267A79A-EAE3-4CB4-AFF1-20960BDA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8711CE7-78A7-48CC-B1DC-36E7083D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2BB1090F-E894-4FBC-94A3-518726B3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27ADFD1-4C38-4D9A-A553-638C6495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678C8FA6-B25E-4389-8F64-3F9A1D12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1B1FC7D-3F02-44A3-8743-4773F69F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530C3E49-BF26-460C-A285-9451CE69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7CB4ED45-2136-49BC-A9B8-FF5F4747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BB2CC39B-0E99-4BB1-B526-55BBC8BD6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5FF-902C-451B-A0C7-F748BDA2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B05C3-6287-4EA7-B5CE-CE0300D9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5E26C2E8-BBBC-413F-823E-701D92A1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FB41A0D-D229-46A6-883E-7115A79DF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D2540E11-15D9-4142-8404-A783CEB0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2D6F16B3-2D34-4750-B6B4-345D042D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CB371C3-D07A-4AF0-A365-E5C405F2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8D961B8A-3F8D-4038-BE02-7DBC356C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AEDA3C0-98E6-42CD-A02A-C03D2CAD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2BD8446-1DF0-4201-9CC0-D3AD5CE3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4D768F9D-D9D8-4C06-92F2-85459768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306B91D-3299-4FE4-BE07-C7DFCDBD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37592-8FFC-4E41-A523-93B7F301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4BF52C2-D1F1-4389-A7AD-1411FB41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53A06C3B-2239-4DD7-B2A3-4D55B9CA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0465D39-CEDA-45BA-842A-9094E75E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FB0B5A6-6BBF-46F9-8953-978CF65E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E2C14FE-3B55-48DF-8549-0F0DFB29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BAFBF95-6F9A-4F48-A2E6-26BAD761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2A7F724-DDE8-4266-B6D1-BE5CCB0E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2F9EBCA-282B-4C6C-87B4-698C9C7F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D8F3E84-DCBF-45E5-B1C9-01F488A9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87BB41C-A037-4DD3-85A8-FDB14D19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E6A16-54CF-411F-9CCC-86F83F96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6ECEF2EE-27F4-433B-B3CC-67513D77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E3CA8CD1-97F7-43EE-BCD4-33D7AAA1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42626E41-1681-4B01-B976-7049CFC8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D46F685-348F-4927-AF19-9178F568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876C9C5-7993-4688-8CC5-6DA64265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A6996F6-FCE2-4F53-9E5C-130FA56D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C250244-E225-44D9-9C34-1280F8D3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32773F6-071E-4C26-A686-DEE86623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D9ABEB6-373E-4084-95BC-0C79DE60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9334629B-39F2-43D0-8ECE-2DE16DE1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FDCB2-68B1-472B-B781-D84A3FD8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D5BA6A4-5FA2-4E14-9C57-FA167804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D5AA8C7-DA64-422E-B28B-53BE1321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6348BAF6-2B0A-431D-A97E-251EBD54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C36397A-6DB2-47A6-B7C6-9F0E3610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2E1A80F-2381-48EA-B97F-E3E98E0C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4C71190-E7C1-4E2E-B850-B042AE00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6811B1F-6ABB-412F-B251-937D7147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1ED6067-6036-443B-8DA7-3C0CC911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C958117-0362-43E6-B1FA-A68E0F89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FFB4883-7787-4189-A7B8-04E9E767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6CD2F-39EB-4ABA-A16A-D2AB0F91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AE414FD1-F0E7-4A35-BB98-0C18C43C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ACDB21A-196D-411A-9509-11F39641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86E51B1-E297-4199-A08E-66BDEFAF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5B8667CE-09BD-4822-8BE2-889FEFB7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987C2E44-7192-4959-8E29-87255A26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BF3A55A1-B781-4D1F-920C-336892EF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29E1C82E-DC15-4060-9253-433EBDDE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EF8D069-8F3F-4493-8DAD-3DE1474D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EDA55C1-4740-467C-B7F4-88D21001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9DBE0D55-B952-416B-B7AD-91E53D55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9A2CF-C495-4A7D-8667-9A22D23F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98563D7B-E382-439B-9FB8-EE61A792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B0572D3-1A67-4334-B066-B2C38894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DC1FE8E5-78FD-4238-B8B0-CACBF5E6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A315D75B-B3DD-46A3-B22B-987B1788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FAFF5B01-7ECA-4835-BC72-A597F96D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FE96C81-71BF-4BD3-A687-708BEF18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D083CDB3-9346-4D8C-8FCE-D346844C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48EE32C0-108C-4B46-A0C5-9F36346B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6B3DF5FF-8D23-4062-B14E-093147CB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E8B5E5E2-8AAA-4375-A65E-A11D4FD0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3BD1A-3467-4D94-A869-39B2864F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6D501E2A-97B4-4BBD-AF2B-CDC1493F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FDD8840-93F4-41B6-9C48-F9E6FD92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2F78087-A1D2-430D-BB0D-8ABC43F9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318F23C-BB3D-4E70-AC7A-3E59E33A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1755146-16F9-488C-AD3B-9FE6BF1E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C34A5BC-076E-4586-BEAC-1DB8CDC9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07F9155-C065-44EA-A75D-F84C5ACD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C95D6CE2-D33F-475D-8974-6C2E8F13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794A110A-8B71-49F8-B69C-243DC4C1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BB402EE-7799-466A-AC9D-B7139B0B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81F4C-5FCD-4CC8-826B-36987C49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37B6290-EA51-4DE6-91E9-A2511053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84496DB2-5E0A-472F-99E7-B5F002BA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B94B1020-3907-47E6-8EDB-313D4CB3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68FF86B0-BA8C-45CA-8683-8538AA8F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7A731B3-AA04-40DA-8AB5-8E02AC67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4DE727A-5873-4894-A6D6-8D21704E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9925AEFE-0092-4519-AF54-0C06212C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AA80AE2C-5629-48CF-8ECD-0AD09AEF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9B3D8ED2-CDA7-4EDE-BF33-AB2FD847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7981079E-42F5-4B84-9DE2-B219D1C0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0E029-F724-45D4-A3EF-FF5987BB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96D4EB1-7010-4B1F-80AD-EA0215AA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D6524A93-7C67-47D7-8DCD-FCC020D9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EB8411EA-C5E2-4799-BEF4-4DC5BDEE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C14D272F-F883-44E8-AD69-1FABF56A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C9B208B-C928-47BD-B6CA-3A06B9F6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A5124B6-28CB-4CD9-B0B6-EA2290FE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43F2A9EE-5969-4FF9-92C8-72EC5596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E06578B-82E8-4F65-ABD6-06300C16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6E81DFA-20F5-4FCE-944A-3A8488BC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0CF5252-DB97-4B93-A606-0A26116B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5906A-1606-4701-8186-26E984A0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C23194FA-DF7A-45F4-BD34-26650E5F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965965DF-2A82-4EF4-87A8-C67DE4E0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43A359C4-D024-441A-BB09-4DFDA3BF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2938502C-9787-478B-89B7-3B4D77EB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EAD8D627-9326-42A4-9986-A9068E9E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FC01FE4-4698-4D98-B361-B7934D30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7768C84C-9240-4E0D-9006-B0989D05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9970EEAE-DEFD-48BE-8D0F-3163B25A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A590896F-F83D-4A70-8442-998CB49E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256EE11-6502-42D2-A601-328A0F02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EF7B-BE94-4AF5-84F5-5A2C0070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0104B-FB41-455F-B28B-13959821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16FDBA13-964D-4B35-AA7F-498DAE59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B946AD8C-139F-46C1-B419-B9CE1A89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E0BCC3BA-FD67-4FA5-870C-E60066FE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DC601629-EBF7-4E7F-BC26-56237ED3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1C9707C0-3E26-4B09-A214-3D9D1BC6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85B1C143-936D-416C-B7F8-8210DAD5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5BFE6E3F-5496-42C7-B164-563D9278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447D6E1D-B773-4D02-A0D0-64653F9D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7"/>
          </p:nvPr>
        </p:nvSpPr>
        <p:spPr/>
        <p:txBody>
          <a:bodyPr/>
          <a:p>
            <a:fld id="{1C6B4547-4849-471A-B8F3-34490643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FA163BE-C2DA-47C0-9F00-D4231EB2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E74DF-F22C-4895-B83C-625364EE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7CCB74A0-0275-4C5F-ABFC-E967E472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F27EA966-C07E-4027-B434-3AF0BFEB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2FE9B8F2-8662-40F1-9CE8-A4117D5C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DD2963CC-3ED2-400B-8151-555429A7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45605872-1CBD-4762-80AC-09404881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A345D05C-7512-41ED-AC91-89BC389B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737325FA-AD39-4910-B51E-EA788D1D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3A6FD27E-5FF7-43C4-A893-00A85B67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DD34437A-48BE-497B-883E-0032B29C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75DBEEDD-421A-4463-A84D-F5CEC5FB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160D4-0A07-406C-9892-BA5AD0EB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0"/>
          </p:nvPr>
        </p:nvSpPr>
        <p:spPr/>
        <p:txBody>
          <a:bodyPr/>
          <a:p>
            <a:fld id="{92365F57-F5EE-4821-80AE-FE3791F0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A75B9C94-2405-4538-BFD2-CDADE5805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D0FA40A8-5258-48E3-B961-E126CA90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4B45D55E-C046-42B4-BE03-A62B413C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2371BB4D-C59D-4D4F-B84B-A91A305B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EE16DB8-8B89-4D53-AE76-D11BD4A5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B3DE57A7-0EB2-487A-8F1A-1CDA43C5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388D4D11-E959-4BFB-A6DC-5575CEDD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8E5CD233-FE68-4D0D-94F9-C3620FC7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85B22B8A-EF7D-4B46-8857-B20C5162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EA47A-F0A6-429E-95A4-E99EF902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9CAC814F-D31C-43C3-95B2-7774A8A6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B8BD6965-139A-41A4-9B53-649F6373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3"/>
          </p:nvPr>
        </p:nvSpPr>
        <p:spPr/>
        <p:txBody>
          <a:bodyPr/>
          <a:p>
            <a:fld id="{47C35412-0E25-4958-987F-865E3AD7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46BED55B-C358-4BDA-BFF6-A6D58387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E885A1F4-DEA0-4A7E-A43F-09D1E586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12626A89-8C62-42D0-BE37-0DA92F766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B2BB50D-23AD-4467-A5B4-32A19D15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F7AB6705-7F73-4885-8B09-CE458F40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A190CFEA-7B08-43EB-99E7-48CE095E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5F6DBF67-04FA-434E-A161-683ECEE2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19A7A-E1D2-40A1-B715-0937863D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F4CB7C3C-2F95-4E18-A36E-770A3908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401B990F-8754-40D1-8C32-0FD30AA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7DF8A031-FA4A-4995-8856-CFFD905E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1C768E3C-E298-4C29-BCBA-14E9CFC7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6"/>
          </p:nvPr>
        </p:nvSpPr>
        <p:spPr/>
        <p:txBody>
          <a:bodyPr/>
          <a:p>
            <a:fld id="{0C527B54-B72E-4640-84B8-2CB24E6B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D0AEA95-9E40-46C8-A11D-D2702C14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D05CCCD0-F088-4485-A33D-22683810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566CC1C5-08C8-475D-9387-2A485748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34B565D9-CA41-472E-9751-00134806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A107C7B-8582-4DA9-8D7F-B3B27584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96EBB-D877-429A-AB01-4B410FB0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DF0FE1CC-4B13-483B-BF92-4FF2D929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66D47BDC-CE3F-4AA1-8F9A-22C69DBA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B734AB05-3C2C-461F-8734-A759E63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4F4A09C5-270F-4CFC-81BF-5E7BD1F4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95BE7196-9AF4-412E-A124-9E0F2C7E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89ECCCA0-53B3-4093-91FB-56EF36EF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9"/>
          </p:nvPr>
        </p:nvSpPr>
        <p:spPr/>
        <p:txBody>
          <a:bodyPr/>
          <a:p>
            <a:fld id="{C3069A54-B809-4F0F-88BC-453ED920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73AD5063-4731-46D9-8FBA-D94424B2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52599831-D4E3-417B-A569-69BDB86A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4460640-5A32-48F4-85DC-74C995BF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496AA-7CED-44A9-B969-AA79EA99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4FFBB04A-1D15-4BCD-8616-BA011BD3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939B639F-1998-48DE-A071-9A01686F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2A8C5AE1-C825-44D5-BFD8-39054BB1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DA64F006-31A3-4548-91CA-8ED595BD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8B45600-221B-4EBF-BD04-B6B80201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881A8F8F-FE9D-4422-86E2-76C39CF7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5D214111-DF44-4B64-A0F6-00BCF4C6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1EE6A50B-CA4A-4500-A786-FF090245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2"/>
          </p:nvPr>
        </p:nvSpPr>
        <p:spPr/>
        <p:txBody>
          <a:bodyPr/>
          <a:p>
            <a:fld id="{A851FB44-0BB8-45F3-A496-F87A805B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DD72F1F-6A6E-492F-BCEA-16C79B93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3E350-D7AC-4B57-B179-8770600B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50353216-85D1-4083-ACA1-1846DD5B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C62CFE01-3146-49FD-B318-EF2061D1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2B190CE1-8DF4-40BA-9092-6C93DE1B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0B615E40-C2D7-497D-897E-93212179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4C053DAB-18BA-45AF-AF84-D8E2E6E2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BCF32537-DA55-4EC3-B011-CA8D992F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B769DA1D-8984-453F-B0A5-87A407EE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10F875B8-B2A8-42C5-959D-9F317772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7F52FAD1-3E3D-438C-839A-ABFE06A2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944D440E-1780-40DF-9A0F-C6A10644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48B3C-3F10-45A0-AA50-033C74CA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5"/>
          </p:nvPr>
        </p:nvSpPr>
        <p:spPr/>
        <p:txBody>
          <a:bodyPr/>
          <a:p>
            <a:fld id="{F9CA05A2-2CC6-4185-ADDF-0A9833F4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8067268E-B5BD-4E3B-94B4-CD69F602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78751A42-C031-42D1-8958-7EA9509B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59B513D-88A2-4F7A-99A1-6107B7D9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0FA81A83-BBF8-4396-9E27-EA4AEFD0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3A8B247A-AF16-4969-BCEF-2F469A8B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C17CCC9C-804C-410B-84A5-F2D6CD9D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8A00E651-859A-4572-9D7C-D055E7BF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DBA5AF3A-1260-416E-9844-2DB99127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0623641-A330-43D0-B8CA-C4259E47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5515A-588A-4375-A51E-78FEA703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AB737B46-3E07-431C-A8D1-F3E126D7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BB89A2D7-FFCD-4024-A682-24CD1B07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8"/>
          </p:nvPr>
        </p:nvSpPr>
        <p:spPr/>
        <p:txBody>
          <a:bodyPr/>
          <a:p>
            <a:fld id="{6193B31B-3E4D-4C0A-AE59-F1623531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F0421431-8CBD-4F8E-A21E-9EEA2503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7C1ECFF5-971C-4102-8094-CC0CF734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D69F1FA6-21C2-4149-B29A-2CABEAD7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012E83B5-2065-4421-91A5-6A3DAAA0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3524EA03-1B6A-4318-9A6A-A9435A46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6A625BD3-1014-45D8-9D30-FEA48310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37ADAB54-53A6-4DA1-85A2-411EF00E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D098-88AB-4970-93CB-ACD48AB9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9DB58-3912-43F2-9B8E-18C3E13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C65EEB9F-64A2-495B-B444-0A9EF0D8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C76E46F3-2D8C-4575-A664-6C4A457B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D1F34335-93C9-4AFE-BA1B-C3260FFF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CBBEE35A-E697-4C29-A166-C8527302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1"/>
          </p:nvPr>
        </p:nvSpPr>
        <p:spPr/>
        <p:txBody>
          <a:bodyPr/>
          <a:p>
            <a:fld id="{5660A435-0031-46C7-BB0B-8C245B30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CBC11039-3A76-453C-ADAB-DC854ECA0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9F84F3B6-5F0F-4CF5-A0EB-6A6CB417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1F517245-AF0A-4BCA-A2D3-7B9F9E6B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53094F14-4DC7-48D2-AADA-B0F93FE0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54B1262A-DBE6-411B-86B1-FEC07A67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327B7-8AEE-4A6D-8CFB-F4378D0B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5887D9E8-4335-4BF4-85ED-1415DB51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425BED27-906B-4A03-A59F-78EB403D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BAF432CC-7C7F-4828-A713-2719980B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2FC47CD2-90CB-4D39-8340-7CE4FF29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4DD103A8-BB06-4991-8BCE-ED3D62EB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8E06934B-76DE-4A95-9E48-30AF463D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4"/>
          </p:nvPr>
        </p:nvSpPr>
        <p:spPr/>
        <p:txBody>
          <a:bodyPr/>
          <a:p>
            <a:fld id="{172B8DB3-473B-4192-AAF9-DE6C4340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3ACFB2B0-304C-4575-8412-AA12FBAD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9CF0784-4065-4FD9-8AE5-E67CFE5B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A8BF5997-84A4-4F0F-812A-6A45C6A6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AD4AA-95D2-43B0-BE71-50FA7B98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4550D6B-FFDF-4733-BDFB-9C818144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ACBF13BD-7763-4245-B185-D7A7944C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B984853E-828B-4E17-9728-44ADB310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BB9D9BE5-E10D-4884-BDC1-6E3FA974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9E1A8D74-E799-4B63-851C-7D98F45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55F3D895-7BF5-4B25-9F19-C966A2E1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F1B1C843-F673-4A62-B798-DAF376E2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B7B35E5B-FC52-42D3-A7D8-00618D77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7"/>
          </p:nvPr>
        </p:nvSpPr>
        <p:spPr/>
        <p:txBody>
          <a:bodyPr/>
          <a:p>
            <a:fld id="{E8197664-2A67-4E0C-8469-0FCE318DD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11B3FC2-7364-4832-9186-08E394FC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91B4C-A9C4-48B2-ADD4-7EBECD6C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A884879-5AAF-4482-AC47-3126791D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262A7A2F-A508-40CB-8B51-7E3EDF84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4950A646-E633-41BB-9E0F-B938C9F6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17564B38-3289-424E-9BE9-6D511A15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6F57B1F5-E0C9-4FA8-8387-6C4BDD83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5B8F5361-33A4-411B-A953-8112EB07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44E16EAE-6C0D-4B0A-BF28-A1E956D7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E596FDB7-6DC1-46CC-8614-CFC5F80C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0C671D28-081A-4FB7-8930-DC208623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B98725CD-B73D-4A1F-8B16-BE01C1B9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94C36-A184-478F-9096-9CD69ADD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0"/>
          </p:nvPr>
        </p:nvSpPr>
        <p:spPr/>
        <p:txBody>
          <a:bodyPr/>
          <a:p>
            <a:fld id="{38481F11-CD89-44F2-AC9F-DF3FAE04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7ACBA194-5768-4DA9-AB98-C6ED9F0A1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CC425700-5935-433A-A855-C391A7BA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42675626-5FEC-44D4-9A8F-5C58B2CB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368E64D4-01BF-40AB-82B9-2C17B282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EED5CC78-E6AD-485D-A142-6B0454DF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93825641-75D0-4A51-8C47-6C84F8D6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E46BB3F1-CC97-4DDF-8642-F7F5EE8C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2DCE60E-90AB-4E7B-95C2-10912B70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BF2C2E74-E59C-4BD4-9812-46410DBD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4C703-C3BD-474A-8851-289D1051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6F0C9D24-7439-4ACB-AA47-33124FBF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AD75AE9F-50E9-4D07-AF54-DD7BBADA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3"/>
          </p:nvPr>
        </p:nvSpPr>
        <p:spPr/>
        <p:txBody>
          <a:bodyPr/>
          <a:p>
            <a:fld id="{586AC98B-10F7-4095-BFCC-539EE89FF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6AD6433B-AD85-4013-9159-8296657E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49DF6FF1-BA19-44D0-82FA-1EEF0067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AA5FEC26-DE66-4AA5-AB13-E808A46A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CFD6F71C-E4A8-462F-8475-C52584D7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47AC6394-29B8-4680-B0E7-DBB78E8B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D4D0337-0D4C-4048-B8E8-CB3B4829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96443844-7835-4363-ACF5-B0E0BE37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E7E83-BDE3-4969-BE10-99212768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68E6EDE2-0283-4F49-8453-E502D306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26ED9B67-1A9B-4A95-BB43-FD359455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5DDCCA5F-2289-491C-8853-F91EE2EB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DD595CEF-8340-4131-B236-29604E7E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6"/>
          </p:nvPr>
        </p:nvSpPr>
        <p:spPr/>
        <p:txBody>
          <a:bodyPr/>
          <a:p>
            <a:fld id="{65CB674B-6B36-4663-9682-B0D0EF490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F1521557-1355-4C96-B456-79FD0372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C956F71E-A9BA-4480-A595-3BA78838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E75FACB1-81A7-4DE9-B984-B6A647B5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A0B08890-421C-4E11-AFB7-BE2DF151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450574D-B5EE-4B5C-B546-2077F3A0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6CFDD-046A-4821-8802-7B34EEB3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4978F94C-9ABD-48CD-9EDC-95232887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8D389986-4154-44E2-9B7A-FB749A40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53119270-D199-4715-B355-828630B7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ECD3310E-F3CA-4FBD-BB16-56D176B2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105B285E-FBD7-4401-BD62-B607B8EF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2947BC7D-6373-4F95-9052-BD7DF53E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9"/>
          </p:nvPr>
        </p:nvSpPr>
        <p:spPr/>
        <p:txBody>
          <a:bodyPr/>
          <a:p>
            <a:fld id="{680FF525-3CF1-4194-964D-7C1AAF40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6DEEC832-B639-4D17-8A1D-A87B7DE9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D886B8EA-185F-4FE5-8471-1EE75AC5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01DE6856-B532-4469-8E3C-F0E84644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7B274-18F2-4F71-ACD9-A652B88E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E90AF8FD-9824-4FAD-AE92-AC1E41B9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D5998BCF-660C-49DC-8307-781D8ACC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9AD5B61E-F5EF-450B-8FA4-DF255BED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E9F428D1-5EAA-4F26-A760-854BCFEA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C9EB4084-E2BF-465C-96BB-90F448C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5695CFCB-2DBF-4A33-9AE8-19A17C46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A08D2E0D-8D6B-446C-BCA1-40F5C6DC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24166264-D5A4-4962-A80D-DF8FDE25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2"/>
          </p:nvPr>
        </p:nvSpPr>
        <p:spPr/>
        <p:txBody>
          <a:bodyPr/>
          <a:p>
            <a:fld id="{BA0C8C45-5670-4E6A-AF8A-1EBD3F56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E3BA09EF-CC25-4BD2-B693-B5FC80CD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989AF5-52E4-4C77-A081-C01DB252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4F4CC348-B8DE-49F4-9635-56AD38C7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4F0CEB9D-6767-4CE8-8F99-50CD7303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256AFF38-2A60-4880-BA51-B941BF8D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C55CA33D-2C53-4BD1-9792-64909747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4FB20B7B-7A1D-42DE-A8C8-98E2E5F4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46F0087E-50E8-4AA9-B4CF-62CB8563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248AA6D0-8591-41F0-8AC7-31CDDCA5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9AB82BDD-A811-49CF-96B3-B59C901F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DB2488F9-2972-401B-B40A-3116D21A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B3B835D1-59CE-48D1-ABBD-CF1A189D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A0E3-7BD7-4DE1-8E9F-DF9E0E92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A2F9C-A5A2-4274-9CCB-8132BBC7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5"/>
          </p:nvPr>
        </p:nvSpPr>
        <p:spPr/>
        <p:txBody>
          <a:bodyPr/>
          <a:p>
            <a:fld id="{44C96F35-4E1D-46F1-BBF2-A79E15AE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F1A5080B-0FAB-41DF-A61C-E864A9CF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BA5169C3-C634-4859-AA4D-4C9B67BA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6C6B6018-D35B-4163-BBB3-BAE74CB3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8EFF035C-530B-4285-8379-DC35E471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E92DC88F-CFEA-4516-B8CB-288BDBC5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559E9544-BFFC-46AA-8B20-651B32FF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C8ED5049-95CA-44A2-9CE3-517B115B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20837644-097C-4CFC-A781-7A87A476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EA74A7D6-DA5D-4EFC-B5AA-17F3C908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437A87-5854-48FF-B806-AE8C3105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3654B1F7-D365-448B-9259-A831487A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526885A0-B7AC-432D-B114-38CD1792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8"/>
          </p:nvPr>
        </p:nvSpPr>
        <p:spPr/>
        <p:txBody>
          <a:bodyPr/>
          <a:p>
            <a:fld id="{CEE3D541-1554-4C57-915B-0DAF9F56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F088770-092F-4888-AFAA-F080FE5A4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010F0785-53F2-4E9A-9C18-6CA4D1EF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86DFB50-0645-4BEF-B0EC-4528DC80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B2DE5203-49C4-4478-8F97-581F7B3C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6F5D42D-EC15-451B-9B4E-12C710F6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5FF0AAB3-7383-4225-828F-3764747D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6B567607-66E2-429B-A145-6E44B27B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D2741-7670-4FFE-8E78-06D62EC5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8732654D-3DD0-4184-97A2-31EB819B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087C2767-18B9-48EE-8604-E0584025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D857319D-D2F4-48B8-90E7-E6E15FA4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B1B8EF67-0096-4075-9EA2-88EC8F13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1"/>
          </p:nvPr>
        </p:nvSpPr>
        <p:spPr/>
        <p:txBody>
          <a:bodyPr/>
          <a:p>
            <a:fld id="{E75A7164-8E26-4D5D-9526-3B1DAB1AF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C26EF4B4-351A-4785-9CA3-A1B17CCC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EB41D28E-E42F-4A88-99BD-A45036AD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CCE6631C-55C5-44CD-85F3-14DA5187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60D803E2-48C9-4D42-94F0-9FE1AF1B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05FCFA8F-B5FA-455A-8D0F-5268E57F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B6A3F-050C-49C3-A45C-66E2AC87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80DC4F0-2414-48A0-9598-2EEC76B9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D97CBAE0-5ACE-4AB2-9E27-0D214B17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B34C1904-1C9A-4BCB-9167-3059FE73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A2BF9AED-1078-414A-A981-273BDC6B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69470388-9BD0-460A-9B74-2DBC1A1C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39B8AEA7-CBAA-4A51-8E7B-3104FFB1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4"/>
          </p:nvPr>
        </p:nvSpPr>
        <p:spPr/>
        <p:txBody>
          <a:bodyPr/>
          <a:p>
            <a:fld id="{B3476D99-4354-40CA-8AEC-7C4A1ABF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62F9550A-27B3-46DA-8BF9-C283D14E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9780414-7BC5-40C9-8BF8-3998F60B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113FDDB0-FF39-4FF8-8F37-729742CD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73F41-8EF3-4936-B99B-2369009C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40E04298-0AD2-427B-A918-360B03AE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9C01AF88-1328-42E3-AB4D-8F8F24A1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BF47A7C7-0BE3-4512-8EBA-B275A3EA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7ED0327-4FF4-4067-A177-966E58A4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CD2258FE-7D1A-4D09-9383-A20BB0B4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D0C91790-5C3D-4882-AEA8-25361E2E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1ABCD70A-B750-4429-B8C4-137BAD60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DF7EB9F8-12AE-4EFD-9784-BCD95EF4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7"/>
          </p:nvPr>
        </p:nvSpPr>
        <p:spPr/>
        <p:txBody>
          <a:bodyPr/>
          <a:p>
            <a:fld id="{D85C8863-CAEF-4176-B06F-50755C6F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B71801B-8C30-4044-8ED6-304A708A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234999-8A3D-4E31-83B6-880C2559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909C43BC-BA5E-440B-95B3-40E8CFBA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282F78D9-24F5-4C10-AE3C-00B31F08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D5FA4C4A-7835-44A5-8A99-ACE43258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2B3A6C10-2A14-4682-B11C-641FFF55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122278A5-18E7-4AF9-977E-8A978177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49D2C970-5241-46E0-8E6A-1BA63C75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63EE1165-B422-4CFC-ADF1-0ECE61D0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DBB5B6BE-B140-40B0-8A2C-134609A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4B534286-E1CB-4B19-A1E9-53A94C81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EB25DE1D-CFB1-4AD1-9D4A-5F3D4F31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C559B-5F30-4763-85D1-04BCD5A4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0"/>
          </p:nvPr>
        </p:nvSpPr>
        <p:spPr/>
        <p:txBody>
          <a:bodyPr/>
          <a:p>
            <a:fld id="{41D995F7-8E5C-46E9-90C5-E2B2A4DA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A907BDBA-417D-429A-A5FF-3DDC1D15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3901B1A6-0364-45CD-8002-F9F6E552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74916CC7-0480-445E-B837-BB17C407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496C1E6F-F354-4ECF-BA73-5625B7B3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16D83A20-D8FE-457A-939A-23A2C3F9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F0E65D49-2694-4193-B4D9-77C9CC84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CD01834E-A139-440F-A72B-6927B235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EE32C3CF-6FF2-45C0-8BDA-65978F9E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65DC7F1B-84E7-47A2-AEB8-8BEBA41A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85D5B-B199-4546-B616-C178C761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FC6C88DC-D2B8-42F2-9311-D71DD39A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421FF687-E2B2-4E07-B28F-93476A39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3"/>
          </p:nvPr>
        </p:nvSpPr>
        <p:spPr/>
        <p:txBody>
          <a:bodyPr/>
          <a:p>
            <a:fld id="{6227C7BC-8F84-4867-AD15-509382BF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16021306-7B0D-4754-BF4B-6948131C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63AE409E-0D44-4D3E-AD9C-825402E3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9E191BD6-F742-483D-92D8-E009A811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FF4D6B59-3E8D-4C19-ADFB-E479F579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6B14A68E-A4D1-46D8-A49B-EB1F3EEF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C16CE922-8B39-4E9D-ACE5-A97A5144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FBCFD9D9-BA7F-48C7-9E28-6B2CF2FE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DFF27-C23E-4CC9-9F13-94CD566E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A4E28CAB-F919-423C-9E7E-D9C8C5E3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34D9DB83-C1B8-4295-BD8E-C8BB02C2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F704A6D0-8236-433F-8AAC-2B4C00C0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0D431E82-2C66-4ED7-B9FC-97B9C14E8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6"/>
          </p:nvPr>
        </p:nvSpPr>
        <p:spPr/>
        <p:txBody>
          <a:bodyPr/>
          <a:p>
            <a:fld id="{E01BCA74-4AB0-42CC-8D65-19DA6685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494F40FA-FC96-46D6-9A47-83DEE911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24D40EE6-7643-4C69-A139-535A771E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FCBE67C6-47DB-49C1-ACCD-3E4B10B0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4482E5D3-C56F-4292-8B15-250DCB98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5A31010-5EF0-4CA2-A12B-F498FD00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04325-36EB-46DE-945B-EA70E1F5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D8A205D3-9FCE-4A65-BD5D-7A686707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A7AB38D3-522F-4FFB-8E84-EC485677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9C8227B5-A784-4B44-A46F-D5E48018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D51B4EAE-F27E-4003-B60D-84F23E96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76B4BF4F-0FBB-4A28-BC55-0596C82A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E5233037-6BFE-46F0-B51F-E744B182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9"/>
          </p:nvPr>
        </p:nvSpPr>
        <p:spPr/>
        <p:txBody>
          <a:bodyPr/>
          <a:p>
            <a:fld id="{1F9B3408-0E72-46F0-B6B6-3A27178B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68A4BF97-2D81-45C9-96E2-242D5C1E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EFAD2783-517A-434B-A067-9016433A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E23B3A38-2012-41C8-AA15-B7065E26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0AFA-AFB0-49E3-B111-0EB18223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E13E62-AFBC-43EE-8A7E-97D6CAB2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9EF7306A-76F7-4CC2-977F-769552A8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2EF33AE4-936E-4479-9927-3C749CE4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A53441D1-D506-4922-BC22-08E02EB4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2988997A-DE7F-4C3D-B52C-7457FCF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B7154CE0-F7BD-4C54-9D69-049A209E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6F5C0F3A-9D16-41A6-B834-B34CE7F4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13E80467-8DCC-4ED5-A463-E206AC22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061ED356-0D70-4D8B-8E7A-A1381C5A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2"/>
          </p:nvPr>
        </p:nvSpPr>
        <p:spPr/>
        <p:txBody>
          <a:bodyPr/>
          <a:p>
            <a:fld id="{F6DFBA27-CA36-42BB-8AC1-E8E7C881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2952F5CA-7ECF-4805-8126-659C9B12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A2A8D-B3AC-4FF8-9E87-3DBD0883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E3B97E6C-5E70-41D1-8B8B-55FFDAC1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075B4E7-FF85-42CD-9007-8C641CC4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B9FD162E-81EE-4CC7-B1F7-B95AFC7D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1B49CBA9-0F9B-420D-8A84-2C11E4B4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A31CAA94-6103-428D-88C4-B5AB8A22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25A6E1FB-B904-4017-B1CB-5025EF52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A7FEDD5C-CB7D-4C4A-B856-222C0526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38E229BD-5843-40CE-A97E-084108FC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5A99828C-D730-477F-81A0-9845BF32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36356BD2-2E74-4E0A-8481-9CE8B058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04A035-5D03-4163-B765-CEFD2A6D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5"/>
          </p:nvPr>
        </p:nvSpPr>
        <p:spPr/>
        <p:txBody>
          <a:bodyPr/>
          <a:p>
            <a:fld id="{28B38142-18A4-47B7-8EEF-F1D4A7FC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26A3FDA2-0642-4508-AF05-1A070516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4C2D6B2D-BB61-42DD-AC76-301CA686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49307980-7785-41C2-B176-AA75C969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9A735835-F2DE-49DA-B7A8-85B4C28B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81339A04-672F-4211-97FF-C5FF489F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B646343C-60E2-4FB8-9CAD-3F7A67F0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7364225A-F25C-4AA8-ABAD-BEADD619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42C52905-CBA7-423D-80A5-873E248E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00CE11D5-2390-4563-AE67-1965BBCD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523D6-3F69-4F8F-8CD8-6ADB78D4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5A492F6B-2F6B-4824-9342-E3E54C99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15A271F5-A5D0-4EA6-B2EA-5C143704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8"/>
          </p:nvPr>
        </p:nvSpPr>
        <p:spPr/>
        <p:txBody>
          <a:bodyPr/>
          <a:p>
            <a:fld id="{C8CC9470-5CC6-4CCE-8A1C-230D09E1E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B149C3D6-8666-49E5-A5B0-95305D75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8FA34B0B-F0ED-4A69-94C4-3C000875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10A932E7-194C-4EEA-A8DA-7CDDACAF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3187EC8F-77EE-4A46-B930-04A2EECD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5F7B2262-C26E-408D-95BA-30585D3B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746B00AC-F79B-4E5E-941C-327CF363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3CF05A37-9AAB-4E3F-9E8F-161B134F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5A9A3-E734-4FB1-8840-1F4F22D2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6A8A2C85-E5C2-486C-AD98-95821F99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3018C05F-16F3-4359-AB64-BEA26F67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3E753EA6-98FE-444A-BCF1-031A2922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7670543B-5EFD-4123-9D35-DA5714FD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1"/>
          </p:nvPr>
        </p:nvSpPr>
        <p:spPr/>
        <p:txBody>
          <a:bodyPr/>
          <a:p>
            <a:fld id="{C5B2AA4D-C32D-4D98-B017-32A0145F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7734731B-D704-4207-A6BC-DF24617D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5AF873B6-48BF-4124-BCD5-DED1DF98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59A5244A-28FC-4B83-9267-578CB5AA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B7BA210D-089C-45A4-A305-3EC26CA0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4E348799-0FF7-43F2-A8F1-BEDF1E5E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AE1E7-D884-4862-A917-FFD2D26F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5D634827-FF62-472C-B7CD-F9844642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90152EF8-EC92-47E6-B342-3A99E2B3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6C8DC1E7-12BB-4844-BCAB-2F3FAC5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5C20F960-B833-4488-8B5A-C82B0147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252F9A05-94D4-45C6-9C86-BA8E55EB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6F4A68DF-309A-4CD5-8916-C72E61CB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4"/>
          </p:nvPr>
        </p:nvSpPr>
        <p:spPr/>
        <p:txBody>
          <a:bodyPr/>
          <a:p>
            <a:fld id="{0966F555-CD65-4562-A39B-DCBD1821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F512542F-9813-4F49-B555-7B6D94A7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375977F0-88CE-44C7-B9BA-0CB6161D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3DFAE80-1E7A-4CAF-BD26-824AAA4F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05DD4-40B1-4E0A-80BD-EB8EF553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58B02BEB-4850-4BCF-9803-890F0702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F4DC2C73-F821-4C6A-B9CC-93419BDA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FDCBCFA4-17AF-49AD-ADD4-69E21483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4061AB5-D3F9-4E47-8489-C67EC3C7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2C264E5-3740-409C-969B-A4C2BE13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D4E16D8C-A43F-461C-99F3-4A2BA336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7F1CBA25-A52C-43AB-A0CE-8B0FA7DA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B99FD5EC-A07B-46DE-8E97-6BE926AA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7"/>
          </p:nvPr>
        </p:nvSpPr>
        <p:spPr/>
        <p:txBody>
          <a:bodyPr/>
          <a:p>
            <a:fld id="{476AC850-987D-488C-868C-C4A55D9A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E92DE4E4-B62B-43F4-A284-6C4F40CD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0F2F4-379E-4AB2-AFEB-CB786DAF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D59A11DC-AB8D-4ABF-9DE5-F36369C7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B15E37CB-EFCA-430A-8938-505E6C1A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5A57B457-0536-43E2-AABE-6E87D310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9B4C8ED5-F785-48CE-9396-85897ACC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011F33FE-0719-4B5F-A437-0CA68BA4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3A502888-CADA-4EBF-AB4C-5803CDA5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107532F6-256C-4049-B006-39C1C157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6E3861FB-095D-4EB4-9B53-58838FF6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A0D547B4-C6D5-4642-A046-EAF25959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DD10BB73-8D38-4331-90BA-1AEDD546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A8D00-394E-4B7F-A00F-1AC309D7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0"/>
          </p:nvPr>
        </p:nvSpPr>
        <p:spPr/>
        <p:txBody>
          <a:bodyPr/>
          <a:p>
            <a:fld id="{B03CFAC5-6F99-4BEE-AEA3-760248A9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34146163-32E8-41B7-A548-657345F5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0EA9D968-0076-4E7B-AE99-833B7187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93D72685-F38A-4D10-AE15-5E80B13A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8EBAE173-F229-42CE-AD2D-7D0BB3C1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1E59F15C-94BE-4218-B4CD-EF1C4716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359C256D-8718-4B55-8AB4-95C34EB6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BBB2F27F-18DF-4EA2-8DCD-832F4F79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5C0D3F98-8008-489C-BACA-26D3ED34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B43525CB-A373-4DB3-ACD5-64A1DCBA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A728B3-F9F5-4DED-8C54-E8B4CDF6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BB850A20-7F5E-4337-8772-3407685A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F4C519CA-5D15-4947-935E-17AFCDBF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3"/>
          </p:nvPr>
        </p:nvSpPr>
        <p:spPr/>
        <p:txBody>
          <a:bodyPr/>
          <a:p>
            <a:fld id="{66B5E898-94C9-441B-B5ED-713D7C40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1ED97C3F-ADB5-47A0-AA0C-DF7DB99D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0952BE7D-6104-4627-AB2A-25DFA656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4979760-F25A-440F-8C84-A2968F04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A1D04FA0-1005-4DA7-BF81-C0BD639C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5B606133-7000-4AFC-9E0E-A37EEA46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A0B4CE1-4C51-477F-9B0F-7EBFBAD1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4DCF5930-E45A-4001-8D79-5F1A0561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4206B-B29A-4D7D-85AB-6C658AE3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7EC3B-48C4-46EC-8118-3D6A7FD3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4688EE6C-32A2-44CD-B3FC-33D1C19B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BE65420E-B512-47F8-9F26-668D3400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640F33B0-DA37-4FB5-B08F-E28DFDD4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E146CB71-33CB-4340-9E3F-2B1AF2BA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6"/>
          </p:nvPr>
        </p:nvSpPr>
        <p:spPr/>
        <p:txBody>
          <a:bodyPr/>
          <a:p>
            <a:fld id="{CA465C9C-A151-4D41-BF21-C038EF8C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FC0DA65D-62A3-46F7-A999-FC45BBC4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8BA850F5-F87D-41E5-A18B-33426E22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479DF4F8-737D-46AE-81FF-E9A3A1C8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1B78051A-73CB-418C-9B86-EE8E96A5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A529F2F7-8E18-402B-9522-938198A0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6B5BAD-89D2-479F-9CEC-E75C87A7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AC080C92-6178-4C99-A397-1885D378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4AEFDD91-0610-496E-927D-62E864FF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BA889847-A449-42D4-A71A-045EBDB3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40CA9B87-0A68-46CA-9814-5E92EFF5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C89094BE-FC80-490F-BF56-3D477C99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D93DDB4F-60A7-4FAE-962A-0B1899DA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9"/>
          </p:nvPr>
        </p:nvSpPr>
        <p:spPr/>
        <p:txBody>
          <a:bodyPr/>
          <a:p>
            <a:fld id="{9C69725C-AD19-4A7B-99F3-4C10F446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FAC9ACD3-8A06-424F-8093-BC032503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5EBE0390-6D68-4302-B108-3BBB8173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7AB2FCD3-3A8A-464A-8752-885345DE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DEEEE-4AB4-4D2F-8900-1C3201C8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48564F0-0566-4353-841F-8CF0DC05F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4CC0A457-EA61-4018-B80C-4FDB73DC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2EF5A64F-37F5-4045-B6A2-866261F3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2B5B380-9318-4A45-943F-97AF2A6F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C6890F48-DF3A-468B-9ED9-EE958916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8113E7AC-A2A0-4A02-8150-3C0A0F59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BBCABA54-6322-46D4-B0C6-DCBFD9AB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6A01800C-CCC5-461E-AABC-383840BE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2"/>
          </p:nvPr>
        </p:nvSpPr>
        <p:spPr/>
        <p:txBody>
          <a:bodyPr/>
          <a:p>
            <a:fld id="{808861C6-C51C-45EC-BFF7-854AD2E8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9B2CBB9B-0135-40D6-8891-82EC3C5E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86A8F-3703-49F0-BB87-26CEFA99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A0931E1A-C738-475E-9BFD-7793767C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B082117E-D781-4C85-ACFB-35B19914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35CC2BA1-CEB8-45DC-B4B3-310DDFA2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4BCC4C79-DE42-4432-9407-03AF22DC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D60EEF49-4B28-42D5-8F19-2CBC6C29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A3E5C812-7251-479D-A001-6EC15FE1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A10638F3-AC0D-483E-AA96-847E22B6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2A31BDB1-B65B-42D8-A253-6CACC28E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B298A68F-263C-4651-A716-8D878DB8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F2A0FBD5-9CC1-4DB7-A6DA-198591F0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06E8AD-2E14-42E8-98EA-A4C01012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5"/>
          </p:nvPr>
        </p:nvSpPr>
        <p:spPr/>
        <p:txBody>
          <a:bodyPr/>
          <a:p>
            <a:fld id="{1AE2EDE7-2E0A-4B3A-BDE8-1FA182C3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9C09DA2D-BB0D-48BE-B710-DA13BE217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0B5B9B92-65B6-4B56-9691-3E6F48C8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AC6424B0-754C-4A79-ADD9-25D25DFF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091D0BD6-791F-4CE1-ABCF-00F0536F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67CFF664-44AC-4357-8F4A-E5DF38F4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62CAC3C8-706C-41AD-A5E6-BDB2F314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2F0182B6-D920-462C-A6C2-88C40101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148A058E-B651-452B-806B-85BF761A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2FB2580F-0378-41A6-A230-ABFBF2EB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1C00E-5E73-43E3-93D3-8FDEA4BD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F6C7EC23-79B3-4102-9791-E2B25271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62DA85A3-B607-43A1-ADE6-B561F373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8"/>
          </p:nvPr>
        </p:nvSpPr>
        <p:spPr/>
        <p:txBody>
          <a:bodyPr/>
          <a:p>
            <a:fld id="{6AB1B772-9B21-431A-8A85-A5F5E298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D18529FD-E5EC-4989-95D1-3D62962F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4D4C7CA4-CDCD-401B-9798-5252DB87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C391A76A-99FC-4F8B-ABC8-170F0CBD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7D1D657F-0EF5-4624-A68D-67B70DEE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B083E3F5-050D-41B3-98E3-A47F45DC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DEA0FAE8-1906-472D-BFF9-29C69FD3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32F18F6A-3D18-4C24-8141-C93D2DA9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BDC737-D252-44A6-8645-9447EC86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64697818-6D0D-41F0-880D-1A83CC93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82F87C70-007B-426E-949C-AF70A9E2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075C75BA-465D-4460-A042-A9C85DFA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FF3FCA2C-C550-4BAB-B807-F98E02BE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1"/>
          </p:nvPr>
        </p:nvSpPr>
        <p:spPr/>
        <p:txBody>
          <a:bodyPr/>
          <a:p>
            <a:fld id="{05941A53-79DE-464D-99EF-8D66411E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FC7687A1-D56B-4CEB-96DE-C292619A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56A0EB93-352A-4625-B051-B73A69B2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A2D7E11F-9F30-4FBE-9ED3-EFA19FCA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107404FB-D024-4B65-9D6C-91AC13F4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D0981E98-A622-4BE7-9BE5-5B2127A6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E6CE4F-3200-48C7-89EC-82661A00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EBFE9FE3-B600-4C3A-9793-1492AF33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2C064FB8-308B-4B3A-9F09-45C5031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05EA44DF-5195-43DA-83EB-83082179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A917F89D-FF18-48EE-A6BD-15F6F450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CB53A575-2C23-4EFC-A085-71D1F26D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0F301A4D-FC3A-42FD-8AC2-187D14FC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4"/>
          </p:nvPr>
        </p:nvSpPr>
        <p:spPr/>
        <p:txBody>
          <a:bodyPr/>
          <a:p>
            <a:fld id="{D160F68E-01B2-4A0A-A06C-3BA4097D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FF8B3E69-5A2E-4D16-ABEF-8DB4B2F41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B199EB6B-953B-4796-BD68-16F37F88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01F54D41-E5DA-4408-9ADE-19513D4F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736A16-68B7-4D73-A20E-832112CE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A548B0EF-8D65-42F2-8E66-8F11037B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D75CD915-C4A1-49D0-863F-E3661294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E435881A-ACE6-4067-B01B-90B833DB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2466A633-A2EC-4BD7-B808-69DAFDC3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5F245297-95C7-4AFF-AF5A-99E51663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3FAEB2A4-5022-4B51-AD63-16F40EBD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2363A198-F086-446F-915C-E6CCDBB7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62083B1B-E8CD-4846-AE12-76E65EA2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7"/>
          </p:nvPr>
        </p:nvSpPr>
        <p:spPr/>
        <p:txBody>
          <a:bodyPr/>
          <a:p>
            <a:fld id="{A6D1C143-138C-4CDE-BF3B-FBD07067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4CAE7B80-688A-4024-BD82-658741BE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60D2E-0AC3-4E9D-8C18-E0AF5B4A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7702E378-5AD8-4ECF-83B1-3F0C15EF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9C50466F-F32D-4A52-BF42-AD4DCABB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FB7ADA7E-C7DD-46F7-85A2-7E552D44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F3AC8219-AE61-46F9-8BD4-8161FE50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81624784-94F8-4DAF-9C62-3FA8449D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D328F8CC-CD48-4C12-A197-F644126A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D8352FA9-B7E4-4840-B1CD-5DA52481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8380091A-8EDA-4ABF-8A55-BF0CDDD1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05502BE1-8F18-4460-AF7A-4A0198ED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4606296A-8D3C-475F-9D9E-977C8F19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AC87-F082-4095-8290-C3DD7D80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56E85F-3DC0-4DD6-858E-DC7AE047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0"/>
          </p:nvPr>
        </p:nvSpPr>
        <p:spPr/>
        <p:txBody>
          <a:bodyPr/>
          <a:p>
            <a:fld id="{617EDBBA-CD24-47CB-984B-EE3D501A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C1E6B300-7AE3-4795-9E3E-2E575BF9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F12A4A77-706F-411E-8A33-3BFA2772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757C32FC-1344-4371-828D-743AA7C0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2E2E9BEB-EAA4-47E8-881A-D78F0975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6911D338-0DC4-4CC3-85F2-5CB553D3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40CF23C2-2AA5-48BD-89D7-A8C17E2E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28EDBA96-7381-4AF5-9D01-8D171066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8C187472-DE03-4F73-8226-7F4A750A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C0A1278C-63D9-4898-8F2A-50ABD709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84CF42-8230-4F04-8776-B961DA93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8B03E1CD-3047-41B6-8CEC-A25544CE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F17606CC-9D3F-470F-B271-C3D73E62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3"/>
          </p:nvPr>
        </p:nvSpPr>
        <p:spPr/>
        <p:txBody>
          <a:bodyPr/>
          <a:p>
            <a:fld id="{17988838-CAED-43A4-8F46-C56AC044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F5DB7D-9A39-4537-9EF2-D9434D19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A99EC-17EC-4EA0-A580-02B788BE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D7CF3-6B21-4012-8227-5AA37C97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9D24F-251E-4ED4-BF6F-45AF5346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21D7EB-D025-4B41-B024-BFBAF057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BF46F-2BBE-4173-BA71-B791CEEC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48FA7-D448-4A84-BD9E-547A89CA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5C0E6-4C4F-473E-A7CD-37020711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13A2-C457-4850-976B-1034EE33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313B38-CF32-4D02-9298-EF7C8C36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E4BF46-7297-41CB-B2B9-942A1C59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86D05B-F117-410F-8FAA-F3DAE150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FBE356-0C6A-4D9D-9534-2FE17DF1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9F09D-36AB-449C-87F1-D917486F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DC01F2-2B14-4269-B33A-EA236AAE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522BA8-28E6-4E8F-86C4-07B7CACF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98D0EA-BC21-4E5C-9413-116446EF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F843E-3F7C-4638-B429-2AC0CA0E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39D69-59F1-4A70-9903-0CFECEF0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745-8394-44BC-AA66-6F6473FC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3250-7F0F-474C-9768-49C23688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F34C9-7144-4F03-8EF1-5D50FD66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C02433-022D-46C6-8CFF-BE555E9C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A9A83-8042-4557-B29E-8C9D83E5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EFB953-B09C-4033-AB4D-038794BB6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2AC11F-509F-4494-9E99-91E4FDDE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7E6E3-657A-4871-997B-A458DC4E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6A6AE4-4859-490C-A3CF-0BCF7CD4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8EEC2B-A7B2-4DC2-A627-8851E408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0A4829-8B01-46A5-8E47-C6B4CF9D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136B8B-B3C7-4100-978F-31495FDB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CD0D-CFA1-4B21-8AF9-C4F52247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691152-C6E8-4525-8271-DFEC6AFD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20A490-CE5E-4BE5-BDA6-DC932922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FA0F3B-2AD1-45E0-A20A-0FF1F927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C9B529-3E62-492B-A6DF-82EC297B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B0D856-41BA-49BB-8F43-713E2DED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2EEB81-A2E7-4723-BDB4-2E18EB0E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223E44-7B63-403F-AD63-0921BF27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2771F1-75DB-4EB9-9B69-28DDA4C9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C9DF9A-F847-4244-AEB0-7E3FAD06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C0290C-986D-44A7-867E-46C0BAE2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CD62-8DFD-4F30-BA11-332ECF49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C4C047-1010-4847-9E1E-D699FF51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3CAB66-057A-4CE6-BE1E-1B4141F0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51BD1A-9494-482D-A072-8BED98F4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95C9F-A8A6-4542-BA89-597A9A98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28CFC-7587-4ECA-B6B7-DA4260A2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3D9549-96E8-40AA-B79F-B84DC250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A9D48B-9243-4F06-B7CD-7E4A4E0D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085AF4-959E-4AAB-B399-E7316050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03035E-DCC2-44C7-98E2-9B4430AE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500772-65A0-4281-95A2-26B0DBE0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575E-28E3-41E6-8EA2-E8DCB87E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82A0A9-4D08-4734-A737-9615790D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4C70D4-510D-4928-A2F2-414B4869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00D2F5-D16D-4C5E-8B87-8F263701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BF41EC-5828-484A-BF86-90D03153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67315-CA93-43A8-9EC7-C8E122C2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787A01-058A-4D3D-AF57-FCBB399A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3099FC-DF10-4FA7-8EE4-AD9F2D64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83BD95-A9C4-4273-9113-75024AA6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142313-D943-430A-8D3E-8C0B571D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0391C4-FC17-4282-B54D-B3AB0B4A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4F09-F2B1-4F2E-B87A-951AFC29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2B3B3-8ADE-450F-87D4-18E389A3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DCD1E-5DE1-4E4D-B7B6-682BD0B7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DBBD99-19FE-4FE1-BAE8-F44B3A4F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10C1AC-6425-4075-97A2-CAADFDEE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542B12-D68E-48EA-A38D-69C437BE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B67B3F-77A1-422B-82C2-0373D442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170FAF-2450-4EE7-9722-302D9479A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FD5C4-8DEE-4ED3-B42F-614122C9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2422C9-79CE-40A1-A4D9-32507E29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AEEBAD-B29F-4BD9-B848-33AB6FBE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F09B-8340-41B4-9CD6-9FCCC1BB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F93A3D-ADFB-435E-94C2-4A703EAD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5A8DA8-0D92-480D-811E-338211BA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011F46-8D5B-47B5-9A70-DC7E302C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D9AB84-E0C8-45B0-A75F-4DEFA84F0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D77A97-C620-458C-A3F1-1875750F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D35A66-0192-4FCC-AF78-6B36268D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A4229C-E09F-4627-9D43-023B45C4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8A6A1B-3F08-421D-ADC2-E5A1463C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CCE588-97B8-420B-83FC-F3B4FA98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203D20-19E7-4623-86C2-3DF325F5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5CAF8-F251-4E46-A200-5B8C478D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B8CFBC-FF7C-4889-B9D1-2400FBAD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387741-B789-4027-A8AA-E6D8DF22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116156-33E2-48EB-B340-82ED8663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A6B2F3-0612-4A7D-9D52-BB510B0D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7DE752-6298-49F2-B029-3D9DCC938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8C70C0-E3AC-4E7B-B167-6B7C75D1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A2F9DA-D19B-4DBA-B015-5EC666EA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E25C39-ABBA-46AE-91DE-25B8A897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59CFC8-EC58-491F-A58E-3AA0D49F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DCC5F9-DB84-4FBD-84CD-0DE7CAF2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E06FB-0FDA-4B07-9FAF-DA14E6F7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7E7B84-1C9F-44EA-9D0E-7A84D418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5371EA-8A83-4E3D-B7F1-6050D69A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7C68B5-547B-4158-A809-399CAC61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0E8BB9-221C-45D2-908B-5BD011C3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6ED8E7-95F6-437A-919B-5DD086B7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B637C5-5A38-4DA0-9961-2E5DCFBE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A7C402-42F3-4759-BCA6-29C43C07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31D03D-B5D7-4A4C-82EB-A92BA7B8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8C9D86-DB3E-46B4-AD58-9821C359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25447B-3021-4330-BDC4-9A60765F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F1BC3-9B92-4A28-8D8E-BD3EAE32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6CFDCC-7031-4118-933C-6976CC85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333BE3-C856-43AD-B026-F7A5830F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F96967-A046-494D-8C18-9572259B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091431-B8D1-463E-9EB8-6306B3AA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EFFCA0-5BF9-4242-BFF7-EEA36203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501EFA-C393-4F0A-87E1-23172A70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5E8490-9F34-4865-AC58-83452FF4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E6B8F0-C463-402B-BACC-9CCFD15B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2EEBDA-E258-4814-8BAD-1759DD53C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A59A2B-39D6-4960-BE19-FB7B92E1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649E-B6E1-4403-8494-9EBF28FA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CE9BBA-16EA-420D-AAAF-C02102D4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9C4CC3-916A-439C-8EBF-6E8B1D28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877A11-A051-4343-AFC0-CD9E2C98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C5B947A-708F-42EC-9DEE-BAE13AA4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6BF6EB-7B37-4A28-8BC7-40420B92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0425E7-B054-4FD4-A3DC-6C4691AD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229EF8-E8A0-4F9E-84CF-17AED6F0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72C211-B2E4-426A-A121-4591BFB2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2FE1EE-EC1B-46A2-8E20-FD7F07BE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37E881-B6A7-4050-93F1-F11E2E03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FC6-2661-4F2D-A383-D91EA4E2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61A73-A050-4F25-A7F9-FEB582D3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EE5A88-7DE3-4DBD-84D5-A32B2F329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B43FAF-B38E-4E7D-8BE0-F94AA3B0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D4984E-38EB-4902-9B4A-296554C3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467D2B-A854-4C4A-844E-39624F16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8C4181-F0C4-411C-9B00-B044D4D5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F71D29-0AFC-4922-A345-1CEE2590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7DDAD0-665D-456A-AA22-E2F75CB6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291704-FB63-4CE3-B776-35C3A4E1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2A6E0A-AA1F-4DF0-862E-13DB53F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D2D2D0-349A-4A3D-BF25-98D9D891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8157F-0FB1-4B96-AA87-D792A248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32890A-CC76-460D-8132-44E57431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2F9ED7-C154-4F1F-8CA8-09DD74C9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14A659-AF85-499D-BFF2-EB6032E4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8C93AF-D3B5-4404-AEFD-EF4AE0A4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7057EE-BB22-4EA4-A573-B627177C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9B3685-E7CD-43C6-9E43-9D710D0F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18DA76-DA65-48D8-9B75-D91AB2AB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1C35B7-D839-4C07-A8D8-795197D1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68FF5C-30A2-4262-8385-5B75EC85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E7294D-0534-42C4-A048-A87971E2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83E0-097A-41BA-AE97-90C324EC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D0A3C3-BD9A-4F50-894E-FC530F8B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BC6473-1489-4838-B088-CCF90647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7AAFFE-9EE9-4B01-9D83-112D8555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C23E6D-DD13-4BB6-A77B-0A024C88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E47A8D-789B-420E-8719-8DC04D39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17AE24-AA19-4FFA-A540-C33FE852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D86686-68C1-4BCD-9AF9-FEDAAA8E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DDA2F6-8116-4E6D-BE74-B74FB816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50D782-BBB8-4021-8E3D-262D0906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8CB3CA-3203-4F8B-8BD8-5AACD54C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A0D85-13D6-4131-8B3F-730A6BFE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651FFE-3A9B-4B61-87B8-D076302B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C4ACD1-E852-4C03-BEF9-5BC40BD0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1CC4F3-6B80-4010-887F-C62E824D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B79564-CB94-4E13-88EB-962C09A2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F46620-DD81-4A1C-8FDE-7E2E3DB9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8BB4AF-89AC-44CA-9F87-0F1E037E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0DBC5C-3C08-4ECD-8AC6-C6CCFD27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57E177-0DDD-4CE0-8221-343539CB0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A0D9A8-9F7A-4226-9AFE-EB8A76FD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EA0A00-80A3-4B12-92A2-C554AB24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4F7C1-3145-4BCA-A964-F27A187F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88F1FA-7C25-436C-B202-71F3336D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4DDFFD-7AC1-411E-80B0-99AA9FD6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787B09-DC97-4E11-A024-B5961297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EF5517-08D1-45EE-B2A9-F02B4E03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95DA58-93B1-4415-B56D-943769C0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AD562E-3DBD-450C-B998-1D2AE135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9F54DB-89BE-41F1-A25E-DDF583BD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32F2FE-7E74-490B-81AD-846BAD8A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016933-3B30-456C-9311-D4F58EC9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9B18D6-2A16-4944-80E5-A1FA808D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5EE62-D280-4D56-804D-A75F6E7D4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2E717A-39E8-4202-8CEF-D1E5ADA8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FDB562-5B08-4ED5-ADA9-707D6EC1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B0318A-C119-4C82-B9AE-26DFEEED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F3244D-3651-4AFB-BCB0-B48816A7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03980B-2BEF-4848-9F44-68B74FEF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79A7A0-C0ED-4553-9654-B42EE356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539DDE-C72C-441E-9F0E-CBCAEF4E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B753CD-3270-47AE-B47E-72DD6B0F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93CE52-F88D-40BD-A079-6B593F3F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F1D3FC6-86E8-4B78-93FC-4BB3BFB3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D8D85-C7ED-45F3-B087-0C88BED4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D71D35-FD4C-4E8B-B7E1-608E0356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FA241D-355F-42A6-BB7D-BE3208BC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EFF42E-83E3-4BED-9B57-962B3F71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635457D-4C7F-40A5-AA30-37F0A093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487EAD-24A6-4156-9182-80A0C0D9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474018-437C-444C-AFAF-B744C75E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7A5A81-C978-47DB-BA07-C75C1E2C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799006-8494-42DE-978F-780F4D7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C75961-3AF9-4D81-AFF1-F2D4C50C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892F16-07C3-42AD-9658-FD09FA79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9CFF-8C32-4188-BC2D-8805F840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37EE7F-ABED-46A8-9467-B03C0026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25E9654-EB15-4320-9335-B3D69E3B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DADB47-F47E-4DF2-8765-9DDAA739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85D71B-982D-48E9-B013-0F611233C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B33EC2-67CC-4E8C-8B6F-8F58403C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257343-BEBE-4251-8AE0-E217B300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984CF9-F8F4-48F2-895E-BEB0E19A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B0B52E-53D3-4C0A-B43B-67A41501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9ACE76D-AE32-4953-B6CA-92038934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899A45-0A69-418C-A10B-FEEA3171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47308-D4C9-427D-B7A9-5BDBB378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CFC0E7-E688-4FC2-8B67-65D9B2A1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B5AF3DF-EA68-4999-86AE-80CD2FA6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692503-EB64-4D02-8C10-93643DC1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AB3313-16AA-4C7D-8265-BD26EDAC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E4AA58-6D89-4856-B3C6-5996BCFE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F4E6AB-0A6B-4894-888C-8BB1418B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3AD57D3-AC40-458F-89AE-E5513D42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658800-8E75-4080-BAB6-7646097D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5C16525-8938-4DF6-99F6-3B3BFB07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F7CD96-D8DA-479A-B0D4-459EF818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DEA3-7E86-4EC2-BA82-B65D9D32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3A9FDA6-A934-405B-9F25-C86A98E4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81CB24-B739-474A-8830-58EB8630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F9139F-B020-436B-AD62-219A2469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58B6C8-1D80-49EE-82B0-59BA6BE9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398566-8E8D-4200-9F17-C812217B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63F320-DAF5-4A79-8BCF-E03CEAB9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8D9AB1-B10C-4446-B321-C827D64F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04A6F7-5F9A-4A17-82ED-33D659BE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6ED9BD-7CB4-42FF-A27B-9E09D3DC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21372A-AECA-4D00-9281-98F41C33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1F5-18A5-4948-B75C-598374C4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7D9AD-7E3A-414F-B6EA-5451162A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019182-B915-4316-B3F1-C61CE6F6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BFFD17-7F9F-4488-B7F0-AAA0F5C2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5C0747-15A7-4B19-83A2-90F79043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90213C1-9768-470E-86E2-EFB86FE2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2CDC365-D962-40A3-907F-774ACA2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EE9E44-4DC1-4999-B298-5EAA34ED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B4C35E-3896-4A1C-BFA6-998CD43F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859169-F8C0-4AF8-A659-ACE7E872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7B2377-E495-438C-B824-8CB823CF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E58A40-C065-48D7-87DE-EEAFC6BF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65B81-0635-43A7-9A3F-158ED229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5A23AB-DA49-41C7-8A8A-4F099037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EBBCE1-1E7A-43F9-AAC2-F1FBA03B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26B368-1DD8-4E02-AD27-10D0101B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9DCF2D-7FE4-4E61-947E-90A1F7F9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B207345-E08C-4FE9-A9F4-193E99B7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B99DAA-D599-43B5-A6DF-5AFA8626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CD07693-4004-4E3F-921A-FED44A10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79E2305-4871-4515-A23A-132AC4B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6365378-A489-4AAE-A365-8B0CC894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410FE4-7617-40DD-AFA4-A9EB33DB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3C38D-DD0E-4E84-A875-1E6130D0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F515F91-6C73-4FDF-981C-CC82A7F9B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212547-D2A4-4196-81EA-6F6E5F6D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97D8CF-7618-4F71-A8A1-82309B64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25C5F0-19C1-47D2-A35F-A36AFC89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1FA39DD-C760-40AE-B861-2D154627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16EAD1-4E55-4B9E-A64E-4877B905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F1E276-C0D6-48F3-B2D4-90EDECAB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F1C2BC-14AA-4CD9-ACB5-0CFBAEF9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57519B-1E51-4452-8B16-856CA252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AF10E9-8C06-4C71-BF4F-9459C569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622B2-169E-44A1-B08D-404A6BE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EAA5685-3C41-4300-B0E6-B5198631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E094E28-9B6F-4563-B17F-A29C3EDD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2C4826-CFBD-4FB6-931C-F2C05DAE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E8FA42-28BC-4CF5-BB68-A9257ED1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20B94A-4EA1-421B-A1CB-6937FD8C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D60F05B-74F9-4CD9-B22B-C5D8E6FB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CC766C9-A37B-4DE7-8785-39FB6F14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735179-47FF-4C46-81E7-2E07B0D4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B35335-C291-4272-A390-6A94D89F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632579-F270-43F3-A56F-99310937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5856-99E2-4103-A363-AF19C861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838554-EB12-42BF-BDD9-4FF6FAA8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6E9A83-3034-48B5-B7C7-1BBD128B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88E6BB1-4F24-42D4-A0DE-B39B7038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6C131FD-53F5-41EE-8CEB-1ED90B18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F10C22-AEFA-400E-A470-2A565161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BFA09A5-279E-48C4-833A-706881FA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49009AF-F5C6-4C54-8C54-FD2B7354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066F2F-AC29-40C9-BF76-DCC93BE4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94A868-B227-46DF-9BBF-15988B7F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1356FD-D9DC-43B3-9B03-F9A8CFDF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593FD-49AB-4691-8FA1-290720EA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A0B118-F20F-4E00-8DDD-E9FB80D9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3F89C15-C8F3-42C0-AC43-E7C1329F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1722499-794D-4775-920B-10644EB6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FC11F2-176C-4BEE-9553-A47BEB67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DA8AF87-1EDD-4146-94A1-F85FDB2E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BD8CEA-3185-4F64-BD16-A8957CEA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9D3BA5A-9C75-410D-9891-73469F54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90EB718-0382-4C34-9EEA-60FF8C12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F5989A7-76AE-4C28-86D2-504B07E8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868FA8-DEBB-4305-BD24-D5566B64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4BD4D-CA2A-4690-8196-2BD451E9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3C9FC2A-5717-4E87-8B4B-126ECEB5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A3B411A-22A0-4FE8-8632-14475184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E19C3D1-6E45-43B1-94CA-AA08525D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946433-068F-459B-B683-7D374A16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0AF5AA-5F7B-45C1-B770-9BC691D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07D4FA-55CD-44F4-9CE5-C847554B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1555BA-A734-489A-9741-E013CDC0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FE6B697-6088-43D1-993C-E466752D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6E6730F-6D88-410E-946C-004861CA2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1CCD0D3-13A9-4447-8676-D5AECF21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97E90-54AE-4388-9C4B-2167D546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296B017-F928-4061-B1FA-B4AF971C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97E253D-2AFF-4E47-B4D6-E8F8C25A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8EBC509-00E2-4B57-AA75-37D84F34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B57906-3E9C-4D4B-92EB-5384838B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26ED4E-AC5A-47BC-8408-27513934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7879A58-4E2A-43DC-A80C-51FFAAF1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D978C58-469E-4502-B727-957B77B3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59BCB99-3274-4F65-9B6F-A2987E78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EF704A5-602B-42D1-A308-CD2CDA12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E9FA9C-34D3-496A-BE5E-B5896F40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4961A-F4A3-490B-A51B-0AF97E75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E9CBE5-5D1F-46BF-9C21-D8D92EAD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7C42ECE-1E21-449F-9529-0D573E79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BBA336F-1719-4EF5-855D-C0501B3E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F904BFC-FC4D-4E04-9892-7941DABD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9C762BA-DE13-4471-AFFA-7299BA19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F18E3B4-87CE-443B-9BA3-F6BC8806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D23D0FD-38BC-41EB-8979-AA0D14274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98D9CB-190F-4694-B3EB-2BF60CF1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3E41CF3-421A-44E4-BFD0-3F9E916B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412098-7A27-4991-AC84-84E8D0F3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2C1D0-4AD3-42CE-8A88-0170713E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79ECAD-006E-473C-8C4E-82F78BCC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E60F0ED-C466-47E9-8889-38CCA199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C87FBE-4B95-40AB-952E-E7DEC1FC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D208C1-F50E-4101-B052-3CC43FDD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5A464E-1A19-404D-A6B0-B96B4225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3CA252F-4BB7-4748-AE24-BDB16B8C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38D81D6-9C05-4537-9DDC-1F9B5C62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BABD29C-CAAD-4C2F-84CD-61F67F59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1E02ACF-2FC9-49C1-B496-88AC4FA3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AB77F6E-DDE8-4B2B-A6F9-6B8F8913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EB5-80FB-45CA-8654-02BC663F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1C806-C68F-470A-90B6-1DE5D632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6D1924-B62D-473A-9B62-81FA7C9D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6B41AAE-4088-49DA-9854-AF2A50BA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B859DD-5AA7-4D96-BA8D-7C1E61AB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140BE0-36C3-42E8-A7EE-00CB30D3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239FC67-48E3-4731-9008-65C24935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34B46E0-E939-48BB-AF7B-66E80F7E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714A3EF-5DC9-49C4-9A18-7B815D85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6F5A914-E8D1-41EA-9BB5-ECB43417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3A23BF3-7E2C-458F-AA76-C0BC7825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0B42B0C-98CE-45E5-83C0-3F5E6D18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FED64-891A-4372-BAFC-77E85D3E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01A46CE-A5BE-44C0-B507-1BDA2930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C765D9-6195-4D5C-85C9-0AB48593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126E6E4-3A7A-46D5-B33F-C38CFE4C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F47088-89A2-4DD6-A329-A8CBA8D5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643F0FB-A948-45F7-8A02-B663D30B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6AE79A2-7781-4D10-9CDF-D93E6632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8503E4D-7F36-46D7-9A74-12D8898A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A566B16-F242-48BF-B548-728A208C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1BB9151-800B-4663-B812-E6268691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66A9DA-5E8B-4495-9C16-967619B2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97FE1-964B-41F2-8054-4EA44E9C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1D187CD-05E7-4910-9D23-C932C15A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DA504AD-FDC4-4DF7-B3B1-E8772AA9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7F22CF0-F750-4E23-9C47-FCA7451A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2BAF6C8-D82D-4EEA-A455-F1CD528C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9587C14-21D4-489E-8072-763B680B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65EC74-9D88-4E44-8C75-11CFD288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C18D37-C528-4251-8870-285237B6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24193AC-5681-45F2-8D69-57CF6952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4BEB984-5CE9-4757-AAE1-A8D29500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83466A1-848E-40D4-A088-125538C1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FEB7-1C68-44F3-87A1-AFCBAB70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EB33A5D-283A-42FB-8676-FF84A714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61A3706-C495-43E0-BC45-84A6DA29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9005D1B-BB54-4F62-8E39-EEBE6135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ED5F412-87F4-4449-800A-D989ABDF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87F6BE9-7B5F-4F8D-BCF9-CB118278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BA0349F-9829-4287-9171-6BFEBECF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D32E98E-7CF5-4807-BB33-3E05F509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6EDB539-8CE4-4B6A-B60B-662EF35E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FAE8DBC-E935-4E84-B5E3-642F3BE3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352C8C7-E1CF-4B23-9F8F-5A209E70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A5E52-3DA2-4079-9822-D57A12C8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AE67498-B6F2-4CB5-9CAE-6331F470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69EAB2E-0B6B-44AD-B558-10C57F0DD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6125B04-2F88-447B-A951-FE83285A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C35099A-C6CF-45A2-B413-B6F034BC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95E6E1-C980-4FC8-A1E6-15C16331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D7182A7-E10C-492B-9D50-6418546C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6FF54F1-7DFA-4DF0-AB20-60CA1C38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50748A-EC10-4BE2-8B60-CAF4906A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4B280FE-11FF-455D-B411-1B7A8C2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AB76BB9-7B6D-40A3-925A-A68558C6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F334C-ED4E-45D0-857A-DDE06D4E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4597F99-1F3D-4394-8699-956FD7B2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E384138-EBB9-4A74-B88F-CD74836F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0ECB01C-1618-498F-9532-FF3EAFCE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B9BC404-EED5-4261-8358-A539F966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A5B7D0F-6679-4E83-B905-806800D0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4642ABA-A403-4F84-97E9-EDA20366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92C2F47-FB08-44E4-987C-FBBC5BED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F7BA83C-C6E6-4E6C-8A37-64F1F94E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A911497-3D98-4C09-BC88-41EA9FD6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A1BDF2-80E7-452F-BEC0-63F1EF92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37311-8492-4C65-964A-583514D5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3CC1E7C-1F36-493A-91FF-52F448B7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9C7AB4B-BF12-4ED0-966B-5B68147D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326DCCC-342C-453C-A15F-A9F6E827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A1D1DF8-1E7D-401C-9EE8-1A30CEDA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09B1D94-CCF6-41E1-938E-DE3E5A8E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899C3A1-54F6-42DE-BFBE-CFAF8FC8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89BABE6-EA88-4019-A57D-32FE74B3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E4AEA98-D8FE-4143-9891-1C690682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7319FE2-9FED-4441-9804-C8EC654A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1C4410-2703-42DC-93B0-51591727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015CC-40C8-4A1C-8DD1-468C2087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CC5EEB0-7A46-48F6-97E1-6DF65FE6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0E97292-7EE9-47DF-9869-B4150BB7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4641149-920C-4F0A-A88E-D910F347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0C94E31-EE39-437A-B324-86D98FB2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393E0DA-D404-48F4-B5CD-591EDE16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11BD5F2-7E2D-493B-A8DA-35B66B55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5F418CF-6D3E-4340-AC3C-5ED7085D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73F8B51-011F-49CA-A0B1-EF18DEF2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8E713D2-D928-419C-A3CE-EF18C931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3122589-484E-487E-8DD2-05E8696C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19B4B-61D5-4CA6-9D19-3F19AFEB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98FCF86-AAB6-4D34-8B94-4D380EAD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E331423-8B39-4415-B1AD-CB368535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F4025B4-DF67-4ADF-AE14-3480534C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3FF5412-A3FF-46AA-824F-7304BC00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226FECA-C160-4158-B55A-6E2C8CAB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D56FF20-E0AD-4402-87DA-F4B30E04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9714A7F-8AC8-4384-8E58-B3C6EAF6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B1A09D4-08B2-4596-B86E-92AD0F0C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5C6B8A0-4085-4FAA-9E4F-B609D0AC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E716E84-2EF8-43FA-8D01-2D71B392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031A7-BA87-4E53-A688-53DC9F03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C3C1A69-38ED-46B2-8117-49442152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7D6E6A7-B676-4F9D-BC99-ACE7CD81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B9A0466-7AF2-4ED9-B89F-6AE47EDF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AEEADA0-40D9-4508-B8A0-1A2C6A23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6C219B1-64FE-4869-BC43-63E4B12C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8579F09-9258-4ECA-9D4B-BF5F7E93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3605C30-3FF4-4891-8203-AAE6EAAA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74FBE42-71BA-40BD-9F0F-DE1765C4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482855D-2C39-44F2-9136-08AA7594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8002060-9CEA-4462-A8C3-F68F1252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A22-F0CD-4578-ABBF-E55E859D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533E6-8755-47EB-90FE-0B816180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DECE4CA-7003-4EDE-B795-82ACDD4F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12D317D-0850-4D8C-8D55-6ADB4AC5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2D45B7D-F642-402B-A325-FD31EEC8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AD1239F3-AE00-4FAE-879E-F9070851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8F68232-BCDD-4095-86C4-36CEBCD1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51B00C4-E3AE-4655-AC0B-8C81C83B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58A6963-9F1E-4562-B284-DA13A640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E8B41A7-F611-4B4D-8B2B-D9C6BCDC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7D11DC5-9FF7-4D7F-A806-046BEE5E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3586C60-1BF7-4EB5-B39E-E5A9CD61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9058A-C7F8-476D-BF49-64ED9104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A26BB5E-2628-40CC-A93C-D6E9A71A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0A83C90-255F-4861-8D5A-6D97D832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E07526B-1AA3-4FEE-AFA0-3717C04C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C0D12CB-A9DD-4536-967E-42C2E248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F39B3AC-0AEA-4656-8D11-3981C633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9F2C774-2D1F-4DB4-B150-344CE386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099611E-BAAB-4741-87FA-66F4D46D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B5CACBF-C741-43C2-9483-0A9D087C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3BBFEB4-80A6-4A8F-9382-D3D06492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1948F70-740A-4ED6-955A-38B228F4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6F9C4-177E-4F8C-A844-02461FFE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FA1959F-FD11-4AD6-A186-EC8170AF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7CE6786-1B68-48E1-B4B0-63CC3710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9B22D51-9B89-4E67-A0CF-E9F29523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9DA5EC7-3F0C-4CAE-AC4D-FBC1D751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BB2BB6-0D45-4A2C-B7CA-F98E9942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413B82B-722A-4E65-A301-35BE8EBD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3D3676A-3572-4BF7-AC23-7DE16CA6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DA76254-5BA8-423D-9DA9-9FF7DF2D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B56D17A-61C9-4CBC-B4C4-D7FC58AD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E84933C-8697-4498-A3B4-0276E81A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83D8E-3AD6-46C2-9BD6-8C5A452C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CAFED40-D425-4DF0-8DDA-35DA0BBA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C657EC4-C5F1-4B0B-BFAA-911A8B1C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15BC016-FC08-4F8D-881E-0DDAD821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08C277C-D9A6-4F9F-8C8F-B1E25C76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2B56409-E1CA-4678-976A-366A74A3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D2FAAFE-3DBD-4182-B4E1-48101A6F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AC756C3-BD30-4F79-997E-6EC273C2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6C067B0-1047-4451-B933-0C176B4A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D671C34-387D-48C6-842E-CA9F7011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C287B7F-18F5-4886-A7CA-E264531A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D805D-8676-44DD-A525-FA555101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6C2EBC4-883F-4524-8C20-1BD34906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D3B70C9-88ED-494B-9591-481A3FEA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87A99B8-E0E2-4044-8F5B-462FC033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84B7666-C4F7-44BE-8E1A-A2440071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21E24C5-C5FC-443E-802A-DDF02B2F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C79CB85-E50C-4B2E-8350-28D9BB51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D72F143-9922-423F-82D7-E7BE5B99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70C5293-D3B7-4EC3-86F1-D3F93892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EF6A3F0-4F26-4DEC-A6BE-0E19CC6C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A8735A8-E529-4BAE-ADC0-D9902A36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5FFB0-6BE2-46BC-915B-3AD15D92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1F5F1BA-136C-42AF-85A9-4DF21B57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74AFAEC-DB67-4B58-97D7-5BAD3559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D1E171F-DCC8-4D85-B796-F8386913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3AD1225-3D0F-4437-95EB-D3171B5A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F353BC8-A776-444E-A24C-E6FB2493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AC5C0B1-EB9D-41EF-B13F-C94BEC8C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8FC9284-AA9C-4D98-914E-8F42A55F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4762EEE-CE42-4932-82F4-E034A8BD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495386D-AD2B-41B8-A4A4-F6FEE30F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AD62A6E-1A86-454B-89AD-26993BAF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F66C4-DEFB-4221-929F-8567DB92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251A5D3-FC52-4328-B4DA-7C60E7AF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4423074-ED82-4208-B04E-AF937319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11CCAC9-FC84-4B16-894E-63AA302F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D2660D9-EAB7-4FA9-88BA-C0273943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ADF9DA4-8F8C-43C6-A1BD-BD3A7C8E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EF65B8D-9656-4F4F-B66E-127FA100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D3C23D0-897F-40E2-BF62-D4F837A3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24B5E9B-9681-414C-B167-DD41DB7B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0B18C6C-B3B5-49E7-84CC-17105011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B19EDE6-7F16-4EB5-9126-30A03D4D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A8634-0DD7-419D-A618-C91669D2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E97857D-D41D-4222-BCA3-8D44471C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2D827DF-2836-407F-AB5E-C2C101C9C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DB2F746-3C93-4B7F-A19A-432DB531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F8AF2CB-1F6A-4B5D-8281-AE5C37124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0849902-149D-4A11-9CBF-3BF10882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05C37C8-4A9F-4B3C-A0BD-D6BEA14B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1162D0B-30F2-4554-9640-F65C3ABF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4FCE92F-3531-41AE-AFF1-9CBD5580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3B99608-8751-4E4A-A0DA-BAE6D569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1FF7CF9-3820-46A6-8AC2-03AE261F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4B892-D64C-428D-ACEE-1D1AEE52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8CBEB16-1DF3-42F5-99E7-10C81CC5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EE82754-AEA1-4890-AB12-020EA102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B57EAC1-C139-40E5-BFDF-748B5B58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08B4CD3-F165-4F3B-A48C-EF5D9062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21CABCA-CAD9-43CE-87DF-5121FB07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1617177-9CA2-456D-991E-40D040C8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6B430C2D-F253-4E7F-A43C-605666F5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AF262D6-E27D-4946-9856-291CEAFD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DC6593A-3528-4632-A6BB-7CD6F4B3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2038CC7-A6DC-44C9-85FD-01828168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54713-6770-4F11-ABE8-6BD62CBE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292C32D-204F-42E8-9B76-E8179416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E875709-9A86-456C-BAF2-EC0AD725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72E760A-7F2B-4DFE-81CA-8F95A650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737A9AD-59D1-4CE4-BF72-27200A70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875660C-49F6-4339-A9CA-A5FFEE67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7B7DA2D-37A6-420E-8349-B7B1EDA8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8696BC9-1926-49B0-A16E-B4A4EA06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126A1DD-0997-46C2-9C39-DE6576AE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D19807C-519F-41B1-9F9B-E3686611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EB4A8F3-B8E9-484E-BF78-6BC3599C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E97-A401-4711-8A15-83C2296A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3F6E8-0526-4B27-9E0C-6976E0A6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42C60E9-4174-41C7-88EC-1701E70C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5A00A6A-346E-48A5-8C75-869C34B6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ADB0885-DFD0-404A-9E46-49F46A3A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879B52D-2C85-4B92-A25F-E0F8E11E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36214E5-AB05-4189-AAD5-13B796DD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800A152-AD4A-451F-8EDF-FE8C4416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58A21B3-2971-4DF1-A813-097A0474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9C4748F8-743C-474C-BFDD-743E0C86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9A56427-96DE-45B6-9471-833B58ED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6899EEC-7367-4A90-9740-7912729D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1FC48-B00B-4C28-AB35-3BF4D3AF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43B0507-B095-4276-97DF-229BE810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8AFEDB7-A6B6-415A-B502-435C3B10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5F92DA2-3A0D-4B09-859D-8F6DFF2C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42A3E6C-F874-4822-9ABF-82E9D467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D0AEB4C0-81D7-45E8-968D-E57829C0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99EC8BE-9908-475A-836D-D508155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B9843D8-8E91-4B7F-A0F4-AF90D56E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407173A-9559-4C33-B4BE-7E7E71BD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47E5B35E-E30E-490B-B8FB-96524428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7651C81-B1CF-4F62-91FF-310F454E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0BE21-1CB0-4D7F-B6E7-B01F9AC0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2FA501A-F793-4FB2-BCCB-5E69DE7C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CC66D30-9BF2-4F7A-950B-046ADD6C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4EF3335-2036-4398-B271-6F0E5B43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D531F41D-E3DD-431A-9BFA-C6288CEA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EFB7118-F6FA-41A3-81C1-09F06CCA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DA46538-B829-4F6F-827E-BA9AF02E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AB28C0F-23AA-4A4F-A9EF-56E309ED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C2F08BA-FF2A-424B-B2D4-759E60AC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B170799-527B-4785-B02A-C30E76B8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3E42CAD-0C6D-4368-828F-E9096879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25F52-57DA-4A50-B2F9-99A94347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B1D7641-E48E-447A-8B78-226B60CD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DEFE258-86C2-449A-A611-E512A5C2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CD404432-909B-4DB6-86A8-ECAB1B57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4EA1323-70DD-4ADA-B953-594C9778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FFFF074-0F16-4166-A319-83596B0F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BAF76FD-0965-4DDC-9086-951E2110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07E08A0-B016-4EC4-81F4-4722A7AA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74890AE-65CE-4C96-9849-AAE2043A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F0052A14-CC9C-4CC7-9E83-08B7A2B9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F39B7ED-C017-41EF-A2E4-43DCDD1A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E7E61-5E51-49B3-B925-E6A0CC89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E50F7C78-F23C-4BAC-B36C-118D7F9F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B648DF5-0CA7-42DA-AFE5-36107D48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267C3C9-E518-4D97-89E0-E1B19162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D43FD72-B941-4729-B634-68478A6E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DCCF7559-E710-4373-B17D-422E9983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A87C768-38D3-4160-9FC4-470E508E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3207791-47CE-4E48-8C0B-60FB7E53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3EAEF07A-AC29-42D0-959B-A3360808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14F0A80-6621-4392-BD06-B937F86A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F175378-7096-4875-A4BF-96C82012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DC037-C443-4AB0-8684-F41E3694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80BFED5-410E-457A-94E7-D67957D5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82042CE-1C32-4D74-B990-A95E4923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BA34679-9C2B-4A13-903A-82DE9842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1B9CA54-FB6F-413D-AC88-EF321F6B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BC5AF8F-7AD9-4C7A-8005-76C16854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1A1B645-0DB0-4085-9974-5E872C5B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6264540-E830-4B73-815B-A021B189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86FFE26-87AC-4233-93E0-546413F4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12AA529-0E96-43A0-A59F-D5BF37BA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95DB01C-F3BB-45E8-A58B-B6D3E374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C3FEA-826C-4F24-A81A-CFA649EF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579D3BC-4861-458F-9782-C834E3A1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D6C67DB-043B-49FE-86A5-4B417D36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59B746D-3B40-47A4-94CF-C8541D84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2392815C-7984-4C43-83BD-A302BF32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4ED5E34-E015-4321-A412-7D8A6A58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1222513-8C1B-4107-8A81-607D8A36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C37E7A7-34AF-4644-AD7F-57513C5B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21B639B-3188-46C8-9691-76F52A2B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CBB8EB4-432F-465B-B435-FFBB90CE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8F8B70D-AFFD-49E1-A9CC-514CE766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13563-9B66-4CC1-856E-609568C4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67C4B6D-03F1-4894-915E-FF387F7A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4796304-BCAC-4474-8755-95C0DF54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F57B91B-D523-4395-B474-7C42B4A8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FEA5171-3913-4780-9939-96DD8953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344A84E-64CE-4CF5-A0D3-677FC0C2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DD068F5-47CE-46E9-BBBA-8BD00C28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D236015F-60DC-4C43-AA0C-BB04A724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384C5E1-4859-4977-829E-4C083C27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F6D36EA-3D40-4156-ABED-5ACE26B1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F620C10A-9D9C-457A-8702-473EB7FF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BB45C-4C5F-4609-A80E-39F6A886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895EA98B-4E69-4A55-AE5F-C8DB7837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C7ECB16-1CD8-4897-A480-C43FE0B8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C72CD0A-9CC4-44AF-BC2C-6DB054C5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0779E89-A0F7-4ECC-9F2E-3C246ADF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B492A75-9B46-4090-BD4F-5EB84CCE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AAC8119-3389-4EF3-A314-6F8E0B87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AA2518A-AF07-41F5-B20F-4080ACE1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09577CB-7029-4FD0-8D0D-29002599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1BDCC01-75BB-4503-BC1E-05C74EBC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373E98E-9F68-4465-9528-DA902972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E75E2-605F-41E7-B364-337D49D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987A83F3-E332-4A61-A647-8DE428D1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3A04820-B178-4DF2-80D3-9748B4CF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161140A0-5A92-43CF-AF9C-28165D9B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BC573C1-3BA6-41C4-B1EF-D7BF086D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6189424-FFFF-40A4-A6AC-E8D260BB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CE22878-16ED-453A-943D-7404847A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D5E46601-6240-4131-9265-8A3B9486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C06AEAD-A8E8-48F8-AD89-C91ADE73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B73ECAB-8178-4A36-9BD2-51CFB9D0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27F0111-8003-48E3-A89B-E0443E9A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5E5-4A0F-4DC7-8BD5-B53645D5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6B610-1A4F-4AE1-9578-BDCAA577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1906793-177D-4FE4-B464-6A477566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8C65D85-ED3D-4984-87BC-E92CA304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8F3FBFF-E076-4203-B383-B221AB9E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24BF4F9-C39A-4387-9509-6AF5EF2E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9E509C1-F9D2-43B1-9D71-AA9AF443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5569143C-BFCA-46C2-AFC1-94065D9A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B6FF0DD-7C78-4B73-984C-C324AE0B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ACA4531-B33E-4030-9A0A-F4CA9D69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37872B8-75DB-4DE3-8C70-C2BFA139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4C85A4D-0FB0-4A20-B824-FC4CBD51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9DA63-4F9C-4A23-8552-EE32FF29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5E7B0EB-D83A-4AB3-A01A-B28EB9C3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8D0A80A-1CBB-4BD2-BEA7-C91BE3AF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0D1D4F9-DBBD-4F21-9D93-81E45E0C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9C5C026-3799-49D5-9435-750F0371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F85E53D-2C0E-4A25-8047-E1A7E458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EED048EB-4A2A-4607-BCFE-BC37236E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92A7AC6D-BAA9-4053-B9FB-F08F7E751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BEA2C25-12F5-4A99-9521-B51974C2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19FF3053-94D7-41CA-AE91-D0975E80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E2201C1-732D-4987-A806-36E5D9EF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1B76E-E661-4E5E-B263-B78818B1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8C92A530-3E64-4270-AEAC-7D2B5F66B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99138C5-3B5D-4A63-AD2F-516EBC58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692CB22-C495-4B78-8E4E-00E41ABA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219563C5-4174-4603-B0F5-D96C02A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991DE40-E020-4A86-8D38-26C98FAA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7361F09-D2FD-43B1-8188-14576AF2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4F8368C-6E32-4030-8D29-4C132521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E28EDAA-7EC4-4F6A-AD56-B37AD96D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D49A8C3E-CCE6-4EA5-8B94-1C7E33D4C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1C1C048-0E19-4F11-9E00-A7A93D57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0C766-86E9-4D88-8FE2-EA6CD619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F5FD949-084E-447A-9063-665313D3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51F69D2-F636-419E-96F4-EB54F704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9D9518EE-C348-4A5E-A9B9-66E8CE2B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A331B2A-C7F2-444B-B9C8-8795465B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A23BB0E5-0DDA-4C85-8560-4B6795A5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EDF7407-43BD-4579-BE24-4D51E9E8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BB88B39-D48C-41A6-AFE1-99F1365A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F7937A9-0F48-49A5-89AE-8D252C3C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9CDE6F8-6808-4A04-99F0-340A23C9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71DFCE0E-47D8-4D04-A9DB-9FD622B4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71411-39E0-4D90-AD73-0354253D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0E15D16-AFE9-4E52-9901-58315997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904477A-1AA2-439C-A0B0-950EBA2C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39D6000-28A9-4EF6-B91D-58B112EF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8A698D24-4C85-46D4-9C50-F209CD54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A68B382F-6E28-424B-AE91-3BBA6CC0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A929B51-A4E0-464D-8094-F023CCFE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80184DA-833B-42BB-B120-1EF0DF41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ECE7F6BB-C74F-4DA4-8C5D-C6EFEB70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DAF8206-1B80-4C80-A921-1F78EDFA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54CD394-EFE1-4252-814F-8CB9A4FC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DB30B-489C-4A6B-BDC9-276D1E11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F9ACD615-1AF6-49CE-BB4B-98A6261C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DB50A30-9B6C-4B80-830B-F5FBB1B20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CD4615C0-0127-46FA-B0DD-CFA1CF69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05AEF9F-4110-4D59-A91F-CF8EE469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32406F15-9D2F-4FB3-BCB2-A0CF9331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B730CB79-C957-4CFA-9681-4D88448E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DA304983-9DCF-4BC4-A00B-6E7F34FE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B1A19DB-6321-4882-BB39-1D605D39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E8F5911E-DFA8-4AD2-8121-1ADC71BA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4E607F7-9512-424B-BA14-AC18F406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B6510-F020-46D8-89CD-2863D5D8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C11BA682-AE61-4DA0-B670-324F6B74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26100198-665A-43A8-B599-DA3399A0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52D455EA-6D36-48CB-8BCD-ACCCCA7B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F514E1F-F0BE-49A4-B39F-064C5F92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725C32D-9432-48DF-8C10-B496843D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351FE45-A519-4B78-AE5C-B33FDCB8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552D20E-6784-4E3C-9210-76940182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82B935B-2EB2-436A-9D7C-0B81E2D6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2A765AA3-5436-4A40-AD35-68283095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AE727B6-F337-42DC-926B-50567233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73000-A8C7-4830-919D-C59519AD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8F7FA1D-BFE5-4A5B-88B2-51FC061E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3265430-9F87-428B-B0C2-10B90E91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1D5491D-4C5A-42E5-8091-932F33A4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49D35C2-2365-4980-918C-639F1A0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FC18A32-0FDA-4CB5-BF7C-609AA961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BDB5972-7B38-4DA6-A2DA-22FE4F2E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FB4CA14-7D19-4F06-A453-24D7BB8C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AF835CF-06BE-42E7-956C-C0F346D7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ADF140E-71DE-4D86-AB3B-B2C3AC4C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D0516BE-38E4-4B2C-8AA2-8D2C9836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B4566-CF4F-4854-9782-959355D1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FF5C4C7E-A975-44D6-B873-EF79B012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23CFD51-9649-49FB-8A6B-2D8616AF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C4B21A0-59DB-4126-AB77-BEC3BB36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99EF5F7-C8A1-4873-83D8-2A6F09B7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CED4706-A99C-4985-AB06-A1EE60F2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D40F30E-C92A-4528-AF3B-1A3AA5D6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EC9ED51-DE73-47CD-B034-C531242C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5696DC0-A600-4CFB-9F92-D64D562E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2015F37-31FF-42FE-A653-B48421B1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37CFCC7-F732-4BDA-81C6-779DA983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7DD26-A685-430C-BEA1-A6B461EC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6997BF9-96E5-47EC-913A-0CCA1755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473FD496-E695-4318-BAF2-6A4A40CA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ECD71A1-F305-45B3-9E6A-21E1C550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03958F3-C3F2-4F50-A1A5-08F8A695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53F02EB9-683B-4D57-8DFB-D11846C5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0D72E1F-89FA-4821-BB42-1CF97537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7AA7469-C66E-4450-A662-F9E83A2F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A35A8DB-05DA-4676-9FD0-1A0F9039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3B981170-363A-4104-917F-BCA3FB67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4D76561-9940-476A-A9EA-9F2B07CB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884-B718-4FD6-BFBD-AC1D9E2D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5997B-E587-4B51-B83F-C7005030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FD94BDB-C2B6-48FE-B2A5-9AA9F447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84C7D4E-A77E-44CE-9CE8-0AD94FDE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E1527D11-CC01-4FD6-A389-6DDC8D1C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B039FFA-1AAC-407A-97A8-8D006BE4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195F672-5CE9-47C7-9375-85AE41CE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8608351-5F6E-43A8-98A5-A3FE0949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8635434-3A16-4E07-B3C8-D4EB6E2A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3F7B5FDA-C8FB-4BA9-B286-EB0B7888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08C9B50-BCDE-472D-8577-7E320353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635E2EF-C632-43C7-AF07-85627618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C8EC2-589F-411B-BFFF-B9680A4B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F46D2E7-E51E-4C5A-B5E8-27833C05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567F8B2F-2733-48E3-A576-E0183C48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963F21D-F695-45BB-AB3F-4034CEB9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E573427-19F3-4758-8343-59AB1F5F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24B4308-A56E-4627-8420-B73BF8A3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85123756-BCCF-42A3-A00C-46DB3556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DEAA6C44-1BA8-4471-B37A-D24232F1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DA503AA-47D5-4F8D-9F98-FCAF6F76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D6D610E-3392-4F30-BEF7-5D1C8F49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AAFAA0EA-CC77-451D-AD7B-AD24D3C9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A601D-FD03-4938-8CDE-B091FEFF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D9E66BA-573C-45C8-8832-BD340117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98D8919E-1FDE-44A6-8B74-34F802E5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E25E2763-9652-4096-8EA2-2EFFB7F9E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C22E8905-4416-4312-8181-08883844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02E68154-21E8-45BB-87B1-B1C09D7B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7815C1F-7045-4A6F-926F-8A722AE0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E0B6C86-B220-42F9-84D6-BA7E047C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B664478-CCB7-49F5-8C03-36B4702D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CBCED8B-5BE4-4245-8737-4F0AAB75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D60464DA-7502-400D-BE1B-B28D643F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A5DEC-51C1-4E93-A39B-181FA461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38761CA8-5626-466C-82F0-3E510D16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B82572FD-6C2D-46BB-8449-1429BF1C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A8041A59-E1D4-4053-9DEF-5D891F6E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D213EBF-1099-4710-A9C1-0FF1678E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7EC84091-92D6-416E-8753-7DCA91A7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D646A24-F010-4FB7-A838-18D0E9E7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96522E0-0EBB-4865-936F-938A7426A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32CEA6E-4702-45CD-B410-57021F1C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848DA14-9045-4377-9469-B3EA8FC8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1CA964E-951F-4C20-BEFF-826EE207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E775B-81C6-46AD-8A9E-E712E17F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F99A16E-EF80-4212-9656-2AFE576B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D4E13AF6-8157-491A-A5F5-AB62A11E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1A717B3-1F92-4EEF-8342-0EB6DB50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913CD88F-735D-4901-8261-5A4EF8C8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24B419D1-34AD-4B7E-A0AE-A7E3F4ED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E6A3DABD-3263-41CB-A93A-F10714EF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462F238-AD3D-440B-AE00-C8F5F5D4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DB0FBE1-4DA9-4CD1-B6E1-655F1F099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CE48599-DAFB-4733-8061-D1889798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7B5EA40-CC6A-4F3D-B698-B364E7F4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E1C80-0146-466C-8545-F57323E1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1A31DCD-E259-462D-9C24-3DA73ADF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1E1B67E-39DA-4ECE-8B2F-8B4A4389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990F4D4-21A3-40BE-A74D-4E792110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A1C42C9-93B6-4E7E-9513-A731111D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27EB813-C9D3-406B-AC93-C182F1F6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B98C1AD-594C-44BA-B64D-C422B089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38B6AD5-3B8D-413A-97DD-E413DB86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F110DD15-05B4-424C-8254-5AD56AF5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7B997C8F-FCD6-406C-B690-0D2D0224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9D785D45-BC60-49B7-8CAD-CB555A65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4343D-C510-4005-9968-520C702D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42B997B-98D3-4EC5-ADD8-C6B7216D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2B71C37-5201-4C0A-9467-D5778644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76276574-78FC-482A-BCAC-37EF045D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986587C-78EF-45A3-ADA1-9DC947FE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9250CBB-5BAA-4269-B7C1-D543D2FE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BC49D16-5279-4375-956E-D3003F7A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9CE8D85-71D0-459C-A75C-83FD7892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98DE366-26D5-40E6-9693-D8F6A419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2719DBB-4A0D-408A-9E58-C65E620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20436C3-6240-4B7A-9E4F-7830F9C0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D71B0-B0F0-4D78-9389-CBA06288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BF4ED3C-DD77-4E1F-BB1C-53AD16C2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3429C204-1B14-4C9F-BE79-5687E190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D5861DAC-8550-4499-A428-5F35E494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8175FE0-893C-4278-848E-31483CFD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F475238-3AC5-4CC3-A350-31202FE9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6A21069-8F48-4615-B933-C19BF556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56CBA0B-A371-4764-B9C8-7B5A4ACF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6C16677-8ADE-465E-BC26-7EE20D7C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39FB300-8FDB-47DC-A58E-304E02E6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8BFA232-A5D2-46D4-A096-AEBC11C6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A49EE-5CFE-430D-9698-B1F060A0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7BA0A391-CEDC-4E48-AC29-7C0501A4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D4AAAC18-BDC7-4F99-87EB-94D96027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12FEFB06-71B8-473A-8C60-961B5DC8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A9C8B288-811F-4DAE-9B54-B9CBCEA4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A971791-F26F-4B98-928B-2A500FAE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89D43BC-C3AE-457D-8132-0FD5689C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D54E7D1-1791-4857-A707-5B4AC6BF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131C1DE-B766-422D-819E-EB07AB2F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32C1CBE-8F50-4822-AFB1-01D2A1DA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45E62AE-A321-4EEA-B5A2-C5448596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8CEAE-BB00-4786-9E4E-FF564408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4677823-D1F8-46A9-8CDC-41DDD6E5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03C03B1-02CD-42C4-B422-49126E13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5A0CB9A-9CBF-4EF9-AA37-CD051AF2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B7DA843F-996A-4EB0-A97F-80BFA1E4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108F544-BE15-4BA0-A51E-90093E0F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D8AD53A-363B-4260-8C9A-FA0DF6E4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8C47500-3EEA-45DA-A71C-BA4CACF1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D463BEC-B1A0-4D82-A611-26FA4596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91DB902-F8B0-4461-B063-59BDB0DD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66BB8C6-5A65-4F82-8A92-0BCE74EA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6876-CD05-4ADF-BC88-36CE52CD5AA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349D-82B2-4CE4-BD20-69DCA19482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8" name="PlaceHolder 3"/>
          <p:cNvSpPr>
            <a:spLocks noGrp="1"/>
          </p:cNvSpPr>
          <p:nvPr>
            <p:ph type="dt" idx="29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9" name="PlaceHolder 4"/>
          <p:cNvSpPr>
            <a:spLocks noGrp="1"/>
          </p:cNvSpPr>
          <p:nvPr>
            <p:ph type="ftr" idx="29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0" name="PlaceHolder 5"/>
          <p:cNvSpPr>
            <a:spLocks noGrp="1"/>
          </p:cNvSpPr>
          <p:nvPr>
            <p:ph type="sldNum" idx="30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6B58-1440-4845-A200-33BEC2A24B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 type="dt" idx="30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 type="ftr" idx="30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PlaceHolder 5"/>
          <p:cNvSpPr>
            <a:spLocks noGrp="1"/>
          </p:cNvSpPr>
          <p:nvPr>
            <p:ph type="sldNum" idx="30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BB03-A816-44D6-BEDC-305B045CC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8" name="Group 2"/>
          <p:cNvGrpSpPr/>
          <p:nvPr/>
        </p:nvGrpSpPr>
        <p:grpSpPr>
          <a:xfrm>
            <a:off x="0" y="0"/>
            <a:ext cx="9129600" cy="6842160"/>
            <a:chOff x="0" y="0"/>
            <a:chExt cx="9129600" cy="6842160"/>
          </a:xfrm>
        </p:grpSpPr>
        <p:grpSp>
          <p:nvGrpSpPr>
            <p:cNvPr id="4199" name="Group 3"/>
            <p:cNvGrpSpPr/>
            <p:nvPr/>
          </p:nvGrpSpPr>
          <p:grpSpPr>
            <a:xfrm>
              <a:off x="0" y="0"/>
              <a:ext cx="9129600" cy="6842160"/>
              <a:chOff x="0" y="0"/>
              <a:chExt cx="9129600" cy="6842160"/>
            </a:xfrm>
          </p:grpSpPr>
          <p:sp>
            <p:nvSpPr>
              <p:cNvPr id="4200" name="Line 4"/>
              <p:cNvSpPr/>
              <p:nvPr/>
            </p:nvSpPr>
            <p:spPr>
              <a:xfrm>
                <a:off x="0" y="26208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5"/>
              <p:cNvSpPr/>
              <p:nvPr/>
            </p:nvSpPr>
            <p:spPr>
              <a:xfrm>
                <a:off x="0" y="7412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6"/>
              <p:cNvSpPr/>
              <p:nvPr/>
            </p:nvSpPr>
            <p:spPr>
              <a:xfrm>
                <a:off x="0" y="12207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Line 7"/>
              <p:cNvSpPr/>
              <p:nvPr/>
            </p:nvSpPr>
            <p:spPr>
              <a:xfrm>
                <a:off x="0" y="17017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8"/>
              <p:cNvSpPr/>
              <p:nvPr/>
            </p:nvSpPr>
            <p:spPr>
              <a:xfrm>
                <a:off x="0" y="21812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9"/>
              <p:cNvSpPr/>
              <p:nvPr/>
            </p:nvSpPr>
            <p:spPr>
              <a:xfrm>
                <a:off x="0" y="26607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0"/>
              <p:cNvSpPr/>
              <p:nvPr/>
            </p:nvSpPr>
            <p:spPr>
              <a:xfrm>
                <a:off x="0" y="31399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Line 11"/>
              <p:cNvSpPr/>
              <p:nvPr/>
            </p:nvSpPr>
            <p:spPr>
              <a:xfrm>
                <a:off x="0" y="36194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2"/>
              <p:cNvSpPr/>
              <p:nvPr/>
            </p:nvSpPr>
            <p:spPr>
              <a:xfrm>
                <a:off x="0" y="40989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3"/>
              <p:cNvSpPr/>
              <p:nvPr/>
            </p:nvSpPr>
            <p:spPr>
              <a:xfrm>
                <a:off x="0" y="45799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Line 14"/>
              <p:cNvSpPr/>
              <p:nvPr/>
            </p:nvSpPr>
            <p:spPr>
              <a:xfrm>
                <a:off x="0" y="50594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"/>
              <p:cNvSpPr/>
              <p:nvPr/>
            </p:nvSpPr>
            <p:spPr>
              <a:xfrm>
                <a:off x="0" y="55389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6"/>
              <p:cNvSpPr/>
              <p:nvPr/>
            </p:nvSpPr>
            <p:spPr>
              <a:xfrm>
                <a:off x="0" y="60181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7"/>
              <p:cNvSpPr/>
              <p:nvPr/>
            </p:nvSpPr>
            <p:spPr>
              <a:xfrm>
                <a:off x="0" y="64976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Line 18"/>
              <p:cNvSpPr/>
              <p:nvPr/>
            </p:nvSpPr>
            <p:spPr>
              <a:xfrm>
                <a:off x="885672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9"/>
              <p:cNvSpPr/>
              <p:nvPr/>
            </p:nvSpPr>
            <p:spPr>
              <a:xfrm>
                <a:off x="845028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20"/>
              <p:cNvSpPr/>
              <p:nvPr/>
            </p:nvSpPr>
            <p:spPr>
              <a:xfrm>
                <a:off x="804240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21"/>
              <p:cNvSpPr/>
              <p:nvPr/>
            </p:nvSpPr>
            <p:spPr>
              <a:xfrm>
                <a:off x="763596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8" name="Group 22"/>
              <p:cNvGrpSpPr/>
              <p:nvPr/>
            </p:nvGrpSpPr>
            <p:grpSpPr>
              <a:xfrm>
                <a:off x="307800" y="0"/>
                <a:ext cx="6919920" cy="6842160"/>
                <a:chOff x="307800" y="0"/>
                <a:chExt cx="6919920" cy="6842160"/>
              </a:xfrm>
            </p:grpSpPr>
            <p:sp>
              <p:nvSpPr>
                <p:cNvPr id="4219" name="Line 23"/>
                <p:cNvSpPr/>
                <p:nvPr/>
              </p:nvSpPr>
              <p:spPr>
                <a:xfrm>
                  <a:off x="72277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0" name="Line 24"/>
                <p:cNvSpPr/>
                <p:nvPr/>
              </p:nvSpPr>
              <p:spPr>
                <a:xfrm>
                  <a:off x="68216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1" name="Line 25"/>
                <p:cNvSpPr/>
                <p:nvPr/>
              </p:nvSpPr>
              <p:spPr>
                <a:xfrm>
                  <a:off x="64134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2" name="Line 26"/>
                <p:cNvSpPr/>
                <p:nvPr/>
              </p:nvSpPr>
              <p:spPr>
                <a:xfrm>
                  <a:off x="600696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3" name="Line 27"/>
                <p:cNvSpPr/>
                <p:nvPr/>
              </p:nvSpPr>
              <p:spPr>
                <a:xfrm>
                  <a:off x="55990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4" name="Line 28"/>
                <p:cNvSpPr/>
                <p:nvPr/>
              </p:nvSpPr>
              <p:spPr>
                <a:xfrm>
                  <a:off x="51926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5" name="Line 29"/>
                <p:cNvSpPr/>
                <p:nvPr/>
              </p:nvSpPr>
              <p:spPr>
                <a:xfrm>
                  <a:off x="478476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6" name="Line 30"/>
                <p:cNvSpPr/>
                <p:nvPr/>
              </p:nvSpPr>
              <p:spPr>
                <a:xfrm>
                  <a:off x="43783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7" name="Line 31"/>
                <p:cNvSpPr/>
                <p:nvPr/>
              </p:nvSpPr>
              <p:spPr>
                <a:xfrm>
                  <a:off x="39704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8" name="Line 32"/>
                <p:cNvSpPr/>
                <p:nvPr/>
              </p:nvSpPr>
              <p:spPr>
                <a:xfrm>
                  <a:off x="35640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9" name="Line 33"/>
                <p:cNvSpPr/>
                <p:nvPr/>
              </p:nvSpPr>
              <p:spPr>
                <a:xfrm>
                  <a:off x="31561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0" name="Line 34"/>
                <p:cNvSpPr/>
                <p:nvPr/>
              </p:nvSpPr>
              <p:spPr>
                <a:xfrm>
                  <a:off x="27496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1" name="Line 35"/>
                <p:cNvSpPr/>
                <p:nvPr/>
              </p:nvSpPr>
              <p:spPr>
                <a:xfrm>
                  <a:off x="23432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2" name="Line 36"/>
                <p:cNvSpPr/>
                <p:nvPr/>
              </p:nvSpPr>
              <p:spPr>
                <a:xfrm>
                  <a:off x="19368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3" name="Line 37"/>
                <p:cNvSpPr/>
                <p:nvPr/>
              </p:nvSpPr>
              <p:spPr>
                <a:xfrm>
                  <a:off x="15289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4" name="Line 38"/>
                <p:cNvSpPr/>
                <p:nvPr/>
              </p:nvSpPr>
              <p:spPr>
                <a:xfrm>
                  <a:off x="11224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5" name="Line 39"/>
                <p:cNvSpPr/>
                <p:nvPr/>
              </p:nvSpPr>
              <p:spPr>
                <a:xfrm>
                  <a:off x="7142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6" name="Line 40"/>
                <p:cNvSpPr/>
                <p:nvPr/>
              </p:nvSpPr>
              <p:spPr>
                <a:xfrm>
                  <a:off x="3078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37" name="Group 41"/>
            <p:cNvGrpSpPr/>
            <p:nvPr/>
          </p:nvGrpSpPr>
          <p:grpSpPr>
            <a:xfrm>
              <a:off x="7223040" y="258840"/>
              <a:ext cx="1636920" cy="6243480"/>
              <a:chOff x="7223040" y="258840"/>
              <a:chExt cx="1636920" cy="6243480"/>
            </a:xfrm>
          </p:grpSpPr>
          <p:sp>
            <p:nvSpPr>
              <p:cNvPr id="4238" name="Rectangle 42"/>
              <p:cNvSpPr/>
              <p:nvPr/>
            </p:nvSpPr>
            <p:spPr>
              <a:xfrm>
                <a:off x="8035920" y="601668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Rectangle 43"/>
              <p:cNvSpPr/>
              <p:nvPr/>
            </p:nvSpPr>
            <p:spPr>
              <a:xfrm>
                <a:off x="8443800" y="553572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Rectangle 44"/>
              <p:cNvSpPr/>
              <p:nvPr/>
            </p:nvSpPr>
            <p:spPr>
              <a:xfrm>
                <a:off x="8035920" y="55357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Rectangle 45"/>
              <p:cNvSpPr/>
              <p:nvPr/>
            </p:nvSpPr>
            <p:spPr>
              <a:xfrm>
                <a:off x="8443800" y="4576680"/>
                <a:ext cx="416160" cy="48600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Rectangle 46"/>
              <p:cNvSpPr/>
              <p:nvPr/>
            </p:nvSpPr>
            <p:spPr>
              <a:xfrm>
                <a:off x="8407440" y="4095720"/>
                <a:ext cx="45252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Rectangle 47"/>
              <p:cNvSpPr/>
              <p:nvPr/>
            </p:nvSpPr>
            <p:spPr>
              <a:xfrm>
                <a:off x="8035920" y="40957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Rectangle 48"/>
              <p:cNvSpPr/>
              <p:nvPr/>
            </p:nvSpPr>
            <p:spPr>
              <a:xfrm>
                <a:off x="8443800" y="361800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Rectangle 49"/>
              <p:cNvSpPr/>
              <p:nvPr/>
            </p:nvSpPr>
            <p:spPr>
              <a:xfrm>
                <a:off x="8035920" y="313704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Rectangle 50"/>
              <p:cNvSpPr/>
              <p:nvPr/>
            </p:nvSpPr>
            <p:spPr>
              <a:xfrm>
                <a:off x="8035920" y="26575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Rectangle 51"/>
              <p:cNvSpPr/>
              <p:nvPr/>
            </p:nvSpPr>
            <p:spPr>
              <a:xfrm>
                <a:off x="8443800" y="2178000"/>
                <a:ext cx="416160" cy="48600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Rectangle 52"/>
              <p:cNvSpPr/>
              <p:nvPr/>
            </p:nvSpPr>
            <p:spPr>
              <a:xfrm>
                <a:off x="8443800" y="170028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Rectangle 53"/>
              <p:cNvSpPr/>
              <p:nvPr/>
            </p:nvSpPr>
            <p:spPr>
              <a:xfrm>
                <a:off x="8035920" y="170028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Rectangle 54"/>
              <p:cNvSpPr/>
              <p:nvPr/>
            </p:nvSpPr>
            <p:spPr>
              <a:xfrm>
                <a:off x="7631280" y="12193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Rectangle 55"/>
              <p:cNvSpPr/>
              <p:nvPr/>
            </p:nvSpPr>
            <p:spPr>
              <a:xfrm>
                <a:off x="8443800" y="73980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Rectangle 56"/>
              <p:cNvSpPr/>
              <p:nvPr/>
            </p:nvSpPr>
            <p:spPr>
              <a:xfrm>
                <a:off x="7223040" y="73980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Rectangle 57"/>
              <p:cNvSpPr/>
              <p:nvPr/>
            </p:nvSpPr>
            <p:spPr>
              <a:xfrm>
                <a:off x="8443800" y="25884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Rectangle 58"/>
              <p:cNvSpPr/>
              <p:nvPr/>
            </p:nvSpPr>
            <p:spPr>
              <a:xfrm>
                <a:off x="8035920" y="258840"/>
                <a:ext cx="41112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 type="dt" idx="30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 type="ftr" idx="305"/>
          </p:nvPr>
        </p:nvSpPr>
        <p:spPr>
          <a:xfrm>
            <a:off x="2590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PlaceHolder 5"/>
          <p:cNvSpPr>
            <a:spLocks noGrp="1"/>
          </p:cNvSpPr>
          <p:nvPr>
            <p:ph type="sldNum" idx="30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5A77-170E-45D6-8DB0-9691C48FA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 type="dt" idx="307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 type="ftr" idx="308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PlaceHolder 5"/>
          <p:cNvSpPr>
            <a:spLocks noGrp="1"/>
          </p:cNvSpPr>
          <p:nvPr>
            <p:ph type="sldNum" idx="309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E5A6-10FA-48BE-8A2D-BBC23900D4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 type="dt" idx="310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 type="ftr" idx="311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1" name="PlaceHolder 5"/>
          <p:cNvSpPr>
            <a:spLocks noGrp="1"/>
          </p:cNvSpPr>
          <p:nvPr>
            <p:ph type="sldNum" idx="312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8E38-7E70-44C1-8E68-DC584AF575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0" name="PlaceHolder 3"/>
          <p:cNvSpPr>
            <a:spLocks noGrp="1"/>
          </p:cNvSpPr>
          <p:nvPr>
            <p:ph type="dt" idx="31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1" name="PlaceHolder 4"/>
          <p:cNvSpPr>
            <a:spLocks noGrp="1"/>
          </p:cNvSpPr>
          <p:nvPr>
            <p:ph type="ftr" idx="314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2" name="PlaceHolder 5"/>
          <p:cNvSpPr>
            <a:spLocks noGrp="1"/>
          </p:cNvSpPr>
          <p:nvPr>
            <p:ph type="sldNum" idx="315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12B2-A0D1-4234-8C5A-4535B7BE9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 type="dt" idx="316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2" name="PlaceHolder 4"/>
          <p:cNvSpPr>
            <a:spLocks noGrp="1"/>
          </p:cNvSpPr>
          <p:nvPr>
            <p:ph type="ftr" idx="317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3" name="PlaceHolder 5"/>
          <p:cNvSpPr>
            <a:spLocks noGrp="1"/>
          </p:cNvSpPr>
          <p:nvPr>
            <p:ph type="sldNum" idx="318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4638-91B4-47FF-89D1-C432072A01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61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2" name="PlaceHolder 3"/>
          <p:cNvSpPr>
            <a:spLocks noGrp="1"/>
          </p:cNvSpPr>
          <p:nvPr>
            <p:ph type="dt" idx="319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3" name="PlaceHolder 4"/>
          <p:cNvSpPr>
            <a:spLocks noGrp="1"/>
          </p:cNvSpPr>
          <p:nvPr>
            <p:ph type="ftr" idx="320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4" name="PlaceHolder 5"/>
          <p:cNvSpPr>
            <a:spLocks noGrp="1"/>
          </p:cNvSpPr>
          <p:nvPr>
            <p:ph type="sldNum" idx="321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5DF1-A2BE-41D1-8742-428B58D1A1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3" name="PlaceHolder 3"/>
          <p:cNvSpPr>
            <a:spLocks noGrp="1"/>
          </p:cNvSpPr>
          <p:nvPr>
            <p:ph type="dt" idx="322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4" name="PlaceHolder 4"/>
          <p:cNvSpPr>
            <a:spLocks noGrp="1"/>
          </p:cNvSpPr>
          <p:nvPr>
            <p:ph type="ftr" idx="323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5" name="PlaceHolder 5"/>
          <p:cNvSpPr>
            <a:spLocks noGrp="1"/>
          </p:cNvSpPr>
          <p:nvPr>
            <p:ph type="sldNum" idx="324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D312-665E-4830-9C7C-A7AB4B0730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43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4" name="PlaceHolder 3"/>
          <p:cNvSpPr>
            <a:spLocks noGrp="1"/>
          </p:cNvSpPr>
          <p:nvPr>
            <p:ph type="dt" idx="32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5" name="PlaceHolder 4"/>
          <p:cNvSpPr>
            <a:spLocks noGrp="1"/>
          </p:cNvSpPr>
          <p:nvPr>
            <p:ph type="ftr" idx="326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6" name="PlaceHolder 5"/>
          <p:cNvSpPr>
            <a:spLocks noGrp="1"/>
          </p:cNvSpPr>
          <p:nvPr>
            <p:ph type="sldNum" idx="327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1C16-4316-43C5-A275-9D9CB9D50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3020-F1F7-4677-95FE-85D9BF76C0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 type="dt" idx="328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6" name="PlaceHolder 4"/>
          <p:cNvSpPr>
            <a:spLocks noGrp="1"/>
          </p:cNvSpPr>
          <p:nvPr>
            <p:ph type="ftr" idx="329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7" name="PlaceHolder 5"/>
          <p:cNvSpPr>
            <a:spLocks noGrp="1"/>
          </p:cNvSpPr>
          <p:nvPr>
            <p:ph type="sldNum" idx="330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68A0-3574-45B2-A6B8-3DBA66856F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6" name="PlaceHolder 3"/>
          <p:cNvSpPr>
            <a:spLocks noGrp="1"/>
          </p:cNvSpPr>
          <p:nvPr>
            <p:ph type="dt" idx="33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7" name="PlaceHolder 4"/>
          <p:cNvSpPr>
            <a:spLocks noGrp="1"/>
          </p:cNvSpPr>
          <p:nvPr>
            <p:ph type="ftr" idx="332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8" name="PlaceHolder 5"/>
          <p:cNvSpPr>
            <a:spLocks noGrp="1"/>
          </p:cNvSpPr>
          <p:nvPr>
            <p:ph type="sldNum" idx="333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F8D5-373C-4029-8556-DC2AB95778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66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7" name="PlaceHolder 3"/>
          <p:cNvSpPr>
            <a:spLocks noGrp="1"/>
          </p:cNvSpPr>
          <p:nvPr>
            <p:ph type="dt" idx="33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8" name="PlaceHolder 4"/>
          <p:cNvSpPr>
            <a:spLocks noGrp="1"/>
          </p:cNvSpPr>
          <p:nvPr>
            <p:ph type="ftr" idx="335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9" name="PlaceHolder 5"/>
          <p:cNvSpPr>
            <a:spLocks noGrp="1"/>
          </p:cNvSpPr>
          <p:nvPr>
            <p:ph type="sldNum" idx="336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3D32-AB9C-47E6-B043-F33F96E2F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8" name="PlaceHolder 3"/>
          <p:cNvSpPr>
            <a:spLocks noGrp="1"/>
          </p:cNvSpPr>
          <p:nvPr>
            <p:ph type="dt" idx="3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9" name="PlaceHolder 4"/>
          <p:cNvSpPr>
            <a:spLocks noGrp="1"/>
          </p:cNvSpPr>
          <p:nvPr>
            <p:ph type="ftr" idx="3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0" name="PlaceHolder 5"/>
          <p:cNvSpPr>
            <a:spLocks noGrp="1"/>
          </p:cNvSpPr>
          <p:nvPr>
            <p:ph type="sldNum" idx="3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CEBD-C741-4A8B-814A-BBDAECACF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9" name="PlaceHolder 3"/>
          <p:cNvSpPr>
            <a:spLocks noGrp="1"/>
          </p:cNvSpPr>
          <p:nvPr>
            <p:ph type="dt" idx="3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0" name="PlaceHolder 4"/>
          <p:cNvSpPr>
            <a:spLocks noGrp="1"/>
          </p:cNvSpPr>
          <p:nvPr>
            <p:ph type="ftr" idx="3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1" name="PlaceHolder 5"/>
          <p:cNvSpPr>
            <a:spLocks noGrp="1"/>
          </p:cNvSpPr>
          <p:nvPr>
            <p:ph type="sldNum" idx="3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AF27-5AF5-43B7-AB24-3AC34543A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0" name="PlaceHolder 3"/>
          <p:cNvSpPr>
            <a:spLocks noGrp="1"/>
          </p:cNvSpPr>
          <p:nvPr>
            <p:ph type="dt" idx="3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1" name="PlaceHolder 4"/>
          <p:cNvSpPr>
            <a:spLocks noGrp="1"/>
          </p:cNvSpPr>
          <p:nvPr>
            <p:ph type="ftr" idx="3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2" name="PlaceHolder 5"/>
          <p:cNvSpPr>
            <a:spLocks noGrp="1"/>
          </p:cNvSpPr>
          <p:nvPr>
            <p:ph type="sldNum" idx="3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4EF3-BDA4-44F4-A54F-D782E5FF2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1" name="PlaceHolder 3"/>
          <p:cNvSpPr>
            <a:spLocks noGrp="1"/>
          </p:cNvSpPr>
          <p:nvPr>
            <p:ph type="dt" idx="3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2" name="PlaceHolder 4"/>
          <p:cNvSpPr>
            <a:spLocks noGrp="1"/>
          </p:cNvSpPr>
          <p:nvPr>
            <p:ph type="ftr" idx="3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3" name="PlaceHolder 5"/>
          <p:cNvSpPr>
            <a:spLocks noGrp="1"/>
          </p:cNvSpPr>
          <p:nvPr>
            <p:ph type="sldNum" idx="3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95D1-64AD-4CAE-9D2B-B0E9501CA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2" name="PlaceHolder 3"/>
          <p:cNvSpPr>
            <a:spLocks noGrp="1"/>
          </p:cNvSpPr>
          <p:nvPr>
            <p:ph type="dt" idx="3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3" name="PlaceHolder 4"/>
          <p:cNvSpPr>
            <a:spLocks noGrp="1"/>
          </p:cNvSpPr>
          <p:nvPr>
            <p:ph type="ftr" idx="3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4" name="PlaceHolder 5"/>
          <p:cNvSpPr>
            <a:spLocks noGrp="1"/>
          </p:cNvSpPr>
          <p:nvPr>
            <p:ph type="sldNum" idx="3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812E-D195-40A0-9209-87193FA50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3" name="PlaceHolder 3"/>
          <p:cNvSpPr>
            <a:spLocks noGrp="1"/>
          </p:cNvSpPr>
          <p:nvPr>
            <p:ph type="dt" idx="3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4" name="PlaceHolder 4"/>
          <p:cNvSpPr>
            <a:spLocks noGrp="1"/>
          </p:cNvSpPr>
          <p:nvPr>
            <p:ph type="ftr" idx="3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5" name="PlaceHolder 5"/>
          <p:cNvSpPr>
            <a:spLocks noGrp="1"/>
          </p:cNvSpPr>
          <p:nvPr>
            <p:ph type="sldNum" idx="3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290E-2FB1-4348-B5DC-D9B918732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4" name="PlaceHolder 3"/>
          <p:cNvSpPr>
            <a:spLocks noGrp="1"/>
          </p:cNvSpPr>
          <p:nvPr>
            <p:ph type="dt" idx="3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5" name="PlaceHolder 4"/>
          <p:cNvSpPr>
            <a:spLocks noGrp="1"/>
          </p:cNvSpPr>
          <p:nvPr>
            <p:ph type="ftr" idx="3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6" name="PlaceHolder 5"/>
          <p:cNvSpPr>
            <a:spLocks noGrp="1"/>
          </p:cNvSpPr>
          <p:nvPr>
            <p:ph type="sldNum" idx="3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771E-3E3A-4209-9F96-75D2C4619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F978-3788-4AAF-98BB-CD5E8F38F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5" name="PlaceHolder 3"/>
          <p:cNvSpPr>
            <a:spLocks noGrp="1"/>
          </p:cNvSpPr>
          <p:nvPr>
            <p:ph type="dt" idx="3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6" name="PlaceHolder 4"/>
          <p:cNvSpPr>
            <a:spLocks noGrp="1"/>
          </p:cNvSpPr>
          <p:nvPr>
            <p:ph type="ftr" idx="3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7" name="PlaceHolder 5"/>
          <p:cNvSpPr>
            <a:spLocks noGrp="1"/>
          </p:cNvSpPr>
          <p:nvPr>
            <p:ph type="sldNum" idx="3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DB7E-420F-47B2-B249-1EC3C6DBB8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6" name="PlaceHolder 3"/>
          <p:cNvSpPr>
            <a:spLocks noGrp="1"/>
          </p:cNvSpPr>
          <p:nvPr>
            <p:ph type="dt" idx="3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7" name="PlaceHolder 4"/>
          <p:cNvSpPr>
            <a:spLocks noGrp="1"/>
          </p:cNvSpPr>
          <p:nvPr>
            <p:ph type="ftr" idx="3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8" name="PlaceHolder 5"/>
          <p:cNvSpPr>
            <a:spLocks noGrp="1"/>
          </p:cNvSpPr>
          <p:nvPr>
            <p:ph type="sldNum" idx="3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2023-3EC5-426F-93CC-13BBDE34F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7" name="PlaceHolder 3"/>
          <p:cNvSpPr>
            <a:spLocks noGrp="1"/>
          </p:cNvSpPr>
          <p:nvPr>
            <p:ph type="dt" idx="3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8" name="PlaceHolder 4"/>
          <p:cNvSpPr>
            <a:spLocks noGrp="1"/>
          </p:cNvSpPr>
          <p:nvPr>
            <p:ph type="ftr" idx="3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9" name="PlaceHolder 5"/>
          <p:cNvSpPr>
            <a:spLocks noGrp="1"/>
          </p:cNvSpPr>
          <p:nvPr>
            <p:ph type="sldNum" idx="3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CA29-E2FD-4612-B8CA-E5A6FA634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8" name="PlaceHolder 3"/>
          <p:cNvSpPr>
            <a:spLocks noGrp="1"/>
          </p:cNvSpPr>
          <p:nvPr>
            <p:ph type="dt" idx="3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9" name="PlaceHolder 4"/>
          <p:cNvSpPr>
            <a:spLocks noGrp="1"/>
          </p:cNvSpPr>
          <p:nvPr>
            <p:ph type="ftr" idx="3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PlaceHolder 5"/>
          <p:cNvSpPr>
            <a:spLocks noGrp="1"/>
          </p:cNvSpPr>
          <p:nvPr>
            <p:ph type="sldNum" idx="3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07B0-7F1B-4687-8594-8F568CDD4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9" name="PlaceHolder 3"/>
          <p:cNvSpPr>
            <a:spLocks noGrp="1"/>
          </p:cNvSpPr>
          <p:nvPr>
            <p:ph type="dt" idx="3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0" name="PlaceHolder 4"/>
          <p:cNvSpPr>
            <a:spLocks noGrp="1"/>
          </p:cNvSpPr>
          <p:nvPr>
            <p:ph type="ftr" idx="3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1" name="PlaceHolder 5"/>
          <p:cNvSpPr>
            <a:spLocks noGrp="1"/>
          </p:cNvSpPr>
          <p:nvPr>
            <p:ph type="sldNum" idx="3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1191-DB80-4C90-9A2F-37AD6DB7C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0" name="PlaceHolder 3"/>
          <p:cNvSpPr>
            <a:spLocks noGrp="1"/>
          </p:cNvSpPr>
          <p:nvPr>
            <p:ph type="dt" idx="3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1" name="PlaceHolder 4"/>
          <p:cNvSpPr>
            <a:spLocks noGrp="1"/>
          </p:cNvSpPr>
          <p:nvPr>
            <p:ph type="ftr" idx="3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2" name="PlaceHolder 5"/>
          <p:cNvSpPr>
            <a:spLocks noGrp="1"/>
          </p:cNvSpPr>
          <p:nvPr>
            <p:ph type="sldNum" idx="3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A00F-090C-4CBC-A0B6-4B3AEC890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1" name="PlaceHolder 3"/>
          <p:cNvSpPr>
            <a:spLocks noGrp="1"/>
          </p:cNvSpPr>
          <p:nvPr>
            <p:ph type="dt" idx="3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2" name="PlaceHolder 4"/>
          <p:cNvSpPr>
            <a:spLocks noGrp="1"/>
          </p:cNvSpPr>
          <p:nvPr>
            <p:ph type="ftr" idx="3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3" name="PlaceHolder 5"/>
          <p:cNvSpPr>
            <a:spLocks noGrp="1"/>
          </p:cNvSpPr>
          <p:nvPr>
            <p:ph type="sldNum" idx="3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4D31-3634-4BDE-A478-57DB4CAAC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2" name="PlaceHolder 3"/>
          <p:cNvSpPr>
            <a:spLocks noGrp="1"/>
          </p:cNvSpPr>
          <p:nvPr>
            <p:ph type="dt" idx="3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3" name="PlaceHolder 4"/>
          <p:cNvSpPr>
            <a:spLocks noGrp="1"/>
          </p:cNvSpPr>
          <p:nvPr>
            <p:ph type="ftr" idx="3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4" name="PlaceHolder 5"/>
          <p:cNvSpPr>
            <a:spLocks noGrp="1"/>
          </p:cNvSpPr>
          <p:nvPr>
            <p:ph type="sldNum" idx="3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0F33-13D1-4943-89A8-4EF0032A83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3" name="PlaceHolder 3"/>
          <p:cNvSpPr>
            <a:spLocks noGrp="1"/>
          </p:cNvSpPr>
          <p:nvPr>
            <p:ph type="dt" idx="3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4" name="PlaceHolder 4"/>
          <p:cNvSpPr>
            <a:spLocks noGrp="1"/>
          </p:cNvSpPr>
          <p:nvPr>
            <p:ph type="ftr" idx="3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5" name="PlaceHolder 5"/>
          <p:cNvSpPr>
            <a:spLocks noGrp="1"/>
          </p:cNvSpPr>
          <p:nvPr>
            <p:ph type="sldNum" idx="3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3985-7E30-42CA-B9AC-D422796C6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4" name="PlaceHolder 3"/>
          <p:cNvSpPr>
            <a:spLocks noGrp="1"/>
          </p:cNvSpPr>
          <p:nvPr>
            <p:ph type="dt" idx="3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5" name="PlaceHolder 4"/>
          <p:cNvSpPr>
            <a:spLocks noGrp="1"/>
          </p:cNvSpPr>
          <p:nvPr>
            <p:ph type="ftr" idx="3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6" name="PlaceHolder 5"/>
          <p:cNvSpPr>
            <a:spLocks noGrp="1"/>
          </p:cNvSpPr>
          <p:nvPr>
            <p:ph type="sldNum" idx="3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73BE-AFFC-4F94-9EFF-3E7B7B965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9EE0-9C21-4FF2-B9D9-3592E143E5A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5" name="PlaceHolder 3"/>
          <p:cNvSpPr>
            <a:spLocks noGrp="1"/>
          </p:cNvSpPr>
          <p:nvPr>
            <p:ph type="dt" idx="3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6" name="PlaceHolder 4"/>
          <p:cNvSpPr>
            <a:spLocks noGrp="1"/>
          </p:cNvSpPr>
          <p:nvPr>
            <p:ph type="ftr" idx="3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7" name="PlaceHolder 5"/>
          <p:cNvSpPr>
            <a:spLocks noGrp="1"/>
          </p:cNvSpPr>
          <p:nvPr>
            <p:ph type="sldNum" idx="3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4669-F721-48E5-BBFC-1744623E5C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6" name="PlaceHolder 3"/>
          <p:cNvSpPr>
            <a:spLocks noGrp="1"/>
          </p:cNvSpPr>
          <p:nvPr>
            <p:ph type="dt" idx="3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7" name="PlaceHolder 4"/>
          <p:cNvSpPr>
            <a:spLocks noGrp="1"/>
          </p:cNvSpPr>
          <p:nvPr>
            <p:ph type="ftr" idx="3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8" name="PlaceHolder 5"/>
          <p:cNvSpPr>
            <a:spLocks noGrp="1"/>
          </p:cNvSpPr>
          <p:nvPr>
            <p:ph type="sldNum" idx="3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7286-E6D7-475E-9C31-94D3BB426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7" name="PlaceHolder 3"/>
          <p:cNvSpPr>
            <a:spLocks noGrp="1"/>
          </p:cNvSpPr>
          <p:nvPr>
            <p:ph type="dt" idx="3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8" name="PlaceHolder 4"/>
          <p:cNvSpPr>
            <a:spLocks noGrp="1"/>
          </p:cNvSpPr>
          <p:nvPr>
            <p:ph type="ftr" idx="3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9" name="PlaceHolder 5"/>
          <p:cNvSpPr>
            <a:spLocks noGrp="1"/>
          </p:cNvSpPr>
          <p:nvPr>
            <p:ph type="sldNum" idx="3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4326-D77F-4F07-B5EE-20BFED02D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8" name="PlaceHolder 3"/>
          <p:cNvSpPr>
            <a:spLocks noGrp="1"/>
          </p:cNvSpPr>
          <p:nvPr>
            <p:ph type="dt" idx="3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9" name="PlaceHolder 4"/>
          <p:cNvSpPr>
            <a:spLocks noGrp="1"/>
          </p:cNvSpPr>
          <p:nvPr>
            <p:ph type="ftr" idx="3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0" name="PlaceHolder 5"/>
          <p:cNvSpPr>
            <a:spLocks noGrp="1"/>
          </p:cNvSpPr>
          <p:nvPr>
            <p:ph type="sldNum" idx="3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28DB-5B42-4074-8C35-651F31D71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9" name="PlaceHolder 3"/>
          <p:cNvSpPr>
            <a:spLocks noGrp="1"/>
          </p:cNvSpPr>
          <p:nvPr>
            <p:ph type="dt" idx="4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0" name="PlaceHolder 4"/>
          <p:cNvSpPr>
            <a:spLocks noGrp="1"/>
          </p:cNvSpPr>
          <p:nvPr>
            <p:ph type="ftr" idx="4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1" name="PlaceHolder 5"/>
          <p:cNvSpPr>
            <a:spLocks noGrp="1"/>
          </p:cNvSpPr>
          <p:nvPr>
            <p:ph type="sldNum" idx="4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9874-143B-4F3B-BCBF-101692244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0" name="PlaceHolder 3"/>
          <p:cNvSpPr>
            <a:spLocks noGrp="1"/>
          </p:cNvSpPr>
          <p:nvPr>
            <p:ph type="dt" idx="4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1" name="PlaceHolder 4"/>
          <p:cNvSpPr>
            <a:spLocks noGrp="1"/>
          </p:cNvSpPr>
          <p:nvPr>
            <p:ph type="ftr" idx="4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2" name="PlaceHolder 5"/>
          <p:cNvSpPr>
            <a:spLocks noGrp="1"/>
          </p:cNvSpPr>
          <p:nvPr>
            <p:ph type="sldNum" idx="4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14AA-A5FD-405F-B4FB-7A19B8C76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1" name="PlaceHolder 3"/>
          <p:cNvSpPr>
            <a:spLocks noGrp="1"/>
          </p:cNvSpPr>
          <p:nvPr>
            <p:ph type="dt" idx="4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2" name="PlaceHolder 4"/>
          <p:cNvSpPr>
            <a:spLocks noGrp="1"/>
          </p:cNvSpPr>
          <p:nvPr>
            <p:ph type="ftr" idx="4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3" name="PlaceHolder 5"/>
          <p:cNvSpPr>
            <a:spLocks noGrp="1"/>
          </p:cNvSpPr>
          <p:nvPr>
            <p:ph type="sldNum" idx="4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3235-2106-4424-A46D-D6AD7703C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2" name="PlaceHolder 3"/>
          <p:cNvSpPr>
            <a:spLocks noGrp="1"/>
          </p:cNvSpPr>
          <p:nvPr>
            <p:ph type="dt" idx="4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3" name="PlaceHolder 4"/>
          <p:cNvSpPr>
            <a:spLocks noGrp="1"/>
          </p:cNvSpPr>
          <p:nvPr>
            <p:ph type="ftr" idx="4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4" name="PlaceHolder 5"/>
          <p:cNvSpPr>
            <a:spLocks noGrp="1"/>
          </p:cNvSpPr>
          <p:nvPr>
            <p:ph type="sldNum" idx="4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D5F8-B672-4277-A8B1-C9CF08B11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3" name="PlaceHolder 3"/>
          <p:cNvSpPr>
            <a:spLocks noGrp="1"/>
          </p:cNvSpPr>
          <p:nvPr>
            <p:ph type="dt" idx="4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4" name="PlaceHolder 4"/>
          <p:cNvSpPr>
            <a:spLocks noGrp="1"/>
          </p:cNvSpPr>
          <p:nvPr>
            <p:ph type="ftr" idx="4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5" name="PlaceHolder 5"/>
          <p:cNvSpPr>
            <a:spLocks noGrp="1"/>
          </p:cNvSpPr>
          <p:nvPr>
            <p:ph type="sldNum" idx="4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F5E5-607E-473A-8F95-0048143C46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4" name="PlaceHolder 3"/>
          <p:cNvSpPr>
            <a:spLocks noGrp="1"/>
          </p:cNvSpPr>
          <p:nvPr>
            <p:ph type="dt" idx="4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5" name="PlaceHolder 4"/>
          <p:cNvSpPr>
            <a:spLocks noGrp="1"/>
          </p:cNvSpPr>
          <p:nvPr>
            <p:ph type="ftr" idx="4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6" name="PlaceHolder 5"/>
          <p:cNvSpPr>
            <a:spLocks noGrp="1"/>
          </p:cNvSpPr>
          <p:nvPr>
            <p:ph type="sldNum" idx="4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0A79-289A-4929-BFD3-1D06EEA72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F5C5-9226-417F-9C67-9265587DA4B1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5" name="PlaceHolder 3"/>
          <p:cNvSpPr>
            <a:spLocks noGrp="1"/>
          </p:cNvSpPr>
          <p:nvPr>
            <p:ph type="dt" idx="4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6" name="PlaceHolder 4"/>
          <p:cNvSpPr>
            <a:spLocks noGrp="1"/>
          </p:cNvSpPr>
          <p:nvPr>
            <p:ph type="ftr" idx="4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7" name="PlaceHolder 5"/>
          <p:cNvSpPr>
            <a:spLocks noGrp="1"/>
          </p:cNvSpPr>
          <p:nvPr>
            <p:ph type="sldNum" idx="4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3E7E-CB08-4AC6-A933-0ACA391EA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6" name="PlaceHolder 3"/>
          <p:cNvSpPr>
            <a:spLocks noGrp="1"/>
          </p:cNvSpPr>
          <p:nvPr>
            <p:ph type="dt" idx="4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7" name="PlaceHolder 4"/>
          <p:cNvSpPr>
            <a:spLocks noGrp="1"/>
          </p:cNvSpPr>
          <p:nvPr>
            <p:ph type="ftr" idx="4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8" name="PlaceHolder 5"/>
          <p:cNvSpPr>
            <a:spLocks noGrp="1"/>
          </p:cNvSpPr>
          <p:nvPr>
            <p:ph type="sldNum" idx="4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B241-EB87-43E9-A6ED-B185F99DB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7" name="PlaceHolder 3"/>
          <p:cNvSpPr>
            <a:spLocks noGrp="1"/>
          </p:cNvSpPr>
          <p:nvPr>
            <p:ph type="dt" idx="4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8" name="PlaceHolder 4"/>
          <p:cNvSpPr>
            <a:spLocks noGrp="1"/>
          </p:cNvSpPr>
          <p:nvPr>
            <p:ph type="ftr" idx="4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9" name="PlaceHolder 5"/>
          <p:cNvSpPr>
            <a:spLocks noGrp="1"/>
          </p:cNvSpPr>
          <p:nvPr>
            <p:ph type="sldNum" idx="4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EA9A-ABB5-4C41-AC67-1B094AC943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8" name="PlaceHolder 3"/>
          <p:cNvSpPr>
            <a:spLocks noGrp="1"/>
          </p:cNvSpPr>
          <p:nvPr>
            <p:ph type="dt" idx="4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9" name="PlaceHolder 4"/>
          <p:cNvSpPr>
            <a:spLocks noGrp="1"/>
          </p:cNvSpPr>
          <p:nvPr>
            <p:ph type="ftr" idx="4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0" name="PlaceHolder 5"/>
          <p:cNvSpPr>
            <a:spLocks noGrp="1"/>
          </p:cNvSpPr>
          <p:nvPr>
            <p:ph type="sldNum" idx="4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DE0A-174B-4965-83A5-1C7C340C3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9" name="PlaceHolder 3"/>
          <p:cNvSpPr>
            <a:spLocks noGrp="1"/>
          </p:cNvSpPr>
          <p:nvPr>
            <p:ph type="dt" idx="4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0" name="PlaceHolder 4"/>
          <p:cNvSpPr>
            <a:spLocks noGrp="1"/>
          </p:cNvSpPr>
          <p:nvPr>
            <p:ph type="ftr" idx="4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1" name="PlaceHolder 5"/>
          <p:cNvSpPr>
            <a:spLocks noGrp="1"/>
          </p:cNvSpPr>
          <p:nvPr>
            <p:ph type="sldNum" idx="4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80A1-7804-4CDE-ABAA-5E93DB0FBB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0" name="PlaceHolder 3"/>
          <p:cNvSpPr>
            <a:spLocks noGrp="1"/>
          </p:cNvSpPr>
          <p:nvPr>
            <p:ph type="dt" idx="4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1" name="PlaceHolder 4"/>
          <p:cNvSpPr>
            <a:spLocks noGrp="1"/>
          </p:cNvSpPr>
          <p:nvPr>
            <p:ph type="ftr" idx="4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2" name="PlaceHolder 5"/>
          <p:cNvSpPr>
            <a:spLocks noGrp="1"/>
          </p:cNvSpPr>
          <p:nvPr>
            <p:ph type="sldNum" idx="4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C1C1-B6C1-4D5C-BF19-CB2E1F69D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1" name="PlaceHolder 3"/>
          <p:cNvSpPr>
            <a:spLocks noGrp="1"/>
          </p:cNvSpPr>
          <p:nvPr>
            <p:ph type="dt" idx="4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2" name="PlaceHolder 4"/>
          <p:cNvSpPr>
            <a:spLocks noGrp="1"/>
          </p:cNvSpPr>
          <p:nvPr>
            <p:ph type="ftr" idx="4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3" name="PlaceHolder 5"/>
          <p:cNvSpPr>
            <a:spLocks noGrp="1"/>
          </p:cNvSpPr>
          <p:nvPr>
            <p:ph type="sldNum" idx="4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C90C-181F-43CD-B264-BC15E496A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2" name="PlaceHolder 3"/>
          <p:cNvSpPr>
            <a:spLocks noGrp="1"/>
          </p:cNvSpPr>
          <p:nvPr>
            <p:ph type="dt" idx="4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3" name="PlaceHolder 4"/>
          <p:cNvSpPr>
            <a:spLocks noGrp="1"/>
          </p:cNvSpPr>
          <p:nvPr>
            <p:ph type="ftr" idx="4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4" name="PlaceHolder 5"/>
          <p:cNvSpPr>
            <a:spLocks noGrp="1"/>
          </p:cNvSpPr>
          <p:nvPr>
            <p:ph type="sldNum" idx="4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5741-A1B9-4676-B389-72C7A8FA1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3" name="PlaceHolder 3"/>
          <p:cNvSpPr>
            <a:spLocks noGrp="1"/>
          </p:cNvSpPr>
          <p:nvPr>
            <p:ph type="dt" idx="4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4" name="PlaceHolder 4"/>
          <p:cNvSpPr>
            <a:spLocks noGrp="1"/>
          </p:cNvSpPr>
          <p:nvPr>
            <p:ph type="ftr" idx="4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5" name="PlaceHolder 5"/>
          <p:cNvSpPr>
            <a:spLocks noGrp="1"/>
          </p:cNvSpPr>
          <p:nvPr>
            <p:ph type="sldNum" idx="4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E323-6CFB-4549-9DC6-176570B22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4" name="PlaceHolder 3"/>
          <p:cNvSpPr>
            <a:spLocks noGrp="1"/>
          </p:cNvSpPr>
          <p:nvPr>
            <p:ph type="dt" idx="4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5" name="PlaceHolder 4"/>
          <p:cNvSpPr>
            <a:spLocks noGrp="1"/>
          </p:cNvSpPr>
          <p:nvPr>
            <p:ph type="ftr" idx="4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6" name="PlaceHolder 5"/>
          <p:cNvSpPr>
            <a:spLocks noGrp="1"/>
          </p:cNvSpPr>
          <p:nvPr>
            <p:ph type="sldNum" idx="4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405E-2616-4D59-A321-BE94D8299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7F2F-EC71-42FC-ABEF-8C9001BB076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5" name="PlaceHolder 3"/>
          <p:cNvSpPr>
            <a:spLocks noGrp="1"/>
          </p:cNvSpPr>
          <p:nvPr>
            <p:ph type="dt" idx="4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6" name="PlaceHolder 4"/>
          <p:cNvSpPr>
            <a:spLocks noGrp="1"/>
          </p:cNvSpPr>
          <p:nvPr>
            <p:ph type="ftr" idx="4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7" name="PlaceHolder 5"/>
          <p:cNvSpPr>
            <a:spLocks noGrp="1"/>
          </p:cNvSpPr>
          <p:nvPr>
            <p:ph type="sldNum" idx="4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408A-FABE-4DA1-B385-D61BB65CE5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6" name="PlaceHolder 3"/>
          <p:cNvSpPr>
            <a:spLocks noGrp="1"/>
          </p:cNvSpPr>
          <p:nvPr>
            <p:ph type="dt" idx="4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7" name="PlaceHolder 4"/>
          <p:cNvSpPr>
            <a:spLocks noGrp="1"/>
          </p:cNvSpPr>
          <p:nvPr>
            <p:ph type="ftr" idx="4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8" name="PlaceHolder 5"/>
          <p:cNvSpPr>
            <a:spLocks noGrp="1"/>
          </p:cNvSpPr>
          <p:nvPr>
            <p:ph type="sldNum" idx="4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8308-E6A5-4165-8187-E7A8F3E43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8B54-AA43-4FE3-A821-84AA04559F7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681B-3298-413E-959C-8B579D92B25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F65D-166D-44D1-92C9-EE150A26E72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7042-BEAC-43B6-835E-CC5B457173F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4902-BCAB-4769-AE20-AA27DB591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28F6-7618-4443-8E24-616921B5CE4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30C1-93E9-497F-BD02-6BC0DC5B0361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523A-C2AD-403F-A508-924D9007961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8570-A9F1-4874-896C-AFBECA47E94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D422-A1F7-4A21-A432-19EE403B34F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8F9A-4589-47A5-9E88-18D8A6A35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553D-9BEF-4647-B9C1-856FAFA93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57A0-A0E2-4F1F-8368-761C85E3A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81F1-E6E2-4B37-8880-549D51360C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B141-1280-440A-9E92-F2153A2CCF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3D85-0B1F-47B7-A3A2-E676F2F67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CB6D-81DE-4E6C-BAD6-A584349C5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FED3-B59F-4E4D-BEBF-233CA82234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F8F4-A4E6-416E-BB48-B2978F9B3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550A-692E-4EB1-B33C-F021C3744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F4E1-C330-4733-B956-2B7D576A1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8398-49E5-470A-B49D-C2F6A640BF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2D8E-F5DB-4D59-AD24-5F9EA83B6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66FD-4F96-4829-A944-FAA278E17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9D24-342D-45EC-B77E-4CE142328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8277-8AB7-4A5C-92E8-DBC77E05F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409F-E6CF-40C7-8EFC-B60A84276F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6159-ABE2-4B3F-9007-A6D9C2D37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 type="dt" idx="1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 type="sldNum" idx="1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CF3A-F7DF-48F2-A425-AC08F9727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 type="dt" idx="1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 type="sldNum" idx="1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2BCB-251F-4B25-BC35-C3517869B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 type="dt" idx="1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 type="sldNum" idx="12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76F6-51C1-4CF0-AFEB-7E9714FEE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 type="dt" idx="1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 type="sldNum" idx="13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60EE-9573-4BF5-ACE4-AC0E63E0F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 type="dt" idx="1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5"/>
          <p:cNvSpPr>
            <a:spLocks noGrp="1"/>
          </p:cNvSpPr>
          <p:nvPr>
            <p:ph type="sldNum" idx="13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8A44-2E6C-45DC-8A50-C06C248EF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 type="dt" idx="1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PlaceHolder 5"/>
          <p:cNvSpPr>
            <a:spLocks noGrp="1"/>
          </p:cNvSpPr>
          <p:nvPr>
            <p:ph type="sldNum" idx="13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57D9-8C13-4AC1-A91C-CE65A7EAD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 type="dt" idx="13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5"/>
          <p:cNvSpPr>
            <a:spLocks noGrp="1"/>
          </p:cNvSpPr>
          <p:nvPr>
            <p:ph type="sldNum" idx="14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3DB5-485E-41ED-BD86-EA4548313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 type="dt" idx="14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5"/>
          <p:cNvSpPr>
            <a:spLocks noGrp="1"/>
          </p:cNvSpPr>
          <p:nvPr>
            <p:ph type="sldNum" idx="14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1179-0C62-49AC-8478-E58A53524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 type="dt" idx="14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 type="sldNum" idx="14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504E-239A-4FF5-9235-8D1ADD5F6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28D8-23A7-49F4-BC9A-79F444B69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 type="dt" idx="14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 type="sldNum" idx="15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B618-5EA9-4B89-86CF-E6D6F18B9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 type="dt" idx="15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5"/>
          <p:cNvSpPr>
            <a:spLocks noGrp="1"/>
          </p:cNvSpPr>
          <p:nvPr>
            <p:ph type="sldNum" idx="15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7AC3-BCAA-48CA-994E-758A6FE237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6FFF-38B4-4AF7-B48D-C6164B832D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75F7-C93F-491D-8BAA-1B5FD8492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 type="dt" idx="16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5"/>
          <p:cNvSpPr>
            <a:spLocks noGrp="1"/>
          </p:cNvSpPr>
          <p:nvPr>
            <p:ph type="sldNum" idx="16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512C-73D7-4FFE-B67C-FAAEFE3477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 type="dt" idx="16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 type="sldNum" idx="16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92BD-16E5-4F61-9AC6-29D157010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A887-FB2B-4FA1-BE95-0C77D7338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 type="dt" idx="16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 type="sldNum" idx="17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FD14-1602-4248-A0EC-6A4610BE9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 type="dt" idx="17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 type="ftr" idx="17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5"/>
          <p:cNvSpPr>
            <a:spLocks noGrp="1"/>
          </p:cNvSpPr>
          <p:nvPr>
            <p:ph type="sldNum" idx="17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B47A-EAC2-4C48-AA83-19E03D50A5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 type="dt" idx="17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 type="ftr" idx="17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 type="sldNum" idx="17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C8F9-40DF-4A3E-93F4-95FDA2283F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F7CF-3DF8-4056-84CA-9B76FC5E50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 type="dt" idx="17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 type="ftr" idx="17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 type="sldNum" idx="18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BE7E-53CB-40CE-B318-416FF5115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 type="dt" idx="18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 type="ftr" idx="18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 type="sldNum" idx="18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E8D1-FBAB-425F-BFA5-EAC358585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 type="dt" idx="18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 type="ftr" idx="1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PlaceHolder 5"/>
          <p:cNvSpPr>
            <a:spLocks noGrp="1"/>
          </p:cNvSpPr>
          <p:nvPr>
            <p:ph type="sldNum" idx="18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15E7-5C43-4A6E-8AFB-2FCA1AA67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 type="dt" idx="18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 type="ftr" idx="18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3" name="PlaceHolder 5"/>
          <p:cNvSpPr>
            <a:spLocks noGrp="1"/>
          </p:cNvSpPr>
          <p:nvPr>
            <p:ph type="sldNum" idx="18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66B3-81F5-406C-A948-F6933A5E7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 type="dt" idx="19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 type="ftr" idx="19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5"/>
          <p:cNvSpPr>
            <a:spLocks noGrp="1"/>
          </p:cNvSpPr>
          <p:nvPr>
            <p:ph type="sldNum" idx="19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8D0A-5C55-4C2C-B724-9938A1A82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 type="dt" idx="19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 type="ftr" idx="19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 type="sldNum" idx="19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B358-F683-49DA-9A3A-4D07B4AC4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 type="dt" idx="19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 type="ftr" idx="19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PlaceHolder 5"/>
          <p:cNvSpPr>
            <a:spLocks noGrp="1"/>
          </p:cNvSpPr>
          <p:nvPr>
            <p:ph type="sldNum" idx="19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6168-4111-457D-A98A-281D7FAC6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 type="dt" idx="19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 type="ftr" idx="20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5"/>
          <p:cNvSpPr>
            <a:spLocks noGrp="1"/>
          </p:cNvSpPr>
          <p:nvPr>
            <p:ph type="sldNum" idx="20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2CF8-12CD-42FC-A5ED-B948B19745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 type="dt" idx="20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 type="ftr" idx="20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PlaceHolder 5"/>
          <p:cNvSpPr>
            <a:spLocks noGrp="1"/>
          </p:cNvSpPr>
          <p:nvPr>
            <p:ph type="sldNum" idx="20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B368-DA7D-4E25-904A-2D24250D76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 type="dt" idx="2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 type="ftr" idx="2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5"/>
          <p:cNvSpPr>
            <a:spLocks noGrp="1"/>
          </p:cNvSpPr>
          <p:nvPr>
            <p:ph type="sldNum" idx="2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03B4-0002-41B1-B653-A69E20895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F834-2698-4B13-AC9B-54F93B220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 type="dt" idx="2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 type="ftr" idx="2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PlaceHolder 5"/>
          <p:cNvSpPr>
            <a:spLocks noGrp="1"/>
          </p:cNvSpPr>
          <p:nvPr>
            <p:ph type="sldNum" idx="2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FC0F2-1F9B-43A8-9B6D-0CF7AEC367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 type="dt" idx="2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 type="ftr" idx="2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PlaceHolder 5"/>
          <p:cNvSpPr>
            <a:spLocks noGrp="1"/>
          </p:cNvSpPr>
          <p:nvPr>
            <p:ph type="sldNum" idx="2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CADB-12A1-495D-888B-202D13D6B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 type="dt" idx="2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 type="ftr" idx="2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5"/>
          <p:cNvSpPr>
            <a:spLocks noGrp="1"/>
          </p:cNvSpPr>
          <p:nvPr>
            <p:ph type="sldNum" idx="2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E4A8-DC48-4CBA-8A75-DF6967DA9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 type="dt" idx="2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 type="ftr" idx="2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3" name="PlaceHolder 5"/>
          <p:cNvSpPr>
            <a:spLocks noGrp="1"/>
          </p:cNvSpPr>
          <p:nvPr>
            <p:ph type="sldNum" idx="2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30DB-F1A2-4D6C-8C98-2DA58C4D9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dt" idx="2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 type="ftr" idx="2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PlaceHolder 5"/>
          <p:cNvSpPr>
            <a:spLocks noGrp="1"/>
          </p:cNvSpPr>
          <p:nvPr>
            <p:ph type="sldNum" idx="2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70EF-59D7-4C4D-9061-70E1CBFDF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 type="dt" idx="2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 type="ftr" idx="2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PlaceHolder 5"/>
          <p:cNvSpPr>
            <a:spLocks noGrp="1"/>
          </p:cNvSpPr>
          <p:nvPr>
            <p:ph type="sldNum" idx="2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5524-4866-4F91-BAC6-B132ADC42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 type="dt" idx="2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 type="ftr" idx="2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5"/>
          <p:cNvSpPr>
            <a:spLocks noGrp="1"/>
          </p:cNvSpPr>
          <p:nvPr>
            <p:ph type="sldNum" idx="2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75DD-7875-4938-8930-1FEC7007E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 type="dt" idx="2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 type="ftr" idx="2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7" name="PlaceHolder 5"/>
          <p:cNvSpPr>
            <a:spLocks noGrp="1"/>
          </p:cNvSpPr>
          <p:nvPr>
            <p:ph type="sldNum" idx="2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D003-8598-43B6-B05B-2E076E5FC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 type="dt" idx="2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 type="ftr" idx="2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 type="sldNum" idx="2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8933-63CB-4F41-80B4-0ED126FADC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2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2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2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979A-EDE7-4FF4-B355-D56755292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A243-4F5F-48B7-AE3C-2566A22F17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 type="dt" idx="2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 type="ftr" idx="2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 type="sldNum" idx="2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6869-13C7-45CE-AD82-5F0B5BEC4C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 type="dt" idx="2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4"/>
          <p:cNvSpPr>
            <a:spLocks noGrp="1"/>
          </p:cNvSpPr>
          <p:nvPr>
            <p:ph type="ftr" idx="2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PlaceHolder 5"/>
          <p:cNvSpPr>
            <a:spLocks noGrp="1"/>
          </p:cNvSpPr>
          <p:nvPr>
            <p:ph type="sldNum" idx="2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0BCF-5384-4CDA-A001-F8DCA30584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0" name="PlaceHolder 3"/>
          <p:cNvSpPr>
            <a:spLocks noGrp="1"/>
          </p:cNvSpPr>
          <p:nvPr>
            <p:ph type="dt" idx="2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1" name="PlaceHolder 4"/>
          <p:cNvSpPr>
            <a:spLocks noGrp="1"/>
          </p:cNvSpPr>
          <p:nvPr>
            <p:ph type="ftr" idx="2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2" name="PlaceHolder 5"/>
          <p:cNvSpPr>
            <a:spLocks noGrp="1"/>
          </p:cNvSpPr>
          <p:nvPr>
            <p:ph type="sldNum" idx="2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D4C0-443E-4CAB-8A02-7743A9109F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1" name="PlaceHolder 3"/>
          <p:cNvSpPr>
            <a:spLocks noGrp="1"/>
          </p:cNvSpPr>
          <p:nvPr>
            <p:ph type="dt" idx="2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2" name="PlaceHolder 4"/>
          <p:cNvSpPr>
            <a:spLocks noGrp="1"/>
          </p:cNvSpPr>
          <p:nvPr>
            <p:ph type="ftr" idx="2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3" name="PlaceHolder 5"/>
          <p:cNvSpPr>
            <a:spLocks noGrp="1"/>
          </p:cNvSpPr>
          <p:nvPr>
            <p:ph type="sldNum" idx="2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A3E4-5874-4574-8EC4-52DD6C313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 type="dt" idx="2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 type="ftr" idx="2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4" name="PlaceHolder 5"/>
          <p:cNvSpPr>
            <a:spLocks noGrp="1"/>
          </p:cNvSpPr>
          <p:nvPr>
            <p:ph type="sldNum" idx="2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4795-F638-4189-82E5-48D29ECBB9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 type="dt" idx="2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 type="ftr" idx="2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5" name="PlaceHolder 5"/>
          <p:cNvSpPr>
            <a:spLocks noGrp="1"/>
          </p:cNvSpPr>
          <p:nvPr>
            <p:ph type="sldNum" idx="2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654C-5E7A-4B6B-BB3C-B03DB6AC9F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4" name="PlaceHolder 3"/>
          <p:cNvSpPr>
            <a:spLocks noGrp="1"/>
          </p:cNvSpPr>
          <p:nvPr>
            <p:ph type="dt" idx="25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5" name="PlaceHolder 4"/>
          <p:cNvSpPr>
            <a:spLocks noGrp="1"/>
          </p:cNvSpPr>
          <p:nvPr>
            <p:ph type="ftr" idx="2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6" name="PlaceHolder 5"/>
          <p:cNvSpPr>
            <a:spLocks noGrp="1"/>
          </p:cNvSpPr>
          <p:nvPr>
            <p:ph type="sldNum" idx="25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B344-15DB-4542-9F53-957B0205C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5" name="PlaceHolder 3"/>
          <p:cNvSpPr>
            <a:spLocks noGrp="1"/>
          </p:cNvSpPr>
          <p:nvPr>
            <p:ph type="dt" idx="25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PlaceHolder 4"/>
          <p:cNvSpPr>
            <a:spLocks noGrp="1"/>
          </p:cNvSpPr>
          <p:nvPr>
            <p:ph type="ftr" idx="2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PlaceHolder 5"/>
          <p:cNvSpPr>
            <a:spLocks noGrp="1"/>
          </p:cNvSpPr>
          <p:nvPr>
            <p:ph type="sldNum" idx="26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8637-C8EA-4EBA-822D-170BBF67B2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6" name="PlaceHolder 3"/>
          <p:cNvSpPr>
            <a:spLocks noGrp="1"/>
          </p:cNvSpPr>
          <p:nvPr>
            <p:ph type="dt" idx="26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PlaceHolder 4"/>
          <p:cNvSpPr>
            <a:spLocks noGrp="1"/>
          </p:cNvSpPr>
          <p:nvPr>
            <p:ph type="ftr" idx="26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PlaceHolder 5"/>
          <p:cNvSpPr>
            <a:spLocks noGrp="1"/>
          </p:cNvSpPr>
          <p:nvPr>
            <p:ph type="sldNum" idx="26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24F1-056A-4304-B1C7-07DD51F0E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7" name="PlaceHolder 3"/>
          <p:cNvSpPr>
            <a:spLocks noGrp="1"/>
          </p:cNvSpPr>
          <p:nvPr>
            <p:ph type="dt" idx="26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PlaceHolder 4"/>
          <p:cNvSpPr>
            <a:spLocks noGrp="1"/>
          </p:cNvSpPr>
          <p:nvPr>
            <p:ph type="ftr" idx="2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PlaceHolder 5"/>
          <p:cNvSpPr>
            <a:spLocks noGrp="1"/>
          </p:cNvSpPr>
          <p:nvPr>
            <p:ph type="sldNum" idx="26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665E-2152-4EA0-B46C-93A45522C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0"/>
            <a:ext cx="9129600" cy="6842160"/>
            <a:chOff x="0" y="0"/>
            <a:chExt cx="9129600" cy="6842160"/>
          </a:xfrm>
        </p:grpSpPr>
        <p:grpSp>
          <p:nvGrpSpPr>
            <p:cNvPr id="329" name="Group 3"/>
            <p:cNvGrpSpPr/>
            <p:nvPr/>
          </p:nvGrpSpPr>
          <p:grpSpPr>
            <a:xfrm>
              <a:off x="0" y="0"/>
              <a:ext cx="9129600" cy="6842160"/>
              <a:chOff x="0" y="0"/>
              <a:chExt cx="9129600" cy="6842160"/>
            </a:xfrm>
          </p:grpSpPr>
          <p:sp>
            <p:nvSpPr>
              <p:cNvPr id="330" name="Line 4"/>
              <p:cNvSpPr/>
              <p:nvPr/>
            </p:nvSpPr>
            <p:spPr>
              <a:xfrm>
                <a:off x="0" y="26208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5"/>
              <p:cNvSpPr/>
              <p:nvPr/>
            </p:nvSpPr>
            <p:spPr>
              <a:xfrm>
                <a:off x="0" y="7412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6"/>
              <p:cNvSpPr/>
              <p:nvPr/>
            </p:nvSpPr>
            <p:spPr>
              <a:xfrm>
                <a:off x="0" y="12207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7"/>
              <p:cNvSpPr/>
              <p:nvPr/>
            </p:nvSpPr>
            <p:spPr>
              <a:xfrm>
                <a:off x="0" y="17017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8"/>
              <p:cNvSpPr/>
              <p:nvPr/>
            </p:nvSpPr>
            <p:spPr>
              <a:xfrm>
                <a:off x="0" y="21812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9"/>
              <p:cNvSpPr/>
              <p:nvPr/>
            </p:nvSpPr>
            <p:spPr>
              <a:xfrm>
                <a:off x="0" y="26607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0"/>
              <p:cNvSpPr/>
              <p:nvPr/>
            </p:nvSpPr>
            <p:spPr>
              <a:xfrm>
                <a:off x="0" y="31399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1"/>
              <p:cNvSpPr/>
              <p:nvPr/>
            </p:nvSpPr>
            <p:spPr>
              <a:xfrm>
                <a:off x="0" y="36194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2"/>
              <p:cNvSpPr/>
              <p:nvPr/>
            </p:nvSpPr>
            <p:spPr>
              <a:xfrm>
                <a:off x="0" y="40989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3"/>
              <p:cNvSpPr/>
              <p:nvPr/>
            </p:nvSpPr>
            <p:spPr>
              <a:xfrm>
                <a:off x="0" y="45799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4"/>
              <p:cNvSpPr/>
              <p:nvPr/>
            </p:nvSpPr>
            <p:spPr>
              <a:xfrm>
                <a:off x="0" y="50594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5"/>
              <p:cNvSpPr/>
              <p:nvPr/>
            </p:nvSpPr>
            <p:spPr>
              <a:xfrm>
                <a:off x="0" y="553896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6"/>
              <p:cNvSpPr/>
              <p:nvPr/>
            </p:nvSpPr>
            <p:spPr>
              <a:xfrm>
                <a:off x="0" y="601812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7"/>
              <p:cNvSpPr/>
              <p:nvPr/>
            </p:nvSpPr>
            <p:spPr>
              <a:xfrm>
                <a:off x="0" y="6497640"/>
                <a:ext cx="9129600" cy="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"/>
              <p:cNvSpPr/>
              <p:nvPr/>
            </p:nvSpPr>
            <p:spPr>
              <a:xfrm>
                <a:off x="885672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9"/>
              <p:cNvSpPr/>
              <p:nvPr/>
            </p:nvSpPr>
            <p:spPr>
              <a:xfrm>
                <a:off x="845028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20"/>
              <p:cNvSpPr/>
              <p:nvPr/>
            </p:nvSpPr>
            <p:spPr>
              <a:xfrm>
                <a:off x="804240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21"/>
              <p:cNvSpPr/>
              <p:nvPr/>
            </p:nvSpPr>
            <p:spPr>
              <a:xfrm>
                <a:off x="7635960" y="0"/>
                <a:ext cx="0" cy="6842160"/>
              </a:xfrm>
              <a:prstGeom prst="line">
                <a:avLst/>
              </a:prstGeom>
              <a:ln w="12600">
                <a:solidFill>
                  <a:srgbClr val="39393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Group 22"/>
              <p:cNvGrpSpPr/>
              <p:nvPr/>
            </p:nvGrpSpPr>
            <p:grpSpPr>
              <a:xfrm>
                <a:off x="307800" y="0"/>
                <a:ext cx="6919920" cy="6842160"/>
                <a:chOff x="307800" y="0"/>
                <a:chExt cx="6919920" cy="6842160"/>
              </a:xfrm>
            </p:grpSpPr>
            <p:sp>
              <p:nvSpPr>
                <p:cNvPr id="349" name="Line 23"/>
                <p:cNvSpPr/>
                <p:nvPr/>
              </p:nvSpPr>
              <p:spPr>
                <a:xfrm>
                  <a:off x="72277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4"/>
                <p:cNvSpPr/>
                <p:nvPr/>
              </p:nvSpPr>
              <p:spPr>
                <a:xfrm>
                  <a:off x="68216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25"/>
                <p:cNvSpPr/>
                <p:nvPr/>
              </p:nvSpPr>
              <p:spPr>
                <a:xfrm>
                  <a:off x="64134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Line 26"/>
                <p:cNvSpPr/>
                <p:nvPr/>
              </p:nvSpPr>
              <p:spPr>
                <a:xfrm>
                  <a:off x="600696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27"/>
                <p:cNvSpPr/>
                <p:nvPr/>
              </p:nvSpPr>
              <p:spPr>
                <a:xfrm>
                  <a:off x="55990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Line 28"/>
                <p:cNvSpPr/>
                <p:nvPr/>
              </p:nvSpPr>
              <p:spPr>
                <a:xfrm>
                  <a:off x="51926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29"/>
                <p:cNvSpPr/>
                <p:nvPr/>
              </p:nvSpPr>
              <p:spPr>
                <a:xfrm>
                  <a:off x="478476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30"/>
                <p:cNvSpPr/>
                <p:nvPr/>
              </p:nvSpPr>
              <p:spPr>
                <a:xfrm>
                  <a:off x="43783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31"/>
                <p:cNvSpPr/>
                <p:nvPr/>
              </p:nvSpPr>
              <p:spPr>
                <a:xfrm>
                  <a:off x="39704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32"/>
                <p:cNvSpPr/>
                <p:nvPr/>
              </p:nvSpPr>
              <p:spPr>
                <a:xfrm>
                  <a:off x="35640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33"/>
                <p:cNvSpPr/>
                <p:nvPr/>
              </p:nvSpPr>
              <p:spPr>
                <a:xfrm>
                  <a:off x="31561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34"/>
                <p:cNvSpPr/>
                <p:nvPr/>
              </p:nvSpPr>
              <p:spPr>
                <a:xfrm>
                  <a:off x="27496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35"/>
                <p:cNvSpPr/>
                <p:nvPr/>
              </p:nvSpPr>
              <p:spPr>
                <a:xfrm>
                  <a:off x="23432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Line 36"/>
                <p:cNvSpPr/>
                <p:nvPr/>
              </p:nvSpPr>
              <p:spPr>
                <a:xfrm>
                  <a:off x="19368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37"/>
                <p:cNvSpPr/>
                <p:nvPr/>
              </p:nvSpPr>
              <p:spPr>
                <a:xfrm>
                  <a:off x="152892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38"/>
                <p:cNvSpPr/>
                <p:nvPr/>
              </p:nvSpPr>
              <p:spPr>
                <a:xfrm>
                  <a:off x="112248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39"/>
                <p:cNvSpPr/>
                <p:nvPr/>
              </p:nvSpPr>
              <p:spPr>
                <a:xfrm>
                  <a:off x="71424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40"/>
                <p:cNvSpPr/>
                <p:nvPr/>
              </p:nvSpPr>
              <p:spPr>
                <a:xfrm>
                  <a:off x="307800" y="0"/>
                  <a:ext cx="0" cy="6842160"/>
                </a:xfrm>
                <a:prstGeom prst="line">
                  <a:avLst/>
                </a:prstGeom>
                <a:ln w="12600">
                  <a:solidFill>
                    <a:srgbClr val="39393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Group 41"/>
            <p:cNvGrpSpPr/>
            <p:nvPr/>
          </p:nvGrpSpPr>
          <p:grpSpPr>
            <a:xfrm>
              <a:off x="7223040" y="258840"/>
              <a:ext cx="1636920" cy="6243480"/>
              <a:chOff x="7223040" y="258840"/>
              <a:chExt cx="1636920" cy="6243480"/>
            </a:xfrm>
          </p:grpSpPr>
          <p:sp>
            <p:nvSpPr>
              <p:cNvPr id="368" name="Rectangle 42"/>
              <p:cNvSpPr/>
              <p:nvPr/>
            </p:nvSpPr>
            <p:spPr>
              <a:xfrm>
                <a:off x="8035920" y="601668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43"/>
              <p:cNvSpPr/>
              <p:nvPr/>
            </p:nvSpPr>
            <p:spPr>
              <a:xfrm>
                <a:off x="8443800" y="553572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44"/>
              <p:cNvSpPr/>
              <p:nvPr/>
            </p:nvSpPr>
            <p:spPr>
              <a:xfrm>
                <a:off x="8035920" y="55357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45"/>
              <p:cNvSpPr/>
              <p:nvPr/>
            </p:nvSpPr>
            <p:spPr>
              <a:xfrm>
                <a:off x="8443800" y="4576680"/>
                <a:ext cx="416160" cy="48600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Rectangle 46"/>
              <p:cNvSpPr/>
              <p:nvPr/>
            </p:nvSpPr>
            <p:spPr>
              <a:xfrm>
                <a:off x="8407440" y="4095720"/>
                <a:ext cx="45252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47"/>
              <p:cNvSpPr/>
              <p:nvPr/>
            </p:nvSpPr>
            <p:spPr>
              <a:xfrm>
                <a:off x="8035920" y="40957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48"/>
              <p:cNvSpPr/>
              <p:nvPr/>
            </p:nvSpPr>
            <p:spPr>
              <a:xfrm>
                <a:off x="8443800" y="361800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49"/>
              <p:cNvSpPr/>
              <p:nvPr/>
            </p:nvSpPr>
            <p:spPr>
              <a:xfrm>
                <a:off x="8035920" y="313704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50"/>
              <p:cNvSpPr/>
              <p:nvPr/>
            </p:nvSpPr>
            <p:spPr>
              <a:xfrm>
                <a:off x="8035920" y="26575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51"/>
              <p:cNvSpPr/>
              <p:nvPr/>
            </p:nvSpPr>
            <p:spPr>
              <a:xfrm>
                <a:off x="8443800" y="2178000"/>
                <a:ext cx="416160" cy="48600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52"/>
              <p:cNvSpPr/>
              <p:nvPr/>
            </p:nvSpPr>
            <p:spPr>
              <a:xfrm>
                <a:off x="8443800" y="170028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53"/>
              <p:cNvSpPr/>
              <p:nvPr/>
            </p:nvSpPr>
            <p:spPr>
              <a:xfrm>
                <a:off x="8035920" y="170028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54"/>
              <p:cNvSpPr/>
              <p:nvPr/>
            </p:nvSpPr>
            <p:spPr>
              <a:xfrm>
                <a:off x="7631280" y="1219320"/>
                <a:ext cx="41580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55"/>
              <p:cNvSpPr/>
              <p:nvPr/>
            </p:nvSpPr>
            <p:spPr>
              <a:xfrm>
                <a:off x="8443800" y="73980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d60093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56"/>
              <p:cNvSpPr/>
              <p:nvPr/>
            </p:nvSpPr>
            <p:spPr>
              <a:xfrm>
                <a:off x="7223040" y="73980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57"/>
              <p:cNvSpPr/>
              <p:nvPr/>
            </p:nvSpPr>
            <p:spPr>
              <a:xfrm>
                <a:off x="8443800" y="258840"/>
                <a:ext cx="416160" cy="485640"/>
              </a:xfrm>
              <a:prstGeom prst="rect">
                <a:avLst/>
              </a:prstGeom>
              <a:gradFill rotWithShape="0">
                <a:gsLst>
                  <a:gs pos="0">
                    <a:srgbClr val="9900f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58"/>
              <p:cNvSpPr/>
              <p:nvPr/>
            </p:nvSpPr>
            <p:spPr>
              <a:xfrm>
                <a:off x="8035920" y="258840"/>
                <a:ext cx="411120" cy="485640"/>
              </a:xfrm>
              <a:prstGeom prst="rect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80880" y="1986120"/>
            <a:ext cx="7772400" cy="41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EBAA-2132-4038-A5FD-09E075A9B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8" name="PlaceHolder 3"/>
          <p:cNvSpPr>
            <a:spLocks noGrp="1"/>
          </p:cNvSpPr>
          <p:nvPr>
            <p:ph type="dt" idx="26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9" name="PlaceHolder 4"/>
          <p:cNvSpPr>
            <a:spLocks noGrp="1"/>
          </p:cNvSpPr>
          <p:nvPr>
            <p:ph type="ftr" idx="2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0" name="PlaceHolder 5"/>
          <p:cNvSpPr>
            <a:spLocks noGrp="1"/>
          </p:cNvSpPr>
          <p:nvPr>
            <p:ph type="sldNum" idx="27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FBFF-25E8-440A-9308-F3C22B9C3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9" name="PlaceHolder 3"/>
          <p:cNvSpPr>
            <a:spLocks noGrp="1"/>
          </p:cNvSpPr>
          <p:nvPr>
            <p:ph type="dt" idx="27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0" name="PlaceHolder 4"/>
          <p:cNvSpPr>
            <a:spLocks noGrp="1"/>
          </p:cNvSpPr>
          <p:nvPr>
            <p:ph type="ftr" idx="2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1" name="PlaceHolder 5"/>
          <p:cNvSpPr>
            <a:spLocks noGrp="1"/>
          </p:cNvSpPr>
          <p:nvPr>
            <p:ph type="sldNum" idx="27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6608-21D8-444B-822F-DE88DAB34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 type="dt" idx="27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 type="ftr" idx="2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2" name="PlaceHolder 5"/>
          <p:cNvSpPr>
            <a:spLocks noGrp="1"/>
          </p:cNvSpPr>
          <p:nvPr>
            <p:ph type="sldNum" idx="27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47D3-0C94-4E33-8924-839D5A7DC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1" name="PlaceHolder 3"/>
          <p:cNvSpPr>
            <a:spLocks noGrp="1"/>
          </p:cNvSpPr>
          <p:nvPr>
            <p:ph type="dt" idx="27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2" name="PlaceHolder 4"/>
          <p:cNvSpPr>
            <a:spLocks noGrp="1"/>
          </p:cNvSpPr>
          <p:nvPr>
            <p:ph type="ftr" idx="2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PlaceHolder 5"/>
          <p:cNvSpPr>
            <a:spLocks noGrp="1"/>
          </p:cNvSpPr>
          <p:nvPr>
            <p:ph type="sldNum" idx="27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9A17-1EEB-43EB-88B8-AD30EDD40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2" name="PlaceHolder 3"/>
          <p:cNvSpPr>
            <a:spLocks noGrp="1"/>
          </p:cNvSpPr>
          <p:nvPr>
            <p:ph type="dt" idx="28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3" name="PlaceHolder 4"/>
          <p:cNvSpPr>
            <a:spLocks noGrp="1"/>
          </p:cNvSpPr>
          <p:nvPr>
            <p:ph type="ftr" idx="2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4" name="PlaceHolder 5"/>
          <p:cNvSpPr>
            <a:spLocks noGrp="1"/>
          </p:cNvSpPr>
          <p:nvPr>
            <p:ph type="sldNum" idx="28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A0A22-AA24-4129-902C-F65A6D83A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3" name="PlaceHolder 3"/>
          <p:cNvSpPr>
            <a:spLocks noGrp="1"/>
          </p:cNvSpPr>
          <p:nvPr>
            <p:ph type="dt" idx="28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4" name="PlaceHolder 4"/>
          <p:cNvSpPr>
            <a:spLocks noGrp="1"/>
          </p:cNvSpPr>
          <p:nvPr>
            <p:ph type="ftr" idx="2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5" name="PlaceHolder 5"/>
          <p:cNvSpPr>
            <a:spLocks noGrp="1"/>
          </p:cNvSpPr>
          <p:nvPr>
            <p:ph type="sldNum" idx="28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19AF-4650-4E16-B304-5D44B0D99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4" name="PlaceHolder 3"/>
          <p:cNvSpPr>
            <a:spLocks noGrp="1"/>
          </p:cNvSpPr>
          <p:nvPr>
            <p:ph type="dt" idx="28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5" name="PlaceHolder 4"/>
          <p:cNvSpPr>
            <a:spLocks noGrp="1"/>
          </p:cNvSpPr>
          <p:nvPr>
            <p:ph type="ftr" idx="2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6" name="PlaceHolder 5"/>
          <p:cNvSpPr>
            <a:spLocks noGrp="1"/>
          </p:cNvSpPr>
          <p:nvPr>
            <p:ph type="sldNum" idx="28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30EF-DEE7-44C3-83BB-2E84DAACF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 type="dt" idx="28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 type="ftr" idx="2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7" name="PlaceHolder 5"/>
          <p:cNvSpPr>
            <a:spLocks noGrp="1"/>
          </p:cNvSpPr>
          <p:nvPr>
            <p:ph type="sldNum" idx="29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09E4-2B86-45BD-BFA0-435D0A93CE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6" name="PlaceHolder 3"/>
          <p:cNvSpPr>
            <a:spLocks noGrp="1"/>
          </p:cNvSpPr>
          <p:nvPr>
            <p:ph type="dt" idx="29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7" name="PlaceHolder 4"/>
          <p:cNvSpPr>
            <a:spLocks noGrp="1"/>
          </p:cNvSpPr>
          <p:nvPr>
            <p:ph type="ftr" idx="2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8" name="PlaceHolder 5"/>
          <p:cNvSpPr>
            <a:spLocks noGrp="1"/>
          </p:cNvSpPr>
          <p:nvPr>
            <p:ph type="sldNum" idx="29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3AE4-A8CE-4DF8-A0CD-EE0454603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8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7" name="PlaceHolder 3"/>
          <p:cNvSpPr>
            <a:spLocks noGrp="1"/>
          </p:cNvSpPr>
          <p:nvPr>
            <p:ph type="dt" idx="29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8" name="PlaceHolder 4"/>
          <p:cNvSpPr>
            <a:spLocks noGrp="1"/>
          </p:cNvSpPr>
          <p:nvPr>
            <p:ph type="ftr" idx="2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9" name="PlaceHolder 5"/>
          <p:cNvSpPr>
            <a:spLocks noGrp="1"/>
          </p:cNvSpPr>
          <p:nvPr>
            <p:ph type="sldNum" idx="29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41F0-8897-4996-A79A-0A28F12A75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6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8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6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troke volu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8280" indent="0" algn="ctr">
              <a:lnSpc>
                <a:spcPct val="6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. Mona Soliman, MBBS, MSc, Ph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8280" indent="0" algn="ctr">
              <a:lnSpc>
                <a:spcPct val="6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ead, Medical Education Depart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8280" indent="0" algn="ctr">
              <a:lnSpc>
                <a:spcPct val="6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ssociate Professor of Physi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8280" indent="0" algn="ctr">
              <a:lnSpc>
                <a:spcPct val="6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hair of Cardiovascular B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8280" indent="0" algn="ctr">
              <a:lnSpc>
                <a:spcPct val="6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llege of Medi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8280" indent="0" algn="ctr">
              <a:lnSpc>
                <a:spcPct val="6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ing Saud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ors Affecting Stroke Volume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6339" name="Group 14"/>
          <p:cNvGrpSpPr/>
          <p:nvPr/>
        </p:nvGrpSpPr>
        <p:grpSpPr>
          <a:xfrm>
            <a:off x="539640" y="836640"/>
            <a:ext cx="8136000" cy="5904720"/>
            <a:chOff x="539640" y="836640"/>
            <a:chExt cx="8136000" cy="5904720"/>
          </a:xfrm>
        </p:grpSpPr>
        <p:grpSp>
          <p:nvGrpSpPr>
            <p:cNvPr id="6340" name="Group 13"/>
            <p:cNvGrpSpPr/>
            <p:nvPr/>
          </p:nvGrpSpPr>
          <p:grpSpPr>
            <a:xfrm>
              <a:off x="539640" y="836640"/>
              <a:ext cx="8136000" cy="5904720"/>
              <a:chOff x="539640" y="836640"/>
              <a:chExt cx="8136000" cy="5904720"/>
            </a:xfrm>
          </p:grpSpPr>
          <p:pic>
            <p:nvPicPr>
              <p:cNvPr id="6341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836640"/>
                <a:ext cx="8136000" cy="590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42" name="Rectangle 7"/>
              <p:cNvSpPr/>
              <p:nvPr/>
            </p:nvSpPr>
            <p:spPr>
              <a:xfrm>
                <a:off x="4676400" y="2828520"/>
                <a:ext cx="1240920" cy="104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ractility of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uscle cell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 =   ESV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nt =   ESV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43" name="Line 8"/>
            <p:cNvSpPr/>
            <p:nvPr/>
          </p:nvSpPr>
          <p:spPr>
            <a:xfrm>
              <a:off x="4814280" y="3398040"/>
              <a:ext cx="0" cy="189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4" name="Line 9"/>
            <p:cNvSpPr/>
            <p:nvPr/>
          </p:nvSpPr>
          <p:spPr>
            <a:xfrm>
              <a:off x="4814280" y="3682440"/>
              <a:ext cx="0" cy="18936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5" name="Line 10"/>
            <p:cNvSpPr/>
            <p:nvPr/>
          </p:nvSpPr>
          <p:spPr>
            <a:xfrm>
              <a:off x="5365800" y="3398040"/>
              <a:ext cx="0" cy="189360"/>
            </a:xfrm>
            <a:prstGeom prst="line">
              <a:avLst/>
            </a:prstGeom>
            <a:ln w="93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6" name="Line 12"/>
            <p:cNvSpPr/>
            <p:nvPr/>
          </p:nvSpPr>
          <p:spPr>
            <a:xfrm flipV="1">
              <a:off x="5365800" y="3587040"/>
              <a:ext cx="0" cy="189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jection Frac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8" name=""/>
          <p:cNvSpPr txBox="1"/>
          <p:nvPr/>
        </p:nvSpPr>
        <p:spPr>
          <a:xfrm>
            <a:off x="826560" y="2060280"/>
            <a:ext cx="7201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action of end-diastolic volume ejected during a heart be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jection fraction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oke volume / end diastolic volu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= 70 mL / 130 mL = 0.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actors affecting myocardial contractility: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(Inotropic effectors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0" name=""/>
          <p:cNvSpPr txBox="1"/>
          <p:nvPr/>
        </p:nvSpPr>
        <p:spPr>
          <a:xfrm>
            <a:off x="1186920" y="2205000"/>
            <a:ext cx="6480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End-Diastolic Volum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Starling’s law of the heart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Cardiac innerv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 Oxygen supp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.  Calcium &amp; potassium ions concentration in ECF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.  Physical facto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.  Hormonal &amp; chemical factors (drug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.  Mechanical facto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1" name=""/>
          <p:cNvSpPr txBox="1"/>
          <p:nvPr/>
        </p:nvSpPr>
        <p:spPr>
          <a:xfrm>
            <a:off x="1042560" y="981000"/>
            <a:ext cx="67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- Starling’s law of the hear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ngth-tension relationship”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ithin limits, the power of contraction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irectly proportional to the initial length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muscle fib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stretching the fiber as 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eart failur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wer of contractilit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decrea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"/>
          <p:cNvSpPr txBox="1"/>
          <p:nvPr/>
        </p:nvSpPr>
        <p:spPr>
          <a:xfrm>
            <a:off x="826920" y="907560"/>
            <a:ext cx="70581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2- Cardiac Innerv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mpathetic NS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force of contra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rasympathetic NS (vagus)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atrial forc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raction with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o significan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ffect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ntricular contraction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4" name=""/>
          <p:cNvSpPr txBox="1"/>
          <p:nvPr/>
        </p:nvSpPr>
        <p:spPr>
          <a:xfrm>
            <a:off x="1258560" y="549000"/>
            <a:ext cx="6553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3- Oxygen supply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ypoxia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ontractility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4- Calcium &amp; potassium ions concentration in ECF: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ontract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ontract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5-    Physical factors: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arming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ontract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oling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contractility.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"/>
          <p:cNvSpPr txBox="1"/>
          <p:nvPr/>
        </p:nvSpPr>
        <p:spPr>
          <a:xfrm>
            <a:off x="1116000" y="765000"/>
            <a:ext cx="69120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6- Hormonal &amp; chemical factors (drug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ositive inotrop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Adrenaline, noradrenaline, alkalosis, digitali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2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and caffi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gative inotropi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Acetylcholine, acidosis, ether, chlorofor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ome bacterial toxins (e.g. diphtheria toxins), K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  <a:ea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, 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"/>
          <p:cNvSpPr txBox="1"/>
          <p:nvPr/>
        </p:nvSpPr>
        <p:spPr>
          <a:xfrm>
            <a:off x="826560" y="765000"/>
            <a:ext cx="7417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7- Mechanical factor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. Cardiac muscle obeys ‘all or none law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inimal or threshold stimuli lead to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aximal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di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raction, because cardiac muscle behaves as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yncytiu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. Cardiac muscle can’t be stimulated while it is contracted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ecause it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xcitability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uring contraction i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zero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ue 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on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solute refractory period, so it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an’t be tetaniz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diac muscle can perform both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sometri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soton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ypes of contrac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eart failur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58" name=""/>
          <p:cNvSpPr txBox="1"/>
          <p:nvPr/>
        </p:nvSpPr>
        <p:spPr>
          <a:xfrm>
            <a:off x="1258920" y="1699920"/>
            <a:ext cx="63374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efin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It is the pathophysiological process in which the heart as a pump is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unable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to meet the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etabolic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requirements of the tissue for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xygen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and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ubstrates</a:t>
            </a:r>
            <a:r>
              <a:rPr b="1" lang="en-GB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despite the venous return</a:t>
            </a:r>
            <a:r>
              <a:rPr b="1" lang="sk-SK" sz="2400" spc="-1" strike="noStrike">
                <a:solidFill>
                  <a:srgbClr val="ffff00"/>
                </a:solidFill>
                <a:latin typeface="Arial"/>
                <a:ea typeface="Arial"/>
              </a:rPr>
              <a:t> to heart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 is either normal or increa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0" name=""/>
          <p:cNvSpPr txBox="1"/>
          <p:nvPr/>
        </p:nvSpPr>
        <p:spPr>
          <a:xfrm>
            <a:off x="539640" y="1844280"/>
            <a:ext cx="7777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 failure can involve the left or r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de of the heart or bo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ually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eft si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ffected fi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 failure occurs when either sid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eart cannot keep up with the flow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troke volum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5" name=""/>
          <p:cNvSpPr txBox="1"/>
          <p:nvPr/>
        </p:nvSpPr>
        <p:spPr>
          <a:xfrm>
            <a:off x="1042560" y="160020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the volume of blood pumped by each ventricle per be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lly it is about 70 ml/be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2" name=""/>
          <p:cNvSpPr txBox="1"/>
          <p:nvPr/>
        </p:nvSpPr>
        <p:spPr>
          <a:xfrm>
            <a:off x="468000" y="1483920"/>
            <a:ext cx="748836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olic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heart looses it’s ability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ac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mp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blood into the cir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stolic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heart looses it’s ability t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x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because it becom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eart cannot fill properly between each b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ngestive Heart Failur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64" name="PlaceHolder 2"/>
          <p:cNvSpPr>
            <a:spLocks noGrp="1"/>
          </p:cNvSpPr>
          <p:nvPr>
            <p:ph/>
          </p:nvPr>
        </p:nvSpPr>
        <p:spPr>
          <a:xfrm>
            <a:off x="899640" y="160020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mpto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ness of bre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g swelling (edem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thing worsens with lying flat (orthopne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6" name="PlaceHolder 2"/>
          <p:cNvSpPr>
            <a:spLocks noGrp="1"/>
          </p:cNvSpPr>
          <p:nvPr>
            <p:ph/>
          </p:nvPr>
        </p:nvSpPr>
        <p:spPr>
          <a:xfrm>
            <a:off x="762120" y="1628640"/>
            <a:ext cx="733896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is Left Heart Failu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olic and diastolic heart failure are treated with different types of med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both types, blood may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ck u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” in the lungs causing fluid to leak into the lung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lmonary ede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id may also build up in tissues throughout the body (edem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7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68" name="PlaceHolder 2"/>
          <p:cNvSpPr>
            <a:spLocks noGrp="1"/>
          </p:cNvSpPr>
          <p:nvPr>
            <p:ph/>
          </p:nvPr>
        </p:nvSpPr>
        <p:spPr>
          <a:xfrm>
            <a:off x="762120" y="1699920"/>
            <a:ext cx="733896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at is Right Heart Failu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ually occurs as a result of left heart failu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casionally isolated right heart failure can occur due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ung disea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blood clots to the lung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ulmonary embolis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762120" y="1628640"/>
            <a:ext cx="77724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w fast does heart failure develop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ually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ron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heart tries to compensate for the loss in pumping function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Developing more muscle m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Enlar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  Pumping fa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uses of Heart Failur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72" name=""/>
          <p:cNvSpPr txBox="1"/>
          <p:nvPr/>
        </p:nvSpPr>
        <p:spPr>
          <a:xfrm>
            <a:off x="900000" y="764640"/>
            <a:ext cx="6120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- Impaired cardiac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ronary heart dis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ardiomyopathies (muscle diseas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heumatic fe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ndocardit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- Increased cardiac work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yperten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Valvular disor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em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genital heart def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- Acute non-cardiac cond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Volume overl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Hyperthyroidism, Fever, Inf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ndicator for Diagnosing Heart Failur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74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72723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jection Fraction (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jection Fraction (EF) is the percentage of blood that is pumped out of your heart during each be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5" name="Picture 4" descr=""/>
          <p:cNvPicPr/>
          <p:nvPr/>
        </p:nvPicPr>
        <p:blipFill>
          <a:blip r:embed="rId1"/>
          <a:stretch/>
        </p:blipFill>
        <p:spPr>
          <a:xfrm>
            <a:off x="1187280" y="3213000"/>
            <a:ext cx="640908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ow Heart Failure Is Diagnose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77" name="PlaceHolder 2"/>
          <p:cNvSpPr>
            <a:spLocks noGrp="1"/>
          </p:cNvSpPr>
          <p:nvPr>
            <p:ph/>
          </p:nvPr>
        </p:nvSpPr>
        <p:spPr>
          <a:xfrm>
            <a:off x="930240" y="1844280"/>
            <a:ext cx="70264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dical history is taken to reveal symp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exam is d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st X-r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lood t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ical tracing of heart (Electrocardiogram or “ECG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ltrasound of heart (Echocardiogram or “Echo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-ray of the inside of blood vessels (Angiogra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8" name="Text Box 4"/>
          <p:cNvSpPr/>
          <p:nvPr/>
        </p:nvSpPr>
        <p:spPr>
          <a:xfrm>
            <a:off x="746280" y="6138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art Failure 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0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5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gns and Symptoms of Heart Fail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sistent Cough or Wheez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uid “backs up” in the lu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ghing that produces white 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nk blood-tinged sput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81" name="Group 7"/>
          <p:cNvGrpSpPr/>
          <p:nvPr/>
        </p:nvGrpSpPr>
        <p:grpSpPr>
          <a:xfrm>
            <a:off x="2600280" y="2349360"/>
            <a:ext cx="3943440" cy="2119320"/>
            <a:chOff x="2600280" y="2349360"/>
            <a:chExt cx="3943440" cy="2119320"/>
          </a:xfrm>
        </p:grpSpPr>
        <p:sp>
          <p:nvSpPr>
            <p:cNvPr id="6382" name="Rectangle 8"/>
            <p:cNvSpPr/>
            <p:nvPr/>
          </p:nvSpPr>
          <p:spPr>
            <a:xfrm>
              <a:off x="2600280" y="2349360"/>
              <a:ext cx="3943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3" name="Rectangle 9"/>
            <p:cNvSpPr/>
            <p:nvPr/>
          </p:nvSpPr>
          <p:spPr>
            <a:xfrm>
              <a:off x="2600280" y="2349360"/>
              <a:ext cx="300996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33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eart Failure 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85" name="PlaceHolder 2"/>
          <p:cNvSpPr>
            <a:spLocks noGrp="1"/>
          </p:cNvSpPr>
          <p:nvPr>
            <p:ph/>
          </p:nvPr>
        </p:nvSpPr>
        <p:spPr>
          <a:xfrm>
            <a:off x="837720" y="1268280"/>
            <a:ext cx="7047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gns and Symptoms of Heart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d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creased blood flow out of the weak he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lood returning to the heart from the veins 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s up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” causing fluid to build up in t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welling in feet, ankles, legs or abdom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eight g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86" name="Group 7"/>
          <p:cNvGrpSpPr/>
          <p:nvPr/>
        </p:nvGrpSpPr>
        <p:grpSpPr>
          <a:xfrm>
            <a:off x="2600280" y="2349360"/>
            <a:ext cx="3943440" cy="2119320"/>
            <a:chOff x="2600280" y="2349360"/>
            <a:chExt cx="3943440" cy="2119320"/>
          </a:xfrm>
        </p:grpSpPr>
        <p:sp>
          <p:nvSpPr>
            <p:cNvPr id="6387" name="Rectangle 8"/>
            <p:cNvSpPr/>
            <p:nvPr/>
          </p:nvSpPr>
          <p:spPr>
            <a:xfrm>
              <a:off x="2600280" y="2349360"/>
              <a:ext cx="3943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8" name="Rectangle 9"/>
            <p:cNvSpPr/>
            <p:nvPr/>
          </p:nvSpPr>
          <p:spPr>
            <a:xfrm>
              <a:off x="2600280" y="2349360"/>
              <a:ext cx="300996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33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0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D-SYSTOLIC VOLUME (ESV) and</a:t>
            </a:r>
            <a:br>
              <a:rPr sz="2000"/>
            </a:b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D-DIASTOLIC VOLUME (EDV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uring ventricular diastole, filling of the ventricles with blood normally increases the volume of each ventricle to abou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20-130 m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volume of blood present in each ventricle at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 of ventricular diastole is called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d-diastol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olum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(EDV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reload,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ich is about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120-130 m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volume of blood ejected by each ventricle du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ach ventricular systole is called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troke volum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=70-80 ml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volume of blood present in each ventricle at the end of ventricular systole is called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d-systolic volum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(ESV) and it is about 50-60 m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9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0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6973920" cy="55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gns and Symptoms of Heart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redness, 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eart can’t pump enough blood to meet needs of bodies t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dy diverts blood away from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 vit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rgans (muscles in limbs) and sends it to th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r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tant tired fee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fficulty with everyday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91" name="Group 7"/>
          <p:cNvGrpSpPr/>
          <p:nvPr/>
        </p:nvGrpSpPr>
        <p:grpSpPr>
          <a:xfrm>
            <a:off x="2600280" y="2349360"/>
            <a:ext cx="3943440" cy="2119320"/>
            <a:chOff x="2600280" y="2349360"/>
            <a:chExt cx="3943440" cy="2119320"/>
          </a:xfrm>
        </p:grpSpPr>
        <p:sp>
          <p:nvSpPr>
            <p:cNvPr id="6392" name="Rectangle 8"/>
            <p:cNvSpPr/>
            <p:nvPr/>
          </p:nvSpPr>
          <p:spPr>
            <a:xfrm>
              <a:off x="2600280" y="2349360"/>
              <a:ext cx="3943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3" name="Rectangle 9"/>
            <p:cNvSpPr/>
            <p:nvPr/>
          </p:nvSpPr>
          <p:spPr>
            <a:xfrm>
              <a:off x="2600280" y="2349360"/>
              <a:ext cx="300996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33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art Failure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95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73342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igns and Symptoms of Heart Fail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ck of appetite/ Nau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 digestive system receives less blood causing problems with diges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eeling of being full or sick to your stoma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96" name="Group 7"/>
          <p:cNvGrpSpPr/>
          <p:nvPr/>
        </p:nvGrpSpPr>
        <p:grpSpPr>
          <a:xfrm>
            <a:off x="2600280" y="2349360"/>
            <a:ext cx="3943440" cy="2119320"/>
            <a:chOff x="2600280" y="2349360"/>
            <a:chExt cx="3943440" cy="2119320"/>
          </a:xfrm>
        </p:grpSpPr>
        <p:sp>
          <p:nvSpPr>
            <p:cNvPr id="6397" name="Rectangle 8"/>
            <p:cNvSpPr/>
            <p:nvPr/>
          </p:nvSpPr>
          <p:spPr>
            <a:xfrm>
              <a:off x="2600280" y="2349360"/>
              <a:ext cx="3943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8" name="Rectangle 9"/>
            <p:cNvSpPr/>
            <p:nvPr/>
          </p:nvSpPr>
          <p:spPr>
            <a:xfrm>
              <a:off x="2600280" y="2349360"/>
              <a:ext cx="3009960" cy="21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33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eft Ventricular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0" name=""/>
          <p:cNvSpPr txBox="1"/>
          <p:nvPr/>
        </p:nvSpPr>
        <p:spPr>
          <a:xfrm>
            <a:off x="539280" y="836640"/>
            <a:ext cx="3816360" cy="55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igns and 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ysp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rthopnea and paroxysmal nocturnal dyspno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eyne Stokes breath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tig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xie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llor, cyan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creased HR and B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01" name="Object 4"/>
          <p:cNvGraphicFramePr/>
          <p:nvPr/>
        </p:nvGraphicFramePr>
        <p:xfrm>
          <a:off x="4427640" y="1557360"/>
          <a:ext cx="3600360" cy="33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1557360"/>
                    <a:ext cx="360036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3" name="PlaceHolder 1"/>
          <p:cNvSpPr>
            <a:spLocks noGrp="1"/>
          </p:cNvSpPr>
          <p:nvPr>
            <p:ph type="title"/>
          </p:nvPr>
        </p:nvSpPr>
        <p:spPr>
          <a:xfrm>
            <a:off x="22860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ight Heart Fail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04" name=""/>
          <p:cNvSpPr txBox="1"/>
          <p:nvPr/>
        </p:nvSpPr>
        <p:spPr>
          <a:xfrm>
            <a:off x="-360" y="836640"/>
            <a:ext cx="51814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igns and Sympto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tigu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akn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thar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ight gain, including  abdominal gir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orex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levated neck v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epatomega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05" name="Object 1"/>
          <p:cNvGraphicFramePr/>
          <p:nvPr/>
        </p:nvGraphicFramePr>
        <p:xfrm>
          <a:off x="4140360" y="836640"/>
          <a:ext cx="3168360" cy="50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0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836640"/>
                    <a:ext cx="3168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7" name="Picture 1026" descr="CHF pitting edema"/>
          <p:cNvPicPr/>
          <p:nvPr/>
        </p:nvPicPr>
        <p:blipFill>
          <a:blip r:embed="rId1"/>
          <a:stretch/>
        </p:blipFill>
        <p:spPr>
          <a:xfrm>
            <a:off x="5486400" y="14479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6408" name="TextBox 2"/>
          <p:cNvSpPr/>
          <p:nvPr/>
        </p:nvSpPr>
        <p:spPr>
          <a:xfrm>
            <a:off x="838080" y="533520"/>
            <a:ext cx="57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What is present in this extremity, common to right sided HF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09" name="Straight Arrow Connector 4"/>
          <p:cNvCxnSpPr/>
          <p:nvPr/>
        </p:nvCxnSpPr>
        <p:spPr>
          <a:xfrm>
            <a:off x="5180400" y="838080"/>
            <a:ext cx="2057760" cy="22867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6410" name="Picture 2" descr="http://www.genderandhealth.ca/en/modules/congestiveheartfailure/imageContent/55PJ35JA.jpg"/>
          <p:cNvPicPr/>
          <p:nvPr/>
        </p:nvPicPr>
        <p:blipFill>
          <a:blip r:embed="rId2"/>
          <a:stretch/>
        </p:blipFill>
        <p:spPr>
          <a:xfrm>
            <a:off x="533520" y="1295280"/>
            <a:ext cx="4343400" cy="4762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an You Have RVF without LVF?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2" name=""/>
          <p:cNvSpPr txBox="1"/>
          <p:nvPr/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is calle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R PULMON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13" name="Picture 2050" descr="cor pulmonale"/>
          <p:cNvPicPr/>
          <p:nvPr/>
        </p:nvPicPr>
        <p:blipFill>
          <a:blip r:embed="rId1"/>
          <a:stretch/>
        </p:blipFill>
        <p:spPr>
          <a:xfrm>
            <a:off x="684360" y="1628640"/>
            <a:ext cx="6624360" cy="484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or further readings and diagrams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Textbook of Medical Physiology by Guyton &amp; H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hapter 19 (Cardiac Fail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8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actors Affecting the Stroke Volume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9" name=""/>
          <p:cNvSpPr txBox="1"/>
          <p:nvPr/>
        </p:nvSpPr>
        <p:spPr>
          <a:xfrm>
            <a:off x="900000" y="1700280"/>
            <a:ext cx="71280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- The end diastolic volume (EDV) or pre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s the amount of blood a ventricle contains at the end of diastole, depends 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- Filling ti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Which is the duration of ventricular diast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- Venous retur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The rate of blood flow during ventricular diast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0" name="PlaceHolder 1"/>
          <p:cNvSpPr>
            <a:spLocks noGrp="1"/>
          </p:cNvSpPr>
          <p:nvPr>
            <p:ph type="title"/>
          </p:nvPr>
        </p:nvSpPr>
        <p:spPr>
          <a:xfrm>
            <a:off x="380880" y="188640"/>
            <a:ext cx="8763120" cy="95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 Frank–Starling Principle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Starling’s law of the heart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21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1298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Frank Starling principle is based on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ngth-tensio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lationship within the ventr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ventricular end diastolic volum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preload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s increased, it follows that the ventricular fiber length is also increased, resulting in an increased ‘tension’ of the mus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diac output is directly related to venous return, the most important determining factor is preload.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ontraction and therefore stroke volume in response to changes in venous return is called th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Frank-Starling mechanism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or Starling's Law of the heart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2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actors Affecting the Stroke Volume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3" name=""/>
          <p:cNvSpPr txBox="1"/>
          <p:nvPr/>
        </p:nvSpPr>
        <p:spPr>
          <a:xfrm>
            <a:off x="1042920" y="1557000"/>
            <a:ext cx="63374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- End-Systolic Volume (ESV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The amount of blood that remains in the ventricle at the end of ventricular systole is the ESV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↑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-Systolic Volume (ESV) → ↓ stroke volu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↓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nd-Systolic Volume (ESV) → ↑ stroke volu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fterload 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5" name=""/>
          <p:cNvSpPr txBox="1"/>
          <p:nvPr/>
        </p:nvSpPr>
        <p:spPr>
          <a:xfrm>
            <a:off x="971280" y="1484280"/>
            <a:ext cx="67690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It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expressed a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ension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ich must be developed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the wall of ventricles during systole t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open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semilunar valve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eject blood to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 aort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k-SK" sz="2000" spc="-1" strike="noStrike">
                <a:solidFill>
                  <a:srgbClr val="ffffff"/>
                </a:solidFill>
                <a:latin typeface="Arial"/>
                <a:ea typeface="Arial"/>
              </a:rPr>
              <a:t>/pulmunary arter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s increased by any factor that restricts arterial blood flow like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- Increased arterial blood pressu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- Vasoconstriction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s afterload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ncreas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, stroke volum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ecreas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troke Volume Control Factor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7" name=""/>
          <p:cNvSpPr txBox="1"/>
          <p:nvPr/>
        </p:nvSpPr>
        <p:spPr>
          <a:xfrm>
            <a:off x="971280" y="1700280"/>
            <a:ext cx="684036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-  End-Diastolic Volume (EDV) or Prelo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illing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ate of venous retu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-  End-Systolic Volume (ES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eload              ↑ preload → ↓ ES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ractility      ↑ Contractility → ↓ ESV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fterload           ↑ Afterload → ↑ ESV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actors Influencing Stroke Volum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329" name="Group 7"/>
          <p:cNvGrpSpPr/>
          <p:nvPr/>
        </p:nvGrpSpPr>
        <p:grpSpPr>
          <a:xfrm>
            <a:off x="684360" y="1432080"/>
            <a:ext cx="7704000" cy="4359240"/>
            <a:chOff x="684360" y="1432080"/>
            <a:chExt cx="7704000" cy="4359240"/>
          </a:xfrm>
        </p:grpSpPr>
        <p:pic>
          <p:nvPicPr>
            <p:cNvPr id="6330" name="Picture 8" descr="_x0012_Figure_13_30.1.jpg                                             00029D3E&#10;Maxtor 300                     BFF2A1C5:"/>
            <p:cNvPicPr/>
            <p:nvPr/>
          </p:nvPicPr>
          <p:blipFill>
            <a:blip r:embed="rId1"/>
            <a:stretch/>
          </p:blipFill>
          <p:spPr>
            <a:xfrm>
              <a:off x="684360" y="1432080"/>
              <a:ext cx="7704000" cy="43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1" name="Rectangle 9"/>
            <p:cNvSpPr/>
            <p:nvPr/>
          </p:nvSpPr>
          <p:spPr>
            <a:xfrm>
              <a:off x="2397240" y="5070600"/>
              <a:ext cx="1229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roke volum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2" name="Rectangle 10"/>
            <p:cNvSpPr/>
            <p:nvPr/>
          </p:nvSpPr>
          <p:spPr>
            <a:xfrm>
              <a:off x="1265760" y="3632040"/>
              <a:ext cx="11192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d-diastoli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3" name="Rectangle 11"/>
            <p:cNvSpPr/>
            <p:nvPr/>
          </p:nvSpPr>
          <p:spPr>
            <a:xfrm>
              <a:off x="1212120" y="1577880"/>
              <a:ext cx="120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nous retur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4" name="Rectangle 12"/>
            <p:cNvSpPr/>
            <p:nvPr/>
          </p:nvSpPr>
          <p:spPr>
            <a:xfrm>
              <a:off x="3780360" y="3632040"/>
              <a:ext cx="104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act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5" name="Rectangle 13"/>
            <p:cNvSpPr/>
            <p:nvPr/>
          </p:nvSpPr>
          <p:spPr>
            <a:xfrm>
              <a:off x="6253920" y="3632040"/>
              <a:ext cx="1430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rterial pressur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fterload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6" name="Rectangle 14"/>
            <p:cNvSpPr/>
            <p:nvPr/>
          </p:nvSpPr>
          <p:spPr>
            <a:xfrm>
              <a:off x="3743640" y="1577880"/>
              <a:ext cx="10598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mpathetic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ity 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pinephrin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Rectangle 15"/>
            <p:cNvSpPr/>
            <p:nvPr/>
          </p:nvSpPr>
          <p:spPr>
            <a:xfrm>
              <a:off x="2647440" y="3019320"/>
              <a:ext cx="75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Ventric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04:04:45Z</dcterms:created>
  <dc:creator>tarig</dc:creator>
  <dc:description/>
  <dc:language>en-US</dc:language>
  <cp:lastModifiedBy>Sulaiman Mona</cp:lastModifiedBy>
  <dcterms:modified xsi:type="dcterms:W3CDTF">2016-02-28T11:41:12Z</dcterms:modified>
  <cp:revision>158</cp:revision>
  <dc:subject/>
  <dc:title>Venous Return</dc:title>
</cp:coreProperties>
</file>