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A3F-377B-4E08-9456-7EE8157B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DE5-D777-471C-B2EA-BA430AFB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AC2-7E21-489A-BB51-0461A27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CBE-2ED2-41FB-BFAA-76E7D0B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006-40A9-41BD-BC60-400B501C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56E-6DB5-41C1-B390-0C76C7B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AB3-A315-453C-99AF-0040FC5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1D4-665A-47B3-AC9F-A39B5BFD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F5D-2E71-4E41-9B2D-332FBF0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383-ADBD-4E4D-B618-4976107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389-F432-4CF2-A8B0-F97E0F89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CCF-728C-4786-AAE4-C6A60D93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9B3-0759-4055-882C-619CE6159A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540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09480" y="5486400"/>
            <a:ext cx="7925040" cy="52056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. Jamila EL medany &amp; Dr. Essam Eldin  Sal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89400" y="2097000"/>
            <a:ext cx="23652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2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posterior aortic sin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ses 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the pulmonary trunk and the left au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trioventricular  groov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s i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artery 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ircumflex</a:t>
            </a:r>
            <a:r>
              <a:rPr b="0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ontent Placeholder 4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43400" cy="4717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7315200" y="2286000"/>
            <a:ext cx="1219320" cy="5335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3" descr="C:\Documents and Settings\User\My Documents\Student Gray\3. Thorax\F66122-003-f068.jpg"/>
          <p:cNvPicPr/>
          <p:nvPr/>
        </p:nvPicPr>
        <p:blipFill>
          <a:blip r:embed="rId3"/>
          <a:srcRect l="12825" t="0" r="12825" b="3121"/>
          <a:stretch/>
        </p:blipFill>
        <p:spPr>
          <a:xfrm>
            <a:off x="4267080" y="4876920"/>
            <a:ext cx="1349640" cy="14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1030320" y="731880"/>
            <a:ext cx="7242120" cy="1120680"/>
            <a:chOff x="1030320" y="731880"/>
            <a:chExt cx="7242120" cy="112068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1030320" y="731880"/>
              <a:ext cx="724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43000" y="765360"/>
              <a:ext cx="68389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nterior interventricular 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4571640" y="1676160"/>
            <a:ext cx="4419720" cy="472428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cends in the anterior interventricular groove (with the great cardiac vein) toward the apex of the heart 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most individuals  it passes around the apex and anastomoses with the right coronary in the posterior IV groov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one third ends at the ape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ies major part of the heart including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ght and left ventric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terior part of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ricular Sept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ft diagonal arter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 one of the ventricular branches, or  may arise  from trunk of the left coro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ft conus arter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he pulmonary con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C:\Documents and Settings\User\My Documents\Student Gray\3. Thorax\F66122-003-f072a.jpg"/>
          <p:cNvPicPr/>
          <p:nvPr/>
        </p:nvPicPr>
        <p:blipFill>
          <a:blip r:embed="rId2"/>
          <a:srcRect l="0" t="0" r="0" b="4215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sp>
        <p:nvSpPr>
          <p:cNvPr id="173" name="Oval 4"/>
          <p:cNvSpPr/>
          <p:nvPr/>
        </p:nvSpPr>
        <p:spPr>
          <a:xfrm>
            <a:off x="3048120" y="4876920"/>
            <a:ext cx="228600" cy="152280"/>
          </a:xfrm>
          <a:prstGeom prst="ellipse">
            <a:avLst/>
          </a:prstGeom>
          <a:solidFill>
            <a:srgbClr val="fdff6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2362320" y="4648320"/>
            <a:ext cx="152280" cy="2286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429000" y="4495680"/>
            <a:ext cx="914400" cy="38124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429000" y="5334120"/>
            <a:ext cx="1066680" cy="3808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0240" y="1447560"/>
            <a:ext cx="43434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ds around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margin of the heart in the atrioventricular groove; with the end of the great cardiac vein, it gives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ft Marginal arte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left margin of the left ventricle till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rior 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terior 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to the left ventri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ri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to the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757520" y="549360"/>
            <a:ext cx="562896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533520" y="1828800"/>
            <a:ext cx="4114800" cy="3693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2209680" y="609480"/>
            <a:ext cx="5181840" cy="7642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rcumflex ar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3124080" y="4495680"/>
            <a:ext cx="152640" cy="76320"/>
          </a:xfrm>
          <a:prstGeom prst="ellipse">
            <a:avLst/>
          </a:prstGeom>
          <a:solidFill>
            <a:srgbClr val="6086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2971800" y="4038480"/>
            <a:ext cx="152280" cy="122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5"/>
          <p:cNvSpPr/>
          <p:nvPr/>
        </p:nvSpPr>
        <p:spPr>
          <a:xfrm>
            <a:off x="2971800" y="3429000"/>
            <a:ext cx="7632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16"/>
          <p:cNvSpPr/>
          <p:nvPr/>
        </p:nvSpPr>
        <p:spPr>
          <a:xfrm>
            <a:off x="3124080" y="3809880"/>
            <a:ext cx="76320" cy="7632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3276720" y="2971800"/>
            <a:ext cx="99036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3429000" y="3475080"/>
            <a:ext cx="914400" cy="411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419720" y="22093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(90 %) of population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dominanc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st (10%)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arte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685800" y="2209680"/>
            <a:ext cx="3809880" cy="396252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20360" y="4770000"/>
            <a:ext cx="5521320" cy="582840"/>
          </a:xfrm>
          <a:prstGeom prst="rect">
            <a:avLst/>
          </a:prstGeom>
          <a:solidFill>
            <a:srgbClr val="feff9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ronary Anastomo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655308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es between terminal branches of the right and left coronaries exist but not large enough to provide adequate blood supp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1"/>
          <a:srcRect l="0" t="1235" r="0" b="1235"/>
          <a:stretch/>
        </p:blipFill>
        <p:spPr>
          <a:xfrm>
            <a:off x="1447920" y="612720"/>
            <a:ext cx="586728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4495680" y="2590920"/>
            <a:ext cx="381240" cy="304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4572000" y="3200400"/>
            <a:ext cx="380880" cy="304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Title 1"/>
          <p:cNvGrpSpPr/>
          <p:nvPr/>
        </p:nvGrpSpPr>
        <p:grpSpPr>
          <a:xfrm>
            <a:off x="4956120" y="811080"/>
            <a:ext cx="3444480" cy="1206720"/>
            <a:chOff x="4956120" y="811080"/>
            <a:chExt cx="3444480" cy="1206720"/>
          </a:xfrm>
        </p:grpSpPr>
        <p:pic>
          <p:nvPicPr>
            <p:cNvPr id="197" name="Title 1" descr=""/>
            <p:cNvPicPr/>
            <p:nvPr/>
          </p:nvPicPr>
          <p:blipFill>
            <a:blip r:embed="rId1"/>
            <a:stretch/>
          </p:blipFill>
          <p:spPr>
            <a:xfrm>
              <a:off x="4959000" y="811080"/>
              <a:ext cx="344160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956120" y="948600"/>
              <a:ext cx="3349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Arterial supply of the conducting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4648320" y="2209680"/>
            <a:ext cx="44956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nuatrial node (SAN), atrioventricular node (AVN) &amp; atrioventricular bundle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usually suppli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Left bundle branch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) of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both right and left coronari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76320" y="3216240"/>
            <a:ext cx="4572000" cy="3245040"/>
          </a:xfrm>
          <a:prstGeom prst="rect">
            <a:avLst/>
          </a:prstGeom>
          <a:ln w="0">
            <a:noFill/>
          </a:ln>
        </p:spPr>
      </p:pic>
      <p:sp>
        <p:nvSpPr>
          <p:cNvPr id="201" name="Oval 5"/>
          <p:cNvSpPr/>
          <p:nvPr/>
        </p:nvSpPr>
        <p:spPr>
          <a:xfrm>
            <a:off x="2209680" y="350532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057400" y="4876920"/>
            <a:ext cx="685800" cy="533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914400" y="669960"/>
            <a:ext cx="2857680" cy="213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11160"/>
            <a:ext cx="6839280" cy="7682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ood of the heart is drained into the right atrium through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onary sin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ly into the right atr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51814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Great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Middle Cardiac V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Small Cardiac Ve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Oblique vein of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2" descr="C:\Documents and Settings\User\My Documents\Student Gray\3. Thorax\F66122-003-f074.jpg"/>
          <p:cNvPicPr/>
          <p:nvPr/>
        </p:nvPicPr>
        <p:blipFill>
          <a:blip r:embed="rId1"/>
          <a:srcRect l="0" t="0" r="0" b="2595"/>
          <a:stretch/>
        </p:blipFill>
        <p:spPr>
          <a:xfrm>
            <a:off x="457200" y="16765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 flipV="1" rot="10800000">
            <a:off x="2209680" y="684720"/>
            <a:ext cx="4572000" cy="6858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666880" y="5715000"/>
            <a:ext cx="68580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124080" y="5105520"/>
            <a:ext cx="685800" cy="22860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85800" y="4572000"/>
            <a:ext cx="76212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2971800" y="2666880"/>
            <a:ext cx="609480" cy="228600"/>
          </a:xfrm>
          <a:prstGeom prst="rect">
            <a:avLst/>
          </a:prstGeom>
          <a:noFill/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724280" y="1599840"/>
            <a:ext cx="365760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opens into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Right Atriu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guarded by a val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18" name="Oval 6"/>
          <p:cNvSpPr/>
          <p:nvPr/>
        </p:nvSpPr>
        <p:spPr>
          <a:xfrm>
            <a:off x="2666880" y="6172200"/>
            <a:ext cx="1067040" cy="3049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362320" y="762120"/>
            <a:ext cx="4495680" cy="642600"/>
          </a:xfrm>
          <a:prstGeom prst="rect">
            <a:avLst/>
          </a:prstGeom>
          <a:solidFill>
            <a:srgbClr val="fef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876560" y="1915920"/>
            <a:ext cx="4267080" cy="42145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Veins into the right atrium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en directly into the  Right Atrium.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2. Venae Cordis minime ; small ve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directly into the heart champ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685800" y="19051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590920" y="762120"/>
            <a:ext cx="411480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2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the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8" name="Straight Arrow Connector 5"/>
          <p:cNvCxnSpPr/>
          <p:nvPr/>
        </p:nvCxnSpPr>
        <p:spPr>
          <a:xfrm flipH="1">
            <a:off x="6400440" y="2971440"/>
            <a:ext cx="53424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93432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onary ar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343400" y="1828800"/>
            <a:ext cx="4114800" cy="190512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cending Aorta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mmediately above the aortic val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6320" y="160020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2133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Straight Arrow Connector 10"/>
          <p:cNvCxnSpPr/>
          <p:nvPr/>
        </p:nvCxnSpPr>
        <p:spPr>
          <a:xfrm flipH="1" flipV="1">
            <a:off x="1218600" y="2057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3"/>
          <p:cNvCxnSpPr/>
          <p:nvPr/>
        </p:nvCxnSpPr>
        <p:spPr>
          <a:xfrm flipV="1">
            <a:off x="2818440" y="1904760"/>
            <a:ext cx="53388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32004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0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267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aortic sin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forward between pulmonary trunk and right auric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ous posteriorly along the atrioventricular groov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 artery in the posterior interventricular groov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coronary-aa"/>
          <p:cNvPicPr/>
          <p:nvPr/>
        </p:nvPicPr>
        <p:blipFill>
          <a:blip r:embed="rId2"/>
          <a:srcRect l="7699" t="1462" r="0" b="41504"/>
          <a:stretch/>
        </p:blipFill>
        <p:spPr>
          <a:xfrm>
            <a:off x="4724280" y="1523880"/>
            <a:ext cx="4114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4" name="Rectangle 4"/>
          <p:cNvSpPr/>
          <p:nvPr/>
        </p:nvSpPr>
        <p:spPr>
          <a:xfrm>
            <a:off x="7010280" y="2362320"/>
            <a:ext cx="609840" cy="3045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876920" y="3886200"/>
            <a:ext cx="533160" cy="2286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952880" y="1523520"/>
            <a:ext cx="3733920" cy="480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Coronary Art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ventr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rioventricular septu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39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2514600" y="4038480"/>
            <a:ext cx="152280" cy="228600"/>
          </a:xfrm>
          <a:prstGeom prst="ellipse">
            <a:avLst/>
          </a:prstGeom>
          <a:solidFill>
            <a:srgbClr val="3d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1) Right Conus artery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infundibulum and the upper part of the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erior Ventricular arteries; (2 or 3 branch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rginal artery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largest  branch, runs along the inferior margin toward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819520" y="685800"/>
            <a:ext cx="350496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ran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2096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1f74"/>
                </a:solidFill>
                <a:latin typeface="Times New Roman"/>
              </a:rPr>
              <a:t>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11"/>
          <p:cNvCxnSpPr>
            <a:stCxn id="146" idx="1"/>
            <a:endCxn id="146" idx="1"/>
          </p:cNvCxnSpPr>
          <p:nvPr/>
        </p:nvCxnSpPr>
        <p:spPr>
          <a:xfrm flipH="1" flipV="1">
            <a:off x="2208960" y="3582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8" name="Straight Arrow Connector 13"/>
          <p:cNvCxnSpPr/>
          <p:nvPr/>
        </p:nvCxnSpPr>
        <p:spPr>
          <a:xfrm flipH="1" flipV="1">
            <a:off x="2133000" y="3276000"/>
            <a:ext cx="229320" cy="229320"/>
          </a:xfrm>
          <a:prstGeom prst="straightConnector1">
            <a:avLst/>
          </a:prstGeom>
          <a:ln w="12600">
            <a:solidFill>
              <a:srgbClr val="050824"/>
            </a:solidFill>
            <a:miter/>
            <a:tailEnd len="med" type="arrow" w="med"/>
          </a:ln>
        </p:spPr>
      </p:cxnSp>
      <p:pic>
        <p:nvPicPr>
          <p:cNvPr id="149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152280" y="152388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905120" y="4343400"/>
            <a:ext cx="914400" cy="15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 flipV="1">
            <a:off x="1600200" y="3351960"/>
            <a:ext cx="1295280" cy="2286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209680" y="4648320"/>
            <a:ext cx="6858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724280" y="1347840"/>
            <a:ext cx="4245120" cy="49766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4) Posterior ventricular arteries; (2 branch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diaphragmatic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5) Atrial branche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right atrium; anterior and lateral su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surface of both a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6)The Artery of the SAN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pplies both atr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914400"/>
            <a:ext cx="4419720" cy="541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209680" y="1143000"/>
            <a:ext cx="685800" cy="38088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7) Posterior interventricula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ter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s toward the apex, in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interventricular groove with the middle cardiac vein to suppl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Diaphragmatic surface of the both ventricles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Posterior part of the ventricular septum excluding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eptal branch to the AV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.b) in 10% it is replaced by a branch from the left corona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1266840" y="404640"/>
            <a:ext cx="661032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1523880"/>
            <a:ext cx="392112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371600" y="3124080"/>
            <a:ext cx="1066680" cy="2286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14600" y="5867280"/>
            <a:ext cx="1219320" cy="3049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dc:language>en-US</dc:language>
  <cp:lastModifiedBy>3422</cp:lastModifiedBy>
  <cp:lastPrinted>2009-04-22T19:24:48Z</cp:lastPrinted>
  <dcterms:modified xsi:type="dcterms:W3CDTF">2016-03-20T07:01:19Z</dcterms:modified>
  <cp:revision>157</cp:revision>
  <dc:subject/>
  <dc:title>Ch 21: Cardiovascular System - The Heart -</dc:title>
</cp:coreProperties>
</file>