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249-66C5-453B-AA73-05D49E5B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ABA9-3E4A-4F5D-B85B-923C7CCF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51B-2CDD-46F2-AD2C-7E8E828DA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048-E26A-4B12-953F-A48C1562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0911-129E-4D9D-91F9-C64F71DE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D713-EF53-42BE-B49E-C799E0A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3541-5F3E-46A0-A34B-7484E16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549B-16A0-49F1-A001-AEB8CB35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0A47-1478-459B-B95F-DD9ADAE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726E-8337-4FD3-9669-3C5A0870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C19C-CB56-42AD-B60B-9FCF0D2E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D07D-1513-4E51-A4C2-13D7CE4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0921-C2FA-4B7F-9E90-DD8216A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A9FC-AA43-45DF-B080-270D49F8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E757-9730-4027-9350-6F8C95B36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6917-2462-47E9-909B-E217AF3E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79AB-763C-4817-BFD9-A31BF73C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3B8C-ACD4-490B-A7AA-8FC32D32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2E9-501B-4919-A8EB-895972BB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8A9-7D75-4018-9D44-15C23F2F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1B64-D2DE-488E-B643-ADD13010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1E34-ED6D-492B-A3F0-320DFEF1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A4A-35A3-4A85-B92B-9CACF1A3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870F-DCB5-4488-B0AD-B8BADBA3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06A6-F047-4E8A-A851-E6BCEB49585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E39-54B8-4524-A09C-0807C7E8514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  <a:ea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3422</cp:lastModifiedBy>
  <dcterms:modified xsi:type="dcterms:W3CDTF">2016-02-28T07:07:14Z</dcterms:modified>
  <cp:revision>47</cp:revision>
  <dc:subject/>
  <dc:title>Slide 1</dc:title>
</cp:coreProperties>
</file>