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D53-BF0F-4B1B-A914-BF25DC55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B09-F043-40F4-9413-74C39998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7F4-24F4-49BE-BE70-E82F63E9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198-0F30-48B4-853E-7A89CDC0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AD70-F657-431D-9E8F-BC268821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4F46-CE07-44B6-B3EB-B3B07175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1B2A-83E3-47CE-87A7-661B2446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2E93-2996-4A8A-99EC-9E7C245E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1600-DC78-4D5D-96A2-23F2763F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F62B-E592-497B-BEBB-0B299614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2E09-949D-401B-B7A9-889BBEF4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727-5C4C-4BDC-8A82-E7DC956D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6E90-B038-4673-9D16-6C522122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DBB8-1F30-45DE-905A-0CBCB25A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F13E-0467-4429-B283-FCCF9E6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716B-B320-4774-B2E0-45CEA83A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0942-40FC-4114-A5C8-1FA85E4D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3C9-EBA2-4DDB-B225-310D0A8D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6E3-BAC2-43A1-955A-D1C8EDE9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D31-8F74-42E0-9C46-B751EA02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0A3-E5E1-41E5-8477-8CC82C23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4C6-AF82-4FC1-97A1-BAA953CF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FEF-0429-4525-A45C-01DEBFDE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A26-E34F-4F80-963D-57E6A3B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F923-FAA7-4B54-A542-F1086911B5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F2DC-1DCB-4D3A-B682-6088308C13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3422</cp:lastModifiedBy>
  <dcterms:modified xsi:type="dcterms:W3CDTF">2016-02-28T07:07:14Z</dcterms:modified>
  <cp:revision>47</cp:revision>
  <dc:subject/>
  <dc:title>Slide 1</dc:title>
</cp:coreProperties>
</file>