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C33-09F9-4CA9-9909-181E6F5D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B0C-04E4-4F81-9B44-8997BEE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69D-FCC4-4CC2-88B6-9FE6D10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63C-D406-449F-8522-87EB061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4E1-EC9F-4F03-B241-BE0132E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131-5D3B-4A98-A6EE-08C3B8D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DDD-7D01-4080-9983-B424BBF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F81-F307-44BD-B0E2-D058DE0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168-047B-465E-B985-3E9CE3A2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665-5ACE-464D-9CC2-B375D0D5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A16-41B4-4B8F-AA2D-3557C1D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851-4332-46D7-8EDA-64E26270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5A9C-028A-406A-9E66-15D710F1A6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838080" y="3240"/>
            <a:ext cx="7848720" cy="6781680"/>
            <a:chOff x="838080" y="3240"/>
            <a:chExt cx="7848720" cy="6781680"/>
          </a:xfrm>
        </p:grpSpPr>
        <p:pic>
          <p:nvPicPr>
            <p:cNvPr id="64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8080" y="3240"/>
              <a:ext cx="775080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4"/>
            <p:cNvSpPr/>
            <p:nvPr/>
          </p:nvSpPr>
          <p:spPr>
            <a:xfrm>
              <a:off x="7021080" y="597960"/>
              <a:ext cx="1665720" cy="674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5"/>
            <p:cNvSpPr/>
            <p:nvPr/>
          </p:nvSpPr>
          <p:spPr>
            <a:xfrm>
              <a:off x="1141920" y="2526120"/>
              <a:ext cx="2057400" cy="867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"/>
            <p:cNvSpPr/>
            <p:nvPr/>
          </p:nvSpPr>
          <p:spPr>
            <a:xfrm>
              <a:off x="848160" y="501840"/>
              <a:ext cx="1567440" cy="771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94608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4277520" y="628596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662940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 of gene expression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hen sufficient cholesterol is present, transcription is suppressed and vice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 Regulatory Element (SRE) is a recognition sequence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REBP (SRE binding protein) binding to SRE is essential for transcription of this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REBP cleavage-activating protein (SCAP) is an intracellular cholesterol se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nzyme phosphorylation and de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holesterol synthesis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lesteryl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limiting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gulation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ulation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xcretion of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cholesterolemia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4"/>
          <p:cNvGrpSpPr/>
          <p:nvPr/>
        </p:nvGrpSpPr>
        <p:grpSpPr>
          <a:xfrm>
            <a:off x="1297080" y="1523880"/>
            <a:ext cx="6709320" cy="4266000"/>
            <a:chOff x="1297080" y="1523880"/>
            <a:chExt cx="6709320" cy="4266000"/>
          </a:xfrm>
        </p:grpSpPr>
        <p:sp>
          <p:nvSpPr>
            <p:cNvPr id="90" name="TextBox 2"/>
            <p:cNvSpPr/>
            <p:nvPr/>
          </p:nvSpPr>
          <p:spPr>
            <a:xfrm>
              <a:off x="3735000" y="15238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"/>
            <p:cNvSpPr/>
            <p:nvPr/>
          </p:nvSpPr>
          <p:spPr>
            <a:xfrm>
              <a:off x="3380040" y="243828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"/>
            <p:cNvSpPr/>
            <p:nvPr/>
          </p:nvSpPr>
          <p:spPr>
            <a:xfrm>
              <a:off x="3470400" y="331272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5"/>
            <p:cNvSpPr/>
            <p:nvPr/>
          </p:nvSpPr>
          <p:spPr>
            <a:xfrm>
              <a:off x="3018600" y="431568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3471120" y="5421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Straight Arrow Connector 8"/>
            <p:cNvCxnSpPr>
              <a:stCxn id="90" idx="2"/>
            </p:cNvCxnSpPr>
            <p:nvPr/>
          </p:nvCxnSpPr>
          <p:spPr>
            <a:xfrm>
              <a:off x="4113720" y="1893600"/>
              <a:ext cx="108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6" name="Straight Arrow Connector 9"/>
            <p:cNvCxnSpPr/>
            <p:nvPr/>
          </p:nvCxnSpPr>
          <p:spPr>
            <a:xfrm>
              <a:off x="4113720" y="2808000"/>
              <a:ext cx="6840" cy="621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7" name="Straight Arrow Connector 10"/>
            <p:cNvCxnSpPr/>
            <p:nvPr/>
          </p:nvCxnSpPr>
          <p:spPr>
            <a:xfrm>
              <a:off x="4113720" y="372276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8" name="Straight Arrow Connector 11"/>
            <p:cNvCxnSpPr/>
            <p:nvPr/>
          </p:nvCxnSpPr>
          <p:spPr>
            <a:xfrm>
              <a:off x="4113720" y="478944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9" name="Straight Arrow Connector 13"/>
            <p:cNvCxnSpPr/>
            <p:nvPr/>
          </p:nvCxnSpPr>
          <p:spPr>
            <a:xfrm>
              <a:off x="2920320" y="2160360"/>
              <a:ext cx="10674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0" name="Straight Arrow Connector 14"/>
            <p:cNvCxnSpPr/>
            <p:nvPr/>
          </p:nvCxnSpPr>
          <p:spPr>
            <a:xfrm>
              <a:off x="2743200" y="5029200"/>
              <a:ext cx="12960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Straight Arrow Connector 15"/>
            <p:cNvCxnSpPr/>
            <p:nvPr/>
          </p:nvCxnSpPr>
          <p:spPr>
            <a:xfrm>
              <a:off x="4773600" y="5612040"/>
              <a:ext cx="12960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2" name="Straight Arrow Connector 17"/>
            <p:cNvCxnSpPr/>
            <p:nvPr/>
          </p:nvCxnSpPr>
          <p:spPr>
            <a:xfrm flipH="1">
              <a:off x="5638320" y="4520880"/>
              <a:ext cx="106740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3" name="TextBox 18"/>
            <p:cNvSpPr/>
            <p:nvPr/>
          </p:nvSpPr>
          <p:spPr>
            <a:xfrm>
              <a:off x="1422720" y="196848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6052680" y="539964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1297080" y="4496040"/>
              <a:ext cx="137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6859440" y="41770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lant sterols are poorly absorbed by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1935000"/>
            <a:ext cx="4724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628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3C18FF2"/>
          <p:cNvPicPr/>
          <p:nvPr/>
        </p:nvPicPr>
        <p:blipFill>
          <a:blip r:embed="rId1"/>
          <a:stretch/>
        </p:blipFill>
        <p:spPr>
          <a:xfrm>
            <a:off x="2438280" y="990720"/>
            <a:ext cx="4011840" cy="5638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3422</cp:lastModifiedBy>
  <dcterms:modified xsi:type="dcterms:W3CDTF">2016-03-07T05:00:48Z</dcterms:modified>
  <cp:revision>49</cp:revision>
  <dc:subject/>
  <dc:title>Slide 1</dc:title>
</cp:coreProperties>
</file>