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537-F1FA-4D09-A0CE-D7A40322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2BA3-655C-4A5C-8260-15D585F6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7522-1B85-41D8-B52A-4DD17300C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FEF-5260-4CBD-BC20-49493DA3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3DFE-5819-4CF2-BDF9-71A6B6CA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5C0B-FEC2-4C6A-999D-C1D1808F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0C99-20AD-49C5-A392-0509275F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E83-3360-4B48-9796-83C709FE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762-DA0B-499D-8E7D-A2C543EA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BF8-8D36-4FFA-9EED-88DE2EC2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7DE1-BD65-4DB7-BC37-169A6ABD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F55-78FB-4588-9DA2-174F4A2F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2F14-9C10-41C3-AAAB-062A969E12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holesterol Metabolis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Further steps in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duction of a 5-carbon un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Isopentinyl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yrophosphate (IP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ondensation to a 30C compound: squal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yclization of squalene to 30C lano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ynthesis of 27-Carbon cholesterol (defect in this leads to Smith-Lemli-Opitz Syndro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838080" y="3240"/>
            <a:ext cx="7848720" cy="6781680"/>
            <a:chOff x="838080" y="3240"/>
            <a:chExt cx="7848720" cy="6781680"/>
          </a:xfrm>
        </p:grpSpPr>
        <p:pic>
          <p:nvPicPr>
            <p:cNvPr id="64" name="Picture 2" descr="C:\Documents and Settings\aa\Desktop\141-repeaters\New Folder\chapter18\chapter18\jpg\1805_Synthesis_cholesterol.jpg"/>
            <p:cNvPicPr/>
            <p:nvPr/>
          </p:nvPicPr>
          <p:blipFill>
            <a:blip r:embed="rId1"/>
            <a:srcRect l="0" t="2467" r="0" b="2529"/>
            <a:stretch/>
          </p:blipFill>
          <p:spPr>
            <a:xfrm>
              <a:off x="838080" y="3240"/>
              <a:ext cx="7750800" cy="67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Oval 4"/>
            <p:cNvSpPr/>
            <p:nvPr/>
          </p:nvSpPr>
          <p:spPr>
            <a:xfrm>
              <a:off x="7021080" y="597960"/>
              <a:ext cx="1665720" cy="674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5"/>
            <p:cNvSpPr/>
            <p:nvPr/>
          </p:nvSpPr>
          <p:spPr>
            <a:xfrm>
              <a:off x="1141920" y="2526120"/>
              <a:ext cx="2057400" cy="867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"/>
            <p:cNvSpPr/>
            <p:nvPr/>
          </p:nvSpPr>
          <p:spPr>
            <a:xfrm>
              <a:off x="848160" y="501840"/>
              <a:ext cx="1567440" cy="771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"/>
            <p:cNvSpPr/>
            <p:nvPr/>
          </p:nvSpPr>
          <p:spPr>
            <a:xfrm>
              <a:off x="946080" y="618948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8"/>
            <p:cNvSpPr/>
            <p:nvPr/>
          </p:nvSpPr>
          <p:spPr>
            <a:xfrm>
              <a:off x="4277520" y="628596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9"/>
            <p:cNvSpPr/>
            <p:nvPr/>
          </p:nvSpPr>
          <p:spPr>
            <a:xfrm>
              <a:off x="6629400" y="618948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Regulation of Cholesterol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reductase is the rate-limiting enzyme of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erol-dependent regulation of gen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erol-accelerated enzyme degra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erol-independent phosphorylation/de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ormonal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Sterol-dependent regulation of gene expression of HMG Co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hen sufficient cholesterol is present, transcription is suppressed and vice ve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erol Regulatory Element (SRE) is a recognition sequence in th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REBP (SRE binding protein) binding to SRE is essential for transcription of this g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REBP cleavage-activating protein (SCAP) is an intracellular cholesterol sen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Sterol-dependent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 High</a:t>
            </a: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binds to insig protein (insulin-induced protein) in ER membra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is retained in the 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Down regulation of cholesterol 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moves to Golgi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is removed from SRE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REBP binds to SRE in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HMG CoA gene is activ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Enzyme phosphorylation and dephosphory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MP- activated protein kinase (AMPK) for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Phosphorylated form of enzyme is ina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ephosphorylated form is a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ow ATP or High AMP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cholesterol synthesis decr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ormonal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sulin  and thyroxine increase upregulation of enzym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Glucagon and cortisol have opposite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holesterol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lesteryl e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e limiting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gulation of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ulation of HMG CoA reduc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xcretion of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cholesterolemia and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24"/>
          <p:cNvGrpSpPr/>
          <p:nvPr/>
        </p:nvGrpSpPr>
        <p:grpSpPr>
          <a:xfrm>
            <a:off x="1297080" y="1523880"/>
            <a:ext cx="6709320" cy="4266000"/>
            <a:chOff x="1297080" y="1523880"/>
            <a:chExt cx="6709320" cy="4266000"/>
          </a:xfrm>
        </p:grpSpPr>
        <p:sp>
          <p:nvSpPr>
            <p:cNvPr id="90" name="TextBox 2"/>
            <p:cNvSpPr/>
            <p:nvPr/>
          </p:nvSpPr>
          <p:spPr>
            <a:xfrm>
              <a:off x="3735000" y="152388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G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3"/>
            <p:cNvSpPr/>
            <p:nvPr/>
          </p:nvSpPr>
          <p:spPr>
            <a:xfrm>
              <a:off x="3380040" y="243828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Tran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4"/>
            <p:cNvSpPr/>
            <p:nvPr/>
          </p:nvSpPr>
          <p:spPr>
            <a:xfrm>
              <a:off x="3470400" y="331272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5"/>
            <p:cNvSpPr/>
            <p:nvPr/>
          </p:nvSpPr>
          <p:spPr>
            <a:xfrm>
              <a:off x="3018600" y="431568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HMG CoA Reduct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6"/>
            <p:cNvSpPr/>
            <p:nvPr/>
          </p:nvSpPr>
          <p:spPr>
            <a:xfrm>
              <a:off x="3471120" y="54216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HMG 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Straight Arrow Connector 8"/>
            <p:cNvCxnSpPr>
              <a:stCxn id="90" idx="2"/>
            </p:cNvCxnSpPr>
            <p:nvPr/>
          </p:nvCxnSpPr>
          <p:spPr>
            <a:xfrm>
              <a:off x="4113720" y="1893600"/>
              <a:ext cx="108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6" name="Straight Arrow Connector 9"/>
            <p:cNvCxnSpPr/>
            <p:nvPr/>
          </p:nvCxnSpPr>
          <p:spPr>
            <a:xfrm>
              <a:off x="4113720" y="2808000"/>
              <a:ext cx="6840" cy="621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97" name="Straight Arrow Connector 10"/>
            <p:cNvCxnSpPr/>
            <p:nvPr/>
          </p:nvCxnSpPr>
          <p:spPr>
            <a:xfrm>
              <a:off x="4113720" y="3722760"/>
              <a:ext cx="684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8" name="Straight Arrow Connector 11"/>
            <p:cNvCxnSpPr/>
            <p:nvPr/>
          </p:nvCxnSpPr>
          <p:spPr>
            <a:xfrm>
              <a:off x="4113720" y="4789440"/>
              <a:ext cx="684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99" name="Straight Arrow Connector 13"/>
            <p:cNvCxnSpPr/>
            <p:nvPr/>
          </p:nvCxnSpPr>
          <p:spPr>
            <a:xfrm>
              <a:off x="2920320" y="2160360"/>
              <a:ext cx="1067400" cy="21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0" name="Straight Arrow Connector 14"/>
            <p:cNvCxnSpPr/>
            <p:nvPr/>
          </p:nvCxnSpPr>
          <p:spPr>
            <a:xfrm>
              <a:off x="2743200" y="5029200"/>
              <a:ext cx="1296000" cy="21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101" name="Straight Arrow Connector 15"/>
            <p:cNvCxnSpPr/>
            <p:nvPr/>
          </p:nvCxnSpPr>
          <p:spPr>
            <a:xfrm>
              <a:off x="4773600" y="5612040"/>
              <a:ext cx="129600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02" name="Straight Arrow Connector 17"/>
            <p:cNvCxnSpPr/>
            <p:nvPr/>
          </p:nvCxnSpPr>
          <p:spPr>
            <a:xfrm flipH="1">
              <a:off x="5638320" y="4520880"/>
              <a:ext cx="1067400" cy="108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03" name="TextBox 18"/>
            <p:cNvSpPr/>
            <p:nvPr/>
          </p:nvSpPr>
          <p:spPr>
            <a:xfrm>
              <a:off x="1422720" y="196848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9"/>
            <p:cNvSpPr/>
            <p:nvPr/>
          </p:nvSpPr>
          <p:spPr>
            <a:xfrm>
              <a:off x="6052680" y="539964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20"/>
            <p:cNvSpPr/>
            <p:nvPr/>
          </p:nvSpPr>
          <p:spPr>
            <a:xfrm>
              <a:off x="1297080" y="4496040"/>
              <a:ext cx="137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Glu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Cortis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Stat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21"/>
            <p:cNvSpPr/>
            <p:nvPr/>
          </p:nvSpPr>
          <p:spPr>
            <a:xfrm>
              <a:off x="6859440" y="4177080"/>
              <a:ext cx="114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Insul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</a:rPr>
                <a:t>Thyrox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Excretion of choleste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conversion into bile acids and bile salts- excreted in the f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Secretion of cholesterol in b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Transported to intestine for eli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 the intestine, some cholesterol is converted by bacteria into coprostanol and cholestanol before ex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ypercholesterol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igh conc. of cholestero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Leads to atheroscle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tin drugs are used to decrease plasma cholesterol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atins are structural analogs of HMG CoA reduc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tins inhibit enzyme activity by competitive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-Sitosterols/ Phytoster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lant sterols are poorly absorbed by hu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Block the absorption of dietary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nically useful in the dietary treatment of hypercholesterol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ost important animal ste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aintains membrane flu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sulating effect on nerve fib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holesterol is the parent molecule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Bile acids and bile sa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Vitamin D</a:t>
            </a:r>
            <a:r>
              <a:rPr b="0" lang="en-US" sz="2800" spc="-1" strike="noStrike" baseline="-25000">
                <a:solidFill>
                  <a:srgbClr val="eeece1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DA3C18FF1"/>
          <p:cNvPicPr/>
          <p:nvPr/>
        </p:nvPicPr>
        <p:blipFill>
          <a:blip r:embed="rId1"/>
          <a:stretch/>
        </p:blipFill>
        <p:spPr>
          <a:xfrm>
            <a:off x="4876920" y="228600"/>
            <a:ext cx="3504960" cy="6400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0" y="1935000"/>
            <a:ext cx="47242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628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Liver plays a central role in the regulation of cholesterol home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DA3C18FF2"/>
          <p:cNvPicPr/>
          <p:nvPr/>
        </p:nvPicPr>
        <p:blipFill>
          <a:blip r:embed="rId1"/>
          <a:stretch/>
        </p:blipFill>
        <p:spPr>
          <a:xfrm>
            <a:off x="2438280" y="990720"/>
            <a:ext cx="4011840" cy="5638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yl e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ost plasma cholesterol is esterified with a fatty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Es are not present in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esent in small amounts in mos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hydrophobic than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nthesized in all t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ajor sites for synthesis: liver, adrenal cortex, testes, ovaries and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ll carbon atoms are derived from acetyl 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Enzymes involved in biosynthesis are partly located in ER and partly in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A3C18FF3"/>
          <p:cNvPicPr/>
          <p:nvPr/>
        </p:nvPicPr>
        <p:blipFill>
          <a:blip r:embed="rId1"/>
          <a:stretch/>
        </p:blipFill>
        <p:spPr>
          <a:xfrm>
            <a:off x="838080" y="1600200"/>
            <a:ext cx="347184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Synthesis of HMG Co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is present in both cytosol and mitochondria of l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itochondrial- keto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ytosolic –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A3C18FF4"/>
          <p:cNvPicPr/>
          <p:nvPr/>
        </p:nvPicPr>
        <p:blipFill>
          <a:blip r:embed="rId1"/>
          <a:stretch/>
        </p:blipFill>
        <p:spPr>
          <a:xfrm>
            <a:off x="4836960" y="1523880"/>
            <a:ext cx="400212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Synthesis of mevalonic ac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te limiting and key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Occurs in cy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reductase is an ER membrane enzyme with catalytic unit hanging in the cy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Usman Ghani</dc:creator>
  <dc:description/>
  <dc:language>en-US</dc:language>
  <cp:lastModifiedBy>3422</cp:lastModifiedBy>
  <dcterms:modified xsi:type="dcterms:W3CDTF">2016-03-07T05:00:48Z</dcterms:modified>
  <cp:revision>49</cp:revision>
  <dc:subject/>
  <dc:title>Slide 1</dc:title>
</cp:coreProperties>
</file>