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FBC-A52D-473C-B950-A27D0B74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DAF-2357-4B33-A0F6-F453B03A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EE6-F0A6-4232-876F-F9723D2E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15F-0EFF-4CF8-8248-3A200B71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CE3-4C3A-496A-B781-008AAE8E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5E7-529A-4741-88E8-D6A07E3D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74D-1E92-4EF8-B641-98454245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D8D-A4FF-4536-8479-DF6E3ACD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32D-6AB0-42A7-ADEA-862143A2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394-C4F1-4F6E-A4D5-E01D87FE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15F-E3F2-48AE-9CD6-F481703F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1A1-0AC5-4C28-B2E7-1F5497AD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04AC-B57B-44B2-8309-969C8C33B17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8_015"/>
          <p:cNvPicPr/>
          <p:nvPr/>
        </p:nvPicPr>
        <p:blipFill>
          <a:blip r:embed="rId1"/>
          <a:srcRect l="5000" t="2145" r="5000" b="20175"/>
          <a:stretch/>
        </p:blipFill>
        <p:spPr>
          <a:xfrm>
            <a:off x="457200" y="99072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228600" y="228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</a:t>
            </a: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06720" y="2360520"/>
            <a:ext cx="8576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triacylglycerol transport (TG-rich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etary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V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dogenous (hepatic)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cholesterol transport (cholesterol-rich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DL: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free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HDL: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esterifie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Chylomic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in intestinal mucosa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west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rgest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est % of lipids and lowest %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est triacylglycerol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dietary ori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etar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lipids to peripher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sponsible for physiological milky appearance of plasma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up to 2 hours after me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Very Low Density Lipoproteins </a:t>
            </a: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in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 triacylglycerol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hepatic ori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y lipids fro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r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to peripher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scent VLDL: contains Apo B-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: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B-100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-II and Ap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from 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Metabolism of VLD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and secreted by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s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ifications of circulating VLD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 products: IDL and L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ated dise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ypolipoproteinemia: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etalipoproteinem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yperlipoproteinemi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 I hyperlipoproteinem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milial type II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18_017"/>
          <p:cNvPicPr/>
          <p:nvPr/>
        </p:nvPicPr>
        <p:blipFill>
          <a:blip r:embed="rId1"/>
          <a:srcRect l="11668" t="0" r="12503" b="22226"/>
          <a:stretch/>
        </p:blipFill>
        <p:spPr>
          <a:xfrm>
            <a:off x="1066680" y="228600"/>
            <a:ext cx="693432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826640" y="5711760"/>
            <a:ext cx="548136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V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Metabolism of VLDLs: Mature 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and secreted by liver directly into blood as nasc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s: contain Apo B-100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lu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-II and Apo E. ApoC-II is required for activation of lipoprotein lip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oprotein lipase is required to degrade TG into glycerol and fatty acid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Modifications of Circulating 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 TG is degraded, VLDLs be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maller in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re d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 back to H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change of TG with cholesterol ester (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 cholesterol ester transfer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duction of LDL in plasm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LDL             IDL (returns Apo E to HDL)    LDL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676520" y="5867280"/>
            <a:ext cx="10666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7924680" y="5924520"/>
            <a:ext cx="10670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8_018"/>
          <p:cNvPicPr/>
          <p:nvPr/>
        </p:nvPicPr>
        <p:blipFill>
          <a:blip r:embed="rId1"/>
          <a:srcRect l="19169" t="1997" r="20001" b="22001"/>
          <a:stretch/>
        </p:blipFill>
        <p:spPr>
          <a:xfrm>
            <a:off x="1752480" y="152280"/>
            <a:ext cx="5562720" cy="5791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752480" y="6019920"/>
            <a:ext cx="571500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id-Transfer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914400" y="304920"/>
            <a:ext cx="73375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VLDLs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364120" y="1143000"/>
            <a:ext cx="48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lipoprotei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1600" y="1832040"/>
            <a:ext cx="85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Abetalipoprotei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fect in TG-transfer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po B-100 cannot be loaded with lip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cumulation of TG in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375200" y="4114800"/>
            <a:ext cx="66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tty Liver (hepatic steatos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9120" y="4861080"/>
            <a:ext cx="874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Imbalance between hepatic synthesis of T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nd secretion of VLD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cumulation of TG in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Lipoprotein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044720" y="614520"/>
            <a:ext cx="73375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VLDLs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99600" y="1676520"/>
            <a:ext cx="8361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Lipoprotein lipas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or Apo C-II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Usually associated with acute abdomen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due to acute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dysbeta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po 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Hypercholesterolemia and atheroscle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1908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ipid compounds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latively water insol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refore, they are transported in plasma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aqueous)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819520" y="758880"/>
            <a:ext cx="3276360" cy="1312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ipoproteins and Related Clinic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therosclerosis and hyperten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ronary heart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ipoproteinemias (hypo- and hyper-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tty l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ipoprotei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6720" y="1847880"/>
            <a:ext cx="864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tein part: Apoproteins or apo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bbrevia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o-A, B, C, D,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ructural and transpor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zymatic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gands f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p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ccording to the type of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ifferent lipid components in various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8_014"/>
          <p:cNvPicPr/>
          <p:nvPr/>
        </p:nvPicPr>
        <p:blipFill>
          <a:blip r:embed="rId1"/>
          <a:srcRect l="16666" t="0" r="15833" b="19294"/>
          <a:stretch/>
        </p:blipFill>
        <p:spPr>
          <a:xfrm>
            <a:off x="533520" y="982800"/>
            <a:ext cx="5562360" cy="549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33412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94840" y="295200"/>
            <a:ext cx="86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pherical molecules of lipids and proteins (apoprote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098040" y="1523880"/>
            <a:ext cx="2911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ter co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ner c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olesterol 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Types of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y do we have different types of lipoprote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y differ in lipid and protein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therefore, they differ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ize and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lectrophoretic mo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8_019"/>
          <p:cNvPicPr/>
          <p:nvPr/>
        </p:nvPicPr>
        <p:blipFill>
          <a:blip r:embed="rId1"/>
          <a:srcRect l="35002" t="510" r="34170" b="14585"/>
          <a:stretch/>
        </p:blipFill>
        <p:spPr>
          <a:xfrm>
            <a:off x="2895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228600" y="2209680"/>
            <a:ext cx="2971800" cy="26672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Type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715000" y="5238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ylomic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ery 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V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8_025"/>
          <p:cNvPicPr/>
          <p:nvPr/>
        </p:nvPicPr>
        <p:blipFill>
          <a:blip r:embed="rId1"/>
          <a:srcRect l="37703" t="23021" r="36944" b="15829"/>
          <a:stretch/>
        </p:blipFill>
        <p:spPr>
          <a:xfrm>
            <a:off x="1447920" y="228600"/>
            <a:ext cx="281916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25909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Ultracentrifu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1-04-04T05:08:13Z</dcterms:modified>
  <cp:revision>11</cp:revision>
  <dc:subject/>
  <dc:title>PowerPoint Presentation</dc:title>
</cp:coreProperties>
</file>