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390-15CF-4351-8B28-855CDEC8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7AA0-F0A9-4D9B-BCCF-1654F387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BFDA-C55A-4317-B629-2E12D7D4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D39-764F-498F-81D4-26F7E7A5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9EDB-05E6-4ABB-BAA1-E325F2F3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088-91C6-433D-9081-BAB81C7B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DEFE-3E4C-4A17-9E6A-98EA3E99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D23-FF2B-4D1F-9C3B-582FEEEE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E10-B5ED-4F81-98B0-E6C30A00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A1A-5401-4C4C-A4DE-9D3038C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6EA-705F-46A6-A4F0-A90AC093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DCC-BC16-461F-BEB2-98E9615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F913-66F5-47FE-A8E8-D61ECFF9EB9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8_015"/>
          <p:cNvPicPr/>
          <p:nvPr/>
        </p:nvPicPr>
        <p:blipFill>
          <a:blip r:embed="rId1"/>
          <a:srcRect l="5000" t="2145" r="5000" b="20175"/>
          <a:stretch/>
        </p:blipFill>
        <p:spPr>
          <a:xfrm>
            <a:off x="457200" y="9907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06720" y="2360520"/>
            <a:ext cx="8576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triacylglycerol transport (TG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(hepatic)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cholesterol transport (cholesterol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Chylomic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intestinal mucos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est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rges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% of lipids and lowest %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dietary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etar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lipids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ponsible for physiological milky appearance of plasm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up to 2 hours after m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ery Low Density Lipoproteins 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hepatic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lipids fro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r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VLDL: contains Apo B-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rom 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Metabolism of VLD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ifications of circulating VLD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s: IDL and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ed dise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olipoproteinemia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eta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erlipoproteinem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 I hyper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milial 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etabolism of VLDLs: Mature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 directly into blood as nasc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: contain 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. ApoC-II is required for activation of lipoprotein lip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protein lipase is required to degrade TG into glycerol and fatty acid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odifications of Circulating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TG is degraded, VLDLs be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er i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re d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 back to H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change of TG with cholesterol ester 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cholesterol ester transfer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tion of LDL in plasm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LDL             IDL (returns Apo E to HDL)    LDL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676520" y="5867280"/>
            <a:ext cx="10666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7924680" y="5924520"/>
            <a:ext cx="10670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8_018"/>
          <p:cNvPicPr/>
          <p:nvPr/>
        </p:nvPicPr>
        <p:blipFill>
          <a:blip r:embed="rId1"/>
          <a:srcRect l="19169" t="1997" r="20001" b="22001"/>
          <a:stretch/>
        </p:blipFill>
        <p:spPr>
          <a:xfrm>
            <a:off x="1752480" y="1522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75248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14400" y="3049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364120" y="114300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lipoprotei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1600" y="1832040"/>
            <a:ext cx="85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Abetalipoprotei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fect in TG-transfer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po B-100 cannot be loaded with lip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375200" y="4114800"/>
            <a:ext cx="66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 (hepatic steato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9120" y="4861080"/>
            <a:ext cx="874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Imbalance between hepatic synthesis of T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nd secretion of VLD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044720" y="6145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9600" y="1676520"/>
            <a:ext cx="8361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Lipoprotein lipas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or Apo C-II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Usually associated with acute abdomen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ue to acute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dysbeta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po 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Hypercholesterolemia and 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908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refore, they are transported in plasma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aqueous)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819520" y="758880"/>
            <a:ext cx="3276360" cy="1312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oprotein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ipoproteinemias (hypo- and hyper-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, D,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_014"/>
          <p:cNvPicPr/>
          <p:nvPr/>
        </p:nvPicPr>
        <p:blipFill>
          <a:blip r:embed="rId1"/>
          <a:srcRect l="16666" t="0" r="15833" b="19294"/>
          <a:stretch/>
        </p:blipFill>
        <p:spPr>
          <a:xfrm>
            <a:off x="533520" y="982800"/>
            <a:ext cx="5562360" cy="549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33412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94840" y="295200"/>
            <a:ext cx="86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pherical molecules of lipids and proteins (a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098040" y="1523880"/>
            <a:ext cx="2911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ter co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ner c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Types of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y do we have different types of lipoprote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y differ in lipid and protein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therefore, they differ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ize and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lectrophoretic mo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8_019"/>
          <p:cNvPicPr/>
          <p:nvPr/>
        </p:nvPicPr>
        <p:blipFill>
          <a:blip r:embed="rId1"/>
          <a:srcRect l="35002" t="510" r="34170" b="14585"/>
          <a:stretch/>
        </p:blipFill>
        <p:spPr>
          <a:xfrm>
            <a:off x="2895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228600" y="2209680"/>
            <a:ext cx="2971800" cy="26672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Type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715000" y="523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8_025"/>
          <p:cNvPicPr/>
          <p:nvPr/>
        </p:nvPicPr>
        <p:blipFill>
          <a:blip r:embed="rId1"/>
          <a:srcRect l="37703" t="23021" r="36944" b="15829"/>
          <a:stretch/>
        </p:blipFill>
        <p:spPr>
          <a:xfrm>
            <a:off x="1447920" y="228600"/>
            <a:ext cx="281916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25909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4T05:08:13Z</dcterms:modified>
  <cp:revision>11</cp:revision>
  <dc:subject/>
  <dc:title>PowerPoint Presentation</dc:title>
</cp:coreProperties>
</file>