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9A3-43FE-4812-8B44-44CA0A31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889-A896-4184-8032-3BA11FEF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723-B004-4EB4-B1E4-9C8D4C92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752-AE30-4EC8-9C92-920366F4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BF5-474E-4A28-B101-F1B68115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D2C-4781-422C-852D-BB1AA758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014-7D0E-4A76-8B3E-D7C5BC3F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814-7B47-47B9-A694-82480307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CB9-FA06-4455-AC95-8AB415B7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804-55E1-4268-BE15-E4FFAAA6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B0A-65FD-4C14-BCE2-6B120855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0D4-EF0F-4ECD-854A-D4EAE587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DFD8-DD87-4087-9BE1-D63058FD96E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8_023"/>
          <p:cNvPicPr/>
          <p:nvPr/>
        </p:nvPicPr>
        <p:blipFill>
          <a:blip r:embed="rId1"/>
          <a:srcRect l="15002" t="48062" r="19167" b="15506"/>
          <a:stretch/>
        </p:blipFill>
        <p:spPr>
          <a:xfrm>
            <a:off x="990720" y="1546200"/>
            <a:ext cx="7391160" cy="439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2162880" y="442800"/>
            <a:ext cx="52070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H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011600" y="6095880"/>
            <a:ext cx="47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C = Phosphatidylcholine/Lec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High Density Lipoproteins (HD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duced by intestine and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scent HDL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isk-shaped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tains apo A-I, C-II and E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tains primarily phospholipid (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HDL (HDL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rst, HDL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llect cholesterol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verts cholesterol to cholesterol ester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pherical mature particle HDL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Functions of H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servoir of apoproteins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.g., Apo C-II and E to VL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take of cholesterol: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om other lipoproteins &amp; cell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HDL is suitable for uptake of cholesterol because of high content of PC that can both solublizes cholesterol and acts as a source of fatty acid for cholesterol ester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terification of cholesterol: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zym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CAT/LCAT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ivator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po A-I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strat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Cholesterol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-substrat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PC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Cholesterol ester (&amp; Lyso-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Why Is HDL a Good Cholesterol carri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verse relation between plasma HDL levels and atherosclerosis ….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verse cholesterol transport involves:</a:t>
            </a:r>
            <a:br>
              <a:rPr sz="36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fflux of cholesterol from peripheral tissues and other lipoproteins to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sterification of cholesterol &amp; binding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to liver and stroidogenic cell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y scavenger receptor class B (SR-B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elective transfer of cholesterol ester into thes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lease of lipid-depleted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430720" y="609480"/>
            <a:ext cx="410508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600200"/>
            <a:ext cx="84582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thogene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ified (oxidized) LDL …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xidative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oxLDL by macrophage scavenger receptor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cavenger receptor class A (SR-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-affinity, non-specific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-regulated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am cell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herosclerotic plaqu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8_022"/>
          <p:cNvPicPr/>
          <p:nvPr/>
        </p:nvPicPr>
        <p:blipFill>
          <a:blip r:embed="rId1"/>
          <a:srcRect l="13333" t="2223" r="10002" b="12221"/>
          <a:stretch/>
        </p:blipFill>
        <p:spPr>
          <a:xfrm>
            <a:off x="1219320" y="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1046160" y="6019920"/>
            <a:ext cx="7315200" cy="761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-533880" y="380880"/>
            <a:ext cx="101307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aboratory Investigation of Atheroscler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04920" y="129528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rum lipid pro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-12 hours (O/N) f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asuremen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triglyceride level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reflect chylomicron and VLDL lev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tota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holestero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reflect LDL and HDL lev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HDL-cholesterol level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LDL-cholesterol level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hers,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lipoprotein electroph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apoprotein levels e.g., apo-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862640" y="609480"/>
            <a:ext cx="545544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LDL-related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160020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perlipoproteinem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a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Familial hypercholestrolem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ctional defect of LDL-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crease plasma LDL level &amp; therefore, plasma cholestero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-mature atherosclerosis and increa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isk for early-onset ischemic heart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ociated with the presence of tendon xanthomas on hands and ank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640" y="914040"/>
            <a:ext cx="8839080" cy="1219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ipoproteins and Atherosclero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1523880"/>
            <a:ext cx="91440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key element for cholesterol homeostasis is the balance between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holesterol transport from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iver to peripheral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issues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y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bad cholesterol carr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verse cholesterol transpor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from peripheral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ssues to liver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D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good cholesterol carr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balance results in cholesterol deposition in the wall of blood vessels, thickening of the wall and narrowing of the lume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“Atheroscleros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337480" y="380880"/>
            <a:ext cx="4551480" cy="916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8_019"/>
          <p:cNvPicPr/>
          <p:nvPr/>
        </p:nvPicPr>
        <p:blipFill>
          <a:blip r:embed="rId1"/>
          <a:srcRect l="35002" t="37305" r="34170" b="14585"/>
          <a:stretch/>
        </p:blipFill>
        <p:spPr>
          <a:xfrm>
            <a:off x="5257800" y="1523880"/>
            <a:ext cx="364824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1143000" y="380880"/>
            <a:ext cx="701028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Composition of LDL and HD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3200400"/>
            <a:ext cx="58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 density lipoprote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stly cholesterol e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re %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re % 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15238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w density lipoprote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ostly free cholester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523880" y="533520"/>
            <a:ext cx="6629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ow Density Lipoproteins (LD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8400" y="1905120"/>
            <a:ext cx="8817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ed in the circulation as the end product o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LD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ared to VLD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t contains only apo B-100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maller size and more d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ess 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ore cholesterol &amp; cholesterol 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port cholesterol from liver to peripheral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LDL at tissue level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DL receptor-mediated endocytosis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cognized by apo B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8_017"/>
          <p:cNvPicPr/>
          <p:nvPr/>
        </p:nvPicPr>
        <p:blipFill>
          <a:blip r:embed="rId1"/>
          <a:srcRect l="11668" t="0" r="12503" b="22226"/>
          <a:stretch/>
        </p:blipFill>
        <p:spPr>
          <a:xfrm>
            <a:off x="1066680" y="228600"/>
            <a:ext cx="6934320" cy="5334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1862280" y="5711760"/>
            <a:ext cx="508500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8_020"/>
          <p:cNvPicPr/>
          <p:nvPr/>
        </p:nvPicPr>
        <p:blipFill>
          <a:blip r:embed="rId1"/>
          <a:srcRect l="4168" t="5257" r="4168" b="10643"/>
          <a:stretch/>
        </p:blipFill>
        <p:spPr>
          <a:xfrm>
            <a:off x="380880" y="0"/>
            <a:ext cx="8382240" cy="60958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1"/>
          <p:cNvSpPr/>
          <p:nvPr/>
        </p:nvSpPr>
        <p:spPr>
          <a:xfrm>
            <a:off x="685800" y="6172200"/>
            <a:ext cx="7848720" cy="60948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Receptor-Mediated End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 recepto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ell surface glycoprotein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igh-affinity, tightly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/Receptor binding and internalization of the complex by endocyt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ease of cholesterol inside the cells for: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Utilization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orage as cholesterol ester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gradation of LDL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o amino acids, phospholipids and fatty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gradation or recycling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Impact"/>
              </a:rPr>
              <a:t>LDL Receptor-Mediated Endocytosis: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wn-regul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igh intracellular cholesterol cont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gradation of LDL receptor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Inhibition of recepotor synthesis at gen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ecrease No. of receptor at cell surface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crease further uptake of LD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ecrease de novo synthesis of cholestero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-regulation:</a:t>
            </a:r>
            <a:br>
              <a:rPr sz="32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ow intracellular cholesterol content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cycling of LDL receptor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Stimulation of recepotor synthesis at gen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crease No. of receptor at cell surface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crease further uptake of LD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crease de novo synthesis of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1-04-05T04:57:21Z</dcterms:modified>
  <cp:revision>12</cp:revision>
  <dc:subject/>
  <dc:title>PowerPoint Presentation</dc:title>
</cp:coreProperties>
</file>