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7AE-DC82-4731-BFED-9094300B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D19-2040-440B-9270-229A02D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3B6-6FBE-4F9F-B001-87327A56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6A9-1DA9-4646-8CBA-8F5E53A2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17F-7EC0-4A14-B373-D848940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A14-C7EC-4C21-B77A-246091D5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166-5A71-430B-ADB5-C5C2F7CB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AD9-914F-4D36-890B-716FDB19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F4A-15FB-471E-98A2-79BC9462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07C-208C-40B9-A012-778EF71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83E-E221-4D65-B399-25E570A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7BC-B357-4CE3-91FE-53FD7E9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9590-D58E-44E4-AEA8-E67E8755CE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2681280" y="76320"/>
            <a:ext cx="45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lutathion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2438280" y="719280"/>
            <a:ext cx="5029200" cy="4998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507360" y="48769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407680" y="39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33520" y="5710320"/>
            <a:ext cx="8305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Glucose-6-phosphate dehydrogenase  (G-6-PD) is the main source for NADPH generation and is, therefore, essential for proper function of glutathio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519120" y="822240"/>
            <a:ext cx="80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Biochemical Bas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G6PD Deficiency 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Molecular &amp; Vascular Effects of R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ole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Lipid peroxidatio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oly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activation of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NA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ell signaling effects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e.g., release of C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rom intracellular st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ytoskelet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hemot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ltered vascular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creased endothelial cell perme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Nitric Oxide (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: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 gas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Very short half-lif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seconds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etabolized into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itrates &amp;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ynthe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zyme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No synthas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ursor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-Arg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laxes vascular smooth muscl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vents platelet aggregation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Bactricidal &amp; Tumoricidal effects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eurotransmitter in brain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13_009"/>
          <p:cNvPicPr/>
          <p:nvPr/>
        </p:nvPicPr>
        <p:blipFill>
          <a:blip r:embed="rId1"/>
          <a:srcRect l="36112" t="0" r="31482" b="12230"/>
          <a:stretch/>
        </p:blipFill>
        <p:spPr>
          <a:xfrm>
            <a:off x="6172200" y="9036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Impact"/>
              </a:rPr>
              <a:t>Oxidative Stress: Role of Nitric Oxide (N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ay be both beneficial and detrimental, depending upon when and where NO is released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roduced by endotheli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mproving vascular dilation and perfus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nefic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odilators such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itroglyceri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is metabolized into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and causes vasodila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ontrast, NO production by neuron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or by the inducible form of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has been reported to have detrimental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iNOS activity is generally associated with inflammatory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14400" y="152280"/>
            <a:ext cx="739152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Pathogenesis of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838080"/>
            <a:ext cx="876312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(imbalance between oxidants and antioxid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othelial injury of arteria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herence of monocytes to endothelial cell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d their movement into intima where it becomes macroph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: Accumulation of excess lipids inside the cell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unregulated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Compare to physiological uptak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 (unmod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by </a:t>
            </a:r>
            <a:r>
              <a:rPr b="1" lang="en-US" sz="3600" spc="-1" strike="noStrike">
                <a:solidFill>
                  <a:srgbClr val="3333cc"/>
                </a:solidFill>
                <a:latin typeface="Impact"/>
              </a:rPr>
              <a:t>high-affinity, specific &amp; tightly regu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-Rece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9320" y="914040"/>
            <a:ext cx="83818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Stress and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condition in which cells are subjected to excessive levels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active Speci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xygen or Nitrative species) &amp; they are unable to counterbalance their deleterious effects with antioxid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has been implicated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e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ss &amp; in many diseases (e.g.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 and coronary heart diseas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2836080" y="30492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94000" y="1752480"/>
            <a:ext cx="797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pids (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stress and dis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lammatory conditions e.g., Rheumatoid art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hersclerosis and coronary heart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6PD deficiency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66680" y="838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mbalance between oxidant p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antioxida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Passport1001001"/>
          <p:cNvPicPr/>
          <p:nvPr/>
        </p:nvPicPr>
        <p:blipFill>
          <a:blip r:embed="rId1"/>
          <a:stretch/>
        </p:blipFill>
        <p:spPr>
          <a:xfrm>
            <a:off x="838080" y="533520"/>
            <a:ext cx="74739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219320" y="8380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Reactive Oxygen Species (R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719280" y="1828800"/>
            <a:ext cx="78912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587600" y="4876920"/>
            <a:ext cx="60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xygen-derived free radical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Superoxide and hydroxyl ra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n-free radical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301040" y="83808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Antioxidant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ROS: Types and Sour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Free radical: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uperoxid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Pe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ROO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n free radical: 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gen peroxide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uring course of metabolism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.g.,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uto-oxidation of hemoglobin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nd xanthine oxidase</a:t>
            </a:r>
            <a:br>
              <a:rPr sz="24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Fenton react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, 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partial reduction of molecular oxygen in electron transport chain in mitochond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gestion of toxins, chemicals o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6"/>
          <p:cNvSpPr/>
          <p:nvPr/>
        </p:nvSpPr>
        <p:spPr>
          <a:xfrm flipH="1">
            <a:off x="3450960" y="18907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7"/>
          <p:cNvSpPr/>
          <p:nvPr/>
        </p:nvSpPr>
        <p:spPr>
          <a:xfrm flipH="1">
            <a:off x="2557080" y="475308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8"/>
          <p:cNvSpPr/>
          <p:nvPr/>
        </p:nvSpPr>
        <p:spPr>
          <a:xfrm flipH="1">
            <a:off x="1938240" y="5726160"/>
            <a:ext cx="15264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Antioxida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nzy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peroxide dismut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ta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lutathione system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(glutathione, NADPH, reductase, peroxidase  &amp; selenium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itam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C (ascorbic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A and </a:t>
            </a:r>
            <a:r>
              <a:rPr b="1" lang="el-GR" sz="2400" spc="-1" strike="noStrike">
                <a:solidFill>
                  <a:srgbClr val="c00000"/>
                </a:solidFill>
                <a:latin typeface="Verdana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-carot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rac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ele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2-03-31T14:31:35Z</dcterms:modified>
  <cp:revision>31</cp:revision>
  <dc:subject/>
  <dc:title>PowerPoint Presentation</dc:title>
</cp:coreProperties>
</file>