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BDAA-97FD-42F1-BB62-E755BA6D2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F37-2FAF-4F0B-B352-54AA199A96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7FA4-9700-45CE-A813-D29B404CB3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99D-A51F-420E-BC6F-8327F44DB1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3F5D-6F4E-45B0-8FBD-3AAF777A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5D04-8382-4505-AAA6-3A8CB1D3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47C-E1D9-40AE-90D1-5CAA8AB5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C26-4BAA-4F42-BDC7-C5682140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5E5E-0B1C-420A-A44C-086EC895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7891-BADB-4900-AC30-8A69539D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29BE-37A9-4271-8057-1E3C9E9B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C4CA-9FBE-4309-A5AE-B105FA3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61AA-F2B8-4BAC-8696-2FEB1CB1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76FB-775A-4DC8-B002-7E6EEB0A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681A-176F-407C-B8A0-8A30BF0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32C-2325-4E31-B82C-025592C3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A781-25BE-44CB-8D0F-FE4341E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D578-C598-4A08-B10E-DEFD93E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3376-E6F7-494A-B6B9-1E37A10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824C-6530-4EA0-ACF0-B8049575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994-B928-49DB-9A6C-3D3A6B84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56F-BABB-4E6D-99BA-667E28E1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829-DA3C-49D1-87C4-0906A8E3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19DF-1A3E-49EB-98B3-95E93C3D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A3F-2B4B-4ABF-921A-DCA3E59F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3EA-4815-4126-8B45-8EFA4625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7BE-9EBB-461C-BAB0-0DC3AAF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C60-8810-4FD2-891D-7615AAA6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10FD-192A-4359-B48D-0F3EFD6636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B86F-5326-4C0D-8ADE-BA8BAAFF5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  <a:ea typeface="Arial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440080" y="434340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to be caused b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oss-reactivity is a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ype II hypersensi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action and is termed 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" may cross react with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ac myofiber protein myosin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c receptor-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533520" y="552780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n the valve endothelium. T cells adhere to the VCAM-1 on valve endothelium and extravasate into the valve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munofluorescent staining 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lp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Hear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5029200" y="1752480"/>
            <a:ext cx="4114800" cy="3387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4419720" y="507348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ate complic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escribe rheumatic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lam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7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2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streptolysin 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roat cultur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vulnerability t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t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first strep throat infection wit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other manifestation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heumatic heart disease results from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ment involv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rgica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nicilli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group A streptococcal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pharyngiti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gen-presenting cells bearing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34160" indent="-434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ther views in the literature exist, due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34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+ The various HLA-typing methods. 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Calibri"/>
              </a:rPr>
              <a:t>+ Ways of grouping the c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involve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ommonly appears in children age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used b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a latent period of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~3 weeks (1–5 weeks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ffff0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328680" y="390600"/>
            <a:ext cx="728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dherence of Streptococcus pyogenes to host cells &amp; inhibiting the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94400" y="2319480"/>
            <a:ext cx="89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Hyaluronic acid capsule: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87360" y="307008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Streptokinases: 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Dissolve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88640" y="393228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  <a:ea typeface="Arial"/>
              </a:rPr>
              <a:t>Peptida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  <a:ea typeface="Arial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94560" y="5038560"/>
            <a:ext cx="798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omic Sans MS"/>
                <a:ea typeface="Arial"/>
              </a:rPr>
              <a:t>Pyrogenic toxins: </a:t>
            </a:r>
            <a:r>
              <a:rPr b="0" lang="en-US" sz="2800" spc="-1" strike="noStrike">
                <a:solidFill>
                  <a:srgbClr val="eeece1"/>
                </a:solidFill>
                <a:latin typeface="Comic Sans MS"/>
                <a:ea typeface="Arial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458280" y="571500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  <a:ea typeface="Arial"/>
              </a:rPr>
              <a:t>Streptolysi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  <a:ea typeface="Arial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 ZAHID</dc:creator>
  <dc:description/>
  <dc:language>en-US</dc:language>
  <cp:lastModifiedBy>user</cp:lastModifiedBy>
  <dcterms:modified xsi:type="dcterms:W3CDTF">2016-02-28T05:40:21Z</dcterms:modified>
  <cp:revision>167</cp:revision>
  <dc:subject/>
  <dc:title>Slide 1</dc:title>
</cp:coreProperties>
</file>