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F8B5-8543-4DAA-ACBB-A046C5E0F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31D5-C4AC-4B2F-A858-E3C86B4FF2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7DEB-AE71-4241-A56F-09F1038D5F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9B9C-CAE7-426C-A21C-1CC168A69D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AA5-D06E-46BE-A92C-4C84982F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C0F-FFF8-4A42-BF4B-DD2D149D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E3B-7AFF-45BD-B2E9-E89E8230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59B-33B6-4437-8DEC-CFFC5969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B44-EF6B-4973-9243-40069E3A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550A-9E17-4B6C-A352-61505814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0FB2-4EE2-44BF-819D-36581120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F3BE-54DC-4D87-B8A1-B7F8AF9B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AC5E-C4A6-4E7C-9D7B-04473B92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6717-E5AB-4702-A460-F964290E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CDD7-757E-4E66-85DC-96BC27A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EFD-F681-41B8-BC48-634928AA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EB26-F0EF-4268-AF1F-3856DB05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5765-62B4-4EAB-B656-7AC23D18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A65-0C0D-4427-8F5A-76675A2C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08A2-E88C-4705-B673-1592AB89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0FD7-9197-4946-A718-17346633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ABD-ACEC-47CF-9499-263EB1E3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876-E198-4968-8410-BEFAAC7C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05C-FA65-4F1C-9AF2-E0671AB1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F2A-E16D-4055-B39C-E4A6F847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C6F-975F-4F75-B585-0FEB7A29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559-CD0D-4D20-95FF-5ED94F54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237-C615-45EB-B091-F7389614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DDB9-3379-4323-BE8C-32C9A557F8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207A-5AAD-4A23-B229-4344C1D2E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oup_A_streptococcal_infection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1249560" y="2514600"/>
            <a:ext cx="65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Rheumatic Heart Dise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440080" y="434340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mmunology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epartment of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llege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King Saud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heumatic fever  affect the peri-arteriolar connective tissu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believed to be caused b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tibody cross-re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oss-reactivity is a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ype II hypersensitivi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eaction and is termed </a:t>
            </a: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molecular mimicr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up A streptococcus pyogenes has a cell wall composed of branched polymers which sometimes contain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 protein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hat are highly antigen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ich the immune system generates against the "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M protei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" may cross react with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ardiac myofiber protein myosin and smooth muscle cells of arter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inducing cytokine release and tissue destr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nflammation occurs through direct attachment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mple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Fc receptor-mediate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cruitment of neutrophils and macrophag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Image"/>
          <p:cNvPicPr/>
          <p:nvPr/>
        </p:nvPicPr>
        <p:blipFill>
          <a:blip r:embed="rId1"/>
          <a:stretch/>
        </p:blipFill>
        <p:spPr>
          <a:xfrm>
            <a:off x="609480" y="31680"/>
            <a:ext cx="8305920" cy="545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533520" y="5527800"/>
            <a:ext cx="84582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gram illustrating the two hit theory of rheumatic heart disease. Group A streptococcal infection leads to the production of anti-group A carbohydrate antibody which cross-reacts with the valve endothelium as well as with the myocardium and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up-regulates vascular cell adhesion molecule-1 (VCAM-1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on the valve endothelium. T cells adhere to the VCAM-1 on valve endothelium and extravasate into the valve. </a:t>
            </a:r>
            <a:br>
              <a:rPr sz="1800"/>
            </a:br>
            <a:br>
              <a:rPr sz="1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76600" y="471600"/>
            <a:ext cx="184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Image"/>
          <p:cNvPicPr/>
          <p:nvPr/>
        </p:nvPicPr>
        <p:blipFill>
          <a:blip r:embed="rId1"/>
          <a:stretch/>
        </p:blipFill>
        <p:spPr>
          <a:xfrm>
            <a:off x="30240" y="0"/>
            <a:ext cx="9113760" cy="53341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0" y="525780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gram illustrating the process of initial mimicry which leads 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nuloma formation, gamma interferon production and scarring in the valv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After the initial process has developed inflammation in the valve, other proteins in the valve may then be recognized by the immune system leading potentially 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pitope spread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responses against other valve proteins such a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imentin and collagen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Molecular mimicry in the autoimmune pathogenesis of rheumatic heart disease” by L. Guilherme; J. Kalil; M.W. Cunningham. </a:t>
            </a:r>
            <a:br>
              <a:rPr sz="1400"/>
            </a:br>
            <a:br>
              <a:rPr sz="14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73960" cy="58438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80880" y="6019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munofluorescent staining of heart muscle with serum obtained from an acute rheumatic fever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athophysi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uring a Strep. infection activated antigen presenting cells such as macrophages present the bacterial antigen to helper T cell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lper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 cells subsequently activate self reactive B cell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induce the production of antibodies against the cell wall of Streptococc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However the antibodies may also react against the myocardium and joints, producing the symptom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tmpa83a24.png"/>
          <p:cNvPicPr/>
          <p:nvPr/>
        </p:nvPicPr>
        <p:blipFill>
          <a:blip r:embed="rId1"/>
          <a:stretch/>
        </p:blipFill>
        <p:spPr>
          <a:xfrm>
            <a:off x="130320" y="152280"/>
            <a:ext cx="8883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981080" y="27432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inical 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Heart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p to 60% of patients with ARF progress to Rheumatic Heart Disease (RH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endocardium, pericardium, or myocardium may be affected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pancardit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lvular damage is the hallmark of rheumatic carditis. Th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mitral valv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lmost affec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3" descr="Rheumatic_heart_disease%2C_gross_pathology_20G0013_lores.jpg"/>
          <p:cNvPicPr/>
          <p:nvPr/>
        </p:nvPicPr>
        <p:blipFill>
          <a:blip r:embed="rId1"/>
          <a:stretch/>
        </p:blipFill>
        <p:spPr>
          <a:xfrm>
            <a:off x="5029200" y="1752480"/>
            <a:ext cx="4114800" cy="3387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4419720" y="5073480"/>
            <a:ext cx="49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Left ventricle has been cut open to display characteristic severe thickening of mitral valve, thickened chordae tendineae, and hypertrophied left ventr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ight Arrow 8"/>
          <p:cNvSpPr/>
          <p:nvPr/>
        </p:nvSpPr>
        <p:spPr>
          <a:xfrm>
            <a:off x="5486400" y="34290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ight Arrow 15"/>
          <p:cNvSpPr/>
          <p:nvPr/>
        </p:nvSpPr>
        <p:spPr>
          <a:xfrm>
            <a:off x="5334120" y="37339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ight Arrow 18"/>
          <p:cNvSpPr/>
          <p:nvPr/>
        </p:nvSpPr>
        <p:spPr>
          <a:xfrm>
            <a:off x="4876920" y="4343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understand basis of rheumatic fever as an immunologically mediate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ate complic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Streptococcal inf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know that autoimmunity results from production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ross reacting antibodi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gainst Streptococcal antige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describe rheumatic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one of the several manifestation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know the signs, symptoms, pathogenesis, treatment and prophylaxis of rheumatic heart diseas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Joints (arthriti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is usually polyarthritis, sometimes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flitting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from joint to joint (migratory), affecting the larger joints more than the smaller on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welling, redness and tenderness are the common findings and occasionally joint effus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lamed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Keen Joi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6" descr="4453-4463-5382-12617"/>
          <p:cNvPicPr/>
          <p:nvPr/>
        </p:nvPicPr>
        <p:blipFill>
          <a:blip r:embed="rId1"/>
          <a:stretch/>
        </p:blipFill>
        <p:spPr>
          <a:xfrm>
            <a:off x="4413240" y="2133720"/>
            <a:ext cx="4502160" cy="3886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4267080" y="1981080"/>
            <a:ext cx="914400" cy="4208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Skin (Erythema Marginatum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kin lesio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he classical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rythema marginatu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—lesions with prominent margins slightly rai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7" descr="fig12a"/>
          <p:cNvPicPr/>
          <p:nvPr/>
        </p:nvPicPr>
        <p:blipFill>
          <a:blip r:embed="rId1"/>
          <a:stretch/>
        </p:blipFill>
        <p:spPr>
          <a:xfrm>
            <a:off x="5105520" y="1981080"/>
            <a:ext cx="4043160" cy="487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Erythema-Marginatum-4.jpg"/>
          <p:cNvPicPr/>
          <p:nvPr/>
        </p:nvPicPr>
        <p:blipFill>
          <a:blip r:embed="rId2"/>
          <a:stretch/>
        </p:blipFill>
        <p:spPr>
          <a:xfrm>
            <a:off x="0" y="1981080"/>
            <a:ext cx="5105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Central nervous system (chore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ydenham's chore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choreiform movement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fect particularly the head and the upper limb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may be generalized or restricted to one side of the body (hemi-chore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rea eventually resolves completely, usually within 6 wee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7" descr="Boys-Afflicted-with-Chorea-Known-as-St-Vitus-Dance-or-as-Danse-de-Saint-Guy-in-France-Giclee-Print-C12374586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ubcutaneous nod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Subcutaneous nodules :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are painless, round, firm lumps overlaid by normal looking ski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range from a few millimeters to 1.5 cm in diameter, and are localized over bony prominences like the elbow, shin and spine.  They sometimes last longer than a mon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7" descr="fig11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67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1949_f1"/>
          <p:cNvPicPr/>
          <p:nvPr/>
        </p:nvPicPr>
        <p:blipFill>
          <a:blip r:embed="rId2"/>
          <a:stretch/>
        </p:blipFill>
        <p:spPr>
          <a:xfrm>
            <a:off x="5029200" y="4267080"/>
            <a:ext cx="3581280" cy="2532240"/>
          </a:xfrm>
          <a:prstGeom prst="rect">
            <a:avLst/>
          </a:prstGeom>
          <a:ln w="0">
            <a:noFill/>
          </a:ln>
        </p:spPr>
      </p:pic>
      <p:sp>
        <p:nvSpPr>
          <p:cNvPr id="152" name="Right Arrow 8"/>
          <p:cNvSpPr/>
          <p:nvPr/>
        </p:nvSpPr>
        <p:spPr>
          <a:xfrm>
            <a:off x="5029200" y="3200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ight Arrow 9"/>
          <p:cNvSpPr/>
          <p:nvPr/>
        </p:nvSpPr>
        <p:spPr>
          <a:xfrm>
            <a:off x="5867280" y="53341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1331341-1331372-1007946-1782447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nvestigation of Rheumatic Fev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streptolysin O (ASO) ti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 least 80% of patients with ARF have an elevated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streptolysin 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iter at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ising titer is more convinc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DNAse 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hyaluronidase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roat cultur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for group A streptococci (obtain 2 or 3 cultur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 – Clinical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ubsequent attac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d vulnerability to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activation of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th subsequent strep inf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ame symptom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arditi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sens 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valv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frequently deformed (mitra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failur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s after dec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Acute, recurring, chronic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ymptoms prone to recur with subsequent Strep. infec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hronic disease leads to fibrosis  (chordae of heart valves + valve cusp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3" descr="MS.bmp"/>
          <p:cNvPicPr/>
          <p:nvPr/>
        </p:nvPicPr>
        <p:blipFill>
          <a:blip r:embed="rId1"/>
          <a:stretch/>
        </p:blipFill>
        <p:spPr>
          <a:xfrm>
            <a:off x="990720" y="2743200"/>
            <a:ext cx="2638440" cy="3505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MS_1.bmp"/>
          <p:cNvPicPr/>
          <p:nvPr/>
        </p:nvPicPr>
        <p:blipFill>
          <a:blip r:embed="rId2"/>
          <a:stretch/>
        </p:blipFill>
        <p:spPr>
          <a:xfrm>
            <a:off x="5562720" y="2666880"/>
            <a:ext cx="2489040" cy="3581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152280" y="6324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tenotic mitral valve seen from left atr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334120" y="6324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Opened stenotic mitral val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Donut 8"/>
          <p:cNvSpPr/>
          <p:nvPr/>
        </p:nvSpPr>
        <p:spPr>
          <a:xfrm>
            <a:off x="1219320" y="3048120"/>
            <a:ext cx="2057400" cy="1981080"/>
          </a:xfrm>
          <a:custGeom>
            <a:avLst/>
            <a:gdLst/>
            <a:ahLst/>
            <a:rect l="l" t="t" r="r" b="b"/>
            <a:pathLst>
              <a:path w="2057400" h="1981200">
                <a:moveTo>
                  <a:pt x="0" y="990600"/>
                </a:moveTo>
                <a:cubicBezTo>
                  <a:pt x="0" y="443507"/>
                  <a:pt x="460565" y="0"/>
                  <a:pt x="1028700" y="0"/>
                </a:cubicBezTo>
                <a:cubicBezTo>
                  <a:pt x="1596835" y="0"/>
                  <a:pt x="2057400" y="443507"/>
                  <a:pt x="2057400" y="990600"/>
                </a:cubicBezTo>
                <a:cubicBezTo>
                  <a:pt x="2057400" y="1537693"/>
                  <a:pt x="1596835" y="1981200"/>
                  <a:pt x="1028700" y="1981200"/>
                </a:cubicBezTo>
                <a:cubicBezTo>
                  <a:pt x="460565" y="1981200"/>
                  <a:pt x="0" y="1537693"/>
                  <a:pt x="0" y="990600"/>
                </a:cubicBezTo>
                <a:close/>
                <a:moveTo>
                  <a:pt x="79486" y="990600"/>
                </a:moveTo>
                <a:cubicBezTo>
                  <a:pt x="79486" y="1493794"/>
                  <a:pt x="504464" y="1901714"/>
                  <a:pt x="1028700" y="1901714"/>
                </a:cubicBezTo>
                <a:cubicBezTo>
                  <a:pt x="1552936" y="1901714"/>
                  <a:pt x="1977914" y="1493794"/>
                  <a:pt x="1977914" y="990600"/>
                </a:cubicBezTo>
                <a:cubicBezTo>
                  <a:pt x="1977914" y="487406"/>
                  <a:pt x="1552936" y="79486"/>
                  <a:pt x="1028700" y="79486"/>
                </a:cubicBezTo>
                <a:cubicBezTo>
                  <a:pt x="504464" y="79486"/>
                  <a:pt x="79486" y="487406"/>
                  <a:pt x="79486" y="990600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reatment of 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 first strep throat infection wit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enicill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 other manifestation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mptomat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phylact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ong term anti-strep therapy given to anyone who has had rheumatic fe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heumatic heart disease results from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ross reacting 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inding the 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eated attacks of Streptococcal throat infection over the years damage heart valves resulting in either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tenotic or incompet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ment involve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urgica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lacement of the damaged heart valv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patients with rheumatic fever long term administration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enicilli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recommended for prevention of future infections by group A Streptococcus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pidemiology of Rheumatic Fever (RF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~3% of persons with untreated group A streptococcal </a:t>
            </a: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pharyngitis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develop rheumatic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-20 million new cases a year in developing countr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w standard of liv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ow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286000" y="26668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ndividual (HLA) susceptibility is  also import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igen-presenting cells bearing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LA-DR7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lecule from RHD patients preferentially recognize heart-tissue prote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Guilherme L, Kalil J. Ann  N Y Acd Sci    2007,1107:426-43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ther views in the literature exist, due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34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+ The various HLA-typing methods. 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+ Ways of grouping the ca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nflammatory disease  which may develop after a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roup A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reptococcal infe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uch a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ep. throat infection or scarlet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involve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eart, joints, skin, and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commonly appears in children age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5 through 1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used b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group A streptococc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a latent period of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~3 weeks (1–5 weeks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etween the group A streptococcal infection and the appearance of the clinical features of RF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6" descr="767703_com_streptococ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Group A </a:t>
            </a:r>
            <a:r>
              <a:rPr b="0" lang="en-GB" sz="4000" spc="-1" strike="noStrike">
                <a:solidFill>
                  <a:srgbClr val="ffff00"/>
                </a:solidFill>
                <a:latin typeface="Symbol"/>
                <a:ea typeface="Symbol"/>
              </a:rPr>
              <a:t></a:t>
            </a: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aemolytic streptococ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ll cases associated with recent infection (e.g. pharyngit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Antibody and cellular immune respons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oss-reacts with human connective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6" descr="strept"/>
          <p:cNvPicPr/>
          <p:nvPr/>
        </p:nvPicPr>
        <p:blipFill>
          <a:blip r:embed="rId1"/>
          <a:srcRect l="7846" t="4539" r="6866" b="10021"/>
          <a:stretch/>
        </p:blipFill>
        <p:spPr>
          <a:xfrm>
            <a:off x="0" y="34920"/>
            <a:ext cx="9144000" cy="5985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27"/>
          <p:cNvSpPr/>
          <p:nvPr/>
        </p:nvSpPr>
        <p:spPr>
          <a:xfrm>
            <a:off x="533520" y="612468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imishikavi S,  Stead L  Streptococcal Pharyngitis – Images in Clinical Medicine.   NEJM 2005: 352:e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328680" y="390600"/>
            <a:ext cx="728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M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Adherence of Streptococcus pyogenes to host cells &amp; inhibiting the host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8680" y="133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94400" y="2319480"/>
            <a:ext cx="89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Hyaluronic acid capsule: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Camouflages the bacte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87360" y="307008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Comic Sans MS"/>
                <a:ea typeface="Arial"/>
              </a:rPr>
              <a:t>Streptokinases: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  <a:ea typeface="Arial"/>
              </a:rPr>
              <a:t>Dissolve blood c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88640" y="3932280"/>
            <a:ext cx="828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  <a:ea typeface="Arial"/>
              </a:rPr>
              <a:t>Peptid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Comic Sans MS"/>
                <a:ea typeface="Arial"/>
              </a:rPr>
              <a:t>Degrades proteins involved in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94560" y="5038560"/>
            <a:ext cx="79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ece1"/>
                </a:solidFill>
                <a:uFillTx/>
                <a:latin typeface="Comic Sans MS"/>
                <a:ea typeface="Arial"/>
              </a:rPr>
              <a:t>Pyrogenic toxins: </a:t>
            </a:r>
            <a:r>
              <a:rPr b="0" lang="en-US" sz="2800" spc="-1" strike="noStrike">
                <a:solidFill>
                  <a:srgbClr val="eeece1"/>
                </a:solidFill>
                <a:latin typeface="Comic Sans MS"/>
                <a:ea typeface="Arial"/>
              </a:rPr>
              <a:t>Stimulate fever, rash &amp;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58280" y="5715000"/>
            <a:ext cx="692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ff"/>
                </a:solidFill>
                <a:uFillTx/>
                <a:latin typeface="Comic Sans MS"/>
                <a:ea typeface="Arial"/>
              </a:rPr>
              <a:t>Streptolys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  <a:ea typeface="Arial"/>
              </a:rPr>
              <a:t>Lyse erythrocytes, leukocytes &amp; plate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2:43:46Z</dcterms:created>
  <dc:creator>DR. ZAHID</dc:creator>
  <dc:description/>
  <dc:language>en-US</dc:language>
  <cp:lastModifiedBy>user</cp:lastModifiedBy>
  <dcterms:modified xsi:type="dcterms:W3CDTF">2016-02-28T05:40:21Z</dcterms:modified>
  <cp:revision>167</cp:revision>
  <dc:subject/>
  <dc:title>Slide 1</dc:title>
</cp:coreProperties>
</file>