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63A5-AFAE-449E-BE04-A742D721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7C32-56BD-49CB-98C3-E16C549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B34E-DB5C-43DD-A590-B081181E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D937-CDF4-416A-8440-EA21F985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CEDC-75BC-4C31-B443-216237DE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B0EE-E85C-49DC-BDDF-1A0CD1C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577-CAED-4407-B013-97CAC66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BB1B-F966-4AB8-A299-201526A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2F06-507F-47C6-824C-D0931013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E6B9-3C51-4240-BF2E-7C5CD22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EFB-C7D8-497A-8E13-CB2B856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B078-6502-4D50-88F2-E2D50AD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8DE-9B04-48D7-B75D-14EBE0C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9D5F-73C1-4F56-8108-BE45711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486-D0BE-41B4-8F2D-AE9F68CA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865A-50B2-4C02-8A73-76764769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5080-10DD-4D3A-86D9-C25CC235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0B26-D419-4F7B-BDCD-A33510B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C46B-69D4-4F52-828A-E4FE8F4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1E0A-B503-474A-A23F-8F8AD467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5A06-174A-4589-B9C9-A1A2A4C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261C-C15E-45B7-BC4E-7FC0337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64D4-ACFE-4EF3-A4F4-F0386B6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13C8-A6FA-4F85-B546-AEF5618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7F0-4A3D-4F59-8BE1-6C0D601D31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81F-34ED-49C8-9CBA-BB7848FBE3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920600"/>
          </a:xfrm>
          <a:prstGeom prst="rect">
            <a:avLst/>
          </a:prstGeom>
          <a:solidFill>
            <a:srgbClr val="00248f"/>
          </a:solidFill>
          <a:ln w="9360">
            <a:solidFill>
              <a:srgbClr val="00248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  <a:ea typeface="Andalus"/>
              </a:rPr>
              <a:t>Infective Endocardit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ttp://www.merckmanuals.com/media/home/figures/MMHE_03_029_01_eps.gif"/>
          <p:cNvPicPr/>
          <p:nvPr/>
        </p:nvPicPr>
        <p:blipFill>
          <a:blip r:embed="rId1"/>
          <a:stretch/>
        </p:blipFill>
        <p:spPr>
          <a:xfrm>
            <a:off x="-3781440" y="33336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merckmanuals.com/media/home/figures/MMHE_03_029_01_eps.gif"/>
          <p:cNvPicPr/>
          <p:nvPr/>
        </p:nvPicPr>
        <p:blipFill>
          <a:blip r:embed="rId2"/>
          <a:stretch/>
        </p:blipFill>
        <p:spPr>
          <a:xfrm>
            <a:off x="150840" y="-1127160"/>
            <a:ext cx="2819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ORTAL OF E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 extraction     bleeding       bacteraem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ocking the tooth in the socket          pumping effect on the vessels of periodontal  ligament , forces bacteria from gingival pockets into blood stream   40 – 80 % bacteraem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nsitivity of  blood culture technique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verity of gingival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al  irrigation 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NO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aemia  may follow  scaling , tooth brushing, endodontic  therapy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ack of clinical effect of many bacteraemia is due to small number or low virul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y are rapidly cleared by normal body defence ( leucocyte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pt. Faecalis may cause endocarditis after genitourinary or gut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AUSATIVE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iridans  streptococ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common  cause  of  sub- acute bacterial endocarditis  (S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duce glucagons                   adhere to endocar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 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mu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sangu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284720" y="3500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445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pneumoni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aureu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cute  endocard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epidermid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rucella  spec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ctinobacillus  actinomycetes comi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Rickettis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xiella burne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ndida 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mation of veget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brin , platelets (thrombi)  , bacteria colonies                     Attached  to heart val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reak off                  infected emboli              distant organs ( kidney , brain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complex  formation causes glomerular  damage               haematuri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lves infection            destruction          heart  failur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           tricuspid,pulmonary valves of right  side of heart            lung  emboli           pneu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556000" y="2924280"/>
            <a:ext cx="1224000" cy="196920"/>
          </a:xfrm>
          <a:prstGeom prst="rightArrow">
            <a:avLst>
              <a:gd name="adj1" fmla="val 50000"/>
              <a:gd name="adj2" fmla="val 1553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419640" y="4869000"/>
            <a:ext cx="792000" cy="214200"/>
          </a:xfrm>
          <a:prstGeom prst="rightArrow">
            <a:avLst>
              <a:gd name="adj1" fmla="val 50000"/>
              <a:gd name="adj2" fmla="val 924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87640" y="5805360"/>
            <a:ext cx="614520" cy="216000"/>
          </a:xfrm>
          <a:prstGeom prst="rightArrow">
            <a:avLst>
              <a:gd name="adj1" fmla="val 50000"/>
              <a:gd name="adj2" fmla="val 71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227640" y="292428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411280" y="4292640"/>
            <a:ext cx="976320" cy="270000"/>
          </a:xfrm>
          <a:prstGeom prst="rightArrow">
            <a:avLst>
              <a:gd name="adj1" fmla="val 50000"/>
              <a:gd name="adj2" fmla="val 904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724360" y="580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156360" y="4869000"/>
            <a:ext cx="544320" cy="2142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LINICAL 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nset  is insidious ( SBE) – 3 weeks  after extra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ever ( mild and prolonged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alaise  , weight loss , weak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anging murmu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mia , leucocyto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icroscopic  haematur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etechia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eenomega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inter haemorrhag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ypergammaglobulinaem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ge   young , elde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MORT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ith antibiotic treat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morta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irulance of organism or sever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esence of underlying disea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adequate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Cand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Staphylococc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Gram-neg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LABORATORY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 – serial blood culture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( 2-3 sets before antibiotic therapy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- serological tes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FT ( coxiella burniti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- sensitivity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sk diffusion test ( not sufficient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IC , MB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riteria  of  antibiotic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ctericid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long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Viridans streptococci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–Benzyl penicillin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4 MU I.V. every 4 hrs for 4 wee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enicillin + gentami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treptococcus faecalis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ampicillin + gentamicin 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ecurrence after cure is common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deficient pati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fection  or colonization of endocardium , heart  valves , congenital defects by bacteria , rickettsiae , fung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Low  grade persistent bacteraemi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Antimicrobial  prophylaxi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(preven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susceptible pati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valvular or congenital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Before tooth extraction , deep scaling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other operation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nzyl-penicillin 2M– I.M 30 mint. before             500mg penicillin V oral – 6 hourly for 2 days afterwar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If  patient is allergic to penicillin 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ncomycin  or Erythromycin lactobionate  Ig  I.V. 30 minutes  befor op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Genitourinary  proced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tamicin +ampicillin I.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0 minutes before  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IMPOR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904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riou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tality  :  3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amage  of heart or other org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llow  dental procedures ( tooth extra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 heart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http://t3.gstatic.com/images?q=tbn:ANd9GcS3x_ZVVzUxMl5mLGFlWzN0jV0LLg5C1ECWkRSae99e8EvKM2RI"/>
          <p:cNvPicPr/>
          <p:nvPr/>
        </p:nvPicPr>
        <p:blipFill>
          <a:blip r:embed="rId1"/>
          <a:stretch/>
        </p:blipFill>
        <p:spPr>
          <a:xfrm>
            <a:off x="150840" y="-87624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ET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SCEPTIBLE   PAT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FACTORES  AFFECTING  SEVERITY  AND OUTCO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IAL 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. BACTERIA  IN  THE  B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HOST  FACTOR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FACTORS  INCREASING  SUSCEPT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ONGINITALOR RHEUMATIC  HEART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OTHER  CARDIOVASCULAR 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HEART  SURGE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GENI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UNDERLYING DISEASE ( DIABETES.M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ATROGENIC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YTOTOXIC  AG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SELF- INFLIC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DDICTION  (INJECTED  DRUGS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TECTIVE 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NTIMICROBIAL  CHEMOTHERAP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SOURCES  OF INF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extraction and other dental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rdiac  surgery ( prosthetic valv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venous med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v. Drug  addi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cardiac or intravenous cath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etric or gynaecologic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REDISPOSING  FA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- cardiac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hronic rheumatic valvular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heart disease and def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theroscler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sthetic valv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mmedi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lay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orted shape causes stasis of blood flow and settee of bacteria on the endocardi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t bacteria`, staph. aureus  and  strept. Pneumoniae  can  infect  normal  hea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. systemic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defects ( dise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. Drug  ab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56-03-02T23:47:54Z</dcterms:created>
  <dc:creator>Administrator</dc:creator>
  <dc:description/>
  <dc:language>en-US</dc:language>
  <cp:lastModifiedBy>JERICA</cp:lastModifiedBy>
  <dcterms:modified xsi:type="dcterms:W3CDTF">2015-03-10T05:27:45Z</dcterms:modified>
  <cp:revision>143</cp:revision>
  <dc:subject/>
  <dc:title>Slide 1</dc:title>
</cp:coreProperties>
</file>