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27E9F-281A-4005-93C6-39E107A5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72262-E72D-4CBD-B469-BF3EEE02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05155-A766-4EE4-B23D-AB57B8FF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C8D76-8774-44BF-9631-BA4F56B9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FED3-1B31-4150-9765-773ABBBCB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D0C3-91BF-4D6C-877C-A3A9727A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559D-B82F-46DD-8528-2E39E08E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91AA-1254-4FCF-915C-B453679E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FC65-223C-4791-97FA-9A646965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65BE-FB9E-4DBB-A824-10DD6B0C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EA08-D85F-4A1F-ACD4-F58B1E85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CF086-2031-4BD3-8E88-DFE58612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A091-6AB8-4966-8FB3-A3D16DE8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6DCA-5C42-4488-B4E3-9B5F7D44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840D-7D67-46B6-8C52-A7E04A80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CF42-3CA5-45F0-8390-79D509C1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E109-53E9-4A01-8075-ECEDB9064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91BDC-FB1E-498F-AD5F-1ED6591F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2FD7B-AC33-4F69-A564-5B6B6D66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B4E89-4743-4D0A-BA4A-389EB7EA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4A465-DFE9-4C73-BC74-9B91BD51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94088-1E09-4F71-A412-6A428D51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A479-ED36-45E0-BD72-969DB25D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57E1F-5EE1-4D97-9445-79F5F098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19ED-C866-416F-A055-9C7767A633E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6023-3FF8-416E-866B-F84FDDF9168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920600"/>
          </a:xfrm>
          <a:prstGeom prst="rect">
            <a:avLst/>
          </a:prstGeom>
          <a:solidFill>
            <a:srgbClr val="00248f"/>
          </a:solidFill>
          <a:ln w="9360">
            <a:solidFill>
              <a:srgbClr val="00248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Garamond"/>
                <a:ea typeface="Andalus"/>
              </a:rPr>
              <a:t>Infective Endocarditi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4" descr="http://www.merckmanuals.com/media/home/figures/MMHE_03_029_01_eps.gif"/>
          <p:cNvPicPr/>
          <p:nvPr/>
        </p:nvPicPr>
        <p:blipFill>
          <a:blip r:embed="rId1"/>
          <a:stretch/>
        </p:blipFill>
        <p:spPr>
          <a:xfrm>
            <a:off x="-3781440" y="333360"/>
            <a:ext cx="2819520" cy="2352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www.merckmanuals.com/media/home/figures/MMHE_03_029_01_eps.gif"/>
          <p:cNvPicPr/>
          <p:nvPr/>
        </p:nvPicPr>
        <p:blipFill>
          <a:blip r:embed="rId2"/>
          <a:stretch/>
        </p:blipFill>
        <p:spPr>
          <a:xfrm>
            <a:off x="150840" y="-1127160"/>
            <a:ext cx="28195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PORTAL OF EN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ntal  extraction     bleeding       bacteraem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Rocking the tooth in the socket          pumping effect on the vessels of periodontal  ligament , forces bacteria from gingival pockets into blood stream   40 – 80 % bacteraemi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ensitivity of  blood culture techniques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everity of gingival infe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ral  irrigation  dev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NO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acteraemia  may follow  scaling , tooth brushing, endodontic  therapy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ack of clinical effect of many bacteraemia is due to small number or low virulen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hey are rapidly cleared by normal body defence ( leucocytes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trept. Faecalis may cause endocarditis after genitourinary or gut procedur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CAUSATIVE ORGANIS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Viridans  streptococ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ost common  cause  of  sub- acute bacterial endocarditis  (SB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roduce glucagons                   adhere to endocardi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E.g  :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eptococcus  mut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eptococcus  sangu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284720" y="350028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4452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eptococcus  faecal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eptococcus  faeci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eptococcus  pneumonia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aphylococcus  aureu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Acute  endocardit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aphylococcus  epidermidi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Prosthetic  heart valv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rucella  speci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ctinobacillus  actinomycetes comit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Rickettisa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Fung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oxiella burne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andida  albic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PATHOGENE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rmation of veget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Fibrin , platelets (thrombi)  , bacteria colonies                     Attached  to heart val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reak off                  infected emboli              distant organs ( kidney , brain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mmune  complex  formation causes glomerular  damage               haematuria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alves infection            destruction          heart  failure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rug addicts           tricuspid,pulmonary valves of right  side of heart            lung  emboli           pneumon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2556000" y="2924280"/>
            <a:ext cx="1224000" cy="196920"/>
          </a:xfrm>
          <a:prstGeom prst="rightArrow">
            <a:avLst>
              <a:gd name="adj1" fmla="val 50000"/>
              <a:gd name="adj2" fmla="val 15539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3419640" y="4869000"/>
            <a:ext cx="792000" cy="214200"/>
          </a:xfrm>
          <a:prstGeom prst="rightArrow">
            <a:avLst>
              <a:gd name="adj1" fmla="val 50000"/>
              <a:gd name="adj2" fmla="val 924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2987640" y="5805360"/>
            <a:ext cx="614520" cy="216000"/>
          </a:xfrm>
          <a:prstGeom prst="rightArrow">
            <a:avLst>
              <a:gd name="adj1" fmla="val 50000"/>
              <a:gd name="adj2" fmla="val 7112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6227640" y="2924280"/>
            <a:ext cx="976320" cy="260280"/>
          </a:xfrm>
          <a:prstGeom prst="rightArrow">
            <a:avLst>
              <a:gd name="adj1" fmla="val 50000"/>
              <a:gd name="adj2" fmla="val 9377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2411280" y="4292640"/>
            <a:ext cx="976320" cy="270000"/>
          </a:xfrm>
          <a:prstGeom prst="rightArrow">
            <a:avLst>
              <a:gd name="adj1" fmla="val 50000"/>
              <a:gd name="adj2" fmla="val 904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5724360" y="580536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6156360" y="4869000"/>
            <a:ext cx="544320" cy="214200"/>
          </a:xfrm>
          <a:prstGeom prst="rightArrow">
            <a:avLst>
              <a:gd name="adj1" fmla="val 50000"/>
              <a:gd name="adj2" fmla="val 6352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CLINICAL 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Onset  is insidious ( SBE) – 3 weeks  after extra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Fever ( mild and prolonged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Malaise  , weight loss , weakn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hanging murmur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naemia , leucocytosi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Microscopic  haematuri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etechia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pleenomegal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plinter haemorrhag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Hypergammaglobulinaemi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ge   young , elderl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MORTA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ith antibiotic treatme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3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igh mortalit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irulance of organism or sever infe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resence of underlying diseas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Elder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nadequate treat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Garamond"/>
              </a:rPr>
              <a:t>poor progn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Candid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Staphylococc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Gram-negat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LABORATORY DIAGN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A – serial blood culture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( 2-3 sets before antibiotic therapy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erobic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naerobic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B- serological tests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FT ( coxiella burniti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C- sensitivity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TREAT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isk diffusion test ( not sufficient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IC , MB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Criteria  of  antibiotic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actericid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arenter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igh d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rolong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Viridans streptococci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–Benzyl penicillin I.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4 MU I.V. every 4 hrs for 4 wee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enicillin + gentamic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Streptococcus faecalis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     ampicillin + gentamicin  I.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Recurrence after cure is common 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rug addi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mmunodeficient patients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DEFIN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fection  or colonization of endocardium , heart  valves , congenital defects by bacteria , rickettsiae , fung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Low  grade persistent bacteraemia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14716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Garamond"/>
              </a:rPr>
              <a:t>Antimicrobial  prophylaxis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Garamond"/>
              </a:rPr>
              <a:t>(prevention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r susceptible pati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Rheumatic valvular or congenital heart dise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Before tooth extraction , deep scaling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,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other operations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enzyl-penicillin 2M– I.M 30 mint. before             500mg penicillin V oral – 6 hourly for 2 days afterward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If  patient is allergic to penicillin :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ancomycin  or Erythromycin lactobionate  Ig  I.V. 30 minutes  befor oper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Genitourinary  procedu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gentamicin +ampicillin I.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30 minutes before  op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IMPORT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928880"/>
            <a:ext cx="8904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erious dis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ortality  :  30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amage  of heart or other orga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llow  dental procedures ( tooth extrac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Rheumatic  heart diseas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ongenital  heart dise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http://t3.gstatic.com/images?q=tbn:ANd9GcS3x_ZVVzUxMl5mLGFlWzN0jV0LLg5C1ECWkRSae99e8EvKM2RI"/>
          <p:cNvPicPr/>
          <p:nvPr/>
        </p:nvPicPr>
        <p:blipFill>
          <a:blip r:embed="rId1"/>
          <a:stretch/>
        </p:blipFill>
        <p:spPr>
          <a:xfrm>
            <a:off x="150840" y="-876240"/>
            <a:ext cx="2504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ETI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SCEPTIBLE   PATI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ACTEREM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FACTORES  AFFECTING  SEVERITY  AND OUTCO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07280" cy="57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ACTERIAL  FACT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IRUL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N. BACTERIA  IN  THE  BL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353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Garamond"/>
              </a:rPr>
              <a:t>HOST  FACTORS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. FACTORS  INCREASING  SUSCEPTIBI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LO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CONGINITALOR RHEUMATIC  HEART DISEA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PROSTHETIC  HEART VALV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OTHER  CARDIOVASCULAR  DISEA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HEART  SURGER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GENIR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UNDERLYING DISEASE ( DIABETES.M 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DRU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IATROGENIC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IMMUNOSUPPRESSIVE  TREATM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CYTOTOXIC  AGEN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SELF- INFLICT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ALCOHOLIS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ADDICTION  (INJECTED  DRUGS 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ROTECTIVE  FACT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ANTIMICROBIAL  CHEMOTHERAP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SOURCES  OF INF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ntal extraction and other dental proced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ardiac  surgery ( prosthetic valv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travenous med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v. Drug  addi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tracardiac or intravenous cath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bstetric or gynaecologic procedur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PREDISPOSING  FACTO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A- cardiac le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hronic rheumatic valvular diseas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ongenital heart disease and defec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theroscler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rosthetic valv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mmedi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Delay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istorted shape causes stasis of blood flow and settee of bacteria on the endocardiu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irulent bacteria`, staph. aureus  and  strept. Pneumoniae  can  infect  normal  hea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. systemic fact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mmunosuppressive  treat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mmune  defects ( diseas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lcohol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v. Drug  abus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56-03-02T23:47:54Z</dcterms:created>
  <dc:creator>Administrator</dc:creator>
  <dc:description/>
  <dc:language>en-US</dc:language>
  <cp:lastModifiedBy>JERICA</cp:lastModifiedBy>
  <dcterms:modified xsi:type="dcterms:W3CDTF">2015-03-10T05:27:45Z</dcterms:modified>
  <cp:revision>143</cp:revision>
  <dc:subject/>
  <dc:title>Slide 1</dc:title>
</cp:coreProperties>
</file>