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2343-5A0B-42A9-99BE-1703DA9E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880-F878-4A40-889D-27258A22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924-2A3A-4E98-9275-7C4337E3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01A5-BAAF-4015-92A9-EB6105C3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C329-3E9A-40E9-A5E0-75FF3AAF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4D8E-C4BB-4BC9-98FB-8D34A360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E35C-14C3-405B-BC53-E626FD30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3B11-C98E-4779-885D-B09C1DFE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B9CE-483F-4105-89EB-595C6C7D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E429-09FB-434F-ADF1-316AB1E3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2A99-479A-4470-B429-5CFA5A73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A10-F2F3-467E-A958-4CA87B12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E75A-5C35-4E0F-83D0-4258BE8B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796F-BAC0-4FDA-967B-87731FD5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5637-5BE0-4535-A885-BB46E516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34F7-8BA2-489E-B75D-70A6B804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0FE8-23A0-44FD-89FA-D6C61558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0F8FE-66AB-4351-95A9-4EEA8774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705D2-6745-4242-A488-EF17D928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505F6-E4F2-4A7A-81A8-11B9A572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950FA-2273-472C-A442-F0ED30E1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66196-B1D4-4279-97FB-A235D6CA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9D0-13C7-4BC2-9F7A-0B07462B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87395-BA3D-43D1-8986-9AE11C5F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75C8C-0390-4115-A35F-3A0DAED4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F3BCD-C127-45E7-96E2-8D321C59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43D6D-F0AD-440A-86D8-A8C8013B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1C686-D56D-436B-BFA1-A62940F0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57A59-0A4B-4790-8E2F-1CCD6438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5FD82-397B-462E-83D7-0245E7F3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154-0206-47B9-BDBA-CC1F225D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C402-7024-4FBE-AB02-05B8409A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3D51-13B5-438F-8F88-C8672298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758-76C4-414D-A652-1EC5189B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FC21-2489-4539-85EF-0A2652F5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2AC-98AD-4EF9-B21E-D6C5ABFD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6695-0615-4D92-8842-21DF2DCBAE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12F3-3320-4E25-A731-EBFEF2F8989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6377-7848-46C8-B96D-BA911F2DA7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Raynaud%27s_Syndrome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Monotype Corsiva"/>
              </a:rPr>
              <a:t>Sympatholytic &amp; adrenergic blockers</a:t>
            </a:r>
            <a:br>
              <a:rPr sz="4400"/>
            </a:br>
            <a:r>
              <a:rPr b="1" lang="en-US" sz="4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i="1" lang="en-US" sz="4400" spc="-1" strike="noStrike">
                <a:solidFill>
                  <a:srgbClr val="c00000"/>
                </a:solidFill>
                <a:latin typeface="Monotype Corsiva"/>
              </a:rPr>
              <a:t>-receptor  Antagon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90360" y="419112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f. Hanan Hag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. Ishfaq Bukh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rmacology Uni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ge of Medic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52280" y="175248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flex tachycardi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ue to the fall in B.P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diated by baroreceptor reflex and due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ock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-presynaptic receptors in the hea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herapeutic U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heochromocytoma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fore surgical removal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tect against hypertensive cris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</a:rPr>
              <a:t>Adverse Effects of  non-Selective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</a:rPr>
              <a:t>- Adrenoceptor Antagonists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ostural hypotens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chycardi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asal stuffiness or conges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ertigo &amp; drowsines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ale sexual dysfunction (inhibits ejaculation)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Monotype Corsiva"/>
              </a:rPr>
              <a:t>Selective </a:t>
            </a:r>
            <a:r>
              <a:rPr b="1" lang="en-US" sz="4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48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</a:rPr>
              <a:t>-</a:t>
            </a:r>
            <a:r>
              <a:rPr b="1" i="1" lang="en-US" sz="4400" spc="-1" strike="noStrike">
                <a:solidFill>
                  <a:srgbClr val="c00000"/>
                </a:solidFill>
                <a:latin typeface="Monotype Corsiva"/>
              </a:rPr>
              <a:t> Antagonis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28240" y="19047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zos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zos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Prazosin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short half-life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Doxazosin, terazosin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long half life )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–antagonists cause 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asodilatation due to relaxation of arterial and venous smooth muscl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all in arterial pressure with less tachycardia than with non-selective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lockers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4340520" cy="64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Tahoma"/>
              </a:rPr>
              <a:t>Therapeutic Use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17240" y="1819440"/>
            <a:ext cx="522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nign prostatic hyperpla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eatment of hypertension with prostate enlarg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ynaud's disease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asospas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ynaud's diseas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auses some areas of your body — such as your fingers and toes — to feel numb and cold in response to cold temperatures or stress)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5" name="Picture 5" descr="230px-Raynaud%27s_Syndr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2971800"/>
            <a:ext cx="32004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A–antagonist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Tamsulosin (Uroselective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76320" y="1981080"/>
            <a:ext cx="8991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 selective </a:t>
            </a: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1A–antagonist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1A receptors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sent in prostate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Tamsulosin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 used in treatment of benign prostatic hypertrophy (BPH)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Tamsulosin produce: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laxation of  smooth muscles of bladder neck &amp; prostate →improve urine flow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as minimal effect on blood pressure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A–antagonist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Tamsulos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9" name="Content Placeholder 3"/>
          <p:cNvGrpSpPr/>
          <p:nvPr/>
        </p:nvGrpSpPr>
        <p:grpSpPr>
          <a:xfrm>
            <a:off x="3809880" y="1905120"/>
            <a:ext cx="4800600" cy="2416680"/>
            <a:chOff x="3809880" y="1905120"/>
            <a:chExt cx="4800600" cy="2416680"/>
          </a:xfrm>
        </p:grpSpPr>
        <p:pic>
          <p:nvPicPr>
            <p:cNvPr id="360" name="Picture 6" descr="http://img.medscape.com/fullsize/migrated/editorial/clinupdates/2002/2009/2009_1.fig17.gif"/>
            <p:cNvPicPr/>
            <p:nvPr/>
          </p:nvPicPr>
          <p:blipFill>
            <a:blip r:embed="rId1"/>
            <a:srcRect l="4375" t="42453" r="3751" b="10376"/>
            <a:stretch/>
          </p:blipFill>
          <p:spPr>
            <a:xfrm>
              <a:off x="3809880" y="1905120"/>
              <a:ext cx="4800600" cy="24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Rectangle 5"/>
            <p:cNvSpPr/>
            <p:nvPr/>
          </p:nvSpPr>
          <p:spPr>
            <a:xfrm>
              <a:off x="7674120" y="3718800"/>
              <a:ext cx="7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BPH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2" name="Rectangle 7"/>
          <p:cNvSpPr/>
          <p:nvPr/>
        </p:nvSpPr>
        <p:spPr>
          <a:xfrm>
            <a:off x="380880" y="4952880"/>
            <a:ext cx="6934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Adverse effects of </a:t>
            </a:r>
            <a:r>
              <a:rPr b="1" i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1- Antagoni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before with non selective but to a lesser degree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457200" y="2057400"/>
            <a:ext cx="2819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Tamsulos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xation of bladder neck can improve urin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228240" y="19047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yohimb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as aphrodisiac (increases libido) in the treatment of erectile dysfun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nitric oxide released in the corpus cavernosum thus producing vasodilator  action and contributing to the erectile proc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2133720" y="268200"/>
            <a:ext cx="4483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 baseline="-25000">
                <a:solidFill>
                  <a:srgbClr val="c00000"/>
                </a:solidFill>
                <a:latin typeface="Times New Roman"/>
                <a:ea typeface="Arial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-selective antagon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2"/>
          <p:cNvSpPr/>
          <p:nvPr/>
        </p:nvSpPr>
        <p:spPr>
          <a:xfrm>
            <a:off x="428760" y="1500120"/>
            <a:ext cx="3357360" cy="64296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143680" y="1461960"/>
            <a:ext cx="2428560" cy="642960"/>
          </a:xfrm>
          <a:prstGeom prst="rect">
            <a:avLst/>
          </a:prstGeom>
          <a:solidFill>
            <a:srgbClr val="ffe16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Rectangle 14"/>
          <p:cNvGrpSpPr/>
          <p:nvPr/>
        </p:nvGrpSpPr>
        <p:grpSpPr>
          <a:xfrm>
            <a:off x="3249720" y="128520"/>
            <a:ext cx="2816280" cy="676440"/>
            <a:chOff x="3249720" y="128520"/>
            <a:chExt cx="2816280" cy="676440"/>
          </a:xfrm>
        </p:grpSpPr>
        <p:pic>
          <p:nvPicPr>
            <p:cNvPr id="145" name="Rectangle 14" descr=""/>
            <p:cNvPicPr/>
            <p:nvPr/>
          </p:nvPicPr>
          <p:blipFill>
            <a:blip r:embed="rId1"/>
            <a:stretch/>
          </p:blipFill>
          <p:spPr>
            <a:xfrm>
              <a:off x="3249720" y="128520"/>
              <a:ext cx="28162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260880" y="142920"/>
              <a:ext cx="2786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7" name="Picture 2" descr=""/>
          <p:cNvPicPr/>
          <p:nvPr/>
        </p:nvPicPr>
        <p:blipFill>
          <a:blip r:embed="rId2">
            <a:lum bright="-20000"/>
          </a:blip>
          <a:srcRect l="0" t="0" r="0" b="55539"/>
          <a:stretch/>
        </p:blipFill>
        <p:spPr>
          <a:xfrm>
            <a:off x="285840" y="0"/>
            <a:ext cx="8429400" cy="214308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39"/>
          <p:cNvGrpSpPr/>
          <p:nvPr/>
        </p:nvGrpSpPr>
        <p:grpSpPr>
          <a:xfrm>
            <a:off x="187200" y="4143240"/>
            <a:ext cx="5956560" cy="1378080"/>
            <a:chOff x="187200" y="4143240"/>
            <a:chExt cx="5956560" cy="1378080"/>
          </a:xfrm>
        </p:grpSpPr>
        <p:sp>
          <p:nvSpPr>
            <p:cNvPr id="149" name="Rectangle 15"/>
            <p:cNvSpPr/>
            <p:nvPr/>
          </p:nvSpPr>
          <p:spPr>
            <a:xfrm>
              <a:off x="3643200" y="4830840"/>
              <a:ext cx="2500560" cy="690480"/>
            </a:xfrm>
            <a:prstGeom prst="rect">
              <a:avLst/>
            </a:prstGeom>
            <a:gradFill rotWithShape="0">
              <a:gsLst>
                <a:gs pos="0">
                  <a:srgbClr val="fff995"/>
                </a:gs>
                <a:gs pos="100000">
                  <a:srgbClr val="debdff"/>
                </a:gs>
              </a:gsLst>
              <a:lin ang="27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187200" y="4786200"/>
              <a:ext cx="2714760" cy="690480"/>
            </a:xfrm>
            <a:prstGeom prst="rect">
              <a:avLst/>
            </a:prstGeom>
            <a:gradFill rotWithShape="0">
              <a:gsLst>
                <a:gs pos="0">
                  <a:srgbClr val="fff995"/>
                </a:gs>
                <a:gs pos="100000">
                  <a:srgbClr val="debdff"/>
                </a:gs>
              </a:gsLst>
              <a:lin ang="27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51" name="Picture 3" descr="C:\Users\Administrator\Pictures\nn.png"/>
            <p:cNvPicPr/>
            <p:nvPr/>
          </p:nvPicPr>
          <p:blipFill>
            <a:blip r:embed="rId3">
              <a:lum bright="-20000"/>
            </a:blip>
            <a:srcRect l="4454" t="5034" r="4444" b="4367"/>
            <a:stretch/>
          </p:blipFill>
          <p:spPr>
            <a:xfrm>
              <a:off x="214200" y="4143240"/>
              <a:ext cx="5857920" cy="128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TextBox 24"/>
          <p:cNvSpPr/>
          <p:nvPr/>
        </p:nvSpPr>
        <p:spPr>
          <a:xfrm>
            <a:off x="2571840" y="5929200"/>
            <a:ext cx="3286080" cy="5763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Alpha &amp; beta- adrenergic receptor blocker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Curved Down Arrow 25"/>
          <p:cNvSpPr/>
          <p:nvPr/>
        </p:nvSpPr>
        <p:spPr>
          <a:xfrm rot="8603400">
            <a:off x="5209920" y="5571360"/>
            <a:ext cx="1071360" cy="336600"/>
          </a:xfrm>
          <a:custGeom>
            <a:avLst/>
            <a:gdLst>
              <a:gd name="textAreaLeft" fmla="*/ 201600 w 1071360"/>
              <a:gd name="textAreaRight" fmla="*/ 689760 w 1071360"/>
              <a:gd name="textAreaTop" fmla="*/ 45000 h 336600"/>
              <a:gd name="textAreaBottom" fmla="*/ 291600 h 336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40" hR="21600" stAng="10800000" swAng="5400000"/>
                <a:lnTo>
                  <a:pt x="9835" y="0"/>
                </a:lnTo>
                <a:arcTo wR="8140" hR="21600" stAng="-5400000" swAng="3334889"/>
                <a:lnTo>
                  <a:pt x="21342" y="16200"/>
                </a:lnTo>
                <a:lnTo>
                  <a:pt x="17127" y="21600"/>
                </a:lnTo>
                <a:lnTo>
                  <a:pt x="12395" y="16200"/>
                </a:lnTo>
                <a:lnTo>
                  <a:pt x="16021" y="16200"/>
                </a:lnTo>
                <a:arcTo wR="8140" hR="21600" stAng="-2065111" swAng="-3199338"/>
                <a:lnTo>
                  <a:pt x="8987" y="117"/>
                </a:lnTo>
                <a:arcTo wR="8140" hR="21600" stAng="-5535551" swAng="-5264449"/>
                <a:close/>
              </a:path>
              <a:path fill="darkenLess" w="21600" h="21600">
                <a:moveTo>
                  <a:pt x="0" y="21600"/>
                </a:moveTo>
                <a:arcTo wR="8140" hR="21600" stAng="10800000" swAng="5400000"/>
                <a:lnTo>
                  <a:pt x="8140" y="0"/>
                </a:lnTo>
                <a:arcTo wR="8140" hR="21600" stAng="-5400000" swAng="135551"/>
                <a:lnTo>
                  <a:pt x="8987" y="117"/>
                </a:lnTo>
                <a:arcTo wR="8140" hR="21600" stAng="-5535551" swAng="-5264449"/>
                <a:close/>
              </a:path>
            </a:pathLst>
          </a:cu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4896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4" name="Group 34"/>
          <p:cNvGrpSpPr/>
          <p:nvPr/>
        </p:nvGrpSpPr>
        <p:grpSpPr>
          <a:xfrm>
            <a:off x="785880" y="2128680"/>
            <a:ext cx="8143920" cy="1758240"/>
            <a:chOff x="785880" y="2128680"/>
            <a:chExt cx="8143920" cy="1758240"/>
          </a:xfrm>
        </p:grpSpPr>
        <p:pic>
          <p:nvPicPr>
            <p:cNvPr id="155" name="Picture 2" descr=""/>
            <p:cNvPicPr/>
            <p:nvPr/>
          </p:nvPicPr>
          <p:blipFill>
            <a:blip r:embed="rId4"/>
            <a:srcRect l="41964" t="46131" r="6867" b="43116"/>
            <a:stretch/>
          </p:blipFill>
          <p:spPr>
            <a:xfrm>
              <a:off x="3080880" y="2128680"/>
              <a:ext cx="540468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7"/>
            <p:cNvSpPr/>
            <p:nvPr/>
          </p:nvSpPr>
          <p:spPr>
            <a:xfrm>
              <a:off x="785880" y="3503520"/>
              <a:ext cx="3110040" cy="383400"/>
            </a:xfrm>
            <a:prstGeom prst="rect">
              <a:avLst/>
            </a:prstGeom>
            <a:gradFill rotWithShape="0">
              <a:gsLst>
                <a:gs pos="0">
                  <a:srgbClr val="fff995"/>
                </a:gs>
                <a:gs pos="100000">
                  <a:srgbClr val="ccff33"/>
                </a:gs>
              </a:gsLst>
              <a:lin ang="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alibri"/>
                </a:rPr>
                <a:t>Adrenoceptor Blockers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TextBox 8"/>
            <p:cNvSpPr/>
            <p:nvPr/>
          </p:nvSpPr>
          <p:spPr>
            <a:xfrm>
              <a:off x="5375520" y="2857320"/>
              <a:ext cx="3554280" cy="383400"/>
            </a:xfrm>
            <a:prstGeom prst="rect">
              <a:avLst/>
            </a:prstGeom>
            <a:gradFill rotWithShape="0">
              <a:gsLst>
                <a:gs pos="0">
                  <a:srgbClr val="ffe161"/>
                </a:gs>
                <a:gs pos="100000">
                  <a:srgbClr val="ccff33"/>
                </a:gs>
              </a:gsLst>
              <a:lin ang="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alibri"/>
                </a:rPr>
                <a:t>Adrenergic Neuron Blockers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Straight Connector 32"/>
            <p:cNvSpPr/>
            <p:nvPr/>
          </p:nvSpPr>
          <p:spPr>
            <a:xfrm>
              <a:off x="3141000" y="2830320"/>
              <a:ext cx="12600" cy="66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Monotype Corsiva"/>
              </a:rPr>
              <a:t>Classification of  sympatholytic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320" y="685440"/>
            <a:ext cx="9067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Adrenergic neuron block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rmation of False Transmit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e.g. </a:t>
            </a:r>
            <a:r>
              <a:rPr b="1" lang="en-US" sz="30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c00000"/>
                </a:solidFill>
                <a:latin typeface="Arial Narrow"/>
              </a:rPr>
              <a:t>-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Methyl dop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pletion of Storage si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e.g. reserp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hibition of  release &amp; enhance upta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e.g. guanethid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imulation of presynapti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ep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e.g. clonidine and </a:t>
            </a:r>
            <a:r>
              <a:rPr b="1" lang="en-US" sz="30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c00000"/>
                </a:solidFill>
                <a:latin typeface="Arial Narrow"/>
              </a:rPr>
              <a:t>-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Methyl dop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Adrenergic receptor block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Monotype Corsiva"/>
              </a:rPr>
              <a:t>Classification of  sympatholytic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6320" y="685440"/>
            <a:ext cx="9067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c00000"/>
                </a:solidFill>
                <a:latin typeface="Arial Narrow"/>
              </a:rPr>
              <a:t>-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Methyl dop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rms false transmitter  that is released instead of 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s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entral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receptor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agonist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to inhibit NE rel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rug of choice in the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treatment of hypertension in pregnancy (pre-eclampsia - gestational hypertensio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lonid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ts directly a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receptor agonist to inhibit NE rel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uppresses sympathetic outflow activity from the br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ittle Used as Antihypertensive agent due to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rebound hypertensio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pon abrupt withdraw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praclonidine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s used in open angle glaucoma as eye dro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ts by decreasing aqueous humor formatio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9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3e"/>
              </a:gs>
              <a:gs pos="100000">
                <a:srgbClr val="045b70"/>
              </a:gs>
            </a:gsLst>
            <a:lin ang="0"/>
          </a:gra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6" descr="C:\Users\Administrator\Pictures\Picture2.png"/>
          <p:cNvPicPr/>
          <p:nvPr/>
        </p:nvPicPr>
        <p:blipFill>
          <a:blip r:embed="rId1"/>
          <a:srcRect l="2272" t="1345" r="3410" b="0"/>
          <a:stretch/>
        </p:blipFill>
        <p:spPr>
          <a:xfrm>
            <a:off x="1285920" y="857160"/>
            <a:ext cx="5929200" cy="60213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8"/>
          <p:cNvSpPr/>
          <p:nvPr/>
        </p:nvSpPr>
        <p:spPr>
          <a:xfrm>
            <a:off x="5214960" y="1106640"/>
            <a:ext cx="9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Tyrosin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4000680" y="1257480"/>
            <a:ext cx="92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Tyrosin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3214800" y="1238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Dop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Box 11"/>
          <p:cNvSpPr/>
          <p:nvPr/>
        </p:nvSpPr>
        <p:spPr>
          <a:xfrm>
            <a:off x="3117960" y="191124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3117960" y="23922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4857840" y="932040"/>
            <a:ext cx="214200" cy="26352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Box 14"/>
          <p:cNvSpPr/>
          <p:nvPr/>
        </p:nvSpPr>
        <p:spPr>
          <a:xfrm>
            <a:off x="5181480" y="816120"/>
            <a:ext cx="41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rc 15"/>
          <p:cNvSpPr/>
          <p:nvPr/>
        </p:nvSpPr>
        <p:spPr>
          <a:xfrm>
            <a:off x="4643280" y="1106640"/>
            <a:ext cx="642960" cy="396720"/>
          </a:xfrm>
          <a:custGeom>
            <a:avLst/>
            <a:gdLst/>
            <a:ahLst/>
            <a:rect l="l" t="t" r="r" b="b"/>
            <a:pathLst>
              <a:path stroke="0" w="642937" h="396875">
                <a:moveTo>
                  <a:pt x="2393" y="174272"/>
                </a:moveTo>
                <a:cubicBezTo>
                  <a:pt x="20969" y="80809"/>
                  <a:pt x="143397" y="8275"/>
                  <a:pt x="295441" y="651"/>
                </a:cubicBezTo>
                <a:cubicBezTo>
                  <a:pt x="420051" y="-5597"/>
                  <a:pt x="539227" y="33317"/>
                  <a:pt x="600982" y="100418"/>
                </a:cubicBezTo>
                <a:lnTo>
                  <a:pt x="321469" y="198438"/>
                </a:lnTo>
                <a:lnTo>
                  <a:pt x="2393" y="174272"/>
                </a:lnTo>
                <a:close/>
              </a:path>
              <a:path fill="none" w="642937" h="396875">
                <a:moveTo>
                  <a:pt x="2393" y="174272"/>
                </a:moveTo>
                <a:cubicBezTo>
                  <a:pt x="20969" y="80809"/>
                  <a:pt x="143397" y="8275"/>
                  <a:pt x="295441" y="651"/>
                </a:cubicBezTo>
                <a:cubicBezTo>
                  <a:pt x="420051" y="-5597"/>
                  <a:pt x="539227" y="33317"/>
                  <a:pt x="600982" y="10041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rc 16"/>
          <p:cNvSpPr/>
          <p:nvPr/>
        </p:nvSpPr>
        <p:spPr>
          <a:xfrm flipV="1">
            <a:off x="4643280" y="642960"/>
            <a:ext cx="642960" cy="396720"/>
          </a:xfrm>
          <a:custGeom>
            <a:avLst/>
            <a:gdLst/>
            <a:ahLst/>
            <a:rect l="l" t="t" r="r" b="b"/>
            <a:pathLst>
              <a:path stroke="0" w="642937" h="396875">
                <a:moveTo>
                  <a:pt x="2393" y="174272"/>
                </a:moveTo>
                <a:cubicBezTo>
                  <a:pt x="20969" y="80809"/>
                  <a:pt x="143397" y="8275"/>
                  <a:pt x="295441" y="651"/>
                </a:cubicBezTo>
                <a:cubicBezTo>
                  <a:pt x="420051" y="-5597"/>
                  <a:pt x="539227" y="33317"/>
                  <a:pt x="600982" y="100418"/>
                </a:cubicBezTo>
                <a:lnTo>
                  <a:pt x="321469" y="198438"/>
                </a:lnTo>
                <a:lnTo>
                  <a:pt x="2393" y="174272"/>
                </a:lnTo>
                <a:close/>
              </a:path>
              <a:path fill="none" w="642937" h="396875">
                <a:moveTo>
                  <a:pt x="2393" y="174272"/>
                </a:moveTo>
                <a:cubicBezTo>
                  <a:pt x="20969" y="80809"/>
                  <a:pt x="143397" y="8275"/>
                  <a:pt x="295441" y="651"/>
                </a:cubicBezTo>
                <a:cubicBezTo>
                  <a:pt x="420051" y="-5597"/>
                  <a:pt x="539227" y="33317"/>
                  <a:pt x="600982" y="10041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4" name="Straight Arrow Connector 22"/>
          <p:cNvCxnSpPr/>
          <p:nvPr/>
        </p:nvCxnSpPr>
        <p:spPr>
          <a:xfrm flipH="1" flipV="1">
            <a:off x="3798360" y="1412640"/>
            <a:ext cx="28656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5" name="Straight Arrow Connector 23"/>
          <p:cNvCxnSpPr/>
          <p:nvPr/>
        </p:nvCxnSpPr>
        <p:spPr>
          <a:xfrm flipH="1">
            <a:off x="3357360" y="2187720"/>
            <a:ext cx="2160" cy="2656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6" name="Straight Arrow Connector 24"/>
          <p:cNvCxnSpPr/>
          <p:nvPr/>
        </p:nvCxnSpPr>
        <p:spPr>
          <a:xfrm flipH="1">
            <a:off x="3357000" y="1568160"/>
            <a:ext cx="13320" cy="316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7" name="Rounded Rectangle 25"/>
          <p:cNvSpPr/>
          <p:nvPr/>
        </p:nvSpPr>
        <p:spPr>
          <a:xfrm rot="20865600">
            <a:off x="4594320" y="6242040"/>
            <a:ext cx="642960" cy="263520"/>
          </a:xfrm>
          <a:prstGeom prst="roundRect">
            <a:avLst>
              <a:gd name="adj" fmla="val 16667"/>
            </a:avLst>
          </a:prstGeom>
          <a:solidFill>
            <a:srgbClr val="f2c4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8" name="Straight Arrow Connector 27"/>
          <p:cNvCxnSpPr/>
          <p:nvPr/>
        </p:nvCxnSpPr>
        <p:spPr>
          <a:xfrm flipH="1">
            <a:off x="5428800" y="6018840"/>
            <a:ext cx="207360" cy="197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9" name="Straight Arrow Connector 28"/>
          <p:cNvCxnSpPr/>
          <p:nvPr/>
        </p:nvCxnSpPr>
        <p:spPr>
          <a:xfrm flipH="1">
            <a:off x="5174280" y="6204240"/>
            <a:ext cx="255960" cy="128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0" name="Straight Arrow Connector 29"/>
          <p:cNvCxnSpPr/>
          <p:nvPr/>
        </p:nvCxnSpPr>
        <p:spPr>
          <a:xfrm flipH="1">
            <a:off x="4857840" y="6311880"/>
            <a:ext cx="275400" cy="777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1" name="Straight Arrow Connector 30"/>
          <p:cNvCxnSpPr/>
          <p:nvPr/>
        </p:nvCxnSpPr>
        <p:spPr>
          <a:xfrm flipH="1">
            <a:off x="4581720" y="6389280"/>
            <a:ext cx="275760" cy="777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2" name="Straight Arrow Connector 31"/>
          <p:cNvCxnSpPr/>
          <p:nvPr/>
        </p:nvCxnSpPr>
        <p:spPr>
          <a:xfrm flipH="1">
            <a:off x="4356720" y="6482160"/>
            <a:ext cx="207720" cy="197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3" name="Straight Arrow Connector 32"/>
          <p:cNvCxnSpPr/>
          <p:nvPr/>
        </p:nvCxnSpPr>
        <p:spPr>
          <a:xfrm flipH="1" flipV="1">
            <a:off x="4357080" y="6283440"/>
            <a:ext cx="207360" cy="197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84" name="TextBox 33"/>
          <p:cNvSpPr/>
          <p:nvPr/>
        </p:nvSpPr>
        <p:spPr>
          <a:xfrm>
            <a:off x="5214960" y="639612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COM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Box 34"/>
          <p:cNvSpPr/>
          <p:nvPr/>
        </p:nvSpPr>
        <p:spPr>
          <a:xfrm>
            <a:off x="5857920" y="3949560"/>
            <a:ext cx="500040" cy="1191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ard MT Condensed"/>
              </a:rPr>
              <a:t>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" name="Flowchart: Stored Data 35"/>
          <p:cNvGrpSpPr/>
          <p:nvPr/>
        </p:nvGrpSpPr>
        <p:grpSpPr>
          <a:xfrm>
            <a:off x="2419200" y="5851440"/>
            <a:ext cx="347760" cy="530280"/>
            <a:chOff x="2419200" y="5851440"/>
            <a:chExt cx="347760" cy="530280"/>
          </a:xfrm>
        </p:grpSpPr>
        <p:pic>
          <p:nvPicPr>
            <p:cNvPr id="187" name="Flowchart: Stored Data 35" descr=""/>
            <p:cNvPicPr/>
            <p:nvPr/>
          </p:nvPicPr>
          <p:blipFill>
            <a:blip r:embed="rId2"/>
            <a:stretch/>
          </p:blipFill>
          <p:spPr>
            <a:xfrm>
              <a:off x="2419200" y="5851440"/>
              <a:ext cx="34776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 rot="15900000">
              <a:off x="2477880" y="6038280"/>
              <a:ext cx="24300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9" name="Flowchart: Stored Data 36"/>
          <p:cNvGrpSpPr/>
          <p:nvPr/>
        </p:nvGrpSpPr>
        <p:grpSpPr>
          <a:xfrm>
            <a:off x="1994040" y="5931000"/>
            <a:ext cx="384120" cy="549000"/>
            <a:chOff x="1994040" y="5931000"/>
            <a:chExt cx="384120" cy="549000"/>
          </a:xfrm>
        </p:grpSpPr>
        <p:pic>
          <p:nvPicPr>
            <p:cNvPr id="190" name="Flowchart: Stored Data 36" descr=""/>
            <p:cNvPicPr/>
            <p:nvPr/>
          </p:nvPicPr>
          <p:blipFill>
            <a:blip r:embed="rId3"/>
            <a:stretch/>
          </p:blipFill>
          <p:spPr>
            <a:xfrm>
              <a:off x="1994040" y="5931000"/>
              <a:ext cx="38412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 rot="15600000">
              <a:off x="2068920" y="6123960"/>
              <a:ext cx="24120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" name="Flowchart: Stored Data 37"/>
          <p:cNvGrpSpPr/>
          <p:nvPr/>
        </p:nvGrpSpPr>
        <p:grpSpPr>
          <a:xfrm>
            <a:off x="1566720" y="6053040"/>
            <a:ext cx="420840" cy="567000"/>
            <a:chOff x="1566720" y="6053040"/>
            <a:chExt cx="420840" cy="567000"/>
          </a:xfrm>
        </p:grpSpPr>
        <p:pic>
          <p:nvPicPr>
            <p:cNvPr id="193" name="Flowchart: Stored Data 37" descr=""/>
            <p:cNvPicPr/>
            <p:nvPr/>
          </p:nvPicPr>
          <p:blipFill>
            <a:blip r:embed="rId4"/>
            <a:stretch/>
          </p:blipFill>
          <p:spPr>
            <a:xfrm>
              <a:off x="1566720" y="6053040"/>
              <a:ext cx="42084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 rot="15300000">
              <a:off x="1667160" y="6253560"/>
              <a:ext cx="24300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TextBox 40"/>
          <p:cNvSpPr/>
          <p:nvPr/>
        </p:nvSpPr>
        <p:spPr>
          <a:xfrm>
            <a:off x="1538280" y="841320"/>
            <a:ext cx="1747800" cy="58068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rnard MT Condensed"/>
              </a:rPr>
              <a:t>Norepinephrine (N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C:\Users\Administrator\Pictures\Picture2.png"/>
          <p:cNvPicPr/>
          <p:nvPr/>
        </p:nvPicPr>
        <p:blipFill>
          <a:blip r:embed="rId5"/>
          <a:stretch/>
        </p:blipFill>
        <p:spPr>
          <a:xfrm>
            <a:off x="2762280" y="3584520"/>
            <a:ext cx="498600" cy="463680"/>
          </a:xfrm>
          <a:prstGeom prst="rect">
            <a:avLst/>
          </a:prstGeom>
          <a:ln w="0">
            <a:noFill/>
          </a:ln>
        </p:spPr>
      </p:pic>
      <p:sp>
        <p:nvSpPr>
          <p:cNvPr id="197" name="Oval 60"/>
          <p:cNvSpPr/>
          <p:nvPr/>
        </p:nvSpPr>
        <p:spPr>
          <a:xfrm>
            <a:off x="1785960" y="558972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Oval 61"/>
          <p:cNvSpPr/>
          <p:nvPr/>
        </p:nvSpPr>
        <p:spPr>
          <a:xfrm>
            <a:off x="1785960" y="566424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Oval 62"/>
          <p:cNvSpPr/>
          <p:nvPr/>
        </p:nvSpPr>
        <p:spPr>
          <a:xfrm>
            <a:off x="2058840" y="519120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Oval 813"/>
          <p:cNvSpPr/>
          <p:nvPr/>
        </p:nvSpPr>
        <p:spPr>
          <a:xfrm>
            <a:off x="1828800" y="526896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Oval 821"/>
          <p:cNvSpPr/>
          <p:nvPr/>
        </p:nvSpPr>
        <p:spPr>
          <a:xfrm>
            <a:off x="1905120" y="540864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Oval 899"/>
          <p:cNvSpPr/>
          <p:nvPr/>
        </p:nvSpPr>
        <p:spPr>
          <a:xfrm>
            <a:off x="1905120" y="54957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Oval 811"/>
          <p:cNvSpPr/>
          <p:nvPr/>
        </p:nvSpPr>
        <p:spPr>
          <a:xfrm>
            <a:off x="1828800" y="45291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Oval 815"/>
          <p:cNvSpPr/>
          <p:nvPr/>
        </p:nvSpPr>
        <p:spPr>
          <a:xfrm>
            <a:off x="1920960" y="456876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Oval 816"/>
          <p:cNvSpPr/>
          <p:nvPr/>
        </p:nvSpPr>
        <p:spPr>
          <a:xfrm>
            <a:off x="1920960" y="47196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Oval 817"/>
          <p:cNvSpPr/>
          <p:nvPr/>
        </p:nvSpPr>
        <p:spPr>
          <a:xfrm>
            <a:off x="2013120" y="464508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Oval 818"/>
          <p:cNvSpPr/>
          <p:nvPr/>
        </p:nvSpPr>
        <p:spPr>
          <a:xfrm>
            <a:off x="2013120" y="45687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Oval 821"/>
          <p:cNvSpPr/>
          <p:nvPr/>
        </p:nvSpPr>
        <p:spPr>
          <a:xfrm>
            <a:off x="1830240" y="47196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val 822"/>
          <p:cNvSpPr/>
          <p:nvPr/>
        </p:nvSpPr>
        <p:spPr>
          <a:xfrm>
            <a:off x="1830240" y="464508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Oval 823"/>
          <p:cNvSpPr/>
          <p:nvPr/>
        </p:nvSpPr>
        <p:spPr>
          <a:xfrm>
            <a:off x="1920960" y="47196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Oval 824"/>
          <p:cNvSpPr/>
          <p:nvPr/>
        </p:nvSpPr>
        <p:spPr>
          <a:xfrm>
            <a:off x="2013120" y="464508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Oval 829"/>
          <p:cNvSpPr/>
          <p:nvPr/>
        </p:nvSpPr>
        <p:spPr>
          <a:xfrm>
            <a:off x="1920960" y="4795920"/>
            <a:ext cx="921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Oval 832"/>
          <p:cNvSpPr/>
          <p:nvPr/>
        </p:nvSpPr>
        <p:spPr>
          <a:xfrm>
            <a:off x="2013120" y="479592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Oval 875"/>
          <p:cNvSpPr/>
          <p:nvPr/>
        </p:nvSpPr>
        <p:spPr>
          <a:xfrm>
            <a:off x="1920960" y="456876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Oval 876"/>
          <p:cNvSpPr/>
          <p:nvPr/>
        </p:nvSpPr>
        <p:spPr>
          <a:xfrm>
            <a:off x="1920960" y="47196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Oval 877"/>
          <p:cNvSpPr/>
          <p:nvPr/>
        </p:nvSpPr>
        <p:spPr>
          <a:xfrm>
            <a:off x="2013120" y="464508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Oval 878"/>
          <p:cNvSpPr/>
          <p:nvPr/>
        </p:nvSpPr>
        <p:spPr>
          <a:xfrm>
            <a:off x="2013120" y="4492800"/>
            <a:ext cx="903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Oval 883"/>
          <p:cNvSpPr/>
          <p:nvPr/>
        </p:nvSpPr>
        <p:spPr>
          <a:xfrm>
            <a:off x="1920960" y="4795920"/>
            <a:ext cx="921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Oval 886"/>
          <p:cNvSpPr/>
          <p:nvPr/>
        </p:nvSpPr>
        <p:spPr>
          <a:xfrm>
            <a:off x="2013120" y="479592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Oval 899"/>
          <p:cNvSpPr/>
          <p:nvPr/>
        </p:nvSpPr>
        <p:spPr>
          <a:xfrm>
            <a:off x="1830240" y="47196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Oval 901"/>
          <p:cNvSpPr/>
          <p:nvPr/>
        </p:nvSpPr>
        <p:spPr>
          <a:xfrm>
            <a:off x="1920960" y="4795920"/>
            <a:ext cx="921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Oval 902"/>
          <p:cNvSpPr/>
          <p:nvPr/>
        </p:nvSpPr>
        <p:spPr>
          <a:xfrm>
            <a:off x="1920960" y="47196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Oval 811"/>
          <p:cNvSpPr/>
          <p:nvPr/>
        </p:nvSpPr>
        <p:spPr>
          <a:xfrm>
            <a:off x="2087640" y="467028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Oval 815"/>
          <p:cNvSpPr/>
          <p:nvPr/>
        </p:nvSpPr>
        <p:spPr>
          <a:xfrm>
            <a:off x="2179800" y="471024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Oval 816"/>
          <p:cNvSpPr/>
          <p:nvPr/>
        </p:nvSpPr>
        <p:spPr>
          <a:xfrm>
            <a:off x="2179800" y="486108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Oval 817"/>
          <p:cNvSpPr/>
          <p:nvPr/>
        </p:nvSpPr>
        <p:spPr>
          <a:xfrm>
            <a:off x="2271600" y="4786200"/>
            <a:ext cx="9072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Oval 818"/>
          <p:cNvSpPr/>
          <p:nvPr/>
        </p:nvSpPr>
        <p:spPr>
          <a:xfrm>
            <a:off x="2271600" y="471024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Oval 821"/>
          <p:cNvSpPr/>
          <p:nvPr/>
        </p:nvSpPr>
        <p:spPr>
          <a:xfrm>
            <a:off x="2089080" y="486108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Oval 822"/>
          <p:cNvSpPr/>
          <p:nvPr/>
        </p:nvSpPr>
        <p:spPr>
          <a:xfrm>
            <a:off x="2089080" y="4786200"/>
            <a:ext cx="9072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Oval 823"/>
          <p:cNvSpPr/>
          <p:nvPr/>
        </p:nvSpPr>
        <p:spPr>
          <a:xfrm>
            <a:off x="2179800" y="486108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Oval 824"/>
          <p:cNvSpPr/>
          <p:nvPr/>
        </p:nvSpPr>
        <p:spPr>
          <a:xfrm>
            <a:off x="2271600" y="4786200"/>
            <a:ext cx="9072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Oval 829"/>
          <p:cNvSpPr/>
          <p:nvPr/>
        </p:nvSpPr>
        <p:spPr>
          <a:xfrm>
            <a:off x="2179800" y="49370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Oval 832"/>
          <p:cNvSpPr/>
          <p:nvPr/>
        </p:nvSpPr>
        <p:spPr>
          <a:xfrm>
            <a:off x="2271600" y="49370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Oval 875"/>
          <p:cNvSpPr/>
          <p:nvPr/>
        </p:nvSpPr>
        <p:spPr>
          <a:xfrm>
            <a:off x="2179800" y="471024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Oval 876"/>
          <p:cNvSpPr/>
          <p:nvPr/>
        </p:nvSpPr>
        <p:spPr>
          <a:xfrm>
            <a:off x="2179800" y="486108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Oval 877"/>
          <p:cNvSpPr/>
          <p:nvPr/>
        </p:nvSpPr>
        <p:spPr>
          <a:xfrm>
            <a:off x="2271600" y="4786200"/>
            <a:ext cx="9072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Oval 878"/>
          <p:cNvSpPr/>
          <p:nvPr/>
        </p:nvSpPr>
        <p:spPr>
          <a:xfrm>
            <a:off x="2271600" y="4632480"/>
            <a:ext cx="9072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Oval 883"/>
          <p:cNvSpPr/>
          <p:nvPr/>
        </p:nvSpPr>
        <p:spPr>
          <a:xfrm>
            <a:off x="2179800" y="49370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Oval 886"/>
          <p:cNvSpPr/>
          <p:nvPr/>
        </p:nvSpPr>
        <p:spPr>
          <a:xfrm>
            <a:off x="2271600" y="49370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Oval 899"/>
          <p:cNvSpPr/>
          <p:nvPr/>
        </p:nvSpPr>
        <p:spPr>
          <a:xfrm>
            <a:off x="2089080" y="486108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Oval 901"/>
          <p:cNvSpPr/>
          <p:nvPr/>
        </p:nvSpPr>
        <p:spPr>
          <a:xfrm>
            <a:off x="2179800" y="49370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Oval 902"/>
          <p:cNvSpPr/>
          <p:nvPr/>
        </p:nvSpPr>
        <p:spPr>
          <a:xfrm>
            <a:off x="2179800" y="486108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Oval 815"/>
          <p:cNvSpPr/>
          <p:nvPr/>
        </p:nvSpPr>
        <p:spPr>
          <a:xfrm>
            <a:off x="2133720" y="428004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Oval 816"/>
          <p:cNvSpPr/>
          <p:nvPr/>
        </p:nvSpPr>
        <p:spPr>
          <a:xfrm>
            <a:off x="2133720" y="4432320"/>
            <a:ext cx="9180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Oval 817"/>
          <p:cNvSpPr/>
          <p:nvPr/>
        </p:nvSpPr>
        <p:spPr>
          <a:xfrm>
            <a:off x="2225520" y="43560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Oval 818"/>
          <p:cNvSpPr/>
          <p:nvPr/>
        </p:nvSpPr>
        <p:spPr>
          <a:xfrm>
            <a:off x="2225520" y="428004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Oval 823"/>
          <p:cNvSpPr/>
          <p:nvPr/>
        </p:nvSpPr>
        <p:spPr>
          <a:xfrm>
            <a:off x="2133720" y="4432320"/>
            <a:ext cx="9180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Oval 824"/>
          <p:cNvSpPr/>
          <p:nvPr/>
        </p:nvSpPr>
        <p:spPr>
          <a:xfrm>
            <a:off x="2225520" y="43560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Oval 829"/>
          <p:cNvSpPr/>
          <p:nvPr/>
        </p:nvSpPr>
        <p:spPr>
          <a:xfrm>
            <a:off x="2133720" y="45086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Oval 832"/>
          <p:cNvSpPr/>
          <p:nvPr/>
        </p:nvSpPr>
        <p:spPr>
          <a:xfrm>
            <a:off x="2225520" y="45086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Oval 875"/>
          <p:cNvSpPr/>
          <p:nvPr/>
        </p:nvSpPr>
        <p:spPr>
          <a:xfrm>
            <a:off x="2133720" y="428004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Oval 876"/>
          <p:cNvSpPr/>
          <p:nvPr/>
        </p:nvSpPr>
        <p:spPr>
          <a:xfrm>
            <a:off x="2133720" y="4432320"/>
            <a:ext cx="9180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Oval 877"/>
          <p:cNvSpPr/>
          <p:nvPr/>
        </p:nvSpPr>
        <p:spPr>
          <a:xfrm>
            <a:off x="2225520" y="43560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Oval 883"/>
          <p:cNvSpPr/>
          <p:nvPr/>
        </p:nvSpPr>
        <p:spPr>
          <a:xfrm>
            <a:off x="2133720" y="45086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Oval 886"/>
          <p:cNvSpPr/>
          <p:nvPr/>
        </p:nvSpPr>
        <p:spPr>
          <a:xfrm>
            <a:off x="2225520" y="45086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Oval 901"/>
          <p:cNvSpPr/>
          <p:nvPr/>
        </p:nvSpPr>
        <p:spPr>
          <a:xfrm>
            <a:off x="2133720" y="45086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Oval 902"/>
          <p:cNvSpPr/>
          <p:nvPr/>
        </p:nvSpPr>
        <p:spPr>
          <a:xfrm>
            <a:off x="2133720" y="4432320"/>
            <a:ext cx="9180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Oval 898"/>
          <p:cNvSpPr/>
          <p:nvPr/>
        </p:nvSpPr>
        <p:spPr>
          <a:xfrm>
            <a:off x="2075040" y="496584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Oval 825"/>
          <p:cNvSpPr/>
          <p:nvPr/>
        </p:nvSpPr>
        <p:spPr>
          <a:xfrm>
            <a:off x="1981080" y="5126040"/>
            <a:ext cx="9072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Oval 879"/>
          <p:cNvSpPr/>
          <p:nvPr/>
        </p:nvSpPr>
        <p:spPr>
          <a:xfrm>
            <a:off x="1981080" y="5126040"/>
            <a:ext cx="9072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Oval 126"/>
          <p:cNvSpPr/>
          <p:nvPr/>
        </p:nvSpPr>
        <p:spPr>
          <a:xfrm>
            <a:off x="1585800" y="56102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Oval 127"/>
          <p:cNvSpPr/>
          <p:nvPr/>
        </p:nvSpPr>
        <p:spPr>
          <a:xfrm rot="600000">
            <a:off x="1999800" y="58212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Oval 128"/>
          <p:cNvSpPr/>
          <p:nvPr/>
        </p:nvSpPr>
        <p:spPr>
          <a:xfrm rot="600000">
            <a:off x="1999800" y="589752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Oval 129"/>
          <p:cNvSpPr/>
          <p:nvPr/>
        </p:nvSpPr>
        <p:spPr>
          <a:xfrm>
            <a:off x="1619280" y="5627520"/>
            <a:ext cx="9216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Oval 130"/>
          <p:cNvSpPr/>
          <p:nvPr/>
        </p:nvSpPr>
        <p:spPr>
          <a:xfrm>
            <a:off x="1711440" y="5702400"/>
            <a:ext cx="9036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Oval 131"/>
          <p:cNvSpPr/>
          <p:nvPr/>
        </p:nvSpPr>
        <p:spPr>
          <a:xfrm>
            <a:off x="1585800" y="568476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Oval 132"/>
          <p:cNvSpPr/>
          <p:nvPr/>
        </p:nvSpPr>
        <p:spPr>
          <a:xfrm>
            <a:off x="1676520" y="58467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Oval 133"/>
          <p:cNvSpPr/>
          <p:nvPr/>
        </p:nvSpPr>
        <p:spPr>
          <a:xfrm>
            <a:off x="1711440" y="5627520"/>
            <a:ext cx="9036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Oval 134"/>
          <p:cNvSpPr/>
          <p:nvPr/>
        </p:nvSpPr>
        <p:spPr>
          <a:xfrm>
            <a:off x="1585800" y="577692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Oval 135"/>
          <p:cNvSpPr/>
          <p:nvPr/>
        </p:nvSpPr>
        <p:spPr>
          <a:xfrm>
            <a:off x="1585800" y="56102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Oval 136"/>
          <p:cNvSpPr/>
          <p:nvPr/>
        </p:nvSpPr>
        <p:spPr>
          <a:xfrm rot="600000">
            <a:off x="2273400" y="5423040"/>
            <a:ext cx="9036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Oval 813"/>
          <p:cNvSpPr/>
          <p:nvPr/>
        </p:nvSpPr>
        <p:spPr>
          <a:xfrm rot="600000">
            <a:off x="2043000" y="55022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Oval 821"/>
          <p:cNvSpPr/>
          <p:nvPr/>
        </p:nvSpPr>
        <p:spPr>
          <a:xfrm rot="600000">
            <a:off x="2119320" y="5640480"/>
            <a:ext cx="9036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Oval 899"/>
          <p:cNvSpPr/>
          <p:nvPr/>
        </p:nvSpPr>
        <p:spPr>
          <a:xfrm rot="600000">
            <a:off x="2118960" y="572760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Oval 816"/>
          <p:cNvSpPr/>
          <p:nvPr/>
        </p:nvSpPr>
        <p:spPr>
          <a:xfrm rot="600000">
            <a:off x="2134800" y="495108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Oval 821"/>
          <p:cNvSpPr/>
          <p:nvPr/>
        </p:nvSpPr>
        <p:spPr>
          <a:xfrm rot="600000">
            <a:off x="2044440" y="495144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Oval 823"/>
          <p:cNvSpPr/>
          <p:nvPr/>
        </p:nvSpPr>
        <p:spPr>
          <a:xfrm rot="600000">
            <a:off x="2134800" y="495108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Oval 829"/>
          <p:cNvSpPr/>
          <p:nvPr/>
        </p:nvSpPr>
        <p:spPr>
          <a:xfrm rot="600000">
            <a:off x="2134800" y="5027400"/>
            <a:ext cx="921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Oval 832"/>
          <p:cNvSpPr/>
          <p:nvPr/>
        </p:nvSpPr>
        <p:spPr>
          <a:xfrm rot="600000">
            <a:off x="2226960" y="5027760"/>
            <a:ext cx="903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Oval 876"/>
          <p:cNvSpPr/>
          <p:nvPr/>
        </p:nvSpPr>
        <p:spPr>
          <a:xfrm rot="600000">
            <a:off x="2134800" y="495108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Oval 883"/>
          <p:cNvSpPr/>
          <p:nvPr/>
        </p:nvSpPr>
        <p:spPr>
          <a:xfrm rot="600000">
            <a:off x="2134800" y="5027400"/>
            <a:ext cx="921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Oval 886"/>
          <p:cNvSpPr/>
          <p:nvPr/>
        </p:nvSpPr>
        <p:spPr>
          <a:xfrm rot="600000">
            <a:off x="2226960" y="5027760"/>
            <a:ext cx="903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899"/>
          <p:cNvSpPr/>
          <p:nvPr/>
        </p:nvSpPr>
        <p:spPr>
          <a:xfrm rot="600000">
            <a:off x="2044440" y="495144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Oval 901"/>
          <p:cNvSpPr/>
          <p:nvPr/>
        </p:nvSpPr>
        <p:spPr>
          <a:xfrm rot="600000">
            <a:off x="2134800" y="5027400"/>
            <a:ext cx="921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Oval 902"/>
          <p:cNvSpPr/>
          <p:nvPr/>
        </p:nvSpPr>
        <p:spPr>
          <a:xfrm rot="600000">
            <a:off x="2134800" y="495108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Oval 815"/>
          <p:cNvSpPr/>
          <p:nvPr/>
        </p:nvSpPr>
        <p:spPr>
          <a:xfrm rot="600000">
            <a:off x="2393640" y="494136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Oval 816"/>
          <p:cNvSpPr/>
          <p:nvPr/>
        </p:nvSpPr>
        <p:spPr>
          <a:xfrm rot="600000">
            <a:off x="2393640" y="50922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Oval 817"/>
          <p:cNvSpPr/>
          <p:nvPr/>
        </p:nvSpPr>
        <p:spPr>
          <a:xfrm rot="600000">
            <a:off x="2486160" y="501804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Oval 818"/>
          <p:cNvSpPr/>
          <p:nvPr/>
        </p:nvSpPr>
        <p:spPr>
          <a:xfrm rot="600000">
            <a:off x="2485800" y="494172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Oval 821"/>
          <p:cNvSpPr/>
          <p:nvPr/>
        </p:nvSpPr>
        <p:spPr>
          <a:xfrm rot="600000">
            <a:off x="2303280" y="50925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Oval 822"/>
          <p:cNvSpPr/>
          <p:nvPr/>
        </p:nvSpPr>
        <p:spPr>
          <a:xfrm rot="600000">
            <a:off x="2303640" y="501804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Oval 823"/>
          <p:cNvSpPr/>
          <p:nvPr/>
        </p:nvSpPr>
        <p:spPr>
          <a:xfrm rot="600000">
            <a:off x="2393640" y="50922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Oval 824"/>
          <p:cNvSpPr/>
          <p:nvPr/>
        </p:nvSpPr>
        <p:spPr>
          <a:xfrm rot="600000">
            <a:off x="2486160" y="501804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Oval 829"/>
          <p:cNvSpPr/>
          <p:nvPr/>
        </p:nvSpPr>
        <p:spPr>
          <a:xfrm rot="600000">
            <a:off x="2393640" y="516852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Oval 832"/>
          <p:cNvSpPr/>
          <p:nvPr/>
        </p:nvSpPr>
        <p:spPr>
          <a:xfrm rot="600000">
            <a:off x="2485800" y="516888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Oval 875"/>
          <p:cNvSpPr/>
          <p:nvPr/>
        </p:nvSpPr>
        <p:spPr>
          <a:xfrm rot="600000">
            <a:off x="2393640" y="494136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Oval 876"/>
          <p:cNvSpPr/>
          <p:nvPr/>
        </p:nvSpPr>
        <p:spPr>
          <a:xfrm rot="600000">
            <a:off x="2393640" y="50922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Oval 877"/>
          <p:cNvSpPr/>
          <p:nvPr/>
        </p:nvSpPr>
        <p:spPr>
          <a:xfrm rot="600000">
            <a:off x="2486160" y="501804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Oval 883"/>
          <p:cNvSpPr/>
          <p:nvPr/>
        </p:nvSpPr>
        <p:spPr>
          <a:xfrm rot="600000">
            <a:off x="2393640" y="516852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Oval 886"/>
          <p:cNvSpPr/>
          <p:nvPr/>
        </p:nvSpPr>
        <p:spPr>
          <a:xfrm rot="600000">
            <a:off x="2485800" y="516888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Oval 899"/>
          <p:cNvSpPr/>
          <p:nvPr/>
        </p:nvSpPr>
        <p:spPr>
          <a:xfrm rot="600000">
            <a:off x="2303280" y="50925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Oval 901"/>
          <p:cNvSpPr/>
          <p:nvPr/>
        </p:nvSpPr>
        <p:spPr>
          <a:xfrm rot="600000">
            <a:off x="2393640" y="516852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Oval 902"/>
          <p:cNvSpPr/>
          <p:nvPr/>
        </p:nvSpPr>
        <p:spPr>
          <a:xfrm rot="600000">
            <a:off x="2393640" y="50922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Oval 899"/>
          <p:cNvSpPr/>
          <p:nvPr/>
        </p:nvSpPr>
        <p:spPr>
          <a:xfrm>
            <a:off x="1676520" y="5923080"/>
            <a:ext cx="903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Oval 898"/>
          <p:cNvSpPr/>
          <p:nvPr/>
        </p:nvSpPr>
        <p:spPr>
          <a:xfrm rot="600000">
            <a:off x="2289240" y="5197320"/>
            <a:ext cx="9036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Oval 825"/>
          <p:cNvSpPr/>
          <p:nvPr/>
        </p:nvSpPr>
        <p:spPr>
          <a:xfrm rot="600000">
            <a:off x="2195280" y="535932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Oval 879"/>
          <p:cNvSpPr/>
          <p:nvPr/>
        </p:nvSpPr>
        <p:spPr>
          <a:xfrm rot="600000">
            <a:off x="2195280" y="535932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Oval 175"/>
          <p:cNvSpPr/>
          <p:nvPr/>
        </p:nvSpPr>
        <p:spPr>
          <a:xfrm>
            <a:off x="2576520" y="543240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Oval 176"/>
          <p:cNvSpPr/>
          <p:nvPr/>
        </p:nvSpPr>
        <p:spPr>
          <a:xfrm>
            <a:off x="2576520" y="550692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Oval 899"/>
          <p:cNvSpPr/>
          <p:nvPr/>
        </p:nvSpPr>
        <p:spPr>
          <a:xfrm>
            <a:off x="2695680" y="533880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Oval 178"/>
          <p:cNvSpPr/>
          <p:nvPr/>
        </p:nvSpPr>
        <p:spPr>
          <a:xfrm>
            <a:off x="2376360" y="5452920"/>
            <a:ext cx="9072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179"/>
          <p:cNvSpPr/>
          <p:nvPr/>
        </p:nvSpPr>
        <p:spPr>
          <a:xfrm>
            <a:off x="2409840" y="5527800"/>
            <a:ext cx="921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Oval 180"/>
          <p:cNvSpPr/>
          <p:nvPr/>
        </p:nvSpPr>
        <p:spPr>
          <a:xfrm>
            <a:off x="2624040" y="527220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Oval 181"/>
          <p:cNvSpPr/>
          <p:nvPr/>
        </p:nvSpPr>
        <p:spPr>
          <a:xfrm>
            <a:off x="2286000" y="559260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Oval 182"/>
          <p:cNvSpPr/>
          <p:nvPr/>
        </p:nvSpPr>
        <p:spPr>
          <a:xfrm>
            <a:off x="2467080" y="568944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Oval 183"/>
          <p:cNvSpPr/>
          <p:nvPr/>
        </p:nvSpPr>
        <p:spPr>
          <a:xfrm>
            <a:off x="2502000" y="533880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Oval 184"/>
          <p:cNvSpPr/>
          <p:nvPr/>
        </p:nvSpPr>
        <p:spPr>
          <a:xfrm>
            <a:off x="2376360" y="56196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Oval 185"/>
          <p:cNvSpPr/>
          <p:nvPr/>
        </p:nvSpPr>
        <p:spPr>
          <a:xfrm>
            <a:off x="2376360" y="533880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Oval 899"/>
          <p:cNvSpPr/>
          <p:nvPr/>
        </p:nvSpPr>
        <p:spPr>
          <a:xfrm>
            <a:off x="2467080" y="57657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Flowchart: Stored Data 187"/>
          <p:cNvGrpSpPr/>
          <p:nvPr/>
        </p:nvGrpSpPr>
        <p:grpSpPr>
          <a:xfrm>
            <a:off x="1523880" y="3584520"/>
            <a:ext cx="567000" cy="358920"/>
            <a:chOff x="1523880" y="3584520"/>
            <a:chExt cx="567000" cy="358920"/>
          </a:xfrm>
        </p:grpSpPr>
        <p:pic>
          <p:nvPicPr>
            <p:cNvPr id="321" name="Flowchart: Stored Data 187" descr=""/>
            <p:cNvPicPr/>
            <p:nvPr/>
          </p:nvPicPr>
          <p:blipFill>
            <a:blip r:embed="rId6"/>
            <a:stretch/>
          </p:blipFill>
          <p:spPr>
            <a:xfrm>
              <a:off x="1523880" y="3584520"/>
              <a:ext cx="56700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10328400">
              <a:off x="1721880" y="3642840"/>
              <a:ext cx="2617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3" name="Rectangle 193"/>
          <p:cNvSpPr/>
          <p:nvPr/>
        </p:nvSpPr>
        <p:spPr>
          <a:xfrm>
            <a:off x="1309680" y="2147760"/>
            <a:ext cx="17859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RESERP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194"/>
          <p:cNvSpPr/>
          <p:nvPr/>
        </p:nvSpPr>
        <p:spPr>
          <a:xfrm>
            <a:off x="1044360" y="3068640"/>
            <a:ext cx="2338920" cy="429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Bernard MT Condensed"/>
              </a:rPr>
              <a:t>Depletes Sto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195"/>
          <p:cNvSpPr/>
          <p:nvPr/>
        </p:nvSpPr>
        <p:spPr>
          <a:xfrm>
            <a:off x="3097080" y="4148280"/>
            <a:ext cx="19749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. Gaunthid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Box 58"/>
          <p:cNvSpPr/>
          <p:nvPr/>
        </p:nvSpPr>
        <p:spPr>
          <a:xfrm>
            <a:off x="71280" y="168120"/>
            <a:ext cx="6372360" cy="88596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rnard MT Condensed"/>
              </a:rPr>
              <a:t>1. Adrenergic Neuron Blockers [SYMPATHOLYTICS]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Box 188"/>
          <p:cNvSpPr/>
          <p:nvPr/>
        </p:nvSpPr>
        <p:spPr>
          <a:xfrm>
            <a:off x="6500880" y="6429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cff33"/>
                </a:solidFill>
                <a:latin typeface="Arial Narrow"/>
              </a:rPr>
              <a:t>-methyl tyros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190"/>
          <p:cNvSpPr/>
          <p:nvPr/>
        </p:nvSpPr>
        <p:spPr>
          <a:xfrm>
            <a:off x="6168600" y="1109520"/>
            <a:ext cx="29286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Bernard MT Condensed"/>
              </a:rPr>
              <a:t>False Transmit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191"/>
          <p:cNvSpPr/>
          <p:nvPr/>
        </p:nvSpPr>
        <p:spPr>
          <a:xfrm>
            <a:off x="6357960" y="214200"/>
            <a:ext cx="2482920" cy="42912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1. METHYLDOP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192"/>
          <p:cNvSpPr/>
          <p:nvPr/>
        </p:nvSpPr>
        <p:spPr>
          <a:xfrm>
            <a:off x="5857920" y="144288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Wingdings 3"/>
                <a:ea typeface="Wingdings 3"/>
              </a:rPr>
              <a:t>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Bernard MT Condensed"/>
              </a:rPr>
              <a:t>Antihypertensive in PREGNA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200"/>
          <p:cNvSpPr/>
          <p:nvPr/>
        </p:nvSpPr>
        <p:spPr>
          <a:xfrm>
            <a:off x="4290120" y="4643280"/>
            <a:ext cx="2562840" cy="429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ernard MT Condensed"/>
              </a:rPr>
              <a:t>Enhance Uptak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201"/>
          <p:cNvSpPr/>
          <p:nvPr/>
        </p:nvSpPr>
        <p:spPr>
          <a:xfrm>
            <a:off x="1562040" y="4643280"/>
            <a:ext cx="2291400" cy="429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ernard MT Condensed"/>
              </a:rPr>
              <a:t>Inhibit Rele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Box 202"/>
          <p:cNvSpPr/>
          <p:nvPr/>
        </p:nvSpPr>
        <p:spPr>
          <a:xfrm>
            <a:off x="3000240" y="6021360"/>
            <a:ext cx="5964480" cy="947160"/>
          </a:xfrm>
          <a:prstGeom prst="rect">
            <a:avLst/>
          </a:prstGeom>
          <a:solidFill>
            <a:srgbClr val="001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ernard MT Condensed"/>
              </a:rPr>
              <a:t>2. Adrenoceptor Blockers [ADRENOLYTICS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4" name="Group 207"/>
          <p:cNvGrpSpPr/>
          <p:nvPr/>
        </p:nvGrpSpPr>
        <p:grpSpPr>
          <a:xfrm>
            <a:off x="1279440" y="3517920"/>
            <a:ext cx="1720800" cy="3384720"/>
            <a:chOff x="1279440" y="3517920"/>
            <a:chExt cx="1720800" cy="3384720"/>
          </a:xfrm>
        </p:grpSpPr>
        <p:sp>
          <p:nvSpPr>
            <p:cNvPr id="335" name="TextBox 203"/>
            <p:cNvSpPr/>
            <p:nvPr/>
          </p:nvSpPr>
          <p:spPr>
            <a:xfrm>
              <a:off x="1279440" y="3517920"/>
              <a:ext cx="571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r>
                <a:rPr b="1" lang="en-US" sz="2200" spc="-1" strike="noStrike" baseline="-25000">
                  <a:solidFill>
                    <a:srgbClr val="ffff00"/>
                  </a:solidFill>
                  <a:latin typeface="Tahoma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TextBox 204"/>
            <p:cNvSpPr/>
            <p:nvPr/>
          </p:nvSpPr>
          <p:spPr>
            <a:xfrm>
              <a:off x="1500120" y="6427440"/>
              <a:ext cx="571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r>
                <a:rPr b="1" lang="en-US" sz="22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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TextBox 205"/>
            <p:cNvSpPr/>
            <p:nvPr/>
          </p:nvSpPr>
          <p:spPr>
            <a:xfrm>
              <a:off x="2013840" y="6400080"/>
              <a:ext cx="571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</a:t>
              </a:r>
              <a:r>
                <a:rPr b="1" lang="en-US" sz="22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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TextBox 206"/>
            <p:cNvSpPr/>
            <p:nvPr/>
          </p:nvSpPr>
          <p:spPr>
            <a:xfrm>
              <a:off x="2428920" y="6314040"/>
              <a:ext cx="571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</a:t>
              </a:r>
              <a:r>
                <a:rPr b="1" lang="en-US" sz="22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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9" name="Rectangle 174"/>
          <p:cNvSpPr/>
          <p:nvPr/>
        </p:nvSpPr>
        <p:spPr>
          <a:xfrm>
            <a:off x="279360" y="4118040"/>
            <a:ext cx="3251160" cy="875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4. Clonid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Presynaptic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agoni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Box 2"/>
          <p:cNvSpPr/>
          <p:nvPr/>
        </p:nvSpPr>
        <p:spPr>
          <a:xfrm>
            <a:off x="6713640" y="3124080"/>
            <a:ext cx="212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ethyl-NE works as false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343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Times New Roman (Arabic)"/>
              </a:rPr>
              <a:t>Adrenergic receptor blocke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28240" y="198072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renergic receptor blockers or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renolytic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block sympathetic actions by antagoniz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receptor  antagonists 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-receptor antagon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343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Monotype Corsiva"/>
                <a:ea typeface="Times New Roman (Arabic)"/>
              </a:rPr>
              <a:t> 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Times New Roman (Arabic)"/>
              </a:rPr>
              <a:t>Classification of  </a:t>
            </a:r>
            <a:r>
              <a:rPr b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Times New Roman (Arabic)"/>
              </a:rPr>
              <a:t>-receptor  Antagonis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28240" y="198072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Non-selective antagon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phenoxybenzamine &amp; phentolam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-selective antagon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prazosin, doxazos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-selective antagon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yohimb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</a:rPr>
              <a:t>Non-Selective </a:t>
            </a:r>
            <a:r>
              <a:rPr b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</a:rPr>
              <a:t>- Adrenoceptor Antagonists</a:t>
            </a:r>
            <a:r>
              <a:rPr b="1" i="1" lang="en-US" sz="4800" spc="-1" strike="noStrike">
                <a:solidFill>
                  <a:srgbClr val="c0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51920" y="1752480"/>
            <a:ext cx="4419720" cy="4648320"/>
          </a:xfrm>
          <a:prstGeom prst="rect">
            <a:avLst/>
          </a:prstGeom>
          <a:noFill/>
          <a:ln w="9360">
            <a:solidFill>
              <a:srgbClr val="745d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Phenoxybenzamine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rreversib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of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nd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-act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24 hr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4648320" y="1752480"/>
            <a:ext cx="4267080" cy="4572000"/>
          </a:xfrm>
          <a:prstGeom prst="rect">
            <a:avLst/>
          </a:prstGeom>
          <a:noFill/>
          <a:ln w="9360">
            <a:solidFill>
              <a:srgbClr val="74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Phentolamine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reversi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blocking of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 &amp;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 receptor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hort acting (4 hrs).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04920" y="30492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 drugs caus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Postural hypoten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Decrease peripheral vascular resis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Increase cardiac output (</a:t>
            </a:r>
            <a:r>
              <a:rPr b="1" lang="el-G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2 block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Reflex tachycard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Both drug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precipitate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rhythmias and angina and are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 contra-indicated in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patients with decreased coronary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u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6:20:03Z</dcterms:created>
  <dc:creator>ksu</dc:creator>
  <dc:description/>
  <dc:language>en-US</dc:language>
  <cp:lastModifiedBy>User</cp:lastModifiedBy>
  <dcterms:modified xsi:type="dcterms:W3CDTF">2016-02-24T07:39:00Z</dcterms:modified>
  <cp:revision>505</cp:revision>
  <dc:subject/>
  <dc:title>Noradrenergic Transmission</dc:title>
</cp:coreProperties>
</file>