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62E5-0B3E-4C1E-8424-68A7EA415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1BAA-2D1B-49E3-A629-F1E275789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0FA0-4F5B-4D4A-A710-DFA9D15D1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0F3B-59AF-4DAD-8BE4-B73F08C8C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9EF20-C38F-4981-85FC-7806B9EA7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0AA3A-F58C-43DD-9C20-A68ABF9A0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E42E1-AB4F-4F0F-88A5-5BA783C9C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9C0BB-F17F-466C-BD0C-E783A690C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3A9F9-A48F-496B-90DE-4B42FAB49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10E67-CF15-42A5-8836-DEA2BE3EC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DF81B-6553-42A2-9513-46F6435B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C3F3-DDFA-4B63-9663-DCF7B103F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53B1F-A7C7-48CD-93C9-C6841C665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705D6-81BA-40D5-BD6D-14484F16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D0FF4-9F40-4371-9429-AB4F30671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45A64-E821-417E-A8BB-3AA1C0775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A15C4-9612-4895-9668-9C3ADA2E5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59988-D34A-4B5A-86C7-7EAB5BF47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4CD6A-9A04-4A88-80E6-E3EA20944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D02AD-4869-4E8E-B656-2BEF25C27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1CEE8-4F11-4763-9370-FF53850B5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39A27-95D3-47F5-8D55-EF74E49DC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673B-5EAF-4627-AB3B-2B3052742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CF27E-00EC-46C8-A422-7BC658462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3F9EA-51CB-41A8-BC0B-4591CF26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6C29B-27D4-42D7-B785-6E742371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9882E-A21D-4A8E-848C-EA6A738A2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1E5A7-90DA-41F2-9278-CCEF82BC5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C1013-DF8E-4BA0-88D3-111C3DAE3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28503-6AD8-4E1C-BABA-F50360BC7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C897-E250-4252-9275-CFE2AD43E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C4EF-3576-49A7-B6B1-4D08F0600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AFA9-D3FA-441F-8CFD-5DFF0DBF8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C3C8-9ED3-45C0-A892-39D28D60B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32A6-3701-4666-8E86-67923E1F3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3FBE-9694-4434-845B-E74D32C5F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BFF02-8574-47A8-83B9-FB7644DC063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43741-FE60-48BA-B5C3-C55FB21C0CDA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0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91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93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94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6DAF3-BEA7-4CF0-B05C-2827083D029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Raynaud%27s_Syndrome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00000"/>
                </a:solidFill>
                <a:latin typeface="Monotype Corsiva"/>
              </a:rPr>
              <a:t>Sympatholytic &amp; adrenergic blockers</a:t>
            </a:r>
            <a:br>
              <a:rPr sz="4400"/>
            </a:br>
            <a:r>
              <a:rPr b="1" lang="en-US" sz="48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r>
              <a:rPr b="1" i="1" lang="en-US" sz="4400" spc="-1" strike="noStrike">
                <a:solidFill>
                  <a:srgbClr val="c00000"/>
                </a:solidFill>
                <a:latin typeface="Monotype Corsiva"/>
              </a:rPr>
              <a:t>-receptor  Antagoni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990360" y="4191120"/>
            <a:ext cx="65530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of. Hanan Hag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r. Ishfaq Bukhar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rmacology Uni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ge of Medic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152280" y="175248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Reflex tachycardi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due to the fall in B.P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diated by baroreceptor reflex and due 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lock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-presynaptic receptors in the hear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Therapeutic Us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Pheochromocytoma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fore surgical removal 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tect against hypertensive crisi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304920" y="304920"/>
            <a:ext cx="853416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c0000"/>
                </a:solidFill>
                <a:uFillTx/>
                <a:latin typeface="Monotype Corsiva"/>
              </a:rPr>
              <a:t>Adverse Effects of  non-Selective </a:t>
            </a:r>
            <a:r>
              <a:rPr b="1" lang="en-US" sz="3600" spc="-1" strike="noStrike" u="sng">
                <a:solidFill>
                  <a:srgbClr val="cc0000"/>
                </a:solidFill>
                <a:uFillTx/>
                <a:latin typeface="Symbol"/>
                <a:ea typeface="Symbol"/>
              </a:rPr>
              <a:t></a:t>
            </a:r>
            <a:r>
              <a:rPr b="1" lang="en-US" sz="3600" spc="-1" strike="noStrike" u="sng">
                <a:solidFill>
                  <a:srgbClr val="cc0000"/>
                </a:solidFill>
                <a:uFillTx/>
                <a:latin typeface="Monotype Corsiva"/>
              </a:rPr>
              <a:t>- Adrenoceptor Antagonists 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15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ostural hypotension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15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achycardia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15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Headach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15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asal stuffiness or congestion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15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Vertigo &amp; drowsines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15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Male sexual dysfunction (inhibits ejaculation)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343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00000"/>
                </a:solidFill>
                <a:latin typeface="Monotype Corsiva"/>
              </a:rPr>
              <a:t>Selective </a:t>
            </a:r>
            <a:r>
              <a:rPr b="1" lang="en-US" sz="48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r>
              <a:rPr b="1" lang="en-US" sz="4800" spc="-1" strike="noStrike" baseline="-25000">
                <a:solidFill>
                  <a:srgbClr val="c00000"/>
                </a:solidFill>
                <a:latin typeface="Times New Roman"/>
              </a:rPr>
              <a:t>1</a:t>
            </a:r>
            <a:r>
              <a:rPr b="1" lang="en-US" sz="4800" spc="-1" strike="noStrike">
                <a:solidFill>
                  <a:srgbClr val="c00000"/>
                </a:solidFill>
                <a:latin typeface="Times New Roman"/>
              </a:rPr>
              <a:t>-</a:t>
            </a:r>
            <a:r>
              <a:rPr b="1" i="1" lang="en-US" sz="4400" spc="-1" strike="noStrike">
                <a:solidFill>
                  <a:srgbClr val="c00000"/>
                </a:solidFill>
                <a:latin typeface="Monotype Corsiva"/>
              </a:rPr>
              <a:t> Antagonist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228240" y="19047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zosi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x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zosi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3000" spc="-1" strike="noStrike">
                <a:solidFill>
                  <a:srgbClr val="c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Times New Roman"/>
              </a:rPr>
              <a:t>Prazosin</a:t>
            </a:r>
            <a:r>
              <a:rPr b="1" lang="en-US" sz="30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(short half-life)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Times New Roman"/>
              </a:rPr>
              <a:t>Doxazosin, terazosin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(long half life )</a:t>
            </a:r>
            <a:r>
              <a:rPr b="1" lang="en-US" sz="30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–antagonists cause :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Vasodilatation due to relaxation of arterial and venous smooth muscle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all in arterial pressure with less tachycardia than with non-selective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lockers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51920" y="304920"/>
            <a:ext cx="4340520" cy="64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c0000"/>
                </a:solidFill>
                <a:uFillTx/>
                <a:latin typeface="Tahoma"/>
              </a:rPr>
              <a:t>Therapeutic Uses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17240" y="1819440"/>
            <a:ext cx="5221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nign prostatic hyperplasi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eatment of hypertension with prostate enlargem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ynaud's disease (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vasospas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Reynaud's disease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causes some areas of your body — such as your fingers and toes — to feel numb and cold in response to cold temperatures or stress)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5" name="Picture 5" descr="230px-Raynaud%27s_Syndrom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1320" y="2971800"/>
            <a:ext cx="320040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elective </a:t>
            </a:r>
            <a:r>
              <a:rPr b="1" lang="en-US" sz="3200" spc="-1" strike="noStrike">
                <a:solidFill>
                  <a:srgbClr val="cc0000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1A–antagonist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Tamsulosin (Uroselective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76320" y="1981080"/>
            <a:ext cx="8991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 selective </a:t>
            </a:r>
            <a:r>
              <a:rPr b="1" lang="en-US" sz="3000" spc="-1" strike="noStrike">
                <a:solidFill>
                  <a:srgbClr val="cc0000"/>
                </a:solidFill>
                <a:latin typeface="Symbol"/>
                <a:ea typeface="Symbol"/>
              </a:rPr>
              <a:t></a:t>
            </a:r>
            <a:r>
              <a:rPr b="1" lang="en-US" sz="3000" spc="-1" strike="noStrike">
                <a:solidFill>
                  <a:srgbClr val="cc0000"/>
                </a:solidFill>
                <a:latin typeface="Times New Roman"/>
              </a:rPr>
              <a:t>1A–antagonist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Symbol"/>
                <a:ea typeface="Symbol"/>
              </a:rPr>
              <a:t></a:t>
            </a:r>
            <a:r>
              <a:rPr b="1" lang="en-US" sz="3000" spc="-1" strike="noStrike">
                <a:solidFill>
                  <a:srgbClr val="cc0000"/>
                </a:solidFill>
                <a:latin typeface="Times New Roman"/>
              </a:rPr>
              <a:t>1A receptors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resent in prostate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Times New Roman"/>
              </a:rPr>
              <a:t>Tamsulosin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s used in treatment of benign prostatic hypertrophy (BPH)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Times New Roman"/>
              </a:rPr>
              <a:t>Tamsulosin produce: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elaxation of  smooth muscles of bladder neck &amp; prostate →improve urine flow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Has minimal effect on blood pressure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elective </a:t>
            </a:r>
            <a:r>
              <a:rPr b="1" lang="en-US" sz="3200" spc="-1" strike="noStrike">
                <a:solidFill>
                  <a:srgbClr val="cc0000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1A–antagonist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Tamsulosi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59" name="Content Placeholder 3"/>
          <p:cNvGrpSpPr/>
          <p:nvPr/>
        </p:nvGrpSpPr>
        <p:grpSpPr>
          <a:xfrm>
            <a:off x="3809880" y="1905120"/>
            <a:ext cx="4800600" cy="2416680"/>
            <a:chOff x="3809880" y="1905120"/>
            <a:chExt cx="4800600" cy="2416680"/>
          </a:xfrm>
        </p:grpSpPr>
        <p:pic>
          <p:nvPicPr>
            <p:cNvPr id="360" name="Picture 6" descr="http://img.medscape.com/fullsize/migrated/editorial/clinupdates/2002/2009/2009_1.fig17.gif"/>
            <p:cNvPicPr/>
            <p:nvPr/>
          </p:nvPicPr>
          <p:blipFill>
            <a:blip r:embed="rId1"/>
            <a:srcRect l="4375" t="42453" r="3751" b="10376"/>
            <a:stretch/>
          </p:blipFill>
          <p:spPr>
            <a:xfrm>
              <a:off x="3809880" y="1905120"/>
              <a:ext cx="4800600" cy="241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Rectangle 5"/>
            <p:cNvSpPr/>
            <p:nvPr/>
          </p:nvSpPr>
          <p:spPr>
            <a:xfrm>
              <a:off x="7674120" y="3718800"/>
              <a:ext cx="7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BPH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62" name="Rectangle 7"/>
          <p:cNvSpPr/>
          <p:nvPr/>
        </p:nvSpPr>
        <p:spPr>
          <a:xfrm>
            <a:off x="380880" y="4952880"/>
            <a:ext cx="69343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Monotype Corsiva"/>
              </a:rPr>
              <a:t>Adverse effects of </a:t>
            </a:r>
            <a:r>
              <a:rPr b="1" i="1" lang="en-US" sz="28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r>
              <a:rPr b="1" i="1" lang="en-US" sz="2800" spc="-1" strike="noStrike">
                <a:solidFill>
                  <a:srgbClr val="c00000"/>
                </a:solidFill>
                <a:latin typeface="Monotype Corsiva"/>
              </a:rPr>
              <a:t>1- Antagonis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before with non selective but to a lesser degree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Rectangle 8"/>
          <p:cNvSpPr/>
          <p:nvPr/>
        </p:nvSpPr>
        <p:spPr>
          <a:xfrm>
            <a:off x="457200" y="2057400"/>
            <a:ext cx="28195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Monotype Corsiva"/>
              </a:rPr>
              <a:t>Tamsulos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axation of bladder neck can improve urin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228240" y="1904760"/>
            <a:ext cx="85345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.g. yohimb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d as aphrodisiac (increases libido) in the treatment of erectile dysfunc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crease nitric oxide released in the corpus cavernosum thus producing vasodilator  action and contributing to the erectile proce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Rectangle 4"/>
          <p:cNvSpPr/>
          <p:nvPr/>
        </p:nvSpPr>
        <p:spPr>
          <a:xfrm>
            <a:off x="2133720" y="268200"/>
            <a:ext cx="4483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 baseline="-25000">
                <a:solidFill>
                  <a:srgbClr val="c00000"/>
                </a:solidFill>
                <a:latin typeface="Times New Roman"/>
                <a:ea typeface="Arial"/>
              </a:rPr>
              <a:t>2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Arial"/>
              </a:rPr>
              <a:t>-selective antagonist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12"/>
          <p:cNvSpPr/>
          <p:nvPr/>
        </p:nvSpPr>
        <p:spPr>
          <a:xfrm>
            <a:off x="428760" y="1500120"/>
            <a:ext cx="3357360" cy="642960"/>
          </a:xfrm>
          <a:prstGeom prst="rect">
            <a:avLst/>
          </a:prstGeom>
          <a:solidFill>
            <a:srgbClr val="cc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143680" y="1461960"/>
            <a:ext cx="2428560" cy="642960"/>
          </a:xfrm>
          <a:prstGeom prst="rect">
            <a:avLst/>
          </a:prstGeom>
          <a:solidFill>
            <a:srgbClr val="ffe16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4" name="Rectangle 14"/>
          <p:cNvGrpSpPr/>
          <p:nvPr/>
        </p:nvGrpSpPr>
        <p:grpSpPr>
          <a:xfrm>
            <a:off x="3249720" y="128520"/>
            <a:ext cx="2816280" cy="676440"/>
            <a:chOff x="3249720" y="128520"/>
            <a:chExt cx="2816280" cy="676440"/>
          </a:xfrm>
        </p:grpSpPr>
        <p:pic>
          <p:nvPicPr>
            <p:cNvPr id="145" name="Rectangle 14" descr=""/>
            <p:cNvPicPr/>
            <p:nvPr/>
          </p:nvPicPr>
          <p:blipFill>
            <a:blip r:embed="rId1"/>
            <a:stretch/>
          </p:blipFill>
          <p:spPr>
            <a:xfrm>
              <a:off x="3249720" y="128520"/>
              <a:ext cx="281628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3260880" y="142920"/>
              <a:ext cx="278604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47" name="Picture 2" descr=""/>
          <p:cNvPicPr/>
          <p:nvPr/>
        </p:nvPicPr>
        <p:blipFill>
          <a:blip r:embed="rId2">
            <a:lum bright="-20000"/>
          </a:blip>
          <a:srcRect l="0" t="0" r="0" b="55539"/>
          <a:stretch/>
        </p:blipFill>
        <p:spPr>
          <a:xfrm>
            <a:off x="285840" y="0"/>
            <a:ext cx="8429400" cy="2143080"/>
          </a:xfrm>
          <a:prstGeom prst="rect">
            <a:avLst/>
          </a:prstGeom>
          <a:ln w="0">
            <a:noFill/>
          </a:ln>
        </p:spPr>
      </p:pic>
      <p:grpSp>
        <p:nvGrpSpPr>
          <p:cNvPr id="148" name="Group 39"/>
          <p:cNvGrpSpPr/>
          <p:nvPr/>
        </p:nvGrpSpPr>
        <p:grpSpPr>
          <a:xfrm>
            <a:off x="187200" y="4143240"/>
            <a:ext cx="5956560" cy="1378080"/>
            <a:chOff x="187200" y="4143240"/>
            <a:chExt cx="5956560" cy="1378080"/>
          </a:xfrm>
        </p:grpSpPr>
        <p:sp>
          <p:nvSpPr>
            <p:cNvPr id="149" name="Rectangle 15"/>
            <p:cNvSpPr/>
            <p:nvPr/>
          </p:nvSpPr>
          <p:spPr>
            <a:xfrm>
              <a:off x="3643200" y="4830840"/>
              <a:ext cx="2500560" cy="690480"/>
            </a:xfrm>
            <a:prstGeom prst="rect">
              <a:avLst/>
            </a:prstGeom>
            <a:gradFill rotWithShape="0">
              <a:gsLst>
                <a:gs pos="0">
                  <a:srgbClr val="fff995"/>
                </a:gs>
                <a:gs pos="100000">
                  <a:srgbClr val="debdff"/>
                </a:gs>
              </a:gsLst>
              <a:lin ang="27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" name="Rectangle 16"/>
            <p:cNvSpPr/>
            <p:nvPr/>
          </p:nvSpPr>
          <p:spPr>
            <a:xfrm>
              <a:off x="187200" y="4786200"/>
              <a:ext cx="2714760" cy="690480"/>
            </a:xfrm>
            <a:prstGeom prst="rect">
              <a:avLst/>
            </a:prstGeom>
            <a:gradFill rotWithShape="0">
              <a:gsLst>
                <a:gs pos="0">
                  <a:srgbClr val="fff995"/>
                </a:gs>
                <a:gs pos="100000">
                  <a:srgbClr val="debdff"/>
                </a:gs>
              </a:gsLst>
              <a:lin ang="27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151" name="Picture 3" descr="C:\Users\Administrator\Pictures\nn.png"/>
            <p:cNvPicPr/>
            <p:nvPr/>
          </p:nvPicPr>
          <p:blipFill>
            <a:blip r:embed="rId3">
              <a:lum bright="-20000"/>
            </a:blip>
            <a:srcRect l="4454" t="5034" r="4444" b="4367"/>
            <a:stretch/>
          </p:blipFill>
          <p:spPr>
            <a:xfrm>
              <a:off x="214200" y="4143240"/>
              <a:ext cx="5857920" cy="1286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2" name="TextBox 24"/>
          <p:cNvSpPr/>
          <p:nvPr/>
        </p:nvSpPr>
        <p:spPr>
          <a:xfrm>
            <a:off x="2571840" y="5929200"/>
            <a:ext cx="3286080" cy="576360"/>
          </a:xfrm>
          <a:prstGeom prst="rect">
            <a:avLst/>
          </a:prstGeom>
          <a:gradFill rotWithShape="0">
            <a:gsLst>
              <a:gs pos="0">
                <a:srgbClr val="ffe161"/>
              </a:gs>
              <a:gs pos="100000">
                <a:srgbClr val="e6e0ec"/>
              </a:gs>
            </a:gsLst>
            <a:lin ang="135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Alpha &amp; beta- adrenergic receptor blockers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Curved Down Arrow 25"/>
          <p:cNvSpPr/>
          <p:nvPr/>
        </p:nvSpPr>
        <p:spPr>
          <a:xfrm rot="8603400">
            <a:off x="5209920" y="5571360"/>
            <a:ext cx="1071360" cy="336600"/>
          </a:xfrm>
          <a:custGeom>
            <a:avLst/>
            <a:gdLst>
              <a:gd name="textAreaLeft" fmla="*/ 201600 w 1071360"/>
              <a:gd name="textAreaRight" fmla="*/ 689760 w 1071360"/>
              <a:gd name="textAreaTop" fmla="*/ 45000 h 336600"/>
              <a:gd name="textAreaBottom" fmla="*/ 291600 h 336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140" hR="21600" stAng="10800000" swAng="5400000"/>
                <a:lnTo>
                  <a:pt x="9835" y="0"/>
                </a:lnTo>
                <a:arcTo wR="8140" hR="21600" stAng="-5400000" swAng="3334889"/>
                <a:lnTo>
                  <a:pt x="21342" y="16200"/>
                </a:lnTo>
                <a:lnTo>
                  <a:pt x="17127" y="21600"/>
                </a:lnTo>
                <a:lnTo>
                  <a:pt x="12395" y="16200"/>
                </a:lnTo>
                <a:lnTo>
                  <a:pt x="16021" y="16200"/>
                </a:lnTo>
                <a:arcTo wR="8140" hR="21600" stAng="-2065111" swAng="-3199338"/>
                <a:lnTo>
                  <a:pt x="8987" y="117"/>
                </a:lnTo>
                <a:arcTo wR="8140" hR="21600" stAng="-5535551" swAng="-5264449"/>
                <a:close/>
              </a:path>
              <a:path fill="darkenLess" w="21600" h="21600">
                <a:moveTo>
                  <a:pt x="0" y="21600"/>
                </a:moveTo>
                <a:arcTo wR="8140" hR="21600" stAng="10800000" swAng="5400000"/>
                <a:lnTo>
                  <a:pt x="8140" y="0"/>
                </a:lnTo>
                <a:arcTo wR="8140" hR="21600" stAng="-5400000" swAng="135551"/>
                <a:lnTo>
                  <a:pt x="8987" y="117"/>
                </a:lnTo>
                <a:arcTo wR="8140" hR="21600" stAng="-5535551" swAng="-5264449"/>
                <a:close/>
              </a:path>
            </a:pathLst>
          </a:custGeom>
          <a:gradFill rotWithShape="0">
            <a:gsLst>
              <a:gs pos="0">
                <a:srgbClr val="ffe161"/>
              </a:gs>
              <a:gs pos="100000">
                <a:srgbClr val="e6e0ec"/>
              </a:gs>
            </a:gsLst>
            <a:lin ang="4896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4" name="Group 34"/>
          <p:cNvGrpSpPr/>
          <p:nvPr/>
        </p:nvGrpSpPr>
        <p:grpSpPr>
          <a:xfrm>
            <a:off x="785880" y="2128680"/>
            <a:ext cx="8143920" cy="1758240"/>
            <a:chOff x="785880" y="2128680"/>
            <a:chExt cx="8143920" cy="1758240"/>
          </a:xfrm>
        </p:grpSpPr>
        <p:pic>
          <p:nvPicPr>
            <p:cNvPr id="155" name="Picture 2" descr=""/>
            <p:cNvPicPr/>
            <p:nvPr/>
          </p:nvPicPr>
          <p:blipFill>
            <a:blip r:embed="rId4"/>
            <a:srcRect l="41964" t="46131" r="6867" b="43116"/>
            <a:stretch/>
          </p:blipFill>
          <p:spPr>
            <a:xfrm>
              <a:off x="3080880" y="2128680"/>
              <a:ext cx="5404680" cy="7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TextBox 7"/>
            <p:cNvSpPr/>
            <p:nvPr/>
          </p:nvSpPr>
          <p:spPr>
            <a:xfrm>
              <a:off x="785880" y="3503520"/>
              <a:ext cx="3110040" cy="383400"/>
            </a:xfrm>
            <a:prstGeom prst="rect">
              <a:avLst/>
            </a:prstGeom>
            <a:gradFill rotWithShape="0">
              <a:gsLst>
                <a:gs pos="0">
                  <a:srgbClr val="fff995"/>
                </a:gs>
                <a:gs pos="100000">
                  <a:srgbClr val="ccff33"/>
                </a:gs>
              </a:gsLst>
              <a:lin ang="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Calibri"/>
                </a:rPr>
                <a:t>Adrenoceptor Blockers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" name="TextBox 8"/>
            <p:cNvSpPr/>
            <p:nvPr/>
          </p:nvSpPr>
          <p:spPr>
            <a:xfrm>
              <a:off x="5375520" y="2857320"/>
              <a:ext cx="3554280" cy="383400"/>
            </a:xfrm>
            <a:prstGeom prst="rect">
              <a:avLst/>
            </a:prstGeom>
            <a:gradFill rotWithShape="0">
              <a:gsLst>
                <a:gs pos="0">
                  <a:srgbClr val="ffe161"/>
                </a:gs>
                <a:gs pos="100000">
                  <a:srgbClr val="ccff33"/>
                </a:gs>
              </a:gsLst>
              <a:lin ang="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Calibri"/>
                </a:rPr>
                <a:t>Adrenergic Neuron Blockers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" name="Straight Connector 32"/>
            <p:cNvSpPr/>
            <p:nvPr/>
          </p:nvSpPr>
          <p:spPr>
            <a:xfrm>
              <a:off x="3141000" y="2830320"/>
              <a:ext cx="12600" cy="669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n-US" sz="3600" spc="-1" strike="noStrike">
                <a:solidFill>
                  <a:srgbClr val="c00000"/>
                </a:solidFill>
                <a:latin typeface="Monotype Corsiva"/>
              </a:rPr>
              <a:t>Classification of  sympatholytic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76320" y="685440"/>
            <a:ext cx="90676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Monotype Corsiva"/>
              </a:rPr>
              <a:t>Adrenergic neuron block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Formation of False Transmit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c00000"/>
                </a:solidFill>
                <a:latin typeface="Times New Roman"/>
              </a:rPr>
              <a:t>e.g. </a:t>
            </a:r>
            <a:r>
              <a:rPr b="1" lang="en-US" sz="30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r>
              <a:rPr b="1" lang="en-US" sz="3000" spc="-1" strike="noStrike">
                <a:solidFill>
                  <a:srgbClr val="c00000"/>
                </a:solidFill>
                <a:latin typeface="Arial Narrow"/>
              </a:rPr>
              <a:t>-</a:t>
            </a:r>
            <a:r>
              <a:rPr b="1" lang="en-US" sz="3000" spc="-1" strike="noStrike">
                <a:solidFill>
                  <a:srgbClr val="c00000"/>
                </a:solidFill>
                <a:latin typeface="Times New Roman"/>
              </a:rPr>
              <a:t>Methyl dopa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epletion of Storage si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c00000"/>
                </a:solidFill>
                <a:latin typeface="Times New Roman"/>
              </a:rPr>
              <a:t>e.g. reserpin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hibition of  release &amp; enhance uptak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c00000"/>
                </a:solidFill>
                <a:latin typeface="Times New Roman"/>
              </a:rPr>
              <a:t>e.g. guanethidin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timulation of presynaptic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cep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c00000"/>
                </a:solidFill>
                <a:latin typeface="Times New Roman"/>
              </a:rPr>
              <a:t>e.g. clonidine and </a:t>
            </a:r>
            <a:r>
              <a:rPr b="1" lang="en-US" sz="30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r>
              <a:rPr b="1" lang="en-US" sz="3000" spc="-1" strike="noStrike">
                <a:solidFill>
                  <a:srgbClr val="c00000"/>
                </a:solidFill>
                <a:latin typeface="Arial Narrow"/>
              </a:rPr>
              <a:t>-</a:t>
            </a:r>
            <a:r>
              <a:rPr b="1" lang="en-US" sz="3000" spc="-1" strike="noStrike">
                <a:solidFill>
                  <a:srgbClr val="c00000"/>
                </a:solidFill>
                <a:latin typeface="Times New Roman"/>
              </a:rPr>
              <a:t>Methyl dopa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Monotype Corsiva"/>
              </a:rPr>
              <a:t>Adrenergic receptor block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n-US" sz="3600" spc="-1" strike="noStrike">
                <a:solidFill>
                  <a:srgbClr val="c00000"/>
                </a:solidFill>
                <a:latin typeface="Monotype Corsiva"/>
              </a:rPr>
              <a:t>Classification of  sympatholytic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6320" y="685440"/>
            <a:ext cx="90676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r>
              <a:rPr b="1" lang="en-US" sz="3000" spc="-1" strike="noStrike">
                <a:solidFill>
                  <a:srgbClr val="c00000"/>
                </a:solidFill>
                <a:latin typeface="Arial Narrow"/>
              </a:rPr>
              <a:t>-</a:t>
            </a:r>
            <a:r>
              <a:rPr b="1" lang="en-US" sz="3000" spc="-1" strike="noStrike">
                <a:solidFill>
                  <a:srgbClr val="c00000"/>
                </a:solidFill>
                <a:latin typeface="Times New Roman"/>
              </a:rPr>
              <a:t>Methyl dopa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orms false transmitter  that is released instead of 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ts </a:t>
            </a: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central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s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receptor </a:t>
            </a: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agonist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to inhibit NE rele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rug of choice in the </a:t>
            </a:r>
            <a:r>
              <a:rPr b="1" lang="en-US" sz="2800" spc="-1" strike="noStrike">
                <a:solidFill>
                  <a:srgbClr val="0000ff"/>
                </a:solidFill>
                <a:latin typeface="Arial Narrow"/>
              </a:rPr>
              <a:t>treatment of hypertension in pregnancy (pre-eclampsia - gestational hypertension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Clonidin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cts directly as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receptor agonist to inhibit NE rele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uppresses sympathetic outflow activity from the brai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Little Used as Antihypertensive agent due to </a:t>
            </a:r>
            <a:r>
              <a:rPr b="0" lang="en-US" sz="2800" spc="-1" strike="noStrike">
                <a:solidFill>
                  <a:srgbClr val="ff0000"/>
                </a:solidFill>
                <a:latin typeface="Arial Rounded MT Bold"/>
              </a:rPr>
              <a:t>rebound hypertension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upon abrupt withdrawal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Apraclonidine</a:t>
            </a: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s used in open angle glaucoma as eye drop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cts by decreasing aqueous humor formation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9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3e"/>
              </a:gs>
              <a:gs pos="100000">
                <a:srgbClr val="045b70"/>
              </a:gs>
            </a:gsLst>
            <a:lin ang="0"/>
          </a:gra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Picture 6" descr="C:\Users\Administrator\Pictures\Picture2.png"/>
          <p:cNvPicPr/>
          <p:nvPr/>
        </p:nvPicPr>
        <p:blipFill>
          <a:blip r:embed="rId1"/>
          <a:srcRect l="2272" t="1345" r="3410" b="0"/>
          <a:stretch/>
        </p:blipFill>
        <p:spPr>
          <a:xfrm>
            <a:off x="1285920" y="857160"/>
            <a:ext cx="5929200" cy="6021360"/>
          </a:xfrm>
          <a:prstGeom prst="rect">
            <a:avLst/>
          </a:prstGeom>
          <a:ln w="0">
            <a:noFill/>
          </a:ln>
        </p:spPr>
      </p:pic>
      <p:sp>
        <p:nvSpPr>
          <p:cNvPr id="165" name="TextBox 8"/>
          <p:cNvSpPr/>
          <p:nvPr/>
        </p:nvSpPr>
        <p:spPr>
          <a:xfrm>
            <a:off x="5214960" y="1106640"/>
            <a:ext cx="9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Tyrosin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TextBox 9"/>
          <p:cNvSpPr/>
          <p:nvPr/>
        </p:nvSpPr>
        <p:spPr>
          <a:xfrm>
            <a:off x="4000680" y="1257480"/>
            <a:ext cx="92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Tyrosin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TextBox 10"/>
          <p:cNvSpPr/>
          <p:nvPr/>
        </p:nvSpPr>
        <p:spPr>
          <a:xfrm>
            <a:off x="3214800" y="12384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Dop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TextBox 11"/>
          <p:cNvSpPr/>
          <p:nvPr/>
        </p:nvSpPr>
        <p:spPr>
          <a:xfrm>
            <a:off x="3117960" y="1911240"/>
            <a:ext cx="5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D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Box 12"/>
          <p:cNvSpPr/>
          <p:nvPr/>
        </p:nvSpPr>
        <p:spPr>
          <a:xfrm>
            <a:off x="3117960" y="2392200"/>
            <a:ext cx="47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N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Oval 13"/>
          <p:cNvSpPr/>
          <p:nvPr/>
        </p:nvSpPr>
        <p:spPr>
          <a:xfrm>
            <a:off x="4857840" y="932040"/>
            <a:ext cx="214200" cy="263520"/>
          </a:xfrm>
          <a:prstGeom prst="ellipse">
            <a:avLst/>
          </a:prstGeom>
          <a:solidFill>
            <a:srgbClr val="009999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TextBox 14"/>
          <p:cNvSpPr/>
          <p:nvPr/>
        </p:nvSpPr>
        <p:spPr>
          <a:xfrm>
            <a:off x="5181480" y="816120"/>
            <a:ext cx="41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Rounded MT Bold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Arc 15"/>
          <p:cNvSpPr/>
          <p:nvPr/>
        </p:nvSpPr>
        <p:spPr>
          <a:xfrm>
            <a:off x="4643280" y="1106640"/>
            <a:ext cx="642960" cy="396720"/>
          </a:xfrm>
          <a:custGeom>
            <a:avLst/>
            <a:gdLst/>
            <a:ahLst/>
            <a:rect l="l" t="t" r="r" b="b"/>
            <a:pathLst>
              <a:path stroke="0" w="642937" h="396875">
                <a:moveTo>
                  <a:pt x="2393" y="174272"/>
                </a:moveTo>
                <a:cubicBezTo>
                  <a:pt x="20969" y="80809"/>
                  <a:pt x="143397" y="8275"/>
                  <a:pt x="295441" y="651"/>
                </a:cubicBezTo>
                <a:cubicBezTo>
                  <a:pt x="420051" y="-5597"/>
                  <a:pt x="539227" y="33317"/>
                  <a:pt x="600982" y="100418"/>
                </a:cubicBezTo>
                <a:lnTo>
                  <a:pt x="321469" y="198438"/>
                </a:lnTo>
                <a:lnTo>
                  <a:pt x="2393" y="174272"/>
                </a:lnTo>
                <a:close/>
              </a:path>
              <a:path fill="none" w="642937" h="396875">
                <a:moveTo>
                  <a:pt x="2393" y="174272"/>
                </a:moveTo>
                <a:cubicBezTo>
                  <a:pt x="20969" y="80809"/>
                  <a:pt x="143397" y="8275"/>
                  <a:pt x="295441" y="651"/>
                </a:cubicBezTo>
                <a:cubicBezTo>
                  <a:pt x="420051" y="-5597"/>
                  <a:pt x="539227" y="33317"/>
                  <a:pt x="600982" y="10041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Arc 16"/>
          <p:cNvSpPr/>
          <p:nvPr/>
        </p:nvSpPr>
        <p:spPr>
          <a:xfrm flipV="1">
            <a:off x="4643280" y="642960"/>
            <a:ext cx="642960" cy="396720"/>
          </a:xfrm>
          <a:custGeom>
            <a:avLst/>
            <a:gdLst/>
            <a:ahLst/>
            <a:rect l="l" t="t" r="r" b="b"/>
            <a:pathLst>
              <a:path stroke="0" w="642937" h="396875">
                <a:moveTo>
                  <a:pt x="2393" y="174272"/>
                </a:moveTo>
                <a:cubicBezTo>
                  <a:pt x="20969" y="80809"/>
                  <a:pt x="143397" y="8275"/>
                  <a:pt x="295441" y="651"/>
                </a:cubicBezTo>
                <a:cubicBezTo>
                  <a:pt x="420051" y="-5597"/>
                  <a:pt x="539227" y="33317"/>
                  <a:pt x="600982" y="100418"/>
                </a:cubicBezTo>
                <a:lnTo>
                  <a:pt x="321469" y="198438"/>
                </a:lnTo>
                <a:lnTo>
                  <a:pt x="2393" y="174272"/>
                </a:lnTo>
                <a:close/>
              </a:path>
              <a:path fill="none" w="642937" h="396875">
                <a:moveTo>
                  <a:pt x="2393" y="174272"/>
                </a:moveTo>
                <a:cubicBezTo>
                  <a:pt x="20969" y="80809"/>
                  <a:pt x="143397" y="8275"/>
                  <a:pt x="295441" y="651"/>
                </a:cubicBezTo>
                <a:cubicBezTo>
                  <a:pt x="420051" y="-5597"/>
                  <a:pt x="539227" y="33317"/>
                  <a:pt x="600982" y="10041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74" name="Straight Arrow Connector 22"/>
          <p:cNvCxnSpPr/>
          <p:nvPr/>
        </p:nvCxnSpPr>
        <p:spPr>
          <a:xfrm flipH="1" flipV="1">
            <a:off x="3798360" y="1412640"/>
            <a:ext cx="286560" cy="21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75" name="Straight Arrow Connector 23"/>
          <p:cNvCxnSpPr/>
          <p:nvPr/>
        </p:nvCxnSpPr>
        <p:spPr>
          <a:xfrm flipH="1">
            <a:off x="3357360" y="2187720"/>
            <a:ext cx="2160" cy="2656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76" name="Straight Arrow Connector 24"/>
          <p:cNvCxnSpPr/>
          <p:nvPr/>
        </p:nvCxnSpPr>
        <p:spPr>
          <a:xfrm flipH="1">
            <a:off x="3357000" y="1568160"/>
            <a:ext cx="13320" cy="3164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77" name="Rounded Rectangle 25"/>
          <p:cNvSpPr/>
          <p:nvPr/>
        </p:nvSpPr>
        <p:spPr>
          <a:xfrm rot="20865600">
            <a:off x="4594320" y="6242040"/>
            <a:ext cx="642960" cy="263520"/>
          </a:xfrm>
          <a:prstGeom prst="roundRect">
            <a:avLst>
              <a:gd name="adj" fmla="val 16667"/>
            </a:avLst>
          </a:prstGeom>
          <a:solidFill>
            <a:srgbClr val="f2c400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78" name="Straight Arrow Connector 27"/>
          <p:cNvCxnSpPr/>
          <p:nvPr/>
        </p:nvCxnSpPr>
        <p:spPr>
          <a:xfrm flipH="1">
            <a:off x="5428800" y="6018840"/>
            <a:ext cx="207360" cy="197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79" name="Straight Arrow Connector 28"/>
          <p:cNvCxnSpPr/>
          <p:nvPr/>
        </p:nvCxnSpPr>
        <p:spPr>
          <a:xfrm flipH="1">
            <a:off x="5174280" y="6204240"/>
            <a:ext cx="255960" cy="12852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80" name="Straight Arrow Connector 29"/>
          <p:cNvCxnSpPr/>
          <p:nvPr/>
        </p:nvCxnSpPr>
        <p:spPr>
          <a:xfrm flipH="1">
            <a:off x="4857840" y="6311880"/>
            <a:ext cx="275400" cy="777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81" name="Straight Arrow Connector 30"/>
          <p:cNvCxnSpPr/>
          <p:nvPr/>
        </p:nvCxnSpPr>
        <p:spPr>
          <a:xfrm flipH="1">
            <a:off x="4581720" y="6389280"/>
            <a:ext cx="275760" cy="777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82" name="Straight Arrow Connector 31"/>
          <p:cNvCxnSpPr/>
          <p:nvPr/>
        </p:nvCxnSpPr>
        <p:spPr>
          <a:xfrm flipH="1">
            <a:off x="4356720" y="6482160"/>
            <a:ext cx="207720" cy="197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83" name="Straight Arrow Connector 32"/>
          <p:cNvCxnSpPr/>
          <p:nvPr/>
        </p:nvCxnSpPr>
        <p:spPr>
          <a:xfrm flipH="1" flipV="1">
            <a:off x="4357080" y="6283440"/>
            <a:ext cx="207360" cy="197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84" name="TextBox 33"/>
          <p:cNvSpPr/>
          <p:nvPr/>
        </p:nvSpPr>
        <p:spPr>
          <a:xfrm>
            <a:off x="5214960" y="6396120"/>
            <a:ext cx="71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Rounded MT Bold"/>
              </a:rPr>
              <a:t>COM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TextBox 34"/>
          <p:cNvSpPr/>
          <p:nvPr/>
        </p:nvSpPr>
        <p:spPr>
          <a:xfrm>
            <a:off x="5857920" y="3949560"/>
            <a:ext cx="500040" cy="11912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nard MT Condensed"/>
              </a:rPr>
              <a:t>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" name="Flowchart: Stored Data 35"/>
          <p:cNvGrpSpPr/>
          <p:nvPr/>
        </p:nvGrpSpPr>
        <p:grpSpPr>
          <a:xfrm>
            <a:off x="2419200" y="5851440"/>
            <a:ext cx="347760" cy="530280"/>
            <a:chOff x="2419200" y="5851440"/>
            <a:chExt cx="347760" cy="530280"/>
          </a:xfrm>
        </p:grpSpPr>
        <p:pic>
          <p:nvPicPr>
            <p:cNvPr id="187" name="Flowchart: Stored Data 35" descr=""/>
            <p:cNvPicPr/>
            <p:nvPr/>
          </p:nvPicPr>
          <p:blipFill>
            <a:blip r:embed="rId2"/>
            <a:stretch/>
          </p:blipFill>
          <p:spPr>
            <a:xfrm>
              <a:off x="2419200" y="5851440"/>
              <a:ext cx="34776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 rot="15900000">
              <a:off x="2477880" y="6038280"/>
              <a:ext cx="24300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9" name="Flowchart: Stored Data 36"/>
          <p:cNvGrpSpPr/>
          <p:nvPr/>
        </p:nvGrpSpPr>
        <p:grpSpPr>
          <a:xfrm>
            <a:off x="1994040" y="5931000"/>
            <a:ext cx="384120" cy="549000"/>
            <a:chOff x="1994040" y="5931000"/>
            <a:chExt cx="384120" cy="549000"/>
          </a:xfrm>
        </p:grpSpPr>
        <p:pic>
          <p:nvPicPr>
            <p:cNvPr id="190" name="Flowchart: Stored Data 36" descr=""/>
            <p:cNvPicPr/>
            <p:nvPr/>
          </p:nvPicPr>
          <p:blipFill>
            <a:blip r:embed="rId3"/>
            <a:stretch/>
          </p:blipFill>
          <p:spPr>
            <a:xfrm>
              <a:off x="1994040" y="5931000"/>
              <a:ext cx="384120" cy="54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 rot="15600000">
              <a:off x="2068920" y="6123960"/>
              <a:ext cx="24120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" name="Flowchart: Stored Data 37"/>
          <p:cNvGrpSpPr/>
          <p:nvPr/>
        </p:nvGrpSpPr>
        <p:grpSpPr>
          <a:xfrm>
            <a:off x="1566720" y="6053040"/>
            <a:ext cx="420840" cy="567000"/>
            <a:chOff x="1566720" y="6053040"/>
            <a:chExt cx="420840" cy="567000"/>
          </a:xfrm>
        </p:grpSpPr>
        <p:pic>
          <p:nvPicPr>
            <p:cNvPr id="193" name="Flowchart: Stored Data 37" descr=""/>
            <p:cNvPicPr/>
            <p:nvPr/>
          </p:nvPicPr>
          <p:blipFill>
            <a:blip r:embed="rId4"/>
            <a:stretch/>
          </p:blipFill>
          <p:spPr>
            <a:xfrm>
              <a:off x="1566720" y="6053040"/>
              <a:ext cx="42084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 rot="15300000">
              <a:off x="1667160" y="6253560"/>
              <a:ext cx="24300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" name="TextBox 40"/>
          <p:cNvSpPr/>
          <p:nvPr/>
        </p:nvSpPr>
        <p:spPr>
          <a:xfrm>
            <a:off x="1538280" y="841320"/>
            <a:ext cx="1747800" cy="580680"/>
          </a:xfrm>
          <a:prstGeom prst="rect">
            <a:avLst/>
          </a:prstGeom>
          <a:solidFill>
            <a:srgbClr val="0000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ernard MT Condensed"/>
              </a:rPr>
              <a:t>Norepinephrine (NE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6" name="Picture 4" descr="C:\Users\Administrator\Pictures\Picture2.png"/>
          <p:cNvPicPr/>
          <p:nvPr/>
        </p:nvPicPr>
        <p:blipFill>
          <a:blip r:embed="rId5"/>
          <a:stretch/>
        </p:blipFill>
        <p:spPr>
          <a:xfrm>
            <a:off x="2762280" y="3584520"/>
            <a:ext cx="498600" cy="463680"/>
          </a:xfrm>
          <a:prstGeom prst="rect">
            <a:avLst/>
          </a:prstGeom>
          <a:ln w="0">
            <a:noFill/>
          </a:ln>
        </p:spPr>
      </p:pic>
      <p:sp>
        <p:nvSpPr>
          <p:cNvPr id="197" name="Oval 60"/>
          <p:cNvSpPr/>
          <p:nvPr/>
        </p:nvSpPr>
        <p:spPr>
          <a:xfrm>
            <a:off x="1785960" y="5589720"/>
            <a:ext cx="9036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Oval 61"/>
          <p:cNvSpPr/>
          <p:nvPr/>
        </p:nvSpPr>
        <p:spPr>
          <a:xfrm>
            <a:off x="1785960" y="5664240"/>
            <a:ext cx="903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Oval 62"/>
          <p:cNvSpPr/>
          <p:nvPr/>
        </p:nvSpPr>
        <p:spPr>
          <a:xfrm>
            <a:off x="2058840" y="5191200"/>
            <a:ext cx="90720" cy="759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Oval 813"/>
          <p:cNvSpPr/>
          <p:nvPr/>
        </p:nvSpPr>
        <p:spPr>
          <a:xfrm>
            <a:off x="1828800" y="5268960"/>
            <a:ext cx="9036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Oval 821"/>
          <p:cNvSpPr/>
          <p:nvPr/>
        </p:nvSpPr>
        <p:spPr>
          <a:xfrm>
            <a:off x="1905120" y="5408640"/>
            <a:ext cx="903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Oval 899"/>
          <p:cNvSpPr/>
          <p:nvPr/>
        </p:nvSpPr>
        <p:spPr>
          <a:xfrm>
            <a:off x="1905120" y="5495760"/>
            <a:ext cx="903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Oval 811"/>
          <p:cNvSpPr/>
          <p:nvPr/>
        </p:nvSpPr>
        <p:spPr>
          <a:xfrm>
            <a:off x="1828800" y="4529160"/>
            <a:ext cx="903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Oval 815"/>
          <p:cNvSpPr/>
          <p:nvPr/>
        </p:nvSpPr>
        <p:spPr>
          <a:xfrm>
            <a:off x="1920960" y="4568760"/>
            <a:ext cx="921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Oval 816"/>
          <p:cNvSpPr/>
          <p:nvPr/>
        </p:nvSpPr>
        <p:spPr>
          <a:xfrm>
            <a:off x="1920960" y="4719600"/>
            <a:ext cx="921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Oval 817"/>
          <p:cNvSpPr/>
          <p:nvPr/>
        </p:nvSpPr>
        <p:spPr>
          <a:xfrm>
            <a:off x="2013120" y="4645080"/>
            <a:ext cx="9036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Oval 818"/>
          <p:cNvSpPr/>
          <p:nvPr/>
        </p:nvSpPr>
        <p:spPr>
          <a:xfrm>
            <a:off x="2013120" y="4568760"/>
            <a:ext cx="903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Oval 821"/>
          <p:cNvSpPr/>
          <p:nvPr/>
        </p:nvSpPr>
        <p:spPr>
          <a:xfrm>
            <a:off x="1830240" y="4719600"/>
            <a:ext cx="9072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Oval 822"/>
          <p:cNvSpPr/>
          <p:nvPr/>
        </p:nvSpPr>
        <p:spPr>
          <a:xfrm>
            <a:off x="1830240" y="4645080"/>
            <a:ext cx="9072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Oval 823"/>
          <p:cNvSpPr/>
          <p:nvPr/>
        </p:nvSpPr>
        <p:spPr>
          <a:xfrm>
            <a:off x="1920960" y="4719600"/>
            <a:ext cx="921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Oval 824"/>
          <p:cNvSpPr/>
          <p:nvPr/>
        </p:nvSpPr>
        <p:spPr>
          <a:xfrm>
            <a:off x="2013120" y="4645080"/>
            <a:ext cx="9036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Oval 829"/>
          <p:cNvSpPr/>
          <p:nvPr/>
        </p:nvSpPr>
        <p:spPr>
          <a:xfrm>
            <a:off x="1920960" y="4795920"/>
            <a:ext cx="9216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Oval 832"/>
          <p:cNvSpPr/>
          <p:nvPr/>
        </p:nvSpPr>
        <p:spPr>
          <a:xfrm>
            <a:off x="2013120" y="4795920"/>
            <a:ext cx="9036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Oval 875"/>
          <p:cNvSpPr/>
          <p:nvPr/>
        </p:nvSpPr>
        <p:spPr>
          <a:xfrm>
            <a:off x="1920960" y="4568760"/>
            <a:ext cx="921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Oval 876"/>
          <p:cNvSpPr/>
          <p:nvPr/>
        </p:nvSpPr>
        <p:spPr>
          <a:xfrm>
            <a:off x="1920960" y="4719600"/>
            <a:ext cx="921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Oval 877"/>
          <p:cNvSpPr/>
          <p:nvPr/>
        </p:nvSpPr>
        <p:spPr>
          <a:xfrm>
            <a:off x="2013120" y="4645080"/>
            <a:ext cx="9036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Oval 878"/>
          <p:cNvSpPr/>
          <p:nvPr/>
        </p:nvSpPr>
        <p:spPr>
          <a:xfrm>
            <a:off x="2013120" y="4492800"/>
            <a:ext cx="90360" cy="759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Oval 883"/>
          <p:cNvSpPr/>
          <p:nvPr/>
        </p:nvSpPr>
        <p:spPr>
          <a:xfrm>
            <a:off x="1920960" y="4795920"/>
            <a:ext cx="9216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Oval 886"/>
          <p:cNvSpPr/>
          <p:nvPr/>
        </p:nvSpPr>
        <p:spPr>
          <a:xfrm>
            <a:off x="2013120" y="4795920"/>
            <a:ext cx="9036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Oval 899"/>
          <p:cNvSpPr/>
          <p:nvPr/>
        </p:nvSpPr>
        <p:spPr>
          <a:xfrm>
            <a:off x="1830240" y="4719600"/>
            <a:ext cx="9072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Oval 901"/>
          <p:cNvSpPr/>
          <p:nvPr/>
        </p:nvSpPr>
        <p:spPr>
          <a:xfrm>
            <a:off x="1920960" y="4795920"/>
            <a:ext cx="9216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Oval 902"/>
          <p:cNvSpPr/>
          <p:nvPr/>
        </p:nvSpPr>
        <p:spPr>
          <a:xfrm>
            <a:off x="1920960" y="4719600"/>
            <a:ext cx="921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Oval 811"/>
          <p:cNvSpPr/>
          <p:nvPr/>
        </p:nvSpPr>
        <p:spPr>
          <a:xfrm>
            <a:off x="2087640" y="4670280"/>
            <a:ext cx="903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Oval 815"/>
          <p:cNvSpPr/>
          <p:nvPr/>
        </p:nvSpPr>
        <p:spPr>
          <a:xfrm>
            <a:off x="2179800" y="4710240"/>
            <a:ext cx="91800" cy="759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Oval 816"/>
          <p:cNvSpPr/>
          <p:nvPr/>
        </p:nvSpPr>
        <p:spPr>
          <a:xfrm>
            <a:off x="2179800" y="4861080"/>
            <a:ext cx="91800" cy="759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Oval 817"/>
          <p:cNvSpPr/>
          <p:nvPr/>
        </p:nvSpPr>
        <p:spPr>
          <a:xfrm>
            <a:off x="2271600" y="4786200"/>
            <a:ext cx="90720" cy="7488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Oval 818"/>
          <p:cNvSpPr/>
          <p:nvPr/>
        </p:nvSpPr>
        <p:spPr>
          <a:xfrm>
            <a:off x="2271600" y="4710240"/>
            <a:ext cx="90720" cy="759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Oval 821"/>
          <p:cNvSpPr/>
          <p:nvPr/>
        </p:nvSpPr>
        <p:spPr>
          <a:xfrm>
            <a:off x="2089080" y="4861080"/>
            <a:ext cx="90720" cy="759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Oval 822"/>
          <p:cNvSpPr/>
          <p:nvPr/>
        </p:nvSpPr>
        <p:spPr>
          <a:xfrm>
            <a:off x="2089080" y="4786200"/>
            <a:ext cx="90720" cy="7488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Oval 823"/>
          <p:cNvSpPr/>
          <p:nvPr/>
        </p:nvSpPr>
        <p:spPr>
          <a:xfrm>
            <a:off x="2179800" y="4861080"/>
            <a:ext cx="91800" cy="759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Oval 824"/>
          <p:cNvSpPr/>
          <p:nvPr/>
        </p:nvSpPr>
        <p:spPr>
          <a:xfrm>
            <a:off x="2271600" y="4786200"/>
            <a:ext cx="90720" cy="7488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Oval 829"/>
          <p:cNvSpPr/>
          <p:nvPr/>
        </p:nvSpPr>
        <p:spPr>
          <a:xfrm>
            <a:off x="2179800" y="4937040"/>
            <a:ext cx="9180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Oval 832"/>
          <p:cNvSpPr/>
          <p:nvPr/>
        </p:nvSpPr>
        <p:spPr>
          <a:xfrm>
            <a:off x="2271600" y="4937040"/>
            <a:ext cx="9072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Oval 875"/>
          <p:cNvSpPr/>
          <p:nvPr/>
        </p:nvSpPr>
        <p:spPr>
          <a:xfrm>
            <a:off x="2179800" y="4710240"/>
            <a:ext cx="91800" cy="759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Oval 876"/>
          <p:cNvSpPr/>
          <p:nvPr/>
        </p:nvSpPr>
        <p:spPr>
          <a:xfrm>
            <a:off x="2179800" y="4861080"/>
            <a:ext cx="91800" cy="759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Oval 877"/>
          <p:cNvSpPr/>
          <p:nvPr/>
        </p:nvSpPr>
        <p:spPr>
          <a:xfrm>
            <a:off x="2271600" y="4786200"/>
            <a:ext cx="90720" cy="7488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Oval 878"/>
          <p:cNvSpPr/>
          <p:nvPr/>
        </p:nvSpPr>
        <p:spPr>
          <a:xfrm>
            <a:off x="2271600" y="4632480"/>
            <a:ext cx="90720" cy="777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Oval 883"/>
          <p:cNvSpPr/>
          <p:nvPr/>
        </p:nvSpPr>
        <p:spPr>
          <a:xfrm>
            <a:off x="2179800" y="4937040"/>
            <a:ext cx="9180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Oval 886"/>
          <p:cNvSpPr/>
          <p:nvPr/>
        </p:nvSpPr>
        <p:spPr>
          <a:xfrm>
            <a:off x="2271600" y="4937040"/>
            <a:ext cx="9072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Oval 899"/>
          <p:cNvSpPr/>
          <p:nvPr/>
        </p:nvSpPr>
        <p:spPr>
          <a:xfrm>
            <a:off x="2089080" y="4861080"/>
            <a:ext cx="90720" cy="759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Oval 901"/>
          <p:cNvSpPr/>
          <p:nvPr/>
        </p:nvSpPr>
        <p:spPr>
          <a:xfrm>
            <a:off x="2179800" y="4937040"/>
            <a:ext cx="9180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Oval 902"/>
          <p:cNvSpPr/>
          <p:nvPr/>
        </p:nvSpPr>
        <p:spPr>
          <a:xfrm>
            <a:off x="2179800" y="4861080"/>
            <a:ext cx="91800" cy="759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Oval 815"/>
          <p:cNvSpPr/>
          <p:nvPr/>
        </p:nvSpPr>
        <p:spPr>
          <a:xfrm>
            <a:off x="2133720" y="4280040"/>
            <a:ext cx="91800" cy="759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Oval 816"/>
          <p:cNvSpPr/>
          <p:nvPr/>
        </p:nvSpPr>
        <p:spPr>
          <a:xfrm>
            <a:off x="2133720" y="4432320"/>
            <a:ext cx="9180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Oval 817"/>
          <p:cNvSpPr/>
          <p:nvPr/>
        </p:nvSpPr>
        <p:spPr>
          <a:xfrm>
            <a:off x="2225520" y="4356000"/>
            <a:ext cx="9072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Oval 818"/>
          <p:cNvSpPr/>
          <p:nvPr/>
        </p:nvSpPr>
        <p:spPr>
          <a:xfrm>
            <a:off x="2225520" y="4280040"/>
            <a:ext cx="90720" cy="759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Oval 823"/>
          <p:cNvSpPr/>
          <p:nvPr/>
        </p:nvSpPr>
        <p:spPr>
          <a:xfrm>
            <a:off x="2133720" y="4432320"/>
            <a:ext cx="9180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Oval 824"/>
          <p:cNvSpPr/>
          <p:nvPr/>
        </p:nvSpPr>
        <p:spPr>
          <a:xfrm>
            <a:off x="2225520" y="4356000"/>
            <a:ext cx="9072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Oval 829"/>
          <p:cNvSpPr/>
          <p:nvPr/>
        </p:nvSpPr>
        <p:spPr>
          <a:xfrm>
            <a:off x="2133720" y="4508640"/>
            <a:ext cx="9180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Oval 832"/>
          <p:cNvSpPr/>
          <p:nvPr/>
        </p:nvSpPr>
        <p:spPr>
          <a:xfrm>
            <a:off x="2225520" y="4508640"/>
            <a:ext cx="9072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Oval 875"/>
          <p:cNvSpPr/>
          <p:nvPr/>
        </p:nvSpPr>
        <p:spPr>
          <a:xfrm>
            <a:off x="2133720" y="4280040"/>
            <a:ext cx="91800" cy="759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Oval 876"/>
          <p:cNvSpPr/>
          <p:nvPr/>
        </p:nvSpPr>
        <p:spPr>
          <a:xfrm>
            <a:off x="2133720" y="4432320"/>
            <a:ext cx="9180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Oval 877"/>
          <p:cNvSpPr/>
          <p:nvPr/>
        </p:nvSpPr>
        <p:spPr>
          <a:xfrm>
            <a:off x="2225520" y="4356000"/>
            <a:ext cx="9072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Oval 883"/>
          <p:cNvSpPr/>
          <p:nvPr/>
        </p:nvSpPr>
        <p:spPr>
          <a:xfrm>
            <a:off x="2133720" y="4508640"/>
            <a:ext cx="9180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Oval 886"/>
          <p:cNvSpPr/>
          <p:nvPr/>
        </p:nvSpPr>
        <p:spPr>
          <a:xfrm>
            <a:off x="2225520" y="4508640"/>
            <a:ext cx="9072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Oval 901"/>
          <p:cNvSpPr/>
          <p:nvPr/>
        </p:nvSpPr>
        <p:spPr>
          <a:xfrm>
            <a:off x="2133720" y="4508640"/>
            <a:ext cx="9180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Oval 902"/>
          <p:cNvSpPr/>
          <p:nvPr/>
        </p:nvSpPr>
        <p:spPr>
          <a:xfrm>
            <a:off x="2133720" y="4432320"/>
            <a:ext cx="9180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Oval 898"/>
          <p:cNvSpPr/>
          <p:nvPr/>
        </p:nvSpPr>
        <p:spPr>
          <a:xfrm>
            <a:off x="2075040" y="4965840"/>
            <a:ext cx="9036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Oval 825"/>
          <p:cNvSpPr/>
          <p:nvPr/>
        </p:nvSpPr>
        <p:spPr>
          <a:xfrm>
            <a:off x="1981080" y="5126040"/>
            <a:ext cx="90720" cy="777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Oval 879"/>
          <p:cNvSpPr/>
          <p:nvPr/>
        </p:nvSpPr>
        <p:spPr>
          <a:xfrm>
            <a:off x="1981080" y="5126040"/>
            <a:ext cx="90720" cy="777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Oval 126"/>
          <p:cNvSpPr/>
          <p:nvPr/>
        </p:nvSpPr>
        <p:spPr>
          <a:xfrm>
            <a:off x="1585800" y="5610240"/>
            <a:ext cx="9072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Oval 127"/>
          <p:cNvSpPr/>
          <p:nvPr/>
        </p:nvSpPr>
        <p:spPr>
          <a:xfrm rot="600000">
            <a:off x="1999800" y="5821200"/>
            <a:ext cx="9072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Oval 128"/>
          <p:cNvSpPr/>
          <p:nvPr/>
        </p:nvSpPr>
        <p:spPr>
          <a:xfrm rot="600000">
            <a:off x="1999800" y="5897520"/>
            <a:ext cx="9072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Oval 129"/>
          <p:cNvSpPr/>
          <p:nvPr/>
        </p:nvSpPr>
        <p:spPr>
          <a:xfrm>
            <a:off x="1619280" y="5627520"/>
            <a:ext cx="92160" cy="7488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Oval 130"/>
          <p:cNvSpPr/>
          <p:nvPr/>
        </p:nvSpPr>
        <p:spPr>
          <a:xfrm>
            <a:off x="1711440" y="5702400"/>
            <a:ext cx="90360" cy="777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Oval 131"/>
          <p:cNvSpPr/>
          <p:nvPr/>
        </p:nvSpPr>
        <p:spPr>
          <a:xfrm>
            <a:off x="1585800" y="5684760"/>
            <a:ext cx="9072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Oval 132"/>
          <p:cNvSpPr/>
          <p:nvPr/>
        </p:nvSpPr>
        <p:spPr>
          <a:xfrm>
            <a:off x="1676520" y="5846760"/>
            <a:ext cx="903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Oval 133"/>
          <p:cNvSpPr/>
          <p:nvPr/>
        </p:nvSpPr>
        <p:spPr>
          <a:xfrm>
            <a:off x="1711440" y="5627520"/>
            <a:ext cx="90360" cy="7488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Oval 134"/>
          <p:cNvSpPr/>
          <p:nvPr/>
        </p:nvSpPr>
        <p:spPr>
          <a:xfrm>
            <a:off x="1585800" y="5776920"/>
            <a:ext cx="9072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Oval 135"/>
          <p:cNvSpPr/>
          <p:nvPr/>
        </p:nvSpPr>
        <p:spPr>
          <a:xfrm>
            <a:off x="1585800" y="5610240"/>
            <a:ext cx="9072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Oval 136"/>
          <p:cNvSpPr/>
          <p:nvPr/>
        </p:nvSpPr>
        <p:spPr>
          <a:xfrm rot="600000">
            <a:off x="2273400" y="5423040"/>
            <a:ext cx="90360" cy="777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Oval 813"/>
          <p:cNvSpPr/>
          <p:nvPr/>
        </p:nvSpPr>
        <p:spPr>
          <a:xfrm rot="600000">
            <a:off x="2043000" y="5502240"/>
            <a:ext cx="9072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Oval 821"/>
          <p:cNvSpPr/>
          <p:nvPr/>
        </p:nvSpPr>
        <p:spPr>
          <a:xfrm rot="600000">
            <a:off x="2119320" y="5640480"/>
            <a:ext cx="90360" cy="777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Oval 899"/>
          <p:cNvSpPr/>
          <p:nvPr/>
        </p:nvSpPr>
        <p:spPr>
          <a:xfrm rot="600000">
            <a:off x="2118960" y="5727600"/>
            <a:ext cx="903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Oval 816"/>
          <p:cNvSpPr/>
          <p:nvPr/>
        </p:nvSpPr>
        <p:spPr>
          <a:xfrm rot="600000">
            <a:off x="2134800" y="4951080"/>
            <a:ext cx="921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Oval 821"/>
          <p:cNvSpPr/>
          <p:nvPr/>
        </p:nvSpPr>
        <p:spPr>
          <a:xfrm rot="600000">
            <a:off x="2044440" y="4951440"/>
            <a:ext cx="903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Oval 823"/>
          <p:cNvSpPr/>
          <p:nvPr/>
        </p:nvSpPr>
        <p:spPr>
          <a:xfrm rot="600000">
            <a:off x="2134800" y="4951080"/>
            <a:ext cx="921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Oval 829"/>
          <p:cNvSpPr/>
          <p:nvPr/>
        </p:nvSpPr>
        <p:spPr>
          <a:xfrm rot="600000">
            <a:off x="2134800" y="5027400"/>
            <a:ext cx="92160" cy="759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Oval 832"/>
          <p:cNvSpPr/>
          <p:nvPr/>
        </p:nvSpPr>
        <p:spPr>
          <a:xfrm rot="600000">
            <a:off x="2226960" y="5027760"/>
            <a:ext cx="90360" cy="759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Oval 876"/>
          <p:cNvSpPr/>
          <p:nvPr/>
        </p:nvSpPr>
        <p:spPr>
          <a:xfrm rot="600000">
            <a:off x="2134800" y="4951080"/>
            <a:ext cx="921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Oval 883"/>
          <p:cNvSpPr/>
          <p:nvPr/>
        </p:nvSpPr>
        <p:spPr>
          <a:xfrm rot="600000">
            <a:off x="2134800" y="5027400"/>
            <a:ext cx="92160" cy="759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Oval 886"/>
          <p:cNvSpPr/>
          <p:nvPr/>
        </p:nvSpPr>
        <p:spPr>
          <a:xfrm rot="600000">
            <a:off x="2226960" y="5027760"/>
            <a:ext cx="90360" cy="759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Oval 899"/>
          <p:cNvSpPr/>
          <p:nvPr/>
        </p:nvSpPr>
        <p:spPr>
          <a:xfrm rot="600000">
            <a:off x="2044440" y="4951440"/>
            <a:ext cx="903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Oval 901"/>
          <p:cNvSpPr/>
          <p:nvPr/>
        </p:nvSpPr>
        <p:spPr>
          <a:xfrm rot="600000">
            <a:off x="2134800" y="5027400"/>
            <a:ext cx="92160" cy="759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Oval 902"/>
          <p:cNvSpPr/>
          <p:nvPr/>
        </p:nvSpPr>
        <p:spPr>
          <a:xfrm rot="600000">
            <a:off x="2134800" y="4951080"/>
            <a:ext cx="921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Oval 815"/>
          <p:cNvSpPr/>
          <p:nvPr/>
        </p:nvSpPr>
        <p:spPr>
          <a:xfrm rot="600000">
            <a:off x="2393640" y="4941360"/>
            <a:ext cx="921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Oval 816"/>
          <p:cNvSpPr/>
          <p:nvPr/>
        </p:nvSpPr>
        <p:spPr>
          <a:xfrm rot="600000">
            <a:off x="2393640" y="5092200"/>
            <a:ext cx="921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Oval 817"/>
          <p:cNvSpPr/>
          <p:nvPr/>
        </p:nvSpPr>
        <p:spPr>
          <a:xfrm rot="600000">
            <a:off x="2486160" y="5018040"/>
            <a:ext cx="9036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Oval 818"/>
          <p:cNvSpPr/>
          <p:nvPr/>
        </p:nvSpPr>
        <p:spPr>
          <a:xfrm rot="600000">
            <a:off x="2485800" y="4941720"/>
            <a:ext cx="903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Oval 821"/>
          <p:cNvSpPr/>
          <p:nvPr/>
        </p:nvSpPr>
        <p:spPr>
          <a:xfrm rot="600000">
            <a:off x="2303280" y="5092560"/>
            <a:ext cx="903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Oval 822"/>
          <p:cNvSpPr/>
          <p:nvPr/>
        </p:nvSpPr>
        <p:spPr>
          <a:xfrm rot="600000">
            <a:off x="2303640" y="5018040"/>
            <a:ext cx="9036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Oval 823"/>
          <p:cNvSpPr/>
          <p:nvPr/>
        </p:nvSpPr>
        <p:spPr>
          <a:xfrm rot="600000">
            <a:off x="2393640" y="5092200"/>
            <a:ext cx="921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Oval 824"/>
          <p:cNvSpPr/>
          <p:nvPr/>
        </p:nvSpPr>
        <p:spPr>
          <a:xfrm rot="600000">
            <a:off x="2486160" y="5018040"/>
            <a:ext cx="9036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Oval 829"/>
          <p:cNvSpPr/>
          <p:nvPr/>
        </p:nvSpPr>
        <p:spPr>
          <a:xfrm rot="600000">
            <a:off x="2393640" y="5168520"/>
            <a:ext cx="921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Oval 832"/>
          <p:cNvSpPr/>
          <p:nvPr/>
        </p:nvSpPr>
        <p:spPr>
          <a:xfrm rot="600000">
            <a:off x="2485800" y="5168880"/>
            <a:ext cx="903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Oval 875"/>
          <p:cNvSpPr/>
          <p:nvPr/>
        </p:nvSpPr>
        <p:spPr>
          <a:xfrm rot="600000">
            <a:off x="2393640" y="4941360"/>
            <a:ext cx="921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Oval 876"/>
          <p:cNvSpPr/>
          <p:nvPr/>
        </p:nvSpPr>
        <p:spPr>
          <a:xfrm rot="600000">
            <a:off x="2393640" y="5092200"/>
            <a:ext cx="921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Oval 877"/>
          <p:cNvSpPr/>
          <p:nvPr/>
        </p:nvSpPr>
        <p:spPr>
          <a:xfrm rot="600000">
            <a:off x="2486160" y="5018040"/>
            <a:ext cx="9036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Oval 883"/>
          <p:cNvSpPr/>
          <p:nvPr/>
        </p:nvSpPr>
        <p:spPr>
          <a:xfrm rot="600000">
            <a:off x="2393640" y="5168520"/>
            <a:ext cx="921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Oval 886"/>
          <p:cNvSpPr/>
          <p:nvPr/>
        </p:nvSpPr>
        <p:spPr>
          <a:xfrm rot="600000">
            <a:off x="2485800" y="5168880"/>
            <a:ext cx="903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Oval 899"/>
          <p:cNvSpPr/>
          <p:nvPr/>
        </p:nvSpPr>
        <p:spPr>
          <a:xfrm rot="600000">
            <a:off x="2303280" y="5092560"/>
            <a:ext cx="903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Oval 901"/>
          <p:cNvSpPr/>
          <p:nvPr/>
        </p:nvSpPr>
        <p:spPr>
          <a:xfrm rot="600000">
            <a:off x="2393640" y="5168520"/>
            <a:ext cx="921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Oval 902"/>
          <p:cNvSpPr/>
          <p:nvPr/>
        </p:nvSpPr>
        <p:spPr>
          <a:xfrm rot="600000">
            <a:off x="2393640" y="5092200"/>
            <a:ext cx="921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Oval 899"/>
          <p:cNvSpPr/>
          <p:nvPr/>
        </p:nvSpPr>
        <p:spPr>
          <a:xfrm>
            <a:off x="1676520" y="5923080"/>
            <a:ext cx="90360" cy="759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Oval 898"/>
          <p:cNvSpPr/>
          <p:nvPr/>
        </p:nvSpPr>
        <p:spPr>
          <a:xfrm rot="600000">
            <a:off x="2289240" y="5197320"/>
            <a:ext cx="90360" cy="7488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Oval 825"/>
          <p:cNvSpPr/>
          <p:nvPr/>
        </p:nvSpPr>
        <p:spPr>
          <a:xfrm rot="600000">
            <a:off x="2195280" y="5359320"/>
            <a:ext cx="903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Oval 879"/>
          <p:cNvSpPr/>
          <p:nvPr/>
        </p:nvSpPr>
        <p:spPr>
          <a:xfrm rot="600000">
            <a:off x="2195280" y="5359320"/>
            <a:ext cx="903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Oval 175"/>
          <p:cNvSpPr/>
          <p:nvPr/>
        </p:nvSpPr>
        <p:spPr>
          <a:xfrm>
            <a:off x="2576520" y="5432400"/>
            <a:ext cx="9036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Oval 176"/>
          <p:cNvSpPr/>
          <p:nvPr/>
        </p:nvSpPr>
        <p:spPr>
          <a:xfrm>
            <a:off x="2576520" y="5506920"/>
            <a:ext cx="903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Oval 899"/>
          <p:cNvSpPr/>
          <p:nvPr/>
        </p:nvSpPr>
        <p:spPr>
          <a:xfrm>
            <a:off x="2695680" y="5338800"/>
            <a:ext cx="903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Oval 178"/>
          <p:cNvSpPr/>
          <p:nvPr/>
        </p:nvSpPr>
        <p:spPr>
          <a:xfrm>
            <a:off x="2376360" y="5452920"/>
            <a:ext cx="90720" cy="7488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Oval 179"/>
          <p:cNvSpPr/>
          <p:nvPr/>
        </p:nvSpPr>
        <p:spPr>
          <a:xfrm>
            <a:off x="2409840" y="5527800"/>
            <a:ext cx="9216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Oval 180"/>
          <p:cNvSpPr/>
          <p:nvPr/>
        </p:nvSpPr>
        <p:spPr>
          <a:xfrm>
            <a:off x="2624040" y="5272200"/>
            <a:ext cx="90720" cy="759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Oval 181"/>
          <p:cNvSpPr/>
          <p:nvPr/>
        </p:nvSpPr>
        <p:spPr>
          <a:xfrm>
            <a:off x="2286000" y="5592600"/>
            <a:ext cx="903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Oval 182"/>
          <p:cNvSpPr/>
          <p:nvPr/>
        </p:nvSpPr>
        <p:spPr>
          <a:xfrm>
            <a:off x="2467080" y="5689440"/>
            <a:ext cx="903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Oval 183"/>
          <p:cNvSpPr/>
          <p:nvPr/>
        </p:nvSpPr>
        <p:spPr>
          <a:xfrm>
            <a:off x="2502000" y="5338800"/>
            <a:ext cx="9036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Oval 184"/>
          <p:cNvSpPr/>
          <p:nvPr/>
        </p:nvSpPr>
        <p:spPr>
          <a:xfrm>
            <a:off x="2376360" y="5619600"/>
            <a:ext cx="9072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Oval 185"/>
          <p:cNvSpPr/>
          <p:nvPr/>
        </p:nvSpPr>
        <p:spPr>
          <a:xfrm>
            <a:off x="2376360" y="5338800"/>
            <a:ext cx="90720" cy="745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Oval 899"/>
          <p:cNvSpPr/>
          <p:nvPr/>
        </p:nvSpPr>
        <p:spPr>
          <a:xfrm>
            <a:off x="2467080" y="5765760"/>
            <a:ext cx="90360" cy="763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0" name="Flowchart: Stored Data 187"/>
          <p:cNvGrpSpPr/>
          <p:nvPr/>
        </p:nvGrpSpPr>
        <p:grpSpPr>
          <a:xfrm>
            <a:off x="1523880" y="3584520"/>
            <a:ext cx="567000" cy="358920"/>
            <a:chOff x="1523880" y="3584520"/>
            <a:chExt cx="567000" cy="358920"/>
          </a:xfrm>
        </p:grpSpPr>
        <p:pic>
          <p:nvPicPr>
            <p:cNvPr id="321" name="Flowchart: Stored Data 187" descr=""/>
            <p:cNvPicPr/>
            <p:nvPr/>
          </p:nvPicPr>
          <p:blipFill>
            <a:blip r:embed="rId6"/>
            <a:stretch/>
          </p:blipFill>
          <p:spPr>
            <a:xfrm>
              <a:off x="1523880" y="3584520"/>
              <a:ext cx="567000" cy="3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 rot="10328400">
              <a:off x="1721880" y="3642840"/>
              <a:ext cx="261720" cy="2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23" name="Rectangle 193"/>
          <p:cNvSpPr/>
          <p:nvPr/>
        </p:nvSpPr>
        <p:spPr>
          <a:xfrm>
            <a:off x="1309680" y="2147760"/>
            <a:ext cx="178596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. </a:t>
            </a: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RESERPI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Rectangle 194"/>
          <p:cNvSpPr/>
          <p:nvPr/>
        </p:nvSpPr>
        <p:spPr>
          <a:xfrm>
            <a:off x="1044360" y="3068640"/>
            <a:ext cx="2338920" cy="429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Wingdings 3"/>
                <a:ea typeface="Wingdings 3"/>
              </a:rPr>
              <a:t></a:t>
            </a:r>
            <a:r>
              <a:rPr b="0" lang="en-US" sz="2200" spc="-1" strike="noStrike">
                <a:solidFill>
                  <a:srgbClr val="000000"/>
                </a:solidFill>
                <a:latin typeface="Bernard MT Condensed"/>
              </a:rPr>
              <a:t>Depletes Stor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Rectangle 195"/>
          <p:cNvSpPr/>
          <p:nvPr/>
        </p:nvSpPr>
        <p:spPr>
          <a:xfrm>
            <a:off x="3097080" y="4148280"/>
            <a:ext cx="197496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3. Gaunthidin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TextBox 58"/>
          <p:cNvSpPr/>
          <p:nvPr/>
        </p:nvSpPr>
        <p:spPr>
          <a:xfrm>
            <a:off x="71280" y="168120"/>
            <a:ext cx="6372360" cy="88596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c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ernard MT Condensed"/>
              </a:rPr>
              <a:t>1. Adrenergic Neuron Blockers [SYMPATHOLYTICS]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TextBox 188"/>
          <p:cNvSpPr/>
          <p:nvPr/>
        </p:nvSpPr>
        <p:spPr>
          <a:xfrm>
            <a:off x="6500880" y="64296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33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ccff33"/>
                </a:solidFill>
                <a:latin typeface="Arial Narrow"/>
              </a:rPr>
              <a:t>-methyl tyros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Rectangle 190"/>
          <p:cNvSpPr/>
          <p:nvPr/>
        </p:nvSpPr>
        <p:spPr>
          <a:xfrm>
            <a:off x="6168600" y="1109520"/>
            <a:ext cx="292860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Bernard MT Condensed"/>
              </a:rPr>
              <a:t>False Transmit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Rectangle 191"/>
          <p:cNvSpPr/>
          <p:nvPr/>
        </p:nvSpPr>
        <p:spPr>
          <a:xfrm>
            <a:off x="6357960" y="214200"/>
            <a:ext cx="2482920" cy="429120"/>
          </a:xfrm>
          <a:prstGeom prst="rect">
            <a:avLst/>
          </a:prstGeom>
          <a:solidFill>
            <a:srgbClr val="ccff33"/>
          </a:solidFill>
          <a:ln w="28440">
            <a:solidFill>
              <a:srgbClr val="000000"/>
            </a:solidFill>
            <a:miter/>
          </a:ln>
          <a:effectLst>
            <a:outerShdw dist="50841" dir="2992965" blurRad="0" rotWithShape="0">
              <a:srgbClr val="ccff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Rounded MT Bold"/>
              </a:rPr>
              <a:t>1. METHYLDOP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Rectangle 192"/>
          <p:cNvSpPr/>
          <p:nvPr/>
        </p:nvSpPr>
        <p:spPr>
          <a:xfrm>
            <a:off x="5857920" y="1442880"/>
            <a:ext cx="350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33"/>
                </a:solidFill>
                <a:latin typeface="Wingdings 3"/>
                <a:ea typeface="Wingdings 3"/>
              </a:rPr>
              <a:t>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33"/>
                </a:solidFill>
                <a:latin typeface="Bernard MT Condensed"/>
              </a:rPr>
              <a:t>Antihypertensive in PREGNA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Rectangle 200"/>
          <p:cNvSpPr/>
          <p:nvPr/>
        </p:nvSpPr>
        <p:spPr>
          <a:xfrm>
            <a:off x="4290120" y="4643280"/>
            <a:ext cx="2562840" cy="429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Wingdings 3"/>
                <a:ea typeface="Wingdings 3"/>
              </a:rPr>
              <a:t></a:t>
            </a:r>
            <a:r>
              <a:rPr b="0" lang="en-US" sz="22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Bernard MT Condensed"/>
              </a:rPr>
              <a:t>Enhance Uptake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Rectangle 201"/>
          <p:cNvSpPr/>
          <p:nvPr/>
        </p:nvSpPr>
        <p:spPr>
          <a:xfrm>
            <a:off x="1562040" y="4643280"/>
            <a:ext cx="2291400" cy="429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Wingdings 3"/>
                <a:ea typeface="Wingdings 3"/>
              </a:rPr>
              <a:t></a:t>
            </a:r>
            <a:r>
              <a:rPr b="0" lang="en-US" sz="22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Bernard MT Condensed"/>
              </a:rPr>
              <a:t>Inhibit Relea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TextBox 202"/>
          <p:cNvSpPr/>
          <p:nvPr/>
        </p:nvSpPr>
        <p:spPr>
          <a:xfrm>
            <a:off x="3000240" y="6021360"/>
            <a:ext cx="5964480" cy="947160"/>
          </a:xfrm>
          <a:prstGeom prst="rect">
            <a:avLst/>
          </a:prstGeom>
          <a:solidFill>
            <a:srgbClr val="0018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ernard MT Condensed"/>
              </a:rPr>
              <a:t>2. Adrenoceptor Blockers [ADRENOLYTICS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4" name="Group 207"/>
          <p:cNvGrpSpPr/>
          <p:nvPr/>
        </p:nvGrpSpPr>
        <p:grpSpPr>
          <a:xfrm>
            <a:off x="1279440" y="3517920"/>
            <a:ext cx="1720800" cy="3384720"/>
            <a:chOff x="1279440" y="3517920"/>
            <a:chExt cx="1720800" cy="3384720"/>
          </a:xfrm>
        </p:grpSpPr>
        <p:sp>
          <p:nvSpPr>
            <p:cNvPr id="335" name="TextBox 203"/>
            <p:cNvSpPr/>
            <p:nvPr/>
          </p:nvSpPr>
          <p:spPr>
            <a:xfrm>
              <a:off x="1279440" y="3517920"/>
              <a:ext cx="57132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</a:t>
              </a:r>
              <a:r>
                <a:rPr b="1" lang="en-US" sz="2200" spc="-1" strike="noStrike" baseline="-25000">
                  <a:solidFill>
                    <a:srgbClr val="ffff00"/>
                  </a:solidFill>
                  <a:latin typeface="Tahoma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6" name="TextBox 204"/>
            <p:cNvSpPr/>
            <p:nvPr/>
          </p:nvSpPr>
          <p:spPr>
            <a:xfrm>
              <a:off x="1500120" y="6427440"/>
              <a:ext cx="57132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</a:t>
              </a:r>
              <a:r>
                <a:rPr b="1" lang="en-US" sz="2200" spc="-1" strike="noStrike" baseline="-25000">
                  <a:solidFill>
                    <a:srgbClr val="ffff00"/>
                  </a:solidFill>
                  <a:latin typeface="Symbol"/>
                  <a:ea typeface="Symbol"/>
                </a:rPr>
                <a:t>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7" name="TextBox 205"/>
            <p:cNvSpPr/>
            <p:nvPr/>
          </p:nvSpPr>
          <p:spPr>
            <a:xfrm>
              <a:off x="2013840" y="6400080"/>
              <a:ext cx="57132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</a:t>
              </a:r>
              <a:r>
                <a:rPr b="1" lang="en-US" sz="2200" spc="-1" strike="noStrike" baseline="-25000">
                  <a:solidFill>
                    <a:srgbClr val="ffff00"/>
                  </a:solidFill>
                  <a:latin typeface="Symbol"/>
                  <a:ea typeface="Symbol"/>
                </a:rPr>
                <a:t>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8" name="TextBox 206"/>
            <p:cNvSpPr/>
            <p:nvPr/>
          </p:nvSpPr>
          <p:spPr>
            <a:xfrm>
              <a:off x="2428920" y="6314040"/>
              <a:ext cx="57132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</a:t>
              </a:r>
              <a:r>
                <a:rPr b="1" lang="en-US" sz="2200" spc="-1" strike="noStrike" baseline="-25000">
                  <a:solidFill>
                    <a:srgbClr val="ffff00"/>
                  </a:solidFill>
                  <a:latin typeface="Symbol"/>
                  <a:ea typeface="Symbol"/>
                </a:rPr>
                <a:t>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39" name="Rectangle 174"/>
          <p:cNvSpPr/>
          <p:nvPr/>
        </p:nvSpPr>
        <p:spPr>
          <a:xfrm>
            <a:off x="279360" y="4118040"/>
            <a:ext cx="3251160" cy="875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4. Clonidin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Presynaptic 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agonis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TextBox 2"/>
          <p:cNvSpPr/>
          <p:nvPr/>
        </p:nvSpPr>
        <p:spPr>
          <a:xfrm>
            <a:off x="6713640" y="3124080"/>
            <a:ext cx="2127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Methyl-NE works as false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3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33436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0000"/>
                </a:solidFill>
                <a:latin typeface="Monotype Corsiva"/>
                <a:ea typeface="Times New Roman (Arabic)"/>
              </a:rPr>
              <a:t>Adrenergic receptor blocke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228240" y="1980720"/>
            <a:ext cx="85345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renergic receptor blockers or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adrenolytic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y block sympathetic actions by antagonizi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receptor  antagonists 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-receptor antagonist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33436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Monotype Corsiva"/>
                <a:ea typeface="Times New Roman (Arabic)"/>
              </a:rPr>
              <a:t> </a:t>
            </a:r>
            <a:r>
              <a:rPr b="1" i="1" lang="en-US" sz="3600" spc="-1" strike="noStrike">
                <a:solidFill>
                  <a:srgbClr val="c00000"/>
                </a:solidFill>
                <a:latin typeface="Monotype Corsiva"/>
                <a:ea typeface="Times New Roman (Arabic)"/>
              </a:rPr>
              <a:t>Classification of  </a:t>
            </a:r>
            <a:r>
              <a:rPr b="1" lang="en-US" sz="36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r>
              <a:rPr b="1" i="1" lang="en-US" sz="3600" spc="-1" strike="noStrike">
                <a:solidFill>
                  <a:srgbClr val="c00000"/>
                </a:solidFill>
                <a:latin typeface="Monotype Corsiva"/>
                <a:ea typeface="Times New Roman (Arabic)"/>
              </a:rPr>
              <a:t>-receptor  Antagonis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228240" y="1980720"/>
            <a:ext cx="85345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Non-selective antagonist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.g. phenoxybenzamine &amp; phentolamin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 baseline="-25000">
                <a:solidFill>
                  <a:srgbClr val="c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-selective antagonist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.g. prazosin, doxazosi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 baseline="-25000">
                <a:solidFill>
                  <a:srgbClr val="c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-selective antagonist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.g. yohimb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3343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0000"/>
                </a:solidFill>
                <a:latin typeface="Monotype Corsiva"/>
              </a:rPr>
              <a:t>Non-Selective </a:t>
            </a:r>
            <a:r>
              <a:rPr b="1" lang="en-US" sz="36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r>
              <a:rPr b="1" i="1" lang="en-US" sz="3600" spc="-1" strike="noStrike">
                <a:solidFill>
                  <a:srgbClr val="c00000"/>
                </a:solidFill>
                <a:latin typeface="Monotype Corsiva"/>
              </a:rPr>
              <a:t>- Adrenoceptor Antagonists</a:t>
            </a:r>
            <a:r>
              <a:rPr b="1" i="1" lang="en-US" sz="4800" spc="-1" strike="noStrike">
                <a:solidFill>
                  <a:srgbClr val="c00000"/>
                </a:solidFill>
                <a:latin typeface="Monotype Corsiva"/>
              </a:rPr>
              <a:t> 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51920" y="1752480"/>
            <a:ext cx="4419720" cy="4648320"/>
          </a:xfrm>
          <a:prstGeom prst="rect">
            <a:avLst/>
          </a:prstGeom>
          <a:noFill/>
          <a:ln w="9360">
            <a:solidFill>
              <a:srgbClr val="745d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cc0000"/>
                </a:solidFill>
                <a:uFillTx/>
                <a:latin typeface="Times New Roman"/>
                <a:ea typeface="Times New Roman"/>
              </a:rPr>
              <a:t>Phenoxybenzamine: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rreversibl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ck of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th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and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000" spc="-1" strike="noStrike" baseline="-25000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ptor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-actin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(24 hrs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Rectangle 3"/>
          <p:cNvSpPr/>
          <p:nvPr/>
        </p:nvSpPr>
        <p:spPr>
          <a:xfrm>
            <a:off x="4648320" y="1752480"/>
            <a:ext cx="4267080" cy="4572000"/>
          </a:xfrm>
          <a:prstGeom prst="rect">
            <a:avLst/>
          </a:prstGeom>
          <a:noFill/>
          <a:ln w="9360">
            <a:solidFill>
              <a:srgbClr val="745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0000"/>
                </a:solidFill>
                <a:uFillTx/>
                <a:latin typeface="Monotype Corsiva"/>
                <a:ea typeface="Arial"/>
              </a:rPr>
              <a:t>Phentolamine: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Times New Roman"/>
              </a:rPr>
              <a:t>reversibl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blocking of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 &amp;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 receptors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hort acting (4 hrs). 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304920" y="304920"/>
            <a:ext cx="85341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oth drugs cause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Postural hypotens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Decrease peripheral vascular resist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Increase cardiac output (</a:t>
            </a:r>
            <a:r>
              <a:rPr b="1" lang="el-GR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α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2 block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Reflex tachycardi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Both drug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n precipitate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rhythmias and angina and are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 contra-indicated in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 patients with decreased coronary</a:t>
            </a: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fus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6T16:20:03Z</dcterms:created>
  <dc:creator>ksu</dc:creator>
  <dc:description/>
  <dc:language>en-US</dc:language>
  <cp:lastModifiedBy>User</cp:lastModifiedBy>
  <dcterms:modified xsi:type="dcterms:W3CDTF">2016-02-24T07:39:00Z</dcterms:modified>
  <cp:revision>505</cp:revision>
  <dc:subject/>
  <dc:title>Noradrenergic Transmission</dc:title>
</cp:coreProperties>
</file>