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11DF-3424-4411-85CB-E323636180B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factor V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C3DF-F578-4113-8258-94B07F0EF4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BDE1-D2E5-4816-8EE4-5881960F9B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ternal bleeding; history of cerebrovascular accident; recent intracranial or intraspinal surgery or trauma; intracranial neoplasm, arteriovenous malformations, or aneurysm; known bleeding diathesis; severe uncontrolled hyper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79CA-741B-477C-9B1E-26C7C4707D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27F6-2559-4DFC-A1EB-671B59B934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6B8-9FD4-4638-943D-F76E6982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EA6-0362-45F5-8885-30DB6097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700-0DA4-4F6C-82FC-77E4A1C1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71E-9800-42D9-986B-573F91A4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ED93-6320-40EC-B1DE-21E7A1A6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AC51-4F6C-4700-93DF-122898E2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7FA4-E21F-4878-850D-15E21ECD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22C2-3174-4417-8461-8636D7BC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AB48-4731-4767-B73B-CE235CAE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39B28-737D-4B7B-84B5-A047F999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3A42-317C-44AD-89F7-7B7CD008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58C-55D1-443F-9504-F893F750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89F0-91C3-424D-B46F-F0EE911E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DAB5-3DFB-415B-AF54-4ADC51F4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300F-9960-455F-93D8-2F3A10BF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6380-4201-4955-801B-556C6F2F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9912-1C10-45A5-9A6C-C6B1BB83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24B-870E-49E9-BCE1-B5A61547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5EEB-9CFA-4CDE-BBF8-51D851A8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0E7-9A42-4F16-A0A3-AA8A6D1C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911-180B-4B55-940C-4FBE15EA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1DB-56FE-47F1-945D-9C280A57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CA2-653C-48B6-A08E-19689BA1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7C5-D1A1-45E9-B6FF-EAFCDB16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333D-1AD2-4869-9F0D-F874BA752EF0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E480-C7A8-453F-A06F-5DFD374D270C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192888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OMBOLYTIC DRUG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Fibrinolytic drugs)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. Hanan Hag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r. Ishfaq Bukhari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95280" y="1484280"/>
            <a:ext cx="4140360" cy="367344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tr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member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43280" y="1484280"/>
            <a:ext cx="4392720" cy="4608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lasmin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ors (t-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member 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accessmedicine.com/loadBinary.aspx?name=hurs13&amp;filename=%09hurs13_c061f008.gif"/>
          <p:cNvPicPr/>
          <p:nvPr/>
        </p:nvPicPr>
        <p:blipFill>
          <a:blip r:embed="rId1">
            <a:lum bright="-24000"/>
          </a:blip>
          <a:srcRect l="2827" t="3523" r="1414" b="51085"/>
          <a:stretch/>
        </p:blipFill>
        <p:spPr>
          <a:xfrm>
            <a:off x="34920" y="44280"/>
            <a:ext cx="9002880" cy="48261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179280" y="59389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accessmedicine.com/loadBinary.aspx?name=hurs13&amp;filename=%09hurs13_c061f008.gif"/>
          <p:cNvPicPr/>
          <p:nvPr/>
        </p:nvPicPr>
        <p:blipFill>
          <a:blip r:embed="rId1">
            <a:lum bright="-20000"/>
          </a:blip>
          <a:srcRect l="2827" t="49324" r="4241" b="8807"/>
          <a:stretch/>
        </p:blipFill>
        <p:spPr>
          <a:xfrm>
            <a:off x="34920" y="0"/>
            <a:ext cx="8929800" cy="4869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179280" y="522936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972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 fibrin-specific agent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39640" y="1484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nase-Streptokin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istrepl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equally t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-circu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breakdown of clo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cal fibrinolysi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irculating plasminogen and other plasma proteins thus cause an unwanted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fibrinolysi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eeding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569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-specific agent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39640" y="1484280"/>
            <a:ext cx="84250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issue plaminogen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in action (clot or fibrin 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preferentially to plasminogen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surface (non-circulat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 in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of bleeding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pecific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is enhanced upon binding to fib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5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 (S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cterial protein produced by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-hemolyti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cocci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rectl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forming 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lasminogen-streptokinase complex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activator complex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onverts inactive plasminogen into active plasm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 is non-fibrin specific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grade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clot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ther plasma protei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streptokin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treptokin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273320" y="1596960"/>
            <a:ext cx="2520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187280" y="430848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2338560" y="2346480"/>
            <a:ext cx="0" cy="180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2200" y="6021360"/>
            <a:ext cx="13701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140360" y="570564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533680" y="3716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338560" y="4997520"/>
            <a:ext cx="144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1835280" y="634536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40360" y="3324240"/>
            <a:ext cx="4105080" cy="830160"/>
          </a:xfrm>
          <a:prstGeom prst="rect">
            <a:avLst/>
          </a:prstGeom>
          <a:solidFill>
            <a:srgbClr val="f5f5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vator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eptokinase + Plasmin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5219640" y="23115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1/2 = less than </a:t>
            </a:r>
            <a:r>
              <a:rPr b="1" lang="en-US" sz="3600" spc="-1" strike="noStrike" u="sng">
                <a:solidFill>
                  <a:srgbClr val="3366ff"/>
                </a:solidFill>
                <a:uFillTx/>
                <a:latin typeface="Times New Roman"/>
              </a:rPr>
              <a:t>2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intravenous infu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0,000 U then 100,000 U/h for 24-72 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least expensi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venous or arterial thrombo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6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de effects of strept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genicit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titer antibodies develop 1 to 2 weeks after use, precluding retreatment until the titer dec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ergic re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ke rashes, fever, 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ee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activation of circulating plasminogen (systemic fibrinoly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ibrin specific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in patients with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streptococcal infections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administration of the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tients may develo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ver, allergic reactions and 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on treatment with streptokinase du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streptococcal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OBJ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mechanism of action of thrombolytic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fferentiate between different types of thrombolytic dru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indications, side effects and contraindications of thrombolytic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cognize the mechanisms, uses and side effects of antiplasm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streplase (APSAC)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90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Anisoylated Plasminogen Streptokinase Activator Complex (APSAC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acylated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plasminogen combined with strept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rodr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-acylated in circulation into the active plasminogen-streptokinas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70-1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02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s a bolus I.V. injection (30 U over 3 - 5 min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duration of action than streptokin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rombolytic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lot sele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5136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ut less than streptokinase alon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ic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ea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pensive than streptokin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nzyme synthesized by the kidne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from either urine or culture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mbryonic kidney cel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minogen activ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travenous infusio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,000U over 10 min then 300,000U/h for 12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n elimination half-life of 12-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lyses of acute massive pulmonary e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aphylaxis (not antigen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cts upon fibrin-bound and circulating plasmino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ts use is now limi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213840"/>
            <a:ext cx="86788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ssue Plasminogen Activators (t - P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recombinant tissue plasminogen activators (t –PA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recombinant DNA technolog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drugs 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r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t-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rect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y activat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brin-bound plasmin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her than free plasminogen in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ction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hanced by the presence of fib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inds to fibrin in a thrombus and converts the entrapped plasminogen to plasmin followed by activated local fibrinolysis with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imited systemic fibrino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of t-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in-specific drugs (clot specif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ed systemic fibrino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risk of ble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-antigenic (Can be used in patients with antistreptococcal antibod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epla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recombinant form of human tP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0" lang="en-US" sz="2700" spc="-1" strike="noStrike">
                <a:solidFill>
                  <a:srgbClr val="e70000"/>
                </a:solidFill>
                <a:latin typeface="Arial"/>
              </a:rPr>
              <a:t>very short half life (~5 mi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usually administered as an intravenous bolus followed by an infus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60 mg i.v. bolus + 40 mg infusion over 2 h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62000" y="259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ant of recombinant tP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0" lang="en-US" sz="2700" spc="-1" strike="noStrike">
                <a:solidFill>
                  <a:srgbClr val="e70000"/>
                </a:solidFill>
                <a:latin typeface="Arial"/>
              </a:rPr>
              <a:t>longer duration than alteplas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(15 mi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enhanced fibrin specifici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as two I.V. bolus injections of 10 U ea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ition of Thrombolytic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rombolytic ag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e drugs used to lyse already formed blood clots in clinical settings where ischemia may be fa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necteplase (TNK-tP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nother modified human t-P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pared by recombinant 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half life of more tha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30 m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t can be administered as a single IV bolu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ore fibrin-specif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longer du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pl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only approved for use in acute myocardial infarc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aindications to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ternal bl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hemorrhagic stro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ovascula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surgery within two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peptic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uncontrolle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intracranial trauma or ne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ibit plasminogen  activation   and   thus  inhibit  fibrinolysis  and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promote clot stab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ff"/>
                </a:solidFill>
                <a:uFillTx/>
                <a:latin typeface="Arial"/>
              </a:rPr>
              <a:t>Aminocaproic Acid &amp; tranexamic 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by competitive inhibition of plasminogen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proti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ibits fibrinolysis by blocking the action of plasm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plasmin antago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en orally or i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Uses of Fibrinolytic Inhibitor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vant therapy in h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olytic therapy-induced bleeding (antido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surgic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work like antidotes for fibrinolytic drugs. Similar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amin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anticoagulant, hepari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oral anticoagulant warfar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hrombolytic therap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773000"/>
            <a:ext cx="80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rapid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toration of blood f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ccluded vessel by accelerating proteolysis of the throm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one part of an overall antithrombotic plan that frequently include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coagu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platelet ag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echanical approaches to rapidly restore flow and prevent re-oc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cations of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treatmen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myocardial  infarction (ST elevation,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ischemic stro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artery oc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nous thromb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mbol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Rational for use of thrombolytic drugs in AMI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 of ventricular function; reduction of the incidence of congestive heart failure and the reduction of mortality following 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lytic drugs need to be give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mediately to the patient after diagnosis of 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lay in administration will be of no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common mechanism of action b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ng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lasminogen activ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oenzyme)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ctive enzyme)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ysis of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oluble fibrin clot into soluble derivativ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nonspecif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pable of breaking dow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well as other circulating proteins, includ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ogen, factor V, and factor V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31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771640" y="1557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71640" y="4005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924360" y="2349360"/>
            <a:ext cx="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537372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oluble 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796000" y="515772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932360" y="2637000"/>
            <a:ext cx="3960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mbo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lasminogen activ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3995640" y="2997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924360" y="4653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5:15:36Z</dcterms:created>
  <dc:creator>mahmoud.khattab</dc:creator>
  <dc:description/>
  <dc:language>en-US</dc:language>
  <cp:lastModifiedBy>User</cp:lastModifiedBy>
  <dcterms:modified xsi:type="dcterms:W3CDTF">2016-03-23T05:41:08Z</dcterms:modified>
  <cp:revision>119</cp:revision>
  <dc:subject/>
  <dc:title>THROMBOLYTIC DRUGS</dc:title>
</cp:coreProperties>
</file>