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0A3-B7E8-44A9-9769-0E4F6A61D4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7E27-4D7D-409D-A359-E9175C495B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E44-DDC4-42D2-9E5C-3C2D50721E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FF3-74F8-4C6C-8346-7E52435530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824-F434-46F0-832C-35B0408AA9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8EA-2F07-4C20-ADFF-69AD6D5B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F02-DBE2-4E42-B38D-C44A258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CF6-7FA3-4657-B020-9196DBF2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287-BF98-4E37-8AD7-7B70674F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4A5-18C5-486B-84FD-E80F2A71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9568-FFAB-481A-8347-57D933EB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2BD-0737-438D-96A3-A65DC2B4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F911-BA18-44E8-92BE-9AE22CB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F41-2193-4B03-9285-EBEF414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60E-E83F-4887-B5BC-1EA21BA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C4F-3F3E-4BE7-96F6-D54355F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B0D-5680-4451-88C4-205CEF7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3DE-CC71-40BC-9BC2-D244339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D49-7EEA-49C1-930B-46AC9B6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BBD-4C46-4DFB-8214-ABC1460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C48-81D9-4E9C-BCB2-5CE1C67B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292-44D5-418D-A5A9-CDFC7D0C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F0D-45E6-4C1C-B4A9-B06CE6B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BF5-5DF8-4F6D-8041-850229F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2B0-C8F6-4F41-9D85-549B9B8F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2C0-FD39-4042-8AE0-9C31CC8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FA6-31A1-4125-9B80-EEBC7E7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FFE-3AE9-44AD-A9EF-ECB1BA4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C71-4077-4880-89E9-E0BDA63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3B3-7E0F-4DEC-9E1C-27CA2109DA5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3C0-71A5-4FA3-B6DC-68FF66C0DE7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. Ishfaq Bukhari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6734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ember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ember 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34920" y="44280"/>
            <a:ext cx="9002880" cy="4826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79280" y="59389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0"/>
            <a:ext cx="8929800" cy="486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5229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9640" y="1484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-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equally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breakdown of clo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irculating plasminogen and other plasma proteins thus cause an unwanted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lasminogen-streptokinase comple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activator comple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 is non-fibrin specif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73320" y="159696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430848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53368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40360" y="3324240"/>
            <a:ext cx="410508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23115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acylated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lasminogen combined with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13840"/>
            <a:ext cx="8678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 - P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tissue plasminogen activators (t 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fibrin in a thrombus and converts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-antigenic (Can be used in patients with antistreptococcal antibod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700" spc="-1" strike="noStrike">
                <a:solidFill>
                  <a:srgbClr val="e70000"/>
                </a:solidFill>
                <a:latin typeface="Arial"/>
              </a:rPr>
              <a:t>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0" lang="en-US" sz="2700" spc="-1" strike="noStrike">
                <a:solidFill>
                  <a:srgbClr val="e70000"/>
                </a:solidFill>
                <a:latin typeface="Arial"/>
              </a:rPr>
              <a:t>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(TNK-tP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77300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rapi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vessel by accelerating proteolysis 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f ventricular function; reduction of the incidence of congestive heart failure and the reduction of mortality following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6-03-23T05:41:08Z</dcterms:modified>
  <cp:revision>119</cp:revision>
  <dc:subject/>
  <dc:title>THROMBOLYTIC DRUGS</dc:title>
</cp:coreProperties>
</file>