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CCCB-AB0E-4204-833D-FE4690C41753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F20F-AE23-4547-86A2-2DAEE52B06D1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4902-0381-49FB-BE91-2BC7C73BB915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EEB6-83CD-4BE6-AADA-81F639F7EE3B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8569-6C5B-498E-A8B8-B393E09A11EB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01B6-8B91-46B6-866D-5C27975F3A0B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CA14-5F05-4682-80B5-B1B0E0A11E2F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D996-200F-4245-8F2E-9346954FAA53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7BE6-B369-4066-8D1B-607BA0B80D6F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2ED8-67A5-4057-B927-5C01DFA4F686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8F78-BF9C-49A1-9DAC-578348061AAC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6F41-5C31-4494-8DEE-25344A8B4426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BF60-CA91-4DBC-9679-8425C2599C14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26FD-030F-4ABA-868D-DDCD8E6F8A10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F61E-926F-41F4-98A3-5B538A5067D2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979F-6E8A-470A-9D51-8C8D7C42CCE3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D67F-2444-495D-BC9B-1A889DFD1F7C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BC42-B5A0-4431-A8F2-AB5DFD3DFC58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646E-95EF-4C57-A00C-388EE2F37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12B1-290E-489E-8114-6F27E865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3895-F3C1-448B-B25A-AE53CFD92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5A00-874D-4CE6-B88B-9D4B738A5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352D-204A-4F7E-A4A0-6328284C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4451-1624-4641-9242-A91AA40E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88C9-B3D3-4CC1-8868-8630206A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0B5C-3A5C-4BD6-90E0-C5FBBC51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4349-C91A-4FEF-A69D-20D7F85D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2901-B168-420E-B28F-253F3ECD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1524-EDCC-4627-9363-246E80C9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CB75-993F-430D-9570-8722B35B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CD93-8537-4587-906F-8EE1EB1CFA49}" type="slidenum">
              <a:rPr b="0" lang="ar-SA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n-US" sz="4800" spc="-1" strike="noStrike">
                <a:solidFill>
                  <a:srgbClr val="c00000"/>
                </a:solidFill>
                <a:latin typeface="Times New Roman"/>
                <a:ea typeface="Arial"/>
              </a:rPr>
              <a:t>-</a:t>
            </a:r>
            <a:r>
              <a:rPr b="1" i="1" lang="en-US" sz="4400" spc="-1" strike="noStrike">
                <a:solidFill>
                  <a:srgbClr val="c00000"/>
                </a:solidFill>
                <a:latin typeface="Monotype Corsiva"/>
                <a:ea typeface="Arial"/>
              </a:rPr>
              <a:t> Adrenoceptors block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2971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erlin Sans FB"/>
                <a:ea typeface="Times New Roman (Arabic)"/>
              </a:rPr>
              <a:t>Prof. Hanan Hag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erlin Sans FB"/>
                <a:ea typeface="Times New Roman (Arabic)"/>
              </a:rPr>
              <a:t>Pharmacology Un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erlin Sans FB"/>
                <a:ea typeface="Times New Roman (Arabic)"/>
              </a:rPr>
              <a:t>College of Medic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0000"/>
                </a:solidFill>
                <a:uFillTx/>
                <a:latin typeface="Monotype Corsiva"/>
                <a:ea typeface="Times New Roman"/>
              </a:rPr>
              <a:t>Pharmacological actions of </a:t>
            </a:r>
            <a:r>
              <a:rPr b="1" i="1" lang="en-US" sz="3600" spc="-1" strike="noStrike" u="sng">
                <a:solidFill>
                  <a:srgbClr val="cc0000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Monotype Corsiva"/>
                <a:ea typeface="Times New Roman"/>
              </a:rPr>
              <a:t>–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Monotype Corsiva"/>
                <a:ea typeface="Arial"/>
              </a:rPr>
              <a:t>Adrenergic blocker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"/>
              </a:rPr>
              <a:t>Metabolic effec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Arial"/>
              </a:rPr>
              <a:t>Hypoglycem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glycogenolysis in liv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glucagon secretion in panc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lipolysis in adipocy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retention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 Narrow"/>
              </a:rPr>
              <a:t>ndry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to </a:t>
            </a:r>
            <a:r>
              <a:rPr b="1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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BP </a:t>
            </a:r>
            <a:r>
              <a:rPr b="1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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nal perfu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All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–Adrenergic blockers mask hypoglycemic manifestations in diabetic patients </a:t>
            </a:r>
            <a:r>
              <a:rPr b="1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Arial"/>
              </a:rPr>
              <a:t>C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52280" y="151920"/>
            <a:ext cx="883944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0000"/>
                </a:solidFill>
                <a:uFillTx/>
                <a:latin typeface="Monotype Corsiva"/>
                <a:ea typeface="Arial"/>
              </a:rPr>
              <a:t>Clinical Uses of </a:t>
            </a:r>
            <a:r>
              <a:rPr b="1" i="1" lang="en-US" sz="3600" spc="-1" strike="noStrike" u="sng">
                <a:solidFill>
                  <a:srgbClr val="cc0000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Monotype Corsiva"/>
                <a:ea typeface="Arial"/>
              </a:rPr>
              <a:t>–receptor  block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Cardiovascular disor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perten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rhythm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gina pector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yocardial infar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gestive heart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Pheochromocyt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Chronic glauc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Hyperthyroidism (thyrotoxicos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Migraine prophylax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Anxi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52280" y="15228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0000"/>
                </a:solidFill>
                <a:uFillTx/>
                <a:latin typeface="Monotype Corsiva"/>
                <a:ea typeface="Arial"/>
              </a:rPr>
              <a:t>Clinical Uses of </a:t>
            </a:r>
            <a:r>
              <a:rPr b="1" i="1" lang="en-US" sz="3600" spc="-1" strike="noStrike" u="sng">
                <a:solidFill>
                  <a:srgbClr val="cc0000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Monotype Corsiva"/>
                <a:ea typeface="Arial"/>
              </a:rPr>
              <a:t>–receptor  block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imes New Roman"/>
              </a:rPr>
              <a:t>In Hypertension</a:t>
            </a:r>
            <a:r>
              <a:rPr b="1" lang="en-US" sz="3000" spc="-1" strike="noStrike">
                <a:solidFill>
                  <a:srgbClr val="003399"/>
                </a:solidFill>
                <a:latin typeface="Times New Roman"/>
              </a:rPr>
              <a:t>: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ts val="25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opranolol, atenolol, bisoprol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ts val="25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Labetalol: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blocker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ts val="25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 hypertensive pregnant &amp; hypertensive crisi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ts val="25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imes New Roman"/>
              </a:rPr>
              <a:t>In cardiac arrhythmia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 supraventricular &amp; ventricular arrhythmias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isoprolol and carvedilol are preferred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ts val="25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imes New Roman"/>
              </a:rPr>
              <a:t>Angina pectori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heart rate,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cardiac work &amp; oxygen deman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 frequency of angina episod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76320" y="685800"/>
            <a:ext cx="89913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Congestive heart failu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e.g. carvedilol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8a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a3e"/>
                </a:solidFill>
                <a:latin typeface="Times New Roman"/>
              </a:rPr>
              <a:t>antioxidan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non selective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B block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ocardial remodeling &amp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isk of sudden death.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Myocardial infar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Narrow"/>
              </a:rPr>
              <a:t>Have cardio-protective effec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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arct si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 3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bidity &amp; mortality </a:t>
            </a:r>
            <a:r>
              <a:rPr b="0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ocardial O2 dema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i-arrhythmic 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idence of sudden deat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-883800" y="152280"/>
            <a:ext cx="8343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00000"/>
                </a:solidFill>
                <a:uFillTx/>
                <a:latin typeface="Monotype Corsiva"/>
                <a:ea typeface="Arial"/>
              </a:rPr>
              <a:t>Clinical Uses of </a:t>
            </a:r>
            <a:r>
              <a:rPr b="1" i="1" lang="en-US" sz="3600" spc="-1" strike="noStrike" u="sng">
                <a:solidFill>
                  <a:srgbClr val="c00000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3600" spc="-1" strike="noStrike" u="sng">
                <a:solidFill>
                  <a:srgbClr val="c00000"/>
                </a:solidFill>
                <a:uFillTx/>
                <a:latin typeface="Monotype Corsiva"/>
                <a:ea typeface="Arial"/>
              </a:rPr>
              <a:t>–receptor  block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76320" y="152280"/>
            <a:ext cx="899136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Arial"/>
              </a:rPr>
              <a:t>In glauc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  <a:ea typeface="Arial"/>
              </a:rPr>
              <a:t>e.g.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Timolol as eye dro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Arial"/>
              </a:rPr>
              <a:t>In Hyperthyroid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rotect the heart against sympathetic over stimu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ontrols symptoms; tachycardia, tremors, sweat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Arial"/>
              </a:rPr>
              <a:t>In anxiety (Social and performance typ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.g. Propranol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ontrols symptoms; tachycardia, tremors, sweat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75960" y="75960"/>
            <a:ext cx="88390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Arial"/>
              </a:rPr>
              <a:t>Migrain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rophylac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 3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reduce episodes of chronic migrai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 3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catecholamine-induced vasodilatation in the brain vasculatu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"/>
              </a:rPr>
              <a:t>e.g. propranol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Arial"/>
              </a:rPr>
              <a:t>Pheochromocyt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used with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-blockers 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"/>
              </a:rPr>
              <a:t>(never al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-blockers lower the elevated blood press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-blockers protect the heart from 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34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Monotype Corsiva"/>
                <a:ea typeface="Arial"/>
              </a:rPr>
              <a:t>Adverse Effects of </a:t>
            </a:r>
            <a:r>
              <a:rPr b="1" i="1" lang="en-US" sz="36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Arial"/>
              </a:rPr>
              <a:t>-</a:t>
            </a:r>
            <a:r>
              <a:rPr b="1" i="1" lang="en-US" sz="3600" spc="-1" strike="noStrike">
                <a:solidFill>
                  <a:srgbClr val="c00000"/>
                </a:solidFill>
                <a:latin typeface="Monotype Corsiva"/>
                <a:ea typeface="Arial"/>
              </a:rPr>
              <a:t> Adrenoceptors block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6320" y="685800"/>
            <a:ext cx="89913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Due to blockade of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1- receptor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radycardia, hypotension, heart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Due to blockade of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2- recep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only with non-selective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 block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Hypoglycem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ronchoconstriction (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#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Asthma, emphysem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old extremities &amp; intermittent claudication 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y vasoconstri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rectile dysfunction &amp; impot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G hyertriglycerid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oronary spasm 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in variant angina pati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All </a:t>
            </a:r>
            <a:r>
              <a:rPr b="1" lang="en-US" sz="28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–Adrenergic blocker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ask hypoglycemic manifestations i.e. tachycardia, sweating,… 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CO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34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Monotype Corsiva"/>
                <a:ea typeface="Arial"/>
              </a:rPr>
              <a:t>Adverse Effects of </a:t>
            </a:r>
            <a:r>
              <a:rPr b="1" i="1" lang="en-US" sz="36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Arial"/>
              </a:rPr>
              <a:t>-</a:t>
            </a:r>
            <a:r>
              <a:rPr b="1" i="1" lang="en-US" sz="3600" spc="-1" strike="noStrike">
                <a:solidFill>
                  <a:srgbClr val="c00000"/>
                </a:solidFill>
                <a:latin typeface="Monotype Corsiva"/>
                <a:ea typeface="Arial"/>
              </a:rPr>
              <a:t> Adrenoceptors block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6320" y="685800"/>
            <a:ext cx="89913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epression, and hallucina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Gastrointestinal disturban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odium ret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00c0"/>
                </a:solidFill>
                <a:latin typeface="Arial Narrow"/>
              </a:rPr>
              <a:t>Preca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00c0"/>
                </a:solidFill>
                <a:latin typeface="Arial Narrow"/>
              </a:rPr>
              <a:t>Sudden stoppage will give rise to a withdrawal syndrom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bound angina, arrhythmia, myocardial infarction &amp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ypertension </a:t>
            </a:r>
            <a:r>
              <a:rPr b="1" lang="en-US" sz="2800" spc="-1" strike="noStrike">
                <a:solidFill>
                  <a:srgbClr val="4e00c0"/>
                </a:solidFill>
                <a:latin typeface="Arial Narrow"/>
              </a:rPr>
              <a:t>WHY ? 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Narrow"/>
              </a:rPr>
              <a:t>Up-regulation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Narrow"/>
              </a:rPr>
              <a:t>-recep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o prevent withdrawal manifestations 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drug withdrawn gradual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52280" y="914400"/>
            <a:ext cx="883944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Heart Block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(beta blockers can precipitate heart block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Bronchial Asthma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(safer with cardio-selectiv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-blocker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Peripheral vascular diseas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(safer with cardio-selectiv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-blocker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Diabetic patients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Masking of hypoglycaemia / 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</a:rPr>
              <a:t>GIVEN CAUSIOUS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ypoten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lone in pheochromocytoma (must be given with a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-blocker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34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Monotype Corsiva"/>
                <a:ea typeface="Arial"/>
              </a:rPr>
              <a:t>Contraindications of </a:t>
            </a:r>
            <a:r>
              <a:rPr b="1" i="1" lang="en-US" sz="36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Arial"/>
              </a:rPr>
              <a:t>-</a:t>
            </a:r>
            <a:r>
              <a:rPr b="1" i="1" lang="en-US" sz="3600" spc="-1" strike="noStrike">
                <a:solidFill>
                  <a:srgbClr val="c00000"/>
                </a:solidFill>
                <a:latin typeface="Monotype Corsiva"/>
                <a:ea typeface="Arial"/>
              </a:rPr>
              <a:t> Adrenoceptors block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6"/>
          <p:cNvSpPr/>
          <p:nvPr/>
        </p:nvSpPr>
        <p:spPr>
          <a:xfrm>
            <a:off x="0" y="0"/>
            <a:ext cx="2482920" cy="429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  <a:effectLst>
            <a:outerShdw dist="50841" dir="2992965" blurRad="0" rotWithShape="0">
              <a:srgbClr val="cc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PROPRANOL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Box 38"/>
          <p:cNvSpPr/>
          <p:nvPr/>
        </p:nvSpPr>
        <p:spPr>
          <a:xfrm>
            <a:off x="0" y="1828800"/>
            <a:ext cx="1071720" cy="764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Bernard MT Condensed"/>
              </a:rPr>
              <a:t>Kinetic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Rectangle 40"/>
          <p:cNvSpPr/>
          <p:nvPr/>
        </p:nvSpPr>
        <p:spPr>
          <a:xfrm>
            <a:off x="0" y="609480"/>
            <a:ext cx="8858160" cy="13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on-Selective Competitive Blocker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of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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 &amp;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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embrane stabilizing action/ quinidine-like /local anesthetic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dative actions /No I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41"/>
          <p:cNvSpPr/>
          <p:nvPr/>
        </p:nvSpPr>
        <p:spPr>
          <a:xfrm>
            <a:off x="0" y="2286000"/>
            <a:ext cx="911700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Lipophilic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, completely absorbed, 70% destroyed during 1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pass hepatic metabolism, 90-95% protein bound, cross BBB and excreted in urin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an be given p.o or parenter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Box 43"/>
          <p:cNvSpPr/>
          <p:nvPr/>
        </p:nvSpPr>
        <p:spPr>
          <a:xfrm>
            <a:off x="152280" y="3657600"/>
            <a:ext cx="1285920" cy="76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4e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Bernard MT Condensed"/>
              </a:rPr>
              <a:t>Dynamic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20"/>
          <p:cNvSpPr/>
          <p:nvPr/>
        </p:nvSpPr>
        <p:spPr>
          <a:xfrm>
            <a:off x="6019920" y="152280"/>
            <a:ext cx="29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s the chosen as  proto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21"/>
          <p:cNvSpPr/>
          <p:nvPr/>
        </p:nvSpPr>
        <p:spPr>
          <a:xfrm>
            <a:off x="152280" y="4233960"/>
            <a:ext cx="89154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c00000"/>
                </a:solidFill>
                <a:latin typeface="Arial Narrow"/>
              </a:rPr>
              <a:t>-blocking Effect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Narrow"/>
              </a:rPr>
              <a:t>Membrane Stabilization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 Block Na channels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direct depressant 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yocardium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has local anesthetic effect 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(anti-arrhythmic effect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Narrow"/>
              </a:rPr>
              <a:t>CNS Effect:</a:t>
            </a:r>
            <a:r>
              <a:rPr b="1" lang="en-US" sz="2400" spc="-1" strike="noStrike">
                <a:solidFill>
                  <a:srgbClr val="008000"/>
                </a:solidFill>
                <a:latin typeface="Arial Narrow"/>
              </a:rPr>
              <a:t> Has sedative action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tremors &amp; anxiety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used to protect against social anxiety performance anxie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34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Monotype Corsiva"/>
                <a:ea typeface="Arial"/>
              </a:rPr>
              <a:t>Classification of </a:t>
            </a:r>
            <a:r>
              <a:rPr b="1" i="1" lang="en-US" sz="36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i="1" lang="en-US" sz="3600" spc="-1" strike="noStrike">
                <a:solidFill>
                  <a:srgbClr val="c00000"/>
                </a:solidFill>
                <a:latin typeface="Monotype Corsiva"/>
                <a:ea typeface="Arial"/>
              </a:rPr>
              <a:t>- Adrenoceptors Block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266720" y="1143000"/>
            <a:ext cx="44960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n selective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Antagon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locks </a:t>
            </a:r>
            <a:r>
              <a:rPr b="1" lang="en-US" sz="28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&amp; </a:t>
            </a:r>
            <a:r>
              <a:rPr b="1" lang="en-US" sz="28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 recep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ran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l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ta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o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im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lo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152280" y="1143000"/>
            <a:ext cx="4038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lective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 antagon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Aten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Arial"/>
              </a:rPr>
              <a:t>olol,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Bisopr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Arial"/>
              </a:rPr>
              <a:t>ol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Esm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Arial"/>
              </a:rPr>
              <a:t>olol,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Metopr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Arial"/>
              </a:rPr>
              <a:t>ol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981080" y="3962520"/>
            <a:ext cx="48006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Monotype Corsiva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Mixed </a:t>
            </a:r>
            <a:r>
              <a:rPr b="1" lang="el-GR" sz="2800" spc="-1" strike="noStrike">
                <a:solidFill>
                  <a:srgbClr val="0000ff"/>
                </a:solidFill>
                <a:latin typeface="Times New Roman"/>
              </a:rPr>
              <a:t>α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receptors bloc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rvedil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betal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6"/>
          <p:cNvSpPr/>
          <p:nvPr/>
        </p:nvSpPr>
        <p:spPr>
          <a:xfrm>
            <a:off x="0" y="0"/>
            <a:ext cx="2625840" cy="429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  <a:effectLst>
            <a:outerShdw dist="50841" dir="2992965" blurRad="0" rotWithShape="0">
              <a:srgbClr val="cc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PROPRANOL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Rectangle 42"/>
          <p:cNvSpPr/>
          <p:nvPr/>
        </p:nvSpPr>
        <p:spPr>
          <a:xfrm>
            <a:off x="357120" y="4530600"/>
            <a:ext cx="88581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Box 43"/>
          <p:cNvSpPr/>
          <p:nvPr/>
        </p:nvSpPr>
        <p:spPr>
          <a:xfrm>
            <a:off x="0" y="457200"/>
            <a:ext cx="12859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4e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ernard MT Condensed"/>
              </a:rPr>
              <a:t>Ac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8"/>
          <p:cNvSpPr/>
          <p:nvPr/>
        </p:nvSpPr>
        <p:spPr>
          <a:xfrm>
            <a:off x="0" y="914400"/>
            <a:ext cx="8858160" cy="22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Heart;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y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block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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hibit heart properties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 cardiac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as anti -ischemic action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 cardiac work + </a:t>
            </a:r>
            <a:r>
              <a:rPr b="1" lang="en-US" sz="2400" spc="-1" strike="noStrike">
                <a:solidFill>
                  <a:srgbClr val="cc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 O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 consum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as anti-arrhythmic effects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excitability, automaticity &amp; conductivity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+ </a:t>
            </a:r>
            <a:r>
              <a:rPr b="1" lang="en-US" sz="2400" spc="-1" strike="noStrike">
                <a:solidFill>
                  <a:srgbClr val="4e00c0"/>
                </a:solidFill>
                <a:latin typeface="Arial Narrow"/>
              </a:rPr>
              <a:t>by membrane stabilizing a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21"/>
          <p:cNvSpPr/>
          <p:nvPr/>
        </p:nvSpPr>
        <p:spPr>
          <a:xfrm>
            <a:off x="0" y="3352680"/>
            <a:ext cx="8858160" cy="27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BP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; by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block 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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 &amp;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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as antihypertensive action by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hibiting heart properties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 cardiac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 blockade : </a:t>
            </a:r>
            <a:r>
              <a:rPr b="1" lang="en-US" sz="2400" spc="-1" strike="noStrike">
                <a:solidFill>
                  <a:srgbClr val="cc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 renin &amp; RASS syste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esynaptic inhibition of NE release from adrenergic ner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hibiting sympathetic outflow in C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7"/>
          <p:cNvSpPr/>
          <p:nvPr/>
        </p:nvSpPr>
        <p:spPr>
          <a:xfrm>
            <a:off x="228600" y="2143080"/>
            <a:ext cx="6143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Bronchi: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by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block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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ronchospasm specially in susceptible pati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241200" y="3000240"/>
            <a:ext cx="53578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Intestine: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y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block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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estinal mo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0" y="0"/>
            <a:ext cx="2482920" cy="429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  <a:effectLst>
            <a:outerShdw dist="50841" dir="2992965" blurRad="0" rotWithShape="0">
              <a:srgbClr val="cc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PROPRANOL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285840" y="3857760"/>
            <a:ext cx="885816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Metabolism: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y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block mainly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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 liver; </a:t>
            </a:r>
            <a:r>
              <a:rPr b="1" lang="en-US" sz="2400" spc="-1" strike="noStrike">
                <a:solidFill>
                  <a:srgbClr val="cc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 Glycogenolysis </a:t>
            </a:r>
            <a:r>
              <a:rPr b="1" lang="en-US" sz="2400" spc="-1" strike="noStrike">
                <a:solidFill>
                  <a:srgbClr val="cc0000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 Hypoglycaem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 pancreas; </a:t>
            </a:r>
            <a:r>
              <a:rPr b="1" lang="en-US" sz="2400" spc="-1" strike="noStrike">
                <a:solidFill>
                  <a:srgbClr val="cc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 Glucagon secre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 adipocytes; </a:t>
            </a:r>
            <a:r>
              <a:rPr b="1" lang="en-US" sz="2400" spc="-1" strike="noStrike">
                <a:solidFill>
                  <a:srgbClr val="cc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 Lipolysi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 skeletal muscles; </a:t>
            </a:r>
            <a:r>
              <a:rPr b="1" lang="en-US" sz="2400" spc="-1" strike="noStrike">
                <a:solidFill>
                  <a:srgbClr val="cc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glyco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285840" y="5661000"/>
            <a:ext cx="8858160" cy="10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On peripheral &amp; central nervous syste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00c0"/>
                </a:solidFill>
                <a:latin typeface="Arial Narrow"/>
              </a:rPr>
              <a:t>Has local anesthetic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0066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 Narrow"/>
              </a:rPr>
              <a:t>tremors &amp; </a:t>
            </a:r>
            <a:r>
              <a:rPr b="1" lang="en-US" sz="2400" spc="-1" strike="noStrike">
                <a:solidFill>
                  <a:srgbClr val="0066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006600"/>
                </a:solidFill>
                <a:latin typeface="Arial Narrow"/>
              </a:rPr>
              <a:t> anxiet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Box 16"/>
          <p:cNvSpPr/>
          <p:nvPr/>
        </p:nvSpPr>
        <p:spPr>
          <a:xfrm>
            <a:off x="285840" y="609480"/>
            <a:ext cx="12859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4e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ernard MT Condensed"/>
              </a:rPr>
              <a:t>Ac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17"/>
          <p:cNvSpPr/>
          <p:nvPr/>
        </p:nvSpPr>
        <p:spPr>
          <a:xfrm>
            <a:off x="1631520" y="67320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214200" y="1143000"/>
            <a:ext cx="8858520" cy="10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Blood Vessels [BV];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by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block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asoconstriction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blood flow specially to muscles, other organs except brain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cold extremiti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0"/>
          <p:cNvSpPr/>
          <p:nvPr/>
        </p:nvSpPr>
        <p:spPr>
          <a:xfrm>
            <a:off x="76320" y="103320"/>
            <a:ext cx="2482560" cy="429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  <a:effectLst>
            <a:outerShdw dist="50841" dir="2992965" blurRad="0" rotWithShape="0">
              <a:srgbClr val="cc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PROPRANOL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Box 13"/>
          <p:cNvSpPr/>
          <p:nvPr/>
        </p:nvSpPr>
        <p:spPr>
          <a:xfrm>
            <a:off x="152280" y="685800"/>
            <a:ext cx="1500480" cy="76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4e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Bernard MT Condensed"/>
              </a:rPr>
              <a:t>INDICATION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15"/>
          <p:cNvSpPr/>
          <p:nvPr/>
        </p:nvSpPr>
        <p:spPr>
          <a:xfrm>
            <a:off x="285840" y="1547640"/>
            <a:ext cx="8858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4e00c0"/>
                </a:solidFill>
                <a:latin typeface="Arial Narrow"/>
              </a:rPr>
              <a:t>Hyper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4e00c0"/>
                </a:solidFill>
                <a:latin typeface="Arial Narrow"/>
              </a:rPr>
              <a:t>Arrhythmi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4e00c0"/>
                </a:solidFill>
                <a:latin typeface="Arial Narrow"/>
              </a:rPr>
              <a:t>Angi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e00c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4e00c0"/>
                </a:solidFill>
                <a:latin typeface="Arial Narrow"/>
              </a:rPr>
              <a:t>Myocardial infarc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00c0"/>
                </a:solidFill>
                <a:latin typeface="Arial Narrow"/>
              </a:rPr>
              <a:t>Migraine [</a:t>
            </a:r>
            <a:r>
              <a:rPr b="1" i="1" lang="en-US" sz="2200" spc="-1" strike="noStrike">
                <a:solidFill>
                  <a:srgbClr val="000000"/>
                </a:solidFill>
                <a:latin typeface="Arial Narrow"/>
              </a:rPr>
              <a:t>Prophylaxis</a:t>
            </a:r>
            <a:r>
              <a:rPr b="1" lang="en-US" sz="2400" spc="-1" strike="noStrike">
                <a:solidFill>
                  <a:srgbClr val="4e00c0"/>
                </a:solidFill>
                <a:latin typeface="Arial Narro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00c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4e00c0"/>
                </a:solidFill>
                <a:latin typeface="Arial Narrow"/>
              </a:rPr>
              <a:t>Pheochromocytoma;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used with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-blockers (never alo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00c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4e00c0"/>
                </a:solidFill>
                <a:latin typeface="Arial Narrow"/>
              </a:rPr>
              <a:t>Chronic glauco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00c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4e00c0"/>
                </a:solidFill>
                <a:latin typeface="Arial Narrow"/>
              </a:rPr>
              <a:t>Tremo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00c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4e00c0"/>
                </a:solidFill>
                <a:latin typeface="Arial Narrow"/>
              </a:rPr>
              <a:t>Anxiety; </a:t>
            </a:r>
            <a:r>
              <a:rPr b="1" i="1" lang="en-US" sz="2200" spc="-1" strike="noStrike">
                <a:solidFill>
                  <a:srgbClr val="000000"/>
                </a:solidFill>
                <a:latin typeface="Arial Narrow"/>
              </a:rPr>
              <a:t>(specially social &amp; performance type)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4e00c0"/>
                </a:solidFill>
                <a:latin typeface="Arial Narrow"/>
              </a:rPr>
              <a:t>Hyperthyroid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1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1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10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10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100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46160" y="76320"/>
            <a:ext cx="1911240" cy="429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  <a:effectLst>
            <a:outerShdw dist="50841" dir="2992965" blurRad="0" rotWithShape="0">
              <a:srgbClr val="cc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LABETAL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3657600"/>
            <a:ext cx="2428920" cy="4597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  <a:effectLst>
            <a:outerShdw dist="50841" dir="2992965" blurRad="0" rotWithShape="0">
              <a:srgbClr val="cc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RVEDIL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152280" y="463680"/>
            <a:ext cx="863460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Blocks 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 Narrow"/>
              </a:rPr>
              <a:t>1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 &amp;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apid acting, non-selective with ISA &amp; local anesthetic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o not alter serum lipids or blood gluc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Used in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given p.o and i.v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re hypertension in pheochromocytom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ypertensive crisis (e.g. during abrupt withdrawal of clonidin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Used in pregnancy-induced hyper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ADR;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Orthostatic hypotension, sedation &amp; dizziness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0" y="4114800"/>
            <a:ext cx="878688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Blocks 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 Narrow"/>
              </a:rPr>
              <a:t>1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 &amp;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on-selective with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no ISA &amp; no local anesthetic effect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as 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ANTIOXIDANT 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avorable metabolic profi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Used effective in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CONGESTIVE HEART FAILURE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reverses its  pathophysiological chang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ADR;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d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334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elective </a:t>
            </a:r>
            <a:r>
              <a:rPr b="1" i="1" lang="en-US" sz="32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receptor bloc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electivity present in low doses but is lost at high do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o change in lipid or gluco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o bronchoconstri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are preferable in pat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With asthma, COP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aynaud's phenomenon &amp; PV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iabetics/ Dyslipidemia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ariant Angina (coronary spas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3"/>
          <p:cNvSpPr/>
          <p:nvPr/>
        </p:nvSpPr>
        <p:spPr>
          <a:xfrm>
            <a:off x="76320" y="228600"/>
            <a:ext cx="8991360" cy="69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Bernard MT Condensed"/>
              </a:rPr>
              <a:t>Summary of B-blockers u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5100c8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100c8"/>
                </a:solidFill>
                <a:latin typeface="Bernard MT Condensed"/>
              </a:rPr>
              <a:t>Hypertension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tenolol, Bisoprolol &gt; Metoprolol, Propranol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5100c8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100c8"/>
                </a:solidFill>
                <a:latin typeface="Bernard MT Condensed"/>
              </a:rPr>
              <a:t> </a:t>
            </a:r>
            <a:r>
              <a:rPr b="0" lang="en-US" sz="2600" spc="-1" strike="noStrike">
                <a:solidFill>
                  <a:srgbClr val="5100c8"/>
                </a:solidFill>
                <a:latin typeface="Bernard MT Condensed"/>
              </a:rPr>
              <a:t>cardiac arrhythmia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smolol (ultra-short acting), Atenolol, Propranolo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5100c8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100c8"/>
                </a:solidFill>
                <a:latin typeface="Bernard MT Condensed"/>
              </a:rPr>
              <a:t> </a:t>
            </a:r>
            <a:r>
              <a:rPr b="0" lang="en-US" sz="2600" spc="-1" strike="noStrike">
                <a:solidFill>
                  <a:srgbClr val="5100c8"/>
                </a:solidFill>
                <a:latin typeface="Bernard MT Condensed"/>
              </a:rPr>
              <a:t>Congestive heart failure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rvedilol, Bisoprolol, Metoprol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5100c8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100c8"/>
                </a:solidFill>
                <a:latin typeface="Bernard MT Condensed"/>
              </a:rPr>
              <a:t> </a:t>
            </a:r>
            <a:r>
              <a:rPr b="0" lang="en-US" sz="2600" spc="-1" strike="noStrike">
                <a:solidFill>
                  <a:srgbClr val="5100c8"/>
                </a:solidFill>
                <a:latin typeface="Bernard MT Condensed"/>
              </a:rPr>
              <a:t>Myocardial infarction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tenolol, Metoprolol, Propranol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5100c8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100c8"/>
                </a:solidFill>
                <a:latin typeface="Bernard MT Condensed"/>
              </a:rPr>
              <a:t> </a:t>
            </a:r>
            <a:r>
              <a:rPr b="0" lang="en-US" sz="2600" spc="-1" strike="noStrike">
                <a:solidFill>
                  <a:srgbClr val="5100c8"/>
                </a:solidFill>
                <a:latin typeface="Bernard MT Condensed"/>
              </a:rPr>
              <a:t>Glaucoma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imolol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5100c8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100c8"/>
                </a:solidFill>
                <a:latin typeface="Bernard MT Condensed"/>
              </a:rPr>
              <a:t> </a:t>
            </a:r>
            <a:r>
              <a:rPr b="0" lang="en-US" sz="2600" spc="-1" strike="noStrike">
                <a:solidFill>
                  <a:srgbClr val="5100c8"/>
                </a:solidFill>
                <a:latin typeface="Bernard MT Condensed"/>
              </a:rPr>
              <a:t>Migraine prophylaxis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pranolol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5100c8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00c8"/>
                </a:solidFill>
                <a:latin typeface="Bernard MT Condensed"/>
              </a:rPr>
              <a:t> </a:t>
            </a:r>
            <a:r>
              <a:rPr b="0" lang="en-US" sz="2400" spc="-1" strike="noStrike">
                <a:solidFill>
                  <a:srgbClr val="5100c8"/>
                </a:solidFill>
                <a:latin typeface="Bernard MT Condensed"/>
              </a:rPr>
              <a:t>Relief of anxiety (social &amp; performance)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pranolol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5100c8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00c8"/>
                </a:solidFill>
                <a:latin typeface="Bernard MT Condensed"/>
              </a:rPr>
              <a:t> </a:t>
            </a:r>
            <a:r>
              <a:rPr b="0" lang="en-US" sz="2400" spc="-1" strike="noStrike">
                <a:solidFill>
                  <a:srgbClr val="5100c8"/>
                </a:solidFill>
                <a:latin typeface="Bernard MT Condensed"/>
              </a:rPr>
              <a:t>Thyrotoxicosis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pranolol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34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receptor bloc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52280" y="533520"/>
          <a:ext cx="8915400" cy="6218280"/>
        </p:xfrm>
        <a:graphic>
          <a:graphicData uri="http://schemas.openxmlformats.org/drawingml/2006/table">
            <a:tbl>
              <a:tblPr/>
              <a:tblGrid>
                <a:gridCol w="1876680"/>
                <a:gridCol w="1955520"/>
                <a:gridCol w="5083200"/>
              </a:tblGrid>
              <a:tr h="139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pranol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Non sele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Β</a:t>
                      </a:r>
                      <a:r>
                        <a:rPr b="1" lang="en-US" sz="2400" spc="-1" strike="noStrike" baseline="-25000">
                          <a:solidFill>
                            <a:srgbClr val="c00000"/>
                          </a:solidFill>
                          <a:latin typeface="Times New Roman"/>
                        </a:rPr>
                        <a:t>1, </a:t>
                      </a:r>
                      <a:r>
                        <a:rPr b="1" lang="el-GR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β</a:t>
                      </a:r>
                      <a:r>
                        <a:rPr b="1" lang="en-US" sz="2400" spc="-1" strike="noStrike" baseline="-25000">
                          <a:solidFill>
                            <a:srgbClr val="c00000"/>
                          </a:solidFill>
                          <a:latin typeface="Times New Roman"/>
                        </a:rPr>
                        <a:t>2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block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raine prophylax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erthyroidism (thyrotoxicosi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ieve anxiety (social performance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07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ol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Β</a:t>
                      </a:r>
                      <a:r>
                        <a:rPr b="1" lang="en-US" sz="2400" spc="-1" strike="noStrike" baseline="-25000">
                          <a:solidFill>
                            <a:srgbClr val="c00000"/>
                          </a:solidFill>
                          <a:latin typeface="Times New Roman"/>
                        </a:rPr>
                        <a:t>1, </a:t>
                      </a:r>
                      <a:r>
                        <a:rPr b="1" lang="el-GR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β</a:t>
                      </a:r>
                      <a:r>
                        <a:rPr b="1" lang="en-US" sz="2400" spc="-1" strike="noStrike" baseline="-25000">
                          <a:solidFill>
                            <a:srgbClr val="c00000"/>
                          </a:solidFill>
                          <a:latin typeface="Times New Roman"/>
                        </a:rPr>
                        <a:t>2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block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auco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3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enol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soprol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oprol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l-GR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Β</a:t>
                      </a:r>
                      <a:r>
                        <a:rPr b="1" lang="en-US" sz="2400" spc="-1" strike="noStrike" baseline="-25000">
                          <a:solidFill>
                            <a:srgbClr val="c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 block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yocardial infar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erte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31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mol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Β</a:t>
                      </a:r>
                      <a:r>
                        <a:rPr b="1" lang="en-US" sz="2400" spc="-1" strike="noStrike" baseline="-25000">
                          <a:solidFill>
                            <a:srgbClr val="c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 block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Ultra short ac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diac arrhythmi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99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vedil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Non sele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α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, B block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gestive heart fail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betal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α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, B block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ertension in pregnanc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ertensive emergen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8"/>
          <p:cNvSpPr/>
          <p:nvPr/>
        </p:nvSpPr>
        <p:spPr>
          <a:xfrm>
            <a:off x="0" y="5791320"/>
            <a:ext cx="9144000" cy="13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ccording to presence of  membrane stabilizing effects i.e. </a:t>
            </a:r>
            <a:r>
              <a:rPr b="1" lang="en-US" sz="2400" spc="-1" strike="noStrike">
                <a:solidFill>
                  <a:srgbClr val="4e00c0"/>
                </a:solidFill>
                <a:latin typeface="Arial Narrow"/>
              </a:rPr>
              <a:t>Block Na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00c0"/>
                </a:solidFill>
                <a:latin typeface="Arial Narrow"/>
              </a:rPr>
              <a:t>Quinidine-like 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00c0"/>
                </a:solidFill>
                <a:latin typeface="Arial Narrow"/>
              </a:rPr>
              <a:t>Antiarrythmic 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TextBox 31"/>
          <p:cNvSpPr/>
          <p:nvPr/>
        </p:nvSpPr>
        <p:spPr>
          <a:xfrm>
            <a:off x="2320920" y="214200"/>
            <a:ext cx="4502160" cy="94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38073" dir="299918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ADRENOCEPTOR BLOC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" name="Group 15"/>
          <p:cNvGrpSpPr/>
          <p:nvPr/>
        </p:nvGrpSpPr>
        <p:grpSpPr>
          <a:xfrm>
            <a:off x="1000080" y="1649160"/>
            <a:ext cx="7072200" cy="285840"/>
            <a:chOff x="1000080" y="1649160"/>
            <a:chExt cx="7072200" cy="285840"/>
          </a:xfrm>
        </p:grpSpPr>
        <p:sp>
          <p:nvSpPr>
            <p:cNvPr id="57" name="Straight Connector 5"/>
            <p:cNvSpPr/>
            <p:nvPr/>
          </p:nvSpPr>
          <p:spPr>
            <a:xfrm>
              <a:off x="1000080" y="1649520"/>
              <a:ext cx="707220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58" name="Straight Arrow Connector 9"/>
            <p:cNvCxnSpPr/>
            <p:nvPr/>
          </p:nvCxnSpPr>
          <p:spPr>
            <a:xfrm flipH="1">
              <a:off x="1047240" y="1649160"/>
              <a:ext cx="3600" cy="28620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9" name="Straight Arrow Connector 14"/>
            <p:cNvCxnSpPr/>
            <p:nvPr/>
          </p:nvCxnSpPr>
          <p:spPr>
            <a:xfrm flipH="1">
              <a:off x="8016120" y="1649160"/>
              <a:ext cx="5400" cy="28620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60" name="TextBox 33"/>
          <p:cNvSpPr/>
          <p:nvPr/>
        </p:nvSpPr>
        <p:spPr>
          <a:xfrm>
            <a:off x="7143840" y="2008080"/>
            <a:ext cx="1571400" cy="360360"/>
          </a:xfrm>
          <a:prstGeom prst="rect">
            <a:avLst/>
          </a:prstGeom>
          <a:gradFill rotWithShape="0">
            <a:gsLst>
              <a:gs pos="0">
                <a:srgbClr val="ffe161"/>
              </a:gs>
              <a:gs pos="100000">
                <a:srgbClr val="e6e0ec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098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nard MT Condensed"/>
              </a:rPr>
              <a:t>Selec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TextBox 34"/>
          <p:cNvSpPr/>
          <p:nvPr/>
        </p:nvSpPr>
        <p:spPr>
          <a:xfrm>
            <a:off x="428760" y="1928880"/>
            <a:ext cx="1643040" cy="626760"/>
          </a:xfrm>
          <a:prstGeom prst="rect">
            <a:avLst/>
          </a:prstGeom>
          <a:gradFill rotWithShape="0">
            <a:gsLst>
              <a:gs pos="0">
                <a:srgbClr val="ffe161"/>
              </a:gs>
              <a:gs pos="100000">
                <a:srgbClr val="e6e0ec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098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nard MT Condensed"/>
              </a:rPr>
              <a:t>Non-Selec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" name="Group 85"/>
          <p:cNvGrpSpPr/>
          <p:nvPr/>
        </p:nvGrpSpPr>
        <p:grpSpPr>
          <a:xfrm>
            <a:off x="485640" y="2266920"/>
            <a:ext cx="7728120" cy="787320"/>
            <a:chOff x="485640" y="2266920"/>
            <a:chExt cx="7728120" cy="787320"/>
          </a:xfrm>
        </p:grpSpPr>
        <p:sp>
          <p:nvSpPr>
            <p:cNvPr id="63" name="Rectangle 36"/>
            <p:cNvSpPr/>
            <p:nvPr/>
          </p:nvSpPr>
          <p:spPr>
            <a:xfrm>
              <a:off x="485640" y="2266920"/>
              <a:ext cx="14832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Narrow"/>
                </a:rPr>
                <a:t>Block</a:t>
              </a: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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Symbol"/>
                  <a:ea typeface="Symbol"/>
                </a:rPr>
                <a:t>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 Narrow"/>
                </a:rPr>
                <a:t>&amp; </a:t>
              </a: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Rectangle 37"/>
            <p:cNvSpPr/>
            <p:nvPr/>
          </p:nvSpPr>
          <p:spPr>
            <a:xfrm>
              <a:off x="7121880" y="2332440"/>
              <a:ext cx="1091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Narrow"/>
                </a:rPr>
                <a:t>Block</a:t>
              </a: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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Symbol"/>
                  <a:ea typeface="Symbol"/>
                </a:rPr>
                <a:t>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5" name="Group 38"/>
          <p:cNvGrpSpPr/>
          <p:nvPr/>
        </p:nvGrpSpPr>
        <p:grpSpPr>
          <a:xfrm>
            <a:off x="1000080" y="4230720"/>
            <a:ext cx="7072200" cy="286200"/>
            <a:chOff x="1000080" y="4230720"/>
            <a:chExt cx="7072200" cy="286200"/>
          </a:xfrm>
        </p:grpSpPr>
        <p:sp>
          <p:nvSpPr>
            <p:cNvPr id="66" name="Straight Connector 39"/>
            <p:cNvSpPr/>
            <p:nvPr/>
          </p:nvSpPr>
          <p:spPr>
            <a:xfrm>
              <a:off x="1000080" y="4230720"/>
              <a:ext cx="707220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67" name="Straight Arrow Connector 40"/>
            <p:cNvCxnSpPr/>
            <p:nvPr/>
          </p:nvCxnSpPr>
          <p:spPr>
            <a:xfrm flipH="1">
              <a:off x="1047240" y="4230720"/>
              <a:ext cx="3600" cy="2865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8" name="Straight Arrow Connector 41"/>
            <p:cNvCxnSpPr/>
            <p:nvPr/>
          </p:nvCxnSpPr>
          <p:spPr>
            <a:xfrm flipH="1">
              <a:off x="8016120" y="4230720"/>
              <a:ext cx="5400" cy="2865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69" name="TextBox 42"/>
          <p:cNvSpPr/>
          <p:nvPr/>
        </p:nvSpPr>
        <p:spPr>
          <a:xfrm>
            <a:off x="357120" y="2587680"/>
            <a:ext cx="407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opranolol, Sotalol, Timolol (Ey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TextBox 43"/>
          <p:cNvSpPr/>
          <p:nvPr/>
        </p:nvSpPr>
        <p:spPr>
          <a:xfrm>
            <a:off x="4788000" y="2587680"/>
            <a:ext cx="42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tenolol,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Bisoprolol, Metoprolol, Esmol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TextBox 46"/>
          <p:cNvSpPr/>
          <p:nvPr/>
        </p:nvSpPr>
        <p:spPr>
          <a:xfrm>
            <a:off x="500040" y="4491000"/>
            <a:ext cx="1643040" cy="360360"/>
          </a:xfrm>
          <a:prstGeom prst="rect">
            <a:avLst/>
          </a:prstGeom>
          <a:gradFill rotWithShape="0">
            <a:gsLst>
              <a:gs pos="0">
                <a:srgbClr val="ffe161"/>
              </a:gs>
              <a:gs pos="100000">
                <a:srgbClr val="e6e0ec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098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nard MT Condensed"/>
              </a:rPr>
              <a:t>Without I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TextBox 47"/>
          <p:cNvSpPr/>
          <p:nvPr/>
        </p:nvSpPr>
        <p:spPr>
          <a:xfrm>
            <a:off x="6516720" y="4562640"/>
            <a:ext cx="2556000" cy="626760"/>
          </a:xfrm>
          <a:prstGeom prst="rect">
            <a:avLst/>
          </a:prstGeom>
          <a:gradFill rotWithShape="0">
            <a:gsLst>
              <a:gs pos="0">
                <a:srgbClr val="ffe161"/>
              </a:gs>
              <a:gs pos="100000">
                <a:srgbClr val="e6e0ec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098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nard MT Condensed"/>
              </a:rPr>
              <a:t>With ISA (</a:t>
            </a:r>
            <a:r>
              <a:rPr b="0" lang="en-US" sz="1200" spc="-1" strike="noStrike">
                <a:solidFill>
                  <a:srgbClr val="000000"/>
                </a:solidFill>
                <a:latin typeface="Bernard MT Condensed"/>
              </a:rPr>
              <a:t>may activate beta receptor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TextBox 48"/>
          <p:cNvSpPr/>
          <p:nvPr/>
        </p:nvSpPr>
        <p:spPr>
          <a:xfrm>
            <a:off x="6095880" y="488304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Arial Narrow"/>
              </a:rPr>
              <a:t>labetalo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TextBox 49"/>
          <p:cNvSpPr/>
          <p:nvPr/>
        </p:nvSpPr>
        <p:spPr>
          <a:xfrm>
            <a:off x="357120" y="4853160"/>
            <a:ext cx="44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tenolol, Bisoprolol, Metoprol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opranolol, Sotalol, Timolol, carvedilo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Straight Connector 56"/>
          <p:cNvSpPr/>
          <p:nvPr/>
        </p:nvSpPr>
        <p:spPr>
          <a:xfrm>
            <a:off x="0" y="3427560"/>
            <a:ext cx="9144000" cy="1440"/>
          </a:xfrm>
          <a:prstGeom prst="line">
            <a:avLst/>
          </a:prstGeom>
          <a:ln w="57240">
            <a:solidFill>
              <a:srgbClr val="00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TextBox 70"/>
          <p:cNvSpPr/>
          <p:nvPr/>
        </p:nvSpPr>
        <p:spPr>
          <a:xfrm>
            <a:off x="395280" y="2894040"/>
            <a:ext cx="76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Labetalol, Carvedilol (mixed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blockers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Rectangle 75"/>
          <p:cNvSpPr/>
          <p:nvPr/>
        </p:nvSpPr>
        <p:spPr>
          <a:xfrm>
            <a:off x="428760" y="119556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ccording to sel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Rectangle 77"/>
          <p:cNvSpPr/>
          <p:nvPr/>
        </p:nvSpPr>
        <p:spPr>
          <a:xfrm>
            <a:off x="-34920" y="765000"/>
            <a:ext cx="921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e00c0"/>
                </a:solidFill>
                <a:latin typeface="Tahoma"/>
              </a:rPr>
              <a:t>Pharmacodynamic  Classific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TextBox 79"/>
          <p:cNvSpPr/>
          <p:nvPr/>
        </p:nvSpPr>
        <p:spPr>
          <a:xfrm>
            <a:off x="47520" y="6242040"/>
            <a:ext cx="62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opranolol, labetal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Straight Connector 80"/>
          <p:cNvSpPr/>
          <p:nvPr/>
        </p:nvSpPr>
        <p:spPr>
          <a:xfrm>
            <a:off x="0" y="5640480"/>
            <a:ext cx="9144000" cy="1440"/>
          </a:xfrm>
          <a:prstGeom prst="line">
            <a:avLst/>
          </a:prstGeom>
          <a:ln w="57240">
            <a:solidFill>
              <a:srgbClr val="00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TextBox 83"/>
          <p:cNvSpPr/>
          <p:nvPr/>
        </p:nvSpPr>
        <p:spPr>
          <a:xfrm>
            <a:off x="0" y="3141720"/>
            <a:ext cx="357120" cy="459720"/>
          </a:xfrm>
          <a:prstGeom prst="rect">
            <a:avLst/>
          </a:prstGeom>
          <a:solidFill>
            <a:srgbClr val="ccff33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rnard MT Condensed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Rectangle 45"/>
          <p:cNvSpPr/>
          <p:nvPr/>
        </p:nvSpPr>
        <p:spPr>
          <a:xfrm>
            <a:off x="0" y="3516480"/>
            <a:ext cx="91440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ccording to presence of agonistic/antagonistic action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rinsic Sympathomimetic Activity </a:t>
            </a:r>
            <a:r>
              <a:rPr b="0" lang="en-US" sz="2400" spc="-1" strike="noStrike">
                <a:solidFill>
                  <a:srgbClr val="4e00c0"/>
                </a:solidFill>
                <a:latin typeface="Bernard MT Condensed"/>
              </a:rPr>
              <a:t>( ISA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TextBox 84"/>
          <p:cNvSpPr/>
          <p:nvPr/>
        </p:nvSpPr>
        <p:spPr>
          <a:xfrm>
            <a:off x="0" y="5516640"/>
            <a:ext cx="357120" cy="459720"/>
          </a:xfrm>
          <a:prstGeom prst="rect">
            <a:avLst/>
          </a:prstGeom>
          <a:solidFill>
            <a:srgbClr val="ccff33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rnard MT Condensed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Straight Connector 86"/>
          <p:cNvSpPr/>
          <p:nvPr/>
        </p:nvSpPr>
        <p:spPr>
          <a:xfrm>
            <a:off x="71280" y="1266840"/>
            <a:ext cx="9144000" cy="1440"/>
          </a:xfrm>
          <a:prstGeom prst="line">
            <a:avLst/>
          </a:prstGeom>
          <a:ln w="57240">
            <a:solidFill>
              <a:srgbClr val="00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TextBox 82"/>
          <p:cNvSpPr/>
          <p:nvPr/>
        </p:nvSpPr>
        <p:spPr>
          <a:xfrm>
            <a:off x="0" y="1052640"/>
            <a:ext cx="357120" cy="459720"/>
          </a:xfrm>
          <a:prstGeom prst="rect">
            <a:avLst/>
          </a:prstGeom>
          <a:solidFill>
            <a:srgbClr val="ccff33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152280" y="1066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ccording to their lipid solu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7" name="Group 8"/>
          <p:cNvGrpSpPr/>
          <p:nvPr/>
        </p:nvGrpSpPr>
        <p:grpSpPr>
          <a:xfrm>
            <a:off x="1066680" y="1085760"/>
            <a:ext cx="7072560" cy="286200"/>
            <a:chOff x="1066680" y="1085760"/>
            <a:chExt cx="7072560" cy="286200"/>
          </a:xfrm>
        </p:grpSpPr>
        <p:sp>
          <p:nvSpPr>
            <p:cNvPr id="88" name="Straight Connector 9"/>
            <p:cNvSpPr/>
            <p:nvPr/>
          </p:nvSpPr>
          <p:spPr>
            <a:xfrm>
              <a:off x="1066680" y="1085760"/>
              <a:ext cx="707256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89" name="Straight Arrow Connector 10"/>
            <p:cNvCxnSpPr/>
            <p:nvPr/>
          </p:nvCxnSpPr>
          <p:spPr>
            <a:xfrm flipH="1">
              <a:off x="1113840" y="1085760"/>
              <a:ext cx="3600" cy="2865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0" name="Straight Arrow Connector 11"/>
            <p:cNvCxnSpPr/>
            <p:nvPr/>
          </p:nvCxnSpPr>
          <p:spPr>
            <a:xfrm flipH="1">
              <a:off x="8083080" y="1085760"/>
              <a:ext cx="5400" cy="2865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91" name="TextBox 12"/>
          <p:cNvSpPr/>
          <p:nvPr/>
        </p:nvSpPr>
        <p:spPr>
          <a:xfrm>
            <a:off x="7162920" y="1390680"/>
            <a:ext cx="1714320" cy="626760"/>
          </a:xfrm>
          <a:prstGeom prst="rect">
            <a:avLst/>
          </a:prstGeom>
          <a:gradFill rotWithShape="0">
            <a:gsLst>
              <a:gs pos="0">
                <a:srgbClr val="ffe161"/>
              </a:gs>
              <a:gs pos="100000">
                <a:srgbClr val="e6e0ec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098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nard MT Condensed"/>
              </a:rPr>
              <a:t>Hydrophi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533520" y="1467000"/>
            <a:ext cx="1643040" cy="360360"/>
          </a:xfrm>
          <a:prstGeom prst="rect">
            <a:avLst/>
          </a:prstGeom>
          <a:gradFill rotWithShape="0">
            <a:gsLst>
              <a:gs pos="0">
                <a:srgbClr val="ffe161"/>
              </a:gs>
              <a:gs pos="100000">
                <a:srgbClr val="e6e0ec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098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nard MT Condensed"/>
              </a:rPr>
              <a:t>Lipophyl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0" y="636480"/>
            <a:ext cx="921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e00c0"/>
                </a:solidFill>
                <a:latin typeface="Tahoma"/>
              </a:rPr>
              <a:t>Pharmacokinetic Classific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52280" y="2128680"/>
          <a:ext cx="8839440" cy="3662640"/>
        </p:xfrm>
        <a:graphic>
          <a:graphicData uri="http://schemas.openxmlformats.org/drawingml/2006/table">
            <a:tbl>
              <a:tblPr/>
              <a:tblGrid>
                <a:gridCol w="2362320"/>
                <a:gridCol w="2743200"/>
                <a:gridCol w="3733920"/>
              </a:tblGrid>
              <a:tr h="57024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ipophil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ydrophil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22280"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al  absor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re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3720"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ver metabolis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3720"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 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/2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NS side effec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prolo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ranolol, Timolo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betalol , Carvedilol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enolol, Bisprolol, Esmolol Sotalol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 rtl="1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95" name="Rectangle 20"/>
          <p:cNvSpPr/>
          <p:nvPr/>
        </p:nvSpPr>
        <p:spPr>
          <a:xfrm>
            <a:off x="0" y="60278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NS depressant effects i.e. </a:t>
            </a:r>
            <a:r>
              <a:rPr b="1" lang="en-US" sz="2400" spc="-1" strike="noStrike">
                <a:solidFill>
                  <a:srgbClr val="4e00c0"/>
                </a:solidFill>
                <a:latin typeface="Arial Narrow"/>
              </a:rPr>
              <a:t>Sedative effect</a:t>
            </a:r>
            <a:r>
              <a:rPr b="1" lang="en-US" sz="2400" spc="-1" strike="noStrike">
                <a:solidFill>
                  <a:srgbClr val="4e00c0"/>
                </a:solidFill>
                <a:latin typeface="Wingdings 3"/>
                <a:ea typeface="Wingdings 3"/>
              </a:rPr>
              <a:t></a:t>
            </a:r>
            <a:r>
              <a:rPr b="1" lang="en-US" sz="2400" spc="-1" strike="noStrike">
                <a:solidFill>
                  <a:srgbClr val="4e00c0"/>
                </a:solidFill>
                <a:latin typeface="Arial Narrow"/>
              </a:rPr>
              <a:t> Anxie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extBox 22"/>
          <p:cNvSpPr/>
          <p:nvPr/>
        </p:nvSpPr>
        <p:spPr>
          <a:xfrm>
            <a:off x="2320920" y="0"/>
            <a:ext cx="4502160" cy="94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38073" dir="299918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ADRENOCEPTOR BLOC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51920" y="151920"/>
            <a:ext cx="89154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 u="sng">
                <a:solidFill>
                  <a:srgbClr val="cc0000"/>
                </a:solidFill>
                <a:uFillTx/>
                <a:latin typeface="Monotype Corsiva"/>
                <a:ea typeface="Arial"/>
              </a:rPr>
              <a:t>Pharmacokinetis of </a:t>
            </a:r>
            <a:r>
              <a:rPr b="1" i="1" lang="en-US" sz="3300" spc="-1" strike="noStrike" u="sng">
                <a:solidFill>
                  <a:srgbClr val="cc0000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3300" spc="-1" strike="noStrike" u="sng">
                <a:solidFill>
                  <a:srgbClr val="cc0000"/>
                </a:solidFill>
                <a:uFillTx/>
                <a:latin typeface="Monotype Corsiva"/>
                <a:ea typeface="Arial"/>
              </a:rPr>
              <a:t>–blockers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ost of them are lipid solu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Lipid soluble </a:t>
            </a:r>
            <a:r>
              <a:rPr b="1" lang="en-US" sz="28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–block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well absorbed orall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re rapidly distributed, cross readily BBB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Have CNS depressant a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etoprolol, propranolol, timolol, labetalol, carvedilol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ost of them have half-life from 3-10 hrs except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Esmolo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(10 min. given  intravenously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ost of them metabolized in liver &amp; excreted in uri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c0000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Monotype Corsiva"/>
                <a:ea typeface="Times New Roman"/>
              </a:rPr>
              <a:t>–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Monotype Corsiva"/>
                <a:ea typeface="Arial"/>
              </a:rPr>
              <a:t>Adrenergic receptors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(Heart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Increase heart Rate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 Positive chronotropic effec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Increase in contractility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 Positive inotropic ac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Increase in conduction velocity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 Positive dromotropic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β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  <a:ea typeface="Arial"/>
              </a:rPr>
              <a:t>2:</a:t>
            </a:r>
            <a:r>
              <a:rPr b="1" lang="en-US" sz="2800" spc="-1" strike="noStrike" baseline="-25000">
                <a:solidFill>
                  <a:srgbClr val="003399"/>
                </a:solidFill>
                <a:latin typeface="Times New Roman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elaxation of smooth muscl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β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: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glycemi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β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lease of glucagon from panc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β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lycogenolysis &amp; gluconeogenesis in liv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β3 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polysis by adipose tiss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52280" y="152280"/>
            <a:ext cx="883944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0000"/>
                </a:solidFill>
                <a:uFillTx/>
                <a:latin typeface="Monotype Corsiva"/>
                <a:ea typeface="Times New Roman"/>
              </a:rPr>
              <a:t>Pharmacological actions of </a:t>
            </a:r>
            <a:r>
              <a:rPr b="1" i="1" lang="en-US" sz="3600" spc="-1" strike="noStrike" u="sng">
                <a:solidFill>
                  <a:srgbClr val="cc0000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Monotype Corsiva"/>
                <a:ea typeface="Times New Roman"/>
              </a:rPr>
              <a:t>–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Monotype Corsiva"/>
                <a:ea typeface="Arial"/>
              </a:rPr>
              <a:t>Adrenergic blocker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00c0"/>
                </a:solidFill>
                <a:latin typeface="Arial Narrow"/>
              </a:rPr>
              <a:t>CV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egative inotropic, chronotropic, dromotropic 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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00c0"/>
                </a:solidFill>
                <a:latin typeface="Arial Narrow"/>
              </a:rPr>
              <a:t>Antianginal effects (ischemic heart disease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eart rate (bradycardi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rce of contraction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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cardiac work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Oxygen consumption due to bradycardi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00c0"/>
                </a:solidFill>
                <a:latin typeface="Arial Narrow"/>
              </a:rPr>
              <a:t>Anti-arrhythmic effec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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xcitability, 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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automaticity &amp; 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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conductivity (due to its sympathetic blocking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52280" y="1066320"/>
            <a:ext cx="8839440" cy="184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"/>
              </a:rPr>
              <a:t>Blood vessels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3"/>
                <a:ea typeface="Wingdings 3"/>
              </a:rPr>
              <a:t>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ripheral resistance (PR) by blocking vasodilatory effect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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lood flow to organs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cold extrem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contraindicate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 peripheral diseases like </a:t>
            </a: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Reynaud's disea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52280" y="152280"/>
            <a:ext cx="8686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0000"/>
                </a:solidFill>
                <a:uFillTx/>
                <a:latin typeface="Monotype Corsiva"/>
              </a:rPr>
              <a:t>Pharmacological actions of  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Monotype Corsiva"/>
              </a:rPr>
              <a:t>–Adrenergic blockers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Content Placeholder 3"/>
          <p:cNvSpPr/>
          <p:nvPr/>
        </p:nvSpPr>
        <p:spPr>
          <a:xfrm>
            <a:off x="76320" y="3276720"/>
            <a:ext cx="8915400" cy="28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"/>
              </a:rPr>
              <a:t>Blood pres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00c0"/>
                </a:solidFill>
                <a:latin typeface="Arial Narrow"/>
              </a:rPr>
              <a:t>Antihypertensive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BP in hypertensive patients due to effects 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hibiting heart properties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 cardiac output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 Narrow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lockade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renin secretion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Ang II &amp; aldosterone secretion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 Narrow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esynaptic inhibition of NE release from adrenergic ner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imes New Roman"/>
                <a:ea typeface="Arial"/>
              </a:rPr>
              <a:t>Respiratory tract: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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</a:t>
            </a:r>
            <a:r>
              <a:rPr b="1" lang="en-US" sz="3000" spc="-1" strike="noStrike">
                <a:solidFill>
                  <a:srgbClr val="003399"/>
                </a:solidFill>
                <a:latin typeface="Times New Roman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Bronchoconstri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  <a:ea typeface="Arial"/>
              </a:rPr>
              <a:t>contraindicated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in asthmatic patie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imes New Roman"/>
                <a:ea typeface="Arial"/>
              </a:rPr>
              <a:t>Eye</a:t>
            </a:r>
            <a:r>
              <a:rPr b="1" lang="en-US" sz="3000" spc="-1" strike="noStrike">
                <a:solidFill>
                  <a:srgbClr val="003399"/>
                </a:solidFill>
                <a:latin typeface="Times New Roman"/>
                <a:ea typeface="Arial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aqueous humor production from ciliary bod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Reduce intraocular pressure (IOP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  <a:ea typeface="Arial"/>
              </a:rPr>
              <a:t>e.g. timolol as eye dro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imes New Roman"/>
                <a:ea typeface="Arial"/>
              </a:rPr>
              <a:t>Intestin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Wingdings 3"/>
                <a:ea typeface="Wingdings 3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Intestinal mot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228600" y="152280"/>
            <a:ext cx="784872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0000"/>
                </a:solidFill>
                <a:uFillTx/>
                <a:latin typeface="Monotype Corsiva"/>
              </a:rPr>
              <a:t>Pharmacological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Monotype Corsiva"/>
              </a:rPr>
              <a:t>  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Monotype Corsiva"/>
              </a:rPr>
              <a:t>actions of  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Monotype Corsiva"/>
              </a:rPr>
              <a:t>–Adrenergic block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6:20:03Z</dcterms:created>
  <dc:creator>ksu</dc:creator>
  <dc:description/>
  <dc:language>en-US</dc:language>
  <cp:lastModifiedBy>User</cp:lastModifiedBy>
  <dcterms:modified xsi:type="dcterms:W3CDTF">2016-02-24T06:08:00Z</dcterms:modified>
  <cp:revision>519</cp:revision>
  <dc:subject/>
  <dc:title>Noradrenergic Transmission</dc:title>
</cp:coreProperties>
</file>