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64E13-EA45-4E20-8E64-3D8A59D156B0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5D52-4EED-4D49-92A7-12F9112675B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EAD0-1D6D-4958-B4B9-30573C8D9A71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18D2-A66E-49CA-B3C5-2D0607FACD23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5C8C-EE58-4EF1-8D08-EB9C35C6D394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EBA5-9944-4306-9AD4-754DCB668BE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A935-2746-42F5-8CE7-941A65ECD9BB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FB98-AC06-4B39-BEE5-E25D645AD726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472C-4159-44CE-9F59-27A59DCE9131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001F-16AE-47EC-B092-D112AAF0FCE8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B8EA-4C52-4254-9363-1AD71B4E6E10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15A6-F612-4593-B041-75CA9D8BD15A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BBC1-E011-4E43-BD02-CCD06CEBA305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30C-2EAA-4C00-AA84-8253E1105BB0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EE7-668E-4AD6-BFC3-E575E014C62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7B3-5EF5-476D-A644-82709DA71487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4C27-C794-44E9-AD3A-7F5D8E1E1185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743-07C8-49BC-BF73-2705E6154F9A}" type="slidenum">
              <a:rPr b="0" lang="ar-S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063-92A0-41A1-9DB0-9C19D505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F025-87DC-4CD8-B2B0-EFAEC791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FAD-2444-4D2F-B646-6CB9C545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FC7-2596-41DF-AA64-79C70E70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6F2-B808-4735-B3B6-0D9072FE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9DD-8044-4AB1-A241-6483005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C0E-49EF-4DD2-B6B6-AFFD735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5AC-995F-4F29-A4C0-250BD7DA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48D-FDF6-40BD-91BE-751C282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FB5-51E8-4FF1-ADBE-FAB3C4B7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2F6-BC7D-4148-B36D-76DBA9C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D1E-7998-48CE-99E8-576B2F3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34FF-7B70-4822-9291-6074D4FF3A58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Pharmacology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erlin Sans FB"/>
                <a:ea typeface="Times New Roman (Arabic)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Metabolic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Hypogly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ycogenolysi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glucagon secretion in panc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lipolysis in adipocy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retenti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 Narrow"/>
              </a:rPr>
              <a:t>ndr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P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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nal perfu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l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–Adrenergic blockers mask hypoglycemic manifestations in diabetic patients </a:t>
            </a:r>
            <a:r>
              <a:rPr b="1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52280" y="1519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ardiovascular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hyth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gina pecto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stive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hronic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Hyperthyroidism (thyrotoxic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igraine prophylax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Anx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Hypertensio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: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pranolol, atenolol, bisoprol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Labetalol: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e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hypertensive pregnant &amp; hypertensive cri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In cardiac arrhythmia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 supraventricular &amp; ventricular arrhythmia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isoprolol and carvedilol are preferr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Angina pector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rt rate,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cardiac work &amp; oxygen dem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e frequency of angina episo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ongestive heart failu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 carvedilo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8a3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3e"/>
                </a:solidFill>
                <a:latin typeface="Times New Roman"/>
              </a:rPr>
              <a:t>antioxid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non selective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B bloc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remodeling &amp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isk of sudden death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yocardial infar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Narrow"/>
              </a:rPr>
              <a:t>Have cardio-protective eff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arct s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bidity &amp; mortality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cardial O2 dem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-arrhythmic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idence of sudden deat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-883800" y="152280"/>
            <a:ext cx="8343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Clinical Uses of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Monotype Corsiva"/>
                <a:ea typeface="Arial"/>
              </a:rPr>
              <a:t>–receptor  block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6320" y="152280"/>
            <a:ext cx="8991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Hyperthyro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tect the heart against sympathetic over sti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In anxiety (Social and performance typ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.g. 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trols symptoms; tachycardia, tremors, swe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75960" y="7596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Migrai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Prophylac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episodes of chronic migra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 3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atecholamine-induced vasodilatation in the brain vascula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e.g. proprano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used with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(never al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lower the elevated blood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blockers protect the heart from 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1- recepto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adycardia, hypotension,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Due to blockade of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2- recep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only with non-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Arial"/>
              </a:rPr>
              <a:t>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ypoglyc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Asthma, emphysem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ld extremities &amp; intermittent claudication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by vasocon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rectile dysfunction &amp; impot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G hyertriglycerid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ronary spasm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in variant angina pat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All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Adrenergic block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ask hypoglycemic manifestations i.e. tachycardia, sweating,…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C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Adverse Effect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6320" y="685800"/>
            <a:ext cx="89913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pression, and hallucin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astrointestinal disturba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odium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Preca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Sudden stoppage will give rise to a withdrawal syndrom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bound angina, arrhythmia, myocardial infarction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ertension </a:t>
            </a: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WHY ?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Up-regulation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-recep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 prevent withdrawal manifestations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rug withdrawn gradu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2280" y="914400"/>
            <a:ext cx="8839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Heart Block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beta blockers can precipitate heart bloc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ronchial Asthm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Peripheral vascular diseas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(safer with cardio-selectiv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iabetic patient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Masking of hypoglycaemia / </a:t>
            </a:r>
            <a:r>
              <a:rPr b="1" lang="en-US" sz="2800" spc="-1" strike="noStrike">
                <a:solidFill>
                  <a:srgbClr val="cc0000"/>
                </a:solidFill>
                <a:latin typeface="Arial Narrow"/>
              </a:rPr>
              <a:t>GIVEN CAUSIOUS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ypo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one in pheochromocytoma (must be given with 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bloc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ontraindications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Arial"/>
              </a:rPr>
              <a:t>-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6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0" y="1828800"/>
            <a:ext cx="1071720" cy="76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</a:rPr>
              <a:t>Kinet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0" y="609480"/>
            <a:ext cx="885816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n-Selective Competitive Blocker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mbrane stabilizing action/ quinidine-like /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dative actions /No I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0" y="2286000"/>
            <a:ext cx="9117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Lipophili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completely absorbed, 70% destroyed during 1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pass hepatic metabolism, 90-95% protein bound, cross BBB and excreted in urin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n be given p.o or parente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43"/>
          <p:cNvSpPr/>
          <p:nvPr/>
        </p:nvSpPr>
        <p:spPr>
          <a:xfrm>
            <a:off x="152280" y="3657600"/>
            <a:ext cx="12859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</a:rPr>
              <a:t>Dynamic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6019920" y="152280"/>
            <a:ext cx="29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s the chosen as  proto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152280" y="4233960"/>
            <a:ext cx="89154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-blocking Effec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Membrane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Block Na channel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irect depressant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yocardium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has local anesthetic effect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(anti-arrhythmic effec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CNS Effect: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 Has sedative actio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tremors &amp; anxiety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used to protect against social anxiety performance anxie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Classification of </a:t>
            </a:r>
            <a:r>
              <a:rPr b="1" i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Arial"/>
              </a:rPr>
              <a:t>- Adrenoceptors Block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66720" y="1143000"/>
            <a:ext cx="44960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Antagon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locks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&amp;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recep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ra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ta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im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lo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52280" y="1143000"/>
            <a:ext cx="4038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electiv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 antagon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Aten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Bis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Esm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,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ol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981080" y="3962520"/>
            <a:ext cx="48006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Monotype Corsiva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ixed </a:t>
            </a:r>
            <a:r>
              <a:rPr b="1" lang="el-GR" sz="2800" spc="-1" strike="noStrike">
                <a:solidFill>
                  <a:srgbClr val="0000ff"/>
                </a:solidFill>
                <a:latin typeface="Times New Roman"/>
              </a:rPr>
              <a:t>α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receptors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vedi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etal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6"/>
          <p:cNvSpPr/>
          <p:nvPr/>
        </p:nvSpPr>
        <p:spPr>
          <a:xfrm>
            <a:off x="0" y="0"/>
            <a:ext cx="26258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42"/>
          <p:cNvSpPr/>
          <p:nvPr/>
        </p:nvSpPr>
        <p:spPr>
          <a:xfrm>
            <a:off x="357120" y="4530600"/>
            <a:ext cx="88581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0" y="45720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8"/>
          <p:cNvSpPr/>
          <p:nvPr/>
        </p:nvSpPr>
        <p:spPr>
          <a:xfrm>
            <a:off x="0" y="914400"/>
            <a:ext cx="885816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Heart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 -ischemic a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work +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O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onsum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-arrhythmic effect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excitability, automaticity &amp;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y membrane stabilizing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0" y="3352680"/>
            <a:ext cx="88581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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antihypertensive action by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blockade :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renin &amp; RASS syst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sympathetic outflow in C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7"/>
          <p:cNvSpPr/>
          <p:nvPr/>
        </p:nvSpPr>
        <p:spPr>
          <a:xfrm>
            <a:off x="228600" y="2143080"/>
            <a:ext cx="6143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ronchi: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onchospasm specially in susceptible pat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1200" y="3000240"/>
            <a:ext cx="5357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ntestine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stinal mo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248292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85840" y="3857760"/>
            <a:ext cx="885816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Metabolism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mainly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liver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ycogenolysis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Hypoglycaem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ancrea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Glucagon secre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adipocyt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Lipolys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skeletal muscles;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85840" y="5661000"/>
            <a:ext cx="885816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On peripheral &amp; central nervous syst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as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tremors &amp; </a:t>
            </a:r>
            <a:r>
              <a:rPr b="1" lang="en-US" sz="2400" spc="-1" strike="noStrike">
                <a:solidFill>
                  <a:srgbClr val="0066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anxie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285840" y="609480"/>
            <a:ext cx="12859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nard MT Condensed"/>
              </a:rPr>
              <a:t>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1631520" y="6732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4200" y="1143000"/>
            <a:ext cx="88585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Blood Vessels [BV]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y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soconstric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blood flow specially to muscles, other organs except bra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76320" y="103320"/>
            <a:ext cx="248256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PROPRANO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52280" y="685800"/>
            <a:ext cx="15004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4e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rnard MT Condensed"/>
              </a:rPr>
              <a:t>INDICATION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285840" y="1547640"/>
            <a:ext cx="8858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rrhythm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gi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Myocardial infarc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Migraine [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Prophylaxis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Pheochromocytoma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wit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blockers (never alo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Chronic glauco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Tremo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xiety; </a:t>
            </a: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(specially social &amp; performance type)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46160" y="76320"/>
            <a:ext cx="1911240" cy="4291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LABETAL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3657600"/>
            <a:ext cx="2428920" cy="45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VEDI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52280" y="463680"/>
            <a:ext cx="8634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apid acting, non-selective with ISA &amp; local anesthetic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o not alter serum lipids or blood gluc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iven p.o and i.v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re hypertension in pheochromocyto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ypertensive crisis (e.g. during abrupt withdrawal of clonidin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d in pregnancy-induced hyperte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Orthostatic hypotension, sedation &amp; dizzines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0" y="4114800"/>
            <a:ext cx="87868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Blocks 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n-selective with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no ISA &amp; no local anesthetic effec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s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NTIOXIDANT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vorable metabolic pro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Used effective i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CONGESTIVE HEART FAILUR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verses its  pathophysiological chang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ADR;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34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lective </a:t>
            </a: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Selectivity present in low doses but is lost at high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change in lipid or gluco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Arial"/>
              </a:rPr>
              <a:t>are preferable in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asthma, COP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ynaud's phenomenon &amp; PV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iabetics/ Dyslipidemia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ariant Angina (coronary spas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76320" y="228600"/>
            <a:ext cx="8991360" cy="69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Bernard MT Condensed"/>
              </a:rPr>
              <a:t>Summary of B-blockers u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Hypertens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enolol, Bisoprolol &gt;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cardiac arrhythmia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smolol (ultra-short acting), Atenolol, Propranolo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Congestive heart failu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vedilol, Bisoprolol, Metopr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Myocardial infarction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enolol, Metoprolol, Propranol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Glaucom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m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600" spc="-1" strike="noStrike">
                <a:solidFill>
                  <a:srgbClr val="5100c8"/>
                </a:solidFill>
                <a:latin typeface="Bernard MT Condensed"/>
              </a:rPr>
              <a:t>Migraine prophylaxi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Relief of anxiety (social &amp; performance)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5100c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 </a:t>
            </a:r>
            <a:r>
              <a:rPr b="0" lang="en-US" sz="2400" spc="-1" strike="noStrike">
                <a:solidFill>
                  <a:srgbClr val="5100c8"/>
                </a:solidFill>
                <a:latin typeface="Bernard MT Condensed"/>
              </a:rPr>
              <a:t>Thyrotoxicosis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ranolo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34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receptor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280" y="533520"/>
          <a:ext cx="8915400" cy="6218280"/>
        </p:xfrm>
        <a:graphic>
          <a:graphicData uri="http://schemas.openxmlformats.org/drawingml/2006/table">
            <a:tbl>
              <a:tblPr/>
              <a:tblGrid>
                <a:gridCol w="1876680"/>
                <a:gridCol w="1955520"/>
                <a:gridCol w="5083200"/>
              </a:tblGrid>
              <a:tr h="139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ra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raine prophylax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hyroidism (thyrotoxicos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ieve anxiety (social performanc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,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uc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en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s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topr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ocardial infar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31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mo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2400" spc="-1" strike="noStrike" baseline="-25000">
                          <a:solidFill>
                            <a:srgbClr val="c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Ultra 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diac arrhythm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vedi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Non sel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estive heart fail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beta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2400" spc="-1" strike="noStrike">
                          <a:solidFill>
                            <a:srgbClr val="c00000"/>
                          </a:solidFill>
                          <a:latin typeface="Times New Roman"/>
                        </a:rPr>
                        <a:t>, B blo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on in pregnanc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ertensive emerg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8"/>
          <p:cNvSpPr/>
          <p:nvPr/>
        </p:nvSpPr>
        <p:spPr>
          <a:xfrm>
            <a:off x="0" y="5791320"/>
            <a:ext cx="9144000" cy="13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 membrane stabilizing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Block Na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Quinidine-like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arrythmic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31"/>
          <p:cNvSpPr/>
          <p:nvPr/>
        </p:nvSpPr>
        <p:spPr>
          <a:xfrm>
            <a:off x="2320920" y="21420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1000080" y="1649160"/>
            <a:ext cx="7072200" cy="285840"/>
            <a:chOff x="1000080" y="1649160"/>
            <a:chExt cx="7072200" cy="285840"/>
          </a:xfrm>
        </p:grpSpPr>
        <p:sp>
          <p:nvSpPr>
            <p:cNvPr id="57" name="Straight Connector 5"/>
            <p:cNvSpPr/>
            <p:nvPr/>
          </p:nvSpPr>
          <p:spPr>
            <a:xfrm>
              <a:off x="1000080" y="16495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58" name="Straight Arrow Connector 9"/>
            <p:cNvCxnSpPr/>
            <p:nvPr/>
          </p:nvCxnSpPr>
          <p:spPr>
            <a:xfrm flipH="1">
              <a:off x="1047240" y="1649160"/>
              <a:ext cx="36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9" name="Straight Arrow Connector 14"/>
            <p:cNvCxnSpPr/>
            <p:nvPr/>
          </p:nvCxnSpPr>
          <p:spPr>
            <a:xfrm flipH="1">
              <a:off x="8016120" y="1649160"/>
              <a:ext cx="5400" cy="286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0" name="TextBox 33"/>
          <p:cNvSpPr/>
          <p:nvPr/>
        </p:nvSpPr>
        <p:spPr>
          <a:xfrm>
            <a:off x="7143840" y="2008080"/>
            <a:ext cx="157140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34"/>
          <p:cNvSpPr/>
          <p:nvPr/>
        </p:nvSpPr>
        <p:spPr>
          <a:xfrm>
            <a:off x="428760" y="1928880"/>
            <a:ext cx="164304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Non-Selec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" name="Group 85"/>
          <p:cNvGrpSpPr/>
          <p:nvPr/>
        </p:nvGrpSpPr>
        <p:grpSpPr>
          <a:xfrm>
            <a:off x="485640" y="2266920"/>
            <a:ext cx="7728120" cy="787320"/>
            <a:chOff x="485640" y="2266920"/>
            <a:chExt cx="7728120" cy="787320"/>
          </a:xfrm>
        </p:grpSpPr>
        <p:sp>
          <p:nvSpPr>
            <p:cNvPr id="63" name="Rectangle 36"/>
            <p:cNvSpPr/>
            <p:nvPr/>
          </p:nvSpPr>
          <p:spPr>
            <a:xfrm>
              <a:off x="485640" y="2266920"/>
              <a:ext cx="1483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&amp; 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Rectangle 37"/>
            <p:cNvSpPr/>
            <p:nvPr/>
          </p:nvSpPr>
          <p:spPr>
            <a:xfrm>
              <a:off x="7121880" y="2332440"/>
              <a:ext cx="1091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Narrow"/>
                </a:rPr>
                <a:t>Block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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" name="Group 38"/>
          <p:cNvGrpSpPr/>
          <p:nvPr/>
        </p:nvGrpSpPr>
        <p:grpSpPr>
          <a:xfrm>
            <a:off x="1000080" y="4230720"/>
            <a:ext cx="7072200" cy="286200"/>
            <a:chOff x="1000080" y="4230720"/>
            <a:chExt cx="7072200" cy="286200"/>
          </a:xfrm>
        </p:grpSpPr>
        <p:sp>
          <p:nvSpPr>
            <p:cNvPr id="66" name="Straight Connector 39"/>
            <p:cNvSpPr/>
            <p:nvPr/>
          </p:nvSpPr>
          <p:spPr>
            <a:xfrm>
              <a:off x="1000080" y="4230720"/>
              <a:ext cx="707220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67" name="Straight Arrow Connector 40"/>
            <p:cNvCxnSpPr/>
            <p:nvPr/>
          </p:nvCxnSpPr>
          <p:spPr>
            <a:xfrm flipH="1">
              <a:off x="1047240" y="423072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" name="Straight Arrow Connector 41"/>
            <p:cNvCxnSpPr/>
            <p:nvPr/>
          </p:nvCxnSpPr>
          <p:spPr>
            <a:xfrm flipH="1">
              <a:off x="8016120" y="423072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9" name="TextBox 42"/>
          <p:cNvSpPr/>
          <p:nvPr/>
        </p:nvSpPr>
        <p:spPr>
          <a:xfrm>
            <a:off x="357120" y="2587680"/>
            <a:ext cx="40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ranolol, Sotalol, Timolol (Ey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Box 43"/>
          <p:cNvSpPr/>
          <p:nvPr/>
        </p:nvSpPr>
        <p:spPr>
          <a:xfrm>
            <a:off x="4788000" y="258768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olol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isoprolol, Metoprolol, Esm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46"/>
          <p:cNvSpPr/>
          <p:nvPr/>
        </p:nvSpPr>
        <p:spPr>
          <a:xfrm>
            <a:off x="500040" y="4491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out I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Box 47"/>
          <p:cNvSpPr/>
          <p:nvPr/>
        </p:nvSpPr>
        <p:spPr>
          <a:xfrm>
            <a:off x="6516720" y="4562640"/>
            <a:ext cx="255600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nard MT Condensed"/>
              </a:rPr>
              <a:t>With ISA (</a:t>
            </a:r>
            <a:r>
              <a:rPr b="0" lang="en-US" sz="1200" spc="-1" strike="noStrike">
                <a:solidFill>
                  <a:srgbClr val="000000"/>
                </a:solidFill>
                <a:latin typeface="Bernard MT Condensed"/>
              </a:rPr>
              <a:t>may activate beta recepto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48"/>
          <p:cNvSpPr/>
          <p:nvPr/>
        </p:nvSpPr>
        <p:spPr>
          <a:xfrm>
            <a:off x="6095880" y="48830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labeta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Box 49"/>
          <p:cNvSpPr/>
          <p:nvPr/>
        </p:nvSpPr>
        <p:spPr>
          <a:xfrm>
            <a:off x="357120" y="485316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tenolol, Bisoprolol, Metopro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ranolol, Sotalol, Timolol, carvedilo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traight Connector 56"/>
          <p:cNvSpPr/>
          <p:nvPr/>
        </p:nvSpPr>
        <p:spPr>
          <a:xfrm>
            <a:off x="0" y="342756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Box 70"/>
          <p:cNvSpPr/>
          <p:nvPr/>
        </p:nvSpPr>
        <p:spPr>
          <a:xfrm>
            <a:off x="395280" y="2894040"/>
            <a:ext cx="76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Labetalol, Carvedilol (mixed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blocker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Rectangle 75"/>
          <p:cNvSpPr/>
          <p:nvPr/>
        </p:nvSpPr>
        <p:spPr>
          <a:xfrm>
            <a:off x="428760" y="119556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sel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77"/>
          <p:cNvSpPr/>
          <p:nvPr/>
        </p:nvSpPr>
        <p:spPr>
          <a:xfrm>
            <a:off x="-34920" y="76500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</a:rPr>
              <a:t>Pharmacodynamic 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79"/>
          <p:cNvSpPr/>
          <p:nvPr/>
        </p:nvSpPr>
        <p:spPr>
          <a:xfrm>
            <a:off x="47520" y="6242040"/>
            <a:ext cx="62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ranolol, labetal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Straight Connector 80"/>
          <p:cNvSpPr/>
          <p:nvPr/>
        </p:nvSpPr>
        <p:spPr>
          <a:xfrm>
            <a:off x="0" y="564048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Box 83"/>
          <p:cNvSpPr/>
          <p:nvPr/>
        </p:nvSpPr>
        <p:spPr>
          <a:xfrm>
            <a:off x="0" y="314172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0" y="3516480"/>
            <a:ext cx="91440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presence of agonistic/antagonistic action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insic Sympathomimetic Activity </a:t>
            </a:r>
            <a:r>
              <a:rPr b="0" lang="en-US" sz="2400" spc="-1" strike="noStrike">
                <a:solidFill>
                  <a:srgbClr val="4e00c0"/>
                </a:solidFill>
                <a:latin typeface="Bernard MT Condensed"/>
              </a:rPr>
              <a:t>( ISA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Box 84"/>
          <p:cNvSpPr/>
          <p:nvPr/>
        </p:nvSpPr>
        <p:spPr>
          <a:xfrm>
            <a:off x="0" y="5516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Straight Connector 86"/>
          <p:cNvSpPr/>
          <p:nvPr/>
        </p:nvSpPr>
        <p:spPr>
          <a:xfrm>
            <a:off x="71280" y="1266840"/>
            <a:ext cx="9144000" cy="1440"/>
          </a:xfrm>
          <a:prstGeom prst="line">
            <a:avLst/>
          </a:prstGeom>
          <a:ln w="57240">
            <a:solidFill>
              <a:srgbClr val="00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TextBox 82"/>
          <p:cNvSpPr/>
          <p:nvPr/>
        </p:nvSpPr>
        <p:spPr>
          <a:xfrm>
            <a:off x="0" y="1052640"/>
            <a:ext cx="357120" cy="459720"/>
          </a:xfrm>
          <a:prstGeom prst="rect">
            <a:avLst/>
          </a:prstGeom>
          <a:solidFill>
            <a:srgbClr val="ccff33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5228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cording to their lipid solu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" name="Group 8"/>
          <p:cNvGrpSpPr/>
          <p:nvPr/>
        </p:nvGrpSpPr>
        <p:grpSpPr>
          <a:xfrm>
            <a:off x="1066680" y="1085760"/>
            <a:ext cx="7072560" cy="286200"/>
            <a:chOff x="1066680" y="1085760"/>
            <a:chExt cx="7072560" cy="286200"/>
          </a:xfrm>
        </p:grpSpPr>
        <p:sp>
          <p:nvSpPr>
            <p:cNvPr id="88" name="Straight Connector 9"/>
            <p:cNvSpPr/>
            <p:nvPr/>
          </p:nvSpPr>
          <p:spPr>
            <a:xfrm>
              <a:off x="1066680" y="1085760"/>
              <a:ext cx="707256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cxnSp>
          <p:nvCxnSpPr>
            <p:cNvPr id="89" name="Straight Arrow Connector 10"/>
            <p:cNvCxnSpPr/>
            <p:nvPr/>
          </p:nvCxnSpPr>
          <p:spPr>
            <a:xfrm flipH="1">
              <a:off x="1113840" y="1085760"/>
              <a:ext cx="36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0" name="Straight Arrow Connector 11"/>
            <p:cNvCxnSpPr/>
            <p:nvPr/>
          </p:nvCxnSpPr>
          <p:spPr>
            <a:xfrm flipH="1">
              <a:off x="8083080" y="1085760"/>
              <a:ext cx="5400" cy="2865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91" name="TextBox 12"/>
          <p:cNvSpPr/>
          <p:nvPr/>
        </p:nvSpPr>
        <p:spPr>
          <a:xfrm>
            <a:off x="7162920" y="1390680"/>
            <a:ext cx="1714320" cy="6267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Hydrophi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533520" y="1467000"/>
            <a:ext cx="1643040" cy="360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098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Lipophyl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0" y="636480"/>
            <a:ext cx="921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e00c0"/>
                </a:solidFill>
                <a:latin typeface="Tahoma"/>
              </a:rPr>
              <a:t>Pharmacokinetic Classific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2280" y="2128680"/>
          <a:ext cx="8839440" cy="3662640"/>
        </p:xfrm>
        <a:graphic>
          <a:graphicData uri="http://schemas.openxmlformats.org/drawingml/2006/table">
            <a:tbl>
              <a:tblPr/>
              <a:tblGrid>
                <a:gridCol w="2362320"/>
                <a:gridCol w="2743200"/>
                <a:gridCol w="3733920"/>
              </a:tblGrid>
              <a:tr h="57024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p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ophil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  absor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metaboli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 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/2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6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NS 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ts val="2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pr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ranolol, Timolo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talol , Carvedilol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nolol, Bisprolol, Esmolol Sotalol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5" name="Rectangle 20"/>
          <p:cNvSpPr/>
          <p:nvPr/>
        </p:nvSpPr>
        <p:spPr>
          <a:xfrm>
            <a:off x="0" y="60278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NS depressant effects i.e. 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Sedative effect</a:t>
            </a:r>
            <a:r>
              <a:rPr b="1" lang="en-US" sz="2400" spc="-1" strike="noStrike">
                <a:solidFill>
                  <a:srgbClr val="4e00c0"/>
                </a:solidFill>
                <a:latin typeface="Wingdings 3"/>
                <a:ea typeface="Wingdings 3"/>
              </a:rPr>
              <a:t></a:t>
            </a: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 Anxie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320920" y="0"/>
            <a:ext cx="450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38073" dir="299918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ADRENOCEPTOR BLOC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1920" y="151920"/>
            <a:ext cx="8915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armacokinetis of </a:t>
            </a:r>
            <a:r>
              <a:rPr b="1" i="1" lang="en-US" sz="33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3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–blocker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are lipid sol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Lipid soluble </a:t>
            </a:r>
            <a:r>
              <a:rPr b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–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ell absorbed ora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re rapidly distributed, cross readily BBB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NS depressant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etoprolol, propranolol, timolol, labetalol, carvedilol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have half-life from 3-10 hrs except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Esmolo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Arial"/>
              </a:rPr>
              <a:t>(10 min. given  intravenousl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ost of them metabolized in liver &amp; excreted in ur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receptor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(Heart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heart Rat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chronotropic effec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tractil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inotropic ac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Increase in conduction velocity 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 Positive dromotropi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0000"/>
                </a:solidFill>
                <a:latin typeface="Times New Roman"/>
                <a:ea typeface="Arial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Arial"/>
              </a:rPr>
              <a:t>2:</a:t>
            </a:r>
            <a:r>
              <a:rPr b="1" lang="en-US" sz="2800" spc="-1" strike="noStrike" baseline="-25000">
                <a:solidFill>
                  <a:srgbClr val="003399"/>
                </a:solidFill>
                <a:latin typeface="Times New Roman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laxation of smooth muscl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ease of glucagon from panc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lycogenolysis &amp; gluconeogenesis in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β3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polysis by adipose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Pharmacological actions of </a:t>
            </a:r>
            <a:r>
              <a:rPr b="1" i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Times New Roman"/>
              </a:rPr>
              <a:t>–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Adrenergic block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CV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gative inotropic, chronotropic, dromotropic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anginal effects (ischemic heart diseas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eart rate (bradycard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ce of contraction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ardiac wor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Oxygen consumption due to bradycardi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00c0"/>
                </a:solidFill>
                <a:latin typeface="Arial Narrow"/>
              </a:rPr>
              <a:t>Anti-arrhythmic e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citability,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automaticity &amp; </a:t>
            </a:r>
            <a:r>
              <a:rPr b="1" lang="en-US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nductivity (due to its sympathetic blocking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280" y="1066320"/>
            <a:ext cx="883944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vessels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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ipheral resistance (PR) by blocking vasodilatory effect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od flow to organ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old extrem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contraindicate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peripheral diseases like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eynaud's dise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2280" y="152280"/>
            <a:ext cx="8686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Pharmacological actions of 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–Adrenergic blocker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Content Placeholder 3"/>
          <p:cNvSpPr/>
          <p:nvPr/>
        </p:nvSpPr>
        <p:spPr>
          <a:xfrm>
            <a:off x="76320" y="3276720"/>
            <a:ext cx="8915400" cy="28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00c0"/>
                </a:solidFill>
                <a:latin typeface="Arial Narrow"/>
              </a:rPr>
              <a:t>Antihypertensiv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P in hypertensive patients due to effect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hibiting heart properties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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 cardiac output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ckade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enin secretion </a:t>
            </a:r>
            <a:r>
              <a:rPr b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ng II &amp; aldosterone secretion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ynaptic inhibition of NE release from adrenergic ner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Respiratory tract: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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Bronchoconstri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contraindicated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 asthmatic pat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Eye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aqueous humor production from ciliary bod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Reduce intraocular pressure (IO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Arial"/>
              </a:rPr>
              <a:t>e.g. timolol as eye dro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  <a:ea typeface="Arial"/>
              </a:rPr>
              <a:t>Intestin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Intestinal mot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28600" y="152280"/>
            <a:ext cx="78487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Pharmacological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Monotype Corsiva"/>
              </a:rPr>
              <a:t>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</a:rPr>
              <a:t>actions of 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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Monotype Corsiva"/>
              </a:rPr>
              <a:t>–Adrenergic block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User</cp:lastModifiedBy>
  <dcterms:modified xsi:type="dcterms:W3CDTF">2016-02-24T06:08:00Z</dcterms:modified>
  <cp:revision>519</cp:revision>
  <dc:subject/>
  <dc:title>Noradrenergic Transmission</dc:title>
</cp:coreProperties>
</file>