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99096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99096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4395-631E-4473-8FA9-00B0088CC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7280" y="701640"/>
            <a:ext cx="4670640" cy="35035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FB4D-91CA-4A35-AAA8-19DE29961E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E7C-E33B-4876-A1B4-CDB55737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57F-EA23-477E-A23D-D927D37C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43D-053C-42D1-A205-49248F00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5DF-08AC-4C3A-9CED-B08C97B5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2E37-E2E5-4089-90BD-469FD052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0121-289F-465F-A160-DE3D8A95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7928-248B-4297-9BC4-EDCFFB61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E5C9-5C70-45F6-8FB3-868C08F4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B838-08FD-4E18-8A33-AC912A5C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C52A-99A1-4EB1-A553-1F664F51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8C88-8C21-447F-A915-0975F306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0758-5835-4484-8BF8-52DE2438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8C8F-4057-45AC-943A-DEE517EC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7BF5-24CF-45FE-B0E3-D33DC65D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236F-AEB9-4FFF-9235-C09595EE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1EAC-FCEB-4C24-8CFF-DE4C7E66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9197-6F55-4848-881A-715BEA25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0B5AE-3A08-459F-B015-204E709B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0E361-E585-44D4-8B73-8D6A43C9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1C31-7E81-48DA-B3F8-5D1B5E46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4BD5E-354B-4FEB-9330-DCCA2D25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40929-7764-4CB0-9674-5A2CD7A3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C532-81B0-4D5F-B020-D761535B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FF155-87A2-4272-8E23-9612B718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5A614-E542-422E-ADCD-B4265E58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22668-47E9-4A8D-A825-FFBA2463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8E809-44B4-431B-8566-13B86F63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FA827-0088-49FC-BDAA-AE720ABB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23FF3-5448-41D3-9547-9769F5E7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67F83-479F-442D-B0FF-02992081E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91D34-4B03-4AE8-A59C-64C175783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91236-5652-4149-86F1-CEEC3598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4A424-3637-42BB-B3E2-535755DE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5BE-D0E9-4455-8825-1167CE14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FBEB9-C8B2-4DB8-8DBB-BB7874DE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369C2-D296-4E42-A66F-EEA31F23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10E1D-7EAE-4A29-BE6B-B4F96363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9FD9E-D65F-4D63-BD4A-49C1A629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F518F-244A-42C5-A21C-8E85B879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2C65E-0DE7-4831-91FE-7E2749B4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057FD-E5A9-4139-B899-FB711345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10302-2E18-4330-86A0-7E32BD81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94F0F-9BC9-4646-B1C7-27F411BB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C41FF-5BF7-4291-B4DC-654AFC8C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1DA-3A9A-4CD7-81F6-B67F53E0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D217F-4738-4921-9F31-6C5F6EF3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CB403-B9CB-4385-9DB2-8E7A031C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DDC88-C737-4FE1-B11E-58775D30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49C44-ED33-4A18-8B2D-7E09A87B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19540-CE51-47B4-84DE-CAD381FF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410C0-69B8-468A-9AEC-99C54C39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900F8-8042-4A3E-B3B9-79002259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0997E-D026-4384-AC04-385F5ECD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CD054-646A-4ECA-8A0F-D116D573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C8640-CEA3-4DCA-B632-40D98279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AE2-0B2C-4535-9F05-7814B85C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EC21E-BF65-4138-BD49-3D1F6493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E4CD8-6794-4520-8408-6C9E83973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22D23-14F3-4F27-8316-215DA473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109A5-4E0F-4FD9-80F0-662190D3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97B49-A02A-4CA9-A073-27E3316D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7C4BE-F17A-48BB-867C-22A0027B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B274B-F235-4011-B7C8-A687B47F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F28A3-AEA4-4C7D-B88C-EBE7E6F4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D8878-AAC9-4302-B1B1-192A893A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2A978-1921-4F0F-BF54-874D9AE0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C1E-2FDD-4878-A4DC-326BB754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81DF3-29B4-4209-BD64-CC75AD71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FC4F4-B9BA-4742-9583-194671C0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11C65-ECA2-49A8-AAAF-40D7FA7E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7B6F3-AE61-4D70-8327-C58728D9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B222D-074D-4092-B9F4-1D82A5F9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66BA2-2D90-466C-AAA6-E8CB9784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4DA28-D3D3-4C33-AB5A-BB58457F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AF1E5-97E9-408A-9E00-48047F47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E66B5-D8F9-4348-9335-8023D9E6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786BB-2B79-4911-B304-5BC69B7E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B92-7492-4087-860E-37D592D7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48F81-74FC-445E-98BA-CD577B3B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45A02-569D-4DF8-8136-B0414ECE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E5A2D-075E-464A-B3AB-D1374E6D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7A299-5A2A-4839-8999-F279D6AE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3F915-75EB-47D3-9EE0-1E9B6A94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C2E8-89BE-4BF2-92A2-B9B15318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BB9B-8FFA-4E27-9F21-37F4686D2F35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D6B1-5220-41B1-800C-06698976CC98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3D08-F9C6-401C-94F1-D9A61EF22A78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AFB2-A5DF-4C53-833F-F87BF8AF7A85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037F-1B6D-4C9A-867A-C99D1A41EC1A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1C62-86F6-426C-AD4A-CCE2AB85ACF7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A979-CE32-4C48-BAAE-0104AC81E49A}" type="slidenum">
              <a:rPr b="0" lang="ar-SA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alibri"/>
              </a:rPr>
              <a:t>Chemical Examination of Urine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Renal Block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r  Rana  Hasanato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8" name="Picture 3" descr="179-6-iline_default"/>
          <p:cNvPicPr/>
          <p:nvPr/>
        </p:nvPicPr>
        <p:blipFill>
          <a:blip r:embed="rId1"/>
          <a:stretch/>
        </p:blipFill>
        <p:spPr>
          <a:xfrm>
            <a:off x="324000" y="620640"/>
            <a:ext cx="8351640" cy="496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89" name="Rectangle 4"/>
          <p:cNvSpPr/>
          <p:nvPr/>
        </p:nvSpPr>
        <p:spPr>
          <a:xfrm>
            <a:off x="2557440" y="101520"/>
            <a:ext cx="31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ultiple myelo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50920" y="576648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: serum protein electrophoresis demonstrating the M compon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: serum and urine immunofixation electrophoresis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" descr="179-5-iline_default"/>
          <p:cNvPicPr/>
          <p:nvPr/>
        </p:nvPicPr>
        <p:blipFill>
          <a:blip r:embed="rId1"/>
          <a:stretch/>
        </p:blipFill>
        <p:spPr>
          <a:xfrm>
            <a:off x="684360" y="115920"/>
            <a:ext cx="7991280" cy="49006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3"/>
          <p:cNvSpPr/>
          <p:nvPr/>
        </p:nvSpPr>
        <p:spPr>
          <a:xfrm>
            <a:off x="179280" y="5094720"/>
            <a:ext cx="882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normal seru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multiple myeloma showing M component in the gamma reg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densitometry tracing of A showing the 5 zones of the high resolution     agarose electrophoresi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densitometry of the M component of B, termed the M Spike</a:t>
            </a:r>
            <a:r>
              <a:rPr b="1" lang="ar-SA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457200" y="457200"/>
            <a:ext cx="8381880" cy="54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62160" indent="-2779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cc"/>
                </a:solidFill>
                <a:latin typeface="Calibri"/>
                <a:ea typeface="Arial"/>
              </a:rPr>
              <a:t>Renal Proteinu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SzPct val="130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ssociated with renal dis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Glomerular proteinuri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3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High glomerular perme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13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auses filtration of high molecular weight protei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(e.g. glomeruloneph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Tubular proteinu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3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Low tubular reabsorption with normal glomerular perme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130000"/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auses excretion of low molecular weight proteins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262160" indent="-27792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(e.g. chronic nephrit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762120" y="15998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Persistent benign protenuri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Occurs frequently in young adults due to periods spent in a vertical pos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creased pressure on the renal vein in the vertical position causes orthostatic proteinuri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Times New Roman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isappears in horizontal post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Calibri"/>
              </a:rPr>
              <a:t>Orthostatic (Postural) Proteinuria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04920" y="228600"/>
            <a:ext cx="87436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950040" indent="-61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Corbel"/>
              </a:rPr>
              <a:t>Microalbuminuria:</a:t>
            </a: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- Presence of </a:t>
            </a: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small amounts of albumin in the urin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(20– 200 mg/L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Cannot be detected by ordinary urine test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Needs special tests for detect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- </a:t>
            </a:r>
            <a:r>
              <a:rPr b="1" lang="en-US" sz="2600" spc="-1" strike="noStrike">
                <a:solidFill>
                  <a:srgbClr val="ffff66"/>
                </a:solidFill>
                <a:latin typeface="Corbel"/>
              </a:rPr>
              <a:t>E</a:t>
            </a:r>
            <a:r>
              <a:rPr b="1" lang="en-US" sz="2600" spc="-1" strike="noStrike">
                <a:solidFill>
                  <a:srgbClr val="ffff00"/>
                </a:solidFill>
                <a:latin typeface="Corbel"/>
              </a:rPr>
              <a:t>arly indicator of glomerular dysfunction 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due to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1" lang="en-US" sz="2600" spc="-1" strike="noStrike">
                <a:solidFill>
                  <a:srgbClr val="ffffff"/>
                </a:solidFill>
                <a:latin typeface="Corbel"/>
              </a:rPr>
              <a:t>uncontrolled diabetes mellitus or hypertensio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950040" indent="-6127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47680" y="-305280"/>
            <a:ext cx="88963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9560" indent="-63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79560" indent="-631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7fd13b"/>
                </a:solidFill>
                <a:uFillTx/>
                <a:latin typeface="Corbel"/>
              </a:rPr>
              <a:t>3 </a:t>
            </a:r>
            <a:r>
              <a:rPr b="1" lang="en-US" sz="3600" spc="-1" strike="noStrike" u="sng">
                <a:solidFill>
                  <a:srgbClr val="7fd13b"/>
                </a:solidFill>
                <a:uFillTx/>
                <a:latin typeface="Corbel"/>
              </a:rPr>
              <a:t>- Post renal proteinuria</a:t>
            </a:r>
            <a:r>
              <a:rPr b="1" lang="en-US" sz="2400" spc="-1" strike="noStrike">
                <a:solidFill>
                  <a:srgbClr val="ffff00"/>
                </a:solidFill>
                <a:latin typeface="Corbe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979560" indent="-631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rbel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Corbel"/>
              </a:rPr>
              <a:t>Proteins added to the urine as it passes through the structures of the lower urinary tract  (ureters, bladder , urethra, prostate and vagina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979560" indent="-631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- Due to Lower urinary tract  infection, trauma, tumors and stone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0" y="609480"/>
            <a:ext cx="9144000" cy="46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Calibri"/>
                <a:ea typeface="Arial"/>
              </a:rPr>
              <a:t>Glycosuria : </a:t>
            </a:r>
            <a:r>
              <a:rPr b="1" i="1" lang="en-US" sz="2800" spc="-1" strike="noStrike">
                <a:solidFill>
                  <a:srgbClr val="00ffff"/>
                </a:solidFill>
                <a:latin typeface="Calibri"/>
                <a:ea typeface="Arial"/>
              </a:rPr>
              <a:t>(Presence of sugar in uri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1 - 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  <a:ea typeface="Arial"/>
              </a:rPr>
              <a:t>Glucosuria: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Presence of detectable amount of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glucose in urine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      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           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Uncontrolled DM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:The concentration of glucose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in the plasma exceeds the renal threshold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Renal glucosuria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: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Normal plasma glucose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concentration with proximal tubular malfunction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renal threshold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(gestational diabetes and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Fanconi’s syndrome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-360" y="7621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7608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 - 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</a:rPr>
              <a:t>Fructosuria: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Presence of  fructose in urine)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limentary causes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: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gh fructose intake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Metabolic :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w fructokinase or aldolase B in the liv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76080" indent="-425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76080" indent="-425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</a:rPr>
              <a:t>Galactosuria: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Presence of galactose in urine)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limentary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: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gh galactose intak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3200" spc="-1" strike="noStrike">
                <a:solidFill>
                  <a:srgbClr val="99ff33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Metabolic :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ow galactokinase or galactose -1-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hosphate uridyl transferase i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liv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0" y="762120"/>
            <a:ext cx="91440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Arial"/>
              </a:rPr>
              <a:t>Ketonuria 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of ketones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acetone, acetoacetic acid &amp;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-hydroxybutyric aci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n u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1 – Diabetic ketoacidosis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2 – Sta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3 – Prolonged vom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4 – Unbalanced die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igh fat &amp; Low CHO d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5 – Phenylketonuria (inborn error of ami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           </a:t>
            </a:r>
            <a:r>
              <a:rPr b="1" lang="en-US" sz="3200" spc="-1" strike="noStrike">
                <a:solidFill>
                  <a:srgbClr val="ffff66"/>
                </a:solidFill>
                <a:latin typeface="Times New Roman"/>
                <a:ea typeface="Arial"/>
              </a:rPr>
              <a:t>acid metabolis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0" y="380880"/>
            <a:ext cx="9144000" cy="48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Choluria :</a:t>
            </a:r>
            <a:r>
              <a:rPr b="1" lang="en-US" sz="2400" spc="-1" strike="noStrike">
                <a:solidFill>
                  <a:srgbClr val="00ffff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of bile in urine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1 –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Bilirubin / Bile sal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Normall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no</a:t>
            </a: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 bilirubin is detected in u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Times New Roman"/>
                <a:ea typeface="Arial"/>
              </a:rPr>
              <a:t>Bilirubin is detected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Hepatocellular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  Obstruction of bile du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xtrahepatic  (Sto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Intrahepatic  (hepatic tum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01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Learning objectives:</a:t>
            </a:r>
            <a:r>
              <a:rPr b="1" i="1" lang="en-US" sz="3200" spc="-1" strike="noStrike" u="sng">
                <a:solidFill>
                  <a:srgbClr val="ea157a"/>
                </a:solidFill>
                <a:uFillTx/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. To understand the normal and abnormal chemical composition of urine in relation to renal diseases and conditio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. To differentiate between pre-renal, renal and post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nal proteinuria with clinical examples of each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. To acquire knowledge on the types of Glycosuria, hematuria and hemoglobinuria</a:t>
            </a:r>
            <a:endParaRPr b="0" lang="en-US" sz="2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DA4C21FF10"/>
          <p:cNvPicPr/>
          <p:nvPr/>
        </p:nvPicPr>
        <p:blipFill>
          <a:blip r:embed="rId1"/>
          <a:stretch/>
        </p:blipFill>
        <p:spPr>
          <a:xfrm>
            <a:off x="76320" y="838080"/>
            <a:ext cx="6858000" cy="579132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2"/>
          <p:cNvSpPr/>
          <p:nvPr/>
        </p:nvSpPr>
        <p:spPr>
          <a:xfrm>
            <a:off x="-76320" y="60480"/>
            <a:ext cx="7162920" cy="11674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Catabolism of he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   B = bilirubin;  BG = bilirubin diglucuronide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U= urobilinogen;  Ub = urobilin;  S = stercobili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4" name="Picture 13" descr="DA4C21FF9"/>
          <p:cNvPicPr/>
          <p:nvPr/>
        </p:nvPicPr>
        <p:blipFill>
          <a:blip r:embed="rId2"/>
          <a:stretch/>
        </p:blipFill>
        <p:spPr>
          <a:xfrm>
            <a:off x="7010280" y="380880"/>
            <a:ext cx="21337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0" y="380880"/>
            <a:ext cx="9144000" cy="75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2 - </a:t>
            </a:r>
            <a:r>
              <a:rPr b="1" lang="en-US" sz="3600" spc="-1" strike="noStrike">
                <a:solidFill>
                  <a:srgbClr val="99ff33"/>
                </a:solidFill>
                <a:latin typeface="Times New Roman"/>
                <a:ea typeface="Arial"/>
              </a:rPr>
              <a:t>Urobilinogen: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Normally present in trace amounts in urine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High urobilinogen is found in: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 Hemolytic an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- Hepatocellular da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0" y="4572000"/>
            <a:ext cx="9144000" cy="11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Nitrite 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ffff"/>
                </a:solidFill>
                <a:latin typeface="Times New Roman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ositive nitrite test is significant of bacteria in urine</a:t>
            </a:r>
            <a:r>
              <a:rPr b="1" i="1" lang="en-US" sz="2400" spc="-1" strike="noStrike">
                <a:solidFill>
                  <a:srgbClr val="00ffff"/>
                </a:solidFill>
                <a:latin typeface="Times New Roman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2"/>
          <p:cNvSpPr/>
          <p:nvPr/>
        </p:nvSpPr>
        <p:spPr>
          <a:xfrm>
            <a:off x="0" y="533520"/>
            <a:ext cx="9524880" cy="56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Times New Roman"/>
                <a:ea typeface="Arial"/>
              </a:rPr>
              <a:t>Blood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 - 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  <a:ea typeface="Arial"/>
              </a:rPr>
              <a:t>Hematuria: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of detectable amount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blood in urin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a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–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Acute and chronic glomerulonephriti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b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– Local disorders of kidney &amp; genito-urinary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trac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Trauma , cystitis , renal calculi and   tum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c –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Bleeding disorder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Hemophili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0" y="-457200"/>
            <a:ext cx="9144000" cy="57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II - </a:t>
            </a:r>
            <a:r>
              <a:rPr b="1" lang="en-US" sz="3200" spc="-1" strike="noStrike">
                <a:solidFill>
                  <a:srgbClr val="99ff33"/>
                </a:solidFill>
                <a:latin typeface="Times New Roman"/>
                <a:ea typeface="Arial"/>
              </a:rPr>
              <a:t>Hemoglobinuria: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of  hemolysed blood in urin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a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– Hemoglobinopathies: 1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Sickle cell an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2. Thalassemia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b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–</a:t>
            </a:r>
            <a:r>
              <a:rPr b="1" lang="en-US" sz="3000" spc="-1" strike="noStrike">
                <a:solidFill>
                  <a:srgbClr val="99ff33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Malaria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P. falciparum)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c –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Arial"/>
              </a:rPr>
              <a:t> Transfusion reacti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(Bl. Incompatibil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35000" y="838080"/>
            <a:ext cx="889632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Urine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s a fluid excreted by most animals including humans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It is formed in the kidneys (renal glomeruli)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The fluid undergoes chemical changes before it is excreted as urin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alibri"/>
              </a:rPr>
              <a:t>Normal urine excretion by a healthy person is 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bout 1.5 L per day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AutoShape 2"/>
          <p:cNvSpPr/>
          <p:nvPr/>
        </p:nvSpPr>
        <p:spPr>
          <a:xfrm>
            <a:off x="135000" y="0"/>
            <a:ext cx="888516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ormal composition of uri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04920" y="1219320"/>
            <a:ext cx="86104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Urine contains organic and inorganic constitu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Major </a:t>
            </a:r>
            <a:r>
              <a:rPr b="1" lang="en-US" sz="3200" spc="-1" strike="noStrike" u="sng">
                <a:solidFill>
                  <a:srgbClr val="00ffff"/>
                </a:solidFill>
                <a:uFillTx/>
                <a:latin typeface="Times New Roman"/>
                <a:ea typeface="Arial"/>
              </a:rPr>
              <a:t>inorganic</a:t>
            </a:r>
            <a:r>
              <a:rPr b="1" lang="en-US" sz="3200" spc="-1" strike="noStrike">
                <a:solidFill>
                  <a:srgbClr val="00ffff"/>
                </a:solidFill>
                <a:latin typeface="Times New Roman"/>
                <a:ea typeface="Arial"/>
              </a:rPr>
              <a:t> sal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Sod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Potass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Chlor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Small amounts of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C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Mg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&amp;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  <a:ea typeface="Arial"/>
              </a:rPr>
              <a:t>phosph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Traces of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Arial"/>
              </a:rPr>
              <a:t>F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Arial"/>
              </a:rPr>
              <a:t>Cu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Arial"/>
              </a:rPr>
              <a:t>Z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Arial"/>
              </a:rPr>
              <a:t>I</a:t>
            </a:r>
            <a:r>
              <a:rPr b="1" lang="en-US" sz="2800" spc="-1" strike="noStrike" baseline="-25000">
                <a:solidFill>
                  <a:srgbClr val="ff66ff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5"/>
          <p:cNvSpPr/>
          <p:nvPr/>
        </p:nvSpPr>
        <p:spPr>
          <a:xfrm>
            <a:off x="380880" y="1598760"/>
            <a:ext cx="861084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Major </a:t>
            </a:r>
            <a:r>
              <a:rPr b="1" lang="en-US" sz="3600" spc="-1" strike="noStrike" u="sng">
                <a:solidFill>
                  <a:srgbClr val="00ffff"/>
                </a:solidFill>
                <a:uFillTx/>
                <a:latin typeface="Times New Roman"/>
                <a:ea typeface="Arial"/>
              </a:rPr>
              <a:t>organic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  <a:ea typeface="Arial"/>
              </a:rPr>
              <a:t> constituent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Non-protein nitrogen (NPN) compoun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Organic aci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Sugar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Traces of proteins, vitamins, hormones, and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Arial"/>
              </a:rPr>
              <a:t>pigment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135000" y="0"/>
            <a:ext cx="888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  <a:ea typeface="Arial"/>
              </a:rPr>
              <a:t>Abnormal composition of uri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457200" y="1068480"/>
            <a:ext cx="8562960" cy="72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4960" indent="-34776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  <a:ea typeface="Arial"/>
              </a:rPr>
              <a:t>Protei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rmal urine contains very little protein (&lt; 200 mg/da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than this level leads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condition called 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  <a:ea typeface="Arial"/>
              </a:rPr>
              <a:t>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Causes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Pre-re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Re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        </a:t>
            </a:r>
            <a:r>
              <a:rPr b="1" lang="en-US" sz="2800" spc="-1" strike="noStrike">
                <a:solidFill>
                  <a:srgbClr val="99ffcc"/>
                </a:solidFill>
                <a:latin typeface="Arial"/>
                <a:ea typeface="Arial"/>
              </a:rPr>
              <a:t>Post-re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4960" indent="-3477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34640" y="144792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4080" indent="-326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ffcc"/>
                </a:solidFill>
                <a:uFillTx/>
                <a:latin typeface="Corbel"/>
              </a:rPr>
              <a:t>Prerenal proteinuria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Some abnormal conditions increase plasma protei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levels before reaching the kidney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Causes increased filtration of these proteins in the kidney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This exceeds the normal reabsorptive capacity of renal tubul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84080" indent="-3268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rbel"/>
              </a:rPr>
              <a:t>Results  in overflow of proteins in the urin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135000" y="228600"/>
            <a:ext cx="8885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Times New Roman"/>
                <a:ea typeface="Arial"/>
              </a:rPr>
              <a:t>Abnormal composition of urin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"/>
          <p:cNvSpPr/>
          <p:nvPr/>
        </p:nvSpPr>
        <p:spPr>
          <a:xfrm>
            <a:off x="380880" y="304920"/>
            <a:ext cx="85345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Multiple myeloma causes pre-renal proteinu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 proliferative disorder of the immunoglobulin-producing plasma ce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he serum contains elevated levels of monoclonal light chains antibodies (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Bence-Jones prote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Bence-Jones protein is filtered in kidneys in high amou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xceeding the tubular reabsorption capa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Hence excreted in the u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304920" y="685800"/>
            <a:ext cx="89913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The Bence-Jones protein coagulate at 40–60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Dissolves at 100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Multiple myeloma cases are diagnosed by us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ffffff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Serum electrophor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buClr>
                <a:srgbClr val="ffffff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Immunoelectrophore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20:58:34Z</dcterms:created>
  <dc:creator>Usman Ghani</dc:creator>
  <dc:description/>
  <dc:language>en-US</dc:language>
  <cp:lastModifiedBy>DrRana</cp:lastModifiedBy>
  <dcterms:modified xsi:type="dcterms:W3CDTF">2016-04-12T03:29:39Z</dcterms:modified>
  <cp:revision>135</cp:revision>
  <dc:subject/>
  <dc:title>Urine Chemistry</dc:title>
</cp:coreProperties>
</file>