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B75-EFE1-49D7-A4BC-DAF1F245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D7AF-4062-4F5B-873C-0A30F97756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D34-8C89-4F53-9850-4E375C6F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54C-921B-4401-B8A0-DE349CEB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8CC-7B78-4205-8874-CD67DE49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4D0-A359-4AD8-BBD7-2E48902A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0685-098B-4295-98F0-4CE69E3D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5033-09D4-448B-AEE2-2FA867F8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A0ED-6746-4878-8EED-8B40A528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C8B8-A649-4E60-98E7-5C7DFED5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0785-B220-41E9-9EC3-D262A6D3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1104-4CD0-4336-8CEC-93597F4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DB3-024F-4C19-9D3F-7F79B46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DE6-71BE-48BC-9042-526817CC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53A-B529-4468-B034-0197A5A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064-1218-4085-8D01-3426332B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6B48-C615-4A4A-AE21-2A9DD041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3064-7C1D-4129-945A-174380F7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CCBC-6C77-431D-B566-F54FF62B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F737-0362-41B2-9D43-2FAA482E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B6FA-8C1E-4E3E-9501-8F372299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95F2-9292-4F4F-BF6F-9340E1A3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C4A2-32B7-4B40-8DDC-6EA7E853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8B0C-EF13-4EC4-B684-6F50899E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435-57F2-4848-850B-E864B67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3A42-941C-40DA-BDFD-8CB9044C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E29E-62C6-4F67-B64B-17E7583D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E9C8-C4AF-4940-B743-A380CE9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06FC-2D8B-477A-9310-9D39FC4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3353-7603-442A-9785-9F150FD8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E2DF-E3A3-46BF-85D4-C4DB1CF8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A42A-2A6C-4CE7-8841-37F8510F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1ABF-A34E-4785-9005-7E0A38BE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17F6-2603-48BB-8533-3A70873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E04F-2B00-48D5-B6AE-7DD111D8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868-1E23-457B-8A13-588A6D16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DD3F-BDCE-48B6-81D1-D88BE2F6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A9073-E3D6-487C-8D50-0B58F207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D56FD-7BB0-48CD-A326-D4E5BEF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9B71-09F9-42A3-82B1-94AEB49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C450F-DB00-4E42-8969-0A1CB8E3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9DF4-D65A-4C27-B20E-B0232AC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3EFA-EC38-474F-84BA-C925E05A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8182-7D02-4301-84E6-11F00741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2C00-699F-41F7-873A-7659F878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D8D1-E0BE-40E6-8B6A-EDBB7CA4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E53-54C0-432D-9D2D-4ACC9984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381D-27CF-470F-B920-DB3719E0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90AE-D04A-418F-8500-F294872F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95F7F-613B-4FFE-83E3-A14F865F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7008-A4E3-4FE8-9FE7-7D28BC98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0996-1EE7-4C19-87E4-37C91D0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C2C2-F4DD-419F-85A8-05B564C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8619-02FF-4854-AC92-5A39B23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9B6BC-B968-4E7D-A3A8-ADD2D6CB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6DB7-DD10-42A1-BF5D-21C7E01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BE28E-22FD-40C0-A477-76A77322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332-DC5A-4659-B4C2-A431E5FE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79BD-D2FD-4A6D-90B7-749D4918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A2D97-24EE-451B-A950-549E62FD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92945-770B-45DE-8F4D-44625857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1FF5A-B222-489D-A1FA-A5C425F2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2C245-F80F-4023-A478-D04E1FD7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EFC9-0697-46F8-86C7-79F78AF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47F7-5ACA-4EAE-B779-0C6AAE6B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2B263-E99F-426E-B741-5251471C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B731C-6093-49F9-8015-8DD5E6A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B3444-D89C-4096-9C14-6AE5C91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068-A52A-4D4F-8E2A-C204991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204FD-199F-41FA-95D6-67EE36A6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1D8B1-470D-4CB3-84D8-299F4FE4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7A78D-50F1-420A-84B0-ADBF9EC8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C1D89-709F-4600-83D3-D64996DF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66E34-77D5-43A4-8EFF-E3585F5A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4D0EA-DE18-4416-8779-282F1656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0D96B-5181-44CD-8DCC-4337F15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9E110-A38C-4F21-8FB9-A01F2E42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657D5-8F53-40D5-842F-88026957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EEA60-2493-46E1-AE5D-FF0D113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015-8C41-4807-A263-8AA19DF5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592A-9C92-4814-8ECE-8A9E2116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C5AB-3A4A-4FBC-B1B6-EED7269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5B39-F177-464D-AE9B-C5E30E24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200C5-CE4C-4279-8A5C-672307D5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0048-1D52-4A56-9DAF-DF3B821E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C32-1B7B-459D-BB2C-1450389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5991-C6C7-454C-9668-4F54CA924A9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243C-D17A-4A56-AEFC-86D5C8E4D98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16EA-D5E3-466D-8FE8-AE147F8C7E0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62F5-3CF6-4DBE-98A2-64A7D2BC5AD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FFB2-68FF-43AA-89E4-54FD50350D90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2DC7-3335-4C15-8C76-35BB5B5EF85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FBC9-6444-4B2E-99A0-EAD38A60ABA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Chemical Examination of Urine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enal Bloc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r  Rana  Hasanato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89" name="Rectangle 4"/>
          <p:cNvSpPr/>
          <p:nvPr/>
        </p:nvSpPr>
        <p:spPr>
          <a:xfrm>
            <a:off x="2557440" y="101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50920" y="57664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: serum protein electrophoresis demonstrating the M compon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: serum and urine immunofixation electrophoresis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179280" y="5094720"/>
            <a:ext cx="882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normal ser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multiple myeloma showing M component in the gamma reg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densitometry tracing of A showing the 5 zones of the high resolution     agarose electrophores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densitometry of the M component of B, termed the M Spik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457200" y="457200"/>
            <a:ext cx="8381880" cy="54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62160" indent="-2779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Calibri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13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ssociated with ren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Glomerular proteinur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High glomer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s filtration of high molecular weight protei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(e.g. glomeruloneph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Tubular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w tubular reabsorption with normal glomer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s excretion of low molecular weight proteins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(e.g. chronic neph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6212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sistent benign protenu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ccurs frequently in young adults due to periods spent in a vertical pos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alibri"/>
              </a:rPr>
              <a:t>Orthostatic (Postural) Proteinuria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920" y="228600"/>
            <a:ext cx="8743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50040" indent="-61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Corbel"/>
              </a:rPr>
              <a:t>Microalbuminuria: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- Presence of 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(20– 200 mg/L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1" lang="en-US" sz="2600" spc="-1" strike="noStrike">
                <a:solidFill>
                  <a:srgbClr val="ffff66"/>
                </a:solidFill>
                <a:latin typeface="Corbel"/>
              </a:rPr>
              <a:t>E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arly indicator of glomerular dysfunction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due to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uncontrolled diabetes mellitus or hypertens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47680" y="-305280"/>
            <a:ext cx="88963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9560" indent="-63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7fd13b"/>
                </a:solidFill>
                <a:uFillTx/>
                <a:latin typeface="Corbel"/>
              </a:rPr>
              <a:t>3 </a:t>
            </a:r>
            <a:r>
              <a:rPr b="1" lang="en-US" sz="3600" spc="-1" strike="noStrike" u="sng">
                <a:solidFill>
                  <a:srgbClr val="7fd13b"/>
                </a:solidFill>
                <a:uFillTx/>
                <a:latin typeface="Corbel"/>
              </a:rPr>
              <a:t>- Post renal proteinuria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Proteins added to the urine as it passes through the structures of the lower urinary tract  (ureters, bladder , urethra, prostate and vagin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- Due to Lower urinary tract  infection, trauma, tumors and ston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609480"/>
            <a:ext cx="91440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alibri"/>
                <a:ea typeface="Arial"/>
              </a:rPr>
              <a:t>Glycosuria : </a:t>
            </a:r>
            <a:r>
              <a:rPr b="1" i="1" lang="en-US" sz="2800" spc="-1" strike="noStrike">
                <a:solidFill>
                  <a:srgbClr val="00ffff"/>
                </a:solidFill>
                <a:latin typeface="Calibri"/>
                <a:ea typeface="Arial"/>
              </a:rPr>
              <a:t>(Presence of sugar in ur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1 -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  <a:ea typeface="Arial"/>
              </a:rPr>
              <a:t>Gluc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resence of detectable amount of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glucose in urine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  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Uncontrolled DM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:The concentration of glucos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in the plasma exceeds the renal threshold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Renal glucosur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Normal plasma glucos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concentration with proximal tubular malfunction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renal threshol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gestational diabetes and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anconi’s syndrom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-360" y="7621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7608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 -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Fruct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resence of  fructose in urine)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imentary cause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fructose intak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tabolic 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 fructokinase or aldolase B in the li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608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7608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Galact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resence of galactose in urine)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imentar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galactose intak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tabolic 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 galactokinase or galactose -1-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hosphate uridyl transferase i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li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0" y="76212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Arial"/>
              </a:rPr>
              <a:t>Ketonuria 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ketones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cetone, acetoacetic acid &amp;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-hydroxybutyric aci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n u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1 – Diabetic ketoacidosi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2 – Sta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3 – Prolonged vom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4 – Unbalanced die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gh fat &amp; Low CHO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5 – Phenylketonuria (inborn error of am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acid metaboli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380880"/>
            <a:ext cx="914400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Choluria :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bile in urine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 –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Bilirubin / Bile sal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Normall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o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 bilirubin is detected in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Bilirubin is detect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epatocellular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 Obstruction of bile du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xtrahepatic  (Sto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ntrahepatic  (hepatic tum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01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Learning objectives:</a:t>
            </a:r>
            <a:r>
              <a:rPr b="1" i="1" lang="en-US" sz="3200" spc="-1" strike="noStrike" u="sng">
                <a:solidFill>
                  <a:srgbClr val="ea157a"/>
                </a:solidFill>
                <a:uFillTx/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. To understand the normal and abnormal chemical composition of urine in relation to renal diseases and condi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 To differentiate between pre-renal, renal and post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nal proteinuria with clinical examples of each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To acquire knowledge on the types of Glycosuria, hematuria and hemoglobinuria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DA4C21FF10"/>
          <p:cNvPicPr/>
          <p:nvPr/>
        </p:nvPicPr>
        <p:blipFill>
          <a:blip r:embed="rId1"/>
          <a:stretch/>
        </p:blipFill>
        <p:spPr>
          <a:xfrm>
            <a:off x="76320" y="838080"/>
            <a:ext cx="6858000" cy="57913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2"/>
          <p:cNvSpPr/>
          <p:nvPr/>
        </p:nvSpPr>
        <p:spPr>
          <a:xfrm>
            <a:off x="-76320" y="60480"/>
            <a:ext cx="7162920" cy="11674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atabolism of he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B = bilirubin;  BG = bilirubin diglucuronide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= urobilinogen;  Ub = urobilin;  S = stercobili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13" descr="DA4C21FF9"/>
          <p:cNvPicPr/>
          <p:nvPr/>
        </p:nvPicPr>
        <p:blipFill>
          <a:blip r:embed="rId2"/>
          <a:stretch/>
        </p:blipFill>
        <p:spPr>
          <a:xfrm>
            <a:off x="7010280" y="380880"/>
            <a:ext cx="2133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0" y="380880"/>
            <a:ext cx="9144000" cy="75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2 - 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  <a:ea typeface="Arial"/>
              </a:rPr>
              <a:t>Urobilinogen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rmally present in trace amounts in urine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gh urobilinogen is found in: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Hemolytic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Hepatocellular da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4572000"/>
            <a:ext cx="91440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Nitrite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ositive nitrite test is significant of bacteria in urine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0" y="533520"/>
            <a:ext cx="95248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Arial"/>
              </a:rPr>
              <a:t>Blood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 -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Arial"/>
              </a:rPr>
              <a:t>Hematuria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detectable amou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lood in ur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Acute and chronic glomerulonephriti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b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 Local disorders of kidney &amp; genito-urinar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trac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Trauma , cystitis , renal calculi and   tum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c –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Bleeding disorder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Hemophil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0" y="-457200"/>
            <a:ext cx="914400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I -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Arial"/>
              </a:rPr>
              <a:t>Hemoglobinuri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 hemolysed blood in ur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 Hemoglobinopathies: 1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Thalassemia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b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en-US" sz="3000" spc="-1" strike="noStrike">
                <a:solidFill>
                  <a:srgbClr val="99ff33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Malaria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P. falciparum)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c –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Transfusion reac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Bl. Incompatib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35000" y="838080"/>
            <a:ext cx="88963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rin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s a fluid excreted by most animals including huma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t is formed in the kidneys (renal glomeruli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fluid undergoes chemical changes before it is excreted as urin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Normal urine excretion by a healthy person is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bout 1.5 L per da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135000" y="0"/>
            <a:ext cx="888516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04920" y="1219320"/>
            <a:ext cx="861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Urine contains organic and inorganic constitu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Major </a:t>
            </a:r>
            <a:r>
              <a:rPr b="1" lang="en-US" sz="3200" spc="-1" strike="noStrike" u="sng">
                <a:solidFill>
                  <a:srgbClr val="00ffff"/>
                </a:solidFill>
                <a:uFillTx/>
                <a:latin typeface="Times New Roman"/>
                <a:ea typeface="Arial"/>
              </a:rPr>
              <a:t>inorganic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 sa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So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Potass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Chlor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Small amounts of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C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Mg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&amp;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phosph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Traces of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F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Cu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Z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I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380880" y="1598760"/>
            <a:ext cx="86108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Major 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  <a:ea typeface="Arial"/>
              </a:rPr>
              <a:t>organic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constituen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Non-protein nitrogen (NPN) compoun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Organic aci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Suga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Traces of proteins, vitamins, hormones, and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pig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35000" y="0"/>
            <a:ext cx="888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Arial"/>
              </a:rPr>
              <a:t>Ab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068480"/>
            <a:ext cx="8562960" cy="72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3477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Protei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rmal urine contains very little protein (&lt; 200 mg/d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than this level leads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ondition called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  <a:ea typeface="Arial"/>
              </a:rPr>
              <a:t>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Causes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Pre-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Post-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34640" y="144792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cc"/>
                </a:solidFill>
                <a:uFillTx/>
                <a:latin typeface="Corbel"/>
              </a:rPr>
              <a:t>Prerenal proteinuria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Some abnormal conditions increase plasma prote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levels before reaching the kidne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auses increased filtration of these proteins in the kidne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This exceeds the normal reabsorptive capacity of renal tubul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Results  in overflow of proteins in the ur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35000" y="228600"/>
            <a:ext cx="888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Arial"/>
              </a:rPr>
              <a:t>Ab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80880" y="304920"/>
            <a:ext cx="85345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myeloma causes pre-renal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 proliferative disorder of the immunoglobulin-producing plasma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he serum contains elevated levels of monoclonal light chains antibodies (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ence-Jones prote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ence-Jones protein is filtered in kidneys in high am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xceeding the tubular reabsorption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ence excreted in the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04920" y="685800"/>
            <a:ext cx="89913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he Bence-Jones protein coagulate at 40–6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issolves at 10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Multiple myeloma cases are diagnosed by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Serum electropho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Immunoelectropho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20:58:34Z</dcterms:created>
  <dc:creator>Usman Ghani</dc:creator>
  <dc:description/>
  <dc:language>en-US</dc:language>
  <cp:lastModifiedBy>DrRana</cp:lastModifiedBy>
  <dcterms:modified xsi:type="dcterms:W3CDTF">2016-04-12T03:29:39Z</dcterms:modified>
  <cp:revision>135</cp:revision>
  <dc:subject/>
  <dc:title>Urine Chemistry</dc:title>
</cp:coreProperties>
</file>