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F194-5C1A-4DAF-B807-9CBE3B373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1017-E8AB-4634-BD51-0C014EE26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C726-1830-4B0E-A131-A14D487EC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6C14-266F-49D7-A3DC-8013A3883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92EC-2C24-4E70-99B0-92380892F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C15D-AFBC-4140-B58F-99ACC799E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B19C-3DD6-4A87-B898-4BAC7F298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92EE-1B01-4B5F-B8E2-BBC26CAF0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056B-5699-4737-A9CC-1B040FC9F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EFCD-016F-4580-9901-9CE4C653C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E02F-61B1-4084-B0D0-741F34D85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3498-DB4B-48E5-9AA2-652328F62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D5101-6835-4255-BBFB-1E90C0C3DFF8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google.com.sa/url?sa=i&amp;rct=j&amp;q=&amp;esrc=s&amp;source=images&amp;cd=&amp;cad=rja&amp;uact=8&amp;ved=0CAcQjRw&amp;url=http%3A%2F%2Fwww.ucumberlands.edu%2Facademics%2Fbiology%2Ffaculty%2Fkuss%2Fcourses%2FUrogenital%2FGenitalDevelopment.htm&amp;ei=ywg-VeDPJo_paMKkgPgC&amp;psig=AFQjCNGs3mPMFJaXa3p3X6gQO3-3Rm2slg&amp;ust=1430215063835678" TargetMode="External"/><Relationship Id="rId3" Type="http://schemas.openxmlformats.org/officeDocument/2006/relationships/hyperlink" Target="http://www.google.com.sa/url?sa=i&amp;rct=j&amp;q=&amp;esrc=s&amp;source=images&amp;cd=&amp;cad=rja&amp;uact=8&amp;ved=0CAcQjRw&amp;url=http%3A%2F%2Fwww.ucumberlands.edu%2Facademics%2Fbiology%2Ffaculty%2Fkuss%2Fcourses%2FUrogenital%2FGenitalDevelopment.htm&amp;ei=ywg-VeDPJo_paMKkgPgC&amp;psig=AFQjCNGs3mPMFJaXa3p3X6gQO3-3Rm2slg&amp;ust=1430215063835678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1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google.com.sa/url?sa=i&amp;rct=j&amp;q=&amp;esrc=s&amp;source=images&amp;cd=&amp;cad=rja&amp;uact=8&amp;ved=0CAcQjRw&amp;url=http%3A%2F%2Fwww.a1-medical-center.com%2Ftreatment%2Fregenerative-medicine%2Ftreatments%2Fdiseases-treated%2Fstem-cell-treatment-for-bladder-exstrophy-incontinence%2F&amp;ei=Mpk6Vb_0OsTUarqLgZgE&amp;psig=AFQjCNHXUGkNiOBNtg9_n7mwep5iDPRvlw&amp;ust=1429990040077666" TargetMode="External"/><Relationship Id="rId2" Type="http://schemas.openxmlformats.org/officeDocument/2006/relationships/hyperlink" Target="http://www.google.com.sa/url?sa=i&amp;rct=j&amp;q=&amp;esrc=s&amp;source=images&amp;cd=&amp;cad=rja&amp;uact=8&amp;ved=0CAcQjRw&amp;url=http%3A%2F%2Fwww.a1-medical-center.com%2Ftreatment%2Fregenerative-medicine%2Ftreatments%2Fdiseases-treated%2Fstem-cell-treatment-for-bladder-exstrophy-incontinence%2F&amp;ei=Mpk6Vb_0OsTUarqLgZgE&amp;psig=AFQjCNHXUGkNiOBNtg9_n7mwep5iDPRvlw&amp;ust=1429990040077666" TargetMode="External"/><Relationship Id="rId3" Type="http://schemas.openxmlformats.org/officeDocument/2006/relationships/hyperlink" Target="http://www.google.com.sa/url?sa=i&amp;rct=j&amp;q=&amp;esrc=s&amp;source=images&amp;cd=&amp;cad=rja&amp;uact=8&amp;ved=0CAcQjRw&amp;url=http%3A%2F%2Fwww.a1-medical-center.com%2Ftreatment%2Fregenerative-medicine%2Ftreatments%2Fdiseases-treated%2Fstem-cell-treatment-for-bladder-exstrophy-incontinence%2F&amp;ei=Y5k6VcLaDY2LaOGXgMgF&amp;psig=AFQjCNHXUGkNiOBNtg9_n7mwep5iDPRvlw&amp;ust=1429990040077666" TargetMode="External"/><Relationship Id="rId4" Type="http://schemas.openxmlformats.org/officeDocument/2006/relationships/image" Target="../media/image12.jpeg"/><Relationship Id="rId5" Type="http://schemas.openxmlformats.org/officeDocument/2006/relationships/hyperlink" Target="http://www.google.com.sa/url?sa=i&amp;rct=j&amp;q=&amp;esrc=s&amp;source=images&amp;cd=&amp;cad=rja&amp;uact=8&amp;ved=0ahUKEwjG-9PlqZDMAhXMmBoKHfw9DQoQjRwIBw&amp;url=http%3A%2F%2Fmedlibes.com%2Fentry%2Fbladder-exstrophy&amp;psig=AFQjCNE3zjWp8QBVzup22eFSTqL3gXBLvQ&amp;ust=1460798808665590" TargetMode="External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google.com.sa/url?sa=i&amp;rct=j&amp;q=&amp;esrc=s&amp;source=images&amp;cd=&amp;cad=rja&amp;uact=8&amp;ved=0CAcQjRw&amp;url=http%3A%2F%2Fpixshark.com%2Fepispadias-and-hypospadias.htm&amp;ei=kJw6VdGAKYL6aMPPgdAB&amp;psig=AFQjCNEp8ruAyoe22Xjj1HfUufmPHkx6rw&amp;ust=1429990875948720" TargetMode="External"/><Relationship Id="rId3" Type="http://schemas.openxmlformats.org/officeDocument/2006/relationships/hyperlink" Target="http://www.google.com.sa/url?sa=i&amp;rct=j&amp;q=&amp;esrc=s&amp;source=images&amp;cd=&amp;cad=rja&amp;uact=8&amp;ved=0CAcQjRw&amp;url=http%3A%2F%2Fpixshark.com%2Fepispadias-and-hypospadias.htm&amp;ei=HJ06VcSdJsPWapDFgbgN&amp;psig=AFQjCNEp8ruAyoe22Xjj1HfUufmPHkx6rw&amp;ust=1429990875948720" TargetMode="External"/><Relationship Id="rId4" Type="http://schemas.openxmlformats.org/officeDocument/2006/relationships/hyperlink" Target="https://classconnection.s3.amazonaws.com/957/flashcards/513957/jpg/picture31305319530698.jpg" TargetMode="External"/><Relationship Id="rId5" Type="http://schemas.openxmlformats.org/officeDocument/2006/relationships/image" Target="../media/image16.jpeg"/><Relationship Id="rId6" Type="http://schemas.openxmlformats.org/officeDocument/2006/relationships/image" Target="../media/image17.png"/><Relationship Id="rId7" Type="http://schemas.openxmlformats.org/officeDocument/2006/relationships/image" Target="../media/image18.jpe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google.com.sa/url?sa=i&amp;rct=j&amp;q=&amp;esrc=s&amp;source=images&amp;cd=&amp;cad=rja&amp;uact=8&amp;ved=0CAcQjRw&amp;url=http%3A%2F%2Fbio.sunyorange.edu%2Fupdated2%2Fsummaries%2Fembry.html%2F3%2520digestive.htm&amp;ei=F_k9Vd6eHdbmap_FgPAI&amp;psig=AFQjCNG0pJNPKBZ86GQHdVgZZ9nMa8r2-Q&amp;ust=1430210632666002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teachmeanatomy.info/wp-content/uploads/Greater-and-Lesser-Pelvis-Divided-by-the-Pelvic-Brim.png" TargetMode="Externa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"/>
              </a:rPr>
              <a:t>Development of the urinary bladder and urethra</a:t>
            </a:r>
            <a:r>
              <a:rPr b="0" lang="en-US" sz="4000" spc="-1" strike="noStrike">
                <a:solidFill>
                  <a:srgbClr val="000000"/>
                </a:solidFill>
                <a:latin typeface="com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941720"/>
            <a:ext cx="6400800" cy="6969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t">
            <a:noAutofit/>
          </a:bodyPr>
          <a:p>
            <a:pPr indent="0" algn="ctr" rtl="1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Bradley Hand ITC"/>
              </a:rPr>
              <a:t>Dr. Sanaa  Alsharawi / Dr. Essam Salama</a:t>
            </a:r>
            <a:r>
              <a:rPr b="0" lang="en-US" sz="2700" spc="-1" strike="noStrike">
                <a:solidFill>
                  <a:srgbClr val="898989"/>
                </a:solidFill>
                <a:latin typeface="Bradley Hand ITC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3971880" cy="635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Female Urethr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197000"/>
            <a:ext cx="3538440" cy="516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ntir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emale urethr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erived from </a:t>
            </a: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endoderm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the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pelvic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t of the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rogenital sinu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66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The external urethral orific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s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orsal to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 glans </a:t>
            </a: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clitori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Content Placeholder 5" descr="genitalia.jpg"/>
          <p:cNvPicPr/>
          <p:nvPr/>
        </p:nvPicPr>
        <p:blipFill>
          <a:blip r:embed="rId1"/>
          <a:srcRect l="0" t="0" r="0" b="4296"/>
          <a:stretch/>
        </p:blipFill>
        <p:spPr>
          <a:xfrm>
            <a:off x="4965840" y="981000"/>
            <a:ext cx="3638520" cy="53056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111" name="Frame 4"/>
          <p:cNvSpPr/>
          <p:nvPr/>
        </p:nvSpPr>
        <p:spPr>
          <a:xfrm>
            <a:off x="8143920" y="3071880"/>
            <a:ext cx="571320" cy="357120"/>
          </a:xfrm>
          <a:prstGeom prst="pie">
            <a:avLst/>
          </a:prstGeom>
          <a:solidFill>
            <a:srgbClr val="4f81bd"/>
          </a:solidFill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rame 5"/>
          <p:cNvSpPr/>
          <p:nvPr/>
        </p:nvSpPr>
        <p:spPr>
          <a:xfrm>
            <a:off x="7858080" y="5000760"/>
            <a:ext cx="428760" cy="285480"/>
          </a:xfrm>
          <a:prstGeom prst="pie">
            <a:avLst/>
          </a:prstGeom>
          <a:solidFill>
            <a:srgbClr val="4f81bd"/>
          </a:solidFill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rame 6"/>
          <p:cNvSpPr/>
          <p:nvPr/>
        </p:nvSpPr>
        <p:spPr>
          <a:xfrm>
            <a:off x="8001000" y="1143000"/>
            <a:ext cx="785880" cy="214200"/>
          </a:xfrm>
          <a:prstGeom prst="pie">
            <a:avLst/>
          </a:prstGeom>
          <a:solidFill>
            <a:srgbClr val="4f81b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9">
            <a:hlinkClick r:id="rId2"/>
          </p:cNvPr>
          <p:cNvSpPr/>
          <p:nvPr/>
        </p:nvSpPr>
        <p:spPr>
          <a:xfrm>
            <a:off x="54000" y="-1812960"/>
            <a:ext cx="5419800" cy="37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11">
            <a:hlinkClick r:id="rId3"/>
          </p:cNvPr>
          <p:cNvSpPr/>
          <p:nvPr/>
        </p:nvSpPr>
        <p:spPr>
          <a:xfrm>
            <a:off x="54000" y="-1812960"/>
            <a:ext cx="5419800" cy="37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142560"/>
            <a:ext cx="3467160" cy="857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Male Ureth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13840" y="1143000"/>
            <a:ext cx="4357800" cy="5500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b0f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The genital tubercl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ongates forming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he phallus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ich is the precursor of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he peni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Most of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ale urethra : prostatic, membranous and spongy parts i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rived from 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endoder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elvic middle par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rogenit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inu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b05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The distal part of male penile urethra in glans peni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s as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ctodermal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olid cor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grows towards the root of penis to meet the spongy urethra , later it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analizes.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5" descr=""/>
          <p:cNvPicPr/>
          <p:nvPr/>
        </p:nvPicPr>
        <p:blipFill>
          <a:blip r:embed="rId1"/>
          <a:srcRect l="1255" t="2240" r="1255" b="5823"/>
          <a:stretch/>
        </p:blipFill>
        <p:spPr>
          <a:xfrm>
            <a:off x="4788000" y="3438360"/>
            <a:ext cx="4184640" cy="31593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"/>
          <p:cNvPicPr/>
          <p:nvPr/>
        </p:nvPicPr>
        <p:blipFill>
          <a:blip r:embed="rId2"/>
          <a:srcRect l="1039" t="2678" r="1039" b="5081"/>
          <a:stretch/>
        </p:blipFill>
        <p:spPr>
          <a:xfrm>
            <a:off x="4692600" y="333360"/>
            <a:ext cx="4343400" cy="3000240"/>
          </a:xfrm>
          <a:prstGeom prst="rect">
            <a:avLst/>
          </a:prstGeom>
          <a:ln w="0">
            <a:noFill/>
          </a:ln>
        </p:spPr>
      </p:pic>
      <p:sp>
        <p:nvSpPr>
          <p:cNvPr id="120" name="Frame 5"/>
          <p:cNvSpPr/>
          <p:nvPr/>
        </p:nvSpPr>
        <p:spPr>
          <a:xfrm>
            <a:off x="8286840" y="5429160"/>
            <a:ext cx="714240" cy="28584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Straight Arrow Connector 7"/>
          <p:cNvCxnSpPr/>
          <p:nvPr/>
        </p:nvCxnSpPr>
        <p:spPr>
          <a:xfrm flipH="1">
            <a:off x="7714440" y="1285560"/>
            <a:ext cx="786600" cy="786600"/>
          </a:xfrm>
          <a:prstGeom prst="straightConnector1">
            <a:avLst/>
          </a:prstGeom>
          <a:ln w="9360">
            <a:solidFill>
              <a:srgbClr val="6600ff"/>
            </a:solidFill>
            <a:miter/>
            <a:tailEnd len="med" type="triangle" w="med"/>
          </a:ln>
        </p:spPr>
      </p:cxnSp>
      <p:sp>
        <p:nvSpPr>
          <p:cNvPr id="122" name="TextBox 8"/>
          <p:cNvSpPr/>
          <p:nvPr/>
        </p:nvSpPr>
        <p:spPr>
          <a:xfrm>
            <a:off x="8286840" y="928800"/>
            <a:ext cx="714240" cy="398520"/>
          </a:xfrm>
          <a:prstGeom prst="rect">
            <a:avLst/>
          </a:prstGeom>
          <a:noFill/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enital tuberc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Straight Arrow Connector 10"/>
          <p:cNvCxnSpPr/>
          <p:nvPr/>
        </p:nvCxnSpPr>
        <p:spPr>
          <a:xfrm flipH="1">
            <a:off x="8071560" y="4714920"/>
            <a:ext cx="715320" cy="643320"/>
          </a:xfrm>
          <a:prstGeom prst="straightConnector1">
            <a:avLst/>
          </a:prstGeom>
          <a:ln w="9360">
            <a:solidFill>
              <a:srgbClr val="6600ff"/>
            </a:solidFill>
            <a:miter/>
            <a:tailEnd len="med" type="triangle" w="med"/>
          </a:ln>
        </p:spPr>
      </p:cxnSp>
      <p:sp>
        <p:nvSpPr>
          <p:cNvPr id="124" name="TextBox 11"/>
          <p:cNvSpPr/>
          <p:nvPr/>
        </p:nvSpPr>
        <p:spPr>
          <a:xfrm>
            <a:off x="8501040" y="4500720"/>
            <a:ext cx="642960" cy="215640"/>
          </a:xfrm>
          <a:prstGeom prst="rect">
            <a:avLst/>
          </a:prstGeom>
          <a:noFill/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hallu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13"/>
          <p:cNvSpPr/>
          <p:nvPr/>
        </p:nvSpPr>
        <p:spPr>
          <a:xfrm>
            <a:off x="8072280" y="1714680"/>
            <a:ext cx="928800" cy="36972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Content Placeholder 5" descr="genitalia.jpg"/>
          <p:cNvPicPr/>
          <p:nvPr/>
        </p:nvPicPr>
        <p:blipFill>
          <a:blip r:embed="rId3"/>
          <a:srcRect l="0" t="0" r="0" b="4296"/>
          <a:stretch/>
        </p:blipFill>
        <p:spPr>
          <a:xfrm>
            <a:off x="4714920" y="428760"/>
            <a:ext cx="4429080" cy="621504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Times New Roman"/>
              </a:rPr>
              <a:t>Anomalies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214200" y="1599840"/>
            <a:ext cx="6072480" cy="4543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6600ff"/>
                </a:solidFill>
                <a:uFillTx/>
                <a:latin typeface="Times New Roman"/>
                <a:ea typeface="Times New Roman"/>
              </a:rPr>
              <a:t>Urachal Anomali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6600ff"/>
                </a:solidFill>
                <a:uFillTx/>
                <a:latin typeface="Times New Roman"/>
                <a:ea typeface="Times New Roman"/>
              </a:rPr>
              <a:t>Urethral Anomali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xtrophy of the bladder (Ectopia vesicae); </a:t>
            </a:r>
            <a:r>
              <a:rPr b="1" lang="en-US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exposure of the posterior wall of the bladder</a:t>
            </a:r>
            <a:r>
              <a:rPr b="1" lang="en-US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e to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 defect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nterior abdominal wall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nterior wall  of the bladd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AutoShape 5">
            <a:hlinkClick r:id="rId1"/>
          </p:cNvPr>
          <p:cNvSpPr/>
          <p:nvPr/>
        </p:nvSpPr>
        <p:spPr>
          <a:xfrm>
            <a:off x="54000" y="-1173240"/>
            <a:ext cx="285732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7">
            <a:hlinkClick r:id="rId2"/>
          </p:cNvPr>
          <p:cNvSpPr/>
          <p:nvPr/>
        </p:nvSpPr>
        <p:spPr>
          <a:xfrm>
            <a:off x="54000" y="-1173240"/>
            <a:ext cx="285732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9">
            <a:hlinkClick r:id="rId3"/>
          </p:cNvPr>
          <p:cNvSpPr/>
          <p:nvPr/>
        </p:nvSpPr>
        <p:spPr>
          <a:xfrm>
            <a:off x="54000" y="-1173240"/>
            <a:ext cx="285732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1" descr="bladder exstrophy2"/>
          <p:cNvPicPr/>
          <p:nvPr/>
        </p:nvPicPr>
        <p:blipFill>
          <a:blip r:embed="rId4"/>
          <a:stretch/>
        </p:blipFill>
        <p:spPr>
          <a:xfrm>
            <a:off x="6286680" y="3214800"/>
            <a:ext cx="2857320" cy="2447640"/>
          </a:xfrm>
          <a:prstGeom prst="rect">
            <a:avLst/>
          </a:prstGeom>
          <a:ln w="0">
            <a:noFill/>
          </a:ln>
        </p:spPr>
      </p:pic>
      <p:sp>
        <p:nvSpPr>
          <p:cNvPr id="133" name="TextBox 7"/>
          <p:cNvSpPr/>
          <p:nvPr/>
        </p:nvSpPr>
        <p:spPr>
          <a:xfrm>
            <a:off x="6357960" y="5715000"/>
            <a:ext cx="20718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ctopia vesic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10" descr="http://medlibes.com/uploads/Screen%20shot%202010-07-14%20at%201.38.29%20PM.pn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215040" y="3214800"/>
            <a:ext cx="2928960" cy="24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4259160" cy="6350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Urachal anomali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3898800" cy="366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, Urachal cys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sistence or </a:t>
            </a:r>
            <a:r>
              <a:rPr b="1" lang="en-US" sz="24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remnant of epithelial lining of urachu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, Urachal sinus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charge serous fluid from the umblicu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, Urachal fistula</a:t>
            </a:r>
            <a:r>
              <a:rPr b="1" lang="en-US" sz="24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,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ntire urachu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main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aten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allows urine to escape from the umbilicu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Content Placeholder 4" descr="27B4F603"/>
          <p:cNvPicPr/>
          <p:nvPr/>
        </p:nvPicPr>
        <p:blipFill>
          <a:blip r:embed="rId1"/>
          <a:srcRect l="43172" t="11649" r="27629" b="22223"/>
          <a:stretch/>
        </p:blipFill>
        <p:spPr>
          <a:xfrm>
            <a:off x="4932360" y="190440"/>
            <a:ext cx="3889440" cy="6407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8" name="Oval 6"/>
          <p:cNvSpPr/>
          <p:nvPr/>
        </p:nvSpPr>
        <p:spPr>
          <a:xfrm>
            <a:off x="5867280" y="907920"/>
            <a:ext cx="792360" cy="289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7"/>
          <p:cNvSpPr/>
          <p:nvPr/>
        </p:nvSpPr>
        <p:spPr>
          <a:xfrm>
            <a:off x="5435640" y="549360"/>
            <a:ext cx="720720" cy="287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8"/>
          <p:cNvSpPr/>
          <p:nvPr/>
        </p:nvSpPr>
        <p:spPr>
          <a:xfrm>
            <a:off x="5003640" y="3141720"/>
            <a:ext cx="936720" cy="3585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9"/>
          <p:cNvSpPr/>
          <p:nvPr/>
        </p:nvSpPr>
        <p:spPr>
          <a:xfrm>
            <a:off x="5003640" y="5013360"/>
            <a:ext cx="936720" cy="360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42560"/>
            <a:ext cx="8002440" cy="765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Urethral Anomal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85840" y="907920"/>
            <a:ext cx="4070160" cy="489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-Hypospadius 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he </a:t>
            </a:r>
            <a:r>
              <a:rPr b="0" lang="en-GB" sz="24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most common anomaly,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 </a:t>
            </a:r>
            <a:r>
              <a:rPr b="1" lang="en-GB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incomplete fusion of the urethral fold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GB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bnormal openings of the urethra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cur along the </a:t>
            </a:r>
            <a:r>
              <a:rPr b="0" lang="en-GB" sz="24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ventral (inferior)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pect of </a:t>
            </a:r>
            <a:r>
              <a:rPr b="0" lang="en-GB" sz="24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the peni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-Epispadius 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</a:t>
            </a:r>
            <a:r>
              <a:rPr b="0" lang="en-GB" sz="24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a rare abnormality,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which the </a:t>
            </a:r>
            <a:r>
              <a:rPr b="1" lang="en-GB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urethral meatus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found on the </a:t>
            </a:r>
            <a:r>
              <a:rPr b="1" lang="en-GB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dorsum of peni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t is most often associated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 </a:t>
            </a:r>
            <a:r>
              <a:rPr b="1" lang="en-GB" sz="24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extrophy of the bladd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4" descr="C:\Documents and Settings\EssamEldin\Desktop\emb urinary and urethra\imagesCAOS18AR.jpg"/>
          <p:cNvPicPr/>
          <p:nvPr/>
        </p:nvPicPr>
        <p:blipFill>
          <a:blip r:embed="rId1"/>
          <a:stretch/>
        </p:blipFill>
        <p:spPr>
          <a:xfrm>
            <a:off x="4572000" y="1052640"/>
            <a:ext cx="4086360" cy="3271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5" name="AutoShape 8">
            <a:hlinkClick r:id="rId2"/>
          </p:cNvPr>
          <p:cNvSpPr/>
          <p:nvPr/>
        </p:nvSpPr>
        <p:spPr>
          <a:xfrm>
            <a:off x="54000" y="-1576440"/>
            <a:ext cx="6838920" cy="32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10">
            <a:hlinkClick r:id="rId3"/>
          </p:cNvPr>
          <p:cNvSpPr/>
          <p:nvPr/>
        </p:nvSpPr>
        <p:spPr>
          <a:xfrm>
            <a:off x="54000" y="-1576440"/>
            <a:ext cx="6838920" cy="32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2" descr="Epispadias And Hypospadias Epispadias And Hypospadias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572000" y="1071720"/>
            <a:ext cx="4143240" cy="32860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48" name="Picture 7" descr="http://mensolutions.es/wp-content/uploads/2013/12/SJpkbHrcQnXe.RVY2if5Eg_m.png"/>
          <p:cNvPicPr/>
          <p:nvPr/>
        </p:nvPicPr>
        <p:blipFill>
          <a:blip r:embed="rId6"/>
          <a:stretch/>
        </p:blipFill>
        <p:spPr>
          <a:xfrm>
            <a:off x="4929120" y="4500720"/>
            <a:ext cx="3429000" cy="207144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49" name="Picture 6" descr="F2FD6340"/>
          <p:cNvPicPr/>
          <p:nvPr/>
        </p:nvPicPr>
        <p:blipFill>
          <a:blip r:embed="rId7"/>
          <a:srcRect l="13603" t="42522" r="57283" b="29769"/>
          <a:stretch/>
        </p:blipFill>
        <p:spPr>
          <a:xfrm>
            <a:off x="4932360" y="4437000"/>
            <a:ext cx="3425760" cy="2158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0" name="Picture 10" descr="http://medlibes.com/uploads/Screen%20shot%202010-07-14%20at%201.38.29%20PM.png"/>
          <p:cNvPicPr/>
          <p:nvPr/>
        </p:nvPicPr>
        <p:blipFill>
          <a:blip r:embed="rId8"/>
          <a:stretch/>
        </p:blipFill>
        <p:spPr>
          <a:xfrm>
            <a:off x="4643280" y="4429080"/>
            <a:ext cx="421488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28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800" spc="-1" strike="noStrike">
                <a:solidFill>
                  <a:srgbClr val="ff0000"/>
                </a:solidFill>
                <a:latin typeface="Forte"/>
              </a:rPr>
              <a:t>Thank you</a:t>
            </a:r>
            <a:endParaRPr b="0" lang="en-US" sz="1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Box 1"/>
          <p:cNvSpPr/>
          <p:nvPr/>
        </p:nvSpPr>
        <p:spPr>
          <a:xfrm>
            <a:off x="642960" y="1714680"/>
            <a:ext cx="792972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. The urinary bladder is mainly developed from 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Vesical part of the urogenital sin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Pelvic part of the urogenital sin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Pallic part of the urogenital sin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. Allanto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. Which part of urogenital sinus forms the entire female urethra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Caudal par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Vesical p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 Pelvic p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.  All par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  The trigone of the urinary bladder is developed from 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Paramesonephric du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onephric du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Allanto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. Urogenital sinus.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. The urethra in glans penis is developed from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The vesical part of urogenital sin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The pelvic part of urogenital sin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The ectoder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. The splanchnic mesoder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2"/>
          <p:cNvSpPr/>
          <p:nvPr/>
        </p:nvSpPr>
        <p:spPr>
          <a:xfrm>
            <a:off x="571680" y="142920"/>
            <a:ext cx="8143560" cy="1465560"/>
          </a:xfrm>
          <a:prstGeom prst="rect">
            <a:avLst/>
          </a:prstGeom>
          <a:solidFill>
            <a:srgbClr val="ffff0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6600ff"/>
                </a:solidFill>
                <a:latin typeface="Arial"/>
              </a:rPr>
              <a:t>Bladder exstrophy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s a congenital abnormality that occurs when the skin over the lower abdominal wall does not form properly. The bladder is open and exposed on the outside of the abdomen;</a:t>
            </a:r>
            <a:r>
              <a:rPr b="1" lang="en-US" sz="1800" spc="-1" strike="noStrike">
                <a:solidFill>
                  <a:srgbClr val="6600ff"/>
                </a:solidFill>
                <a:latin typeface="Arial"/>
              </a:rPr>
              <a:t> it is associated with epispadiu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6600ff"/>
                </a:solidFill>
                <a:latin typeface="Arial"/>
              </a:rPr>
              <a:t>In epispadias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, the </a:t>
            </a:r>
            <a:r>
              <a:rPr b="1" lang="en-GB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urethral meatus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found on the </a:t>
            </a:r>
            <a:r>
              <a:rPr b="1" lang="en-GB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dorsum of pen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3"/>
          <p:cNvSpPr/>
          <p:nvPr/>
        </p:nvSpPr>
        <p:spPr>
          <a:xfrm>
            <a:off x="0" y="14292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.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r>
              <a:rPr b="0" lang="en-GB" sz="8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1f497d"/>
            </a:solidFill>
            <a:miter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t the end of the lecture the student is able to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24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GB" sz="2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escribe </a:t>
            </a:r>
            <a:r>
              <a:rPr b="1" lang="en-GB" sz="25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the cloaca </a:t>
            </a:r>
            <a:r>
              <a:rPr b="1" lang="en-GB" sz="2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nd the formation of </a:t>
            </a:r>
            <a:r>
              <a:rPr b="1" lang="en-GB" sz="25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the </a:t>
            </a:r>
            <a:r>
              <a:rPr b="1" lang="en-US" sz="25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urogenital sinus.</a:t>
            </a:r>
            <a:r>
              <a:rPr b="1" lang="en-GB" sz="2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24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Discuss </a:t>
            </a:r>
            <a:r>
              <a:rPr b="1" lang="en-US" sz="2500" spc="-1" strike="noStrike" u="sng">
                <a:solidFill>
                  <a:srgbClr val="0066ff"/>
                </a:solidFill>
                <a:uFillTx/>
                <a:latin typeface="Times New Roman"/>
                <a:ea typeface="Times New Roman"/>
              </a:rPr>
              <a:t>the division of the urogenital sinus </a:t>
            </a:r>
            <a:r>
              <a:rPr b="1" lang="en-US" sz="25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into various parts and name </a:t>
            </a:r>
            <a:r>
              <a:rPr b="1" lang="en-US" sz="2500" spc="-1" strike="noStrike" u="sng">
                <a:solidFill>
                  <a:srgbClr val="0066ff"/>
                </a:solidFill>
                <a:uFillTx/>
                <a:latin typeface="Times New Roman"/>
                <a:ea typeface="Times New Roman"/>
              </a:rPr>
              <a:t>the adult organs that are derived from each part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24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Describe </a:t>
            </a:r>
            <a:r>
              <a:rPr b="1" lang="en-US" sz="2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how </a:t>
            </a:r>
            <a:r>
              <a:rPr b="1" lang="en-US" sz="25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the caudal parts of the mesonephric ducts </a:t>
            </a:r>
            <a:r>
              <a:rPr b="1" lang="en-US" sz="2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re absorbed into the urogenital sinus and the significance of this embryonic event.                                                                           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24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Discuss the position of</a:t>
            </a:r>
            <a:r>
              <a:rPr b="1" lang="en-US" sz="2500" spc="-1" strike="noStrike" u="sng">
                <a:solidFill>
                  <a:srgbClr val="00b050"/>
                </a:solidFill>
                <a:uFillTx/>
                <a:latin typeface="Times New Roman"/>
                <a:ea typeface="Times New Roman"/>
              </a:rPr>
              <a:t> the urachus </a:t>
            </a:r>
            <a:r>
              <a:rPr b="1" lang="en-US" sz="25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and its significance and fate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24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Describe the various</a:t>
            </a:r>
            <a:r>
              <a:rPr b="1" lang="en-GB" sz="2500" spc="-1" strike="noStrike" u="sng">
                <a:solidFill>
                  <a:srgbClr val="0066ff"/>
                </a:solidFill>
                <a:uFillTx/>
                <a:latin typeface="Times New Roman"/>
                <a:ea typeface="Times New Roman"/>
              </a:rPr>
              <a:t> anomalies </a:t>
            </a:r>
            <a:r>
              <a:rPr b="1" lang="en-GB" sz="25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concerned with</a:t>
            </a:r>
            <a:r>
              <a:rPr b="1" lang="en-GB" sz="2500" spc="-1" strike="noStrike" u="sng">
                <a:solidFill>
                  <a:srgbClr val="0066ff"/>
                </a:solidFill>
                <a:uFillTx/>
                <a:latin typeface="Times New Roman"/>
                <a:ea typeface="Times New Roman"/>
              </a:rPr>
              <a:t> the urinary bladder and urethra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285480"/>
            <a:ext cx="3857760" cy="785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Cloaca 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42560" y="1071720"/>
            <a:ext cx="3708360" cy="50544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 fontScale="98000"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loaca is the </a:t>
            </a:r>
            <a:r>
              <a:rPr b="1" lang="en-US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dilated terminal par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the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ind gut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t receive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llantoi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the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esonephric duct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ts floor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closed by the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loacal membra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Content Placeholder 2" descr="C:\Documents and Settings\EssamEldin\Desktop\emb urinary and urethra\Kidney.jpg"/>
          <p:cNvPicPr/>
          <p:nvPr/>
        </p:nvPicPr>
        <p:blipFill>
          <a:blip r:embed="rId1"/>
          <a:stretch/>
        </p:blipFill>
        <p:spPr>
          <a:xfrm>
            <a:off x="3989520" y="1341360"/>
            <a:ext cx="5037120" cy="388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8" name="Oval 4"/>
          <p:cNvSpPr/>
          <p:nvPr/>
        </p:nvSpPr>
        <p:spPr>
          <a:xfrm>
            <a:off x="3995640" y="4149720"/>
            <a:ext cx="576360" cy="358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5"/>
          <p:cNvSpPr/>
          <p:nvPr/>
        </p:nvSpPr>
        <p:spPr>
          <a:xfrm>
            <a:off x="3995640" y="3860640"/>
            <a:ext cx="647640" cy="2160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6"/>
          <p:cNvSpPr/>
          <p:nvPr/>
        </p:nvSpPr>
        <p:spPr>
          <a:xfrm>
            <a:off x="5580000" y="4437000"/>
            <a:ext cx="863640" cy="4320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ight Arrow 8"/>
          <p:cNvSpPr/>
          <p:nvPr/>
        </p:nvSpPr>
        <p:spPr>
          <a:xfrm>
            <a:off x="7143840" y="4286160"/>
            <a:ext cx="357120" cy="71640"/>
          </a:xfrm>
          <a:prstGeom prst="rightArrow">
            <a:avLst>
              <a:gd name="adj1" fmla="val 50000"/>
              <a:gd name="adj2" fmla="val 49849"/>
            </a:avLst>
          </a:prstGeom>
          <a:solidFill>
            <a:srgbClr val="4f81b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272520"/>
            <a:ext cx="4143240" cy="708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Cloaca 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1000080"/>
            <a:ext cx="4284720" cy="5214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mesodermal urorectal septu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vides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loac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loacal membran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o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b0f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Ventral part</a:t>
            </a:r>
            <a:r>
              <a:rPr b="0" lang="en-US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;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imitive urogenital sinu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communicates with the </a:t>
            </a:r>
            <a:r>
              <a:rPr b="0" lang="en-US" sz="24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allantoi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the </a:t>
            </a:r>
            <a:r>
              <a:rPr b="0" lang="en-US" sz="24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mesonephric duc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ts flo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the </a:t>
            </a:r>
            <a:r>
              <a:rPr b="1" lang="en-US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urogenital membran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b0f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Dorsal part;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</a:t>
            </a:r>
            <a:r>
              <a:rPr b="1" lang="en-US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norectal canal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</a:t>
            </a:r>
            <a:r>
              <a:rPr b="1" lang="en-US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s th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ctu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pper part of anal canal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ts flo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the </a:t>
            </a:r>
            <a:r>
              <a:rPr b="1" lang="en-US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anal membran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6ABD1CE8"/>
          <p:cNvPicPr/>
          <p:nvPr/>
        </p:nvPicPr>
        <p:blipFill>
          <a:blip r:embed="rId1"/>
          <a:srcRect l="20246" t="34687" r="41604" b="38631"/>
          <a:stretch/>
        </p:blipFill>
        <p:spPr>
          <a:xfrm>
            <a:off x="4140360" y="1484280"/>
            <a:ext cx="4951080" cy="2819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5" name="TextBox 4"/>
          <p:cNvSpPr/>
          <p:nvPr/>
        </p:nvSpPr>
        <p:spPr>
          <a:xfrm>
            <a:off x="5796000" y="3500280"/>
            <a:ext cx="576360" cy="462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4"/>
          <p:cNvSpPr/>
          <p:nvPr/>
        </p:nvSpPr>
        <p:spPr>
          <a:xfrm>
            <a:off x="4214880" y="2643120"/>
            <a:ext cx="576360" cy="461880"/>
          </a:xfrm>
          <a:prstGeom prst="rect">
            <a:avLst/>
          </a:prstGeom>
          <a:noFill/>
          <a:ln w="284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4"/>
          <p:cNvSpPr/>
          <p:nvPr/>
        </p:nvSpPr>
        <p:spPr>
          <a:xfrm>
            <a:off x="6500880" y="3571920"/>
            <a:ext cx="571320" cy="461880"/>
          </a:xfrm>
          <a:prstGeom prst="rect">
            <a:avLst/>
          </a:prstGeom>
          <a:noFill/>
          <a:ln w="284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9" descr="https://encrypted-tbn2.gstatic.com/images?q=tbn:ANd9GcSu8PeUAgHab_QBht8dtDAWxKBJP04dFZsDPrMGui4eoNtwIVq0">
            <a:hlinkClick r:id="rId2"/>
          </p:cNvPr>
          <p:cNvPicPr/>
          <p:nvPr/>
        </p:nvPicPr>
        <p:blipFill>
          <a:blip r:embed="rId3"/>
          <a:srcRect l="0" t="0" r="0" b="11065"/>
          <a:stretch/>
        </p:blipFill>
        <p:spPr>
          <a:xfrm>
            <a:off x="4214880" y="4429080"/>
            <a:ext cx="492912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5410080" cy="635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Primitive urogenital sinu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560" y="1434960"/>
            <a:ext cx="4033800" cy="385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divided into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hree parts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66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A </a:t>
            </a:r>
            <a:r>
              <a:rPr b="1" lang="en-US" sz="24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cranial;</a:t>
            </a:r>
            <a:r>
              <a:rPr b="0" lang="en-US" sz="24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esical par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most of the bladd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continuous with the allantoi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66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A </a:t>
            </a:r>
            <a:r>
              <a:rPr b="1" lang="en-US" sz="24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middle;</a:t>
            </a:r>
            <a:r>
              <a:rPr b="0" lang="en-US" sz="24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elvic par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s </a:t>
            </a:r>
            <a:r>
              <a:rPr b="0" lang="en-US" sz="2400" spc="-1" strike="noStrike" u="sng">
                <a:solidFill>
                  <a:srgbClr val="ff00ff"/>
                </a:solidFill>
                <a:uFillTx/>
                <a:latin typeface="Times New Roman"/>
                <a:ea typeface="Times New Roman"/>
              </a:rPr>
              <a:t>main part</a:t>
            </a:r>
            <a:r>
              <a:rPr b="0" lang="en-US" sz="24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</a:t>
            </a:r>
            <a:r>
              <a:rPr b="0" lang="en-US" sz="24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 u="sng">
                <a:solidFill>
                  <a:srgbClr val="ff00ff"/>
                </a:solidFill>
                <a:uFillTx/>
                <a:latin typeface="Times New Roman"/>
                <a:ea typeface="Times New Roman"/>
              </a:rPr>
              <a:t>male urethr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0" lang="en-US" sz="2400" spc="-1" strike="noStrike" u="sng">
                <a:solidFill>
                  <a:srgbClr val="ff00ff"/>
                </a:solidFill>
                <a:uFillTx/>
                <a:latin typeface="Times New Roman"/>
                <a:ea typeface="Times New Roman"/>
              </a:rPr>
              <a:t>entire female urethr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66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A </a:t>
            </a:r>
            <a:r>
              <a:rPr b="1" lang="en-US" sz="24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caudal;</a:t>
            </a:r>
            <a:r>
              <a:rPr b="0" lang="en-US" sz="24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hallic par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ows toward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genital tubercl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6" descr="2610BC6D"/>
          <p:cNvPicPr/>
          <p:nvPr/>
        </p:nvPicPr>
        <p:blipFill>
          <a:blip r:embed="rId1"/>
          <a:srcRect l="7974" t="29367" r="44147" b="53110"/>
          <a:stretch/>
        </p:blipFill>
        <p:spPr>
          <a:xfrm>
            <a:off x="4500720" y="1484280"/>
            <a:ext cx="4464000" cy="3024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2" name="Oval 4"/>
          <p:cNvSpPr/>
          <p:nvPr/>
        </p:nvSpPr>
        <p:spPr>
          <a:xfrm>
            <a:off x="7093080" y="2205000"/>
            <a:ext cx="718920" cy="360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5"/>
          <p:cNvSpPr/>
          <p:nvPr/>
        </p:nvSpPr>
        <p:spPr>
          <a:xfrm>
            <a:off x="7020000" y="3213000"/>
            <a:ext cx="720720" cy="287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6"/>
          <p:cNvSpPr/>
          <p:nvPr/>
        </p:nvSpPr>
        <p:spPr>
          <a:xfrm>
            <a:off x="7020000" y="3500280"/>
            <a:ext cx="647640" cy="360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7"/>
          <p:cNvSpPr/>
          <p:nvPr/>
        </p:nvSpPr>
        <p:spPr>
          <a:xfrm>
            <a:off x="7885080" y="2924280"/>
            <a:ext cx="1008000" cy="288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5-Point Star 8"/>
          <p:cNvSpPr/>
          <p:nvPr/>
        </p:nvSpPr>
        <p:spPr>
          <a:xfrm>
            <a:off x="5929200" y="2500200"/>
            <a:ext cx="46080" cy="71640"/>
          </a:xfrm>
          <a:prstGeom prst="pie">
            <a:avLst/>
          </a:prstGeom>
          <a:solidFill>
            <a:srgbClr val="4f81b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5-Point Star 9"/>
          <p:cNvSpPr/>
          <p:nvPr/>
        </p:nvSpPr>
        <p:spPr>
          <a:xfrm>
            <a:off x="5857920" y="2857680"/>
            <a:ext cx="46080" cy="71280"/>
          </a:xfrm>
          <a:prstGeom prst="pie">
            <a:avLst/>
          </a:prstGeom>
          <a:solidFill>
            <a:srgbClr val="4f81b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5-Point Star 10"/>
          <p:cNvSpPr/>
          <p:nvPr/>
        </p:nvSpPr>
        <p:spPr>
          <a:xfrm>
            <a:off x="5572080" y="2928960"/>
            <a:ext cx="71640" cy="46080"/>
          </a:xfrm>
          <a:prstGeom prst="pie">
            <a:avLst/>
          </a:prstGeom>
          <a:solidFill>
            <a:srgbClr val="4f81b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4330800" cy="635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Urinary bladder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3827520" cy="511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develops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ainly</a:t>
            </a:r>
            <a:r>
              <a:rPr b="1" lang="en-US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m the </a:t>
            </a:r>
            <a:r>
              <a:rPr b="1" lang="en-US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vesical part of the urogenital sinu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rigon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derived from the </a:t>
            </a:r>
            <a:r>
              <a:rPr b="1" lang="en-US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absorbed caudal end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the </a:t>
            </a:r>
            <a:r>
              <a:rPr b="1" lang="en-US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mesonephric duc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The epithelium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ndoderm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origi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The other layer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derived from the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planchinic mesoder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6" descr="2610BC6D"/>
          <p:cNvPicPr/>
          <p:nvPr/>
        </p:nvPicPr>
        <p:blipFill>
          <a:blip r:embed="rId1"/>
          <a:srcRect l="7974" t="28938" r="44996" b="53110"/>
          <a:stretch/>
        </p:blipFill>
        <p:spPr>
          <a:xfrm>
            <a:off x="4716360" y="1413000"/>
            <a:ext cx="3961080" cy="2158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2" name="Picture 5" descr=""/>
          <p:cNvPicPr/>
          <p:nvPr/>
        </p:nvPicPr>
        <p:blipFill>
          <a:blip r:embed="rId2"/>
          <a:srcRect l="1255" t="2240" r="1255" b="5823"/>
          <a:stretch/>
        </p:blipFill>
        <p:spPr>
          <a:xfrm>
            <a:off x="4572000" y="3699000"/>
            <a:ext cx="4184640" cy="3159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3" name="Oval 10"/>
          <p:cNvSpPr/>
          <p:nvPr/>
        </p:nvSpPr>
        <p:spPr>
          <a:xfrm>
            <a:off x="7929720" y="5214960"/>
            <a:ext cx="1000080" cy="431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11"/>
          <p:cNvSpPr/>
          <p:nvPr/>
        </p:nvSpPr>
        <p:spPr>
          <a:xfrm>
            <a:off x="6858000" y="1928880"/>
            <a:ext cx="1000080" cy="431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213840" y="785880"/>
            <a:ext cx="4573800" cy="5214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 fontScale="99000"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 allantoi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t first continues with the bladder , then it becomes a </a:t>
            </a:r>
            <a:r>
              <a:rPr b="1" lang="en-US" sz="2800" spc="-1" strike="noStrike">
                <a:solidFill>
                  <a:srgbClr val="3060c0"/>
                </a:solidFill>
                <a:latin typeface="Times New Roman"/>
                <a:ea typeface="Times New Roman"/>
              </a:rPr>
              <a:t>thick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fibrous cord urachu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ich extends from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pex of the bladde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mbilicus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t birth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t is represented by the </a:t>
            </a:r>
            <a:r>
              <a:rPr b="1" lang="en-US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median umblical ligamen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ter absorption of the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esonephric duct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orm the </a:t>
            </a:r>
            <a:r>
              <a:rPr b="1" lang="en-US" sz="28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trigon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reter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pen separately in the bladder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5" descr="스캔0053"/>
          <p:cNvPicPr/>
          <p:nvPr/>
        </p:nvPicPr>
        <p:blipFill>
          <a:blip r:embed="rId1"/>
          <a:srcRect l="0" t="0" r="4438" b="0"/>
          <a:stretch/>
        </p:blipFill>
        <p:spPr>
          <a:xfrm>
            <a:off x="4932360" y="1268280"/>
            <a:ext cx="4032360" cy="2621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7" name="Frame 5"/>
          <p:cNvSpPr/>
          <p:nvPr/>
        </p:nvSpPr>
        <p:spPr>
          <a:xfrm>
            <a:off x="7643880" y="3143160"/>
            <a:ext cx="642960" cy="214560"/>
          </a:xfrm>
          <a:prstGeom prst="pie">
            <a:avLst/>
          </a:prstGeom>
          <a:solidFill>
            <a:srgbClr val="4f81b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rame 6"/>
          <p:cNvSpPr/>
          <p:nvPr/>
        </p:nvSpPr>
        <p:spPr>
          <a:xfrm>
            <a:off x="7643880" y="2714760"/>
            <a:ext cx="1357200" cy="214200"/>
          </a:xfrm>
          <a:prstGeom prst="pie">
            <a:avLst/>
          </a:prstGeom>
          <a:solidFill>
            <a:srgbClr val="4f81b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5-Point Star 7"/>
          <p:cNvSpPr/>
          <p:nvPr/>
        </p:nvSpPr>
        <p:spPr>
          <a:xfrm flipH="1">
            <a:off x="6000120" y="2428920"/>
            <a:ext cx="142920" cy="71280"/>
          </a:xfrm>
          <a:prstGeom prst="pie">
            <a:avLst/>
          </a:prstGeom>
          <a:solidFill>
            <a:srgbClr val="4f81b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5-Point Star 8"/>
          <p:cNvSpPr/>
          <p:nvPr/>
        </p:nvSpPr>
        <p:spPr>
          <a:xfrm>
            <a:off x="6429240" y="2571840"/>
            <a:ext cx="71640" cy="71280"/>
          </a:xfrm>
          <a:prstGeom prst="pie">
            <a:avLst/>
          </a:prstGeom>
          <a:solidFill>
            <a:srgbClr val="4f81b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" descr="C:\Documents and Settings\Dr.Essam\My Documents\Downloads\f27-9a_urinary_bladder_c.jpg"/>
          <p:cNvPicPr/>
          <p:nvPr/>
        </p:nvPicPr>
        <p:blipFill>
          <a:blip r:embed="rId2"/>
          <a:srcRect l="0" t="4544" r="46158" b="0"/>
          <a:stretch/>
        </p:blipFill>
        <p:spPr>
          <a:xfrm>
            <a:off x="5076720" y="4005360"/>
            <a:ext cx="3672000" cy="2808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2" name="5-Point Star 13"/>
          <p:cNvSpPr/>
          <p:nvPr/>
        </p:nvSpPr>
        <p:spPr>
          <a:xfrm>
            <a:off x="7020000" y="5445000"/>
            <a:ext cx="144360" cy="71640"/>
          </a:xfrm>
          <a:prstGeom prst="pie">
            <a:avLst/>
          </a:prstGeom>
          <a:solidFill>
            <a:srgbClr val="4f81bd"/>
          </a:solidFill>
          <a:ln w="255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Minus 14"/>
          <p:cNvSpPr/>
          <p:nvPr/>
        </p:nvSpPr>
        <p:spPr>
          <a:xfrm>
            <a:off x="5003640" y="5516640"/>
            <a:ext cx="505080" cy="46080"/>
          </a:xfrm>
          <a:prstGeom prst="pie">
            <a:avLst/>
          </a:prstGeom>
          <a:solidFill>
            <a:srgbClr val="4f81bd"/>
          </a:solidFill>
          <a:ln w="255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itle 1"/>
          <p:cNvSpPr/>
          <p:nvPr/>
        </p:nvSpPr>
        <p:spPr>
          <a:xfrm>
            <a:off x="214200" y="0"/>
            <a:ext cx="4573800" cy="785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rinary bladder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5-Point Star 11"/>
          <p:cNvSpPr/>
          <p:nvPr/>
        </p:nvSpPr>
        <p:spPr>
          <a:xfrm>
            <a:off x="5643720" y="2071800"/>
            <a:ext cx="71280" cy="71280"/>
          </a:xfrm>
          <a:prstGeom prst="pie">
            <a:avLst/>
          </a:prstGeom>
          <a:solidFill>
            <a:srgbClr val="4f81b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Straight Arrow Connector 18"/>
          <p:cNvCxnSpPr>
            <a:endCxn id="85" idx="5"/>
          </p:cNvCxnSpPr>
          <p:nvPr/>
        </p:nvCxnSpPr>
        <p:spPr>
          <a:xfrm>
            <a:off x="5286240" y="2142720"/>
            <a:ext cx="37224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7" name="TextBox 19"/>
          <p:cNvSpPr/>
          <p:nvPr/>
        </p:nvSpPr>
        <p:spPr>
          <a:xfrm>
            <a:off x="4929120" y="2071800"/>
            <a:ext cx="642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Urachu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17"/>
          <p:cNvSpPr/>
          <p:nvPr/>
        </p:nvSpPr>
        <p:spPr>
          <a:xfrm>
            <a:off x="6786720" y="5286240"/>
            <a:ext cx="71280" cy="71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19"/>
          <p:cNvSpPr/>
          <p:nvPr/>
        </p:nvSpPr>
        <p:spPr>
          <a:xfrm>
            <a:off x="7429680" y="5286240"/>
            <a:ext cx="71280" cy="460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traight Connector 21"/>
          <p:cNvSpPr/>
          <p:nvPr/>
        </p:nvSpPr>
        <p:spPr>
          <a:xfrm>
            <a:off x="5076720" y="5407920"/>
            <a:ext cx="852480" cy="205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357120" y="1500120"/>
            <a:ext cx="7358040" cy="228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b0f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In infants and childre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bladder is an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bdominal orga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b0f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It start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o enter t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greater pelvis </a:t>
            </a:r>
            <a:r>
              <a:rPr b="1" lang="en-US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at about 6 years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becomes a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elvic orga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til </a:t>
            </a:r>
            <a:r>
              <a:rPr b="1" lang="en-US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after pubert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4543560" cy="988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Urinary bladder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AutoShape 5"/>
          <p:cNvSpPr/>
          <p:nvPr/>
        </p:nvSpPr>
        <p:spPr>
          <a:xfrm>
            <a:off x="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7" descr="Fig 1.1- The true pelvi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43040" y="4000680"/>
            <a:ext cx="5000760" cy="2643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635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Times New Roman"/>
              </a:rPr>
              <a:t>Urethra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000080"/>
            <a:ext cx="4114800" cy="428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ndifferent stage 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genital tubercl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mesenchymal elevation) develops at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he cranial end of the cloacal membrane.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b05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Two urethral fol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develop on either side of th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rogenital membran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terally </a:t>
            </a:r>
            <a:r>
              <a:rPr b="1" lang="en-US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two labioscrotal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lds develop on either side of the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urethral fold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 urethral folds </a:t>
            </a:r>
            <a:r>
              <a:rPr b="1" lang="en-GB" sz="20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in male</a:t>
            </a:r>
            <a:r>
              <a:rPr b="0" lang="en-GB" sz="20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fus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each other to close the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enile urethra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 urethral folds </a:t>
            </a:r>
            <a:r>
              <a:rPr b="1" lang="en-GB" sz="20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in female</a:t>
            </a:r>
            <a:r>
              <a:rPr b="0" lang="en-GB" sz="20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main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 to form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labia minor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7" descr="3EBEB0E2"/>
          <p:cNvPicPr/>
          <p:nvPr/>
        </p:nvPicPr>
        <p:blipFill>
          <a:blip r:embed="rId1"/>
          <a:srcRect l="10230" t="27631" r="50717" b="54143"/>
          <a:stretch/>
        </p:blipFill>
        <p:spPr>
          <a:xfrm>
            <a:off x="4716360" y="2133720"/>
            <a:ext cx="4248360" cy="1928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Text Box 8"/>
          <p:cNvSpPr/>
          <p:nvPr/>
        </p:nvSpPr>
        <p:spPr>
          <a:xfrm>
            <a:off x="6227640" y="2781360"/>
            <a:ext cx="13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ff"/>
                </a:solidFill>
                <a:uFillTx/>
                <a:latin typeface="Arial"/>
              </a:rPr>
              <a:t>(Labioscrotal fol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9" name="Straight Arrow Connector 8"/>
          <p:cNvCxnSpPr/>
          <p:nvPr/>
        </p:nvCxnSpPr>
        <p:spPr>
          <a:xfrm flipH="1" flipV="1">
            <a:off x="7956360" y="3141360"/>
            <a:ext cx="288000" cy="21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00" name="Oval 9"/>
          <p:cNvSpPr/>
          <p:nvPr/>
        </p:nvSpPr>
        <p:spPr>
          <a:xfrm>
            <a:off x="8244000" y="2997360"/>
            <a:ext cx="649080" cy="287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Straight Arrow Connector 10"/>
          <p:cNvCxnSpPr/>
          <p:nvPr/>
        </p:nvCxnSpPr>
        <p:spPr>
          <a:xfrm flipH="1">
            <a:off x="6011280" y="2780280"/>
            <a:ext cx="432360" cy="1436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02" name="Oval 11"/>
          <p:cNvSpPr/>
          <p:nvPr/>
        </p:nvSpPr>
        <p:spPr>
          <a:xfrm>
            <a:off x="6300720" y="2637000"/>
            <a:ext cx="1224000" cy="431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" descr="2610BC6D"/>
          <p:cNvPicPr/>
          <p:nvPr/>
        </p:nvPicPr>
        <p:blipFill>
          <a:blip r:embed="rId2"/>
          <a:srcRect l="7974" t="29367" r="44147" b="53110"/>
          <a:stretch/>
        </p:blipFill>
        <p:spPr>
          <a:xfrm>
            <a:off x="4714920" y="214200"/>
            <a:ext cx="4249800" cy="185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4" name="Frame 14"/>
          <p:cNvSpPr/>
          <p:nvPr/>
        </p:nvSpPr>
        <p:spPr>
          <a:xfrm>
            <a:off x="5357880" y="1857240"/>
            <a:ext cx="1000080" cy="21456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rame 15"/>
          <p:cNvSpPr/>
          <p:nvPr/>
        </p:nvSpPr>
        <p:spPr>
          <a:xfrm>
            <a:off x="4714920" y="2500200"/>
            <a:ext cx="785880" cy="28584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Straight Arrow Connector 17"/>
          <p:cNvCxnSpPr/>
          <p:nvPr/>
        </p:nvCxnSpPr>
        <p:spPr>
          <a:xfrm flipH="1" flipV="1">
            <a:off x="7857720" y="3214080"/>
            <a:ext cx="572400" cy="214920"/>
          </a:xfrm>
          <a:prstGeom prst="straightConnector1">
            <a:avLst/>
          </a:prstGeom>
          <a:ln w="9360">
            <a:solidFill>
              <a:srgbClr val="6600ff"/>
            </a:solidFill>
            <a:miter/>
            <a:tailEnd len="med" type="triangle" w="med"/>
          </a:ln>
        </p:spPr>
      </p:cxnSp>
      <p:sp>
        <p:nvSpPr>
          <p:cNvPr id="107" name="Oval 20"/>
          <p:cNvSpPr/>
          <p:nvPr/>
        </p:nvSpPr>
        <p:spPr>
          <a:xfrm>
            <a:off x="8143920" y="3286080"/>
            <a:ext cx="1000080" cy="357120"/>
          </a:xfrm>
          <a:prstGeom prst="ellipse">
            <a:avLst/>
          </a:prstGeom>
          <a:noFill/>
          <a:ln w="255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Urogenital membra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user</cp:lastModifiedBy>
  <dcterms:modified xsi:type="dcterms:W3CDTF">2016-04-15T09:32:41Z</dcterms:modified>
  <cp:revision>244</cp:revision>
  <dc:subject/>
  <dc:title>Development of the urinary bladder and urethra</dc:title>
</cp:coreProperties>
</file>