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A64D-9E46-41DD-B5DB-8110BD5DD54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B990-64F2-477B-96CC-ECA2EAD78F9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0D69-19B4-431F-B47D-51DF1BF83B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1CE7-DA3F-48D2-B9AA-D32189EB215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AABC-0729-4126-AB1E-957750BA7D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5E10-B7E5-47C9-8FF6-685AD227491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417-EAA1-4E4B-AE69-E36BD97D9F2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0400-0D4A-4FCD-B926-1F1AD5CB837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3971-37F0-4C09-A5AE-BFB4C92604E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54F-F3F3-463F-8C98-64739915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369-C352-4A68-876A-8CF71AF0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C9A-4596-4E43-9EBE-7BAEECCEF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A08-78D9-49A9-9F13-BFA81ACE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485-F558-48D7-A167-0EC899D9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BAA5-BCEB-4086-B7EF-8B096F0E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19B4-40ED-41D1-9038-697EB455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5A92-3415-44F4-85DE-B3C2D54E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A977-6EEE-43C1-ADEE-C5948B44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BB8-46B6-4089-8D2A-EC8D4E8E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1646-7CF2-46A0-9870-F94B601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3C8-D373-441F-9BB1-1153F1FC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AED7-BD51-4859-83F6-4292B0CA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A4CF-7AF3-4C83-A3AD-73D0C356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C307-8F45-4560-A3D5-44A0557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1C1A-57EF-430C-88CD-8C6C3EA5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2235-FEAA-454D-8679-2F569E9C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EA6-003D-4998-AD32-E668A33B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613-7CD7-40B7-B7A7-A6D8DFA3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668-E581-442B-B29E-2761A9C5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5BD-848E-48EF-96F1-B7F33CD8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1E1A-B2ED-4C8E-A277-5D377C93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C940-5435-43AE-99F1-04D3F8CD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021-68ED-4622-9602-986B064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4A8D-3744-4497-9AE0-2B17EFB663E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6049-3EED-499A-81E5-927362B2ED8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سم الله الرحمن الرحيم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Fe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 urethra is short and lined by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- Epitheliu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Transitional epith. Near the blad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Pseudostratified columnar epith.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- Sub-epithelial fibroelastic 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contains glands of Littre (mucus-secreting gland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- Smooth muscl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er longitudinal and outer circular layer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Male Ureth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long and is divided into 3 reg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tatic urethr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 with transitional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mbranous urethra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lined with:          Stratified columnar epith.  with patches of pseudustratified columnar epitheli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nile (spongy) urethr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is lined with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ified columnar epith.  with patches of pseudustratified columnar epithel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 navicular fossa ( enlarged terminal portion)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tratified squamous non-keratinized ep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lamina propria contains mucus-secreting glands of Litt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BEST WISHES</a:t>
            </a: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urinary passag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19810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be able to describe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The microscopic structure of the Renal pelvis and ure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The microscopic structure of the urinary bladder and male and female ureth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7C6E7C31"/>
          <p:cNvPicPr/>
          <p:nvPr/>
        </p:nvPicPr>
        <p:blipFill>
          <a:blip r:embed="rId1"/>
          <a:srcRect l="0" t="6889" r="11431" b="54068"/>
          <a:stretch/>
        </p:blipFill>
        <p:spPr>
          <a:xfrm>
            <a:off x="4267080" y="3048120"/>
            <a:ext cx="4876920" cy="3740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4" descr="98BD9F5"/>
          <p:cNvPicPr/>
          <p:nvPr/>
        </p:nvPicPr>
        <p:blipFill>
          <a:blip r:embed="rId2"/>
          <a:srcRect l="49630" t="18337" r="15294" b="28497"/>
          <a:stretch/>
        </p:blipFill>
        <p:spPr>
          <a:xfrm>
            <a:off x="0" y="1708200"/>
            <a:ext cx="4191120" cy="51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Juxtaglomerular apparatus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has 3 compon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The macula dens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distal tubule: Tall cells with centrally-placed nuc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Juxtaglomerular ce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fferent glomerular arteriole (modified smooth muscle of tunica media). Nuclei are round with granular cytoplas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They secrete ren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19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-The extraglomerul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sangial cell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Documents and Settings\Aly\My Documents\back\Janquira Images\19\F19_21.jpg"/>
          <p:cNvPicPr/>
          <p:nvPr/>
        </p:nvPicPr>
        <p:blipFill>
          <a:blip r:embed="rId1"/>
          <a:stretch/>
        </p:blipFill>
        <p:spPr>
          <a:xfrm>
            <a:off x="5791320" y="37339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Documents and Settings\Aly\My Documents\My Pictures\kidney0221he.jpg"/>
          <p:cNvPicPr/>
          <p:nvPr/>
        </p:nvPicPr>
        <p:blipFill>
          <a:blip r:embed="rId1"/>
          <a:stretch/>
        </p:blipFill>
        <p:spPr>
          <a:xfrm>
            <a:off x="1752480" y="228600"/>
            <a:ext cx="624852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nal Calyc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calyx accepts urine from the renal papilla of a renal pyram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lined with transitional epith., lamina propria and smooth mus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calyces merge to form major calyces (with same lining tissue as minor calyce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calyces open in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nal pelv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4" descr="25C78913"/>
          <p:cNvPicPr/>
          <p:nvPr/>
        </p:nvPicPr>
        <p:blipFill>
          <a:blip r:embed="rId1"/>
          <a:srcRect l="30592" t="20588" r="35778" b="49514"/>
          <a:stretch/>
        </p:blipFill>
        <p:spPr>
          <a:xfrm>
            <a:off x="4775040" y="4267080"/>
            <a:ext cx="4368960" cy="24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et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380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34080" indent="-334080"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os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formed of transitional epith. and lamina prop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Muscular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muscular coat):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2 layers of smooth muscle in the upper  2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 Outer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3001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Is formed of 3 layers of smooth muscle in the lower 1/3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 Inner longitudinal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-  Middle cir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-   Outer longitud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. Adventit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brous C.T. covering.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.B.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o ser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AE4A960F"/>
          <p:cNvPicPr/>
          <p:nvPr/>
        </p:nvPicPr>
        <p:blipFill>
          <a:blip r:embed="rId1"/>
          <a:srcRect l="0" t="15719" r="62354" b="38691"/>
          <a:stretch/>
        </p:blipFill>
        <p:spPr>
          <a:xfrm>
            <a:off x="3657600" y="3857760"/>
            <a:ext cx="2895480" cy="2363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6553080" y="3862440"/>
            <a:ext cx="2590920" cy="19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Urinary bladd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the same structure as the lower third of ure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erficial layer of  transitional epithelium has dome-shaped cells (in empty bladder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3 layers of smooth muscle: inner and outer longitudinal  (thin) and middle circular (thick) lay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s outer covering is adventi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seros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8" descr="D1B010FD"/>
          <p:cNvPicPr/>
          <p:nvPr/>
        </p:nvPicPr>
        <p:blipFill>
          <a:blip r:embed="rId1"/>
          <a:srcRect l="72552" t="34776" r="982" b="39295"/>
          <a:stretch/>
        </p:blipFill>
        <p:spPr>
          <a:xfrm>
            <a:off x="5562720" y="3624120"/>
            <a:ext cx="2646360" cy="3233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D1B010FD"/>
          <p:cNvPicPr/>
          <p:nvPr/>
        </p:nvPicPr>
        <p:blipFill>
          <a:blip r:embed="rId2"/>
          <a:srcRect l="39295" t="27453" r="23772" b="41181"/>
          <a:stretch/>
        </p:blipFill>
        <p:spPr>
          <a:xfrm>
            <a:off x="1981080" y="4646520"/>
            <a:ext cx="312444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"/>
          <p:cNvPicPr/>
          <p:nvPr/>
        </p:nvPicPr>
        <p:blipFill>
          <a:blip r:embed="rId1"/>
          <a:stretch/>
        </p:blipFill>
        <p:spPr>
          <a:xfrm>
            <a:off x="2590920" y="3889440"/>
            <a:ext cx="4138560" cy="281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286000" y="304920"/>
            <a:ext cx="502920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ony</dc:creator>
  <dc:description/>
  <dc:language>en-US</dc:language>
  <cp:lastModifiedBy>amal</cp:lastModifiedBy>
  <dcterms:modified xsi:type="dcterms:W3CDTF">2016-04-08T21:08:13Z</dcterms:modified>
  <cp:revision>1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