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A4DF-CDA7-4403-AE44-87EE186AEF1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7B87-B377-476B-9CBD-E5696E81D8E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6BEF-7280-492E-94EC-514603C8EAB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CA2F-E8F9-45BE-9B5D-9734D9EE4C4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1339-DA56-48DD-B018-557632DF64E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6613-5364-4B72-B2C0-25BEA75D1A9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502F-1A60-477B-94A4-BA7AB43FCF0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6345-3188-469A-8BA9-EB7898D7360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7E4F-D006-47A2-8962-E253836EE3A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C6A8-2A2A-4F7A-B71F-056A56F7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795D-1AE0-461B-AD1F-34BAB06D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3B57-074A-41C5-B485-59DCD94C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83F-FD4F-479A-8B1F-01D10DA0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3601-C2B3-4CF5-850F-5D71899B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A293-3A73-4331-BC08-82BBEBED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53C4-C954-46C7-B808-0845AEE8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A907-60CE-4067-B13F-5068330C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B182-99AD-42AF-97CA-6EAF5F3B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42CF-63FB-45D4-81ED-BAD84653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93B3-0104-4809-A341-2EDA12E7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546D-E156-4A5D-8FB9-BB3ABBF9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92E8-58E5-4FA7-89C6-6E6FC28B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3BDB-B7A8-458A-BBC5-55D8E52E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7841-B452-4AC2-840F-009F7C1A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FA07-E87D-4C93-AE5E-9ECE69CC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6E0C-0C88-4C5E-9337-F3872FA6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A030-2A6A-41C8-81CD-3816AF1E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6909-570A-473D-8377-12E3EAAA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DBE-E68A-4549-B971-3D442674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459-3411-4020-B6A0-FE7210A8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976-0743-4EBB-9675-2AAB680E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45B-B0AD-41CD-B9EA-EAABAAD5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6D9-1625-4967-A49B-54DAEFD9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55A2-EB51-4D6B-999B-538829FAC18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B9EE-54A9-4A13-B4F6-6E1A5FD7BA52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بسم الله الرحمن الرحيم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Female Urethr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ale urethra is short and lined by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- Epitheliu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-Transitional epith. Near the blad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- Pseudostratified columnar epith.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- Stratified squamous non-keratinized epi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- Sub-epithelial fibroelastic 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contains glands of Littre (mucus-secreting gland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- Smooth musc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ner longitudinal and outer circular layer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Male Urethr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long and is divided into 3 reg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-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static urethr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d with transitional epi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-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mbranous urethra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lined with:          Stratified columnar epith.  with patches of pseudustratified columnar epitheliu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-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enile (spongy) urethr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is lined with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ified columnar epith.  with patches of pseudustratified columnar epitheli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 navicular fossa ( enlarged terminal portion)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tratified squamous non-keratinized epi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lamina propria contains mucus-secreting glands of Litt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BEST WISHES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urinary passage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9810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y the end of this lecture, the student should be able to describe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The microscopic structure of the Renal pelvis and ure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The microscopic structure of the urinary bladder and male and female ureth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7C6E7C31"/>
          <p:cNvPicPr/>
          <p:nvPr/>
        </p:nvPicPr>
        <p:blipFill>
          <a:blip r:embed="rId1"/>
          <a:srcRect l="0" t="6889" r="11431" b="54068"/>
          <a:stretch/>
        </p:blipFill>
        <p:spPr>
          <a:xfrm>
            <a:off x="4267080" y="3048120"/>
            <a:ext cx="4876920" cy="3740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Juxtaglomerular apparatu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Picture 4" descr="98BD9F5"/>
          <p:cNvPicPr/>
          <p:nvPr/>
        </p:nvPicPr>
        <p:blipFill>
          <a:blip r:embed="rId2"/>
          <a:srcRect l="49630" t="18337" r="15294" b="28497"/>
          <a:stretch/>
        </p:blipFill>
        <p:spPr>
          <a:xfrm>
            <a:off x="0" y="1708200"/>
            <a:ext cx="4191120" cy="51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Juxtaglomerular apparatu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has 3 compon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The macula dens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distal tubule: Tall cells with centrally-placed nucl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Juxtaglomerular cell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fferent glomerular arteriole (modified smooth muscle of tunica media). Nuclei are round with granular cytoplas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They secrete ren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9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-The extraglomerul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sangial cell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" descr="C:\Documents and Settings\Aly\My Documents\back\Janquira Images\19\F19_21.jpg"/>
          <p:cNvPicPr/>
          <p:nvPr/>
        </p:nvPicPr>
        <p:blipFill>
          <a:blip r:embed="rId1"/>
          <a:stretch/>
        </p:blipFill>
        <p:spPr>
          <a:xfrm>
            <a:off x="5791320" y="3733920"/>
            <a:ext cx="33526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Aly\My Documents\My Pictures\kidney0221he.jpg"/>
          <p:cNvPicPr/>
          <p:nvPr/>
        </p:nvPicPr>
        <p:blipFill>
          <a:blip r:embed="rId1"/>
          <a:stretch/>
        </p:blipFill>
        <p:spPr>
          <a:xfrm>
            <a:off x="1752480" y="228600"/>
            <a:ext cx="624852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nal Caly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calyx accepts urine from the renal papilla of a renal pyram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lined with transitional epith., lamina propria and smooth mus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or calyces merge to form major calyces (with same lining tissue as minor calyc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calyces open in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pelv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25C78913"/>
          <p:cNvPicPr/>
          <p:nvPr/>
        </p:nvPicPr>
        <p:blipFill>
          <a:blip r:embed="rId1"/>
          <a:srcRect l="30592" t="20588" r="35778" b="49514"/>
          <a:stretch/>
        </p:blipFill>
        <p:spPr>
          <a:xfrm>
            <a:off x="4775040" y="4267080"/>
            <a:ext cx="4368960" cy="24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Ure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34080" indent="-334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os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formed of transitional epith. and lamina prop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Muscular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muscular coat):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Is formed of 2 layers of smooth muscle in the upper  2/3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-  Inner longitud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-   Outer cir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3001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Is formed of 3 layers of smooth muscle in the lower 1/3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-  Inner longitudinal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-  Middle cir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-   Outer longitud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. Adventi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brous C.T. covering.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o sero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AE4A960F"/>
          <p:cNvPicPr/>
          <p:nvPr/>
        </p:nvPicPr>
        <p:blipFill>
          <a:blip r:embed="rId1"/>
          <a:srcRect l="0" t="15719" r="62354" b="38691"/>
          <a:stretch/>
        </p:blipFill>
        <p:spPr>
          <a:xfrm>
            <a:off x="3657600" y="3857760"/>
            <a:ext cx="2895480" cy="2363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6553080" y="3862440"/>
            <a:ext cx="2590920" cy="19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Urinary bladd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the same structure as the lower third of ure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erficial layer of  transitional epithelium has dome-shaped cells (in empty bladd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3 layers of smooth muscle: inner and outer longitudinal  (thin) and middle circular (thick) lay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outer covering is adventi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sero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8" descr="D1B010FD"/>
          <p:cNvPicPr/>
          <p:nvPr/>
        </p:nvPicPr>
        <p:blipFill>
          <a:blip r:embed="rId1"/>
          <a:srcRect l="72552" t="34776" r="982" b="39295"/>
          <a:stretch/>
        </p:blipFill>
        <p:spPr>
          <a:xfrm>
            <a:off x="5562720" y="3624120"/>
            <a:ext cx="2646360" cy="3233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D1B010FD"/>
          <p:cNvPicPr/>
          <p:nvPr/>
        </p:nvPicPr>
        <p:blipFill>
          <a:blip r:embed="rId2"/>
          <a:srcRect l="39295" t="27453" r="23772" b="41181"/>
          <a:stretch/>
        </p:blipFill>
        <p:spPr>
          <a:xfrm>
            <a:off x="1981080" y="4646520"/>
            <a:ext cx="312444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9" descr=""/>
          <p:cNvPicPr/>
          <p:nvPr/>
        </p:nvPicPr>
        <p:blipFill>
          <a:blip r:embed="rId1"/>
          <a:stretch/>
        </p:blipFill>
        <p:spPr>
          <a:xfrm>
            <a:off x="2590920" y="3889440"/>
            <a:ext cx="4138560" cy="2816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2286000" y="304920"/>
            <a:ext cx="5029200" cy="3422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ny</dc:creator>
  <dc:description/>
  <dc:language>en-US</dc:language>
  <cp:lastModifiedBy>amal</cp:lastModifiedBy>
  <dcterms:modified xsi:type="dcterms:W3CDTF">2016-04-08T21:08:13Z</dcterms:modified>
  <cp:revision>1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