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8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32.jpeg" ContentType="image/jpeg"/>
  <Override PartName="/ppt/media/image40.jpeg" ContentType="image/jpeg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0D3C-8A2F-46E8-BAF9-165960F59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FA09-C736-4543-B820-020668E75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83A-C897-4F12-9E96-5D55DD3D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F60-5468-4DCB-8222-382C8DD9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3B7C-0F0D-48BA-8842-5C161F59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84CC-1B3A-4C92-91D1-8CE1A3F9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D86-2BC1-4F8E-8A3C-DDE77F66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8DA-3E7F-47F1-8CA7-744FBC52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D7C-9C45-4853-B630-BB54FE5C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D4D-BC29-4A9C-A162-A0E1C99C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29DC-8B48-4FBF-9261-9010877E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2718-9915-4809-9D54-A3DBF10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9C3-E873-4644-A8EA-6FF7970A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507E-A4AF-47A2-9B46-3C36B506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4B78-68A3-44B7-864A-345E46614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medlib.med.utah.edu/WebPath/jpeg1/RENAL085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51128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762120" y="3913200"/>
            <a:ext cx="73152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ctangle 2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287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5341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resen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7-14 days </a:t>
            </a:r>
            <a:r>
              <a:rPr b="0" i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haryngitis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14-21 days </a:t>
            </a:r>
            <a:r>
              <a:rPr b="0" i="1" lang="en-US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fter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(</a:t>
            </a:r>
            <a:r>
              <a:rPr b="0" lang="en-US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skin infectio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brupt onset (</a:t>
            </a:r>
            <a:r>
              <a:rPr b="0" lang="en-GB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ute nephritic syndro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rep antigens trigger antibodies that cross-react to glomerul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during filtration in the glomerulus deposit  in the kid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activate com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Rectangle 2" descr=""/>
          <p:cNvPicPr/>
          <p:nvPr/>
        </p:nvPicPr>
        <p:blipFill>
          <a:blip r:embed="rId1"/>
          <a:stretch/>
        </p:blipFill>
        <p:spPr>
          <a:xfrm>
            <a:off x="60480" y="96840"/>
            <a:ext cx="8778600" cy="1085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Caused by known streptococcal types called: nephritic st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hildren bacterial culture will be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 –streptolysin-O antibody(ASO) will be the only         evid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nti-DNAse B titre is a better indicator of          streptococcal skin sepsis than the ASO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holesterol and lipids in skin suppress the ASO antibody response but not the anti-DNAse B antibody ti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1"/>
          <a:stretch/>
        </p:blipFill>
        <p:spPr>
          <a:xfrm>
            <a:off x="384120" y="231840"/>
            <a:ext cx="8381880" cy="1225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457200" y="1447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ve GN (PG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28600" y="23623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ffuse proliferation of glomerular cell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frequent infiltration  of leukocytes  (especially neutrophi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380880" y="417996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ypical features of immune complex diseas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Hypocomplement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Granular deposits of IgG &amp; complement on G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0F2F-6019-4F0A-B6D4-F073DDE5CD83}" type="slidenum">
              <a:rPr b="1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RENAL086"/>
          <p:cNvPicPr/>
          <p:nvPr/>
        </p:nvPicPr>
        <p:blipFill>
          <a:blip r:embed="rId1"/>
          <a:stretch/>
        </p:blipFill>
        <p:spPr>
          <a:xfrm>
            <a:off x="0" y="3429000"/>
            <a:ext cx="2590920" cy="241128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04920" y="58672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deposits are distributed </a:t>
            </a:r>
            <a:r>
              <a:rPr b="0" lang="en-US" sz="2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in the capillary loops in a granular, bumpy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ttern because of the focal nature of the deposition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RENAL08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143000"/>
            <a:ext cx="2590920" cy="227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ost streptococcal nephritis.jpg"/>
          <p:cNvPicPr/>
          <p:nvPr/>
        </p:nvPicPr>
        <p:blipFill>
          <a:blip r:embed="rId5"/>
          <a:stretch/>
        </p:blipFill>
        <p:spPr>
          <a:xfrm>
            <a:off x="2590920" y="1143000"/>
            <a:ext cx="6270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228600" y="1981080"/>
            <a:ext cx="87631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slowly progressive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form of chronic immune-complex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ephr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ost common between 30 - 50 yea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Memb_illustrationcapillary.jpg"/>
          <p:cNvPicPr/>
          <p:nvPr/>
        </p:nvPicPr>
        <p:blipFill>
          <a:blip r:embed="rId1"/>
          <a:stretch/>
        </p:blipFill>
        <p:spPr>
          <a:xfrm>
            <a:off x="50760" y="609480"/>
            <a:ext cx="904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55440" y="-92160"/>
            <a:ext cx="8710560" cy="128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5228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t is a chronic progressive glomerulonephritis that occurs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lder children and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 main typ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Type I MPGN</a:t>
            </a:r>
            <a:r>
              <a:rPr b="0" lang="en-US" sz="24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0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(80% of cas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ng immune complexes have been identif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in association with hepatitis B&amp;C antigenemia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tra-renal infections  or S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bendothelial and mesangial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po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IF membranoproliferative I.jpg"/>
          <p:cNvPicPr/>
          <p:nvPr/>
        </p:nvPicPr>
        <p:blipFill>
          <a:blip r:embed="rId2"/>
          <a:stretch/>
        </p:blipFill>
        <p:spPr>
          <a:xfrm>
            <a:off x="5715000" y="2320920"/>
            <a:ext cx="342900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Type II MPGN</a:t>
            </a:r>
            <a:br>
              <a:rPr sz="3200"/>
            </a:b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Also known a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se deposit disease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6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fundamental  abnormality i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cessive complement acti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me patients have autoantibod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gainst C3 convertase called: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C3 nephritic factor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amembranous dense depos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IF MEM PROF II.jpg"/>
          <p:cNvPicPr/>
          <p:nvPr/>
        </p:nvPicPr>
        <p:blipFill>
          <a:blip r:embed="rId1"/>
          <a:stretch/>
        </p:blipFill>
        <p:spPr>
          <a:xfrm>
            <a:off x="5932440" y="3886200"/>
            <a:ext cx="3211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6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obr4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99" name="Down Arrow 4"/>
          <p:cNvSpPr/>
          <p:nvPr/>
        </p:nvSpPr>
        <p:spPr>
          <a:xfrm>
            <a:off x="6781680" y="2057400"/>
            <a:ext cx="152640" cy="1676520"/>
          </a:xfrm>
          <a:prstGeom prst="downArrow">
            <a:avLst>
              <a:gd name="adj1" fmla="val 50000"/>
              <a:gd name="adj2" fmla="val 4993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244440" y="3906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5228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 most common from of primary glomerulonephritis in the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ffects children and young ad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Begins as an episode of gross hematuria that occurs within 1-2 days of a non specific upper respiratory tract inf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9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nderstand the importance of immun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the pathogenesis of renal inju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Learn that immune complexes form in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irculation and may deposit in different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is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nderstand the dynamics of deposition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which depend on the size and rate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dentify the different types of renal disease based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on the site of deposition of the immune complex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311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304560" y="15235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athogenic hallmark is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position of IgA &amp; complement C3 in th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sangium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re is evidence of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complement by 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the alternativ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pathway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(serum complement C2 and C4 will be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norma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IgA.jpg"/>
          <p:cNvPicPr/>
          <p:nvPr/>
        </p:nvPicPr>
        <p:blipFill>
          <a:blip r:embed="rId1"/>
          <a:stretch/>
        </p:blipFill>
        <p:spPr>
          <a:xfrm>
            <a:off x="685800" y="838080"/>
            <a:ext cx="7924680" cy="52038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This immunofluorescence pattern demonstrates positivity with antibody to IgA. The pattern is that of mesangial deposition in the glomerulus. This is IgA nephropat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2286000" y="15228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64a2"/>
                </a:solidFill>
                <a:latin typeface="Calibri"/>
                <a:ea typeface="Arial"/>
              </a:rPr>
              <a:t>IgA Nephropa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244440" y="195120"/>
            <a:ext cx="8442360" cy="1462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-360" y="1523880"/>
            <a:ext cx="8839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RPGN is a clinical syndrome and not a specific form of 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 most cases the glomerular injury is immunologically med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practical classification divides CrGN  into three groups on the basis of immunologic finding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www.health-writings.com/img/oy/membrane-glomerulonephritis/rapidly_progressive_crescentic_glomerulonephritis_02.jpg"/>
          <p:cNvPicPr/>
          <p:nvPr/>
        </p:nvPicPr>
        <p:blipFill>
          <a:blip r:embed="rId1"/>
          <a:stretch/>
        </p:blipFill>
        <p:spPr>
          <a:xfrm>
            <a:off x="0" y="1003320"/>
            <a:ext cx="8991720" cy="586404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4" descr=""/>
          <p:cNvPicPr/>
          <p:nvPr/>
        </p:nvPicPr>
        <p:blipFill>
          <a:blip r:embed="rId2"/>
          <a:stretch/>
        </p:blipFill>
        <p:spPr>
          <a:xfrm>
            <a:off x="-176040" y="55440"/>
            <a:ext cx="93200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zed by linear deposition of IgG and C3 on the GB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 Goodpasture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bodies bind also in the pulmonary    alveolar capillary basement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anti gbm1.jpg"/>
          <p:cNvPicPr/>
          <p:nvPr/>
        </p:nvPicPr>
        <p:blipFill>
          <a:blip r:embed="rId1"/>
          <a:stretch/>
        </p:blipFill>
        <p:spPr>
          <a:xfrm>
            <a:off x="0" y="0"/>
            <a:ext cx="910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y occur as a complication of any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immune complex nephritid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ost infectio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gA nephropath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haracteristic granular (lumpy-bumpy) pattern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taining of the GBM for immunoglobulin &amp; comple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md_99-08-0054.jpg"/>
          <p:cNvPicPr/>
          <p:nvPr/>
        </p:nvPicPr>
        <p:blipFill>
          <a:blip r:embed="rId1"/>
          <a:stretch/>
        </p:blipFill>
        <p:spPr>
          <a:xfrm>
            <a:off x="228600" y="990720"/>
            <a:ext cx="8705880" cy="586728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4" descr=""/>
          <p:cNvPicPr/>
          <p:nvPr/>
        </p:nvPicPr>
        <p:blipFill>
          <a:blip r:embed="rId2"/>
          <a:stretch/>
        </p:blipFill>
        <p:spPr>
          <a:xfrm>
            <a:off x="-55440" y="23760"/>
            <a:ext cx="904716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462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Defined by the lack of anti-GBM antibod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ost cases are  associated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nti-neutrophil cytoplasmic antibodies 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erum (ANCA) and systemic vasculit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pauci.jpg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093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380880" y="62118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Granular staining (Immune comp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3733920" y="62118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Linear stai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  <a:ea typeface="Arial"/>
              </a:rPr>
              <a:t>(Anti-G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6248520" y="6172200"/>
            <a:ext cx="289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No antibody st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alibri"/>
                <a:ea typeface="Arial"/>
              </a:rPr>
              <a:t>(Pauci associated with vasculit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3" descr="GNspectrumB.gif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304920" y="1522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of antibody with various microbial OR  self antigens induce type II or III hypersensitivity reactions in the kidne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7086600" y="5105520"/>
            <a:ext cx="1676520" cy="1218960"/>
          </a:xfrm>
          <a:prstGeom prst="rect">
            <a:avLst/>
          </a:prstGeom>
          <a:solidFill>
            <a:srgbClr val="fdea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lam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04920" y="5029200"/>
            <a:ext cx="1600200" cy="1371600"/>
          </a:xfrm>
          <a:prstGeom prst="rect">
            <a:avLst/>
          </a:prstGeom>
          <a:solidFill>
            <a:srgbClr val="ffff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jury to renal 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791320" y="3276720"/>
            <a:ext cx="838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2209680" y="3276720"/>
            <a:ext cx="5335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191120" y="3809880"/>
            <a:ext cx="6858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8"/>
          <p:cNvSpPr/>
          <p:nvPr/>
        </p:nvSpPr>
        <p:spPr>
          <a:xfrm>
            <a:off x="6172200" y="3886200"/>
            <a:ext cx="380880" cy="152388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wn Arrow 9"/>
          <p:cNvSpPr/>
          <p:nvPr/>
        </p:nvSpPr>
        <p:spPr>
          <a:xfrm>
            <a:off x="4267080" y="4114800"/>
            <a:ext cx="381240" cy="143496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10"/>
          <p:cNvSpPr/>
          <p:nvPr/>
        </p:nvSpPr>
        <p:spPr>
          <a:xfrm>
            <a:off x="2209680" y="3886200"/>
            <a:ext cx="228600" cy="1816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425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e complexes underly the pathogenesis of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any of the glomerulo-nephrit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ctivation of the complement system is an integral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rt of the process, and measurement of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ment proteins help in diagnosis and follow-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up of pati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mmunofluoresence of renal biopsy demonstrat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presence of immune complexes and confirm the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agnosi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Diagram 1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528012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3" descr=""/>
          <p:cNvPicPr/>
          <p:nvPr/>
        </p:nvPicPr>
        <p:blipFill>
          <a:blip r:embed="rId2"/>
          <a:stretch/>
        </p:blipFill>
        <p:spPr>
          <a:xfrm>
            <a:off x="384120" y="49320"/>
            <a:ext cx="853452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weeningslide200804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176040" y="128520"/>
            <a:ext cx="8510760" cy="12002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omplexes accumulate in tissues where filtration of plasma occurs. This explains the high incidenc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Glomerulonephritis (deposition in the   kidne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Vasculitis (deposition in the arterie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thritis (deposition in the synovial joi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Introduction-NIER_01.png"/>
          <p:cNvPicPr/>
          <p:nvPr/>
        </p:nvPicPr>
        <p:blipFill>
          <a:blip r:embed="rId1"/>
          <a:stretch/>
        </p:blipFill>
        <p:spPr>
          <a:xfrm>
            <a:off x="2631960" y="1998720"/>
            <a:ext cx="6512040" cy="485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imagesCAMCCZKX.jpg"/>
          <p:cNvPicPr/>
          <p:nvPr/>
        </p:nvPicPr>
        <p:blipFill>
          <a:blip r:embed="rId2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stock-photo-scheme-of-a-nephron-dissected-in-which-we-can-see-inside-72413677.jpg"/>
          <p:cNvPicPr/>
          <p:nvPr/>
        </p:nvPicPr>
        <p:blipFill>
          <a:blip r:embed="rId3"/>
          <a:stretch/>
        </p:blipFill>
        <p:spPr>
          <a:xfrm>
            <a:off x="0" y="2666880"/>
            <a:ext cx="2670120" cy="419112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3048120" y="304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libri"/>
                <a:ea typeface="Arial"/>
              </a:rPr>
              <a:t>Nephron and glomeru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weeningslide200809.jpg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442360" cy="974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8088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Antibody-mediated Inju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embran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IgA nephropath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Membranoproliferative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Post infectious glomerulonephrit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r>
              <a:rPr b="0" lang="en-US" sz="27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- Antiglomerular basement membrane disea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6:13:51Z</dcterms:created>
  <dc:creator>Dr.Hazem</dc:creator>
  <dc:description/>
  <dc:language>en-US</dc:language>
  <cp:lastModifiedBy>Dr.Hend</cp:lastModifiedBy>
  <dcterms:modified xsi:type="dcterms:W3CDTF">2015-04-29T05:19:17Z</dcterms:modified>
  <cp:revision>116</cp:revision>
  <dc:subject/>
  <dc:title>Immunology of  nephritis.</dc:title>
</cp:coreProperties>
</file>