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3.png" ContentType="image/png"/>
  <Override PartName="/ppt/media/image22.jpeg" ContentType="image/jpeg"/>
  <Override PartName="/ppt/media/image9.png" ContentType="image/png"/>
  <Override PartName="/ppt/media/image39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16.png" ContentType="image/png"/>
  <Override PartName="/ppt/media/image24.jpeg" ContentType="image/jpeg"/>
  <Override PartName="/ppt/media/image15.png" ContentType="image/png"/>
  <Override PartName="/ppt/media/image18.png" ContentType="image/png"/>
  <Override PartName="/ppt/media/image11.jpeg" ContentType="image/jpeg"/>
  <Override PartName="/ppt/media/image38.png" ContentType="image/png"/>
  <Override PartName="/ppt/media/image8.png" ContentType="image/png"/>
  <Override PartName="/ppt/media/image13.png" ContentType="image/png"/>
  <Override PartName="/ppt/media/image37.jpeg" ContentType="image/jpeg"/>
  <Override PartName="/ppt/media/image30.jpeg" ContentType="image/jpeg"/>
  <Override PartName="/ppt/media/image7.jpeg" ContentType="image/jpeg"/>
  <Override PartName="/ppt/media/image28.png" ContentType="image/png"/>
  <Override PartName="/ppt/media/image5.png" ContentType="image/png"/>
  <Override PartName="/ppt/media/image35.jpeg" ContentType="image/jpeg"/>
  <Override PartName="/ppt/media/image14.png" ContentType="image/png"/>
  <Override PartName="/ppt/media/image10.jpeg" ContentType="image/jpeg"/>
  <Override PartName="/ppt/media/image32.jpeg" ContentType="image/jpeg"/>
  <Override PartName="/ppt/media/image40.jpeg" ContentType="image/jpeg"/>
  <Override PartName="/ppt/media/image4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2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5A9A2-0141-41F5-AC53-5470C7D695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495A1-A85E-4D91-A7A7-E9D0EAF059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A0EA-409C-4D20-8A68-523487898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0385-3AC5-4EFB-A449-00DD1E5F6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BB83-8520-4F86-9DEF-F03C0BE36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A7F6-6647-4B96-A7F7-5EEDD219D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F69E-D817-46A9-8B97-1FBEACAB8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0A31-03B1-4F08-A5C5-0CC43DECD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09D5-AE1D-4285-9F6F-47C742724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1250-1799-4777-83FE-9EFC2912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B91A-4718-4C72-B48C-FDA69A65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D584-8DF2-4EEB-9DF5-40D90C48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3EF1-12A5-4352-B29B-E0522348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B836-6DE0-4FFA-9A59-56F54D9A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3C6C8-96D1-456D-91DB-61395F976B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hyperlink" Target="http://medlib.med.utah.edu/WebPath/jpeg1/RENAL085.jpg" TargetMode="External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511280"/>
          </a:xfrm>
          <a:prstGeom prst="rect">
            <a:avLst/>
          </a:prstGeom>
          <a:ln w="0">
            <a:noFill/>
          </a:ln>
        </p:spPr>
      </p:pic>
      <p:pic>
        <p:nvPicPr>
          <p:cNvPr id="49" name="Subtitle 2" descr=""/>
          <p:cNvPicPr/>
          <p:nvPr/>
        </p:nvPicPr>
        <p:blipFill>
          <a:blip r:embed="rId2"/>
          <a:stretch/>
        </p:blipFill>
        <p:spPr>
          <a:xfrm>
            <a:off x="762120" y="3913200"/>
            <a:ext cx="731520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Rectangle 2" descr=""/>
          <p:cNvPicPr/>
          <p:nvPr/>
        </p:nvPicPr>
        <p:blipFill>
          <a:blip r:embed="rId1"/>
          <a:stretch/>
        </p:blipFill>
        <p:spPr>
          <a:xfrm>
            <a:off x="457200" y="139680"/>
            <a:ext cx="8229600" cy="12873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04920" y="1447920"/>
            <a:ext cx="853416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Present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7-14 days </a:t>
            </a:r>
            <a:r>
              <a:rPr b="0" i="1" lang="en-US" sz="24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after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pharyngitis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60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14-21 days </a:t>
            </a:r>
            <a:r>
              <a:rPr b="0" i="1" lang="en-US" sz="24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after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(</a:t>
            </a:r>
            <a:r>
              <a:rPr b="0" lang="en-US" sz="2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skin infection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brupt onset (</a:t>
            </a:r>
            <a:r>
              <a:rPr b="0" lang="en-GB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cute nephritic syndrom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trep antigens trigger antibodies that cross-react to glomerul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irculating immune complexes during filtration in the glomerulus deposit  in the kidn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mmune complexes activate compl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Rectangle 2" descr=""/>
          <p:cNvPicPr/>
          <p:nvPr/>
        </p:nvPicPr>
        <p:blipFill>
          <a:blip r:embed="rId1"/>
          <a:stretch/>
        </p:blipFill>
        <p:spPr>
          <a:xfrm>
            <a:off x="60480" y="96840"/>
            <a:ext cx="8778600" cy="108576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304920" y="914400"/>
            <a:ext cx="8610480" cy="563868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Caused by known streptococcal types called: nephritic str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 most children bacterial culture will be neg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nti –streptolysin-O antibody(ASO) will be the only         evid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nti-DNAse B titre is a better indicator of          streptococcal skin sepsis than the ASO tit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Cholesterol and lipids in skin suppress the ASO antibody response but not the anti-DNAse B antibody tit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Title 1" descr=""/>
          <p:cNvPicPr/>
          <p:nvPr/>
        </p:nvPicPr>
        <p:blipFill>
          <a:blip r:embed="rId1"/>
          <a:stretch/>
        </p:blipFill>
        <p:spPr>
          <a:xfrm>
            <a:off x="384120" y="231840"/>
            <a:ext cx="8381880" cy="1225440"/>
          </a:xfrm>
          <a:prstGeom prst="rect">
            <a:avLst/>
          </a:prstGeom>
          <a:ln w="0">
            <a:noFill/>
          </a:ln>
        </p:spPr>
      </p:pic>
      <p:sp>
        <p:nvSpPr>
          <p:cNvPr id="79" name="TextBox 3"/>
          <p:cNvSpPr/>
          <p:nvPr/>
        </p:nvSpPr>
        <p:spPr>
          <a:xfrm>
            <a:off x="457200" y="14479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ffuse proliferative GN (PG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4"/>
          <p:cNvSpPr/>
          <p:nvPr/>
        </p:nvSpPr>
        <p:spPr>
          <a:xfrm>
            <a:off x="228600" y="236232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ffuse proliferation of glomerular cells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frequent infiltration  of leukocytes  (especially neutrophi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5"/>
          <p:cNvSpPr/>
          <p:nvPr/>
        </p:nvSpPr>
        <p:spPr>
          <a:xfrm>
            <a:off x="380880" y="4179960"/>
            <a:ext cx="8534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ypical features of immune complex diseas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Hypocomplemente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Granular deposits of IgG &amp; complement on GB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264C4-C879-41E8-845D-0AB0E930F747}" type="slidenum">
              <a:rPr b="1" lang="en-US" sz="1200" spc="-1" strike="noStrike">
                <a:solidFill>
                  <a:srgbClr val="ffffcc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RENAL086"/>
          <p:cNvPicPr/>
          <p:nvPr/>
        </p:nvPicPr>
        <p:blipFill>
          <a:blip r:embed="rId1"/>
          <a:stretch/>
        </p:blipFill>
        <p:spPr>
          <a:xfrm>
            <a:off x="0" y="3429000"/>
            <a:ext cx="2590920" cy="2411280"/>
          </a:xfrm>
          <a:prstGeom prst="rect">
            <a:avLst/>
          </a:prstGeom>
          <a:ln w="0">
            <a:noFill/>
          </a:ln>
        </p:spPr>
      </p:pic>
      <p:pic>
        <p:nvPicPr>
          <p:cNvPr id="84" name="Rectangl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924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"/>
          <p:cNvSpPr/>
          <p:nvPr/>
        </p:nvSpPr>
        <p:spPr>
          <a:xfrm>
            <a:off x="304920" y="586728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he immune deposits are distributed </a:t>
            </a:r>
            <a:r>
              <a:rPr b="0" lang="en-US" sz="20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in the capillary loops in a granular, bumpy 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pattern because of the focal nature of the deposition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RENAL08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1143000"/>
            <a:ext cx="2590920" cy="2279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post streptococcal nephritis.jpg"/>
          <p:cNvPicPr/>
          <p:nvPr/>
        </p:nvPicPr>
        <p:blipFill>
          <a:blip r:embed="rId5"/>
          <a:stretch/>
        </p:blipFill>
        <p:spPr>
          <a:xfrm>
            <a:off x="2590920" y="1143000"/>
            <a:ext cx="62704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le 1" descr=""/>
          <p:cNvPicPr/>
          <p:nvPr/>
        </p:nvPicPr>
        <p:blipFill>
          <a:blip r:embed="rId1"/>
          <a:stretch/>
        </p:blipFill>
        <p:spPr>
          <a:xfrm>
            <a:off x="244440" y="195120"/>
            <a:ext cx="8442360" cy="1462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228600" y="1981080"/>
            <a:ext cx="87631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 slowly progressive disea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</a:t>
            </a:r>
            <a:r>
              <a:rPr b="0" lang="en-US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 form of chronic immune-complex </a:t>
            </a:r>
            <a:r>
              <a:rPr b="0" lang="en-US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ephrit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</a:t>
            </a:r>
            <a:r>
              <a:rPr b="0" lang="en-US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Most common between 30 - 50 yea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" descr="Memb_illustrationcapillary.jpg"/>
          <p:cNvPicPr/>
          <p:nvPr/>
        </p:nvPicPr>
        <p:blipFill>
          <a:blip r:embed="rId1"/>
          <a:stretch/>
        </p:blipFill>
        <p:spPr>
          <a:xfrm>
            <a:off x="50760" y="609480"/>
            <a:ext cx="90424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55440" y="-92160"/>
            <a:ext cx="8710560" cy="12812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15228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t is a chronic progressive glomerulonephritis that occurs 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older children and adul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2 main typ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</a:t>
            </a:r>
            <a:r>
              <a:rPr b="0" lang="en-US" sz="3000" spc="-1" strike="noStrike" u="sng">
                <a:solidFill>
                  <a:srgbClr val="e46c0a"/>
                </a:solidFill>
                <a:uFillTx/>
                <a:latin typeface="Times New Roman"/>
                <a:ea typeface="Times New Roman"/>
              </a:rPr>
              <a:t>Type I MPGN</a:t>
            </a:r>
            <a:r>
              <a:rPr b="0" lang="en-US" sz="2400" spc="-1" strike="noStrike" u="sng">
                <a:solidFill>
                  <a:srgbClr val="e46c0a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3000" spc="-1" strike="noStrike" u="sng">
                <a:solidFill>
                  <a:srgbClr val="e46c0a"/>
                </a:solidFill>
                <a:uFillTx/>
                <a:latin typeface="Times New Roman"/>
                <a:ea typeface="Times New Roman"/>
              </a:rPr>
              <a:t>(80% of case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irculating immune complexes have been identif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May occur in association with hepatitis B&amp;C antigenemia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</a:t>
            </a: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extra-renal infections  or S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 </a:t>
            </a: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haracterized by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bendothelial and mesangial</a:t>
            </a: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posi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3" descr="IF membranoproliferative I.jpg"/>
          <p:cNvPicPr/>
          <p:nvPr/>
        </p:nvPicPr>
        <p:blipFill>
          <a:blip r:embed="rId2"/>
          <a:stretch/>
        </p:blipFill>
        <p:spPr>
          <a:xfrm>
            <a:off x="5715000" y="2320920"/>
            <a:ext cx="342900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46c0a"/>
                </a:solidFill>
                <a:uFillTx/>
                <a:latin typeface="Times New Roman"/>
                <a:ea typeface="Times New Roman"/>
              </a:rPr>
              <a:t>Type II MPGN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Also known as :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nse deposit disease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28600" y="16002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he fundamental  abnormality is 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Excessive complement activ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ome patients have autoantibody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gainst C3 convertase called: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C3 nephritic factor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haracterized by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tramembranous dense depos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IF MEM PROF II.jpg"/>
          <p:cNvPicPr/>
          <p:nvPr/>
        </p:nvPicPr>
        <p:blipFill>
          <a:blip r:embed="rId1"/>
          <a:stretch/>
        </p:blipFill>
        <p:spPr>
          <a:xfrm>
            <a:off x="5932440" y="3886200"/>
            <a:ext cx="32115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Rectangl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6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obr4"/>
          <p:cNvPicPr/>
          <p:nvPr/>
        </p:nvPicPr>
        <p:blipFill>
          <a:blip r:embed="rId2"/>
          <a:stretch/>
        </p:blipFill>
        <p:spPr>
          <a:xfrm>
            <a:off x="0" y="144792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99" name="Down Arrow 4"/>
          <p:cNvSpPr/>
          <p:nvPr/>
        </p:nvSpPr>
        <p:spPr>
          <a:xfrm>
            <a:off x="6781680" y="2057400"/>
            <a:ext cx="152640" cy="1676520"/>
          </a:xfrm>
          <a:prstGeom prst="downArrow">
            <a:avLst>
              <a:gd name="adj1" fmla="val 50000"/>
              <a:gd name="adj2" fmla="val 49934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Title 1" descr=""/>
          <p:cNvPicPr/>
          <p:nvPr/>
        </p:nvPicPr>
        <p:blipFill>
          <a:blip r:embed="rId1"/>
          <a:stretch/>
        </p:blipFill>
        <p:spPr>
          <a:xfrm>
            <a:off x="244440" y="390600"/>
            <a:ext cx="8442360" cy="9745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152280" y="13712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he  most common from of primary glomerulonephritis in the wor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Affects children and young ad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Begins as an episode of gross hematuria that occurs within 1-2 days of a non specific upper respiratory tract infec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09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Understand the importance of immune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omplexes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 the pathogenesis of renal injury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Learn that immune complexes form in the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irculation and may deposit in different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issu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Understand the dynamics of deposition of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omplexes which depend on the size and rate 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dentify the different types of renal disease based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on the site of deposition of the immune complex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3114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304560" y="15235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he pathogenic hallmark is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eposition of IgA &amp; complement C3 in the 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mesangium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here is evidence of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ctivation of complement by </a:t>
            </a:r>
            <a:r>
              <a:rPr b="0" lang="en-US" sz="30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the alternative 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pathway 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serum complement C2 and C4 will be 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ormal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IgA.jpg"/>
          <p:cNvPicPr/>
          <p:nvPr/>
        </p:nvPicPr>
        <p:blipFill>
          <a:blip r:embed="rId1"/>
          <a:stretch/>
        </p:blipFill>
        <p:spPr>
          <a:xfrm>
            <a:off x="685800" y="838080"/>
            <a:ext cx="7924680" cy="52038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228600" y="60199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  <a:ea typeface="Arial"/>
              </a:rPr>
              <a:t>This immunofluorescence pattern demonstrates positivity with antibody to IgA. The pattern is that of mesangial deposition in the glomerulus. This is IgA nephropath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>
            <a:off x="2286000" y="15228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64a2"/>
                </a:solidFill>
                <a:latin typeface="Calibri"/>
                <a:ea typeface="Arial"/>
              </a:rPr>
              <a:t>IgA Nephropat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Title 1" descr=""/>
          <p:cNvPicPr/>
          <p:nvPr/>
        </p:nvPicPr>
        <p:blipFill>
          <a:blip r:embed="rId1"/>
          <a:stretch/>
        </p:blipFill>
        <p:spPr>
          <a:xfrm>
            <a:off x="244440" y="195120"/>
            <a:ext cx="8442360" cy="14623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-360" y="1523880"/>
            <a:ext cx="88390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RPGN is a clinical syndrome and not a specific form of G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 most cases the glomerular injury is immunologically medi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 practical classification divides CrGN  into three groups on the basis of immunologic finding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http://www.health-writings.com/img/oy/membrane-glomerulonephritis/rapidly_progressive_crescentic_glomerulonephritis_02.jpg"/>
          <p:cNvPicPr/>
          <p:nvPr/>
        </p:nvPicPr>
        <p:blipFill>
          <a:blip r:embed="rId1"/>
          <a:stretch/>
        </p:blipFill>
        <p:spPr>
          <a:xfrm>
            <a:off x="0" y="1003320"/>
            <a:ext cx="8991720" cy="5864040"/>
          </a:xfrm>
          <a:prstGeom prst="rect">
            <a:avLst/>
          </a:prstGeom>
          <a:ln w="0">
            <a:noFill/>
          </a:ln>
        </p:spPr>
      </p:pic>
      <p:pic>
        <p:nvPicPr>
          <p:cNvPr id="110" name="Rectangle 4" descr=""/>
          <p:cNvPicPr/>
          <p:nvPr/>
        </p:nvPicPr>
        <p:blipFill>
          <a:blip r:embed="rId2"/>
          <a:stretch/>
        </p:blipFill>
        <p:spPr>
          <a:xfrm>
            <a:off x="-176040" y="55440"/>
            <a:ext cx="932004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Title 1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14623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haracterized by linear deposition of IgG and C3 on the GB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 Goodpasture syndro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ntibodies bind also in the pulmonary    alveolar capillary basement membra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anti gbm1.jpg"/>
          <p:cNvPicPr/>
          <p:nvPr/>
        </p:nvPicPr>
        <p:blipFill>
          <a:blip r:embed="rId1"/>
          <a:stretch/>
        </p:blipFill>
        <p:spPr>
          <a:xfrm>
            <a:off x="0" y="0"/>
            <a:ext cx="9101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Title 1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14623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May occur as a complication of any of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he immune complex nephritid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   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Post infectiou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   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   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gA nephropath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</a:t>
            </a: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haracteristic granular (lumpy-bumpy) pattern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</a:t>
            </a: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taining of the GBM for immunoglobulin &amp; compleme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md_99-08-0054.jpg"/>
          <p:cNvPicPr/>
          <p:nvPr/>
        </p:nvPicPr>
        <p:blipFill>
          <a:blip r:embed="rId1"/>
          <a:stretch/>
        </p:blipFill>
        <p:spPr>
          <a:xfrm>
            <a:off x="228600" y="990720"/>
            <a:ext cx="8705880" cy="5867280"/>
          </a:xfrm>
          <a:prstGeom prst="rect">
            <a:avLst/>
          </a:prstGeom>
          <a:ln w="0">
            <a:noFill/>
          </a:ln>
        </p:spPr>
      </p:pic>
      <p:pic>
        <p:nvPicPr>
          <p:cNvPr id="117" name="Rectangle 4" descr=""/>
          <p:cNvPicPr/>
          <p:nvPr/>
        </p:nvPicPr>
        <p:blipFill>
          <a:blip r:embed="rId2"/>
          <a:stretch/>
        </p:blipFill>
        <p:spPr>
          <a:xfrm>
            <a:off x="-55440" y="23760"/>
            <a:ext cx="904716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Title 1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14623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Defined by the lack of anti-GBM antibod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Most cases are  associated wit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nti-neutrophil cytoplasmic antibodies 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erum (ANCA) and systemic vasculit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3" descr="pauci.jpg"/>
          <p:cNvPicPr/>
          <p:nvPr/>
        </p:nvPicPr>
        <p:blipFill>
          <a:blip r:embed="rId1"/>
          <a:stretch/>
        </p:blipFill>
        <p:spPr>
          <a:xfrm>
            <a:off x="-4680" y="0"/>
            <a:ext cx="9148680" cy="60930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4"/>
          <p:cNvSpPr/>
          <p:nvPr/>
        </p:nvSpPr>
        <p:spPr>
          <a:xfrm>
            <a:off x="380880" y="621180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  <a:ea typeface="Arial"/>
              </a:rPr>
              <a:t>Granular staining (Immune compl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3733920" y="62118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  <a:ea typeface="Arial"/>
              </a:rPr>
              <a:t>Linear stai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  <a:ea typeface="Arial"/>
              </a:rPr>
              <a:t>(Anti-GB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6248520" y="6172200"/>
            <a:ext cx="2895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alibri"/>
                <a:ea typeface="Arial"/>
              </a:rPr>
              <a:t>No antibody st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alibri"/>
                <a:ea typeface="Arial"/>
              </a:rPr>
              <a:t>(Pauci associated with vasculit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Content Placeholder 3" descr="GNspectrumB.gif"/>
          <p:cNvPicPr/>
          <p:nvPr/>
        </p:nvPicPr>
        <p:blipFill>
          <a:blip r:embed="rId1"/>
          <a:stretch/>
        </p:blipFill>
        <p:spPr>
          <a:xfrm>
            <a:off x="228600" y="1371600"/>
            <a:ext cx="8610480" cy="53341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"/>
          <p:cNvSpPr/>
          <p:nvPr/>
        </p:nvSpPr>
        <p:spPr>
          <a:xfrm>
            <a:off x="304920" y="1522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omplexes of antibody with various microbial OR  self antigens induce type II or III hypersensitivity reactions in the kidney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7086600" y="5105520"/>
            <a:ext cx="1676520" cy="1218960"/>
          </a:xfrm>
          <a:prstGeom prst="rect">
            <a:avLst/>
          </a:prstGeom>
          <a:solidFill>
            <a:srgbClr val="fdead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flam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304920" y="5029200"/>
            <a:ext cx="1600200" cy="1371600"/>
          </a:xfrm>
          <a:prstGeom prst="rect">
            <a:avLst/>
          </a:prstGeom>
          <a:solidFill>
            <a:srgbClr val="ffff9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jury to renal tiss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5791320" y="3276720"/>
            <a:ext cx="83808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2209680" y="3276720"/>
            <a:ext cx="53352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4191120" y="3809880"/>
            <a:ext cx="6858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Down Arrow 8"/>
          <p:cNvSpPr/>
          <p:nvPr/>
        </p:nvSpPr>
        <p:spPr>
          <a:xfrm>
            <a:off x="6172200" y="3886200"/>
            <a:ext cx="380880" cy="1523880"/>
          </a:xfrm>
          <a:prstGeom prst="downArrow">
            <a:avLst>
              <a:gd name="adj1" fmla="val 50000"/>
              <a:gd name="adj2" fmla="val 50012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Down Arrow 9"/>
          <p:cNvSpPr/>
          <p:nvPr/>
        </p:nvSpPr>
        <p:spPr>
          <a:xfrm>
            <a:off x="4267080" y="4114800"/>
            <a:ext cx="381240" cy="1434960"/>
          </a:xfrm>
          <a:prstGeom prst="downArrow">
            <a:avLst>
              <a:gd name="adj1" fmla="val 50000"/>
              <a:gd name="adj2" fmla="val 49959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Down Arrow 10"/>
          <p:cNvSpPr/>
          <p:nvPr/>
        </p:nvSpPr>
        <p:spPr>
          <a:xfrm>
            <a:off x="2209680" y="3886200"/>
            <a:ext cx="228600" cy="181620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Title 1" descr=""/>
          <p:cNvPicPr/>
          <p:nvPr/>
        </p:nvPicPr>
        <p:blipFill>
          <a:blip r:embed="rId1"/>
          <a:stretch/>
        </p:blipFill>
        <p:spPr>
          <a:xfrm>
            <a:off x="457200" y="244440"/>
            <a:ext cx="8229600" cy="14256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mmune complexes underly the pathogenesis of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many of the glomerulo-nephritid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ctivation of the complement system is an integral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part of the process, and measurement of the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omplement proteins help in diagnosis and follow-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up of patient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mmunofluoresence of renal biopsy demonstrate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he presence of immune complexes and confirm the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agnosi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Diagram 1" descr=""/>
          <p:cNvPicPr/>
          <p:nvPr/>
        </p:nvPicPr>
        <p:blipFill>
          <a:blip r:embed="rId1"/>
          <a:stretch/>
        </p:blipFill>
        <p:spPr>
          <a:xfrm>
            <a:off x="0" y="1438200"/>
            <a:ext cx="9144000" cy="5280120"/>
          </a:xfrm>
          <a:prstGeom prst="rect">
            <a:avLst/>
          </a:prstGeom>
          <a:ln w="0">
            <a:noFill/>
          </a:ln>
        </p:spPr>
      </p:pic>
      <p:pic>
        <p:nvPicPr>
          <p:cNvPr id="63" name="TextBox 3" descr=""/>
          <p:cNvPicPr/>
          <p:nvPr/>
        </p:nvPicPr>
        <p:blipFill>
          <a:blip r:embed="rId2"/>
          <a:stretch/>
        </p:blipFill>
        <p:spPr>
          <a:xfrm>
            <a:off x="384120" y="49320"/>
            <a:ext cx="853452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weeningslide200804.jpg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Title 1" descr=""/>
          <p:cNvPicPr/>
          <p:nvPr/>
        </p:nvPicPr>
        <p:blipFill>
          <a:blip r:embed="rId1"/>
          <a:stretch/>
        </p:blipFill>
        <p:spPr>
          <a:xfrm>
            <a:off x="176040" y="128520"/>
            <a:ext cx="8510760" cy="12002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omplexes accumulate in tissues where filtration of plasma occurs. This explains the high incidence of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Glomerulonephritis (deposition in the   kidne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Vasculitis (deposition in the arteries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rthritis (deposition in the synovial joint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Introduction-NIER_01.png"/>
          <p:cNvPicPr/>
          <p:nvPr/>
        </p:nvPicPr>
        <p:blipFill>
          <a:blip r:embed="rId1"/>
          <a:stretch/>
        </p:blipFill>
        <p:spPr>
          <a:xfrm>
            <a:off x="2631960" y="1998720"/>
            <a:ext cx="6512040" cy="4859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imagesCAMCCZKX.jpg"/>
          <p:cNvPicPr/>
          <p:nvPr/>
        </p:nvPicPr>
        <p:blipFill>
          <a:blip r:embed="rId2"/>
          <a:stretch/>
        </p:blipFill>
        <p:spPr>
          <a:xfrm>
            <a:off x="0" y="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stock-photo-scheme-of-a-nephron-dissected-in-which-we-can-see-inside-72413677.jpg"/>
          <p:cNvPicPr/>
          <p:nvPr/>
        </p:nvPicPr>
        <p:blipFill>
          <a:blip r:embed="rId3"/>
          <a:stretch/>
        </p:blipFill>
        <p:spPr>
          <a:xfrm>
            <a:off x="0" y="2666880"/>
            <a:ext cx="2670120" cy="4191120"/>
          </a:xfrm>
          <a:prstGeom prst="rect">
            <a:avLst/>
          </a:prstGeom>
          <a:ln w="0">
            <a:noFill/>
          </a:ln>
        </p:spPr>
      </p:pic>
      <p:sp>
        <p:nvSpPr>
          <p:cNvPr id="70" name="TextBox 5"/>
          <p:cNvSpPr/>
          <p:nvPr/>
        </p:nvSpPr>
        <p:spPr>
          <a:xfrm>
            <a:off x="3048120" y="304920"/>
            <a:ext cx="56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  <a:ea typeface="Arial"/>
              </a:rPr>
              <a:t>Nephron and glomerul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weeningslide200809.jpg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Title 1" descr=""/>
          <p:cNvPicPr/>
          <p:nvPr/>
        </p:nvPicPr>
        <p:blipFill>
          <a:blip r:embed="rId1"/>
          <a:stretch/>
        </p:blipFill>
        <p:spPr>
          <a:xfrm>
            <a:off x="244440" y="122400"/>
            <a:ext cx="8442360" cy="974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380880" y="13716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</a:t>
            </a:r>
            <a:r>
              <a:rPr b="0" lang="en-US" sz="32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Antibody-mediated Inju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            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Membranous glomerulonephriti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IgA nephropath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Membranoproliferative glomerulonephriti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Post infectious glomerulonephriti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Antiglomerular basement membrane diseas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8T06:13:51Z</dcterms:created>
  <dc:creator>Dr.Hazem</dc:creator>
  <dc:description/>
  <dc:language>en-US</dc:language>
  <cp:lastModifiedBy>Dr.Hend</cp:lastModifiedBy>
  <dcterms:modified xsi:type="dcterms:W3CDTF">2015-04-29T05:19:17Z</dcterms:modified>
  <cp:revision>116</cp:revision>
  <dc:subject/>
  <dc:title>Immunology of  nephritis.</dc:title>
</cp:coreProperties>
</file>