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9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454-D618-4CAD-B777-16A0CE82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73A-930C-4C30-BBCB-EC6D04FA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54E-719C-452A-9806-A0B8686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78B-9CC7-4ED1-9140-90227A65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D607-0A44-4740-8B9C-064FCAA9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7D36-B33D-4334-A132-B8747A2D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094C-5D37-4D3D-91BA-71A5489F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6B5D-AC49-4B77-9D29-59EBABE9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276-2256-4E87-9CB5-FDBD821B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A10B-BD2F-4436-A1F4-DD0BCBC0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F0C6-00EE-49AC-A21B-B770A78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41D-8391-47CB-BF6B-5A7EB41D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7715-4AAB-4C7A-907A-642EC3BA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F40D-6D33-4834-BA5B-38EDCBF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C3BB-C6C6-4C52-8F56-D26CCFFC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DAF-772D-4C3D-B218-E11DD0D7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8F6A-F4B3-4BAD-B849-3C98CA69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E420-9B5A-4561-902D-64D7893C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5335C-CD9F-4D60-9D26-AC609B1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E928D-6597-4507-9F74-29CC8FE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FA753-3FE1-48BA-874F-934570DE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3E716-9A15-4A29-A618-ED9D151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383-3637-463E-A89A-1F25F41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08655-F509-4F02-AB53-59F1F617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8266A-53F8-4B5B-B7DE-E27244D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D450F-EB7F-4BAC-8772-C4EDCE8C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AD82-4E85-4B2C-A5E4-85C14A97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EC050-F5D2-4879-AE23-2D5DE32D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49DB-AD8A-42EB-8E4F-EE223083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51A95-D488-47B1-8000-B7EFB90D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9254-899D-43D1-B7AC-EF29F27B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9E97-7DDD-4591-A7C0-541B88DF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FDD1-35D7-4F24-984C-B0D69C84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E5A-06B7-4C83-95D4-29216371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1A247-5E7E-4781-BD0D-C8AD375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5E2A0-5572-430A-9821-A171ED10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A481A-8428-417B-94FB-3C037569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3E29-1832-4048-9B38-1B1628DB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2FFE5-7CAA-4926-BE07-A4533F4D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92807-F4E8-4368-A2D6-1868C6D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B4FDC-A155-47D8-93B6-ADFC0FC5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2200-0FB6-4C4C-91F2-83473124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DFDF-C92D-4489-9E56-277A3120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3C51-6D87-4650-850D-300EBA54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35E2-D718-41E2-B142-BEBD3F37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AAA86-59C9-4977-9372-62FDF9E7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0B4E6-9F93-4774-8A6B-ED45E36B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9E40A-C489-4A98-950E-EC9F268A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0987-A531-42F2-8EBA-5C7E7251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B3FF-BACB-4513-B93D-0F2BAB9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D872-0049-40E0-9FC4-C4D11AD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EA69B-2E5B-4DBB-BE69-637B4346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B0389-CBC1-4C8E-B417-44C35F6F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12F2-8DCD-4139-A193-513FC2DA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82B3E-B484-4CF2-879F-072A5C46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1B0-D54E-4425-8FBD-39CD95DA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DA74D-CE66-4863-9D87-607A40BC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7FE32-021D-4676-B020-A2EAB4F3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A3122-98C6-4314-B69C-006389A0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3AB1C-6EA3-4F78-B994-8D622C17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3474F-EB4B-474D-BC4C-2D357E1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2764-2D05-45BB-BC3C-127F82E7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B5AA0-BD6A-4336-ABEA-6CFA8422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015A5-F1CC-42A9-8097-4BA4D76C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EEDEC-1406-4F70-8FEF-46F8E23E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6C1C3-4E13-4644-96DA-C4BB8E50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2A0-241F-4509-ACC1-0EA8E190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D2929-BF54-4864-8551-2AD55700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EDB5-2D64-4B6F-BAF8-63BDD956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B661-37AA-4426-B79A-4D932513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5AA13-C0EC-4595-95EC-1DBD1AE1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124AC-EE37-41F9-A03C-CE2B7FB2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30074-55B1-42FE-88CF-7CB722DA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A920-1FCB-40E3-B901-EA5C896C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2D642-CBCA-4229-A87A-04507BD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488E3-B8A3-407F-A64E-0162632B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95678-2FFB-47B4-BDAB-AF09709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DCA-8965-4AB0-9CA8-68E20F07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DB1ED-1CAC-47ED-8D12-A0289974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361CE-452B-4F99-9650-40998CB1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20FC-01E4-45EE-A0A4-D47074EE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D3EF4-5997-45B6-92AE-773843CE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29269-5830-45E5-8A15-76111E45D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A442A-9E63-48F0-B0AC-C8C04C7E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7507A-72C0-485E-903D-CB29338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B42C5-F3D7-4437-964F-CB828B6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487B1-66CB-4C14-A5E2-C1CE79D8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E179D-F11A-42DB-82F2-286AD63D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F39-57AD-49CC-9C75-3164D2E5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8D28-119B-4D1E-86B6-C0EAD191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C2E80-4729-4CC6-BEA5-52E4236A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9E76-497B-4C08-81A8-97492B5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B6866-A6BD-4010-928D-4DACC701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81C0E-4AB8-4C70-B200-A08ECCBF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B020-0BF5-4217-AD52-F6586CB8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809E0-4D51-485E-8F4E-6A569E37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7516-C8F7-43AE-B71D-621075AA61A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BB43-4177-4859-A9AF-BCEFE99AB6D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EF82-AF2D-482A-AAE2-4301E13F83C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807-7098-4351-95C9-163FB476B7E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100A-0F05-4CB8-8215-E73AF7CE29B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53F3-10CF-4725-9C81-4DCC91923CF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AD6-E35B-40D6-A072-45E0A83EA38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5B78-9CDB-4250-8014-A08E0B554319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rds.yahoo.com/_ylt=A0WTefVU8X9KddYAU3qJzbkF;_ylu=X3oDMTBqaWRlZWhnBHBvcwMxOQRzZWMDc3IEdnRpZAM-/SIG=1hsj07btk/EXP=1249985236/**http%3A//images.search.yahoo.com/images/view%3Fback=http%253A%252F%252Fimages.search.yahoo.com%252Fsearch%252Fimages%253F_adv_prop%253Dimage%2526va%253Durinary%252Btract%2526fr%253Dyfp-t-203%26w=100%26h=100%26imgurl=health.discovery.com%252Fcenters%252Fwomens%252Futi%252Fgallery%252Furinarytractinfect.jpg%26rurl=http%253A%252F%252Fhealth.discovery.com%252Fcenters%252Fwomens%252Futi%252Futi.html%26size=5k%26name=urinarytractinfe...%26p=urinary%2Btract%26oid=f0632d2faa766c5e%26fr2=%26no=19%26tt=20905%26sigr=11nj1c6l2%26sigi=126f690vh%26sigb=12q4sjmgn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rds.yahoo.com/_ylt=A0WTefai839Kq8QA_2mJzbkF;_ylu=X3oDMTBpaWhqZmNtBHBvcwMzBHNlYwNzcgR2dGlkAw--/SIG=1jkbqh9gc/EXP=1249985826/**http%3A//images.search.yahoo.com/images/view%3Fback=http%253A%252F%252Fimages.search.yahoo.com%252Fsearch%252Fimages%253Fp%253DIMAGES%252BOF%252Bpyelonephritis%2526ei%253Dutf-8%2526y%253DSearch%2526fr%253Dyfp-t-203%26w=340%26h=361%26imgurl=www.lifeline.de%252Fimg%252Fll%252F4%252F33763__nierenanatomie_schematisch_f.jpg%26rurl=http%253A%252F%252Fwww.lifeline.de%252Fcda%252Fkrankheit_therapie%252Fkrankheitenlexikon%252Fcontent-131428.html%26size=21k%26name=33763%2Bnierenanat...%26p=IMAGES%2BOF%2Bpyelonephritis%26oid=24680555e299eb18%26fr2=%26no=3%26tt=356%26sigr=12kbh941s%26sigi=120045c0u%26sigb=136l01edg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rds.yahoo.com/_ylt=A0WTefai839Kq8QABWqJzbkF;_ylu=X3oDMTBpdDZuNzZrBHBvcwM5BHNlYwNzcgR2dGlkAw--/SIG=1k9agvj0s/EXP=1249985826/**http%3A//images.search.yahoo.com/images/view%3Fback=http%253A%252F%252Fimages.search.yahoo.com%252Fsearch%252Fimages%253Fp%253DIMAGES%252BOF%252Bpyelonephritis%2526ei%253Dutf-8%2526y%253DSearch%2526fr%253Dyfp-t-203%26w=1093%26h=1950%26imgurl=www.vetmed.wsu.edu%252Fcourses_vm546%252FContent_Links%252FDfDx%252FRenal_Disease%252FKidney.jpg%26rurl=http%253A%252F%252Fwww.vetmed.wsu.edu%252Fcourses_vm546%252FContent_Links%252FDfDx%252FRenal_Disease%252Fpyelonephritis.htm%26size=171k%26name=Kidney%2Bjpg%26p=IMAGES%2BOF%2Bpyelonephritis%26oid=8f8ac242a9960414%26fr2=%26no=9%26tt=356%26sigr=12rim8m3m%26sigi=12cl110m7%26sigb=136l01edg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://rds.yahoo.com/_ylt=A0WTbx849H9KOVwAc.2JzbkF;_ylu=X3oDMTBqZDFlYmxzBHBvcwMxNgRzZWMDc3IEdnRpZAM-/SIG=1m5ljtl25/EXP=1249985976/**http%3A//images.search.yahoo.com/images/view%3Fback=http%253A%252F%252Fimages.search.yahoo.com%252Fsearch%252Fimages%253Fp%253DIMAGES%252BOF%252Burethritis%2526ei%253Dutf-8%2526y%253DSearch%2526fr%253Dyfp-t-203%26w=450%26h=303%26imgurl=www.co.hennepin.mn.us%252Ffiles%252FHCInternet%252FStatic%252520Files%252FNGonorrhoeaeGonococci450.jpg%26rurl=http%253A%252F%252Fwww.co.hennepin.mn.us%252Fportal%252Fsite%252FHCInternet%252Fmenuitem.3f94db53874f9b6f68ce1e10b1466498%253Fvgnextoid%253D8d09954fc658e010VgnVCM1000000f094689RCRD%26size=16k%26name=NGonorrhoeaeGono...%26p=IMAGES%2BOF%2Burethritis%26oid=53c2c66a762b5802%26fr2=%26no=16%26tt=260%26sigr=14gcusqhq%26sigi=12icjd42m%26sigb=132ul7ibh" TargetMode="External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Rw9H9KgxcAHgOJzbkF;_ylu=X3oDMTBqNzBoY2J0BHBvcwMxNARzZWMDc3IEdnRpZAM-/SIG=1hicubc3j/EXP=1249986032/**http%3A//images.search.yahoo.com/images/view%3Fback=http%253A%252F%252Fimages.search.yahoo.com%252Fsearch%252Fimages%253Fp%253DIMAGES%252BOF%252Bvesicoureteral%252Breflux%26w=289%26h=419%26imgurl=www.urologyhealth.org%252Fcommon%252Fimages%252Fanatomy_Vesicoureteral_reflux_GrV.jpg%26rurl=http%253A%252F%252Fwww.urologyhealth.org%252Fpicturepopup.cfm%253Fid%253D40%26size=17k%26name=anatomy%2BVesicour...%26p=IMAGES%2BOF%2Bvesicoureteral%2Breflux%26oid=63a886132f2f0588%26fr2=%26no=14%26tt=178%26sigr=11jke6rh0%26sigi=129sq04ul%26sigb=12eqoaevf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rds.yahoo.com/_ylt=A0WTefRw9H9KgxcAIAOJzbkF;_ylu=X3oDMTBqZDFlYmxzBHBvcwMxNgRzZWMDc3IEdnRpZAM-/SIG=1gok0m0hb/EXP=1249986032/**http%3A//images.search.yahoo.com/images/view%3Fback=http%253A%252F%252Fimages.search.yahoo.com%252Fsearch%252Fimages%253Fp%253DIMAGES%252BOF%252Bvesicoureteral%252Breflux%26w=326%26h=400%26imgurl=urology.jhu.edu%252Fpediatric%252Fdiseases%252Fimg%252Freflux2.jpg%26rurl=http%253A%252F%252Furology.jhu.edu%252Fpediatric%252Fdiseases%252Freflux.php%26size=80k%26name=reflux2%2Bjpg%26p=IMAGES%2BOF%2Bvesicoureteral%2Breflux%26oid=0cbf8b2df6cc48e0%26fr2=%26no=16%26tt=178%26sigr=11kp5csa9%26sigi=11igb208h%26sigb=12eqoaevf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rds.yahoo.com/_ylt=A0WTefgH8n9K6V4Afl6JzbkF;_ylu=X3oDMTBqMjRpazg1BHBvcwMxMARzZWMDc3IEdnRpZAM-/SIG=1kdeliksb/EXP=1249985415/**http%3A//images.search.yahoo.com/images/view%3Fback=http%253A%252F%252Fimages.search.yahoo.com%252Fsearch%252Fimages%253Fp%253DIMAGES%252BOF%252BCATHETER%252BURINE%2526ei%253Dutf-8%2526fr%253Dyfp-t-203%26w=143%26h=150%26imgurl=images.clipartof.com%252Fthumbnails%252F6309-Obese-Man-With-A-Medical-Condition-That-Requires-The-Use-Of-A-Catheter-And-Urine-Bag-Clipart-Picture.jpg%26rurl=http%253A%252F%252Fwww.clipartof.com%252Fdetails%252Fclipart%252F18281.html%26size=8k%26name=Obese%2BMan%2Bwith%2Ba...%26p=IMAGES%2BOF%2BCATHETER%2BURINE%26oid=e8e6c8f92ee9efaa%26fr2=%26no=10%26tt=289%26sigr=11j131ckp%26sigi=14devs4a1%26sigb=12t8dt0lt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9040" y="1590840"/>
            <a:ext cx="7772400" cy="19936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Prof.Hanan Habib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recurrent UTI is related to sexual activity, and episodes recur more than 2 times within 6 month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single preventive dose taken immediately after intercours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s include: TMP-SMX, Cephalexin or Ciprofloxac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tional for patients who do not respond to other measur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Reduces recurrence by up to 95%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w dose antibiotic taken continuously for 6 months or longer, it includes 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TMP-SMX, Nitrofurantoin, or Cephalex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aken at bed time more effecti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fever, chills and flank pain ,but they are healthy non-pregnant ,not nauseous or vomiting with no signs of kidney involv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Can be treated at home with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al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 antibiotics for 14 days with one of the following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ephalosporins, Amoxicillin-Clavulanate, Ciprofloxacin or TMP-SMX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ose may be given by inj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urine culture may be obtained within one week of completion of therapy and again after 4 wee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281952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Patients need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Lucida Sans Unicode"/>
              </a:rPr>
              <a:t>hospital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given by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IV route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3-5 days until symptoms relieved for 24-48 h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fever and back pain continue after 72 hrs of antibiotic,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imaging tes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dicated to exclude abscesses, obstruction or other abnormalit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se patients need long-term antibiotic treatment even during periods when they have no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9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05520" y="297180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gh risk for UTI and complic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ould b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screen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for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Antibiotics during pregnancy includes;</a:t>
            </a:r>
            <a:r>
              <a:rPr b="0" lang="en-US" sz="2700" spc="-1" strike="noStrike">
                <a:solidFill>
                  <a:srgbClr val="ffff00"/>
                </a:solidFill>
                <a:latin typeface="Lucida Sans Unicode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, Ampicillin, Cephalosporins, and Nitrofuranto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should </a:t>
            </a: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take Quinolo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gnant women with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ymptomatic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bacteriuria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( evidence of infection but no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ymptoms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have 30% risk for acute pyelonephritis in the second or third trimes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and 3-5 days antibiotic need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uncomplicated UTI, need 7-10 days antibiotic treat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ve more frequent and more sever UT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eated for 7-14 days with antibiotics even patients with uncomplicated infection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quire 7days regimen of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Doxycycl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single dose </a:t>
            </a: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zithromycin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y be effective bu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not recommende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to avoid spread to the prostate gl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Patients should also be tested for accompanying STD.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3809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principal goal of management of urinary tract infection (U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Understand that management of UTI depends on several factors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at antibiotics are the main treatment of UTI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Know the  management/treatment of different conditions of UTI (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ystitis,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yelonephritis, catheter associated UTI ,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ually treated with TMP-SMX or Cephalexi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given a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ntamicin may be recommended as resistance to Cephalexin is increas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on in children with UT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n lead to pyelonephritis and kidney dam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Long-term antibiotic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plus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surgery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d to correct VUR and prevent infec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ute kidney infection : us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efixim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Suprax) </a:t>
            </a: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o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2-4 day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ntamici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n a one daily dose. Oral antibiotic then follows IV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1676520"/>
            <a:ext cx="2286000" cy="32004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62320" y="1905120"/>
            <a:ext cx="2266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y comm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ventive measures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 should not be used unless absolutely necessary and they should be removed as soon as possible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3733920"/>
            <a:ext cx="1905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Go to fullsize image"/>
          <p:cNvPicPr/>
          <p:nvPr/>
        </p:nvPicPr>
        <p:blipFill>
          <a:blip r:embed="rId1"/>
          <a:stretch/>
        </p:blipFill>
        <p:spPr>
          <a:xfrm>
            <a:off x="5105520" y="1447920"/>
            <a:ext cx="2590560" cy="3124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Go to fullsize image"/>
          <p:cNvPicPr/>
          <p:nvPr/>
        </p:nvPicPr>
        <p:blipFill>
          <a:blip r:embed="rId2"/>
          <a:stretch/>
        </p:blipFill>
        <p:spPr>
          <a:xfrm>
            <a:off x="1143000" y="1523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catheter is required for long periods ,it is best to be used intermittent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replaced every 2 weeks to reduce risk of infection and irrigating bladder with antibiotics between replace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Daily hygiene and use of closed system to prevent inf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Catheterized patients who develop UTI with symptoms or at risk for sepsis should be treated for each episode with antibiotics and catheter should be removed, if possi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da2bf"/>
                </a:solidFill>
                <a:latin typeface="Lucida Sans Unicode"/>
              </a:rPr>
              <a:t>Associated organisms are constantly chang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be multiple species of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Antibiotic use for prophylaxis is rarely recommended since high bacterial counts present and patients do not develop symptomatic U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TIBIOTIC THERAPY HAS LITTLE BENEFIT IF THE CATHETER IS TO REMAIN IN PLACE FOR LONG PERIO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incipal goal of management of UTI is to eradicate the offending organisms from the urinary bladder and tissu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in treatment of UTI is by antibiot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complicated or uncomplicate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ther infection is primary or recurr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ype of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pregnant ,child , hospitalized or not, diabetic patient,…..etc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acterial cou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sence of symptom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w-risk patient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woman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 recurrent infecti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27a8f"/>
                </a:solidFill>
                <a:latin typeface="Lucida Sans Unicode"/>
              </a:rPr>
              <a:t>3 days antibiotic without urine t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re rate 94%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66"/>
                </a:solidFill>
                <a:latin typeface="Lucida Sans Unicode"/>
              </a:rPr>
              <a:t>Choice of antibiotic depend on susceptibility pattern of bacteria, it includes ;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oxicill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with or without clavulanat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ephlosporins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first or second generation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luoroquinolone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ciprofloxacin or norfloxaci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not for pregnant women or children)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 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choice if other antibiotics are resista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MP-SMX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trade names: Bactrim, Septra  ,Cotrimoxazo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itrofurantoin </a:t>
            </a:r>
            <a:r>
              <a:rPr b="0" lang="en-US" sz="2700" spc="-1" strike="noStrike">
                <a:solidFill>
                  <a:srgbClr val="7030a0"/>
                </a:solidFill>
                <a:latin typeface="Lucida Sans Unicode"/>
              </a:rPr>
              <a:t>( for long term us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aused by treatment failure or structural abnormalities or abscess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ntibiotics used at the initial inf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reatment for 7-14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tients with two or more symptomatic UTIs within 6 months or 3 or more over a yea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7030a0"/>
                </a:solidFill>
                <a:latin typeface="Lucida Sans Unicode"/>
              </a:rPr>
              <a:t>Need preventive therap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Lucida Sans Unicode"/>
              </a:rPr>
              <a:t>Antibiotic taken as soon as symptoms develop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infection occurs less than twice a year,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lean catch urine test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hould be taken for cultur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reated as initial attack for 3 day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f symptoms persi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 change in sympto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gnant wom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ore than 4 infections per ye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mpaired immune syst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evious kidney infec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tructural abnormalities of urinary tra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story of infection with antibiotic resistant bacteri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9T11:30:51Z</dcterms:created>
  <dc:creator>Dr.Hannan</dc:creator>
  <dc:description/>
  <dc:language>en-US</dc:language>
  <cp:lastModifiedBy>DR.HANAN</cp:lastModifiedBy>
  <dcterms:modified xsi:type="dcterms:W3CDTF">2016-02-28T10:33:33Z</dcterms:modified>
  <cp:revision>22</cp:revision>
  <dc:subject/>
  <dc:title>Treatment of urinary tract infection</dc:title>
</cp:coreProperties>
</file>