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50C-9CD2-40C5-B81D-C5595351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21E-ACC8-407F-AF92-34A742D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4B0-8B22-4619-B860-03B64F7F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1B0-6D00-4EB9-B1ED-845CA1A0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96F1-DBF6-4B56-A35E-DADA1BE2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AAC8-FCB2-43EE-9537-FBAC8727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91DD-77B5-4B78-AAF1-1D165F6B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075B-6931-4539-8836-66EA51DC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C4C1-7372-49E2-9C40-61DB29B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CADC-AB2E-439F-8742-5CF7992D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190F-A121-432D-B3EB-B6642B74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E89-DA9C-43B3-9227-858729EB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18C6-9F62-4CC3-B242-21465603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6C49-61C7-4DF3-8B1F-41654811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368A-B3D7-4E6A-8FE0-C3AE3CF1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DFD7-C75B-4B39-8F02-A31C08E0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348-8BA6-409C-8ACD-892A09FC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E3F3-E68F-4E5D-8F3F-60C97C7C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17DF-4943-491C-8529-83BB0096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B1CB-69F7-40C8-BEBC-7579C0D2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DD1F-864C-46A6-BCBE-5E83B802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6CF5-7AC4-44B8-99E5-37301AC6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131-9CC5-499B-8FF3-8301442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7C61-6F70-46DB-B25A-DCABD53E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A3AE-93ED-4995-ACEE-1468810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D998-8AED-4A86-8E1B-DFD20ED2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5EB0-1D5F-495E-9078-F17C6CAA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25DE-CC95-4F65-9C52-96EA31D0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1496-5E53-43B0-A32A-CE475B59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A167-FA6F-48D8-A87C-B5326750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B416-29A4-4288-A2E2-60572640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3D524-0747-4163-B0BE-A6E0F6EC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A9AD-A69A-4D45-9694-2E99B876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69A-53DF-4469-94DE-48D203C0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AD80-BB1B-4F16-8B11-DEEBD86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1653-4A3C-47BD-9B82-6364E8D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23210-3549-4245-A55F-7084C7C7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6FEF6-2575-4E8D-8DD5-365DFE03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65EC0-1372-4334-8F27-FBD47C0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48BC-D12C-4706-B3A0-A98E16B5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E99F-7A87-4F22-B74D-6506384A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39D15-83FE-4D76-B275-DB13823E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F13ED-D754-4C83-8E89-7D827E36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99ACA-8009-4C31-9888-A22DE632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12D-7522-43F0-B9AF-02AFA7E6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BEE5-D559-45F3-B59C-8BD8C21E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E130B-C532-4E34-A873-7204B780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4507-3D70-4DB8-9E1F-9EFC979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375E4-18D0-4668-91CE-733F456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D93A2-8867-4D77-98B7-6F902514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2F4CF-46C8-4B46-BE4F-A74DF36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344F5-9EFD-4E86-9299-4DA65E4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61382-93A8-4A26-807F-3C88C707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73785-CF53-46AE-847B-F3E9B6E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3674B-EB1B-4965-B7FE-DAD1F40E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04E-39C2-4C71-944D-191C2677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5A702-5D0A-47AF-A510-1EA121F2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07A6C-4386-42EF-A884-2F8A9FBC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6A0B1-8974-4483-A01B-A384B592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1ED1-7D72-4210-8BB1-30C1ACE7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14FFA-5B8E-4E91-9152-BFA8560B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51DE4-2D14-47D1-AC37-BB1DB874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F555D-249C-44AF-A067-D3ADB77A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5061-3820-493D-8094-7C7E2CE5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DD75F-6729-4108-9D17-266776F1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02168-A5C6-44BC-A83E-F239FB45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4E5-D47D-430B-BE27-65C5BEF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66958-63AA-47CD-95C2-538ED71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68258-4E5C-4371-BCCF-B0CF7EE6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659E-D6C8-4DE7-9585-3246F15A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E2332-AD76-4F39-BC14-5DFA6942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83AB-2C5A-4B77-B015-FA06C6A9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068A8-AD7B-4A55-916A-0343241B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61A0A-B2D8-4EE5-BE7A-39A9429F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95EAE-6D05-45EE-BE1D-FC950ABF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92FE4-1743-41CF-8C69-528474E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06A6-C466-4B14-BBEB-E216457C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D16-4920-4650-A199-055AEC26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EDC72-2856-46B6-A82B-0F83AA3B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29BE9-686F-4BA6-99E5-4244DA4F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6AD6E-F45B-4A92-8D1C-D2AC218D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EC65C-0998-4078-BAE9-94C0AB0B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1905-2F19-474B-8C98-BF35B4CA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BAE69-BCC8-4F74-BF13-ADD7C7BC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D1ECD-01FC-4FD1-ACE9-B7DFCED7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5E97D-640B-427E-BE76-A554058D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C063F-2FB6-4AB9-8C2F-795A34CB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1A2D6-68E2-4AFF-AEC9-5A273FAC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B90-2EE9-4BA9-B3E6-95AFB630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1952E-F068-435F-9CC7-606142FC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BBD3-0C6F-4FB4-B7B8-DE0DD2B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82D73-2FBE-43CF-BF1C-635DAE0A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3CE99-B01F-4B75-AED9-95E1355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0CD20-10C5-42CD-91E0-3F0F9EB0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4FC51-8605-48C2-AB08-142D35C8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78C91-2971-44D0-BC68-69DE6298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753C-A267-406B-8F68-9190A76D8B9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27DF-C00E-4D2C-9C1D-DE05B136535A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FBD6-8274-407F-AC17-1298D3B470D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E3FC-5CE3-4E61-8C94-F5A0454E4B6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4848-A297-4752-A603-96383A125E2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2772-C878-4F92-90B0-586BA274812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3C7-A3B8-479A-8B35-38C1E35FFA4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250D-472D-4CC8-900F-FE9704522CE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rds.yahoo.com/_ylt=A0WTefVU8X9KddYAU3qJzbkF;_ylu=X3oDMTBqaWRlZWhnBHBvcwMxOQRzZWMDc3IEdnRpZAM-/SIG=1hsj07btk/EXP=1249985236/**http%3A//images.search.yahoo.com/images/view%3Fback=http%253A%252F%252Fimages.search.yahoo.com%252Fsearch%252Fimages%253F_adv_prop%253Dimage%2526va%253Durinary%252Btract%2526fr%253Dyfp-t-203%26w=100%26h=100%26imgurl=health.discovery.com%252Fcenters%252Fwomens%252Futi%252Fgallery%252Furinarytractinfect.jpg%26rurl=http%253A%252F%252Fhealth.discovery.com%252Fcenters%252Fwomens%252Futi%252Futi.html%26size=5k%26name=urinarytractinfe...%26p=urinary%2Btract%26oid=f0632d2faa766c5e%26fr2=%26no=19%26tt=20905%26sigr=11nj1c6l2%26sigi=126f690vh%26sigb=12q4sjmgn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rds.yahoo.com/_ylt=A0WTefai839Kq8QA_2mJzbkF;_ylu=X3oDMTBpaWhqZmNtBHBvcwMzBHNlYwNzcgR2dGlkAw--/SIG=1jkbqh9gc/EXP=1249985826/**http%3A//images.search.yahoo.com/images/view%3Fback=http%253A%252F%252Fimages.search.yahoo.com%252Fsearch%252Fimages%253Fp%253DIMAGES%252BOF%252Bpyelonephritis%2526ei%253Dutf-8%2526y%253DSearch%2526fr%253Dyfp-t-203%26w=340%26h=361%26imgurl=www.lifeline.de%252Fimg%252Fll%252F4%252F33763__nierenanatomie_schematisch_f.jpg%26rurl=http%253A%252F%252Fwww.lifeline.de%252Fcda%252Fkrankheit_therapie%252Fkrankheitenlexikon%252Fcontent-131428.html%26size=21k%26name=33763%2Bnierenanat...%26p=IMAGES%2BOF%2Bpyelonephritis%26oid=24680555e299eb18%26fr2=%26no=3%26tt=356%26sigr=12kbh941s%26sigi=120045c0u%26sigb=136l01ed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rds.yahoo.com/_ylt=A0WTefai839Kq8QABWqJzbkF;_ylu=X3oDMTBpdDZuNzZrBHBvcwM5BHNlYwNzcgR2dGlkAw--/SIG=1k9agvj0s/EXP=1249985826/**http%3A//images.search.yahoo.com/images/view%3Fback=http%253A%252F%252Fimages.search.yahoo.com%252Fsearch%252Fimages%253Fp%253DIMAGES%252BOF%252Bpyelonephritis%2526ei%253Dutf-8%2526y%253DSearch%2526fr%253Dyfp-t-203%26w=1093%26h=1950%26imgurl=www.vetmed.wsu.edu%252Fcourses_vm546%252FContent_Links%252FDfDx%252FRenal_Disease%252FKidney.jpg%26rurl=http%253A%252F%252Fwww.vetmed.wsu.edu%252Fcourses_vm546%252FContent_Links%252FDfDx%252FRenal_Disease%252Fpyelonephritis.htm%26size=171k%26name=Kidney%2Bjpg%26p=IMAGES%2BOF%2Bpyelonephritis%26oid=8f8ac242a9960414%26fr2=%26no=9%26tt=356%26sigr=12rim8m3m%26sigi=12cl110m7%26sigb=136l01ed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rds.yahoo.com/_ylt=A0WTbx849H9KOVwAc.2JzbkF;_ylu=X3oDMTBqZDFlYmxzBHBvcwMxNgRzZWMDc3IEdnRpZAM-/SIG=1m5ljtl25/EXP=1249985976/**http%3A//images.search.yahoo.com/images/view%3Fback=http%253A%252F%252Fimages.search.yahoo.com%252Fsearch%252Fimages%253Fp%253DIMAGES%252BOF%252Burethritis%2526ei%253Dutf-8%2526y%253DSearch%2526fr%253Dyfp-t-203%26w=450%26h=303%26imgurl=www.co.hennepin.mn.us%252Ffiles%252FHCInternet%252FStatic%252520Files%252FNGonorrhoeaeGonococci450.jpg%26rurl=http%253A%252F%252Fwww.co.hennepin.mn.us%252Fportal%252Fsite%252FHCInternet%252Fmenuitem.3f94db53874f9b6f68ce1e10b1466498%253Fvgnextoid%253D8d09954fc658e010VgnVCM1000000f094689RCRD%26size=16k%26name=NGonorrhoeaeGono...%26p=IMAGES%2BOF%2Burethritis%26oid=53c2c66a762b5802%26fr2=%26no=16%26tt=260%26sigr=14gcusqhq%26sigi=12icjd42m%26sigb=132ul7ibh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Rw9H9KgxcAHgOJzbkF;_ylu=X3oDMTBqNzBoY2J0BHBvcwMxNARzZWMDc3IEdnRpZAM-/SIG=1hicubc3j/EXP=1249986032/**http%3A//images.search.yahoo.com/images/view%3Fback=http%253A%252F%252Fimages.search.yahoo.com%252Fsearch%252Fimages%253Fp%253DIMAGES%252BOF%252Bvesicoureteral%252Breflux%26w=289%26h=419%26imgurl=www.urologyhealth.org%252Fcommon%252Fimages%252Fanatomy_Vesicoureteral_reflux_GrV.jpg%26rurl=http%253A%252F%252Fwww.urologyhealth.org%252Fpicturepopup.cfm%253Fid%253D40%26size=17k%26name=anatomy%2BVesicour...%26p=IMAGES%2BOF%2Bvesicoureteral%2Breflux%26oid=63a886132f2f0588%26fr2=%26no=14%26tt=178%26sigr=11jke6rh0%26sigi=129sq04ul%26sigb=12eqoaevf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rds.yahoo.com/_ylt=A0WTefRw9H9KgxcAIAOJzbkF;_ylu=X3oDMTBqZDFlYmxzBHBvcwMxNgRzZWMDc3IEdnRpZAM-/SIG=1gok0m0hb/EXP=1249986032/**http%3A//images.search.yahoo.com/images/view%3Fback=http%253A%252F%252Fimages.search.yahoo.com%252Fsearch%252Fimages%253Fp%253DIMAGES%252BOF%252Bvesicoureteral%252Breflux%26w=326%26h=400%26imgurl=urology.jhu.edu%252Fpediatric%252Fdiseases%252Fimg%252Freflux2.jpg%26rurl=http%253A%252F%252Furology.jhu.edu%252Fpediatric%252Fdiseases%252Freflux.php%26size=80k%26name=reflux2%2Bjpg%26p=IMAGES%2BOF%2Bvesicoureteral%2Breflux%26oid=0cbf8b2df6cc48e0%26fr2=%26no=16%26tt=178%26sigr=11kp5csa9%26sigi=11igb208h%26sigb=12eqoaevf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rds.yahoo.com/_ylt=A0WTefgH8n9K6V4Afl6JzbkF;_ylu=X3oDMTBqMjRpazg1BHBvcwMxMARzZWMDc3IEdnRpZAM-/SIG=1kdeliksb/EXP=1249985415/**http%3A//images.search.yahoo.com/images/view%3Fback=http%253A%252F%252Fimages.search.yahoo.com%252Fsearch%252Fimages%253Fp%253DIMAGES%252BOF%252BCATHETER%252BURINE%2526ei%253Dutf-8%2526fr%253Dyfp-t-203%26w=143%26h=150%26imgurl=images.clipartof.com%252Fthumbnails%252F6309-Obese-Man-With-A-Medical-Condition-That-Requires-The-Use-Of-A-Catheter-And-Urine-Bag-Clipart-Picture.jpg%26rurl=http%253A%252F%252Fwww.clipartof.com%252Fdetails%252Fclipart%252F18281.html%26size=8k%26name=Obese%2BMan%2Bwith%2Ba...%26p=IMAGES%2BOF%2BCATHETER%2BURINE%26oid=e8e6c8f92ee9efaa%26fr2=%26no=10%26tt=289%26sigr=11j131ckp%26sigi=14devs4a1%26sigb=12t8dt0lt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590840"/>
            <a:ext cx="7772400" cy="1993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Prof.Hanan Habib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recurrent UTI is related to sexual activity, and episodes recur more than 2 times within 6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single preventive dose taken immediately after intercour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s include: TMP-SMX, Cephalexin or Ciprofloxac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tional for patients who do not respond to other meas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Reduces recurrence by up to 95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w dose antibiotic taken continuously for 6 months or longer, it includ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MP-SMX, Nitrofurantoin, or Cephalex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taken at bed time more effecti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with fever, chills and flank pain ,but they are healthy non-pregnant ,not nauseous or vomiting with no signs of kidney involv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an be treated at home with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ral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 antibiotics for 14 days with one of the following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ephalosporins, Amoxicillin-Clavulanate, Ciprofloxacin or TMP-SM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dose may be given by inj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urine culture may be obtained within one week of completion of therapy and again after 4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2819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Patients need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hospita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given by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V route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3-5 days until symptoms relieved for 24-48 h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fever and back pain continue after 72 hrs of antibiotic,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imaging tes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dicated to exclude abscesses, obstruction or other abnormal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se patients need long-term antibiotic treatment even during periods when they have no symp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33526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297180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Pregnant w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risk for UTI and com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be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creen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U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Antibiotics during pregnancy includes;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oxicillin, Ampicillin, Cephalosporins, and Nitrofurant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gnant women should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ake Quinol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gnant women with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symptomat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bacteriuri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( evidence of infection but n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ymptoms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ave 30% risk for acute pyelonephritis in the second or third trimes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reening and 3-5 days antibiotic need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uncomplicated UTI, need 7-10 days antibiotic treat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 more frequent and more sever U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eated for 7-14 days with antibiotics even patients with uncomplicated infectio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quire 7days regimen of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Doxycycl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ingle dose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zithromyc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y be effective bu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ot recommend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to avoid spread to the prostate gl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Patients should also be tested for accompanying STD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8098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e principal goal of management of urinary tract infection (U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stand that management of UTI depends on several factor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at antibiotics are the main treatment of UT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e  management/treatment of different conditions of UTI (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ystitis,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yelonephritis, catheter associated UTI ,etc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treated with TMP-SMX or Cephalex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given as IV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tamicin may be recommended as resistance to Cephalexin is increas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on in children with U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lead to pyelonephritis and kidney dam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Long-term antibiotic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plus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surgery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correct VUR and prevent infe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ute kidney infection : us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efixim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Suprax)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2-4 day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ntamic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a one daily dose. Oral antibiotic then follows IV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6765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1905120"/>
            <a:ext cx="2266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comm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entive measures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atheter should not be used unless absolutely necessary and they should be removed as soon as possible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37339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Go to fullsize image"/>
          <p:cNvPicPr/>
          <p:nvPr/>
        </p:nvPicPr>
        <p:blipFill>
          <a:blip r:embed="rId1"/>
          <a:stretch/>
        </p:blipFill>
        <p:spPr>
          <a:xfrm>
            <a:off x="5105520" y="14479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Go to fullsize image"/>
          <p:cNvPicPr/>
          <p:nvPr/>
        </p:nvPicPr>
        <p:blipFill>
          <a:blip r:embed="rId2"/>
          <a:stretch/>
        </p:blipFill>
        <p:spPr>
          <a:xfrm>
            <a:off x="1143000" y="1523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atheter is required for long periods ,it is best to be used intermittent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be replaced every 2 weeks to reduce risk of infection and irrigating bladder with antibiotics between replac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Daily hygiene and use of closed system to prevent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atheterized patients who develop UTI with symptoms or at risk for sepsis should be treated for each episode with antibiotics and catheter should be removed, if possi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ssociated organisms are constantly chang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be multiple species of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Antibiotic use for prophylaxis is rarely recommended since high bacterial counts present and patients do not develop symptomatic UT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THERAPY HAS LITTLE BENEFIT IF THE CATHETER IS TO REMAIN IN PLACE FOR LONG PERI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incipal goal of management of UTI is to eradicate the offending organisms from the urinary bladder and tiss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ain treatment of UTI is by antibiot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ther infection is complicated or uncomplica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ther infection is primary or recurr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 of patient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pregnant ,child , hospitalized or not, diabetic patient,…..etc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cterial co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ce of symp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w-risk patient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woman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recurrent infe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27a8f"/>
                </a:solidFill>
                <a:latin typeface="Lucida Sans Unicode"/>
              </a:rPr>
              <a:t>3 days antibiotic without urine t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re rate 94%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hoice of antibiotic depend on susceptibility pattern of bacteria, it includes 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oxicillin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with or without clavulanat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phlosporins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rst or second generation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luoroquinolone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ciprofloxacin or norfloxaci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not for pregnant women or children)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choice if other antibiotics are resista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MP-SMX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trade names: Bactrim, Septra  ,Cotrimoxazo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trofurantoin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for long term u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aused by treatment failure or structural abnormalities or abscess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ntibiotics used at the initial inf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eatment for 7-14 d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with two or more symptomatic UTIs within 6 months or 3 or more over a ye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Need preventive therap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Antibiotic taken as soon as symptoms develo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infection occurs less than twice a year,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lean catch urine test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hould be taken for cultu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reated as initial attack for 3 d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symptoms pers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change in sympt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egnant w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ore than 4 infections per ye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mpaired immun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evious kidney inf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ructural abnormalities of urinary 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story of infection with antibiotic resistant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1:30:51Z</dcterms:created>
  <dc:creator>Dr.Hannan</dc:creator>
  <dc:description/>
  <dc:language>en-US</dc:language>
  <cp:lastModifiedBy>DR.HANAN</cp:lastModifiedBy>
  <dcterms:modified xsi:type="dcterms:W3CDTF">2016-02-28T10:33:33Z</dcterms:modified>
  <cp:revision>22</cp:revision>
  <dc:subject/>
  <dc:title>Treatment of urinary tract infection</dc:title>
</cp:coreProperties>
</file>