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414D-4F7B-4F64-AA70-58C6A951A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B41C-0DA3-4F8B-BD03-3C7BC1954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RD = end stage renal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75E-1137-4E2C-AB00-E5D72493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9FF4-CDEE-4058-AC81-A192B51F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D37-52E9-4F31-A342-9BA11AE8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787-44DF-46FD-9A4E-D11EDD53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384-4E00-4C6C-A0E6-8F53E42B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000-48F6-4C12-AD13-23FC068B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8E9-1F08-4A7C-839D-ED552EA7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D17-25E1-445F-84C0-5DE8297D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638C-272C-494A-8EA4-400FF475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3FE-E17F-4898-8BCB-4D5E873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7A66-A59D-4F6A-B322-C9FD7B8E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9CB-DF27-428B-BC12-08E5F2F5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9B50-55C7-4DDE-84B8-5222A03A985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6118-F2BD-40FB-9121-416A4970D76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pSp>
        <p:nvGrpSpPr>
          <p:cNvPr id="49" name="TextBox 3"/>
          <p:cNvGrpSpPr/>
          <p:nvPr/>
        </p:nvGrpSpPr>
        <p:grpSpPr>
          <a:xfrm>
            <a:off x="706320" y="1847880"/>
            <a:ext cx="7809120" cy="2243160"/>
            <a:chOff x="706320" y="1847880"/>
            <a:chExt cx="7809120" cy="2243160"/>
          </a:xfrm>
        </p:grpSpPr>
        <p:pic>
          <p:nvPicPr>
            <p:cNvPr id="50" name="TextBox 3" descr=""/>
            <p:cNvPicPr/>
            <p:nvPr/>
          </p:nvPicPr>
          <p:blipFill>
            <a:blip r:embed="rId1"/>
            <a:stretch/>
          </p:blipFill>
          <p:spPr>
            <a:xfrm>
              <a:off x="706320" y="1847880"/>
              <a:ext cx="78091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62120" y="2133720"/>
              <a:ext cx="7696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8000" spc="-1" strike="noStrike">
                  <a:solidFill>
                    <a:srgbClr val="ffc000"/>
                  </a:solidFill>
                  <a:latin typeface="Bodoni MT"/>
                </a:rPr>
                <a:t>Pyelonephritis</a:t>
              </a:r>
              <a:endParaRPr b="0" lang="en-US" sz="80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0504d"/>
                </a:solidFill>
                <a:uFillTx/>
                <a:latin typeface="Bodoni MT"/>
              </a:rPr>
              <a:t>Radiological investigations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T sc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IVP=intra venous pyel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Radionucleotide imaging with gallium citrate and indium-111-labeled WB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24C1-3B8C-45CB-9676-6A11383CB21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513400" cy="662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486040" y="-360"/>
            <a:ext cx="3429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doni MT"/>
              </a:rPr>
              <a:t>Micturiting cystourethrogram (MCW showing bilateral VUR, grade IV on right and grade III on left-side. There is bilateral ureteral and pelvic dilation with blunting of fornices in the right kid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7BC7-4DA4-4222-82AE-E9F1127527DC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81480" y="609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ilateral reflux extending into the pelvicalyceal systems of the kidney without dilatation of the calyces or ureters. (Note catheter in bladd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11015" t="8139" r="43275" b="10466"/>
          <a:stretch/>
        </p:blipFill>
        <p:spPr>
          <a:xfrm>
            <a:off x="45720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B88E-B5B8-4563-A23E-826074ED872D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880" y="1294920"/>
            <a:ext cx="8229600" cy="449604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reated as outpatients if there is no nausea, vomiting or dehydration and other signs and symptoms of sep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Very ill patients and all pregnant women are hospitalized at least for 2 to 3 days for parente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2 weeks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actr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ipro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Gentamicin with or without amoxicil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830E-5B2C-44EC-AA8A-C8280958E319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Chronic or recurring symptomless infection persisting for months o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nother 6 weeks course if relap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ollow up urine culture 2 weeks after completion of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B4CB-1529-4573-ACD8-C9EF4DAE03C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Chronic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Repeated bouts of acute pyelonephritis may lead to chronic pyelonephritis that may lead to kidney damage and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Clinical manife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No symptoms of infection unless an acute exacerbation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ead 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or appet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olyu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xcessive th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Weight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Progressive scarr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renal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3471-002F-4C3C-9DF6-911C3B6FA85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28600" y="304560"/>
            <a:ext cx="8229600" cy="6095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Assessment and diagnostic finding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V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Serum creatin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lood u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Culture and sensi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Complications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SRD=end stage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yper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Kidney st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Medical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ccording to C&amp;S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Drugs carefully titrated if renal function is impa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F822-7CDC-40AF-A0CA-05FF0F7F7B82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33520" y="457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504d"/>
                </a:solidFill>
                <a:uFillTx/>
                <a:latin typeface="Bodoni MT"/>
              </a:rPr>
              <a:t>Nursing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 balance – I / O  ch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luids encouraged unless contraindi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Bodoni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hourly te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Bed 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Teach how to prevent recurrent infections : adequate fluids, emptying the bladder regularly and performing recommended perineal hygiene taking antibiotics as prescri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0D9B-2C76-4348-A6D0-2B9FB23B5CF3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reatment Guidelin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cute Uncomplicated Pyelonephr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Mild or moderate symptoms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utpatient treatment (total of 7–14 day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al 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Fluoroquin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TMP/SMX, if uropathogen is known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be suscept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f Gram-positive pathogen: amoxicil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r amoxicillin-clavula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F2C5-6B94-4BA2-BED6-EB4E06656BA5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3152"/>
                </a:solidFill>
                <a:latin typeface="Bodoni MT"/>
              </a:rPr>
              <a:t>Treatment of Pyelo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066680"/>
            <a:ext cx="8229600" cy="548640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Bodoni MT"/>
              </a:rPr>
              <a:t>Eradicate pathogens in kidney and urothelium, and treat/prevent bacter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Hospitalized patients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403152"/>
                </a:solidFill>
                <a:latin typeface="Bodoni MT"/>
              </a:rPr>
              <a:t>IV antibiotic first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48–72 hours followed by 7 days of oral antibiotic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Fluoroquinolone IV, then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doni MT"/>
              </a:rPr>
              <a:t>Aminoglycoside ± ampicillin IV, then TMP/SMX 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hird-generation cephalosporin IV, then TMP/SMX P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 </a:t>
            </a: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Ambulatory patients:  </a:t>
            </a: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7–14 days of PO therapy with one of the antimicrobials abo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40E-B6AE-42F6-B17C-46D097C5286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51920"/>
            <a:ext cx="8229600" cy="6248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4f62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228"/>
                </a:solidFill>
                <a:latin typeface="Bodoni MT"/>
              </a:rPr>
              <a:t>It is Bacterial infection of the renal pelvis, tubules and interstitial tissue of one or both kidn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Bell MT"/>
              </a:rPr>
              <a:t>potentially organ- and/or life-threatening infection that characteristically causes some scarring of the kidney with each infection and may lead to significant damage to the kidney that m</a:t>
            </a:r>
            <a:r>
              <a:rPr b="0" lang="en-US" sz="2500" spc="-1" strike="noStrike" u="sng">
                <a:solidFill>
                  <a:srgbClr val="00b050"/>
                </a:solidFill>
                <a:uFillTx/>
                <a:latin typeface="Bell MT"/>
              </a:rPr>
              <a:t>ay lead to hyperten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Bodoni MT"/>
              </a:rPr>
              <a:t>Pathophysiology and aet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Infection usually ascends from the urethra most bacterial causes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owel organisms </a:t>
            </a: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eg Ecoli </a:t>
            </a:r>
            <a:r>
              <a:rPr b="0" lang="en-US" sz="2800" spc="-1" strike="noStrike">
                <a:solidFill>
                  <a:srgbClr val="00b0f0"/>
                </a:solidFill>
                <a:latin typeface="Bodoni MT"/>
              </a:rPr>
              <a:t>(70-8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ospital-acquired infections may be due to coliforms and enterococc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Haematogenous spread is rare eg Staph aureusand mycobacterial tubercu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"/>
              </a:rPr>
              <a:t>Frequently due to ureterovesical refl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8E8-237A-4ADB-B2BE-A77ADBDC481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Scarred and contorted kidne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E740-5C3B-4707-9F48-980E9A27A8C8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7" name="Picture 5" descr="chronic_pyelonephritis"/>
          <p:cNvPicPr/>
          <p:nvPr/>
        </p:nvPicPr>
        <p:blipFill>
          <a:blip r:embed="rId1"/>
          <a:stretch/>
        </p:blipFill>
        <p:spPr>
          <a:xfrm>
            <a:off x="228600" y="701640"/>
            <a:ext cx="8531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truction of approximately 70% of the kidney. Numerous dilated calyces with yellow-brown calculi. The central necrotic areas are surrounded by dense fibro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3997-23E3-4904-9E7A-A77AC122895D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5" descr="Kidney_XGP_Gross4"/>
          <p:cNvPicPr/>
          <p:nvPr/>
        </p:nvPicPr>
        <p:blipFill>
          <a:blip r:embed="rId1"/>
          <a:srcRect l="0" t="0" r="0" b="10509"/>
          <a:stretch/>
        </p:blipFill>
        <p:spPr>
          <a:xfrm>
            <a:off x="228600" y="914400"/>
            <a:ext cx="853452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You are contacted by a  resident regarding the use of a FQ[</a:t>
            </a:r>
            <a:r>
              <a:rPr b="0" lang="en-US" sz="2000" spc="-1" strike="noStrike">
                <a:solidFill>
                  <a:srgbClr val="002060"/>
                </a:solidFill>
                <a:latin typeface="Bodoni MT"/>
              </a:rPr>
              <a:t>FLUORQUINOLONES</a:t>
            </a: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in a 24 year old semi-professional soccer player with 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pparent UT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e has complained of dysuria and frequency for the last 24 hours. Hi UA is positive for bacteria using a nitr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dipstick and WBC’s using a dipstick esterase tes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His past medical history is significant for DM. he has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allergies  other than his diabetes there has been 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Bodoni MT"/>
              </a:rPr>
              <a:t>other significant medical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0AA1-ED6D-4880-9973-CEE661404AC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An asymptomatic 84 year old male with hypertrophy of the prostate has an indwelling foleys catheter has a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urine culture for </a:t>
            </a:r>
            <a:r>
              <a:rPr b="0" i="1" lang="en-US" sz="3200" spc="-1" strike="noStrike">
                <a:solidFill>
                  <a:srgbClr val="17375e"/>
                </a:solidFill>
                <a:latin typeface="Bodoni MT"/>
              </a:rPr>
              <a:t>P. aeruginosa. You have b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contacted regarding the appropriate dose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Bodoni MT"/>
              </a:rPr>
              <a:t>interval for ciprofloxacin to begin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27B9-EAC3-4A13-8AA4-B05AACC1C0BE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Case 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You have been consulted on a 72 year old fem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nursing home patient. She recently was treated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10 days with ceftriaxone and azithromycin f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presumed CAP. During her hospitalization a fol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catheter was placed. She is currently afebrile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asymptomatic of any UTI symptoms but a culture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her urine at the end of her antibiotic therapy had 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significant growth of yeast. How should she b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7375e"/>
                </a:solidFill>
                <a:latin typeface="Bodoni MT"/>
              </a:rPr>
              <a:t>manag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8001-2D89-47AF-8BC0-EB1FA2CC73A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Bodoni MT"/>
              </a:rPr>
              <a:t>Complicated UTI Eti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21333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Klebsiella pneumoni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Citrobacter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teus mirabil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rovidencia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Pseudomonas aerugin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doni MT"/>
              </a:rPr>
              <a:t>Enterococci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19360" y="15238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%)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1 –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4.7 – 6.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0.9 – 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2 – 1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6.1 – 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402-34A6-42DC-8054-CF4004980D1F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523880"/>
          <a:ext cx="5562720" cy="517680"/>
        </p:xfrm>
        <a:graphic>
          <a:graphicData uri="http://schemas.openxmlformats.org/drawingml/2006/table">
            <a:tbl>
              <a:tblPr/>
              <a:tblGrid>
                <a:gridCol w="55627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80880" y="685440"/>
            <a:ext cx="8229600" cy="53341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Pyelonephritis may be acute or chro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Bodoni MT"/>
              </a:rPr>
              <a:t>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Kidneys enlar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Interstitial infiltration of inflammatory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bscesses on the capsule and at corticomedullary j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Result in destruction of tubules and the glomer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When chronic, kidneys become scarred, contracted and nonfuncti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F9F6-2211-41F2-A022-B2F98E3DE025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6861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Bodoni MT"/>
              </a:rPr>
              <a:t>Pathogenes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280" y="1142640"/>
            <a:ext cx="4724640" cy="47545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Rectal and/or vaginal reservo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Colonization of peria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l migration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erivaginal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acteria ascend thr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 to blad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Intercourse may con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urethral col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nd ascending 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SB[asymtomatic bacteruria] in 1st trimester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regnancy may ca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yelonephritis in 3rd trime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4549-D5C8-41C1-B304-DC780818B1E6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562720" y="228600"/>
            <a:ext cx="2819160" cy="2590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2880" y="2819520"/>
            <a:ext cx="38484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160" y="837720"/>
            <a:ext cx="8001000" cy="57913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Symptoms develop rapidly (&lt;24 hours) and may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Acutely il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Chill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ever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gt;38°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lank pain 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Nausea/vomit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Renal angle tendern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ell MT"/>
                <a:ea typeface="Arabic Transparent"/>
              </a:rPr>
              <a:t>Confusion in elderl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Leukocyto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Py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Bacteri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76092"/>
                </a:solidFill>
                <a:latin typeface="Bodoni MT"/>
              </a:rPr>
              <a:t>In addition symptoms of lower tract involv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Dysur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Bodoni MT"/>
              </a:rPr>
              <a:t>Frequenc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5EDD-B2A3-494B-B8A9-52182553C3F0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0" y="30492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Bodoni MT"/>
              </a:rPr>
              <a:t>Clinical Manifestations  of acute pyelonephrit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Risk facto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360"/>
            <a:ext cx="8534520" cy="56386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Mechanic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ff0066"/>
                </a:solidFill>
                <a:latin typeface="Bodoni MT"/>
              </a:rPr>
              <a:t>Structural abnormalities to the kidneys and the urinary 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vesicoureteral reflux (VUR) especially in young childre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calcu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inary tract catheter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phrostom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egn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neurogenic bladder (e.g. due to spinal cord damage, spina bifida or multiple sclerosis)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prostate disease (e.g. benign prostatic hyperplasia) in eldery m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bladder tumou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urethral stri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a21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a21af"/>
                </a:solidFill>
                <a:latin typeface="Bodoni MT"/>
              </a:rPr>
              <a:t>Constitution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diabetes mellitus, immunocompromised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ll MT"/>
              </a:rPr>
              <a:t>Diagno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s not always straightfor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 number of studies using immunochemical markers have shown that many women, who initially present with lower tract symptoms, actually have pyeloneph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extremes of age, the presentation may be so atypicalin the very young (feeding difficulty or fe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In the elderly presentation may be mental status change like confusion or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05C-238B-4950-AECA-A1AD554BA8C1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Bodoni MT"/>
              </a:rPr>
              <a:t>Laboratory Diagnosis of pyelonephriti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9d4f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Bodoni MT"/>
              </a:rPr>
              <a:t>Urinalys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10 WBC/hpf is the usual upper limit of nor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result on leukocyte esterase dipsti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test correlates well for detecting &gt;10 WBC/hpf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with a specificity of 65%–95%,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of 75%–95%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Positive nitrate dipstick test result f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acteriuria[ bactria reduce nitrate to nitrite]is only moderately reliabl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false-negative results are comm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Urine culture and sensitiv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doni MT"/>
              </a:rPr>
              <a:t>Blood culture important as this is asystamic infe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E3A2-D455-4953-9DF1-42421579A808}" type="slidenum">
              <a:rPr b="0" lang="en-US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3:30:40Z</dcterms:created>
  <dc:creator>Kasiviswanathan</dc:creator>
  <dc:description/>
  <dc:language>en-US</dc:language>
  <cp:lastModifiedBy>janett</cp:lastModifiedBy>
  <dcterms:modified xsi:type="dcterms:W3CDTF">2014-05-04T11:57:31Z</dcterms:modified>
  <cp:revision>20</cp:revision>
  <dc:subject/>
  <dc:title>Slide 1</dc:title>
</cp:coreProperties>
</file>