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A271-C35D-422C-B32D-02D032963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A32-ADD6-456C-8511-8822D71C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RD = end stage renal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EFA-A5DE-4A9B-B959-16C39DCC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7C0-B971-4F21-957A-9A08A286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289-B0F9-444F-A4C4-D6558641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425-7CF5-423B-BB49-6699B072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447-9D22-4F16-8382-2B7DA0B8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FC1-6B2B-4BE8-B8A5-3B042C7D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7F1-25FB-4798-93DC-F8727094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AE8-AB14-428C-8063-25B018DC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90B-129B-47C7-B3ED-000A97D3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8BD-BDCF-4C72-8961-4B2AED24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9DD-1EA3-4E99-A405-0F83C8B2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A96-C4EA-4143-A518-5806973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714C-3C8E-4BC5-9860-F18C8BC3E51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5110-70A9-4894-B027-B52B8F9A883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49" name="TextBox 3"/>
          <p:cNvGrpSpPr/>
          <p:nvPr/>
        </p:nvGrpSpPr>
        <p:grpSpPr>
          <a:xfrm>
            <a:off x="706320" y="1847880"/>
            <a:ext cx="7809120" cy="2243160"/>
            <a:chOff x="706320" y="1847880"/>
            <a:chExt cx="7809120" cy="2243160"/>
          </a:xfrm>
        </p:grpSpPr>
        <p:pic>
          <p:nvPicPr>
            <p:cNvPr id="50" name="TextBox 3" descr=""/>
            <p:cNvPicPr/>
            <p:nvPr/>
          </p:nvPicPr>
          <p:blipFill>
            <a:blip r:embed="rId1"/>
            <a:stretch/>
          </p:blipFill>
          <p:spPr>
            <a:xfrm>
              <a:off x="706320" y="1847880"/>
              <a:ext cx="78091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62120" y="2133720"/>
              <a:ext cx="7696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8000" spc="-1" strike="noStrike">
                  <a:solidFill>
                    <a:srgbClr val="ffc000"/>
                  </a:solidFill>
                  <a:latin typeface="Bodoni MT"/>
                </a:rPr>
                <a:t>Pyelonephritis</a:t>
              </a:r>
              <a:endParaRPr b="0" lang="en-US" sz="8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0504d"/>
                </a:solidFill>
                <a:uFillTx/>
                <a:latin typeface="Bodoni MT"/>
              </a:rPr>
              <a:t>Radiological investigations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CT sc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IVP=intra venous pyel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Radionucleotide imaging with gallium citrate and indium-111-labeled WB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2FB6-2927-417B-A1E2-04705D43F10B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513400" cy="662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4860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doni MT"/>
              </a:rPr>
              <a:t>Micturiting cystourethrogram (MCW showing bilateral VUR, grade IV on right and grade III on left-side. There is bilateral ureteral and pelvic dilation with blunting of fornices in the right kid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25B-EC07-4B93-91CB-80B5117F323D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Bilateral reflux extending into the pelvicalyceal systems of the kidney without dilatation of the calyces or ureters. (Note catheter in blad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11015" t="8139" r="43275" b="10466"/>
          <a:stretch/>
        </p:blipFill>
        <p:spPr>
          <a:xfrm>
            <a:off x="45720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5F91-BDC5-4233-8D95-3A586E4D013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504d"/>
                </a:solidFill>
                <a:uFillTx/>
                <a:latin typeface="Bodoni MT"/>
              </a:rPr>
              <a:t>Medical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1294920"/>
            <a:ext cx="8229600" cy="449604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reated as outpatients if there is no nausea, vomiting or dehydration and other signs and symptoms of sep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Very ill patients and all pregnant women are hospitalized at least for 2 to 3 days for parenteral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2 weeks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actr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Cipro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Gentamicin with or without amoxicil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04B3-7EC5-4907-8888-F16EC70EE3A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Chronic or recurring symptomless infection persisting for months or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nother 6 weeks course if rela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ollow up urine culture 2 weeks after completion of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46EE-C73C-451E-BA91-9E74450DDE6A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Chronic Pyelo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Repeated bouts of acute pyelonephritis may lead to chronic pyelonephritis that may lead to kidney damage and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Clinical manife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No symptoms of infection unless an acute exacerbation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ead 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oor appet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olyu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xcessive th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Weigh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rogressive scarr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renal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306-9D58-481F-81FD-1707E0507185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8600" y="304560"/>
            <a:ext cx="8229600" cy="6095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Assessment and diagnostic finding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I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Serum creatin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lood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Culture and 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Complication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SRD=end stage renal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ypert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Kidney 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Medical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ccording to C&amp;S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Drugs carefully titrated if renal function is impa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E84D-471E-47A6-84E9-0B0B5FD2444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3520" y="457200"/>
            <a:ext cx="8229600" cy="4952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Nursing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luid balance – I / O 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luids encouraged unless contraind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doni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hourly te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ed 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each how to prevent recurrent infections : adequate fluids, emptying the bladder regularly and performing recommended perineal hygiene taking antibiotics as prescri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2603-E534-4E25-A76B-34C1776636DE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Treatment Guidelin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cute Uncomplicated Pyeloneph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Mild or moderate symptoms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utpatient treatment (total of 7–14 day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ral 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luoroquin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TMP/SMX, if uropathogen is known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be suscep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If Gram-positive pathogen: amoxicil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r amoxicillin-clavula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A699-3D86-4DB4-8B4A-78A6F0E8B48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Bodoni MT"/>
              </a:rPr>
              <a:t>Treatment of Pyelo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Bodoni MT"/>
              </a:rPr>
              <a:t>Eradicate pathogens in kidney and urothelium, and treat/prevent bacter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Hospitalized patients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3152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403152"/>
                </a:solidFill>
                <a:latin typeface="Bodoni MT"/>
              </a:rPr>
              <a:t>IV antibiotic first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8–72 hours followed by 7 days of oral antibiotic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doni MT"/>
              </a:rPr>
              <a:t>Fluoroquinolone IV, then 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doni MT"/>
              </a:rPr>
              <a:t>Aminoglycoside ± ampicillin IV, then TMP/SMX 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Third-generation cephalosporin IV, then TMP/SMX 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Ambulatory patients:  </a:t>
            </a: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7–14 days of PO therapy with one of the antimicrobials 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8DE5-7081-4C1F-8F42-A3D488769BD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51920"/>
            <a:ext cx="8229600" cy="62485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Bodoni MT"/>
              </a:rPr>
              <a:t>It is Bacterial infection of the renal pelvis, tubules and interstitial tissue of one or both kidn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Bell MT"/>
              </a:rPr>
              <a:t>potentially organ- and/or life-threatening infection that characteristically causes some scarring of the kidney with each infection and may lead to significant damage to the kidney that m</a:t>
            </a:r>
            <a:r>
              <a:rPr b="0" lang="en-US" sz="2500" spc="-1" strike="noStrike" u="sng">
                <a:solidFill>
                  <a:srgbClr val="00b050"/>
                </a:solidFill>
                <a:uFillTx/>
                <a:latin typeface="Bell MT"/>
              </a:rPr>
              <a:t>ay lead to hyperten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Pathophysiology and aet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Infection usually ascends from the urethra most bacterial causes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owel organisms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g Ecoli </a:t>
            </a:r>
            <a:r>
              <a:rPr b="0" lang="en-US" sz="2800" spc="-1" strike="noStrike">
                <a:solidFill>
                  <a:srgbClr val="00b0f0"/>
                </a:solidFill>
                <a:latin typeface="Bodoni MT"/>
              </a:rPr>
              <a:t>(70-80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ospital-acquired infections may be due to coliforms and enterococ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aematogenous spread is rare eg Staph aureusand mycobacterial tubercu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requently due to ureterovesical refl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F845-3B94-4659-961A-C0F1B8F0531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Scarred and contorted kidne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1BB6-C15D-4FF4-9C0A-808A721FDD6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5" descr="chronic_pyelonephritis"/>
          <p:cNvPicPr/>
          <p:nvPr/>
        </p:nvPicPr>
        <p:blipFill>
          <a:blip r:embed="rId1"/>
          <a:stretch/>
        </p:blipFill>
        <p:spPr>
          <a:xfrm>
            <a:off x="228600" y="701640"/>
            <a:ext cx="8531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ruction of approximately 70% of the kidney. Numerous dilated calyces with yellow-brown calculi. The central necrotic areas are surrounded by dense fibro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A2B-7832-4AC2-859C-A880DBBDC8C3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5" descr="Kidney_XGP_Gross4"/>
          <p:cNvPicPr/>
          <p:nvPr/>
        </p:nvPicPr>
        <p:blipFill>
          <a:blip r:embed="rId1"/>
          <a:srcRect l="0" t="0" r="0" b="10509"/>
          <a:stretch/>
        </p:blipFill>
        <p:spPr>
          <a:xfrm>
            <a:off x="228600" y="914400"/>
            <a:ext cx="85345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You are contacted by a  resident regarding the use of a FQ[</a:t>
            </a:r>
            <a:r>
              <a:rPr b="0" lang="en-US" sz="2000" spc="-1" strike="noStrike">
                <a:solidFill>
                  <a:srgbClr val="002060"/>
                </a:solidFill>
                <a:latin typeface="Bodoni MT"/>
              </a:rPr>
              <a:t>FLUORQUINOLONES</a:t>
            </a: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in a 24 year old semi-professional soccer player with 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apparent U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he has complained of dysuria and frequency for the last 24 hours. Hi UA is positive for bacteria using a nit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dipstick and WBC’s using a dipstick esterase te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His past medical history is significant for DM. he has 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allergies  other than his diabetes there has been 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other significant medical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C1EF-9EC0-4C1E-80F5-1A1E005FCCDA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An asymptomatic 84 year old male with hypertrophy of the prostate has an indwelling foleys catheter has a po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urine culture for </a:t>
            </a:r>
            <a:r>
              <a:rPr b="0" i="1" lang="en-US" sz="3200" spc="-1" strike="noStrike">
                <a:solidFill>
                  <a:srgbClr val="17375e"/>
                </a:solidFill>
                <a:latin typeface="Bodoni MT"/>
              </a:rPr>
              <a:t>P. aeruginosa. You have b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contacted regarding the appropriate dose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interval for ciprofloxacin to begin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9ACA-20D1-4EC8-A67A-CF47CBAD636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You have been consulted on a 72 year old fem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nursing home patient. She recently was treated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10 days with ceftriaxone and azithromycin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presumed CAP. During her hospitalization a fol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catheter was placed. She is currently afebrile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asymptomatic of any UTI symptoms but a culture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her urine at the end of her antibiotic therapy had 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significant growth of yeast. How should she b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manag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624-F577-45D1-AA51-87DF8A6D814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Bodoni MT"/>
              </a:rPr>
              <a:t>Complicated UTI Eti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Klebsiella pneumoni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nterobacte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Citrobacte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roteus mirabi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rovidencia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seudomonas aerugin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nterococci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19360" y="152388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(%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21 –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.9 –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.9 – 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4.7 – 6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0.9 – 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2 – 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6.1 –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25A8-76D2-4150-BFAC-A17984D56BA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23880"/>
          <a:ext cx="5562720" cy="5176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880" y="685440"/>
            <a:ext cx="8229600" cy="53341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Pyelonephritis may be acute or chro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Bodoni MT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Kidneys enl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Interstitial infiltration of inflammatory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bscesses on the capsule and at corticomedullary j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Result in destruction of tubules and the glomer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When chronic, kidneys become scarred, contracted and non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C202-A10E-4C4A-8306-F07E008A035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686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doni MT"/>
              </a:rPr>
              <a:t>Pathogene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1142640"/>
            <a:ext cx="4724640" cy="47545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Rectal and/or vaginal reser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Colonization of perian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acterial migration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erivagin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acteria ascend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urethra to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Intercourse may con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urethral col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nd ascending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SB[asymtomatic bacteruria] in 1st trimester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regnancy may c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yelonephritis in 3rd trime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38DE-A0F9-424E-A555-A9B3A12AAD24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28191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3848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160" y="837720"/>
            <a:ext cx="8001000" cy="57913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Symptoms develop rapidly (&lt;24 hours) and may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Acutely i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Chill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ev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38°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lank pain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Nausea/vomi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Renal angle tendern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  <a:ea typeface="Arabic Transparent"/>
              </a:rPr>
              <a:t>Confusion in elder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Leukocyto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Py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Bacteri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76092"/>
                </a:solidFill>
                <a:latin typeface="Bodoni MT"/>
              </a:rPr>
              <a:t>In addition symptoms of lower tract involv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Dys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requ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D9BB-18F9-43BE-A088-0D29097E91ED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0" y="304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Bodoni MT"/>
              </a:rPr>
              <a:t>Clinical Manifestations  of acute pyelonephrit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Risk fac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990360"/>
            <a:ext cx="8534520" cy="56386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Mechanic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Bodoni MT"/>
              </a:rPr>
              <a:t>Structural abnormalities to the kidneys and the urinary 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vesicoureteral reflux (VUR) especially in young childr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calcul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urinary tract catheter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nephrost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pregn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neurogenic bladder (e.g. due to spinal cord damage, spina bifida or multiple sclerosis)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prostate disease (e.g. benign prostatic hyperplasia) in eldery 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bladder tumou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urethral stri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Constitut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diabetes mellitus, immunocompromis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ll MT"/>
              </a:rPr>
              <a:t>Diagn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s not always straight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 number of studies using immunochemical markers have shown that many women, who initially present with lower tract symptoms, actually have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extremes of age, the presentation may be so atypicalin the very young (feeding difficulty or f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n the elderly presentation may be mental status change like confusion or 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61FD-C38F-429C-A005-C5C81BCE0B9E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Bodoni MT"/>
              </a:rPr>
              <a:t>Laboratory Diagnosis of pyelonephrit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Bodoni MT"/>
              </a:rPr>
              <a:t>Urinaly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10 WBC/hpf is the usual upper limit of nor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Positive result on leukocyte esterase dipsti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test correlates well for detecting &gt;10 WBC/hpf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with a specificity of 65%–95%, and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of 75%–95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Positive nitrate dipstick test result f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acteriuria[ bactria reduce nitrate to nitrite]is only moderately reliabl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false-negative results are comm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Urine culture and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lood culture important as this is asystamic inf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6742-EE7D-4A5B-BD85-D2F85C0DB90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3:30:40Z</dcterms:created>
  <dc:creator>Kasiviswanathan</dc:creator>
  <dc:description/>
  <dc:language>en-US</dc:language>
  <cp:lastModifiedBy>janett</cp:lastModifiedBy>
  <dcterms:modified xsi:type="dcterms:W3CDTF">2014-05-04T11:57:31Z</dcterms:modified>
  <cp:revision>20</cp:revision>
  <dc:subject/>
  <dc:title>Slide 1</dc:title>
</cp:coreProperties>
</file>