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901A-FEFE-403F-9D3A-B251B63B0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6A39-5144-4EC2-947D-96C9DE46410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031A-91DF-4212-B7A9-B51E01AA103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6824-3CFA-4471-80DD-ECEBD562DCA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0D4A-36A0-41C6-941A-F1E69AB7FF8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E5E6-D6D7-4F1D-A31C-8C7EF0B68FE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0D78-A36A-4EAA-AF9E-9FF13C921B6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5383-52CC-4787-8732-19BBB658163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657C-FC6D-4B46-B768-E966A0EF7D6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B105-78E1-4839-B7CB-F208B57AC5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FCC-7970-495A-82D1-3F9CD54A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EBC-9201-489C-B0EE-3FD56DB1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FD3-D7DB-4FA8-95A7-F234B3E9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24C-8D37-4331-A564-89D5552A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5A5-BD17-42DF-AAEC-EAAC250C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899-E6AE-4FDE-8D80-97AA73B5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D6B-C1F5-4A81-AE87-D8C9F76D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BDA-5CD3-4F27-A898-94EF0497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2C9-C7EF-40F5-907F-7B0C35D3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0D8-4B5B-4D0D-8669-34DFEAB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48C-3DED-49EF-B3BA-56026F27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775-0E04-4E10-A25B-7ED72205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4B20-C390-4D99-ACDC-DBE6D0AA1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f. Mohammad Alhumayy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r. Ishfaq Bukhari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artment of Pharma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Calibri"/>
              </a:rPr>
              <a:t>Uncomplicated lower UTI (cystiti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1920" y="9907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econd-line treatment is necessary, e.g. hypersensitivity, side effects, failure of first-line treatment, then urine culture with sensitivity testing is recommen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oquinolones, ciprofloxacin 500mg bd or levofloxacin 250mg 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cephalosporins (cefixime) often offer a useful altern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high fluid intake, e.g. &gt;2L/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omplicated UTIs e.g pyelonephr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antibiotics as per culture sensitivit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iric therapy include ciprofloxacin or levofloxacin, third generation cephalosporin e.g ceftriaxon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dditional single dose of aminoglycosides (Gentamycin) if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hydration is very use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Treatment option in pregna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picillin or amoxacil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furantoin (caution in neonatal jaundi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ftriax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methoprim (use folate supplementation, avoid in folate deficienc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term aminoglycosides can also be used in complicated U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Calibri"/>
              </a:rPr>
              <a:t>Co-trimoxazole (Bactrim, Septra)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Sulfamethoxazole- Trimethoprim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        (SMX)                   (TMP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one, each agent is bacterio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gether they are bactericidals(synerg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optimal ratio of TMP to SMX in vivo is 1: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ted 5(SMX):1(TMP); 800mg SMX+160mg TMP; 400 mg SMX+ 80 mg TMP; 40 mg SMX+8 mg TM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-Aminobenzo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pteroate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lfonami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tas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tra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ic acid synthesi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492360" y="2060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41964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348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468360" y="2276640"/>
            <a:ext cx="280836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324000" y="3571920"/>
            <a:ext cx="244764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H="1">
            <a:off x="356400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H="1">
            <a:off x="356400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932360" y="371628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imethop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nk 13" descr=""/>
          <p:cNvPicPr/>
          <p:nvPr/>
        </p:nvPicPr>
        <p:blipFill>
          <a:blip r:embed="rId1"/>
          <a:stretch/>
        </p:blipFill>
        <p:spPr>
          <a:xfrm>
            <a:off x="6527880" y="4840200"/>
            <a:ext cx="7048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Ink 14" descr=""/>
          <p:cNvPicPr/>
          <p:nvPr/>
        </p:nvPicPr>
        <p:blipFill>
          <a:blip r:embed="rId2"/>
          <a:stretch/>
        </p:blipFill>
        <p:spPr>
          <a:xfrm>
            <a:off x="7564320" y="4759200"/>
            <a:ext cx="552600" cy="874800"/>
          </a:xfrm>
          <a:prstGeom prst="rect">
            <a:avLst/>
          </a:prstGeom>
          <a:ln w="0">
            <a:noFill/>
          </a:ln>
        </p:spPr>
      </p:pic>
      <p:pic>
        <p:nvPicPr>
          <p:cNvPr id="84" name="Ink 15" descr=""/>
          <p:cNvPicPr/>
          <p:nvPr/>
        </p:nvPicPr>
        <p:blipFill>
          <a:blip r:embed="rId3"/>
          <a:stretch/>
        </p:blipFill>
        <p:spPr>
          <a:xfrm>
            <a:off x="7724880" y="5635800"/>
            <a:ext cx="1330200" cy="534960"/>
          </a:xfrm>
          <a:prstGeom prst="rect">
            <a:avLst/>
          </a:prstGeom>
          <a:ln w="0">
            <a:noFill/>
          </a:ln>
        </p:spPr>
      </p:pic>
      <p:pic>
        <p:nvPicPr>
          <p:cNvPr id="85" name="Ink 16" descr=""/>
          <p:cNvPicPr/>
          <p:nvPr/>
        </p:nvPicPr>
        <p:blipFill>
          <a:blip r:embed="rId4"/>
          <a:stretch/>
        </p:blipFill>
        <p:spPr>
          <a:xfrm>
            <a:off x="6402240" y="6162840"/>
            <a:ext cx="857520" cy="347400"/>
          </a:xfrm>
          <a:prstGeom prst="rect">
            <a:avLst/>
          </a:prstGeom>
          <a:ln w="0">
            <a:noFill/>
          </a:ln>
        </p:spPr>
      </p:pic>
      <p:pic>
        <p:nvPicPr>
          <p:cNvPr id="86" name="Ink 17" descr=""/>
          <p:cNvPicPr/>
          <p:nvPr/>
        </p:nvPicPr>
        <p:blipFill>
          <a:blip r:embed="rId5"/>
          <a:stretch/>
        </p:blipFill>
        <p:spPr>
          <a:xfrm>
            <a:off x="7751880" y="6259680"/>
            <a:ext cx="865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bsorption,metabolism&amp;Exc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560" y="1916280"/>
            <a:ext cx="80010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Sulfonam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ly 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pidly absorbed from stomach and small intest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dely distributed to tissues and body fluids ( including CNS, CSF ), placenta and fet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sorbed sulfonamides bind to serum protein( approx. 70%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tabolized in the liver by the process of acety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iminated in the urine, partly as such and partly as acetylated deriva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rimethoprim ( TMP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ually given orally, alone or in combination with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ll absorbed from the g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dely distributed in body fluids &amp; tissues ( including CSF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lipid soluble than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tein bound ( approx.40 %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0% of TMP or its metabolite is excreted in the 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MP concentrates in the prostatic flui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Gastrointestinal- Nausea,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Al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Hematolo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Acute hemolyt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hypersensitvity b) G6PD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) Megaloblastic anemia due to TMP.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Drug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place bilirubin- if severe – kernicte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te warfarin, oral hypoglycem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Nursing 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Infants under 6 wee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Renal or hepatic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Blood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77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64a2"/>
                </a:solidFill>
                <a:latin typeface="Calibri"/>
              </a:rPr>
              <a:t>Antibacterial Spectrum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ctive against E. coli and Staph. saprophyticus, but other common UT gm- bacteria may be resis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Mechanism of action of nitrofuranto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nsitive bacteria reduce the drug to an active agent that inhibits various enzymes and damage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64a2"/>
                </a:solidFill>
                <a:latin typeface="Calibri"/>
              </a:rPr>
              <a:t>Pharmacokinetic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bsorption is complete after oral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etabolized (75%)&amp; excreted so rapidly that no            systemic antibacterial action is achie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oncentrated in the urine(25% of the dose       excreted unchang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Urinary pH is kept &lt;5.5(acidic) to enhance drug activ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t turns urine to a dark orange-bro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dverse effects of 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I disturbances: bleeding of the stomach,nausea, vomiting and diarrhea(must be taken with foo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eadache and nystagm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emolytic anaemia(G6PD deficie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taindic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ts with G6PD defici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eon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egnant women(after 38 wks of pregna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bb59"/>
                </a:solidFill>
                <a:latin typeface="Calibri"/>
              </a:rPr>
              <a:t>Therapeutic Use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used as urinary antiseptics 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 usefulness is limited to lower UTI’s &amp; cannot be used for upper UT or systemic inf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se: 50-100 mg, po q 6h/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g acting: 100mg twice da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tracyclin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e.g. Doxycycli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It is a long acting tetracyc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Inhibit protein synthesis by binding reversibly to 30 s sub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Pharmacoki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Usually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Absorption is 90-10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Absorbed in the upper s. intestine &amp; best in absence of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Food &amp; di &amp; tri-valent cations ( Ca, Mg, Fe, AL) impair 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Protein binding 40-8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Distributed well, including  CS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Cross placenta and excreted in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Largely metabolized in the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nausea, vomiting ,diarrhea &amp; epigastric pain(give with fo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Thrombophlebitis – i.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Hepatic toxicity ( prolonged therapy with high dos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Brown discolouration of teeth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Deformity or growth inhibition of bones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Phototox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Verti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Superinfe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ontraindication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east f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(below 1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82D5-EEA9-478D-B00F-987C721F9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Therapeutic Use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176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Treatment of UTI’s due to Mycoplasma &amp; Chlamydia, 100 mg p.o bid for 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minoglycos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 GENTAMICIN,i.m,i.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hibits protein synthesis by binding to 30S  ribosomal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orly absorbed orally(highly charg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ss plac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urinary tract (kidney &amp;ureters) infections: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wer urinary tract (bladder, urethra &amp; prostate): cystitis , urethritis &amp; prostatit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**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Upper urinary tract infections are more seri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Gentamicin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reted  unchanged in 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active in alkaline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dverse effec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phr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uromuscular blocking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apeutic uses of Gentamicin in UTI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e infections caused by gram negative organisms (pseudomonas or enterobact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Cephalosporins</a:t>
            </a:r>
            <a:br>
              <a:rPr sz="4000"/>
            </a:b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br>
              <a:rPr sz="4000"/>
            </a:b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3</a:t>
            </a:r>
            <a:r>
              <a:rPr b="1" lang="en-US" sz="4000" spc="-1" strike="noStrike" baseline="30000">
                <a:solidFill>
                  <a:srgbClr val="558ed5"/>
                </a:solidFill>
                <a:latin typeface="Calibri"/>
              </a:rPr>
              <a:t>rd</a:t>
            </a: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 generation cephalosporin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ftriaxone  &amp; Ceftazid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ly effective against gm-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s by inhibition of cell wal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are given paren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ven in severe / complicated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 acute 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Fluroquinolones</a:t>
            </a:r>
            <a:br>
              <a:rPr sz="44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profloxac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DNA gyr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linical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multidrug resistance organisms as pseudomo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tatitis ( acute / chronic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dverse 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usea , vomiting , 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NS effects ( confusion, insomnia, headache, anxie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mage of growing cartilage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(arthropath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toxicity(avoid excessive sunligh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st common  infection ( after RTI’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often associated with some obstruction of the flow of ur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more common in women more than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:1  (Why?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athogens responsible for UTI are found in the colonic fl ora. Subsequent UTI is usually ascending, i.e. after perivaginal, perineal, and transurethral colonization, also immunity and other changes 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idence of UTI increases in old age(10% of men &amp; 20% of wom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91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What are the causes of UT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Normally urine is sterile. Bacteria comes from digestive tract to opening of the ureth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struction of the flow of urine(e.g. kidney st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largement of prostate gland in men(common cau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heters placed in urethra and blad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 drinking enough flu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iting too long to urin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uterus in pregnant w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or toilet habits(wiping back to front for wo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orders that suppress the immune system(diabetes &amp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cer chemotherap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acteria responsible of urinary tract infec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Gm- bacteria (most common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.coli (approx. 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teus mirabil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lebsiel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Gm+ bacteri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aphylococcus Saprophyticus(Approx. 20%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Mycoplasma, Chlamydia trachomatis &amp;  N. gonorrh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limited to urethra, unlike E.coli may be sexually transmit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Urinary tract infections can b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9296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Simple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 do not spread to other parts of the body and go away readily with treatment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(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Due to E.coli in most cases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mplicated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 Spread to other parts of the body and resistant to many antibiotics and more difficult to cure.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{Due to hospital- acquired bacteria(E.coli, Klebsiella,, Proteus, Pseudomonas, enterococci, staphylococci)}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reatment of UTI’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050"/>
                </a:solidFill>
                <a:latin typeface="Calibri"/>
              </a:rPr>
              <a:t>Antibiotics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Co-trimoxazole(SMX/TMP) )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Nitrofurantoin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etracyclines, e.g. Doxycycline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Aminoglycosides, e.g. gentamicin i.v/i.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cephalosporins(e.g.ceftriaxone&amp;ceftazidime I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Quinolones, e.g. ciprofloxacin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reatment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complicated lower UTI (cysti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empirical ther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methoprim 200mg bd (or co-trimoxazole 960mg bd). short-course (3 day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itrofurantoin 100mg bd (not in renal impairment). longer-course (7 – 10 day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6:55:00Z</dcterms:created>
  <dc:creator>Alhumayyd</dc:creator>
  <dc:description/>
  <dc:language>en-US</dc:language>
  <cp:lastModifiedBy>User</cp:lastModifiedBy>
  <cp:lastPrinted>2016-04-10T06:09:37Z</cp:lastPrinted>
  <dcterms:modified xsi:type="dcterms:W3CDTF">2016-04-18T07:33:22Z</dcterms:modified>
  <cp:revision>331</cp:revision>
  <dc:subject/>
  <dc:title>Urinary tract infections</dc:title>
</cp:coreProperties>
</file>