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560" y="698040"/>
            <a:ext cx="465300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DC61-4A79-4454-9056-E5BB0B2C0B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4B06-13DC-4097-9A04-0138BAB932A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9D38-D7DF-451A-84D9-3401F3FDB5F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FEA6-8628-4259-8AA7-8C5FEB6F0B8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0795-D353-4081-81D9-FF7F61CEE4B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E7D9-AA1A-4096-AFA2-05038212601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3BD7-27A3-47DF-8F89-7934CC2E914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47A7-4279-41A0-B280-5D41A2F8106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5345-9A6E-49B3-B6CD-971AC32BE4D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BF92-4333-4613-8C28-A48472DDFB8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5624-CD67-4EDB-A9BB-39B935BA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E7DF-F48E-46C1-9445-246E933B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2410-6F1C-4CEA-AF47-7F214E83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79E7-AC7E-4428-B1C7-0CEB051F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70B0-565C-4189-8460-C26D81A0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BBF4-171E-46FD-929B-DD4107C2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E470-250A-4C94-9B19-3BC935B9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81CA-B9DF-4E6E-B70F-E7AC29BE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8DE3-4B20-457C-87B0-EF93A294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E1F2-65F4-44C6-837E-C72FC57F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1915-3DB2-4A51-BA52-4681A64B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EB45-7CF7-40D8-B7E7-7DBA4FF8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33F7-8AEB-4AFE-9C47-0AB5A457A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44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f. Mohammad Alhumayy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r. Ishfaq Bukhari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partment of Pharmac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060"/>
                </a:solidFill>
                <a:latin typeface="Calibri"/>
              </a:rPr>
              <a:t>Uncomplicated lower UTI (cystitis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51920" y="9907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econd-line treatment is necessary, e.g. hypersensitivity, side effects, failure of first-line treatment, then urine culture with sensitivity testing is recommend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uoroquinolones, ciprofloxacin 500mg bd or levofloxacin 250mg o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al cephalosporins (cefixime) often offer a useful alterna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courage high fluid intake, e.g. &gt;2L/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omplicated UTIs e.g pyelonephr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the antibiotics as per culture sensitivity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iric therapy include ciprofloxacin or levofloxacin, third generation cephalosporin e.g ceftriaxon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dditional single dose of aminoglycosides (Gentamycin) if nee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hydration is very usef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Treatment option in pregna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picillin or amoxacil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trofurantoin (caution in neonatal jaundi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ftriax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methoprim (use folate supplementation, avoid in folate deficienc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 term aminoglycosides can also be used in complicated UT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Calibri"/>
              </a:rPr>
              <a:t>Co-trimoxazole (Bactrim, Septra)</a:t>
            </a:r>
            <a:br>
              <a:rPr sz="4000"/>
            </a:br>
            <a:r>
              <a:rPr b="1" lang="en-US" sz="4000" spc="-1" strike="noStrike">
                <a:solidFill>
                  <a:srgbClr val="00cc00"/>
                </a:solidFill>
                <a:latin typeface="Calibri"/>
              </a:rPr>
              <a:t>Sulfamethoxazole- Trimethoprim</a:t>
            </a:r>
            <a:br>
              <a:rPr sz="4000"/>
            </a:br>
            <a:r>
              <a:rPr b="1" lang="en-US" sz="4000" spc="-1" strike="noStrike">
                <a:solidFill>
                  <a:srgbClr val="00cc00"/>
                </a:solidFill>
                <a:latin typeface="Calibri"/>
              </a:rPr>
              <a:t>        (SMX)                   (TMP)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259092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one, each agent is bacteriost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gether they are bactericidals(synerg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optimal ratio of TMP to SMX in vivo is 1: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rmulated 5(SMX):1(TMP); 800mg SMX+160mg TMP; 400 mg SMX+ 80 mg TMP; 40 mg SMX+8 mg TMP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CHANISM OF 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-Aminobenzoic Ac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hydropteroate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ulfonamid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het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hydrofo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hydrofo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tase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trahydrofo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ic acid synthesi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Line 4"/>
          <p:cNvSpPr/>
          <p:nvPr/>
        </p:nvSpPr>
        <p:spPr>
          <a:xfrm>
            <a:off x="3492360" y="20606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3419640" y="378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34800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468360" y="2276640"/>
            <a:ext cx="280836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324000" y="3571920"/>
            <a:ext cx="2447640" cy="1009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"/>
          <p:cNvSpPr/>
          <p:nvPr/>
        </p:nvSpPr>
        <p:spPr>
          <a:xfrm flipH="1">
            <a:off x="3564000" y="263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 flipH="1">
            <a:off x="3564000" y="3933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4932360" y="3716280"/>
            <a:ext cx="30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rimethopr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nk 13" descr=""/>
          <p:cNvPicPr/>
          <p:nvPr/>
        </p:nvPicPr>
        <p:blipFill>
          <a:blip r:embed="rId1"/>
          <a:stretch/>
        </p:blipFill>
        <p:spPr>
          <a:xfrm>
            <a:off x="6527880" y="4840200"/>
            <a:ext cx="704880" cy="1133640"/>
          </a:xfrm>
          <a:prstGeom prst="rect">
            <a:avLst/>
          </a:prstGeom>
          <a:ln w="0">
            <a:noFill/>
          </a:ln>
        </p:spPr>
      </p:pic>
      <p:pic>
        <p:nvPicPr>
          <p:cNvPr id="83" name="Ink 14" descr=""/>
          <p:cNvPicPr/>
          <p:nvPr/>
        </p:nvPicPr>
        <p:blipFill>
          <a:blip r:embed="rId2"/>
          <a:stretch/>
        </p:blipFill>
        <p:spPr>
          <a:xfrm>
            <a:off x="7564320" y="4759200"/>
            <a:ext cx="552600" cy="874800"/>
          </a:xfrm>
          <a:prstGeom prst="rect">
            <a:avLst/>
          </a:prstGeom>
          <a:ln w="0">
            <a:noFill/>
          </a:ln>
        </p:spPr>
      </p:pic>
      <p:pic>
        <p:nvPicPr>
          <p:cNvPr id="84" name="Ink 15" descr=""/>
          <p:cNvPicPr/>
          <p:nvPr/>
        </p:nvPicPr>
        <p:blipFill>
          <a:blip r:embed="rId3"/>
          <a:stretch/>
        </p:blipFill>
        <p:spPr>
          <a:xfrm>
            <a:off x="7724880" y="5635800"/>
            <a:ext cx="1330200" cy="534960"/>
          </a:xfrm>
          <a:prstGeom prst="rect">
            <a:avLst/>
          </a:prstGeom>
          <a:ln w="0">
            <a:noFill/>
          </a:ln>
        </p:spPr>
      </p:pic>
      <p:pic>
        <p:nvPicPr>
          <p:cNvPr id="85" name="Ink 16" descr=""/>
          <p:cNvPicPr/>
          <p:nvPr/>
        </p:nvPicPr>
        <p:blipFill>
          <a:blip r:embed="rId4"/>
          <a:stretch/>
        </p:blipFill>
        <p:spPr>
          <a:xfrm>
            <a:off x="6402240" y="6162840"/>
            <a:ext cx="857520" cy="347400"/>
          </a:xfrm>
          <a:prstGeom prst="rect">
            <a:avLst/>
          </a:prstGeom>
          <a:ln w="0">
            <a:noFill/>
          </a:ln>
        </p:spPr>
      </p:pic>
      <p:pic>
        <p:nvPicPr>
          <p:cNvPr id="86" name="Ink 17" descr=""/>
          <p:cNvPicPr/>
          <p:nvPr/>
        </p:nvPicPr>
        <p:blipFill>
          <a:blip r:embed="rId5"/>
          <a:stretch/>
        </p:blipFill>
        <p:spPr>
          <a:xfrm>
            <a:off x="7751880" y="6259680"/>
            <a:ext cx="86508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150"/>
                            </p:stCondLst>
                            <p:childTnLst>
                              <p:par>
                                <p:cTn id="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9450"/>
                            </p:stCondLst>
                            <p:childTnLst>
                              <p:par>
                                <p:cTn id="1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1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1350"/>
                            </p:stCondLst>
                            <p:childTnLst>
                              <p:par>
                                <p:cTn id="1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bsorption,metabolism&amp;Exce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560" y="1916280"/>
            <a:ext cx="800100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Sulfonam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ly given or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apidly absorbed from stomach and small intest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idely distributed to tissues and body fluids ( including CNS, CSF ), placenta and fet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bsorbed sulfonamides bind to serum protein( approx. 70%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tabolized in the liver by the process of acetyl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iminated in the urine, partly as such and partly as acetylated derivati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Trimethoprim ( TMP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ually given orally, alone or in combination with SM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ll absorbed from the g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dely distributed in body fluids &amp; tissues ( including CSF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re lipid soluble than SM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tein bound ( approx.40 %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60% of TMP or its metabolite is excreted in the ur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MP concentrates in the prostatic flui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ADVERSE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Gastrointestinal- Nausea, vom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All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Hematolog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) Acute hemolytic an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) hypersensitvity b) G6PD de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) Megaloblastic anemia due to TMP.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Drug inter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splace bilirubin- if severe – kernicter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tentiate warfarin, oral hypoglycem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CONTRAIND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Nursing m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Infants under 6 wee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Renal or hepatic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 Blood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77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77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77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77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77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77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6" dur="77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8" dur="77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77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77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77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77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Nitrofurant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259056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64a2"/>
                </a:solidFill>
                <a:latin typeface="Calibri"/>
              </a:rPr>
              <a:t>Antibacterial Spectrum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ffective against E. coli and Staph. saprophyticus, but other common UT gm- bacteria may be resista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238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8ed5"/>
                </a:solidFill>
                <a:latin typeface="Calibri"/>
              </a:rPr>
              <a:t>Mechanism of action of nitrofurantoi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440" y="20570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nsitive bacteria reduce the drug to an active agent that inhibits various enzymes and damages 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64a2"/>
                </a:solidFill>
                <a:latin typeface="Calibri"/>
              </a:rPr>
              <a:t>Pharmacokinetics of nitrofuranto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Absorption is complete after oral u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Metabolized (75%)&amp; excreted so rapidly that no            systemic antibacterial action is achieve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Concentrated in the urine(25% of the dose       excreted unchange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Urinary pH is kept &lt;5.5(acidic) to enhance drug activit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It turns urine to a dark orange-brow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Adverse effects of nitrofurant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I disturbances: bleeding of the stomach,nausea, vomiting and diarrhea(must be taken with food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Headache and nystagmu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Hemolytic anaemia(G6PD deficienc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ntaindica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ts with G6PD deficienc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Neonat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regnant women(after 38 wks of pregnanc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bb59"/>
                </a:solidFill>
                <a:latin typeface="Calibri"/>
              </a:rPr>
              <a:t>Therapeutic Uses of nitrofuranto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28600" y="2133720"/>
            <a:ext cx="8686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 is used as urinary antiseptics 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ts usefulness is limited to lower UTI’s &amp; cannot be used for upper UT or systemic infe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se: 50-100 mg, po q 6h/7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ng acting: 100mg twice dai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Tetracyclin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(e.g. Doxycyclin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It is a long acting tetracyc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Mechanism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Inhibit protein synthesis by binding reversibly to 30 s sub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Doxycycline ( Cont. 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Pharmacokine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Usually </a:t>
            </a: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given or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Absorption is 90-100%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Absorbed in the upper s. intestine &amp; best in absence of 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Food &amp; di &amp; tri-valent cations ( Ca, Mg, Fe, AL) impair absor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Protein binding 40-80 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Distributed well, including  CS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Cross placenta and excreted in mi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Largely metabolized in the l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4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4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4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Doxycycline ( Cont. 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Side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 nausea, vomiting ,diarrhea &amp; epigastric pain(give with foo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 Thrombophlebitis – i.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 Hepatic toxicity ( prolonged therapy with high dose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. Brown discolouration of teeth –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. Deformity or growth inhibition of bones –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 Phototoxi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. Vertig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. Superinfec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ontraindications of doxycyc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reast fe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ildren(below 10 y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FC66-AD87-4668-BE5E-B1D769B34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Calibri"/>
              </a:rPr>
              <a:t>Therapeutic Uses of Doxycyc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61760" y="205740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Treatment of UTI’s due to Mycoplasma &amp; Chlamydia, 100 mg p.o bid for 7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Prostat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Aminoglycos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.g. GENTAMICIN,i.m,i.v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tericidal antibi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hibits protein synthesis by binding to 30S  ribosomal sub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tive against gram negative aerobic organis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orly absorbed orally(highly charged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ross placen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Urinary tract infections(UTI’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10666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pper urinary tract (kidney &amp;ureters) infections: pyelonephr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wer urinary tract (bladder, urethra &amp; prostate): cystitis , urethritis &amp; prostatit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**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Upper urinary tract infections are more serio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Gentamicin(CON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reted  unchanged in u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re active in alkaline med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Adverse effects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totox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phrotox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uromuscular blocking eff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rapeutic uses of Gentamicin in UTI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e infections caused by gram negative organisms (pseudomonas or enterobacte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8ed5"/>
                </a:solidFill>
                <a:latin typeface="Calibri"/>
              </a:rPr>
              <a:t>Cephalosporins</a:t>
            </a:r>
            <a:br>
              <a:rPr sz="4000"/>
            </a:b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(Detail was explained in respiratory lec.)</a:t>
            </a:r>
            <a:br>
              <a:rPr sz="4000"/>
            </a:br>
            <a:r>
              <a:rPr b="1" lang="en-US" sz="4000" spc="-1" strike="noStrike">
                <a:solidFill>
                  <a:srgbClr val="558ed5"/>
                </a:solidFill>
                <a:latin typeface="Calibri"/>
              </a:rPr>
              <a:t>3</a:t>
            </a:r>
            <a:r>
              <a:rPr b="1" lang="en-US" sz="4000" spc="-1" strike="noStrike" baseline="30000">
                <a:solidFill>
                  <a:srgbClr val="558ed5"/>
                </a:solidFill>
                <a:latin typeface="Calibri"/>
              </a:rPr>
              <a:t>rd</a:t>
            </a:r>
            <a:r>
              <a:rPr b="1" lang="en-US" sz="4000" spc="-1" strike="noStrike">
                <a:solidFill>
                  <a:srgbClr val="558ed5"/>
                </a:solidFill>
                <a:latin typeface="Calibri"/>
              </a:rPr>
              <a:t> generation cephalosporin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eftriaxone  &amp; Ceftazid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inly effective against gm- bac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ts by inhibition of cell wall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tericid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y are given parenter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iven in severe / complicated U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amp; acute prostat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Fluroquinolones</a:t>
            </a:r>
            <a:br>
              <a:rPr sz="4400"/>
            </a:b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(Detail was explained in respiratory le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.g.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iprofloxac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 against gram negative aerobic organis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Mechanism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hibits DNA gyrase enzy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linical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I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ed by multidrug resistance organisms as pseudomon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statitis ( acute / chronic 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Adverse  effec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usea , vomiting , diarrh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NS effects ( confusion, insomnia, headache, anxiet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mage of growing cartilage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(arthropath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ototoxicity(avoid excessive sunlight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Urinary tract infections(UTI’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 is the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most common  infection ( after RTI’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 is often associated with some obstruction of the flow of uri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 is more common in women more than 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:1  (Why?)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pathogens responsible for UTI are found in the colonic fl ora. Subsequent UTI is usually ascending, i.e. after perivaginal, perineal, and transurethral colonization, also immunity and other changes 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cidence of UTI increases in old age(10% of men &amp; 20% of wome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91476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d050"/>
                </a:solidFill>
                <a:latin typeface="Calibri"/>
              </a:rPr>
              <a:t>What are the causes of UTI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-3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Normally urine is sterile. Bacteria comes from digestive tract to opening of the ureth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struction of the flow of urine(e.g. kidney sto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largement of prostate gland in men(common cau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theters placed in urethra and blad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t drinking enough flui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aiting too long to urin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rge uterus in pregnant wo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or toilet habits(wiping back to front for wom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sorders that suppress the immune system(diabetes &amp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ncer chemotherap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Bacteria responsible of urinary tract infection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Gm- bacteria (most common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.coli (approx. 80% of cas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teus mirabil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Klebsiell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seudomonas aerugino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Gm+ bacteria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taphylococcus Saprophyticus(Approx. 20%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Mycoplasma, Chlamydia trachomatis &amp;  N. gonorrh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limited to urethra, unlike E.coli may be sexually transmit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Urinary tract infections can b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-360" y="1447560"/>
            <a:ext cx="9296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Simple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fections do not spread to other parts of the body and go away readily with treatment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 (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Due to E.coli in most cases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Complicated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fections Spread to other parts of the body and resistant to many antibiotics and more difficult to cure.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{Due to hospital- acquired bacteria(E.coli, Klebsiella,, Proteus, Pseudomonas, enterococci, staphylococci)}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Treatment of UTI’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b050"/>
                </a:solidFill>
                <a:latin typeface="Calibri"/>
              </a:rPr>
              <a:t>Antibiotics: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Co-trimoxazole(SMX/TMP) ),p.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Nitrofurantoin,p.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Tetracyclines, e.g. Doxycycline,p.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Aminoglycosides, e.g. gentamicin i.v/i.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cephalosporins(e.g.ceftriaxone&amp;ceftazidime I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Quinolones, e.g. ciprofloxacin,p.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Treatment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Uncomplicated lower UTI (cystit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 empirical therap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imethoprim 200mg bd (or co-trimoxazole 960mg bd). short-course (3 day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Nitrofurantoin 100mg bd (not in renal impairment). longer-course (7 – 10 day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06:55:00Z</dcterms:created>
  <dc:creator>Alhumayyd</dc:creator>
  <dc:description/>
  <dc:language>en-US</dc:language>
  <cp:lastModifiedBy>User</cp:lastModifiedBy>
  <cp:lastPrinted>2016-04-10T06:09:37Z</cp:lastPrinted>
  <dcterms:modified xsi:type="dcterms:W3CDTF">2016-04-18T07:33:22Z</dcterms:modified>
  <cp:revision>331</cp:revision>
  <dc:subject/>
  <dc:title>Urinary tract infections</dc:title>
</cp:coreProperties>
</file>