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dt" idx="4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ftr" idx="4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 type="sldNum" idx="4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D58B-D7C9-4791-BB0D-82B6846EAE4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657CC-D044-4C84-8CF7-8BBC09DC7F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C181-0FD4-4733-8768-0A2D88EF385F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BE46-6309-444A-BFC6-BC7BAC745DFF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B311-689F-473F-AEAA-C31F1FFE05FA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F964-FB13-407D-B318-1E730FA36B76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4CFC-7243-4BF9-B8E1-B5E5EA5F5A0E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2FC5-0C5F-45E1-91BA-1E0902030F04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F882-BEDB-4BE0-AF70-987D77900720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3163-58A2-4046-A725-B13B8487E255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D288-535B-499C-B7D8-BFA2EC15B333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D2C4-C311-4F29-B582-2F821BA98183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8594-312A-4A45-A8B0-7553F9FEC021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905F-54D5-408C-8982-441C5A6661E1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76A8-9EAD-4447-9CAD-1036EE451F87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DD43-9C36-4BA0-AD1B-60396CCE8D63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8BEE-E7E6-4747-8D11-826C648E8B83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ADE7-7639-453D-B7C8-1C20399659C8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D6D3-EC6B-4438-BDEB-EFE5D17DC481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0913C-ADD8-4CD6-9310-167BD2AE72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8F02-CAA7-4A93-87AD-FE23904C6D8C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31C6-C8B3-422A-9399-48AFC50439A4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CC46-57BE-4C62-BF62-9500BC4E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8F3B-A728-40D4-AEDF-AFB49461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D378D-978E-42A1-9BA2-6CEFC973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03030-D803-4444-879F-7EC9CA86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9F40D-D232-47F6-B99F-35EB3A62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B9677-F7DA-4BB2-A343-6D841CA7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C661B-608D-4933-8FF3-42BC32D5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9AC0A-F886-40A2-B774-CDBEF659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C6945-6A53-4293-B2ED-01784053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A4387-E741-4DA3-8435-DE8E85A1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B11F6-97E0-48CE-A509-9956D77A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21FCD-E0D9-40FA-8FDE-118210AA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4095-1819-4226-87EC-9F95A122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7B6CF-3DBD-4048-A3B8-4F51EA70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AAF11-660F-4B16-93EF-13F7AD16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D8447-4813-4509-866D-5879D571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371FBB-B9FE-4E48-96A4-E279B2B4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DA6FB-1305-4360-A664-9A5AB785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7BA4D-B2B4-42B2-B39C-E9A2DB57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DBD4C-4A27-4D4A-AB64-B762C1B1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C35E5-A131-4385-8025-DEBB682A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C7D83-554A-4364-B145-A7C94525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217FA-C352-4E2B-9527-8BEDF9C0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800-9614-472B-BB5F-B858AC5F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94F24-C16C-4222-BB1E-72AFD235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A5216-27E9-4D06-98E6-79B43D74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3CA6C-E1AF-43B5-B68D-FEEB3161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99783-3481-44C5-96FD-6C7915EB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13A1C-F82C-4987-9409-9F738B78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737EF-126A-40DD-AFD8-40F2B45F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CE294-FAC9-4B20-9964-E02C5C27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9CE58-A77B-427C-A2A4-E130C66E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09C34-89F1-4234-8372-6822B077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38C27-B7B6-4381-9D4F-A5EB6FD8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9FD1-EB46-4188-97A4-14F13C0D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A5374-5F96-4561-8502-37EC28EA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C7C47-EB7A-4A15-BDEA-361DFEF0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5BBA6-EBF0-42A3-9D76-606DCAA1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E1A34-460F-4680-990C-75763FE1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23BEC-C464-4026-8E2B-74D70AD1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447B6-6679-4977-93CC-57B89F01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E1BFC-EA04-48C9-A27D-93F6A927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7B259-9D17-4C25-BF93-26E946BD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2A3EC-989F-40C2-B53B-86FD6C39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40EB8-FF65-4D3C-8E74-A5F24AC9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951B-FA9D-486C-A64C-F0F505C5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0C2AD-88FC-4A28-9E3B-671455BF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2C61B-0336-41D9-BAAD-4479B137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25805-7E9B-452E-9829-D6A8273B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924CD-2166-4FDC-BF5A-6AE9455B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DBAF5-4BA2-4AA7-B1FB-9EE81661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506096-03C8-4DB0-AE85-67396E51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5BC15C-9FBA-4AC9-A080-E88A56B2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9BFC43-53EE-4E53-9C88-1B8AD281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B08D1F-5BEE-4C6C-9A6F-7F33635C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058E09-682F-4D24-ABC0-691762C1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CEF8-887F-4B4E-888A-BAF98543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78EF74-8CC5-49FB-9AB6-A4F5C2DB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ACEC47-4205-462C-B60D-53C6C58F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12B888-8AAC-4B67-BB06-77FB8E3D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649935-13F2-4CD4-9E8B-FDD0B6AE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A4D005-1715-405B-B607-39F1D67D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F2360-AA7A-4427-BBB8-32E354E5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09A4A5-B94F-4EEB-A1B4-0B2E1C24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CF11C4-0F4C-4D6E-8C0A-22A1F1DC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C81655-6148-4406-B4D9-926ABA63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10EF8C-4103-4400-BE57-664CCAC6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96B5-91A9-4817-810B-7BAD0AB3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349CCE-9565-4A3D-BCCD-4C0E274A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F1F276-A169-450D-BB5D-F21EAEE9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1CCCE3-4D18-4394-B6C9-CC85172F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A4B78F-4075-46FA-916A-308269B4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CAE9F7-1075-4A3F-9ECF-2CF85DBC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662AAF-7134-4E8A-ADA5-B598CBFC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052B72-3AA9-4347-88D3-77E98BA3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7F57B7-2DA5-4004-B4A9-8D9790B0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2DC84A-774A-44D7-9C60-6E49D42E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366EE8-8370-4427-91B9-0F6B1376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DFC1-10B0-4F00-BB98-D5045020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431E80-1D4F-40C8-94D6-49EF89F1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656F44-302B-450A-86E5-2BA5E771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0D6170-0DF9-4356-A2DF-5518B5F8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4438A9-80DB-45CD-8C78-B385A1DE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9C037F-FD3A-48EE-BAED-0350139F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EC59CC-DBFA-4E96-B75E-33B9D5A1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4DEBC3-7523-4E77-8BDE-7692BADD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7EC5F2-4095-4EB3-A4AF-8D651457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486806-CD95-434A-8622-482F8A7A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BF31ED-86BE-4435-9A3F-4586F1F0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BD3D-EB29-4A8A-BABF-1DDD76CC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702447-E78C-43BE-A266-DB7606F7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36F8-CADB-4E0D-8DD0-FF2AE878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0872-44BA-4533-84A6-74266D2D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8C53-8284-44B3-8E0A-2A18EC8F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1082-96EB-4D4F-AA50-6E523ADB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4C4C-A462-4BB3-A2B4-9BF7F2AB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4EF6-CCC7-4D24-978E-2D5DC74C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AE51-EBBA-4D04-87CF-0E43A089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D6E57-65F3-447B-BB25-06E56ED4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096CD-A3F4-43AD-8C2B-F3857E36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7E367-028E-4586-B7C7-91173465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737D2-0049-4A4D-9526-9FF6159B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18C5C-CDA0-4964-8AF3-8CF28B5C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F012-DA41-4C68-9444-FBD5BF0D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BFC63-9B53-4E89-8F43-F4081C35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B96C9-5DF1-4959-BBFA-92D263DC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D73B4-FE73-4633-A39D-33F1FE41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AFA4C-FF2A-4280-8650-8E52ABAE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4D312-D9BC-4E3D-A7D1-E06C8E5B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2F7CF-CA73-4EAA-A0E7-D1E55CC7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C12EE-CF13-4792-A0C5-EAEC1DDD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67561-0D0E-455A-A631-1E62EEA6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156A5-EC43-482F-9427-9189B189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D60D1-4CDA-4B1E-B79B-51889101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09AD-416C-4704-8F1E-D52DF991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77596-96AE-4002-9835-6F810381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15685-AD98-4A2A-A473-BDD49E20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8490E-B5A8-4745-B9E7-3C6202BB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A49D5-824F-4989-BC46-B872599D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79140-C97A-4929-919A-052DAB9E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83445-9138-4CD8-8FB3-84D45631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13069-EEC2-48C0-82D2-BBFF2CE8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BCA0C-A670-4BDD-A866-80AB48E6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9287C-A7E8-400F-A0A7-BD3BC359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944BE-61F8-48A4-AB2C-9B5950FC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A38D-EE93-4A19-9FB9-26A24B6C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CFE8B-AB2B-4651-861E-0F624819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D43E0-4E04-487E-BC7E-ED9FCF98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AF290-06A5-4369-9B79-BF303294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15ACD-247C-481C-BE18-B181455D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15678-B61D-4438-8D0F-5B178297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699FA-B4DE-4385-AF8F-FDA95FD4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7844D-C700-420A-8CB0-BA9C7575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0514E-52D0-43FF-9521-D6063BF6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EA909-CDDD-4094-B914-A23E2A95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C8EA4-2558-4008-AA56-251913DE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B9A7-A43B-43D4-9556-5F858CD6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09E4F-220C-44B8-884D-FB64DB5D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31430-A074-4CA1-8710-193F0F2B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69C0E-B40B-4079-A722-40F23350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F76C5-1DED-4B84-A2B6-D48A6C5E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10693-5210-48AF-9828-EDBDA3B0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D7A7E-9FDE-418C-B64B-8D43B69A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396D5-5AB2-4474-8393-AAE3D017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853E4-8650-43D3-996B-C26EF3E5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4BBE5-13D4-4568-B6DF-4CDCB241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8BB55-C3E5-43B8-9CED-78A3AC5B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C3A2-A6F5-4FE0-AED7-F9B7A403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78006-2759-4650-8B47-B86350D6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920F6-591C-45CE-A0C1-CD4A14FB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D9FDE-0917-4795-8413-FA9035E2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17A7D-1D0E-4BB5-8C49-E66CB1A4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D48C9-0240-4A6E-9B85-FFADF90E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E293C-9333-4F34-8DC6-04A974C4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3C2A4-F6CB-454E-9B67-C862BE31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CCC09-6AF2-4112-849B-BA3FA328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EEA78-4CBB-4C1D-91F2-7562338D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C9C7C-E2D4-4DF5-A966-ABED7BC4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3630-5F60-4806-B119-4FCF027F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5CBD0-7901-496E-AC4D-8F1581FD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0B2B6-839A-4A1F-A4CF-9D68B34A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D392B-888B-4D7A-BA1B-BC30435B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0B500-AF73-4A98-8B05-20A9DDCD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05C8F-496D-4A27-9539-B23566F5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7D740-3AE5-44DE-A360-AB273A06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9BC21-1B2A-4C7A-922B-5A19023D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AEE9D-DB90-44B3-8D75-330CE3AA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68694-2D61-497B-8608-924FF568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474EA-1D06-43C8-A94E-C2539427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229D-2282-4B6E-8D98-9DE729AD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0E528-C8AD-47F5-BAB5-BC72CB31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7B929-4C91-44A9-9F30-174495F1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D28D5-95E2-4D34-8B3E-E6F63D9A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05648-17D4-4CAE-8DFA-61956AEA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35F60-A3D6-438B-BE69-B7DE85B4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2EF65-D9D1-452A-8A65-6101DEA1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05BB7-17C4-4CFF-9771-CDBBB4B9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60FBA-2A48-4AEA-A8D6-35D991C1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3B57C-7984-414E-A1C3-CB71D028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3F9AD-302B-4E9A-BA38-34720222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728F-9D07-4394-B2DC-699530C27D84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8031-5571-4A5D-9428-5D4CE5DD00FD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46BE-FD91-4EF9-B9AD-F731ECB7F98F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2754-D73E-490A-BE8E-45E6B87A2320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254A-56E8-494F-BCDF-82DE44D90F53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F014-9A1A-4E03-8941-A3E2D527C580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2AED-2DCF-4A92-B82F-CC7C1F9CD5A3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616E-6A25-4625-8CF8-68038D959989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725F-8F2E-4243-9796-33596B179360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0ED3-3AB0-476B-A005-47D74D1C87E7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723B-A317-4776-845E-2D70C188FC62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6A84-3373-453A-8810-41AEA5206EE3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75EA-8D4F-43EF-8EC6-3E4A1ED09671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750D-2680-4542-A7A5-A503F7BE578A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D49F-BDFC-49BE-82E8-54ED4C0D2CB5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"/>
          <p:cNvSpPr/>
          <p:nvPr/>
        </p:nvSpPr>
        <p:spPr>
          <a:xfrm>
            <a:off x="1187280" y="2060640"/>
            <a:ext cx="67694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Excretion of Drug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784080" y="3429000"/>
            <a:ext cx="742968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Prof. Hanan Hag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logy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5" descr="logo"/>
          <p:cNvPicPr/>
          <p:nvPr/>
        </p:nvPicPr>
        <p:blipFill>
          <a:blip r:embed="rId1"/>
          <a:stretch/>
        </p:blipFill>
        <p:spPr>
          <a:xfrm>
            <a:off x="7812000" y="404640"/>
            <a:ext cx="908280" cy="1067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3"/>
          <p:cNvSpPr/>
          <p:nvPr/>
        </p:nvSpPr>
        <p:spPr>
          <a:xfrm>
            <a:off x="250920" y="1125360"/>
            <a:ext cx="87138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100000"/>
              </a:lnSpc>
              <a:spcBef>
                <a:spcPts val="18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Blood is filtered across </a:t>
            </a:r>
            <a:r>
              <a:rPr b="0" lang="en-US" sz="3200" spc="-1" strike="noStrike">
                <a:solidFill>
                  <a:srgbClr val="0000ff"/>
                </a:solidFill>
                <a:latin typeface="Georgia"/>
                <a:ea typeface="MS PGothic"/>
              </a:rPr>
              <a:t>a semi-permeable membrane into the Bowman’s Caps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18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Driving force for  GF  is hydrostatic pressure of blood flowing in capill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-270000">
              <a:lnSpc>
                <a:spcPct val="100000"/>
              </a:lnSpc>
              <a:spcBef>
                <a:spcPts val="18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Filtrate contains water, glucose, amino acids, sodium bicarbonates, organic solutes and electrolytes (sodium, potassium, chlorid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18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Blood cells, platelets, and plasma proteins are retained in the blood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  <a:ea typeface="MS PGothic"/>
              </a:rPr>
              <a:t>not filtered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4"/>
          <p:cNvSpPr/>
          <p:nvPr/>
        </p:nvSpPr>
        <p:spPr>
          <a:xfrm>
            <a:off x="1588320" y="189000"/>
            <a:ext cx="55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omerular filtration (GF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omerular Filtra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o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rugs are filtered through glomerul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MS PGothic"/>
              </a:rPr>
              <a:t>Glomerular filtration of drugs occur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100000"/>
              </a:lnSpc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MS PGothic"/>
              </a:rPr>
              <a:t>Low molecular weight dru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100000"/>
              </a:lnSpc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MS PGothic"/>
              </a:rPr>
              <a:t>Water soluble drugs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e.g. aminoglycosides, tubocurarine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100000"/>
              </a:lnSpc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MS PGothic"/>
              </a:rPr>
              <a:t>Free form of the drugs (not bound to plasma protein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100000"/>
              </a:lnSpc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MS PGothic"/>
              </a:rPr>
              <a:t>Drugs with low volume of distribution (V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6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6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omerular Filtration Rate (GF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he amount of blood filtered by the glomeruli in a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GFR = 125 ml/m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FR i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PGothic"/>
              </a:rPr>
              <a:t>used as a marker or indicator for kidney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FR is determined by creatinine, inulin (inulin is easily filtered by kidney not reabsorb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reatinine clearance (CrCl) is used as a marker instead of GF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71280" y="188640"/>
            <a:ext cx="896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MS PGothic"/>
              </a:rPr>
              <a:t>Active Tubular Secre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2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occurs mainly in proximal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2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It increases drug concentration in the filt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2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Drugs undergo active secretion have excretion rate values greater than normal GF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1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Secretion of ionized drugs into the l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Georgia"/>
                <a:ea typeface="MS PGothic"/>
              </a:rPr>
              <a:t>e.g. penicillin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605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aracters of active tubular secre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needs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transports drug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  <a:ea typeface="MS PGothic"/>
              </a:rPr>
              <a:t>against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 concentration gradients between blood and filt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requires carriers 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  <a:ea typeface="MS PGothic"/>
              </a:rPr>
              <a:t>transporters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Sat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Not specific 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  <a:ea typeface="MS PGothic"/>
              </a:rPr>
              <a:t>competition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may happe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505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MS PGothic"/>
              </a:rPr>
              <a:t>Types of transpor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72760" indent="-57276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Georgia"/>
                <a:ea typeface="MS PGothic"/>
              </a:rPr>
              <a:t>Transporters for organic acid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MS PGothic"/>
              </a:rPr>
              <a:t> e.g. Penicillin, aspirin, sulfonamides, probeneci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2760" indent="-57276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Georgia"/>
                <a:ea typeface="MS PGothic"/>
              </a:rPr>
              <a:t>Transporters for organic base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MS PGothic"/>
              </a:rPr>
              <a:t> e.g. morphine, catecholamines, atropine,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MS PGothic"/>
              </a:rPr>
              <a:t>quinin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572760" indent="-57276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Probenecid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can inhibits active tubular secretion of acidic dr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760" indent="-57276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Georgia"/>
                <a:ea typeface="MS PGothic"/>
              </a:rPr>
              <a:t>Two drugs can compete for the same carrier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Probenecid &amp; penicill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Probenecid &amp; nitrofurant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ally similar drug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similar ionic charge and employing th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me carrier- mediated proces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cretion enter into competi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rug with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ea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te of excretion wil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tar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excretion of other drug with which it compet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lf life of both drugs is increased since the total sites for active secretion are limi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9036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MS PGothic"/>
              </a:rPr>
              <a:t>  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MS PGothic"/>
              </a:rPr>
              <a:t>Competitive active tubular secretion of drug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94920" y="1052280"/>
            <a:ext cx="84978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66"/>
                </a:solidFill>
                <a:latin typeface="Times New Roman"/>
                <a:ea typeface="MS PGothic"/>
              </a:rPr>
              <a:t>Beneficial competition: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en-US" sz="3300" spc="-1" strike="noStrike">
                <a:solidFill>
                  <a:srgbClr val="0000ff"/>
                </a:solidFill>
                <a:latin typeface="Times New Roman"/>
                <a:ea typeface="MS PGothic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PGothic"/>
              </a:rPr>
              <a:t>Probenecid &amp; penicillin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oth require the same carrier for renal ex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obene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competes with or retards renal tubular secre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enicillin 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nd thus less amount of penicillin G will be excreted → prolonged duration of action of penicillin G &amp; increase in its antibacterial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itle 1"/>
          <p:cNvSpPr/>
          <p:nvPr/>
        </p:nvSpPr>
        <p:spPr>
          <a:xfrm>
            <a:off x="108000" y="189000"/>
            <a:ext cx="903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MS PGothic"/>
              </a:rPr>
              <a:t>  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MS PGothic"/>
              </a:rPr>
              <a:t>Competitive active tubular secretion of dru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394920" y="105228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66"/>
                </a:solidFill>
                <a:latin typeface="Times New Roman"/>
                <a:ea typeface="MS PGothic"/>
              </a:rPr>
              <a:t>Harmful competition: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PGothic"/>
              </a:rPr>
              <a:t>Probenecid &amp; nitrofuranto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obenecid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hibits renal tubular secretion of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itrofurantoi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thus decreases its efficacy  in urinary tract infections (UTIs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itle 1"/>
          <p:cNvSpPr/>
          <p:nvPr/>
        </p:nvSpPr>
        <p:spPr>
          <a:xfrm>
            <a:off x="108000" y="189000"/>
            <a:ext cx="903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MS PGothic"/>
              </a:rPr>
              <a:t>  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MS PGothic"/>
              </a:rPr>
              <a:t>Competitive active tubular secretion of dru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788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ubular Re-absorp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fter glomerular filtration, drugs may be reabsorb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 from tubular lumen into systemic blood circ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takes place along all the renal tubul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-absorption increases half life of a dr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-absorption may b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s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368000" y="286920"/>
            <a:ext cx="676908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of Drug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the end of this lecture, students should be abl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main and minor routes of Excretion including renal elimination and biliary excre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its consequences on duration of dru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different factors controlling renal excretion of dru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meaning of urinary ion trapp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how we can prescribe drugs in patients with renal impair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788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ssive Tubular re-absorp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istal convoluted tubules &amp; collecting 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nly lipid soluble drugs (non-ionize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dergo passive tubular re-absorption from tubular lumen back into bloo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not excreted in the urine, urinary excretion will be low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onized dru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ater soluble) are poorly reabsorbed, excreted easily in the urine,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inary excretion will be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40720" cy="6337440"/>
          </a:xfrm>
          <a:prstGeom prst="rect">
            <a:avLst/>
          </a:prstGeom>
          <a:ln w="31680">
            <a:solidFill>
              <a:srgbClr val="000000"/>
            </a:solidFill>
            <a:round/>
          </a:ln>
        </p:spPr>
      </p:pic>
      <p:sp>
        <p:nvSpPr>
          <p:cNvPr id="687" name="Oval 5"/>
          <p:cNvSpPr/>
          <p:nvPr/>
        </p:nvSpPr>
        <p:spPr>
          <a:xfrm>
            <a:off x="457200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6"/>
          <p:cNvSpPr/>
          <p:nvPr/>
        </p:nvSpPr>
        <p:spPr>
          <a:xfrm>
            <a:off x="395280" y="83664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7"/>
          <p:cNvSpPr/>
          <p:nvPr/>
        </p:nvSpPr>
        <p:spPr>
          <a:xfrm>
            <a:off x="421164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8"/>
          <p:cNvSpPr/>
          <p:nvPr/>
        </p:nvSpPr>
        <p:spPr>
          <a:xfrm>
            <a:off x="4788000" y="2565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Oval 9"/>
          <p:cNvSpPr/>
          <p:nvPr/>
        </p:nvSpPr>
        <p:spPr>
          <a:xfrm>
            <a:off x="5292720" y="234936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Oval 10"/>
          <p:cNvSpPr/>
          <p:nvPr/>
        </p:nvSpPr>
        <p:spPr>
          <a:xfrm>
            <a:off x="5003640" y="2852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11"/>
          <p:cNvSpPr/>
          <p:nvPr/>
        </p:nvSpPr>
        <p:spPr>
          <a:xfrm>
            <a:off x="3708360" y="249228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12"/>
          <p:cNvSpPr/>
          <p:nvPr/>
        </p:nvSpPr>
        <p:spPr>
          <a:xfrm>
            <a:off x="4859280" y="692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13"/>
          <p:cNvSpPr/>
          <p:nvPr/>
        </p:nvSpPr>
        <p:spPr>
          <a:xfrm>
            <a:off x="4572000" y="692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14"/>
          <p:cNvSpPr/>
          <p:nvPr/>
        </p:nvSpPr>
        <p:spPr>
          <a:xfrm>
            <a:off x="4716360" y="47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val 15"/>
          <p:cNvSpPr/>
          <p:nvPr/>
        </p:nvSpPr>
        <p:spPr>
          <a:xfrm>
            <a:off x="4572000" y="765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16"/>
          <p:cNvSpPr/>
          <p:nvPr/>
        </p:nvSpPr>
        <p:spPr>
          <a:xfrm>
            <a:off x="4716360" y="83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17"/>
          <p:cNvSpPr/>
          <p:nvPr/>
        </p:nvSpPr>
        <p:spPr>
          <a:xfrm>
            <a:off x="4572000" y="90792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18"/>
          <p:cNvSpPr/>
          <p:nvPr/>
        </p:nvSpPr>
        <p:spPr>
          <a:xfrm>
            <a:off x="4788000" y="83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19"/>
          <p:cNvSpPr/>
          <p:nvPr/>
        </p:nvSpPr>
        <p:spPr>
          <a:xfrm>
            <a:off x="4500720" y="2421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20"/>
          <p:cNvSpPr/>
          <p:nvPr/>
        </p:nvSpPr>
        <p:spPr>
          <a:xfrm>
            <a:off x="4716360" y="119700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21"/>
          <p:cNvSpPr/>
          <p:nvPr/>
        </p:nvSpPr>
        <p:spPr>
          <a:xfrm>
            <a:off x="5003640" y="69228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22"/>
          <p:cNvSpPr/>
          <p:nvPr/>
        </p:nvSpPr>
        <p:spPr>
          <a:xfrm>
            <a:off x="4427640" y="549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23"/>
          <p:cNvSpPr/>
          <p:nvPr/>
        </p:nvSpPr>
        <p:spPr>
          <a:xfrm>
            <a:off x="4788000" y="69228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24"/>
          <p:cNvSpPr/>
          <p:nvPr/>
        </p:nvSpPr>
        <p:spPr>
          <a:xfrm>
            <a:off x="4859280" y="333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25"/>
          <p:cNvSpPr/>
          <p:nvPr/>
        </p:nvSpPr>
        <p:spPr>
          <a:xfrm>
            <a:off x="395280" y="47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26"/>
          <p:cNvSpPr/>
          <p:nvPr/>
        </p:nvSpPr>
        <p:spPr>
          <a:xfrm>
            <a:off x="61128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ar drug= water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27"/>
          <p:cNvSpPr/>
          <p:nvPr/>
        </p:nvSpPr>
        <p:spPr>
          <a:xfrm>
            <a:off x="611280" y="6922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 polar drug = lipid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Oval 28"/>
          <p:cNvSpPr/>
          <p:nvPr/>
        </p:nvSpPr>
        <p:spPr>
          <a:xfrm>
            <a:off x="5003640" y="1341360"/>
            <a:ext cx="142920" cy="1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29"/>
          <p:cNvSpPr/>
          <p:nvPr/>
        </p:nvSpPr>
        <p:spPr>
          <a:xfrm>
            <a:off x="5003640" y="1557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2" dur="30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72 -0.07052 C 0.01042 0.03168 0.01302 0.12578 0.00816 0.22543 C 0.0059 0.37919 0.0283 0.33364 -0.09826 0.3311 C -0.10139 0.32971 -0.10469 0.32832 -0.10781 0.32694 C -0.11337 0.32462 -0.12517 0.32902 -0.12517 0.32902 L -0.12517 0.3163 E">
                                      <p:cBhvr>
                                        <p:cTn id="478" dur="2000" fill="hold"/>
                                        <p:tgtEl>
                                          <p:spTgt spid="7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2.65896E-006 C 0.01633 0.08671 -0.00954 0.18012 0.00799 0.26636 C 0.00747 0.30428 0.0073 0.34243 0.00626 0.38035 C 0.00521 0.42335 0.00539 0.39145 0.00313 0.3889 C 0.00105 0.38659 -0.00225 0.38752 -0.00485 0.38682 C -0.0085 0.38567 -0.01562 0.38289 -0.01909 0.38266 C -0.07673 0.37873 -0.07465 0.40509 -0.07465 0.37179 E">
                                      <p:cBhvr>
                                        <p:cTn id="482" dur="2000" fill="hold"/>
                                        <p:tgtEl>
                                          <p:spTgt spid="7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6" dur="30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30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1 0.01573 C 0.00903 0.02197 0.01007 0.02844 0.01007 0.03469 C 0.01007 0.4837 0.10678 0.43191 -0.11215 0.42775 C -0.12829 0.42521 -0.1434 0.42359 -0.15972 0.42359 E">
                                      <p:cBhvr>
                                        <p:cTn id="492" dur="2000" fill="hold"/>
                                        <p:tgtEl>
                                          <p:spTgt spid="7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6" dur="30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2" dur="30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8" dur="50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4" dur="30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30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0" dur="3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3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4" dur="30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8" dur="300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2" dur="300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6" dur="300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2" dur="30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8" dur="30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2" dur="30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6" dur="30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2" dur="3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6" dur="3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tive Tubular re-absorp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t occurs with endogenous substances or nutrients that the body needs to conserve. e.g. glucose, electrolytes, amino acids, uric acid, vitam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MS PGothic"/>
              </a:rPr>
              <a:t>Probene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acts as 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PGothic"/>
              </a:rPr>
              <a:t>uricosuric ag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in the treatment of go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MS PGothic"/>
              </a:rPr>
              <a:t>Probenecid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MS PGothic"/>
              </a:rPr>
              <a:t>inhibits  active tubular re-absorption of uric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. So, It increases excretion of uric acid in ur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actors affecting renal excretion of drug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446040" y="836280"/>
            <a:ext cx="84470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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flow to the ki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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ochemical properties of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  <a:tab algn="l" pos="601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ar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  <a:tab algn="l" pos="601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  <a:tab algn="l" pos="601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 of i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  <a:tab algn="l" pos="601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 of distrib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  <a:tab algn="l" pos="601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 charac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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factor e.g.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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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e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ffecting renal excretion of drug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179280" y="98064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nal blood flow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quate renal function depends upon renal blood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e in renal blood flow can decrease excretion of dr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AIDS e.g. aspirin and ibuprofen inhibit the produc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agland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herefore reduces renal perfusion and GF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ffecting renal excretion of drug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179280" y="98064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) Molecular weight of the drug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r MW drugs are difficult to be excreted than smaller MW especially by glomerular fil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) Lipid solubility of drug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excretion is inversely related to lipophili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lipid solubility increases volume of distribution of drug and decreases renal ex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ffecting renal excretion of drug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179280" y="98064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) Degree of ionization of drug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ionization of drug increases its water solubility and thus enhances its renal ex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or water soluble drug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easily filtered e.g aminoglycosides, tubocura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 affecting renal excretion of drug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250560" y="980640"/>
            <a:ext cx="87138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) Volume of distribution (vd)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clearance is inversely related to volume of distribution of drugs (Vd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wit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V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poorly excreted in ur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restricted to bloo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ow vd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higher renal excretion r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 affecting renal excretion of drug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250560" y="980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) Binding characteristics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that are bound to plasma proteins behave as macromolecules and cannot be filtered through glomerulus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nly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unbound form of dru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ree form) appears in glomerular filtr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in bound drug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long half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00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500"/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4614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 affecting renal excretion of drug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250560" y="980640"/>
            <a:ext cx="87138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) Biological factor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 can affect renal clear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clearance is reduced 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nat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der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pharmacokinetic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 reduc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dvisable otherwise toxicity may occ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s of Excre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569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utes of Excretio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jor routes of excre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excre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iary excre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inor routes of excre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excre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vary ex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mmary excretion via mil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/ Dermal excretion via swe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6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eases stat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irs the elimination of drugs thus may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alf-life (t ½ ) of dru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is may occur du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renal blood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stive heart fail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rrh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ogenic 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d renal excre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disease (e.g. glomerulonephrit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7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7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7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7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7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7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7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7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7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7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7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7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7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7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excretion of drugs and pH of u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MS PGothic"/>
              </a:rPr>
              <a:t>Normal urine </a:t>
            </a:r>
            <a:r>
              <a:rPr b="0" lang="en-GB" sz="3000" spc="-1" strike="noStrike">
                <a:solidFill>
                  <a:srgbClr val="000000"/>
                </a:solidFill>
                <a:latin typeface="Georgia"/>
                <a:ea typeface="MS PGothic"/>
              </a:rPr>
              <a:t>pH is 5.3 </a:t>
            </a:r>
            <a:r>
              <a:rPr b="0" lang="en-GB" sz="3000" spc="-1" strike="noStrike">
                <a:solidFill>
                  <a:srgbClr val="0000ff"/>
                </a:solidFill>
                <a:latin typeface="Georgia"/>
                <a:ea typeface="MS PGothic"/>
              </a:rPr>
              <a:t>(Slightly acidic)</a:t>
            </a:r>
            <a:r>
              <a:rPr b="0" lang="en-US" sz="3000" spc="-1" strike="noStrike">
                <a:solidFill>
                  <a:srgbClr val="0000ff"/>
                </a:solidFill>
                <a:latin typeface="Georgia"/>
                <a:ea typeface="MS PGothic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MS PGothic"/>
              </a:rPr>
              <a:t>Urine pH varies from 4.5 to 8 depending upon the diet e.g. meat causes more acidic urine and carbohydrates rich food may increase urinary pH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excretion of drugs and pH of u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MS PGothic"/>
              </a:rPr>
              <a:t>Most drugs are weak acids or weak b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MS PGothic"/>
              </a:rPr>
              <a:t>Normal urine (</a:t>
            </a:r>
            <a:r>
              <a:rPr b="0" lang="en-GB" sz="3000" spc="-1" strike="noStrike">
                <a:solidFill>
                  <a:srgbClr val="0000ff"/>
                </a:solidFill>
                <a:latin typeface="Georgia"/>
                <a:ea typeface="MS PGothic"/>
              </a:rPr>
              <a:t>pH 5.3</a:t>
            </a:r>
            <a:r>
              <a:rPr b="0" lang="en-GB" sz="3000" spc="-1" strike="noStrike">
                <a:solidFill>
                  <a:srgbClr val="000000"/>
                </a:solidFill>
                <a:latin typeface="Georgia"/>
                <a:ea typeface="MS PGothic"/>
              </a:rPr>
              <a:t> )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MS PGothic"/>
              </a:rPr>
              <a:t>slightly acidic and favors excretion of </a:t>
            </a:r>
            <a:r>
              <a:rPr b="0" lang="en-US" sz="3000" spc="-1" strike="noStrike">
                <a:solidFill>
                  <a:srgbClr val="0000ff"/>
                </a:solidFill>
                <a:latin typeface="Georgia"/>
                <a:ea typeface="MS PGothic"/>
              </a:rPr>
              <a:t>basic drug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MS PGothic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Georgia"/>
                <a:ea typeface="MS PGothic"/>
              </a:rPr>
              <a:t>Most of </a:t>
            </a:r>
            <a:r>
              <a:rPr b="0" lang="en-GB" sz="3000" spc="-1" strike="noStrike">
                <a:solidFill>
                  <a:srgbClr val="0000ff"/>
                </a:solidFill>
                <a:latin typeface="Georgia"/>
                <a:ea typeface="MS PGothic"/>
              </a:rPr>
              <a:t>acidic drugs</a:t>
            </a:r>
            <a:r>
              <a:rPr b="0" lang="en-GB" sz="3000" spc="-1" strike="noStrike">
                <a:solidFill>
                  <a:srgbClr val="000000"/>
                </a:solidFill>
                <a:latin typeface="Georgia"/>
                <a:ea typeface="MS PGothic"/>
              </a:rPr>
              <a:t> will be reabsorbed back into bod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MS PGothic"/>
              </a:rPr>
              <a:t>Changing the pH of urine can inhibit or enhance the passive tubular re-absorption of dru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00"/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500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00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/>
          </p:nvPr>
        </p:nvSpPr>
        <p:spPr>
          <a:xfrm>
            <a:off x="213840" y="0"/>
            <a:ext cx="85726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inary pH trapping (Ion trap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5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t is used to enhance ren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learance of drugs during toxi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5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rine acidific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ammonium chloride (NH4Cl) increases excretion of basic drugs (amphetamine, gentamycin)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5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rine alkaliza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sodium bicarbonate NaHCO3 increases excretion of acidic drugs (aspiri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Comic Sans MS"/>
              </a:rPr>
              <a:t>Ion trapp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Rectangle 3"/>
          <p:cNvSpPr/>
          <p:nvPr/>
        </p:nvSpPr>
        <p:spPr>
          <a:xfrm>
            <a:off x="152280" y="1031760"/>
            <a:ext cx="8712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ider a barbiturate (weak acidic drug) overdo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4"/>
          <p:cNvSpPr/>
          <p:nvPr/>
        </p:nvSpPr>
        <p:spPr>
          <a:xfrm>
            <a:off x="4140360" y="1844640"/>
            <a:ext cx="291960" cy="3111480"/>
          </a:xfrm>
          <a:prstGeom prst="rect">
            <a:avLst/>
          </a:prstGeom>
          <a:solidFill>
            <a:srgbClr val="5f5f5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5"/>
          <p:cNvSpPr/>
          <p:nvPr/>
        </p:nvSpPr>
        <p:spPr>
          <a:xfrm>
            <a:off x="1619280" y="1628640"/>
            <a:ext cx="5473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63de8"/>
                </a:solidFill>
                <a:latin typeface="Arial"/>
              </a:rPr>
              <a:t>Urine                          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63de8"/>
                </a:solidFill>
                <a:latin typeface="Arial"/>
              </a:rPr>
              <a:t>pH 5.3                          pH 7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6"/>
          <p:cNvSpPr/>
          <p:nvPr/>
        </p:nvSpPr>
        <p:spPr>
          <a:xfrm>
            <a:off x="250920" y="2852640"/>
            <a:ext cx="8569080" cy="32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More non-io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portion</a:t>
            </a: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ak acid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Less Ionized 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7"/>
          <p:cNvSpPr/>
          <p:nvPr/>
        </p:nvSpPr>
        <p:spPr>
          <a:xfrm>
            <a:off x="3780000" y="5037120"/>
            <a:ext cx="0" cy="7923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3"/>
          <p:cNvSpPr/>
          <p:nvPr/>
        </p:nvSpPr>
        <p:spPr>
          <a:xfrm>
            <a:off x="324000" y="1628640"/>
            <a:ext cx="835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14"/>
          <p:cNvSpPr/>
          <p:nvPr/>
        </p:nvSpPr>
        <p:spPr>
          <a:xfrm>
            <a:off x="103320" y="5950080"/>
            <a:ext cx="89406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cidic drug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b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absorbed bac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to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13"/>
          <p:cNvSpPr/>
          <p:nvPr/>
        </p:nvSpPr>
        <p:spPr>
          <a:xfrm>
            <a:off x="3494160" y="3333600"/>
            <a:ext cx="1584360" cy="935280"/>
          </a:xfrm>
          <a:custGeom>
            <a:avLst/>
            <a:gdLst>
              <a:gd name="textAreaLeft" fmla="*/ 212040 w 1584360"/>
              <a:gd name="textAreaRight" fmla="*/ 1372320 w 1584360"/>
              <a:gd name="textAreaTop" fmla="*/ 163440 h 935280"/>
              <a:gd name="textAreaBottom" fmla="*/ 67824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352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Comic Sans MS"/>
              </a:rPr>
              <a:t>Ion trapping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4067280" y="2133720"/>
            <a:ext cx="291960" cy="3111480"/>
          </a:xfrm>
          <a:prstGeom prst="rect">
            <a:avLst/>
          </a:prstGeom>
          <a:solidFill>
            <a:srgbClr val="5f5f5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1547640" y="2133720"/>
            <a:ext cx="5473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63de8"/>
                </a:solidFill>
                <a:latin typeface="Arial"/>
              </a:rPr>
              <a:t>Urine                          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63de8"/>
                </a:solidFill>
                <a:latin typeface="Arial"/>
              </a:rPr>
              <a:t>pH 8.0                          pH 7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6"/>
          <p:cNvSpPr/>
          <p:nvPr/>
        </p:nvSpPr>
        <p:spPr>
          <a:xfrm>
            <a:off x="539640" y="3141720"/>
            <a:ext cx="828036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Less Non-ionized</a:t>
            </a: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weak acid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More Io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7"/>
          <p:cNvSpPr/>
          <p:nvPr/>
        </p:nvSpPr>
        <p:spPr>
          <a:xfrm>
            <a:off x="3203640" y="3933720"/>
            <a:ext cx="22320" cy="1195560"/>
          </a:xfrm>
          <a:prstGeom prst="line">
            <a:avLst/>
          </a:prstGeom>
          <a:ln w="181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3"/>
          <p:cNvSpPr/>
          <p:nvPr/>
        </p:nvSpPr>
        <p:spPr>
          <a:xfrm>
            <a:off x="250920" y="2133720"/>
            <a:ext cx="835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10"/>
          <p:cNvSpPr/>
          <p:nvPr/>
        </p:nvSpPr>
        <p:spPr>
          <a:xfrm>
            <a:off x="3635280" y="3284640"/>
            <a:ext cx="1657440" cy="360360"/>
          </a:xfrm>
          <a:custGeom>
            <a:avLst/>
            <a:gdLst>
              <a:gd name="textAreaLeft" fmla="*/ 221760 w 1657440"/>
              <a:gd name="textAreaRight" fmla="*/ 1435680 w 1657440"/>
              <a:gd name="textAreaTop" fmla="*/ 63000 h 360360"/>
              <a:gd name="textAreaBottom" fmla="*/ 26136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152280" y="1031760"/>
            <a:ext cx="87123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presence of sodium bicarbonate, urine is </a:t>
            </a: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alkali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mor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cretion of acidic drug into 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4"/>
          <p:cNvSpPr/>
          <p:nvPr/>
        </p:nvSpPr>
        <p:spPr>
          <a:xfrm>
            <a:off x="-71280" y="5805360"/>
            <a:ext cx="94676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cidic drug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 eliminate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o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ka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r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Box 2"/>
          <p:cNvSpPr/>
          <p:nvPr/>
        </p:nvSpPr>
        <p:spPr>
          <a:xfrm>
            <a:off x="324000" y="2271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Creatinine clearance and drugs excre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3"/>
          <p:cNvSpPr/>
          <p:nvPr/>
        </p:nvSpPr>
        <p:spPr>
          <a:xfrm>
            <a:off x="250920" y="981000"/>
            <a:ext cx="8642160" cy="45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ine clearance rate (CrCl) is the unit volume (ml) of plasma cleared by the kidney per unit time (mi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66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ine clearance (CrC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ed to estimate glomerular filtration rate (GFR) because creatinine is produced from muscle and freely filtere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low MW, water soluble, and is not protein boun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075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clear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l/mi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r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concentration  [Cp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clea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 : drug concentration in the u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u : volume of urine in 24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:  drug concentration in the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4"/>
          <p:cNvSpPr/>
          <p:nvPr/>
        </p:nvSpPr>
        <p:spPr>
          <a:xfrm>
            <a:off x="3143160" y="214308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4"/>
          <p:cNvSpPr/>
          <p:nvPr/>
        </p:nvSpPr>
        <p:spPr>
          <a:xfrm>
            <a:off x="322200" y="1126800"/>
            <a:ext cx="8642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ckcroft-Gault equ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stima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ine clea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ale: CrCl  =        0.85 (140 − age) X body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um creatinine × 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:    CrCl  =   (140 − age) X body we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um creatinine × 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2"/>
          <p:cNvSpPr/>
          <p:nvPr/>
        </p:nvSpPr>
        <p:spPr>
          <a:xfrm>
            <a:off x="324000" y="260280"/>
            <a:ext cx="856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stimation of Creatinine Cleara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7"/>
          <p:cNvSpPr/>
          <p:nvPr/>
        </p:nvSpPr>
        <p:spPr>
          <a:xfrm>
            <a:off x="3203640" y="4581360"/>
            <a:ext cx="40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8"/>
          <p:cNvSpPr/>
          <p:nvPr/>
        </p:nvSpPr>
        <p:spPr>
          <a:xfrm>
            <a:off x="3780000" y="292428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clearance of drug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renal clearance is impaired, this may incr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½  of drugs and may result into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ug toxic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renal clearance is especially important for some drugs which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in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ed by the ki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arrow therapeutic 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lithium, digoxin, warfar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3"/>
          <p:cNvSpPr/>
          <p:nvPr/>
        </p:nvSpPr>
        <p:spPr>
          <a:xfrm>
            <a:off x="3059280" y="2421000"/>
            <a:ext cx="4321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al Excre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e of 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al unit of kidney i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EPH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consists of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mer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al convoluted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le’s loop (Ascending –Descen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l convoluted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ing 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4"/>
          <p:cNvSpPr/>
          <p:nvPr/>
        </p:nvSpPr>
        <p:spPr>
          <a:xfrm>
            <a:off x="179280" y="189000"/>
            <a:ext cx="8640720" cy="61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rugs excreted mainly by the kidney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Antibiotic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Arial"/>
              </a:rPr>
              <a:t>Penicillins, cephalospori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Arial"/>
              </a:rPr>
              <a:t>Aminoglycosides (gentamyc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Arial"/>
              </a:rPr>
              <a:t>Sulfonami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NSAIDs e.g. aspir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Lithiu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Digox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Immunosuppressants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(cyclosporin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Anticancer drugs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(cisplat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Garamond"/>
              </a:rPr>
              <a:t>Be careful upon prescribing those drugs in:</a:t>
            </a: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Renal failure patients – Elderly pati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Box 2"/>
          <p:cNvSpPr/>
          <p:nvPr/>
        </p:nvSpPr>
        <p:spPr>
          <a:xfrm>
            <a:off x="324000" y="227160"/>
            <a:ext cx="856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reatinine clearance and drugs excretio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3"/>
          <p:cNvSpPr/>
          <p:nvPr/>
        </p:nvSpPr>
        <p:spPr>
          <a:xfrm>
            <a:off x="250920" y="1268280"/>
            <a:ext cx="8642160" cy="46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c00000"/>
                </a:solidFill>
                <a:latin typeface="Arial"/>
              </a:rPr>
              <a:t>So what should we do in renal impairment?</a:t>
            </a:r>
            <a:r>
              <a:rPr b="0" lang="en-AU" sz="28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that are primarily excreted by the kidne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dose adjustment </a:t>
            </a:r>
            <a:r>
              <a:rPr b="1" i="1" lang="en-A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when 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reatinine clearance is below 60 ml/m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r dose adjustment if CrCl = 30-60 mL/m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dose adjustment if CrCl &lt; 15mL/m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 blood levels of drugs </a:t>
            </a:r>
            <a:r>
              <a:rPr b="1" lang="en-A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therapeutic drug monitor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When dose reduction is not required in renal impairment 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w drugs e.g.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eftriaxone, doxycycl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re excreted mainly into feces (biliary excretion) doesn’t need dose adjustment in renal impair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Orders of elimin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213840" y="1285920"/>
            <a:ext cx="864396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For first-order drug elimin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 constan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ercent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lost per unit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drugs follow the first order kinetic of excretion e.g. pencillin, aminogylcosides , quinolones e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first order kinetic the rate of excretion increased with increased in concentration of drug in plasma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213840" y="21420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rug with a 2-hour half life is given with an initial dose of 8 mcg/ml, assuming first-order kinetics, how much drug will be left at 6 hou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8 mc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4 mc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2 mc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) 1 mc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50% is lost every 2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h : 8 mg                       4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h : 4 mg                       2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h : 2 mg                  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 mg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" name="Straight Arrow Connector 4"/>
          <p:cNvCxnSpPr/>
          <p:nvPr/>
        </p:nvCxnSpPr>
        <p:spPr>
          <a:xfrm>
            <a:off x="1928520" y="4572000"/>
            <a:ext cx="1215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8" name="Straight Arrow Connector 5"/>
          <p:cNvCxnSpPr/>
          <p:nvPr/>
        </p:nvCxnSpPr>
        <p:spPr>
          <a:xfrm>
            <a:off x="1928520" y="4928760"/>
            <a:ext cx="12150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9" name="Straight Arrow Connector 6"/>
          <p:cNvCxnSpPr/>
          <p:nvPr/>
        </p:nvCxnSpPr>
        <p:spPr>
          <a:xfrm>
            <a:off x="1928520" y="5285880"/>
            <a:ext cx="12150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Orders of elimin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213840" y="1285920"/>
            <a:ext cx="864396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For zero-order drug elimin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 constan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mou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lost per unit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 Alcohol, phenytoin, aspir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zero order the rate of excretion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the concentration of drugs  in the plasm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Content Placeholder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562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Risk Factors for NSAIDs-Associated Acute Renal Failur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179280" y="1196640"/>
            <a:ext cx="8436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agalndins (PGs) have major role in the preservation of renal function when pathologic states compromise physiologic kidney processes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GI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 and PG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 antagonize the local effects of circulating angiotensin II, endothelin,vasopressin, and catecholamines that reduce renal circ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aglandins  preserve GFR by antagonizing arteriolar vasoconstri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significant reduction in GF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ccur follow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ministration of an NSAI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 patient with any underlying disease states (NSAIDs inhibit production of P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Risk Factors for NSAIDs-Associated Acute Renal Failur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79280" y="1196640"/>
            <a:ext cx="8436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agalndins (PGs) have major role in the preservation of renal function when pathologic states compromise physiologic kidney processes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GI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 and PG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 antagonize the local effects of circulating angiotensin II, endothelin,vasopressin, and catecholamines that reduce renal circ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aglandins  preserve GFR by antagonizing arteriolar vasoconstri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significant reduction in GF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ccur follow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ministration of an NSAI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 patient with any underlying disease states (NSAIDs inhibit production of P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57120" y="928440"/>
            <a:ext cx="832968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drugs are readily excreted and poorly re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le drugs are reabsorbed back and excretion will be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c drugs are best excreted in alkaline urine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dium bicarbon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drugs are best excreted in acidic urine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monium chlor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ulin and creatinine are used to assess renal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ition for active secretion prolongs half life of some drugs e.g penicillin and probenic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3" descr=""/>
          <p:cNvPicPr/>
          <p:nvPr/>
        </p:nvPicPr>
        <p:blipFill>
          <a:blip r:embed="rId1"/>
          <a:stretch/>
        </p:blipFill>
        <p:spPr>
          <a:xfrm>
            <a:off x="71280" y="1214280"/>
            <a:ext cx="9001440" cy="557244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4"/>
          <p:cNvSpPr/>
          <p:nvPr/>
        </p:nvSpPr>
        <p:spPr>
          <a:xfrm>
            <a:off x="357120" y="76320"/>
            <a:ext cx="8501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e of 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al unit of kidney i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EPH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edg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24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in binding  of drugs inhibits renal excretion of drugs except those that are actively secre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24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AIDS e.g aspirin and ibuprofen inhbits the production of PGs and thefore reduces renal perfusion and GF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24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spective of the mechanism of excretion renal of drugs , decreased renal blood flow  decrease excretion of dru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: hananhhagar@yaho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4" descr="j0078711"/>
          <p:cNvPicPr/>
          <p:nvPr/>
        </p:nvPicPr>
        <p:blipFill>
          <a:blip r:embed="rId1"/>
          <a:stretch/>
        </p:blipFill>
        <p:spPr>
          <a:xfrm>
            <a:off x="6084720" y="1268280"/>
            <a:ext cx="2057400" cy="3934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500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4" descr="23"/>
          <p:cNvPicPr/>
          <p:nvPr/>
        </p:nvPicPr>
        <p:blipFill>
          <a:blip r:embed="rId1"/>
          <a:stretch/>
        </p:blipFill>
        <p:spPr>
          <a:xfrm>
            <a:off x="71280" y="115920"/>
            <a:ext cx="8964720" cy="66690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664" name="Text Box 5"/>
          <p:cNvSpPr/>
          <p:nvPr/>
        </p:nvSpPr>
        <p:spPr>
          <a:xfrm>
            <a:off x="2050920" y="260280"/>
            <a:ext cx="482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357120" y="53578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eph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excre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st important organ for drug excretion is the kidney.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4" descr=""/>
          <p:cNvPicPr/>
          <p:nvPr/>
        </p:nvPicPr>
        <p:blipFill>
          <a:blip r:embed="rId1"/>
          <a:stretch/>
        </p:blipFill>
        <p:spPr>
          <a:xfrm>
            <a:off x="6500880" y="3071880"/>
            <a:ext cx="1800000" cy="2867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44704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200" spc="-1" strike="noStrike">
                <a:solidFill>
                  <a:srgbClr val="ff0000"/>
                </a:solidFill>
                <a:latin typeface="Garamond"/>
              </a:rPr>
              <a:t>Normal kidney func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13840" y="1052280"/>
            <a:ext cx="88218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ion of electrolytes </a:t>
            </a:r>
            <a:r>
              <a:rPr b="0" lang="en-A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ldoster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ion of water balance </a:t>
            </a:r>
            <a:r>
              <a:rPr b="0" lang="en-A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nti-diuretic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A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orm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of wastes &amp; drug metabolites such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9" dur="10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" dur="1000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9" dur="1000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4" dur="1000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9" dur="1000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" dur="1000"/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Renal excretion of drug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rinary excretion of drugs occurs through three proces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merular fil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tubular se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ive or active tubular re-absorp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Hanan Hagar</cp:lastModifiedBy>
  <dcterms:modified xsi:type="dcterms:W3CDTF">2016-04-19T05:58:36Z</dcterms:modified>
  <cp:revision>328</cp:revision>
  <dc:subject/>
  <dc:title>GENERAL PHARMACOLOGY</dc:title>
</cp:coreProperties>
</file>