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3A07-0774-4CD8-86C7-1302603756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AD50C-1D5C-4DFE-9E8C-A6B4AED3E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95C6-D7BF-4806-AB7A-6C69DD84EA01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0601-1546-4892-9B61-BF976E8D242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765A-7DC6-4539-8E03-B9450588378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09A4-ACC2-4011-86DB-27689C63B359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5163-9221-4300-9D6B-25D255ADD1D4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5E47-A694-493D-BD23-486570F413B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AF5-36A5-4A40-BE07-3D5DD9F54715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220-8634-4B79-9145-8E991C15980E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7460-1253-4E7E-AC2A-AFE55F2F786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3B0B-7041-450E-8AD4-1D1FB66AB3C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C103-006B-4CD2-A399-C8943F6884EB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8AC1-E118-4699-BAF8-FA263884E23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F716-24E2-4AA3-974B-EB537DDD439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FA2D-5403-4195-A62F-281024350EF4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F5E-D4BB-47EC-8F67-D039406FDC6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0B4-69D3-4720-ABDE-E423E9BE296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D3A-C77D-4A0B-88E4-72351DE17F62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94EF4-905A-4084-B4B8-F9602E4037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FF8-D427-4E11-975E-7EB58FFEA8D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0858-DD0B-43BF-BC3A-CF52C51CBC1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32E-D004-48CE-B7AA-1217324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406-9F96-499E-8BC5-22158C6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F8E6-C96C-4041-A8E8-D5CDAAF0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0068F-0B9A-4BB8-9579-5397D2F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A3D29-FA4D-45D9-9A2B-CC41CF61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61E53-8D57-487E-B045-8EA4187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56D80-DAAD-4EB0-8BEE-77B9B6E3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3D84-7D04-49E0-A601-54CB3250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9ED9E-779C-45E4-AEDA-E82F6A2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D0AC7-A889-4DE3-8E12-34FF1A47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2A1F-1573-4E6A-AE28-95049CF4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EB365-4645-437E-BE7A-C3B58CC8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1C5-D369-45CC-AD89-558B9B34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CECBD-0F3A-4053-9372-C1DA4978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F5D87-78C8-4E19-86F9-BE344A10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63BBC-6639-4F37-8BFF-2B7B5D9C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F7746-54E3-499D-AE37-E6B02407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D7EAD-4730-438B-96AF-189EF6B0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DEC7B-6739-40BF-A661-524502B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792AA-C1D6-4638-B0E9-E88BFEEC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7E9D2-305C-42F1-90E9-EAD2BF11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22D57-CBE0-4AB7-9182-BFB20967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2BA76-DE77-41C2-813A-176EE8EE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1D0-5D99-4236-8EB8-729F76B9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DC954-AE9D-43C1-B7EA-18A6AB46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97DC-C846-4CA0-86D2-BDACB95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7D1B5-3F4B-4B74-A987-A3DF084D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FF13C-6367-44D7-A3EE-DFDB6CF3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2117D-641E-4D20-99F2-B6334B2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8E106-4682-4F56-9060-A1D0D336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D9F42-7B23-4126-90AC-1F07ADA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57B7D-8E49-45F7-B63F-F62CE91B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0F229-D2A3-4330-A42B-A75328ED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0374D-94D2-4CEA-8AD8-9F711FC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430E-9F5F-4432-96EC-7A7A9EF5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C583-5673-498F-AC8F-9581A567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1FFA-7E86-42D4-B8C7-A426C35F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1ECC-8067-4E6B-9D74-9DAD120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CB2E7-E936-41B4-ACFD-C2CCBEBB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CD5C1-7682-41E5-9C22-74473793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936A3-2ABE-4E7D-B5A1-A9316E91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AA3A5-7122-4450-A03E-123AC00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78614-569F-4049-8FCA-724D2DF7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4BD14-9131-43FA-BF9C-BBE48D60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D406E-ECFA-419E-AC1E-34CFC9C7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8202-74B8-4889-A0B7-304856D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DDF0E-CCDF-4549-9C7F-17C383A1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252EF-EE09-45E0-8C4B-D6FFFF25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49511-F4BA-4492-8339-82ACE9D0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87589-B708-4F06-90E5-958E4EA2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29CAF-75DE-412C-98E3-D41487E5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60439-ABBF-4C2A-9CC0-F3B2CDCC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27EF9-A8DA-4BB3-9963-BF5FE7B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41AC8-3C75-4C1F-87FA-4B987D4A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6CE9F-62F0-4AF5-87FE-4AC47409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E674C-7164-4C60-8654-305B7C80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C621-F222-480D-A422-E38BC65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4B2D1-403A-4D37-8AF3-51C0EB17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3888C-4D68-4303-B844-6FC83D5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03CCC-6038-4426-B213-DE5FBD2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413E9-279B-48EB-8D5E-4EB87219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3375C-D57A-48AF-9A96-715C631A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90561-5310-4E57-B281-2434C5E1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D33A3-72B3-430D-9146-905A3711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5EF47-C0B0-4617-8789-A5FB29D0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F6C8E-DE0F-4382-8812-C6B7862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5817E-6900-4D40-AD5E-C33A75C8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C86-B410-43CE-90DC-9389790F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65B1A-E186-4B7C-BDFD-842B80E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D50D6-DCB6-4A7B-B4AD-571E58C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9EBF5-1DBB-44A1-8902-DF97A8FB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1C93F-7F17-45BD-A7BE-C2AB0B0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0A106-4F56-4BE2-AA3F-0D70FAB2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38A14-AEFF-4B5B-AC17-E1F902D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D5A8F-593F-4341-AAAB-480E7966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111DF-17ED-470F-B62C-B441F907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D79A8-F64C-4BF9-884D-F0144983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24432-5AF0-4CDE-8890-BA3F8564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F162-0598-4EEB-AD60-CB5D664F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A2FB7-BD97-4064-BEA2-F1ACBECA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65C31-61D9-4EC6-9FA1-896D1BD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FE194-C155-4F79-97B9-7F4BEC6F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2BC3A-A821-4BC2-9363-94F9CD4C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74887-DC2D-4D8F-8E48-DE948113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D330A-6D49-47D9-845A-41BFDEF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F6896-9689-4C8B-A199-A24A01A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D5BE7-35B3-4E0C-B9AD-9EDC81E1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CBD7D8-4B64-46BB-8FB2-39BDDCE7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1F801-1E54-4ADF-83BE-C7BADB57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05F4-E6B9-4DCB-A5CD-F653CD1E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89336-33B9-403B-8896-97FB8AD4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593F-DF1E-4A9F-8B1E-AF04F39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512-7FB0-4A0B-B416-E348DD61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DC5-56D1-4E3C-A4C3-61C90B5F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1008-0B93-43BF-8E1C-8059431A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989F-74B3-4635-8DA4-D5D466E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5ED5-5B7B-4475-869A-4B46EBBC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9AAD-595A-447B-9EA7-60BAB508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C4259-ED76-48FC-9E0D-B44A9972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13DB-9544-4CCD-99E1-658E8CB8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6433-7AFB-4AB4-B258-765610A2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DCEB-6C1A-4845-BA11-F715C6A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A771-0C2C-4A3A-A367-32588E2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55C-C76D-4E89-A625-A45DFB6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B468-9A74-4B82-AA49-FB8AAC3B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0D5F-861D-4948-8B4B-D85E50D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5F97-9133-418F-A65F-70C4345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AF89-2818-4B99-A000-12027B2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8444-FFA3-4764-B187-970EB509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A56B-3A7A-4718-9419-E0874E3C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C41B6-0997-49DD-BB00-A301BC1B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5800-1E88-4C71-B3DE-FB89F4EE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D136-47D0-438A-9C5F-6329020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6928-CA9B-42DF-8B19-C49F751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302-BE64-49A3-AE67-B506C30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27CE-3197-4EFD-AC74-4B029017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4E270-054B-4DF8-B07A-FE1CF8D9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111C-41B3-4077-9172-C3B1E31B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E8292-0A64-4DC5-8B4F-BA43FCE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6509-0AF1-4D40-8D0C-3688DA2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9D66-94DE-4056-B239-06BBCEDE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CA5C-89F2-4B7B-B2C4-FDBB34B2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9C92-EBAF-4FFD-9E2E-702A9DCC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6491-280D-40CE-83FF-B646A88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D4EB9-C0B3-4BF3-BBFC-2100BAC6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93B-4540-48BA-B8F5-788DA11D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8CFE-5215-41F3-ACF5-04EE82BB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B2A3-A2C5-4758-872C-3841C0EC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F286-340B-4186-B919-923A383C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4A34-5A66-4466-A861-1F04C17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A6E4-A389-49D3-BE7E-40C06D5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3BD0-3BA5-40E5-A832-8955145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50ECC-E19D-428C-96DA-D1AD8D67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82124-5A69-40F3-B364-96C4F34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61ED9-045C-4848-A855-01BC3F3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0F07D-AFB1-4EC0-A3AC-7EB9A149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A4E-7EFD-4475-97B6-3B18ADC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D022-7253-4563-B0C4-57264751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F240-0691-480E-A463-1B528F30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492BA-4F9F-46A2-A212-14FA0B25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4F4D5-8463-429B-8A97-F0D54E59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794A7-A193-43DB-8599-AA8F9BDA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0CB0E-2AC9-40CA-B6FB-ED719A85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FC36E-81B4-4C6C-9F52-7DE87A2C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2A6E5-B1DB-4271-9847-3CE74920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2A715-4EA9-4E09-839F-922A6733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DBC27-AD70-4B89-816F-72FFB42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F59-ED6C-4948-95EE-CF84B3C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E850-3173-4FE1-9F11-90F0B223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472F1-DD22-4EE2-A2D2-D2E8AD22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03C6-653D-4A70-92A0-BB7F2081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4E59-76E1-4AEC-B689-ADACABD3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B6B73-1807-4D3B-BB14-A819E840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A0A97-EEBC-4429-8DF7-EABCF12D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433FF-D757-4864-81E5-9891FD8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C2707-7C86-4C2A-9A88-666D2441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15FF-8092-4851-9437-66EA5F2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AC3DB-59F2-4494-951A-8CD5DCBB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538-A221-4A92-A309-39A2AB4B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BB21C-BE33-48BD-ACD2-E6C7E14B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B5A1-28DD-4AEB-8512-236C8686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78C40-7A21-4B73-B3D1-7DD1E7D4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1C45C-C891-4061-B72F-AD880998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FCD57-8FB4-4977-A23B-EBDB5898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5F6B2-434A-4398-9DC5-9BA9A3D9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CB1A-FBE7-4A70-BD32-B5D74B48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9C57-1988-40B2-AC65-48C558C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AFD65-09EC-45A2-98A2-8DA9F64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D13B-8677-419F-8BED-97E84A9C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173-F1CC-4704-8C7C-B1B6144E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EB8D7-12B0-4F36-93A7-04E35365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F1535-7BCB-43B5-A0A0-C7579FA2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3136F-D37F-46E8-B748-A882F6A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DD2B-B9E6-4586-BD52-C802B9B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79E06-22E9-4AD7-B52A-D88B8F9E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5BE0C-20FA-41E6-9D47-CE65DB03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B11C3-B6E8-4A8A-A51E-3676639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2B5B0-462B-41C2-BE49-8B852B6B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97D18-9A02-4562-BB30-83230718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63255-AA22-42D4-A0C7-D170B923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355A-1E6C-46B7-961C-FAABC9CE1767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2309-054A-451C-AED0-E67186DF09C4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2AFB-21FF-4B16-84B0-D3F39C59BAC4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AFBB-ECFF-443C-B2A1-5FB5CCC4D716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D803-9609-4077-AAF9-0BA5CCE27146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628A-3F04-476A-B754-C446CAE8BA5B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3388-6413-4965-AD55-3644290B5E69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E68-7E56-4797-82CF-638621FFC7E5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07D1-7CEE-4E7B-ACF9-2427B959D12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727C-BB68-43B1-91EF-45CC8FD2F2B1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62C3-DAE8-4B30-9C40-B16001C5C9C8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A19-1249-4FD3-8DED-654511D7E02F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EE6E-BF83-450C-A442-95B50C9E66C2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66D6-43C2-43AF-B447-A7B789DD118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692F-568C-4AC7-A14F-95DC1F4F7F7F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784080" y="3429000"/>
            <a:ext cx="74296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Prof. Hanan Hag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25092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Blood is filtered across </a:t>
            </a:r>
            <a:r>
              <a:rPr b="0" lang="en-US" sz="3200" spc="-1" strike="noStrike">
                <a:solidFill>
                  <a:srgbClr val="0000ff"/>
                </a:solidFill>
                <a:latin typeface="Georgia"/>
                <a:ea typeface="MS PGothic"/>
              </a:rPr>
              <a:t>a semi-permeable membrane into the Bowman’s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Driving force for  GF  is hydrostatic pressure of blood flowing 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Filtrate contains water, glucose, amino acids, sodium bicarbonates, organic solutes and electrolytes (sodium, potassium, chlor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Blood cells, platelets, and plasma proteins are retained in the blood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not filtere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1588320" y="18900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(GF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rugs are filtered through glomer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Glomerular filtration of drugs occu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Low molecular weight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.g. aminoglycosides, tubocurarin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Free form of the drugs (not bound to plasma protei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Drugs with low volume of distribution (V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Rate (GF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 amount of blood filtered by the glomeruli in a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GFR = 125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FR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used as a marker or indicator for kidne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FR is determined by creatinine, inulin (inulin is easily filtered by kidney not reabsorb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reatinine clearance (CrCl) is used as a marker instead of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MS PGothic"/>
              </a:rPr>
              <a:t>Active Tubular Se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occurs mainly in proximal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It increases drug concentration in the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Drugs undergo active secretion have excretion rate values greater than normal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Secretion of ionized drugs into the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  <a:ea typeface="MS PGothic"/>
              </a:rPr>
              <a:t>e.g. penicilli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605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acters of active tubular secre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need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transports dru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 concentration gradients between blood and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requires carrier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transporter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Not specific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MS PGothic"/>
              </a:rPr>
              <a:t>competition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may happe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50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MS PGothic"/>
              </a:rPr>
              <a:t>Types of transpo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Transporters for organic acid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e.g. Penicillin, aspirin, sulfonamides, probenec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Transporters for organic bas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e.g. morphine, catecholamines, atropine,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MS PGothic"/>
              </a:rPr>
              <a:t>quini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Probenecid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MS PGothic"/>
              </a:rPr>
              <a:t>can inhibits active tubular secretion of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760" indent="-5727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Two drugs can compete for the same carri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robenecid &amp;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robenecid &amp; nitrofuran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ly similar drug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similar ionic charge and employing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carrier- mediated proces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retion enter into compet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ug with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e of excretion wil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ar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xcretion of other drug with which it comp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f life of both drugs is increased since the total sites for active secretion are lim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ompetitive active tubular se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MS PGothic"/>
              </a:rPr>
              <a:t>Beneficia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3300" spc="-1" strike="noStrike">
                <a:solidFill>
                  <a:srgbClr val="0000ff"/>
                </a:solidFill>
                <a:latin typeface="Times New Roman"/>
                <a:ea typeface="MS PGothic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 &amp; penicillin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oth require the same carrier for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competes with or retards renal tubular secre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enicillin 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nd thus less amount of penicillin G will be excreted → prolonged duration of action of penicillin G &amp; increase in its antibacterial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9492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MS PGothic"/>
              </a:rPr>
              <a:t>Harmfu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 &amp; nitrofurant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beneci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hibits renal tubular secretion of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itrofurantoi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thus decreases its efficacy  in urinary tract infections (UTI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MS PGothic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fter glomerular filtration, drugs may be reabsorb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from tubular lumen into systemic blood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place along all the renal tubu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increases half life of a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may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factors controlling renal excre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urinary ion tra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we can prescribe drugs in patients with renal impai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lipid soluble drugs (non-ioniz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go passive tubular re-absorption from tubular lumen back into blo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t excreted in the urine, urinary excretion will be 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onized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ter soluble) are poorly reabsorbed, excreted easily in the urin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excretion will be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687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2" dur="3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478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482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3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492" dur="2000" fill="hold"/>
                                        <p:tgtEl>
                                          <p:spTgt spid="7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8" dur="5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3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3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30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3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8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3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6" dur="3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t occurs with endogenous substances or nutrients that the body needs to conserve. e.g. glucose, electrolytes, amino acids, uric acid,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acts as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uricosuric ag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in the treatment of g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MS PGothic"/>
              </a:rPr>
              <a:t>Probenecid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MS PGothic"/>
              </a:rPr>
              <a:t>inhibits  active tubular re-absorption of ur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So, It increases excretion of uric aci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4604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chemical properties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factor e.g.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l blood flo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renal function depends upon renal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 in renal blood flow can decrease excretion of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. aspirin and ibuprofen inhibit the produc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refore reduces renal perfusion and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Molecular weight of the drug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W drugs are difficult to be excreted than smaller MW especially by 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Lipid solubility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is inversely related to lipophi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ipid solubility increases volume of distribution of drug and decrease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Degree of ionization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ionization of drug increases its water solubility and thus enhances it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r 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easily filtered e.g aminoglycosides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Volume of distribution (vd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inversely related to volume of distribution of drugs (V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orly excrete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restricted to blo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v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er renal excretion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 Binding characteristic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bound to plasma proteins behave as macromolecules and cannot be filtered through glomerulu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nbound form of dru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 form) appears in glomerular fil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ound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ong half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) Biological factor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can affect renal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reduc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pharmacokinet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visable otherwise toxicity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s of Excreti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j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eases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the elimination of drugs thus m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-life (t ½ ) of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may occur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7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7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7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7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7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Normal urine 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pH is 5.3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MS PGothic"/>
              </a:rPr>
              <a:t>(Slightly acidic)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Urine pH varies from 4.5 to 8 depending upon the diet e.g. meat causes more acidic urine and carbohydrates rich food may increase urinary p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Most drugs are weak acids or weak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Normal urine (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MS PGothic"/>
              </a:rPr>
              <a:t>pH 5.3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)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slightly acidic and favors excretion of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MS PGothic"/>
              </a:rPr>
              <a:t>basic drug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Most of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MS PGothic"/>
              </a:rPr>
              <a:t>acidic drugs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MS PGothic"/>
              </a:rPr>
              <a:t> will be reabsorbed back into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MS PGothic"/>
              </a:rPr>
              <a:t>Changing the pH of urine can inhibit or enhance the passive tubular re-absorp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t is used to enhance ren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learance of drugs during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mmonium chloride (NH4Cl) increases excretion of basic drugs (amphetamine, gentamycin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acidic drugs (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152280" y="1031760"/>
            <a:ext cx="87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barbiturate (weak acidic drug) overd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4140360" y="184464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1619280" y="162864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5.3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250920" y="2852640"/>
            <a:ext cx="85690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More non-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ortion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ess Ionized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"/>
          <p:cNvSpPr/>
          <p:nvPr/>
        </p:nvSpPr>
        <p:spPr>
          <a:xfrm>
            <a:off x="3780000" y="5037120"/>
            <a:ext cx="0" cy="79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3"/>
          <p:cNvSpPr/>
          <p:nvPr/>
        </p:nvSpPr>
        <p:spPr>
          <a:xfrm>
            <a:off x="324000" y="162864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103320" y="5950080"/>
            <a:ext cx="8940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idic dru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b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bsorbed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to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13"/>
          <p:cNvSpPr/>
          <p:nvPr/>
        </p:nvSpPr>
        <p:spPr>
          <a:xfrm>
            <a:off x="3494160" y="3333600"/>
            <a:ext cx="1584360" cy="9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067280" y="213372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1547640" y="213372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539640" y="3141720"/>
            <a:ext cx="8280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Less Non-ionized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ore 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3203640" y="3933720"/>
            <a:ext cx="22320" cy="1195560"/>
          </a:xfrm>
          <a:prstGeom prst="line">
            <a:avLst/>
          </a:prstGeom>
          <a:ln w="181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3"/>
          <p:cNvSpPr/>
          <p:nvPr/>
        </p:nvSpPr>
        <p:spPr>
          <a:xfrm>
            <a:off x="250920" y="21337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10"/>
          <p:cNvSpPr/>
          <p:nvPr/>
        </p:nvSpPr>
        <p:spPr>
          <a:xfrm>
            <a:off x="3635280" y="3284640"/>
            <a:ext cx="1657440" cy="360360"/>
          </a:xfrm>
          <a:custGeom>
            <a:avLst/>
            <a:gdLst>
              <a:gd name="textAreaLeft" fmla="*/ 221760 w 1657440"/>
              <a:gd name="textAreaRight" fmla="*/ 1435680 w 16574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152280" y="1031760"/>
            <a:ext cx="8712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esence of sodium bicarbonate, urine is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lkali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of acidic drug into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4"/>
          <p:cNvSpPr/>
          <p:nvPr/>
        </p:nvSpPr>
        <p:spPr>
          <a:xfrm>
            <a:off x="-71280" y="5805360"/>
            <a:ext cx="9467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idic dru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eliminat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2"/>
          <p:cNvSpPr/>
          <p:nvPr/>
        </p:nvSpPr>
        <p:spPr>
          <a:xfrm>
            <a:off x="324000" y="227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reatinine clearance and drugs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"/>
          <p:cNvSpPr/>
          <p:nvPr/>
        </p:nvSpPr>
        <p:spPr>
          <a:xfrm>
            <a:off x="250920" y="981000"/>
            <a:ext cx="864216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rate (CrCl) is the unit volume (ml) of plasma cleared by the kidney per unit time (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(CrC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estimate glomerular filtration rate (GFR) because creatinine is produced from muscle and freely filt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w MW, water soluble, and is not protein bou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 [Cp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: drug concentration in th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 : volume of urine in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 drug concentration in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"/>
          <p:cNvSpPr/>
          <p:nvPr/>
        </p:nvSpPr>
        <p:spPr>
          <a:xfrm>
            <a:off x="3143160" y="21430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4"/>
          <p:cNvSpPr/>
          <p:nvPr/>
        </p:nvSpPr>
        <p:spPr>
          <a:xfrm>
            <a:off x="322200" y="112680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ckcroft-Gault eq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stim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: CrCl  =        0.85 (140 − age) X bod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:    CrCl  =   (140 − age) X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ion of Creatinine Clea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"/>
          <p:cNvSpPr/>
          <p:nvPr/>
        </p:nvSpPr>
        <p:spPr>
          <a:xfrm>
            <a:off x="3203640" y="4581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8"/>
          <p:cNvSpPr/>
          <p:nvPr/>
        </p:nvSpPr>
        <p:spPr>
          <a:xfrm>
            <a:off x="3780000" y="2924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 of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nal clearance is impaired, this may in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  of drugs and may result in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renal clearance is especially important for some drugs whic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in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rrow therapeutic 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lithium, digoxin, warfar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le’s loop (Ascending –Desc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179280" y="189000"/>
            <a:ext cx="86407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rugs excreted mainly by the kidn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biotic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"/>
              </a:rPr>
              <a:t>Penicillins, cephalospor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"/>
              </a:rPr>
              <a:t>Aminoglycoside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  <a:ea typeface="Arial"/>
              </a:rPr>
              <a:t>Sulfonam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SAIDs e.g.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ith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mmunosuppressan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yclospor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cancer drug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isplat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Garamond"/>
              </a:rPr>
              <a:t>Be careful upon prescribing those drugs in:</a:t>
            </a: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nal failure patients – Elderly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2"/>
          <p:cNvSpPr/>
          <p:nvPr/>
        </p:nvSpPr>
        <p:spPr>
          <a:xfrm>
            <a:off x="324000" y="22716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reatinine clearance and drugs excre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3"/>
          <p:cNvSpPr/>
          <p:nvPr/>
        </p:nvSpPr>
        <p:spPr>
          <a:xfrm>
            <a:off x="250920" y="1268280"/>
            <a:ext cx="864216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00000"/>
                </a:solidFill>
                <a:latin typeface="Arial"/>
              </a:rPr>
              <a:t>So what should we do in renal impairment?</a:t>
            </a:r>
            <a:r>
              <a:rPr b="0" lang="en-AU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primarily excreted by the kid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dose adjustment </a:t>
            </a:r>
            <a:r>
              <a:rPr b="1" i="1" lang="en-A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en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eatinine clearance is below 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dose adjustment if CrCl = 30-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ose adjustment if CrCl &lt; 15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lang="en-A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When dose reduction is not required in renal impairment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drugs e.g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ftriaxone, doxycyc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excreted mainly into feces (biliary excretion) doesn’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first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erce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drugs follow the first order kinetic of excretion e.g. pencillin, aminogylcosides , quinolones 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irst order kinetic the rate of excretion increased with increased in concentration of drug in plasma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213840" y="21420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rug with a 2-hour half life is given with an initial dose of 8 mcg/ml, assuming first-order kinetics, how much drug will be left at 6 ho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8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4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2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) 1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0% is lost every 2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8 mg                       4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4 mg                       2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2 mg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 m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4"/>
          <p:cNvCxnSpPr/>
          <p:nvPr/>
        </p:nvCxnSpPr>
        <p:spPr>
          <a:xfrm>
            <a:off x="1928520" y="457200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8" name="Straight Arrow Connector 5"/>
          <p:cNvCxnSpPr/>
          <p:nvPr/>
        </p:nvCxnSpPr>
        <p:spPr>
          <a:xfrm>
            <a:off x="1928520" y="492876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9" name="Straight Arrow Connector 6"/>
          <p:cNvCxnSpPr/>
          <p:nvPr/>
        </p:nvCxnSpPr>
        <p:spPr>
          <a:xfrm>
            <a:off x="1928520" y="528588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zero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mou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lcohol, phenytoin,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zero order the rate of excretion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concentration of drugs  in the plasm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Content Placeholder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56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isk Factors for NSAIDs-Associated Acute Renal Failur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79280" y="1196640"/>
            <a:ext cx="843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alndins (PGs) have major role in the preservation of renal function when pathologic states compromise physiologic kidney process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G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d PG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tagonize the local effects of circulating angiotensin II, endothelin,vasopressin, and catecholamines that reduce renal circ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landins  preserve GFR by antagonizing arteriolar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ignificant reduction in GF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r follow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on of an NS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patient with any underlying disease states (NSAIDs inhibit production of P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isk Factors for NSAIDs-Associated Acute Renal Failur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79280" y="1196640"/>
            <a:ext cx="843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alndins (PGs) have major role in the preservation of renal function when pathologic states compromise physiologic kidney process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G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d PG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tagonize the local effects of circulating angiotensin II, endothelin,vasopressin, and catecholamines that reduce renal circ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landins  preserve GFR by antagonizing arteriolar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ignificant reduction in GF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r follow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on of an NS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patient with any underlying disease states (NSAIDs inhibit production of P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3296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9001440" cy="557244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4"/>
          <p:cNvSpPr/>
          <p:nvPr/>
        </p:nvSpPr>
        <p:spPr>
          <a:xfrm>
            <a:off x="357120" y="76320"/>
            <a:ext cx="8501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inding  of drugs inhibits renal excretion of drugs except those that are actively secr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 aspirin and ibuprofen inhbits the production of PGs and thefore reduces renal perfusion and GF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spective of the mechanism of excretion renal of drugs , decreased renal blood flow  decrease excretion of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hananhhag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j0078711"/>
          <p:cNvPicPr/>
          <p:nvPr/>
        </p:nvPicPr>
        <p:blipFill>
          <a:blip r:embed="rId1"/>
          <a:stretch/>
        </p:blipFill>
        <p:spPr>
          <a:xfrm>
            <a:off x="6084720" y="1268280"/>
            <a:ext cx="205740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664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57120" y="5357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organ for drug excretion is the kidney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tretch/>
        </p:blipFill>
        <p:spPr>
          <a:xfrm>
            <a:off x="6500880" y="3071880"/>
            <a:ext cx="180000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ff0000"/>
                </a:solidFill>
                <a:latin typeface="Garamond"/>
              </a:rPr>
              <a:t>Normal kidney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13840" y="1052280"/>
            <a:ext cx="88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electrolyte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ld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water balance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diuretic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wastes &amp; drug metabolites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Renal excretion of drug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occurs through 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or active tubular re-absorp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6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6-04-19T05:58:36Z</dcterms:modified>
  <cp:revision>328</cp:revision>
  <dc:subject/>
  <dc:title>GENERAL PHARMACOLOGY</dc:title>
</cp:coreProperties>
</file>