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30387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397188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1080" y="8829720"/>
            <a:ext cx="30387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5858-9468-431A-B25C-2119720E0F0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1440" y="8829720"/>
            <a:ext cx="3038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785C-94E1-4801-AFE3-DE3A96E69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8FC0-EDA5-402D-A82D-66226660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C76-4989-4D79-8949-AD6A6686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15A3-157F-4E41-89FC-DF66AF96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BFDC-44EB-46A7-B458-DA4FC0B8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C4F5-C8C8-478A-9BE1-0B038823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46E5-3D60-4263-BD51-37EF1459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2CEC-76A8-45DF-81EB-E6F8A654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235D-B535-41B1-80D4-144E82B2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10D4-6D13-4E78-BFD4-F4537501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03F5-1E5F-41AE-B292-2C4362DD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BB8F-331B-4562-A7EF-4F32C777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1838-F9A2-46E7-8958-6A5D717E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E39E-D6B5-420B-9BD9-303A0960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710C-85F1-44EA-8EB3-FA30B2D5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DFC8-364D-4212-BBA7-01495D20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7803-6A76-441B-AD9E-C36F4BB4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3FA1-F561-4D8E-9637-571E417F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B667C8-703F-489D-A306-BF50A76E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879C2-4AF7-4A8B-B4C7-0BA54A99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6E151-DD3B-4132-9104-0DA86AD4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F75C4-E39F-45C8-B47B-8C5F1809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E0EC39-3E90-47C8-829E-4AAD5EEF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D1A-1F7D-4C38-898F-EAC96785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804E8-CAE8-4641-8D4D-36804911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5CFDD-CAF4-456E-8A69-B66DB339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814ED-246A-43BA-9E4D-D78F1A65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80C55-8E6D-46BF-8563-DF19A875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5070A-8354-47EA-AB98-3570B990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0126B8-2A28-4FF0-8D85-89D2154C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331AF-9B09-4FFF-91A8-5231D8D9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74BE4-4FF6-437A-B7CF-64A071A0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0933F-206F-44A4-8EAE-D8AE2E67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5E4F8-1C0A-4D94-897D-57E9D16D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3367-8BBB-4976-B21A-ECD13068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6EE01-A7C4-4F48-B1B0-F93D0D48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57401-1D9A-491D-8C11-09CB1421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DEBAD-E7A0-4643-9615-00CC7D27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475BA-622F-43C3-A860-798D99F3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ACE15-1B8E-44DB-9952-068416FE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D4254-C902-40EF-A50D-3C3B8AF6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9AB46-483F-4EB8-81FE-CB84B91D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24B96-D532-4012-BEED-D2FF8CE5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B867D-5FAE-41E4-BCD6-212AA61B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295F60-5D32-4BDB-9DEA-023E7813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CFB5-24FF-4382-9F1A-60065C8F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D92F84-F4B6-45D7-9D90-F012F810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98A609-2B54-47B0-B4C2-832B8348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1546F0-177B-4E9A-87D4-130A455B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CDA9B3-20B5-40F3-A62B-40D4FFA2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808AB1-FEDA-4B89-870F-CC2DC8C7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40DFB8-2B19-4275-972B-F93F7F8E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C94130-3A65-4767-8D64-000A8A02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336643-A3F0-4460-A650-9755F9C9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081097-9862-4B38-855B-4C6C9BC0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5A0E2B-BAB5-4BA8-8B22-700EF74D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914-D4EC-49C0-93CD-643B0CB8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2AA598-A1C3-4516-B715-CA96F462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720DE2-C0DC-486F-B561-CC915F05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B8EDC7-E9A2-46C2-B62B-182905C3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F43021-EF34-4EE8-81C2-79A35DEE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E3FF29-B722-4109-AECB-49DA5E96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50DDAC-9C85-4805-A70F-B8F0A86F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5F16B3-F324-425D-AEF7-27682A1D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D689CC-B6EB-42EA-9FA4-246702A4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791B1D-BBE3-437F-9A3D-096B1E32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9328EF-1FA6-4A71-B396-30D5999F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80A-CE7F-4430-8907-BFD7EE59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225206-AFCF-4017-8DBB-376934B0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7A85FC-A5E0-4FA9-95F6-0F7D2CC2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B41DC6-65A6-4AB0-AE61-DB4A254E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393C92-A390-4637-BC63-42ACB8DA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4CCFCD-31DD-402E-93F3-DDE385F8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E7F5E0-C6AA-48D9-BFC6-0EAC4351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2FA225-07C2-497B-87C7-DB4D938F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25CDD6-C9FB-480F-9211-782B7761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401964-BD9A-48AE-A25E-C713CD15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FACD2B-9697-400C-9B1E-B9597DEB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4E9B-BDFF-4E37-9B8B-EE54512C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A10C2E-CC8E-4767-BD49-1EBF51CC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71889A-3C90-4CFB-B882-BFB930A9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B4C85F-5D66-40AC-AFE8-8065FB92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8AFAA4-8783-49C8-9671-24BFA2D6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C9864D-0478-443D-91A2-1D2A49DA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C609-921D-4929-B2B6-D32C4F0E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230D-4CCB-4F5D-BA36-0941A00511D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رابط مستقيم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شكل بيضاوي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شكل بيضاوي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شكل بيضاوي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شكل بيضاوي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شكل بيضاوي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2D7E-67A7-45D6-A164-4A9A71F3A1B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1406-4828-4A09-8A48-C96716687E7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مستطيل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شكل بيضاوي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شكل بيضاوي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شكل بيضاوي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شكل بيضاوي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شكل بيضاوي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رابط مستقيم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97E9-7E01-4C54-B535-FB84CEE22146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6EC3-8358-40DF-B963-048C93EA15D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رابط مستقيم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رابط مستقيم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رابط مستقيم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مستطيل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رابط مستقيم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شكل بيضاوي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D490-3D12-4338-B23C-0822F33095E3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شكل بيضاوي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رابط مستقيم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مستطيل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رابط مستقيم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رابط مستقيم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رابط مستقيم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965D-8F6F-4C3B-A859-628B064C463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14320" y="857160"/>
            <a:ext cx="507204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DIURETICS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Part 1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785880" y="2571840"/>
            <a:ext cx="4929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Prof. Hanan Haga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Dr.Abdul latif Mahesa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Pharmacology Uni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17" descr="1101"/>
          <p:cNvPicPr/>
          <p:nvPr/>
        </p:nvPicPr>
        <p:blipFill>
          <a:blip r:embed="rId1"/>
          <a:stretch/>
        </p:blipFill>
        <p:spPr>
          <a:xfrm>
            <a:off x="5508720" y="2924280"/>
            <a:ext cx="339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Classification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50920" y="126828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Carbonic anhydrase inhibitor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Loop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Thiazide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Potassium-sparing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Osmotic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1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2"/>
          <p:cNvSpPr/>
          <p:nvPr/>
        </p:nvSpPr>
        <p:spPr>
          <a:xfrm>
            <a:off x="1714680" y="714240"/>
            <a:ext cx="2000160" cy="9288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Carbonic anhydr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inhib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4500720" y="4000680"/>
            <a:ext cx="2357280" cy="4284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Loop diure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5357880" y="1785960"/>
            <a:ext cx="2571840" cy="5713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Thiazide diure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7143840" y="4929120"/>
            <a:ext cx="1714320" cy="5716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K-sparing diure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scan0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Oval 2"/>
          <p:cNvSpPr/>
          <p:nvPr/>
        </p:nvSpPr>
        <p:spPr>
          <a:xfrm>
            <a:off x="395280" y="6165720"/>
            <a:ext cx="1008000" cy="21600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ASCENDING LOOP OF HENLE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88581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920" y="109080"/>
            <a:ext cx="839304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l convoluted tubules (DCT)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rcRect l="0" t="0" r="0" b="8035"/>
          <a:stretch/>
        </p:blipFill>
        <p:spPr>
          <a:xfrm>
            <a:off x="142920" y="692280"/>
            <a:ext cx="885816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entury Schoolbook"/>
              </a:rPr>
              <a:t>COLLECTING TUBULES (CT)</a:t>
            </a:r>
            <a:endParaRPr b="0" lang="en-US" sz="3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214200" y="714240"/>
            <a:ext cx="842976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entury Schoolbook"/>
              </a:rPr>
              <a:t>COLLECTING TUBULES (CT)</a:t>
            </a:r>
            <a:endParaRPr b="0" lang="en-US" sz="3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86439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79280" y="260280"/>
            <a:ext cx="878544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entury Schoolboo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29400" cy="35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Carbonic Anhydrase Inhibitor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2940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Carbonic Anhydrase Inhibitor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2920" y="1052280"/>
            <a:ext cx="896472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etazolamide – dorzolamide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echanism of action: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 of ac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convoluted tubul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rbonic anhydrase (CA) enzym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convoluted  tubules thus interferes with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HCO3 re-absorp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auses diures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2940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Carbonic Anhydrase Inhibitor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14200" y="1479240"/>
            <a:ext cx="835344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entury Schoolbook"/>
              </a:rPr>
              <a:t>CA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is required for reversible reaction,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in which CO2 +H2O          H2CO3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     HCO3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98" name="Straight Arrow Connector 2"/>
          <p:cNvCxnSpPr/>
          <p:nvPr/>
        </p:nvCxnSpPr>
        <p:spPr>
          <a:xfrm>
            <a:off x="4714920" y="2928600"/>
            <a:ext cx="883440" cy="1080"/>
          </a:xfrm>
          <a:prstGeom prst="straightConnector1">
            <a:avLst/>
          </a:prstGeom>
          <a:ln w="3816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9" name="Straight Arrow Connector 4"/>
          <p:cNvCxnSpPr/>
          <p:nvPr/>
        </p:nvCxnSpPr>
        <p:spPr>
          <a:xfrm flipH="1">
            <a:off x="4642920" y="3142800"/>
            <a:ext cx="982080" cy="1080"/>
          </a:xfrm>
          <a:prstGeom prst="straightConnector1">
            <a:avLst/>
          </a:prstGeom>
          <a:ln w="3816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0" name="Straight Arrow Connector 14"/>
          <p:cNvCxnSpPr/>
          <p:nvPr/>
        </p:nvCxnSpPr>
        <p:spPr>
          <a:xfrm>
            <a:off x="6643440" y="3285720"/>
            <a:ext cx="648360" cy="15138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1" name="Straight Arrow Connector 19"/>
          <p:cNvCxnSpPr/>
          <p:nvPr/>
        </p:nvCxnSpPr>
        <p:spPr>
          <a:xfrm flipH="1">
            <a:off x="5357520" y="3357720"/>
            <a:ext cx="753120" cy="144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79280" y="260280"/>
            <a:ext cx="878544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entury Schoolbook"/>
              </a:rPr>
              <a:t>Diuretics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Are drugs that increase renal excretion of </a:t>
            </a: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sodium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and </a:t>
            </a: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water </a:t>
            </a: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resulting in increase in urine volume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Diuresis: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is the process of excretion of </a:t>
            </a: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water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 in the urine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Natriuresis: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 is the process of excretion of sodium in the urine 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746748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entury Schoolbook"/>
              </a:rPr>
              <a:t>CARBONIC ANHYDRAS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142920" y="549360"/>
            <a:ext cx="8750160" cy="630864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395280" y="1125360"/>
            <a:ext cx="2952720" cy="432000"/>
          </a:xfrm>
          <a:prstGeom prst="rect">
            <a:avLst/>
          </a:prstGeom>
          <a:solidFill>
            <a:srgbClr val="c8d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mina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5616720" y="1125360"/>
            <a:ext cx="3527280" cy="432000"/>
          </a:xfrm>
          <a:prstGeom prst="rect">
            <a:avLst/>
          </a:prstGeom>
          <a:solidFill>
            <a:srgbClr val="c8d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olatera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1042920" y="620640"/>
            <a:ext cx="1800360" cy="432000"/>
          </a:xfrm>
          <a:prstGeom prst="rect">
            <a:avLst/>
          </a:prstGeom>
          <a:solidFill>
            <a:srgbClr val="c8d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6156360" y="620640"/>
            <a:ext cx="1800360" cy="432000"/>
          </a:xfrm>
          <a:prstGeom prst="rect">
            <a:avLst/>
          </a:prstGeom>
          <a:solidFill>
            <a:srgbClr val="c8d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23"/>
          <p:cNvPicPr/>
          <p:nvPr/>
        </p:nvPicPr>
        <p:blipFill>
          <a:blip r:embed="rId1"/>
          <a:srcRect l="0" t="6096" r="0" b="3109"/>
          <a:stretch/>
        </p:blipFill>
        <p:spPr>
          <a:xfrm>
            <a:off x="34920" y="0"/>
            <a:ext cx="899964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611280" y="907920"/>
            <a:ext cx="295272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mina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5867280" y="692280"/>
            <a:ext cx="327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olatera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7"/>
          <p:cNvSpPr/>
          <p:nvPr/>
        </p:nvSpPr>
        <p:spPr>
          <a:xfrm>
            <a:off x="2340000" y="1844640"/>
            <a:ext cx="151128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826920" y="260280"/>
            <a:ext cx="180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12"/>
          <p:cNvGrpSpPr/>
          <p:nvPr/>
        </p:nvGrpSpPr>
        <p:grpSpPr>
          <a:xfrm>
            <a:off x="6443640" y="189000"/>
            <a:ext cx="1873440" cy="1224000"/>
            <a:chOff x="6443640" y="189000"/>
            <a:chExt cx="1873440" cy="1224000"/>
          </a:xfrm>
        </p:grpSpPr>
        <p:sp>
          <p:nvSpPr>
            <p:cNvPr id="414" name="Rectangle 9"/>
            <p:cNvSpPr/>
            <p:nvPr/>
          </p:nvSpPr>
          <p:spPr>
            <a:xfrm>
              <a:off x="6443640" y="189000"/>
              <a:ext cx="18734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loo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10"/>
            <p:cNvSpPr/>
            <p:nvPr/>
          </p:nvSpPr>
          <p:spPr>
            <a:xfrm flipH="1">
              <a:off x="6659640" y="1125360"/>
              <a:ext cx="936720" cy="28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Rectangle 8"/>
          <p:cNvSpPr/>
          <p:nvPr/>
        </p:nvSpPr>
        <p:spPr>
          <a:xfrm>
            <a:off x="1835280" y="5950080"/>
            <a:ext cx="5976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ximal tub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97800" cy="648000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285480" y="356760"/>
            <a:ext cx="835812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Pharmacokinetic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given orally once a day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Onset of action is rapid (30 min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Duration of action (12 h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xcreted by active secretion in proximal convoluted tubule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Produces </a:t>
            </a: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lkaline urine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250920" y="260280"/>
            <a:ext cx="875016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logical action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volume mildl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excretion of sodium, potassium , bicarbonat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alkaline urine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c acidos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phosphate excre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s K+ excretion by ↑the load of Na+ delivered to the distal tubule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786280" y="117360"/>
            <a:ext cx="3071880" cy="666936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3"/>
          <p:cNvSpPr/>
          <p:nvPr/>
        </p:nvSpPr>
        <p:spPr>
          <a:xfrm>
            <a:off x="285840" y="142920"/>
            <a:ext cx="550044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y do CA inhibitors have weak diuretic properties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uretic properti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decreas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fter several days as the blood bicarbonate f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179280" y="214200"/>
            <a:ext cx="86407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rapeutic use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Open angle glaucom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carbonic anhydrase inhibitors caus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↓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IOP by reducing  aqueous humor formation in ciliary body of ey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s prophylactic therapy, in acute mountain sickness ↓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CSF of brai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iven nightly 5 days before the ascent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↓ weaknes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reathlessness , dizziness, nausea, cerebral &amp; pulmonary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ede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OP: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raocular pressure;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SF: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rebrospinal flui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4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179280" y="214200"/>
            <a:ext cx="864072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rapeutic use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Epilepsy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(decrease cerebrospinal fluid, CSF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Urinary alkalinization to enhance renal excretion of acidic substances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(cysteine in cystinuria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yperphosphatem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Metabolic alkalosi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179280" y="356760"/>
            <a:ext cx="860760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se effect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ypokalemia (potassium loss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Metabolic acidosi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nal stone formation (calcium phosphate stones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ypersensitivity reactio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250920" y="260280"/>
            <a:ext cx="864216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rzolamide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s a carbonic anhydrase inhibit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Used topically for treatment of open-angle glaucom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no diuretic or systemic side effects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(Why?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79280" y="260280"/>
            <a:ext cx="878544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Mechanism of actions of diuretics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ost diuretics act by interfering with the </a:t>
            </a:r>
            <a:r>
              <a:rPr b="0" lang="en-US" sz="3200" spc="-1" strike="noStrike">
                <a:solidFill>
                  <a:srgbClr val="0000ff"/>
                </a:solidFill>
                <a:latin typeface="Century Schoolbook"/>
              </a:rPr>
              <a:t>normal sodium reabsorption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by the renal tubules resulting into sodium and water excre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Object 2"/>
          <p:cNvGraphicFramePr/>
          <p:nvPr/>
        </p:nvGraphicFramePr>
        <p:xfrm>
          <a:off x="847800" y="609480"/>
          <a:ext cx="7381800" cy="553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609480"/>
                    <a:ext cx="7381800" cy="55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Line 5"/>
          <p:cNvSpPr/>
          <p:nvPr/>
        </p:nvSpPr>
        <p:spPr>
          <a:xfrm flipV="1">
            <a:off x="3276720" y="2590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2763000" y="214776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60–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1364760" y="380880"/>
            <a:ext cx="5516280" cy="91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smotic diuretic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icture 8" descr="mannitol-from-mannitol"/>
          <p:cNvPicPr/>
          <p:nvPr/>
        </p:nvPicPr>
        <p:blipFill>
          <a:blip r:embed="rId3"/>
          <a:stretch/>
        </p:blipFill>
        <p:spPr>
          <a:xfrm>
            <a:off x="838080" y="3657600"/>
            <a:ext cx="2644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5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Osmotic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13840" y="1341000"/>
            <a:ext cx="892980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07680" indent="-25920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Mannitol: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Poorly absorb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f given orally          osmotic diarrhe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Given intravenously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Not metaboliz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Excreted by glomerular filtration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without being re-absorbed or secreted within 30-60 mi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Striped Right Arrow 3"/>
          <p:cNvSpPr/>
          <p:nvPr/>
        </p:nvSpPr>
        <p:spPr>
          <a:xfrm>
            <a:off x="3419640" y="3645000"/>
            <a:ext cx="533160" cy="46080"/>
          </a:xfrm>
          <a:custGeom>
            <a:avLst/>
            <a:gdLst>
              <a:gd name="textAreaLeft" fmla="*/ 6840 w 533160"/>
              <a:gd name="textAreaRight" fmla="*/ 522000 w 533160"/>
              <a:gd name="textAreaTop" fmla="*/ 11520 h 46080"/>
              <a:gd name="textAreaBottom" fmla="*/ 34560 h 46080"/>
            </a:gdLst>
            <a:ahLst/>
            <a:rect l="textAreaLeft" t="textAreaTop" r="textAreaRight" b="textAreaBottom"/>
            <a:pathLst>
              <a:path w="533400" h="46038">
                <a:moveTo>
                  <a:pt x="0" y="11510"/>
                </a:moveTo>
                <a:lnTo>
                  <a:pt x="1439" y="11510"/>
                </a:lnTo>
                <a:lnTo>
                  <a:pt x="1439" y="34529"/>
                </a:lnTo>
                <a:lnTo>
                  <a:pt x="0" y="34529"/>
                </a:lnTo>
                <a:close/>
                <a:moveTo>
                  <a:pt x="2877" y="11510"/>
                </a:moveTo>
                <a:lnTo>
                  <a:pt x="5755" y="11510"/>
                </a:lnTo>
                <a:lnTo>
                  <a:pt x="5755" y="34529"/>
                </a:lnTo>
                <a:lnTo>
                  <a:pt x="2877" y="34529"/>
                </a:lnTo>
                <a:close/>
                <a:moveTo>
                  <a:pt x="7193" y="11510"/>
                </a:moveTo>
                <a:lnTo>
                  <a:pt x="510381" y="11510"/>
                </a:lnTo>
                <a:lnTo>
                  <a:pt x="510381" y="0"/>
                </a:lnTo>
                <a:lnTo>
                  <a:pt x="533400" y="23019"/>
                </a:lnTo>
                <a:lnTo>
                  <a:pt x="510381" y="46038"/>
                </a:lnTo>
                <a:lnTo>
                  <a:pt x="510381" y="34529"/>
                </a:lnTo>
                <a:lnTo>
                  <a:pt x="7193" y="3452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14200" y="213840"/>
            <a:ext cx="8501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Mannitol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50000"/>
              </a:lnSpc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Acts in proximal tubules &amp; descending loop of Henle by </a:t>
            </a:r>
            <a:r>
              <a:rPr b="1" lang="en-US" sz="2700" spc="-1" strike="noStrike">
                <a:solidFill>
                  <a:srgbClr val="ff0000"/>
                </a:solidFill>
                <a:latin typeface="Century Schoolbook"/>
              </a:rPr>
              <a:t>osmotic effect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50000"/>
              </a:lnSpc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Mannitol, IV,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water excretion with relatively less effect on Na+ </a:t>
            </a:r>
            <a:r>
              <a:rPr b="1" lang="en-US" sz="2700" spc="-1" strike="noStrike">
                <a:solidFill>
                  <a:srgbClr val="0000ff"/>
                </a:solidFill>
                <a:latin typeface="Century Schoolbook"/>
              </a:rPr>
              <a:t>(water diuresis)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50000"/>
              </a:lnSpc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Expand the extracellular fluid volume, decrease blood  viscosity, and inhibit renin release, ↑renal blood flow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5" dur="1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1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5" dur="1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http://images.wisegeek.com/osmosis.jpg"/>
          <p:cNvPicPr/>
          <p:nvPr/>
        </p:nvPicPr>
        <p:blipFill>
          <a:blip r:embed="rId1"/>
          <a:stretch/>
        </p:blipFill>
        <p:spPr>
          <a:xfrm>
            <a:off x="0" y="2786040"/>
            <a:ext cx="9144000" cy="352440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2"/>
          <p:cNvSpPr/>
          <p:nvPr/>
        </p:nvSpPr>
        <p:spPr>
          <a:xfrm>
            <a:off x="500040" y="500040"/>
            <a:ext cx="78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nitol increases urine output by osmosis, drawing water out of cells and into the blood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14716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Therapeutic Uses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50920" y="981000"/>
            <a:ext cx="867888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24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Acute renal failure due to shock or trauma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maintain urine flow- preserve kidney function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24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In acute drug poisoning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 eliminate drugs that are reabsorbed from the renal tubules e.g. salicylates, barbiturat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24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intracranial &amp; intraocular pressure before ophthalmic or brain procedures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cerebral edem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7" dur="10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10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49294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entury Schoolbook"/>
              </a:rPr>
              <a:t>Adverse Effects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214200" y="857160"/>
            <a:ext cx="86392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Headache, nausea, vomiting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Extracellular volume expansion, complicates heart failure &amp; pulmonary oedem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Excessive use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dehydration &amp; hypernatraemia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(Adequate water replacement is required)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6160" y="-27000"/>
            <a:ext cx="746784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ff"/>
                </a:solidFill>
                <a:uFillTx/>
                <a:latin typeface="Century Schoolbook"/>
              </a:rPr>
              <a:t>Normal Sodium Re-absorption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79280" y="638280"/>
          <a:ext cx="8750520" cy="6076800"/>
        </p:xfrm>
        <a:graphic>
          <a:graphicData uri="http://schemas.openxmlformats.org/drawingml/2006/table">
            <a:tbl>
              <a:tblPr/>
              <a:tblGrid>
                <a:gridCol w="3875040"/>
                <a:gridCol w="4875480"/>
              </a:tblGrid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Nephron Seg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Filtered Na</a:t>
                      </a:r>
                      <a:r>
                        <a:rPr b="1" lang="en-US" sz="2400" spc="-1" strike="noStrike" baseline="30000">
                          <a:solidFill>
                            <a:srgbClr val="c00000"/>
                          </a:solidFill>
                          <a:latin typeface="Century Schoolbook"/>
                        </a:rPr>
                        <a:t>+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re-absorb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 , H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5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ce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of Hen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-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K, 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Ca an M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5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t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-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2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rtical Collecting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reabsor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secr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79280" y="142920"/>
            <a:ext cx="864072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Site of action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14200" y="714240"/>
          <a:ext cx="8786880" cy="6346800"/>
        </p:xfrm>
        <a:graphic>
          <a:graphicData uri="http://schemas.openxmlformats.org/drawingml/2006/table">
            <a:tbl>
              <a:tblPr/>
              <a:tblGrid>
                <a:gridCol w="2151000"/>
                <a:gridCol w="3408480"/>
                <a:gridCol w="3227400"/>
              </a:tblGrid>
              <a:tr h="69840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seg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Fun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ransport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 convoluted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-absorption of 100% glucose and amino acids, 66% Na, K, Ca, Mg; 85% Na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H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rbonic anhydrase en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traight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cretion and re-absorption of organic acids and b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id &amp; base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ck ascending loop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%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K, 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condary re-absorption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Ca, Mg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K/2Cl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tal convoluted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tubular reabsorption of 5%Na, Cl, 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and Cl co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280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llecting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reabsor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secr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transpor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6160" y="-27000"/>
            <a:ext cx="746784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Normal Sodium Re-absorpti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08000" y="549360"/>
          <a:ext cx="8964720" cy="6262560"/>
        </p:xfrm>
        <a:graphic>
          <a:graphicData uri="http://schemas.openxmlformats.org/drawingml/2006/table">
            <a:tbl>
              <a:tblPr/>
              <a:tblGrid>
                <a:gridCol w="2297160"/>
                <a:gridCol w="3778200"/>
                <a:gridCol w="2889360"/>
              </a:tblGrid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Nephron Seg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61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+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61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Filtered Na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 re-absorb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611c"/>
                    </a:solidFill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xim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/H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 transpor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Carbonic anhydrase enzy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As NaH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ce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op of Hen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/K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/2Cl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 co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0-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K, 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/Cl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-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tical Collecting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 chann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Aldoster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Antidiuretic horm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reabsor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secr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24000" y="260280"/>
            <a:ext cx="853416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0000"/>
                </a:solidFill>
                <a:uFillTx/>
                <a:latin typeface="Century Schoolbook"/>
              </a:rPr>
              <a:t>Sites of action for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entury Schoolbook"/>
              </a:rPr>
              <a:t>How diuretics produce their effects?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buClr>
                <a:srgbClr val="d2611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arget molecules for diuretics ar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carriers or transporter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entury Schoolbook"/>
              </a:rPr>
              <a:t>in luminal membrane of renal tubular cells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required for tubular reabsorption of sodium from filtrate back into bloo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44280"/>
            <a:ext cx="746748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Types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836640"/>
          <a:ext cx="8713800" cy="5878440"/>
        </p:xfrm>
        <a:graphic>
          <a:graphicData uri="http://schemas.openxmlformats.org/drawingml/2006/table">
            <a:tbl>
              <a:tblPr/>
              <a:tblGrid>
                <a:gridCol w="2305080"/>
                <a:gridCol w="2879640"/>
                <a:gridCol w="3529080"/>
              </a:tblGrid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Nephron Se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+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Transpo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Diure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xim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H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ranspor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arbonic anhydrase enzy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Carbonic anhydrase inhibi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ce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op of Hen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K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2Cl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Loop 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Cl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Thiazide 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tical Collecting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hann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doster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K-sparing 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280" y="142920"/>
            <a:ext cx="864072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Site of action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08000" y="714240"/>
          <a:ext cx="8821800" cy="6026400"/>
        </p:xfrm>
        <a:graphic>
          <a:graphicData uri="http://schemas.openxmlformats.org/drawingml/2006/table">
            <a:tbl>
              <a:tblPr/>
              <a:tblGrid>
                <a:gridCol w="1727280"/>
                <a:gridCol w="2736720"/>
                <a:gridCol w="2592360"/>
                <a:gridCol w="1765440"/>
              </a:tblGrid>
              <a:tr h="69804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eg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un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transport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uretic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 convoluted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-absorption of 66% Na, K, Ca, Mg, 100% glucose and amino acids; 85% Na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H transporter, Carbonic anhydrase en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rbonic anhydras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traight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cretion and re-absorption of organic acids and b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id &amp; base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ck ascending loop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%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K, 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condary reabsorption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,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K/2Cl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tal convoluted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tubular reabsorption of 5%Na, Cl, 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and Cl co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azide 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463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llecting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reabsor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secr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transpor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-sparing 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3:55:58Z</dcterms:created>
  <dc:creator>administrator</dc:creator>
  <dc:description/>
  <dc:language>en-US</dc:language>
  <cp:lastModifiedBy>dr.abdullatif</cp:lastModifiedBy>
  <dcterms:modified xsi:type="dcterms:W3CDTF">2016-04-25T06:39:45Z</dcterms:modified>
  <cp:revision>273</cp:revision>
  <dc:subject/>
  <dc:title>DIURETICS</dc:title>
</cp:coreProperties>
</file>