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D0D-1D6B-4E54-942F-15625DFF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C48-B04F-43B7-B2C6-A1EC78CF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AB0-ED20-4243-A4B1-5FD84253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E9A-F328-4503-9245-320B1374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0749-DDD7-4D67-8055-E74CA9BC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28A3-29A0-4F78-AF27-33853B45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0CCF-B31F-40DA-AA72-55FE0B68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B4FB-B708-495F-810D-7424DFD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685E-C681-41A4-9E77-F207D5A7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7F6-5250-405D-A4D9-20F7887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276F-9617-4447-9EBA-A203DBE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826-2195-4663-8D06-8775E7C7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12CC-F214-4731-933A-8BE9F89B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8AB-EC76-4154-A48F-BA42F85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55ED-FBC2-4024-948F-EAFE385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5D24-A028-47FB-A894-D4B4CEC0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4B9-888B-4202-8432-7D52B7B8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F57D7-23B5-4C62-A1B9-B80B8134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FA9AE-8BAE-45F0-AC68-CD1F955D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8893B-A2B5-4F9F-BD0D-2AD678E1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5A120-F679-4345-9EDD-3E5347E5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959C0-7223-469E-8E68-0E669D21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014-BADC-4D41-865B-A7C489FA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A0AD7-0862-4F7F-8124-4CC1C955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F9E70-F9B9-493B-969E-486FED8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27FA4-1109-421E-9003-ADAD9D5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416AB-5017-426B-BAEC-84D9161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03D11-D660-4A2E-A7F5-54C987E5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63081-5F72-493F-87D5-2CAC07FD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FE572-88EC-4DA8-BEB7-93142A7E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9932-A74F-4C1E-B4F1-D62D8EAF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86DC-6C43-4DD1-931F-572D2B8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A31D-F4A2-487E-A53D-2DAEB0F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225-0C08-4825-B508-5D3A50B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38FC9-971B-450C-B4DE-C8E74831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41AF-51DF-4BE3-8CE5-F9B0EB31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F598-2522-454B-AA9D-CA58CD01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B901-B6A7-4420-8AC3-35D9EC7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DAD1-3CA3-4224-AFD1-FF29BDE2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71E3-8FFE-4F0A-ABCD-8ED05FE6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9D05-CB9B-4A19-9262-7914BCCC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B916-FC94-4E75-A3E5-3E64DE29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318F5-730E-4F87-B600-C73BAD2F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D2273-2D4F-4A1F-9252-90BC6005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044-CBEA-4D83-B311-A7A8BF89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E1EFD-28A2-4D0D-B793-E66C7612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41DC1D-7B9C-4884-91D9-49293D78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5E243-1AF0-4CD3-BB4B-AD08812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5027E-C791-48C8-8480-A1ADD295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71A1A-BBF2-43D5-B2EA-F2131439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A7E5D-ED71-4623-AB0C-07CE9AC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DAC70-999F-421F-BA17-AAC8D7B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D1809-3236-451F-AD01-FC6DC0E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C727A-D874-4F9B-B49E-7227599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FD423-CFEE-41AD-BDD7-946D9632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AC6-504C-4B96-841A-DD2C0FE9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EE33A-64F3-44E5-B7DF-1132436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F6E7C-FDC8-4279-9859-3825A5B2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1C7D5-D1AC-4EEB-8F68-029811B0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E5B50-2CFF-4BC8-A17C-F1356B5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AB102-61C4-4C4A-B757-A3C1A8D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A9E94-F033-4271-B137-FB57F831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CAF75-7227-4BA8-87FA-89B598ED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D30D5-9289-49D6-B725-FCE34F0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91281-6809-4AAD-BAD2-53E70B80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39000C-AE4C-4C79-8BCC-1C83CA6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204-48FA-4A2C-8AC2-74F7821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1B37A-3C59-427C-B2D0-7C4C3428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40066-B645-479D-B17E-FB71B05E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1CC30-6224-45F5-88EA-B6CAF142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B01E4-76CC-4F01-ADD5-8B2C86A3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3BFC29-50C8-4A8D-BA01-6DFCF02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C917E-5EEC-4DB4-B6EE-A42B219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B8303-1776-4035-8EFA-61CA80CC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047FC-EDAD-4BD6-8CBF-74336D5E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720E1-24F2-458B-8670-876E8AC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88150-D4A7-4D30-B1E0-6266B695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2787-F499-4FAB-BDE9-2D0786C4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5E1E8-4E73-4E69-8E60-8616E2C0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669DD-2D97-448D-97FB-6663C66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EEB9D9-2E3E-4BE0-9224-3F47015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13CD2-731D-4E1F-BD9A-2480C14C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2BB36-D333-4DBF-A89E-CF8BFDD1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CA6-C8BF-40EE-9719-6F42A3E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54D3-F4C6-4BB2-842C-266386E3288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5E13-DC65-494C-BA66-F7CC7A59F6C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4C4-2DA1-4E8C-8D0D-76C5E836BA2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8B7-2E0F-4470-92A8-119476947BE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4B57-B72C-4A40-A932-CA5A25EA71C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391F-2A95-42E0-A6A1-582FCC187E5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F982-619F-4802-8FE8-2F91905E0E7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5676840" y="2214720"/>
            <a:ext cx="33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760" y="188640"/>
            <a:ext cx="4619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kin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8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r I. 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fast onset of action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suitable for emergency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short duration of a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tubular secretion of weak acids into uri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nterfere with uric acid secretion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(hyperuricemia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21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892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of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nal blood fl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50920" y="260280"/>
            <a:ext cx="84643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re drug of choice for emergency situation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 associated with congestive heart failure, nephrotic syndrom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ulmonary edema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hyperkalaemi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ypercalcem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6215040" y="2143080"/>
            <a:ext cx="2235240" cy="787320"/>
          </a:xfrm>
          <a:prstGeom prst="ellipse">
            <a:avLst/>
          </a:prstGeom>
          <a:solidFill>
            <a:srgbClr val="ef9100"/>
          </a:solidFill>
          <a:ln w="22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O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79280" y="836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volem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natraemia (↓ blood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kalemia (↓ bloo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magnesaemia (↓ blood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calcaemia (↓ bloo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Dietary K supplementation or K-sparing diuretics should be used to avoid hypokalemi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eruricemia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increase blood uric acid and gouty attack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otoxicity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(risk increased if combined with aminoglycoside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llergic reac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50920" y="16002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3"/>
          <p:cNvGraphicFramePr/>
          <p:nvPr/>
        </p:nvGraphicFramePr>
        <p:xfrm>
          <a:off x="609480" y="2057400"/>
          <a:ext cx="648180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4818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2569320" y="62388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oop Diure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7" descr="file"/>
          <p:cNvPicPr/>
          <p:nvPr/>
        </p:nvPicPr>
        <p:blipFill>
          <a:blip r:embed="rId3"/>
          <a:stretch/>
        </p:blipFill>
        <p:spPr>
          <a:xfrm>
            <a:off x="73152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4"/>
          <a:stretch/>
        </p:blipFill>
        <p:spPr>
          <a:xfrm>
            <a:off x="6400800" y="140004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High Ceiling diuretics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78920" y="1528920"/>
            <a:ext cx="8713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ost potent diuretic , termed </a:t>
            </a:r>
            <a:r>
              <a:rPr b="1" lang="en-US" sz="3200" spc="-1" strike="noStrike">
                <a:solidFill>
                  <a:srgbClr val="800000"/>
                </a:solidFill>
                <a:latin typeface="Century Schoolbook"/>
              </a:rPr>
              <a:t>“high ceiling diuretic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Efficac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High natriuresis as 25-30%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rug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Furosemide - Torsemide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Bumetanide - Ethcrynic  acid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214200"/>
            <a:ext cx="7721280" cy="164304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Loop Diuretics</a:t>
            </a: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High Ceiling Diuretics</a:t>
            </a: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5214960" y="2214720"/>
            <a:ext cx="3252600" cy="142848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thacry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otency 0.7, t½ 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4857840" y="4214880"/>
            <a:ext cx="3357360" cy="1407960"/>
          </a:xfrm>
          <a:prstGeom prst="ellipse">
            <a:avLst/>
          </a:prstGeom>
          <a:gradFill rotWithShape="0">
            <a:gsLst>
              <a:gs pos="0">
                <a:srgbClr val="ffae87"/>
              </a:gs>
              <a:gs pos="100000">
                <a:srgbClr val="ffe5dc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3, t½  3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57160" y="2286000"/>
            <a:ext cx="3143520" cy="12142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0093"/>
                </a:solidFill>
                <a:latin typeface="Times New Roman"/>
              </a:rPr>
              <a:t>Bumetan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</a:rPr>
              <a:t>Potency40 ,t½ 0.8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7"/>
          <p:cNvSpPr/>
          <p:nvPr/>
        </p:nvSpPr>
        <p:spPr>
          <a:xfrm>
            <a:off x="714240" y="4286160"/>
            <a:ext cx="2928960" cy="1143000"/>
          </a:xfrm>
          <a:prstGeom prst="ellipse">
            <a:avLst/>
          </a:prstGeom>
          <a:solidFill>
            <a:srgbClr val="ffc000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o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1, t½  1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echanism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K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2 Cl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 the luminal membrane of the thick ascending loop of Henle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TAL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C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re-absorption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14200" y="188640"/>
            <a:ext cx="8715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scending loop of Henl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impermeable to wa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In thick ascending loop of Henle (TAL)</a:t>
            </a: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responsible for active re-absorption of Na, K and Cl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25-30%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is reabsorbed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ia transport system in luminal membrane called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/ 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/ 2C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co-transport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 and Mg are reabsorbed and enter the interstitial fluid via paracellular pathwa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AHD0404-10-001"/>
          <p:cNvPicPr/>
          <p:nvPr/>
        </p:nvPicPr>
        <p:blipFill>
          <a:blip r:embed="rId1"/>
          <a:srcRect l="10601" t="7630" r="14534" b="4265"/>
          <a:stretch/>
        </p:blipFill>
        <p:spPr>
          <a:xfrm>
            <a:off x="857160" y="206280"/>
            <a:ext cx="7429680" cy="6485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"/>
          <p:cNvSpPr/>
          <p:nvPr/>
        </p:nvSpPr>
        <p:spPr>
          <a:xfrm>
            <a:off x="2556000" y="44280"/>
            <a:ext cx="561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cending loop of Hen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12T05:57:03Z</dcterms:modified>
  <cp:revision>255</cp:revision>
  <dc:subject/>
  <dc:title>DIURETICS</dc:title>
</cp:coreProperties>
</file>