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8D7-761C-4974-B919-891F7F37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466-FC69-4D3A-889F-0E31508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4E5-2128-41FA-8E9C-A35EB8BD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29E-3030-4A27-BCE5-7B6AF849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408F-935A-4823-BE0E-A57DB6A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4F5-9C39-413D-8DA6-11D230D0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3362-8D4F-42DD-9BEF-CA3BE9FD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0866-67F8-415F-9B00-EA40856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229B-88BC-4CD2-A72E-2C04170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D0E-5C6B-4A84-9B5E-35DD2DA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D9BE-4D56-4185-BB03-438D741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62C-5F8B-4E2B-9E31-0CF437BC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C83E-16F9-46B4-82C6-77035B6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5917-F81A-45BE-95A3-13CFC65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E73F-FE9F-4A36-9768-15AC1B4E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CF06-B0F6-4467-8EEA-63BA3053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86D-3E26-4DA9-AC18-73F0645D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5C0D3-0C1B-4E03-A0AB-4FBBE546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9D45B-2F15-4F9B-B2BB-9380F1B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6B4AE-0B58-47DC-B0DE-43F64810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3688C-B787-4BEB-991B-9A90BA8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03507-A64C-4A4B-AB5A-7768C4A2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AA6-3296-409B-B160-9F94870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AE342-F786-4504-81ED-63654BAF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E9B3D-2C08-4F64-9870-E4FB988F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4EDB3-F7A6-4FDC-803C-EF55EAE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5BFB3-C6A4-4574-B549-785B652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E3FF5-35C8-4649-8153-2ECC31E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83D11-04B0-4C78-B2B8-4EDC668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C5A39-7059-40C5-9315-6B513498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BC83-941F-4C54-A8D1-39F15784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50E1-2509-4EFD-968E-FF6FA583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1677-DA5B-4D46-A226-B8D2C122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CF0-6298-4178-9049-3380D30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E178-59AB-48AA-8520-0EF08DB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156E-9B6E-4604-9379-DD43397A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D0E2-E6D5-4D40-9348-281C0DC6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2EC3-8119-427E-B351-6C7B848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F619-2F78-4E20-8B3E-957DC23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CFF4-A98A-443C-BF76-83DD8CE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446C-A0E0-4B1A-8263-7C574BDC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353A-EF8F-45A7-ADFC-7E0857FB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98D6-2CB0-4D3A-875C-70CD9A92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79858-7E40-416C-B923-682AC2C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008-83E2-4D68-B291-DF69214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A76D3-D955-467D-9296-FE71791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527C0-6E02-440E-BF6E-8B3087B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6C8D1-FEAD-440E-8265-1D80E46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6A918-5BB8-4968-AD26-66161F5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E2F17-B755-4566-9146-2DCFF20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64EF7-EDFF-49DE-BA79-C074179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6D79F-11E5-49B6-B595-7033B6F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FEAFE-15B1-4DAF-B9B2-8D89943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328D2-DB46-4B1F-B679-A48C261D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67926-26B8-4677-B318-007EF7E7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D59-3BBC-4DD9-B927-481B6D7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91433-D71A-43B5-9D59-D156C879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5FD69-0640-40B8-8502-6F667DDB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0C2A8-3114-4F7B-AD70-C91BC1C9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561EA-642C-4893-846A-C3AE2DF2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832E9-9DD2-474F-B179-610EA1C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06F0F-CF61-4A6D-B213-5EDD8D3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287B2-EF8C-4BBB-B566-6B4A0BA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BC4F4-38F8-4C33-BE3C-99AE448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AD203-EADB-4C09-BC16-DFA09DA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12419-CA14-4B29-B49E-035AF54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7EF-9C94-469D-8C02-86CB0B1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1A633-B97B-47EA-B9A2-73179A7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16547-2490-4F93-90CF-E8E78E42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042D5-4F0E-4FCF-9E2A-A6151F16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8818F-C094-42E7-9E04-4B0AF4AF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AFF5F-670C-4018-BA1B-ECF2FAE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0D80E-B3D7-4222-B4A5-C78189F6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3F4A1-0CA3-4D4E-B081-4ACDB8F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9A123-C79F-491C-8DC4-B2AA8E6E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DB054-F46D-41DD-81A0-0C3CFC5C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63CE8-03AD-48C8-9493-EC8904F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4A0-3C9B-4C36-BC79-12F10DB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30952-C1B1-4EF4-B804-90E671A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A4D3B-074D-45FB-A3FB-12185DE6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7CD83-F036-4A65-AE34-8BF1F5F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8A177-3789-4EBE-BE5C-2F23FE31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2927C-2427-4F0A-8DAA-3E01A641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84E-1E39-40C9-BD42-F3D7DCD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D8F-77B2-4DEF-ADB8-19B1889E044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A11-B5E7-445D-9EC5-D3E07F9E540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A46-6EAF-4EA5-A1CD-A8765AE440A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C1F-061C-489C-A019-795E82224B7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643-34E4-421E-8A31-B9D24D32945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5D7-49EA-48EB-8262-BA8793FC4DE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88FC-EF43-4036-B236-3F9A9DA6803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5676840" y="2214720"/>
            <a:ext cx="33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16002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2569320" y="6238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78920" y="1528920"/>
            <a:ext cx="8713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 , termed </a:t>
            </a:r>
            <a:r>
              <a:rPr b="1" lang="en-US" sz="3200" spc="-1" strike="noStrike">
                <a:solidFill>
                  <a:srgbClr val="800000"/>
                </a:solidFill>
                <a:latin typeface="Century Schoolbook"/>
              </a:rPr>
              <a:t>“high ceiling diuretic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Efficac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Bumetanide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Potency40 ,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12T05:57:03Z</dcterms:modified>
  <cp:revision>255</cp:revision>
  <dc:subject/>
  <dc:title>DIURETICS</dc:title>
</cp:coreProperties>
</file>