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22C6-6EA8-40DC-AC22-57756A7A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5B80-6B17-4A54-B6BF-E97DBD28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DEC-F170-45D2-9BB4-3E709511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9C62-92F2-4061-AA13-9918BCC6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BDE3-1B84-4633-89AC-E41FBA297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76BD-622F-40F6-9339-6B20F76B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58AA-5276-4493-B4C1-80B74430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828F-0557-4A4F-9936-3D639D0D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D757-6D12-4097-A075-500A7B6F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5F17-13B2-4901-9D00-74580E25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7DA0-3F8F-4977-A4A2-10DBA4A8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3A0-89A8-4EBC-BA4C-3055EC9C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E1A1-2430-44B5-82AA-56592033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2FC3-15C3-4F6F-917F-6BD3CCD5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4D19-AB68-4F88-89F0-F2908CD1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AE3C-AA59-48EA-BC9E-0424F848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2FCC-3B54-474B-806E-F81C9665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39928-12DD-4219-899B-FBB7E699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B9F015-8250-4663-961F-B097DA52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5E85A4-CE43-45FA-912F-F60BFBC0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9F4372-1285-4C68-A2AE-0FD0D49C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004DD-15CC-443D-B045-A2F20C46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E240-4567-4F14-8992-19B378BC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3690FB-A7FA-4726-856F-43A67438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0260C4-24BB-4584-8020-CE9EEAA7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2547F2-9E3C-4C36-95A1-FEFDE1FE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F3D17-3AEC-4579-8ED7-96387FB4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CF94ED-5B7A-4B0D-A15E-6CD16C18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FEFD6-7511-4EC3-A577-EF445C64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19A5A-CAE2-4F56-BA95-2C1D5830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B9E59-1B17-41AE-BA26-F038525F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7147D-5DA2-49E5-8ACB-9A14F4D7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E4062-42D8-44BA-8EB4-4708A61D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3A22-30E5-4EC8-AAE6-8F7E0C94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2B5FF-C19E-40DD-9A30-7BA8ECA9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C33CC-37D0-4F9C-87BE-15A42374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27691-C8D4-4B39-AF85-26ECA1A6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4CF5A-E039-4732-9760-4C11E867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BD8D1-6002-4A5D-ADC5-6874518F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97944-978D-4A00-A10B-8A718823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C7C13-4900-4CED-9D2D-1EBEB510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4AC2A-EB5D-4419-9EBA-36AAACE2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7D560-35E4-4880-ABBB-14571A8B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034424-DF71-4655-B988-BC9D357D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9F2-40DD-4D02-93FA-06014330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7F4096-D132-4ADB-9D6F-430171C0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313B28-EC29-4A42-9BAF-86FBC72F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8BBE1C-334D-47E6-AED9-A7EDF201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E9978E-4F65-464E-9599-3B45D58F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E3E15C-7AD8-4E4D-B0CA-1954BA26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32D18F-E10A-4641-BF05-581D6933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6379EB-C7F0-4B0B-AF22-C0F3CB89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E945F2-EBA1-4679-B811-3AAC6E89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9A9C92-1115-4C21-B2DD-8F84AD67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4AC6A2-FE0F-4CF4-92E5-491AF788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2E3C-53A0-4274-9265-C414E351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E6BF6A-7A67-491A-A022-7E8B55BB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16AA6F-4FD8-40FF-AE75-08DDEF7D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2BDF4D-8D9B-42CE-8C1B-5817EC73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FEB0AB-771D-4BF2-8ED2-79B8D72E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C61304-BC24-4D99-8A22-83A00CB7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3F761D-9F66-4DC8-A501-45E3CA10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A60C30-FC3D-4360-A9E5-37FC7353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AA6739-FCF0-4961-93BE-3AE6C58F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203DD9-37C2-44C2-A4D9-760596C0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ABE16C-4CE0-4040-88E8-36EC8810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48B3-FADD-4EA7-B98A-5BDB3C15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24A7C4-3064-4F7C-8D30-7D9FBF07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82DA7F-C13A-4541-9543-DF80D82B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6008A5-1AC8-4AE8-88D5-12C0D576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74B88E-F5E8-4FEE-BCC1-20CA551F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077D38-537C-483F-A088-87AF81B4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83C939-BF90-4D1A-BA11-2767321D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A54A75-6161-40A6-B803-BDE84E05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211F82-46CB-48FA-9B06-9AE35808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0F897B-510B-467C-881E-EE550A57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AAA178-44C6-446E-B525-9FB33958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58F2-9ED4-43E2-873D-8785AF8D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AAB81E-E992-46E7-AC32-5C815177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53719D-B8D4-4D6D-B1C3-1510F366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A3B29B-C4C4-41A3-B03F-4A17A603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3A2630-4993-44DD-A893-890AF178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8CC52B-EDBE-4265-AECC-0813E625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2CCB-E13C-4AAA-B925-722BA269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85A4-8327-4C57-9846-EF3A2A97AEB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رابط مستقيم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شكل بيضاوي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شكل بيضاوي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شكل بيضاوي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شكل بيضاوي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شكل بيضاوي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F9C1-FBDF-41F3-A143-2D1F1115B08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A256-F68E-45F8-A2CC-2322D25994A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مستطيل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شكل بيضاوي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شكل بيضاوي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شكل بيضاوي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شكل بيضاوي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شكل بيضاوي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رابط مستقيم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7F18-AC75-4B45-BF3A-ED75B5AF672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208E-C46C-454C-B39E-C10E64D1CE36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رابط مستقيم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رابط مستقيم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رابط مستقيم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مستطيل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رابط مستقيم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شكل بيضاوي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64D5-544D-4707-BBBC-8DF2111F3DC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شكل بيضاوي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رابط مستقيم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مستطيل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رابط مستقيم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رابط مستقيم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رابط مستقيم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493F-426E-446B-8848-F26FDBDFBF6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DIURETICS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285920" y="1714680"/>
            <a:ext cx="6415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Hanan Haga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logy Uni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17" descr="1101"/>
          <p:cNvPicPr/>
          <p:nvPr/>
        </p:nvPicPr>
        <p:blipFill>
          <a:blip r:embed="rId1"/>
          <a:stretch/>
        </p:blipFill>
        <p:spPr>
          <a:xfrm>
            <a:off x="2428920" y="3143160"/>
            <a:ext cx="578628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77104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Uses: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79280" y="999720"/>
            <a:ext cx="878544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800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Treatment of essential hypertension </a:t>
            </a:r>
            <a:r>
              <a:rPr b="1" i="1" lang="en-US" sz="3400" spc="-1" strike="noStrike">
                <a:solidFill>
                  <a:srgbClr val="c00000"/>
                </a:solidFill>
                <a:latin typeface="Century Schoolbook"/>
              </a:rPr>
              <a:t>(cheap-well tolerated)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800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Treatment of mild heart failure </a:t>
            </a:r>
            <a:r>
              <a:rPr b="1" i="1" lang="en-US" sz="3400" spc="-1" strike="noStrike">
                <a:solidFill>
                  <a:srgbClr val="c00000"/>
                </a:solidFill>
                <a:latin typeface="Century Schoolbook"/>
              </a:rPr>
              <a:t>(to reduce extracellular volume)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800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9246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Uses: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79280" y="928440"/>
            <a:ext cx="8785440" cy="57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5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Calcium nephrolithiasis due to hypercalciuria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3300" spc="-1" strike="noStrike">
                <a:solidFill>
                  <a:srgbClr val="c00000"/>
                </a:solidFill>
                <a:latin typeface="Century Schoolbook"/>
              </a:rPr>
              <a:t>(to increase calcium re-absorption and decrease renal calcium stones)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Nephrogenic diabetes insipidus </a:t>
            </a:r>
            <a:r>
              <a:rPr b="1" i="1" lang="en-US" sz="3400" spc="-1" strike="noStrike">
                <a:solidFill>
                  <a:srgbClr val="c00000"/>
                </a:solidFill>
                <a:latin typeface="Century Schoolbook"/>
              </a:rPr>
              <a:t>(decrease blood volume and GFR)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AutoShape 8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10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Box 6"/>
          <p:cNvSpPr/>
          <p:nvPr/>
        </p:nvSpPr>
        <p:spPr>
          <a:xfrm>
            <a:off x="685800" y="762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az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Down Arrow 7"/>
          <p:cNvSpPr/>
          <p:nvPr/>
        </p:nvSpPr>
        <p:spPr>
          <a:xfrm>
            <a:off x="1447920" y="1371600"/>
            <a:ext cx="304560" cy="76212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Box 8"/>
          <p:cNvSpPr/>
          <p:nvPr/>
        </p:nvSpPr>
        <p:spPr>
          <a:xfrm>
            <a:off x="380880" y="25146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l tubular Na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Box 10"/>
          <p:cNvSpPr/>
          <p:nvPr/>
        </p:nvSpPr>
        <p:spPr>
          <a:xfrm>
            <a:off x="685800" y="39625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inary ex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Down Arrow 11"/>
          <p:cNvSpPr/>
          <p:nvPr/>
        </p:nvSpPr>
        <p:spPr>
          <a:xfrm>
            <a:off x="1447920" y="3276720"/>
            <a:ext cx="304560" cy="6858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Up Arrow 12"/>
          <p:cNvSpPr/>
          <p:nvPr/>
        </p:nvSpPr>
        <p:spPr>
          <a:xfrm>
            <a:off x="533520" y="4267080"/>
            <a:ext cx="152280" cy="457200"/>
          </a:xfrm>
          <a:prstGeom prst="upArrow">
            <a:avLst>
              <a:gd name="adj1" fmla="val 50000"/>
              <a:gd name="adj2" fmla="val 50039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3809880" y="579132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cellular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Bent-Up Arrow 19"/>
          <p:cNvSpPr/>
          <p:nvPr/>
        </p:nvSpPr>
        <p:spPr>
          <a:xfrm>
            <a:off x="5791320" y="5562720"/>
            <a:ext cx="1752480" cy="685800"/>
          </a:xfrm>
          <a:custGeom>
            <a:avLst/>
            <a:gdLst>
              <a:gd name="textAreaLeft" fmla="*/ 0 w 1752480"/>
              <a:gd name="textAreaRight" fmla="*/ 1666800 w 1752480"/>
              <a:gd name="textAreaTop" fmla="*/ 514440 h 685800"/>
              <a:gd name="textAreaBottom" fmla="*/ 686160 h 685800"/>
            </a:gdLst>
            <a:ahLst/>
            <a:rect l="textAreaLeft" t="textAreaTop" r="textAreaRight" b="textAreaBottom"/>
            <a:pathLst>
              <a:path w="1752600" h="685800">
                <a:moveTo>
                  <a:pt x="0" y="514350"/>
                </a:moveTo>
                <a:lnTo>
                  <a:pt x="1495425" y="514350"/>
                </a:lnTo>
                <a:lnTo>
                  <a:pt x="1495425" y="171450"/>
                </a:lnTo>
                <a:lnTo>
                  <a:pt x="1409700" y="171450"/>
                </a:lnTo>
                <a:lnTo>
                  <a:pt x="1581150" y="0"/>
                </a:lnTo>
                <a:lnTo>
                  <a:pt x="1752600" y="171450"/>
                </a:lnTo>
                <a:lnTo>
                  <a:pt x="1666875" y="171450"/>
                </a:lnTo>
                <a:lnTo>
                  <a:pt x="1666875" y="685800"/>
                </a:lnTo>
                <a:lnTo>
                  <a:pt x="0" y="685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-Shape 23"/>
          <p:cNvSpPr/>
          <p:nvPr/>
        </p:nvSpPr>
        <p:spPr>
          <a:xfrm>
            <a:off x="1600200" y="5257800"/>
            <a:ext cx="304920" cy="1066680"/>
          </a:xfrm>
          <a:custGeom>
            <a:avLst/>
            <a:gdLst>
              <a:gd name="textAreaLeft" fmla="*/ 0 w 304920"/>
              <a:gd name="textAreaRight" fmla="*/ 152640 w 3049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304800" h="1066800">
                <a:moveTo>
                  <a:pt x="0" y="0"/>
                </a:moveTo>
                <a:lnTo>
                  <a:pt x="152400" y="0"/>
                </a:lnTo>
                <a:lnTo>
                  <a:pt x="152400" y="914400"/>
                </a:lnTo>
                <a:lnTo>
                  <a:pt x="304800" y="914400"/>
                </a:lnTo>
                <a:lnTo>
                  <a:pt x="3048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ight Arrow 24"/>
          <p:cNvSpPr/>
          <p:nvPr/>
        </p:nvSpPr>
        <p:spPr>
          <a:xfrm>
            <a:off x="1905120" y="6095880"/>
            <a:ext cx="1295280" cy="30492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26"/>
          <p:cNvSpPr/>
          <p:nvPr/>
        </p:nvSpPr>
        <p:spPr>
          <a:xfrm>
            <a:off x="5791320" y="41148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imal  Na+ &amp; Water reabsor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Up Arrow 27"/>
          <p:cNvSpPr/>
          <p:nvPr/>
        </p:nvSpPr>
        <p:spPr>
          <a:xfrm>
            <a:off x="5486400" y="4343400"/>
            <a:ext cx="152280" cy="533520"/>
          </a:xfrm>
          <a:prstGeom prst="upArrow">
            <a:avLst>
              <a:gd name="adj1" fmla="val 50000"/>
              <a:gd name="adj2" fmla="val 50055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Box 28"/>
          <p:cNvSpPr/>
          <p:nvPr/>
        </p:nvSpPr>
        <p:spPr>
          <a:xfrm>
            <a:off x="5562720" y="24382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l delivery of Na+ &amp;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Box 29"/>
          <p:cNvSpPr/>
          <p:nvPr/>
        </p:nvSpPr>
        <p:spPr>
          <a:xfrm>
            <a:off x="5562720" y="9144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in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Down Arrow 30"/>
          <p:cNvSpPr/>
          <p:nvPr/>
        </p:nvSpPr>
        <p:spPr>
          <a:xfrm>
            <a:off x="5429160" y="928800"/>
            <a:ext cx="95400" cy="65232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Down Arrow 31"/>
          <p:cNvSpPr/>
          <p:nvPr/>
        </p:nvSpPr>
        <p:spPr>
          <a:xfrm>
            <a:off x="5410080" y="2590920"/>
            <a:ext cx="152640" cy="533160"/>
          </a:xfrm>
          <a:prstGeom prst="downArrow">
            <a:avLst>
              <a:gd name="adj1" fmla="val 50000"/>
              <a:gd name="adj2" fmla="val 49903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Up Arrow 32"/>
          <p:cNvSpPr/>
          <p:nvPr/>
        </p:nvSpPr>
        <p:spPr>
          <a:xfrm>
            <a:off x="7010280" y="3276720"/>
            <a:ext cx="457200" cy="83808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Up Arrow 33"/>
          <p:cNvSpPr/>
          <p:nvPr/>
        </p:nvSpPr>
        <p:spPr>
          <a:xfrm>
            <a:off x="7010280" y="1447920"/>
            <a:ext cx="381240" cy="838080"/>
          </a:xfrm>
          <a:prstGeom prst="upArrow">
            <a:avLst>
              <a:gd name="adj1" fmla="val 50000"/>
              <a:gd name="adj2" fmla="val 4996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Down Arrow 34"/>
          <p:cNvSpPr/>
          <p:nvPr/>
        </p:nvSpPr>
        <p:spPr>
          <a:xfrm>
            <a:off x="3505320" y="5867280"/>
            <a:ext cx="304560" cy="6858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12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37"/>
          <p:cNvSpPr/>
          <p:nvPr/>
        </p:nvSpPr>
        <p:spPr>
          <a:xfrm>
            <a:off x="0" y="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68c4"/>
                </a:solidFill>
                <a:latin typeface="Times New Roman"/>
              </a:rPr>
              <a:t>Mechanism of antidiuretic effect of thiazide in diabetes insipid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Down Arrow 35"/>
          <p:cNvSpPr/>
          <p:nvPr/>
        </p:nvSpPr>
        <p:spPr>
          <a:xfrm>
            <a:off x="457200" y="2743200"/>
            <a:ext cx="152280" cy="4572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7598d9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475272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Adverse effect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78920" y="928800"/>
            <a:ext cx="87138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Fluid and electrolyte imbalance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onatremi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ovolemia (volume depletion)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okalemi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Metabolic alkalosis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eruricaemia (gout)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ercalcemia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erglycaemi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erlipidemi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Object 2"/>
          <p:cNvGraphicFramePr/>
          <p:nvPr/>
        </p:nvGraphicFramePr>
        <p:xfrm>
          <a:off x="3657600" y="1981080"/>
          <a:ext cx="238752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981080"/>
                    <a:ext cx="2387520" cy="3092400"/>
                  </a:xfrm>
                  <a:prstGeom prst="rect">
                    <a:avLst/>
                  </a:prstGeom>
                  <a:ln w="50760">
                    <a:solidFill>
                      <a:srgbClr val="dadad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7721640" cy="642960"/>
          </a:xfrm>
          <a:prstGeom prst="rect">
            <a:avLst/>
          </a:prstGeom>
          <a:solidFill>
            <a:srgbClr val="500093"/>
          </a:solidFill>
          <a:ln w="50760">
            <a:solidFill>
              <a:srgbClr val="ef91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49f7"/>
                </a:solidFill>
                <a:latin typeface="Century Schoolbook"/>
              </a:rPr>
              <a:t>ADVERSE EFFEC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Oval 4"/>
          <p:cNvSpPr/>
          <p:nvPr/>
        </p:nvSpPr>
        <p:spPr>
          <a:xfrm>
            <a:off x="785880" y="4214880"/>
            <a:ext cx="2428920" cy="608040"/>
          </a:xfrm>
          <a:prstGeom prst="ellipse">
            <a:avLst/>
          </a:prstGeom>
          <a:solidFill>
            <a:srgbClr val="c0fef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omagnesa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5"/>
          <p:cNvSpPr/>
          <p:nvPr/>
        </p:nvSpPr>
        <p:spPr>
          <a:xfrm>
            <a:off x="6215040" y="1143000"/>
            <a:ext cx="2571840" cy="787320"/>
          </a:xfrm>
          <a:prstGeom prst="ellipse">
            <a:avLst/>
          </a:prstGeom>
          <a:solidFill>
            <a:srgbClr val="fafd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tabo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kal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6"/>
          <p:cNvSpPr/>
          <p:nvPr/>
        </p:nvSpPr>
        <p:spPr>
          <a:xfrm>
            <a:off x="857160" y="2357280"/>
            <a:ext cx="2235240" cy="787680"/>
          </a:xfrm>
          <a:prstGeom prst="ellipse">
            <a:avLst/>
          </a:prstGeom>
          <a:solidFill>
            <a:srgbClr val="ef9100"/>
          </a:solidFill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93"/>
                </a:solidFill>
                <a:latin typeface="Times New Roman"/>
              </a:rPr>
              <a:t>Hypokal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7"/>
          <p:cNvSpPr/>
          <p:nvPr/>
        </p:nvSpPr>
        <p:spPr>
          <a:xfrm>
            <a:off x="857160" y="1285920"/>
            <a:ext cx="2584440" cy="82692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8"/>
          <p:cNvSpPr/>
          <p:nvPr/>
        </p:nvSpPr>
        <p:spPr>
          <a:xfrm>
            <a:off x="6143760" y="4427640"/>
            <a:ext cx="2538360" cy="716040"/>
          </a:xfrm>
          <a:prstGeom prst="ellipse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ergly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9"/>
          <p:cNvSpPr/>
          <p:nvPr/>
        </p:nvSpPr>
        <p:spPr>
          <a:xfrm>
            <a:off x="6215040" y="3214800"/>
            <a:ext cx="2235240" cy="857160"/>
          </a:xfrm>
          <a:prstGeom prst="ellipse">
            <a:avLst/>
          </a:prstGeom>
          <a:solidFill>
            <a:srgbClr val="fafd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yperuri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11"/>
          <p:cNvSpPr/>
          <p:nvPr/>
        </p:nvSpPr>
        <p:spPr>
          <a:xfrm>
            <a:off x="857160" y="3357720"/>
            <a:ext cx="2235240" cy="57276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ocalca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7"/>
          <p:cNvSpPr/>
          <p:nvPr/>
        </p:nvSpPr>
        <p:spPr>
          <a:xfrm>
            <a:off x="3214800" y="5500800"/>
            <a:ext cx="2584440" cy="82692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erlipid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Object 2"/>
          <p:cNvGraphicFramePr/>
          <p:nvPr/>
        </p:nvGraphicFramePr>
        <p:xfrm>
          <a:off x="685800" y="1066680"/>
          <a:ext cx="7381800" cy="553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381800" cy="55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Line 7"/>
          <p:cNvSpPr/>
          <p:nvPr/>
        </p:nvSpPr>
        <p:spPr>
          <a:xfrm>
            <a:off x="7338960" y="3740040"/>
            <a:ext cx="590760" cy="46080"/>
          </a:xfrm>
          <a:prstGeom prst="line">
            <a:avLst/>
          </a:prstGeom>
          <a:ln w="25560">
            <a:solidFill>
              <a:srgbClr val="0000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0"/>
          <p:cNvSpPr/>
          <p:nvPr/>
        </p:nvSpPr>
        <p:spPr>
          <a:xfrm>
            <a:off x="8001000" y="3571920"/>
            <a:ext cx="676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1"/>
          <p:cNvSpPr/>
          <p:nvPr/>
        </p:nvSpPr>
        <p:spPr>
          <a:xfrm>
            <a:off x="5260320" y="304920"/>
            <a:ext cx="2809440" cy="155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ilo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mter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pironolac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2"/>
          <p:cNvSpPr/>
          <p:nvPr/>
        </p:nvSpPr>
        <p:spPr>
          <a:xfrm>
            <a:off x="4175280" y="4329000"/>
            <a:ext cx="0" cy="1600200"/>
          </a:xfrm>
          <a:prstGeom prst="line">
            <a:avLst/>
          </a:prstGeom>
          <a:ln w="1260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3"/>
          <p:cNvSpPr/>
          <p:nvPr/>
        </p:nvSpPr>
        <p:spPr>
          <a:xfrm>
            <a:off x="6994440" y="3262320"/>
            <a:ext cx="0" cy="762120"/>
          </a:xfrm>
          <a:prstGeom prst="line">
            <a:avLst/>
          </a:prstGeom>
          <a:ln w="1260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21"/>
          <p:cNvSpPr/>
          <p:nvPr/>
        </p:nvSpPr>
        <p:spPr>
          <a:xfrm>
            <a:off x="254880" y="228600"/>
            <a:ext cx="4708440" cy="1739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Potassium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sparing diuretic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25"/>
          <p:cNvSpPr/>
          <p:nvPr/>
        </p:nvSpPr>
        <p:spPr>
          <a:xfrm>
            <a:off x="5699160" y="476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3" descr=""/>
          <p:cNvPicPr/>
          <p:nvPr/>
        </p:nvPicPr>
        <p:blipFill>
          <a:blip r:embed="rId3"/>
          <a:stretch/>
        </p:blipFill>
        <p:spPr>
          <a:xfrm>
            <a:off x="214200" y="4143240"/>
            <a:ext cx="221472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1181160" y="533520"/>
            <a:ext cx="6849720" cy="76428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tassium-sparing diur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142920" y="4071960"/>
            <a:ext cx="4929120" cy="1069200"/>
          </a:xfrm>
          <a:prstGeom prst="rect">
            <a:avLst/>
          </a:prstGeom>
          <a:solidFill>
            <a:srgbClr val="ceb5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Aldosterone antagon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ironolac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248440" y="3936960"/>
            <a:ext cx="3538440" cy="2471040"/>
          </a:xfrm>
          <a:prstGeom prst="rect">
            <a:avLst/>
          </a:prstGeom>
          <a:solidFill>
            <a:srgbClr val="ceb5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Na</a:t>
            </a:r>
            <a:r>
              <a:rPr b="1" lang="en-US" sz="32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channels inhibi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ilor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iamter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7"/>
          <p:cNvSpPr/>
          <p:nvPr/>
        </p:nvSpPr>
        <p:spPr>
          <a:xfrm>
            <a:off x="6553080" y="1447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9"/>
          <p:cNvSpPr/>
          <p:nvPr/>
        </p:nvSpPr>
        <p:spPr>
          <a:xfrm>
            <a:off x="1828800" y="1447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1066680" y="2133720"/>
            <a:ext cx="2219400" cy="520560"/>
          </a:xfrm>
          <a:prstGeom prst="rect">
            <a:avLst/>
          </a:prstGeom>
          <a:solidFill>
            <a:srgbClr val="c8d6f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te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5286240" y="2057400"/>
            <a:ext cx="2500560" cy="520560"/>
          </a:xfrm>
          <a:prstGeom prst="rect">
            <a:avLst/>
          </a:prstGeom>
          <a:solidFill>
            <a:srgbClr val="c8d6f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onsre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763884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50560" y="1125000"/>
            <a:ext cx="849780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Act in collecting tubules and ducts by inhibiting Na re-absorption and K &amp; H excre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(K-sparing effect) by either: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hibition of Na influx through Na channels in the luminal membrane 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(triamterene – amiloride).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مستطيل 3"/>
          <p:cNvSpPr/>
          <p:nvPr/>
        </p:nvSpPr>
        <p:spPr>
          <a:xfrm>
            <a:off x="214200" y="7308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Mechanism of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763884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50560" y="1125000"/>
            <a:ext cx="849780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Spironolactone: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by antagonizing cytoplasmic aldosterone receptors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مستطيل 3"/>
          <p:cNvSpPr/>
          <p:nvPr/>
        </p:nvSpPr>
        <p:spPr>
          <a:xfrm>
            <a:off x="142920" y="71280"/>
            <a:ext cx="54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  <a:ea typeface="Arial"/>
              </a:rPr>
              <a:t>Mechanism of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COLLECTED TUBULES (CT)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214200" y="714240"/>
            <a:ext cx="842976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Thiazide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79280" y="1052280"/>
            <a:ext cx="885672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Drugs as: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Chlorothiazide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Hydrochlorothiazide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Chlorthalidone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Metolazone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dapamide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0096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70920" y="1052280"/>
            <a:ext cx="892980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Na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excretion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K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excre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Hyperkalemia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excre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(acidosis)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مستطيل 3"/>
          <p:cNvSpPr/>
          <p:nvPr/>
        </p:nvSpPr>
        <p:spPr>
          <a:xfrm>
            <a:off x="169920" y="18900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  <a:ea typeface="Arial"/>
              </a:rPr>
              <a:t>Pharmacodynamic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6"/>
          <p:cNvSpPr/>
          <p:nvPr/>
        </p:nvSpPr>
        <p:spPr>
          <a:xfrm flipV="1">
            <a:off x="826920" y="1195200"/>
            <a:ext cx="0" cy="57780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7"/>
          <p:cNvSpPr/>
          <p:nvPr/>
        </p:nvSpPr>
        <p:spPr>
          <a:xfrm>
            <a:off x="826920" y="2781360"/>
            <a:ext cx="0" cy="647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8"/>
          <p:cNvSpPr/>
          <p:nvPr/>
        </p:nvSpPr>
        <p:spPr>
          <a:xfrm>
            <a:off x="826920" y="1916280"/>
            <a:ext cx="0" cy="647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77454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Therapeutic use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50920" y="836280"/>
            <a:ext cx="86421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Drug of choice for patients with   hepatic cirrhosis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Secondary hyperaldosteronism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Century Schoolbook"/>
              </a:rPr>
              <a:t>(CHF, hepatic cirrhosis, nephrotic syndrome)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Treatment of hypertension </a:t>
            </a:r>
            <a:r>
              <a:rPr b="1" lang="en-US" sz="3300" spc="-1" strike="noStrike">
                <a:solidFill>
                  <a:srgbClr val="0000ff"/>
                </a:solidFill>
                <a:latin typeface="Century Schoolbook"/>
              </a:rPr>
              <a:t>(combined with thiazide or loop diuretics to correct for hypokalemia)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4678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entury Schoolbook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Century Schoolbook"/>
              </a:rPr>
              <a:t>Adverse Effect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50560" y="1268280"/>
            <a:ext cx="8569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2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Hyperkalaemia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Metabolic acidosis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Gynaecomastia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GIT upset and peptic ulcer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Century Schoolbook"/>
              </a:rPr>
              <a:t>Contraindications:</a:t>
            </a:r>
            <a:endParaRPr b="0" lang="en-US" sz="3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250920" y="1643040"/>
            <a:ext cx="86421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Hyperkalaemia: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as in chronic renal failure, K+ supplementation, </a:t>
            </a:r>
            <a:r>
              <a:rPr b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-blockers or ACE inhibitors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liver disease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(dose adjustment is needed)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Therapeutic applications of diuretic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Treatment of hypertension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azide diuretic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used alone or in combination with beta-blockers at low-dose (fewer side effects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n presence of renal failure, loop diuretic is use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Edema State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Thiazide diuretic is used in mild edema with normal renal functi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Loop diuretics are used in cases with impaired renal func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178920" y="188640"/>
            <a:ext cx="849636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Congestive Heart failur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azides may be used in only mild cases with well-preserved renal functi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Loop diuretics are much preferred in severe cases especially when GF is lowere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n life-threatening acute pulmonary edema, furosemide is given IV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entury Schoolbook"/>
              </a:rPr>
              <a:t>Renal failur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hiazides are used till GFR ≥ 40-50 ml/mi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Loop diuretic are used below given values, with increasing the dose with as GFR goes down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entury Schoolbook"/>
              </a:rPr>
              <a:t>Diabetes inspidus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Large volume(&gt;10 L/day) of dilute urin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hiazide diuretics reduces urine volum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entury Schoolbook"/>
              </a:rPr>
              <a:t>Hepatic cirrhosis with ascite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Spironolactone is of choice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142920" y="142920"/>
          <a:ext cx="8858160" cy="6624720"/>
        </p:xfrm>
        <a:graphic>
          <a:graphicData uri="http://schemas.openxmlformats.org/drawingml/2006/table">
            <a:tbl>
              <a:tblPr/>
              <a:tblGrid>
                <a:gridCol w="2660760"/>
                <a:gridCol w="2803320"/>
                <a:gridCol w="33940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echanism of 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 inhibi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Acetohexa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Dorzolamide</a:t>
                      </a: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Century Schoolbook"/>
                          <a:ea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hibition of NaHCO3 reabsorption  in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P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Na HCO3,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bolic acidos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motic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Mannit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motic effect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in P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e excr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ttle 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Furose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K/2Cl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transporter in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TAL the most eff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Na, K, Ca, 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azide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hydrochlorothiaz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and Cl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transporter in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Na, K, M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U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urinary Ca (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ypercalcemi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bolic 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6532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-sparing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Spironolactone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mpetitive antagonist of aldosterone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in C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↑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, H secr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bolic acid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179280" y="189000"/>
          <a:ext cx="8666280" cy="6561000"/>
        </p:xfrm>
        <a:graphic>
          <a:graphicData uri="http://schemas.openxmlformats.org/drawingml/2006/table">
            <a:tbl>
              <a:tblPr/>
              <a:tblGrid>
                <a:gridCol w="3184560"/>
                <a:gridCol w="5481720"/>
              </a:tblGrid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Uses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 inhibi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Acetohexa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Dorzolamide</a:t>
                      </a: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Century Schoolbook"/>
                          <a:ea typeface="Arial"/>
                        </a:rPr>
                        <a:t>  (topically) for glauco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Glaucoma, epilep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ountain sick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hosphat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motic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Mannit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erebral edema, glauc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ute renal failure, drug toxic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614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Furose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ute pulmonary edema </a:t>
                      </a: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(Drug of choi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art fail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erkalemia, Hypercalc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azide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hydrochlorothiaz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Commonly 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ertension, mild heart failure, nephrolithiasis, diabetes inspid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-sparing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Spironolactone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patic cirrh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(Drug of choi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"/>
          <p:cNvGraphicFramePr/>
          <p:nvPr/>
        </p:nvGraphicFramePr>
        <p:xfrm>
          <a:off x="214200" y="142920"/>
          <a:ext cx="8715600" cy="6643800"/>
        </p:xfrm>
        <a:graphic>
          <a:graphicData uri="http://schemas.openxmlformats.org/drawingml/2006/table">
            <a:tbl>
              <a:tblPr/>
              <a:tblGrid>
                <a:gridCol w="2573280"/>
                <a:gridCol w="6142320"/>
              </a:tblGrid>
              <a:tr h="563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Side e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 inhibi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etohexa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rzolamide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etabolic acidosis , Urinary 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kal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motic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nnit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xtracellular water expan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hyd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Hypernatr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13330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urose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kalemia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volemia, hyponatremia, hypomagnesemia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calc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ecipitate gout,  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131580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azide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drochlorothiaz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kalemia, hyponatremia, hypovolemia, hypomagnesemia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ercalc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kalosis, precipitate g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erlipidemia, hyperglyc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154044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-sparing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pironolacton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Gynaecomast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Hyperkalaemi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, Metabolic acidos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GIT upset and peptic ul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21280" cy="571320"/>
          </a:xfrm>
          <a:prstGeom prst="rect">
            <a:avLst/>
          </a:prstGeom>
          <a:solidFill>
            <a:srgbClr val="081d58"/>
          </a:solidFill>
          <a:ln w="50760">
            <a:solidFill>
              <a:srgbClr val="ef91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9100"/>
                </a:solidFill>
                <a:latin typeface="Century Schoolbook"/>
              </a:rPr>
              <a:t>THIAZIDE DIURETIC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Oval 4"/>
          <p:cNvSpPr/>
          <p:nvPr/>
        </p:nvSpPr>
        <p:spPr>
          <a:xfrm>
            <a:off x="5429160" y="1285920"/>
            <a:ext cx="3286080" cy="1219320"/>
          </a:xfrm>
          <a:prstGeom prst="ellipse">
            <a:avLst/>
          </a:prstGeom>
          <a:solidFill>
            <a:srgbClr val="c0fef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lorthali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tency 10, t½ 26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5"/>
          <p:cNvSpPr/>
          <p:nvPr/>
        </p:nvSpPr>
        <p:spPr>
          <a:xfrm>
            <a:off x="2857680" y="2786040"/>
            <a:ext cx="3500280" cy="1143000"/>
          </a:xfrm>
          <a:prstGeom prst="ellipse">
            <a:avLst/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Metolaz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otency 5, t½ 5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6"/>
          <p:cNvSpPr/>
          <p:nvPr/>
        </p:nvSpPr>
        <p:spPr>
          <a:xfrm>
            <a:off x="285840" y="1428840"/>
            <a:ext cx="2921040" cy="1371600"/>
          </a:xfrm>
          <a:prstGeom prst="ellipse">
            <a:avLst/>
          </a:prstGeom>
          <a:solidFill>
            <a:srgbClr val="ef9100"/>
          </a:solidFill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0093"/>
                </a:solidFill>
                <a:latin typeface="Times New Roman"/>
              </a:rPr>
              <a:t>Chlorothiaz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93"/>
                </a:solidFill>
                <a:latin typeface="Times New Roman"/>
              </a:rPr>
              <a:t>Potency 0.1, t½ 2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7"/>
          <p:cNvSpPr/>
          <p:nvPr/>
        </p:nvSpPr>
        <p:spPr>
          <a:xfrm>
            <a:off x="0" y="3929040"/>
            <a:ext cx="3962520" cy="1143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ydrochlorothiaz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otency 1 , t½  3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5"/>
          <p:cNvSpPr/>
          <p:nvPr/>
        </p:nvSpPr>
        <p:spPr>
          <a:xfrm>
            <a:off x="5072040" y="4429080"/>
            <a:ext cx="3571920" cy="1143000"/>
          </a:xfrm>
          <a:prstGeom prst="ellipse">
            <a:avLst/>
          </a:prstGeom>
          <a:solidFill>
            <a:srgbClr val="eb6e5a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Indapa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otency 20, t½ 16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Thiazide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79280" y="1052280"/>
            <a:ext cx="885672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Mechanism of action: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acts via  inhibition of Na/Cl            co-transporter on the luminal membrane of distal convoluted tubules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Efficacy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Moderate natriuresis (5-10% of filtered  load of sodium is reabsorbed)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23"/>
          <p:cNvPicPr/>
          <p:nvPr/>
        </p:nvPicPr>
        <p:blipFill>
          <a:blip r:embed="rId1"/>
          <a:srcRect l="2874" t="9310" r="0" b="12414"/>
          <a:stretch/>
        </p:blipFill>
        <p:spPr>
          <a:xfrm>
            <a:off x="36360" y="27000"/>
            <a:ext cx="9072720" cy="678672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5"/>
          <p:cNvSpPr/>
          <p:nvPr/>
        </p:nvSpPr>
        <p:spPr>
          <a:xfrm>
            <a:off x="34920" y="77760"/>
            <a:ext cx="4897440" cy="6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istal convoluted tubu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 of thiazide diuretic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142920" y="836640"/>
            <a:ext cx="88581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78920" y="260280"/>
            <a:ext cx="871380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Pharmacokinetics: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Given orally, slow of onset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long duration of action (40 h)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are secreted by active tubular secretory system of the kidney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may interfere with uric acid secretion and cause </a:t>
            </a:r>
            <a:r>
              <a:rPr b="1" i="1" lang="en-US" sz="3400" spc="-1" strike="noStrike">
                <a:solidFill>
                  <a:srgbClr val="ff0000"/>
                </a:solidFill>
                <a:latin typeface="Century Schoolbook"/>
              </a:rPr>
              <a:t>hyperuricemia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74674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Pharmacological effects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0" y="836640"/>
            <a:ext cx="9036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NaCl excretion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K excre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(Hypokalemia)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magnesium excretion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Century Schoolbook"/>
              </a:rPr>
              <a:t>urinary calcium excretion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calcium re-absorp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hypercalcemia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Line 6"/>
          <p:cNvSpPr/>
          <p:nvPr/>
        </p:nvSpPr>
        <p:spPr>
          <a:xfrm flipV="1">
            <a:off x="285840" y="836640"/>
            <a:ext cx="0" cy="50472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7"/>
          <p:cNvSpPr/>
          <p:nvPr/>
        </p:nvSpPr>
        <p:spPr>
          <a:xfrm flipV="1">
            <a:off x="285840" y="1557360"/>
            <a:ext cx="0" cy="50472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8"/>
          <p:cNvSpPr/>
          <p:nvPr/>
        </p:nvSpPr>
        <p:spPr>
          <a:xfrm flipV="1">
            <a:off x="285840" y="2424240"/>
            <a:ext cx="0" cy="50472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9"/>
          <p:cNvSpPr/>
          <p:nvPr/>
        </p:nvSpPr>
        <p:spPr>
          <a:xfrm flipV="1">
            <a:off x="285840" y="4138560"/>
            <a:ext cx="0" cy="50472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3"/>
          <p:cNvSpPr/>
          <p:nvPr/>
        </p:nvSpPr>
        <p:spPr>
          <a:xfrm>
            <a:off x="285840" y="3281400"/>
            <a:ext cx="0" cy="5047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74674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Thiazide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1">
            <a:alphaModFix amt="39000"/>
          </a:blip>
          <a:stretch/>
        </p:blipFill>
        <p:spPr>
          <a:xfrm>
            <a:off x="324000" y="765000"/>
            <a:ext cx="8351640" cy="5832720"/>
          </a:xfrm>
          <a:prstGeom prst="rect">
            <a:avLst/>
          </a:prstGeom>
          <a:ln w="9360">
            <a:solidFill>
              <a:srgbClr val="fe8637">
                <a:alpha val="59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3:55:58Z</dcterms:created>
  <dc:creator>administrator</dc:creator>
  <dc:description/>
  <dc:language>en-US</dc:language>
  <cp:lastModifiedBy>dr.abdullatif</cp:lastModifiedBy>
  <dcterms:modified xsi:type="dcterms:W3CDTF">2016-04-12T05:55:25Z</dcterms:modified>
  <cp:revision>232</cp:revision>
  <dc:subject/>
  <dc:title>DIURETICS</dc:title>
</cp:coreProperties>
</file>