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63A-FD89-4976-9A8C-09F2062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580-BF04-4DD1-B050-6C6922F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3A7-2961-4A06-8BAB-59339FD9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FA6-FCE4-4CF3-A4FA-DDFFD50E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6159-96AB-4711-8653-B00D1267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1FF-03C7-408A-9A01-8121D8ED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0C15-879C-4C69-939D-9689A03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E65-ACF1-4EE5-A330-FD15C0AA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E935-E207-4146-8DA9-CAEB5ECB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05AF-B141-4545-B0CA-DFAF22BF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4B2-8340-42F4-B982-621F11C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1EF-71F3-4E85-B033-ADA47E18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DA90-E111-4F74-96E0-CD52A1B5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122F-EAD6-4280-86B7-043B512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29DB-103B-4267-91C3-1C86BAC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BD15-9FE2-45D4-8B08-697BA630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388B-E930-44F8-BE2D-4DE5DA5F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755AE-E2EE-40C2-8CB0-CB4BDBA2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8CD23-00DE-4EC0-8DE7-8E48F45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64E4E-BB1C-47B3-A15D-C0F7BC1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1CEA7-1206-4673-AB47-A78D76A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40152-0D47-4546-8813-ED2F90F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40E-432A-4F3B-BB01-152E7240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CD064-33FD-4D6F-A927-BC7F374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4A238-7970-46A3-A705-461E5AA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8FA71-2DBF-42BF-9554-068F81B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6544D-C52C-49DA-B87E-94C1963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209A9-F57B-4C76-9932-2A1E9E91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CDBEC-4127-4D10-873D-0897ABA3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7381B-B7C3-4FAF-916B-F810A627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A61B-6840-49A8-9F80-C94A373E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B7B9-6E1C-4DA9-807F-ECF0F6B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9D83-09DF-4228-9903-4A1B86DE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F70-1C4F-4930-AC13-7BAA06E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BEE9-47A2-499C-A308-4D67C8D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4CA7-D01A-47E7-B7BC-5716089A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5E20-3167-4029-84C5-4B0FBF18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3737-EBDD-483E-B0F6-3D3A5BE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548C-F7AD-4962-9FCB-3B78F2F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E83A-0147-4B3C-8007-BCEF333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8E85-D687-49A2-BA5B-97E5514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A0D2-4E8E-482F-9C61-F5CD396D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106F-3808-4B2A-8D1C-DA50597A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39D3A-B88C-4441-8DA0-391C9982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2BD-41F1-4730-8381-740A20C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4C917-2D18-49AA-BDFE-80BCBCC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69E69-1992-4228-ABB9-45CB4AE2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AB141-ECAC-4778-9E0B-5F8FA1C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FFA24-7878-44FE-8758-59F6380D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35938-3EB2-418F-92C0-421D348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E21BE-5C14-4267-AA5B-D223689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431B1-8077-455E-9A5A-A4082DD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304CE-8FD4-4802-A9D4-A76DD7B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8EAAD-924C-4363-84AB-D1345410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AFEB8-2084-43CB-B20F-A3039CF5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206-2758-4A5C-959B-2582CD3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93892-2A48-4331-929D-090A1CFF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6EC81-5FCF-4728-9048-1EDAF2BD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B839C-2BEA-4352-9A58-2371A13F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433CE-0F4C-4901-86A6-24D70B4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C5952-21A3-49BE-8DA4-7B37CDF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ACE31-6F43-4CAD-8997-7928A0A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A8F1C-F2CC-456A-A935-9770395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3EAA9-A162-44AB-93C5-0FF3F4B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F4E3E-B0FA-4320-827F-69C9A48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98D43-1C2F-4905-9785-F98971A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0DC-136D-40A0-8A21-436CA71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F794C-E31B-4EB2-B0AE-B379963E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092A8-E248-45BF-ABCF-2F65CFDC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43551-7692-46D2-8089-9CD4434B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E96C9-BE6C-4393-81E3-33D4DE98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BF80A-CAA8-4E56-AF4A-81679C8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AAB7F-C69B-4964-9F0C-D1999571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62FF9-942E-4B8D-AA59-72F1508C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23AAA-1F85-4DCA-B46D-00379A08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993CC-5C16-48CA-86D5-0A33A1C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1D16D-88A2-456A-9620-81EFCE66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3FC-6D08-4443-8A2E-70C1955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B90CB-04C4-4680-A2FE-2FA2D34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A082B-55CF-4760-BE4E-E36CA21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F7676-B35B-4691-8A71-F1E68344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B8AFC-A134-4900-887A-FA6DBA8F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AF0E6-48E3-4EBB-8013-2CF20D06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76F-DA3F-4E1B-93B0-B7BA3CB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CE3C-FDF6-4EB1-9A24-8F9C3F5C0B6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BA90-226C-4509-8354-1591DF2918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CAA1-5F59-4DED-8AFA-419D2EB69C7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55D-AFFC-4BE0-A0AA-AD2091FD050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E8E-EC1F-45D0-86FC-E6255A1B51B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6583-0BAD-4B93-A109-822F1DB179E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E5C-0A0A-4E8C-8205-14B0B394205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2428920" y="3143160"/>
            <a:ext cx="57862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710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essential hypertension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cheap-well tolerat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mild heart failure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to reduce extracellular volume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9280" y="928440"/>
            <a:ext cx="8785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Calcium nephrolithiasis due to hypercalciuria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300" spc="-1" strike="noStrike">
                <a:solidFill>
                  <a:srgbClr val="c00000"/>
                </a:solidFill>
                <a:latin typeface="Century Schoolbook"/>
              </a:rPr>
              <a:t>(to increase calcium re-absorption and decrease renal calcium stones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Nephrogenic diabetes insipidus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decrease blood volume and GFR)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8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6858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Down Arrow 7"/>
          <p:cNvSpPr/>
          <p:nvPr/>
        </p:nvSpPr>
        <p:spPr>
          <a:xfrm>
            <a:off x="1447920" y="1371600"/>
            <a:ext cx="30456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380880" y="2514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tubular N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68580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ary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Down Arrow 11"/>
          <p:cNvSpPr/>
          <p:nvPr/>
        </p:nvSpPr>
        <p:spPr>
          <a:xfrm>
            <a:off x="1447920" y="327672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Up Arrow 12"/>
          <p:cNvSpPr/>
          <p:nvPr/>
        </p:nvSpPr>
        <p:spPr>
          <a:xfrm>
            <a:off x="533520" y="4267080"/>
            <a:ext cx="15228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809880" y="57913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ellula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Bent-Up Arrow 19"/>
          <p:cNvSpPr/>
          <p:nvPr/>
        </p:nvSpPr>
        <p:spPr>
          <a:xfrm>
            <a:off x="5791320" y="5562720"/>
            <a:ext cx="1752480" cy="685800"/>
          </a:xfrm>
          <a:custGeom>
            <a:avLst/>
            <a:gdLst>
              <a:gd name="textAreaLeft" fmla="*/ 0 w 1752480"/>
              <a:gd name="textAreaRight" fmla="*/ 1666800 w 1752480"/>
              <a:gd name="textAreaTop" fmla="*/ 514440 h 685800"/>
              <a:gd name="textAreaBottom" fmla="*/ 686160 h 685800"/>
            </a:gdLst>
            <a:ahLst/>
            <a:rect l="textAreaLeft" t="textAreaTop" r="textAreaRight" b="textAreaBottom"/>
            <a:pathLst>
              <a:path w="1752600" h="685800">
                <a:moveTo>
                  <a:pt x="0" y="514350"/>
                </a:moveTo>
                <a:lnTo>
                  <a:pt x="1495425" y="514350"/>
                </a:lnTo>
                <a:lnTo>
                  <a:pt x="1495425" y="171450"/>
                </a:lnTo>
                <a:lnTo>
                  <a:pt x="1409700" y="171450"/>
                </a:lnTo>
                <a:lnTo>
                  <a:pt x="1581150" y="0"/>
                </a:lnTo>
                <a:lnTo>
                  <a:pt x="1752600" y="171450"/>
                </a:lnTo>
                <a:lnTo>
                  <a:pt x="1666875" y="171450"/>
                </a:lnTo>
                <a:lnTo>
                  <a:pt x="1666875" y="685800"/>
                </a:lnTo>
                <a:lnTo>
                  <a:pt x="0" y="685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-Shape 23"/>
          <p:cNvSpPr/>
          <p:nvPr/>
        </p:nvSpPr>
        <p:spPr>
          <a:xfrm>
            <a:off x="1600200" y="5257800"/>
            <a:ext cx="304920" cy="1066680"/>
          </a:xfrm>
          <a:custGeom>
            <a:avLst/>
            <a:gdLst>
              <a:gd name="textAreaLeft" fmla="*/ 0 w 304920"/>
              <a:gd name="textAreaRight" fmla="*/ 152640 w 3049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304800" h="1066800">
                <a:moveTo>
                  <a:pt x="0" y="0"/>
                </a:moveTo>
                <a:lnTo>
                  <a:pt x="152400" y="0"/>
                </a:lnTo>
                <a:lnTo>
                  <a:pt x="152400" y="914400"/>
                </a:lnTo>
                <a:lnTo>
                  <a:pt x="304800" y="914400"/>
                </a:lnTo>
                <a:lnTo>
                  <a:pt x="3048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ight Arrow 24"/>
          <p:cNvSpPr/>
          <p:nvPr/>
        </p:nvSpPr>
        <p:spPr>
          <a:xfrm>
            <a:off x="1905120" y="609588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5791320" y="4114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al  Na+ &amp; Water re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Up Arrow 27"/>
          <p:cNvSpPr/>
          <p:nvPr/>
        </p:nvSpPr>
        <p:spPr>
          <a:xfrm>
            <a:off x="5486400" y="4343400"/>
            <a:ext cx="152280" cy="53352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5562720" y="2438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delivery of Na+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562720" y="914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Down Arrow 30"/>
          <p:cNvSpPr/>
          <p:nvPr/>
        </p:nvSpPr>
        <p:spPr>
          <a:xfrm>
            <a:off x="5429160" y="928800"/>
            <a:ext cx="95400" cy="6523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Down Arrow 31"/>
          <p:cNvSpPr/>
          <p:nvPr/>
        </p:nvSpPr>
        <p:spPr>
          <a:xfrm>
            <a:off x="5410080" y="2590920"/>
            <a:ext cx="152640" cy="53316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Up Arrow 32"/>
          <p:cNvSpPr/>
          <p:nvPr/>
        </p:nvSpPr>
        <p:spPr>
          <a:xfrm>
            <a:off x="7010280" y="3276720"/>
            <a:ext cx="457200" cy="838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Up Arrow 33"/>
          <p:cNvSpPr/>
          <p:nvPr/>
        </p:nvSpPr>
        <p:spPr>
          <a:xfrm>
            <a:off x="7010280" y="1447920"/>
            <a:ext cx="381240" cy="83808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Down Arrow 34"/>
          <p:cNvSpPr/>
          <p:nvPr/>
        </p:nvSpPr>
        <p:spPr>
          <a:xfrm>
            <a:off x="3505320" y="586728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Times New Roman"/>
              </a:rPr>
              <a:t>Mechanism of antidiuretic effect of thiazide in diabetes insipi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Down Arrow 35"/>
          <p:cNvSpPr/>
          <p:nvPr/>
        </p:nvSpPr>
        <p:spPr>
          <a:xfrm>
            <a:off x="457200" y="27432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598d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dverse effect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78920" y="92880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Fluid and electrolyte imbalanc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natr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volemia (volume depletion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kal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uricaemia (gout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calcemia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glyca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lipid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"/>
          <p:cNvSpPr/>
          <p:nvPr/>
        </p:nvSpPr>
        <p:spPr>
          <a:xfrm>
            <a:off x="3214800" y="550080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685800" y="10666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Line 7"/>
          <p:cNvSpPr/>
          <p:nvPr/>
        </p:nvSpPr>
        <p:spPr>
          <a:xfrm>
            <a:off x="7338960" y="3740040"/>
            <a:ext cx="590760" cy="46080"/>
          </a:xfrm>
          <a:prstGeom prst="line">
            <a:avLst/>
          </a:prstGeom>
          <a:ln w="2556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8001000" y="3571920"/>
            <a:ext cx="67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5260320" y="304920"/>
            <a:ext cx="2809440" cy="155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ironolac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4175280" y="4329000"/>
            <a:ext cx="0" cy="160020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6994440" y="3262320"/>
            <a:ext cx="0" cy="76212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254880" y="228600"/>
            <a:ext cx="4708440" cy="1739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Potassium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sparing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6991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214200" y="4143240"/>
            <a:ext cx="2214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181160" y="533520"/>
            <a:ext cx="6849720" cy="76428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assium-sparing diur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42920" y="4071960"/>
            <a:ext cx="4929120" cy="106920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ldosterone antagon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248440" y="3936960"/>
            <a:ext cx="3538440" cy="247104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channels inhib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655308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182880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66680" y="2133720"/>
            <a:ext cx="221940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286240" y="2057400"/>
            <a:ext cx="250056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sr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 in collecting tubules and ducts by inhibiting Na re-absorption and K &amp; H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K-sparing effect) by either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ion of Na influx through Na channels in the luminal membrane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(triamterene – amiloride)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مستطيل 3"/>
          <p:cNvSpPr/>
          <p:nvPr/>
        </p:nvSpPr>
        <p:spPr>
          <a:xfrm>
            <a:off x="214200" y="730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pironolactone: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by antagonizing cytoplasmic aldosterone receptor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مستطيل 3"/>
          <p:cNvSpPr/>
          <p:nvPr/>
        </p:nvSpPr>
        <p:spPr>
          <a:xfrm>
            <a:off x="142920" y="71280"/>
            <a:ext cx="54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OLLECTED TUBULES (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ugs as: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othiaz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drochlorothiazid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thalidon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olazon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dap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009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0920" y="1052280"/>
            <a:ext cx="8929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kal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acidosis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مستطيل 3"/>
          <p:cNvSpPr/>
          <p:nvPr/>
        </p:nvSpPr>
        <p:spPr>
          <a:xfrm>
            <a:off x="169920" y="18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Pharmacodynamic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6"/>
          <p:cNvSpPr/>
          <p:nvPr/>
        </p:nvSpPr>
        <p:spPr>
          <a:xfrm flipV="1">
            <a:off x="826920" y="1195200"/>
            <a:ext cx="0" cy="57780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826920" y="278136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826920" y="191628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745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Therapeutic u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Drug of choice for patients with   hepatic cirrhosi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Secondary hyperaldosteronism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HF, hepatic cirrhosis, nephrotic syndrome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Treatment of hypertension </a:t>
            </a: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ombined with thiazide or loop diuretics to correct for hypokalemia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Adverse Effec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50560" y="126828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perkalaemia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ynaecomast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T upset and peptic ulcer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entury Schoolbook"/>
              </a:rPr>
              <a:t>Contraindications: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920" y="1643040"/>
            <a:ext cx="8642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Hyperkalaemia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s in chronic renal failure, K+ supplementation,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-blockers or ACE inhibitor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liver disease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(dose adjustment is need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Therapeutic applications of diuretic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reatment of hypertens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lone or in combination with beta-blockers at low-dose (fewer side effect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presence of renal failure, loop diuretic is us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Edema Sta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Thiazide diuretic is used in mild edema with normal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used in cases with impair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78920" y="188640"/>
            <a:ext cx="8496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ongestive Heart fail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s may be used in only mild cases with well-preserved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much preferred in severe cases especially when GF is lower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life-threatening acute pulmonary edema, furosemide is given I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s are used till GFR ≥ 40-50 ml/m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op diuretic are used below given values, with increasing the dose with as GFR goes dow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Diabetes inspidu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rge volume(&gt;10 L/day) of dilute ur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 diuretics reduces urine volum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Hepatic cirrhosis with asci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pironolactone is of choic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42920" y="142920"/>
          <a:ext cx="8858160" cy="6624720"/>
        </p:xfrm>
        <a:graphic>
          <a:graphicData uri="http://schemas.openxmlformats.org/drawingml/2006/table">
            <a:tbl>
              <a:tblPr/>
              <a:tblGrid>
                <a:gridCol w="2660760"/>
                <a:gridCol w="2803320"/>
                <a:gridCol w="3394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hibition of NaHCO3 reabsorption 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 HCO3,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effect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P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e ex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TAL the most eff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Ca,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urinary Ca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ypercalcem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etitive antagonist of aldosterone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C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79280" y="189000"/>
          <a:ext cx="8666280" cy="6561000"/>
        </p:xfrm>
        <a:graphic>
          <a:graphicData uri="http://schemas.openxmlformats.org/drawingml/2006/table">
            <a:tbl>
              <a:tblPr/>
              <a:tblGrid>
                <a:gridCol w="3184560"/>
                <a:gridCol w="548172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Uses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(topically) for glau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laucoma, epilep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untain s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hosphat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rebral edema, 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renal failure, drug tox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pulmonary edema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t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kalemia, 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monly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tension, mild heart failure, nephrolithiasis, diabetes inspi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patic cirr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142920"/>
          <a:ext cx="8715600" cy="6643800"/>
        </p:xfrm>
        <a:graphic>
          <a:graphicData uri="http://schemas.openxmlformats.org/drawingml/2006/table">
            <a:tbl>
              <a:tblPr/>
              <a:tblGrid>
                <a:gridCol w="2573280"/>
                <a:gridCol w="614232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zolamid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bolic acidosis , 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tracellular water expa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hyd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natr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volemia, hyponatr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cipitate gout, 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 hyponatremia, hypovol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, precipitate g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lipidemia, hypergly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5404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pironolact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ynaecomas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kalaem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Metabolic acido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IT upset and peptic 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21280" cy="57132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9100"/>
                </a:solidFill>
                <a:latin typeface="Century Schoolbook"/>
              </a:rPr>
              <a:t>THIAZIDE DIURE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4"/>
          <p:cNvSpPr/>
          <p:nvPr/>
        </p:nvSpPr>
        <p:spPr>
          <a:xfrm>
            <a:off x="5429160" y="1285920"/>
            <a:ext cx="3286080" cy="1219320"/>
          </a:xfrm>
          <a:prstGeom prst="ellipse">
            <a:avLst/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thali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y 10, t½ 2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2857680" y="2786040"/>
            <a:ext cx="3500280" cy="1143000"/>
          </a:xfrm>
          <a:prstGeom prst="ellipse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etola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5, t½ 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285840" y="1428840"/>
            <a:ext cx="2921040" cy="137160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93"/>
                </a:solidFill>
                <a:latin typeface="Times New Roman"/>
              </a:rPr>
              <a:t>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Potency 0.1, t½ 2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0" y="3929040"/>
            <a:ext cx="396252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ydro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1 , t½  3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5072040" y="4429080"/>
            <a:ext cx="3571920" cy="1143000"/>
          </a:xfrm>
          <a:prstGeom prst="ellipse">
            <a:avLst/>
          </a:prstGeom>
          <a:solidFill>
            <a:srgbClr val="eb6e5a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dapa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20, t½ 1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s via  inhibition of Na/Cl            co-transporter on the luminal membrane of distal convoluted tubule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oderate natriuresis (5-10% of filtered  load of sodium is reabsorb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23"/>
          <p:cNvPicPr/>
          <p:nvPr/>
        </p:nvPicPr>
        <p:blipFill>
          <a:blip r:embed="rId1"/>
          <a:srcRect l="2874" t="9310" r="0" b="12414"/>
          <a:stretch/>
        </p:blipFill>
        <p:spPr>
          <a:xfrm>
            <a:off x="36360" y="27000"/>
            <a:ext cx="9072720" cy="678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34920" y="77760"/>
            <a:ext cx="489744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istal convoluted tub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of thiazide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8920" y="260280"/>
            <a:ext cx="87138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kinetics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ven orally, slow of onset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ng duration of action (40 h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re secreted by active tubular secretory system of the kidney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y interfere with uric acid secretion and cause </a:t>
            </a:r>
            <a:r>
              <a:rPr b="1" i="1" lang="en-US" sz="3400" spc="-1" strike="noStrike">
                <a:solidFill>
                  <a:srgbClr val="ff0000"/>
                </a:solidFill>
                <a:latin typeface="Century Schoolbook"/>
              </a:rPr>
              <a:t>hyperuri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836640"/>
            <a:ext cx="9036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Cl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Hypokalemia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magnesium excretion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urinary calcium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lcium re-absorp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cal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285840" y="8366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 flipV="1">
            <a:off x="285840" y="15573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 flipV="1">
            <a:off x="285840" y="24242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285840" y="41385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85840" y="3281400"/>
            <a:ext cx="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324000" y="765000"/>
            <a:ext cx="8351640" cy="5832720"/>
          </a:xfrm>
          <a:prstGeom prst="rect">
            <a:avLst/>
          </a:prstGeom>
          <a:ln w="9360">
            <a:solidFill>
              <a:srgbClr val="fe8637">
                <a:alpha val="5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12T05:55:25Z</dcterms:modified>
  <cp:revision>232</cp:revision>
  <dc:subject/>
  <dc:title>DIURETICS</dc:title>
</cp:coreProperties>
</file>