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564-3626-4D81-AF79-E76892B2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B10-F26C-4FBA-9564-BE1E247E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6B809-B964-47A0-8288-726F2357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0BF98-74CD-4456-AA5A-CF5CFDA8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AF867-79CA-4EB9-8BBB-CA6413CB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1FD18-12E1-4332-A707-6EC11561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E2796-636E-480E-83B7-9305253B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90B06-E7B1-4FE6-B9A9-00E2053B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15210-7B31-433F-AD86-8D8F0BD7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D7882-B329-4A44-A39D-EFD014A2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CF7EE-CB36-4789-8428-468F66E9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506-1B57-4208-9FC4-FB79231A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DDA-D85C-4D41-9BF4-393081AD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990D-99FA-4B99-BEA6-BA91B4A0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ABC7-B9C9-4C1B-8CDD-6D547B2E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DB5D-D977-4B44-B847-70B20A0A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1551-637C-4EBD-A08F-2DE38422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494B-85CE-49FF-B2D9-BA7B9CC7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94BF-3603-4C49-9D53-EEE27F42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4C5D-F9DC-4553-A61B-6CCAE004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BFC-E124-48EB-A686-BE2F8696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F8C1-DD88-4DB9-A64D-B73921FC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C49D-FD27-4C09-8D6A-5DB770AA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EED8-31FE-4077-953A-AF6B4998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2CFB-350B-43EE-B241-CC35E09B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B6B9-1BCA-4A31-A91A-A09770BE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ECD3D-3130-453B-A392-8A3BFB61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2F419-24F9-435A-B6F9-6FA8E65D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A93C4-AFCC-4328-8C16-162C50FD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974F7-E3EC-4E8F-80AB-C15A19E7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77678-A3CE-4ED1-8BAD-D268BCB5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BCA-EEF8-4FF4-8890-8B4D85A0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8D57D-8E6E-426E-BA68-53AC471A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E3589-8F75-413C-9F52-04D896A0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675C4-AC0F-4F87-8148-2998A6DC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893B4-BC5C-4EFC-A81C-7F8EDF7E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B4251-922A-44A1-BC72-F4637791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8A5CE-70EE-41A9-A35D-298984A0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23E83-018A-4E1B-BE90-5D9B26E1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21C51-56BA-486F-8DF7-223C6261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0EAB9-4767-4F03-950C-09466DF4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0FD5B-4799-4268-8A2E-2617ADE2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21A-318A-4AB2-AD20-296623A3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D6041-011D-460A-BBFF-FC5FCCA8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C904F-74DF-484F-BB6D-148613BB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ABFA1-D009-4B29-A8DE-997248B0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CFF2D-7A83-415A-A886-1DBF4D26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4A07B-377F-4D55-B598-78B77787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A554C-9C02-4ED0-88D4-B4978BED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5C655-3BB0-4525-A5E7-7280B85C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9EA1B-2945-47CE-993C-87398025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F0EFA-3CBD-48D8-9F78-98A81539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12356-4BD5-4805-A022-F5EDE5F8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885-0027-4EFB-8757-2EDE9D0C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13663-786C-4C1F-A5EA-25FF99D5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729F1-9249-4C07-A8BB-BD058E1F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149DB-945D-439F-88AB-A114E295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B4640-F859-4620-9EC8-DCA6410E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E534C-DA8E-44D4-BA1E-E4D04127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B368D-B41C-4728-9C64-26C4EC6F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57237-EF67-4719-AE95-CD17863C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1D975-45BC-4E61-8F2B-AA4F5F8E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4F329-95A6-4F63-800D-2CC0C364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A3931-DFEB-42B6-9AC5-D488FB6C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42A-BBDF-415D-A6BD-1548614A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7F3CC-CECA-4968-8D41-7AF0CB6F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8C2A0-4933-4AF7-9D43-786B27E7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48906-AB8A-4FFB-BBE5-969EA61D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79A63-6858-4D0A-9591-49026A1B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368B3-17F3-475D-A339-B7DE7623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5EC40-6E53-4C27-84DD-6328773A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AA7E0-B25B-48D0-9DD1-151EA0A8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0A7FD-BA0D-4BEF-B17B-5B192D8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5108B-D4A6-452A-AAB6-5E3CCD62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AD4AE-DEEF-44DD-B12D-00B06D3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6A1-1FF9-4E28-B497-F38692C0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3C25C-7125-434A-869A-C402824D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AB77B-1E61-4451-9FA8-7A886D38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DE3C6-6946-4A7A-998E-D532925E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C3F37-5BED-470E-BD93-CF2AC2C2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4BC75-E2AD-4A7F-A5F2-C26DB5F7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69F84-92DB-45D4-B196-866F8B81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B9475-41A3-49AC-A680-649E81B4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E3DA1-74AE-4E26-9A8D-1589C54C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297E7-4FC3-4166-BF18-85070998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1BCAD-462B-4E8B-909B-2DA77827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649-8D76-414F-8B96-F34E37B3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7BAD6-AE36-4B42-A7F2-D1AB0E72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780FA-5745-43A0-BAB1-FDF11BC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E13FF-67BB-4A12-8D27-03D4F37E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45298-4EF8-46B9-89F6-3538D139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E43DB0-ACC0-4684-A398-60D4075F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CE10E-6AC9-458C-B6B9-D1F43D36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A7BBD-2C09-4B63-9AF5-B64B1608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BD851-B170-4F6E-A30C-2B318D02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2EEB6-CBCF-4FC8-A4F2-845D0D78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AEE88-9356-4117-A8DC-104458E4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549-36FA-4A1C-A818-7F6E1A43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FD92A-69E2-48BF-A77F-7C5BBCBB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6C9C7-DA78-4721-92CA-93B41A4F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A3C28-3AF5-407A-AF60-E21C8C03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FD007-90B5-43CD-946A-3B340BA9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57313-B321-436B-8D28-FE4DDF2E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7CB8F-8917-4E3A-84F2-6C0DB8B8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D9668-343C-4C2F-AC1A-6242ACA7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09A78-94D3-4045-A3E6-B1AFF264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43EBA-77C2-4336-915E-BCC51D71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DDD92-1220-47E6-ABE5-0BE9B223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4FD6-EA87-40E6-8391-7D5514411F1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25FF-1D2F-48F1-9FA9-A4D2093B977A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5E52-F08E-42F0-BF4C-820900D16ED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F5EE-812B-4C1A-89DD-3E5FF3A9174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AB49-FE79-4085-99AE-17FFE7F0ADC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FEAF-8AA0-4450-A6B7-46B64CA5D8B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9A3E-8A30-4136-BDF6-44A4904B0D28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E519-068D-40AC-90B3-ACA236D1BD1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35C3-677B-4186-99DF-DF93FC8FDEAE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NAL FUNCTIONS &amp; GFR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w Cen MT"/>
              </a:rPr>
              <a:t>Structure of a nephron, cont……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renal tubule is divided into different sections with different structural and functional characteristic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oximal tubules ( in the cortex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oop of Henl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istal tubule (in the renal cortex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necting tubule, cortical collecting, and the cortical collecting ducts, which run downward in the medulla and becom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edullary collecting duct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w Cen MT"/>
              </a:rPr>
              <a:t>RENAL BLOOD VESSEL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238880" cy="396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AFFERENT ARTERIOL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DELIVERS BLOOD INTO THE GLOMERUL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GLOMERULI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APILLARY NETWORK THAT PRODUCES FILTRATE THAT ENTERS THE URINARY TUBUL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FFERENT ARTERIOL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DELIVERS BLOOD FROM GLOMERULI TO PERITUBULAR CAPILLARI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PERITUBULAR CAPILLAR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ASA RECT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5b22"/>
                </a:solidFill>
                <a:latin typeface="Tw Cen MT"/>
              </a:rPr>
              <a:t>Structure of a nephron, cont….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360" y="1600200"/>
            <a:ext cx="583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Types of nephr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1- Cortical nephrons: (85%)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ir glomeruli in the outer portion of cortex and have short loops of Henl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 Peritubular capelarie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2-Juxtamedullary nephrons: (15%)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ave long loops extended into the medulla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Vasa rec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intain salt gradient, helps conserve wa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8" name="Picture 3" descr="H:\$$SaladinPowerPoints\Images\Ch-23labeled\0804L.JPG"/>
          <p:cNvPicPr/>
          <p:nvPr/>
        </p:nvPicPr>
        <p:blipFill>
          <a:blip r:embed="rId1"/>
          <a:srcRect l="31265" t="12526" r="37807" b="0"/>
          <a:stretch/>
        </p:blipFill>
        <p:spPr>
          <a:xfrm>
            <a:off x="6629400" y="1523880"/>
            <a:ext cx="2514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330984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838080" y="2362320"/>
            <a:ext cx="2286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1-2 %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F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hrou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Juxta Medul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Neph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fImage" descr="showimage"/>
          <p:cNvPicPr/>
          <p:nvPr/>
        </p:nvPicPr>
        <p:blipFill>
          <a:blip r:embed="rId1"/>
          <a:srcRect l="14343" t="0" r="13942" b="4713"/>
          <a:stretch/>
        </p:blipFill>
        <p:spPr>
          <a:xfrm>
            <a:off x="3429000" y="533520"/>
            <a:ext cx="5286240" cy="5867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533520" y="60948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NEPHRON TYPES Cortical and Juxtamedullary Neph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8" descr=""/>
          <p:cNvPicPr/>
          <p:nvPr/>
        </p:nvPicPr>
        <p:blipFill>
          <a:blip r:embed="rId2"/>
          <a:srcRect l="21093" t="8333" r="23438" b="15627"/>
          <a:stretch/>
        </p:blipFill>
        <p:spPr>
          <a:xfrm>
            <a:off x="3352680" y="533520"/>
            <a:ext cx="5410440" cy="5867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9"/>
          <p:cNvSpPr/>
          <p:nvPr/>
        </p:nvSpPr>
        <p:spPr>
          <a:xfrm>
            <a:off x="7391520" y="846000"/>
            <a:ext cx="1523880" cy="75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Originates in outer 2/3 of corte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7467480" y="4427640"/>
            <a:ext cx="1524240" cy="75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Originates in inner 1/3 of corte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Renal blood flow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360" y="1600200"/>
            <a:ext cx="460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nal blood flow to the kidney represents 20% of cardiac outpu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blood flows to each kidney through a renal artery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5b22"/>
                </a:solidFill>
                <a:latin typeface="Tw Cen MT"/>
              </a:rPr>
              <a:t>Features of renal circulation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- High blood flow rate (1200 ml/min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2- Presence of two capillary beds: glomerular and peritubular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fferent and afferent arterioles are major sites of renal resist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38" name="Group 14"/>
          <p:cNvGrpSpPr/>
          <p:nvPr/>
        </p:nvGrpSpPr>
        <p:grpSpPr>
          <a:xfrm>
            <a:off x="5364000" y="1628640"/>
            <a:ext cx="3428640" cy="4251240"/>
            <a:chOff x="5364000" y="1628640"/>
            <a:chExt cx="3428640" cy="4251240"/>
          </a:xfrm>
        </p:grpSpPr>
        <p:pic>
          <p:nvPicPr>
            <p:cNvPr id="439" name="Picture 4" descr="Juxtaglom apparatus"/>
            <p:cNvPicPr/>
            <p:nvPr/>
          </p:nvPicPr>
          <p:blipFill>
            <a:blip r:embed="rId1"/>
            <a:srcRect l="58539" t="0" r="1046" b="0"/>
            <a:stretch/>
          </p:blipFill>
          <p:spPr>
            <a:xfrm>
              <a:off x="5585040" y="1628640"/>
              <a:ext cx="3207600" cy="42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Rectangle 13"/>
            <p:cNvSpPr/>
            <p:nvPr/>
          </p:nvSpPr>
          <p:spPr>
            <a:xfrm>
              <a:off x="5364000" y="2035080"/>
              <a:ext cx="663480" cy="11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Urine formati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primary function of the kidney is to ‘clear’ unneeded substances from the blood to be excreted in urin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eps of urine formation (basic renal processes)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1- Glomerular filtration: Filtration of fluid from glomerular capillaries into the renal tubule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2- Tubular reabsorption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3- Tubular se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4- Ex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w Cen MT"/>
              </a:rPr>
              <a:t>Urinary excretion rate = Filtration rate- reabsorption+se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609480" y="304920"/>
            <a:ext cx="3048120" cy="1904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RENAL PROCESSES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3352680" y="380880"/>
            <a:ext cx="5140080" cy="5321160"/>
            <a:chOff x="3352680" y="380880"/>
            <a:chExt cx="5140080" cy="5321160"/>
          </a:xfrm>
        </p:grpSpPr>
        <p:sp>
          <p:nvSpPr>
            <p:cNvPr id="445" name="AutoShape 4"/>
            <p:cNvSpPr/>
            <p:nvPr/>
          </p:nvSpPr>
          <p:spPr>
            <a:xfrm rot="2588400">
              <a:off x="6553080" y="3200040"/>
              <a:ext cx="914400" cy="99036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44360 h 990360"/>
                <a:gd name="textAreaBottom" fmla="*/ 8460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6830" y="14032"/>
                  </a:moveTo>
                  <a:cubicBezTo>
                    <a:pt x="17363" y="13038"/>
                    <a:pt x="17642" y="11927"/>
                    <a:pt x="17642" y="10800"/>
                  </a:cubicBezTo>
                  <a:cubicBezTo>
                    <a:pt x="17642" y="7021"/>
                    <a:pt x="14578" y="3958"/>
                    <a:pt x="10800" y="3958"/>
                  </a:cubicBezTo>
                  <a:cubicBezTo>
                    <a:pt x="9672" y="3957"/>
                    <a:pt x="8561" y="4236"/>
                    <a:pt x="7567" y="4769"/>
                  </a:cubicBezTo>
                  <a:close/>
                  <a:moveTo>
                    <a:pt x="4769" y="7567"/>
                  </a:moveTo>
                  <a:cubicBezTo>
                    <a:pt x="4236" y="8561"/>
                    <a:pt x="3958" y="9672"/>
                    <a:pt x="3958" y="10799"/>
                  </a:cubicBezTo>
                  <a:cubicBezTo>
                    <a:pt x="3958" y="14578"/>
                    <a:pt x="7021" y="17642"/>
                    <a:pt x="10800" y="17642"/>
                  </a:cubicBezTo>
                  <a:cubicBezTo>
                    <a:pt x="11927" y="17642"/>
                    <a:pt x="13038" y="17363"/>
                    <a:pt x="14032" y="1683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5"/>
            <p:cNvSpPr/>
            <p:nvPr/>
          </p:nvSpPr>
          <p:spPr>
            <a:xfrm flipV="1">
              <a:off x="5257800" y="909360"/>
              <a:ext cx="304920" cy="1224000"/>
            </a:xfrm>
            <a:prstGeom prst="can">
              <a:avLst>
                <a:gd name="adj" fmla="val 98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6"/>
            <p:cNvSpPr/>
            <p:nvPr/>
          </p:nvSpPr>
          <p:spPr>
            <a:xfrm>
              <a:off x="5105520" y="2590560"/>
              <a:ext cx="609480" cy="2743200"/>
            </a:xfrm>
            <a:prstGeom prst="can">
              <a:avLst>
                <a:gd name="adj" fmla="val 989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7"/>
            <p:cNvSpPr/>
            <p:nvPr/>
          </p:nvSpPr>
          <p:spPr>
            <a:xfrm flipV="1">
              <a:off x="4343400" y="1370520"/>
              <a:ext cx="2133720" cy="15238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523880"/>
                <a:gd name="textAreaBottom" fmla="*/ 14050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21" y="16671"/>
                  </a:moveTo>
                  <a:cubicBezTo>
                    <a:pt x="6029" y="15702"/>
                    <a:pt x="4465" y="13380"/>
                    <a:pt x="4465" y="10800"/>
                  </a:cubicBezTo>
                  <a:cubicBezTo>
                    <a:pt x="4465" y="7301"/>
                    <a:pt x="7301" y="4465"/>
                    <a:pt x="10800" y="4465"/>
                  </a:cubicBezTo>
                  <a:cubicBezTo>
                    <a:pt x="14298" y="4465"/>
                    <a:pt x="17135" y="7301"/>
                    <a:pt x="17135" y="10800"/>
                  </a:cubicBezTo>
                  <a:cubicBezTo>
                    <a:pt x="17135" y="13380"/>
                    <a:pt x="15570" y="15702"/>
                    <a:pt x="13178" y="16671"/>
                  </a:cubicBezTo>
                  <a:lnTo>
                    <a:pt x="14855" y="20809"/>
                  </a:lnTo>
                  <a:cubicBezTo>
                    <a:pt x="18932" y="19157"/>
                    <a:pt x="21600" y="1519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198"/>
                    <a:pt x="2667" y="19157"/>
                    <a:pt x="6744" y="20809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8"/>
            <p:cNvSpPr/>
            <p:nvPr/>
          </p:nvSpPr>
          <p:spPr>
            <a:xfrm>
              <a:off x="5029200" y="1828800"/>
              <a:ext cx="762120" cy="60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9"/>
            <p:cNvSpPr/>
            <p:nvPr/>
          </p:nvSpPr>
          <p:spPr>
            <a:xfrm>
              <a:off x="3352680" y="833400"/>
              <a:ext cx="1981440" cy="304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10"/>
            <p:cNvSpPr/>
            <p:nvPr/>
          </p:nvSpPr>
          <p:spPr>
            <a:xfrm>
              <a:off x="5486400" y="833400"/>
              <a:ext cx="1676520" cy="304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11"/>
            <p:cNvSpPr/>
            <p:nvPr/>
          </p:nvSpPr>
          <p:spPr>
            <a:xfrm>
              <a:off x="6858000" y="833400"/>
              <a:ext cx="304920" cy="267156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671560"/>
                <a:gd name="textAreaBottom" fmla="*/ 2656800 h 2671560"/>
              </a:gdLst>
              <a:ahLst/>
              <a:rect l="textAreaLeft" t="textAreaTop" r="textAreaRight" b="textAreaBottom"/>
              <a:pathLst>
                <a:path w="21600" h="189051">
                  <a:moveTo>
                    <a:pt x="3600" y="0"/>
                  </a:moveTo>
                  <a:arcTo wR="3600" hR="3600" stAng="16200000" swAng="-5400000"/>
                  <a:lnTo>
                    <a:pt x="0" y="185451"/>
                  </a:lnTo>
                  <a:arcTo wR="3600" hR="3600" stAng="10800000" swAng="-5400000"/>
                  <a:lnTo>
                    <a:pt x="18000" y="189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12"/>
            <p:cNvSpPr/>
            <p:nvPr/>
          </p:nvSpPr>
          <p:spPr>
            <a:xfrm>
              <a:off x="6858000" y="3962160"/>
              <a:ext cx="304920" cy="16002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600200"/>
                <a:gd name="textAreaBottom" fmla="*/ 1585440 h 1600200"/>
              </a:gdLst>
              <a:ahLst/>
              <a:rect l="textAreaLeft" t="textAreaTop" r="textAreaRight" b="textAreaBottom"/>
              <a:pathLst>
                <a:path w="21600" h="113247">
                  <a:moveTo>
                    <a:pt x="3600" y="0"/>
                  </a:moveTo>
                  <a:arcTo wR="3600" hR="3600" stAng="16200000" swAng="-5400000"/>
                  <a:lnTo>
                    <a:pt x="0" y="109647"/>
                  </a:lnTo>
                  <a:arcTo wR="3600" hR="3600" stAng="10800000" swAng="-5400000"/>
                  <a:lnTo>
                    <a:pt x="18000" y="113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7b615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3"/>
            <p:cNvSpPr/>
            <p:nvPr/>
          </p:nvSpPr>
          <p:spPr>
            <a:xfrm>
              <a:off x="4233240" y="380880"/>
              <a:ext cx="2293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1. Filtration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4"/>
            <p:cNvSpPr/>
            <p:nvPr/>
          </p:nvSpPr>
          <p:spPr>
            <a:xfrm>
              <a:off x="6177960" y="2514600"/>
              <a:ext cx="1909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2. Reabsor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5"/>
            <p:cNvSpPr/>
            <p:nvPr/>
          </p:nvSpPr>
          <p:spPr>
            <a:xfrm>
              <a:off x="7016760" y="4038480"/>
              <a:ext cx="14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3. Secre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6"/>
            <p:cNvSpPr/>
            <p:nvPr/>
          </p:nvSpPr>
          <p:spPr>
            <a:xfrm>
              <a:off x="4807080" y="5333760"/>
              <a:ext cx="14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4. Excre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7"/>
            <p:cNvSpPr/>
            <p:nvPr/>
          </p:nvSpPr>
          <p:spPr>
            <a:xfrm rot="5400000">
              <a:off x="4530960" y="1711800"/>
              <a:ext cx="1757520" cy="304920"/>
            </a:xfrm>
            <a:prstGeom prst="rightArrow">
              <a:avLst>
                <a:gd name="adj1" fmla="val 35000"/>
                <a:gd name="adj2" fmla="val 109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8"/>
            <p:cNvSpPr/>
            <p:nvPr/>
          </p:nvSpPr>
          <p:spPr>
            <a:xfrm flipH="1" rot="10800000">
              <a:off x="5562720" y="2895120"/>
              <a:ext cx="1295280" cy="304920"/>
            </a:xfrm>
            <a:prstGeom prst="rightArrow">
              <a:avLst>
                <a:gd name="adj1" fmla="val 35000"/>
                <a:gd name="adj2" fmla="val 8086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9"/>
            <p:cNvSpPr/>
            <p:nvPr/>
          </p:nvSpPr>
          <p:spPr>
            <a:xfrm rot="10800000">
              <a:off x="5638320" y="4114800"/>
              <a:ext cx="1295640" cy="304560"/>
            </a:xfrm>
            <a:prstGeom prst="rightArrow">
              <a:avLst>
                <a:gd name="adj1" fmla="val 35000"/>
                <a:gd name="adj2" fmla="val 809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20"/>
            <p:cNvSpPr/>
            <p:nvPr/>
          </p:nvSpPr>
          <p:spPr>
            <a:xfrm rot="5400000">
              <a:off x="4762440" y="4457520"/>
              <a:ext cx="1295280" cy="457200"/>
            </a:xfrm>
            <a:prstGeom prst="rightArrow">
              <a:avLst>
                <a:gd name="adj1" fmla="val 35000"/>
                <a:gd name="adj2" fmla="val 539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21"/>
          <p:cNvSpPr/>
          <p:nvPr/>
        </p:nvSpPr>
        <p:spPr>
          <a:xfrm>
            <a:off x="685800" y="2590920"/>
            <a:ext cx="3962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Filt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absor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Se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Excretion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2"/>
          <p:cNvSpPr/>
          <p:nvPr/>
        </p:nvSpPr>
        <p:spPr>
          <a:xfrm>
            <a:off x="304920" y="5791320"/>
            <a:ext cx="86104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rinary Excretion Rate = Filtration Rate – Reabsorption Rate + Secre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Urine Formation Pre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65" name="Picture 3" descr="H:\$$SaladinPowerPoints\Images\Ch-23labeled\0806L.JPG"/>
          <p:cNvPicPr/>
          <p:nvPr/>
        </p:nvPicPr>
        <p:blipFill>
          <a:blip r:embed="rId1"/>
          <a:srcRect l="0" t="11274" r="0" b="0"/>
          <a:stretch/>
        </p:blipFill>
        <p:spPr>
          <a:xfrm>
            <a:off x="533520" y="1447920"/>
            <a:ext cx="8129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Glomerular filtration rate (GFR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first step in urine formation is glomerular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is the filtration of fluid from the glomerular capillaries into the renal tub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contains all substances present in plasma except protei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is normally 125 ml/min = 20% renal plasma flow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glomerular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controls passage of molecules through this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are the forces responsible for passage of fluid (filtrate) through this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من سلك طريقا يلتمس فيه علما سهل الله له به طريقا إلى الجن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in the glomerulus is separated from the fluid in the Bowman’s space by a filtration barrier (glomerular membrane) consisting of three layer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Single layer of capillary endothel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- Single epithelial lining of Bowman’s capsule (Podocytes) During filtration the fluid moves between their foot processes (psudopodia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- Basement membrane between endothelium and epithel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268360" y="2914560"/>
            <a:ext cx="3830760" cy="33940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4608360" y="1413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we see a glomerular capillary in longitudinal 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6192720" y="4665600"/>
            <a:ext cx="4572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thel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755640" y="1814400"/>
            <a:ext cx="4537080" cy="42786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5"/>
          <p:cNvSpPr/>
          <p:nvPr/>
        </p:nvSpPr>
        <p:spPr>
          <a:xfrm>
            <a:off x="5329080" y="4162320"/>
            <a:ext cx="4572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thel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395280" y="2390760"/>
            <a:ext cx="5432400" cy="355932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4"/>
          <p:cNvSpPr/>
          <p:nvPr/>
        </p:nvSpPr>
        <p:spPr>
          <a:xfrm>
            <a:off x="5832360" y="4305240"/>
            <a:ext cx="4572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755640" y="2390760"/>
            <a:ext cx="4430880" cy="413388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4"/>
          <p:cNvSpPr/>
          <p:nvPr/>
        </p:nvSpPr>
        <p:spPr>
          <a:xfrm>
            <a:off x="5329080" y="458316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ration sl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5184720" y="2967120"/>
            <a:ext cx="4572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ocytes (cell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nucle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reeform 3"/>
          <p:cNvSpPr/>
          <p:nvPr/>
        </p:nvSpPr>
        <p:spPr>
          <a:xfrm>
            <a:off x="4316400" y="2286000"/>
            <a:ext cx="1017720" cy="2819520"/>
          </a:xfrm>
          <a:custGeom>
            <a:avLst/>
            <a:gdLst>
              <a:gd name="textAreaLeft" fmla="*/ 0 w 1017720"/>
              <a:gd name="textAreaRight" fmla="*/ 1018080 w 101772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339" h="1600">
                <a:moveTo>
                  <a:pt x="90" y="11"/>
                </a:moveTo>
                <a:cubicBezTo>
                  <a:pt x="123" y="14"/>
                  <a:pt x="157" y="10"/>
                  <a:pt x="188" y="20"/>
                </a:cubicBezTo>
                <a:cubicBezTo>
                  <a:pt x="197" y="23"/>
                  <a:pt x="197" y="37"/>
                  <a:pt x="197" y="46"/>
                </a:cubicBezTo>
                <a:cubicBezTo>
                  <a:pt x="202" y="182"/>
                  <a:pt x="200" y="318"/>
                  <a:pt x="205" y="454"/>
                </a:cubicBezTo>
                <a:cubicBezTo>
                  <a:pt x="207" y="493"/>
                  <a:pt x="225" y="514"/>
                  <a:pt x="259" y="525"/>
                </a:cubicBezTo>
                <a:cubicBezTo>
                  <a:pt x="314" y="609"/>
                  <a:pt x="296" y="571"/>
                  <a:pt x="267" y="773"/>
                </a:cubicBezTo>
                <a:cubicBezTo>
                  <a:pt x="264" y="796"/>
                  <a:pt x="228" y="799"/>
                  <a:pt x="214" y="817"/>
                </a:cubicBezTo>
                <a:cubicBezTo>
                  <a:pt x="201" y="834"/>
                  <a:pt x="179" y="870"/>
                  <a:pt x="179" y="870"/>
                </a:cubicBezTo>
                <a:cubicBezTo>
                  <a:pt x="175" y="1131"/>
                  <a:pt x="339" y="1600"/>
                  <a:pt x="117" y="1446"/>
                </a:cubicBezTo>
                <a:cubicBezTo>
                  <a:pt x="114" y="1414"/>
                  <a:pt x="126" y="1376"/>
                  <a:pt x="108" y="1349"/>
                </a:cubicBezTo>
                <a:cubicBezTo>
                  <a:pt x="96" y="1332"/>
                  <a:pt x="65" y="1349"/>
                  <a:pt x="46" y="1340"/>
                </a:cubicBezTo>
                <a:cubicBezTo>
                  <a:pt x="38" y="1336"/>
                  <a:pt x="40" y="1322"/>
                  <a:pt x="37" y="1313"/>
                </a:cubicBezTo>
                <a:cubicBezTo>
                  <a:pt x="46" y="1307"/>
                  <a:pt x="54" y="1300"/>
                  <a:pt x="64" y="1296"/>
                </a:cubicBezTo>
                <a:cubicBezTo>
                  <a:pt x="78" y="1291"/>
                  <a:pt x="101" y="1300"/>
                  <a:pt x="108" y="1287"/>
                </a:cubicBezTo>
                <a:cubicBezTo>
                  <a:pt x="139" y="1224"/>
                  <a:pt x="95" y="1224"/>
                  <a:pt x="64" y="1216"/>
                </a:cubicBezTo>
                <a:cubicBezTo>
                  <a:pt x="58" y="1207"/>
                  <a:pt x="39" y="1197"/>
                  <a:pt x="46" y="1189"/>
                </a:cubicBezTo>
                <a:cubicBezTo>
                  <a:pt x="58" y="1174"/>
                  <a:pt x="99" y="1172"/>
                  <a:pt x="99" y="1172"/>
                </a:cubicBezTo>
                <a:cubicBezTo>
                  <a:pt x="96" y="1139"/>
                  <a:pt x="105" y="1103"/>
                  <a:pt x="90" y="1074"/>
                </a:cubicBezTo>
                <a:cubicBezTo>
                  <a:pt x="83" y="1061"/>
                  <a:pt x="59" y="1072"/>
                  <a:pt x="46" y="1065"/>
                </a:cubicBezTo>
                <a:cubicBezTo>
                  <a:pt x="37" y="1060"/>
                  <a:pt x="34" y="1048"/>
                  <a:pt x="28" y="1039"/>
                </a:cubicBezTo>
                <a:cubicBezTo>
                  <a:pt x="52" y="1036"/>
                  <a:pt x="85" y="1050"/>
                  <a:pt x="99" y="1030"/>
                </a:cubicBezTo>
                <a:cubicBezTo>
                  <a:pt x="114" y="1008"/>
                  <a:pt x="103" y="974"/>
                  <a:pt x="90" y="950"/>
                </a:cubicBezTo>
                <a:cubicBezTo>
                  <a:pt x="80" y="931"/>
                  <a:pt x="37" y="915"/>
                  <a:pt x="37" y="915"/>
                </a:cubicBezTo>
                <a:cubicBezTo>
                  <a:pt x="58" y="912"/>
                  <a:pt x="89" y="924"/>
                  <a:pt x="99" y="906"/>
                </a:cubicBezTo>
                <a:cubicBezTo>
                  <a:pt x="138" y="833"/>
                  <a:pt x="83" y="805"/>
                  <a:pt x="37" y="791"/>
                </a:cubicBezTo>
                <a:cubicBezTo>
                  <a:pt x="12" y="717"/>
                  <a:pt x="0" y="740"/>
                  <a:pt x="81" y="728"/>
                </a:cubicBezTo>
                <a:cubicBezTo>
                  <a:pt x="78" y="699"/>
                  <a:pt x="82" y="668"/>
                  <a:pt x="73" y="640"/>
                </a:cubicBezTo>
                <a:cubicBezTo>
                  <a:pt x="70" y="630"/>
                  <a:pt x="53" y="630"/>
                  <a:pt x="46" y="622"/>
                </a:cubicBezTo>
                <a:cubicBezTo>
                  <a:pt x="40" y="615"/>
                  <a:pt x="40" y="605"/>
                  <a:pt x="37" y="596"/>
                </a:cubicBezTo>
                <a:cubicBezTo>
                  <a:pt x="57" y="589"/>
                  <a:pt x="94" y="599"/>
                  <a:pt x="99" y="578"/>
                </a:cubicBezTo>
                <a:cubicBezTo>
                  <a:pt x="120" y="490"/>
                  <a:pt x="108" y="491"/>
                  <a:pt x="64" y="463"/>
                </a:cubicBezTo>
                <a:cubicBezTo>
                  <a:pt x="58" y="454"/>
                  <a:pt x="44" y="447"/>
                  <a:pt x="46" y="436"/>
                </a:cubicBezTo>
                <a:cubicBezTo>
                  <a:pt x="48" y="424"/>
                  <a:pt x="90" y="412"/>
                  <a:pt x="99" y="409"/>
                </a:cubicBezTo>
                <a:cubicBezTo>
                  <a:pt x="91" y="364"/>
                  <a:pt x="99" y="336"/>
                  <a:pt x="55" y="321"/>
                </a:cubicBezTo>
                <a:cubicBezTo>
                  <a:pt x="52" y="312"/>
                  <a:pt x="39" y="301"/>
                  <a:pt x="46" y="294"/>
                </a:cubicBezTo>
                <a:cubicBezTo>
                  <a:pt x="56" y="283"/>
                  <a:pt x="85" y="299"/>
                  <a:pt x="90" y="285"/>
                </a:cubicBezTo>
                <a:cubicBezTo>
                  <a:pt x="120" y="202"/>
                  <a:pt x="96" y="202"/>
                  <a:pt x="55" y="188"/>
                </a:cubicBezTo>
                <a:cubicBezTo>
                  <a:pt x="52" y="179"/>
                  <a:pt x="39" y="168"/>
                  <a:pt x="46" y="161"/>
                </a:cubicBezTo>
                <a:cubicBezTo>
                  <a:pt x="56" y="150"/>
                  <a:pt x="83" y="165"/>
                  <a:pt x="90" y="152"/>
                </a:cubicBezTo>
                <a:cubicBezTo>
                  <a:pt x="118" y="103"/>
                  <a:pt x="78" y="98"/>
                  <a:pt x="55" y="90"/>
                </a:cubicBezTo>
                <a:cubicBezTo>
                  <a:pt x="49" y="81"/>
                  <a:pt x="35" y="74"/>
                  <a:pt x="37" y="64"/>
                </a:cubicBezTo>
                <a:cubicBezTo>
                  <a:pt x="39" y="53"/>
                  <a:pt x="57" y="54"/>
                  <a:pt x="64" y="46"/>
                </a:cubicBezTo>
                <a:cubicBezTo>
                  <a:pt x="102" y="0"/>
                  <a:pt x="46" y="34"/>
                  <a:pt x="90" y="11"/>
                </a:cubicBezTo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4"/>
          <p:cNvSpPr/>
          <p:nvPr/>
        </p:nvSpPr>
        <p:spPr>
          <a:xfrm>
            <a:off x="4224240" y="2286000"/>
            <a:ext cx="276480" cy="2627280"/>
          </a:xfrm>
          <a:custGeom>
            <a:avLst/>
            <a:gdLst>
              <a:gd name="textAreaLeft" fmla="*/ 0 w 276480"/>
              <a:gd name="textAreaRight" fmla="*/ 276840 w 27648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cc00cc"/>
          </a:solidFill>
          <a:ln w="9360">
            <a:solidFill>
              <a:srgbClr val="775f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"/>
          <p:cNvSpPr/>
          <p:nvPr/>
        </p:nvSpPr>
        <p:spPr>
          <a:xfrm>
            <a:off x="4005360" y="2286000"/>
            <a:ext cx="185760" cy="6573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"/>
          <p:cNvSpPr/>
          <p:nvPr/>
        </p:nvSpPr>
        <p:spPr>
          <a:xfrm>
            <a:off x="4005360" y="3025800"/>
            <a:ext cx="185760" cy="6555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7"/>
          <p:cNvSpPr/>
          <p:nvPr/>
        </p:nvSpPr>
        <p:spPr>
          <a:xfrm>
            <a:off x="4005360" y="3763800"/>
            <a:ext cx="185760" cy="6573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8"/>
          <p:cNvSpPr/>
          <p:nvPr/>
        </p:nvSpPr>
        <p:spPr>
          <a:xfrm>
            <a:off x="4005360" y="4503600"/>
            <a:ext cx="185760" cy="409680"/>
          </a:xfrm>
          <a:custGeom>
            <a:avLst/>
            <a:gdLst>
              <a:gd name="textAreaLeft" fmla="*/ 0 w 185760"/>
              <a:gd name="textAreaRight" fmla="*/ 186120 w 185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9"/>
          <p:cNvSpPr/>
          <p:nvPr/>
        </p:nvSpPr>
        <p:spPr>
          <a:xfrm>
            <a:off x="4778280" y="3271680"/>
            <a:ext cx="185760" cy="40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TRATION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3"/>
          <p:cNvSpPr/>
          <p:nvPr/>
        </p:nvSpPr>
        <p:spPr>
          <a:xfrm>
            <a:off x="3352680" y="3733920"/>
            <a:ext cx="685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4"/>
          <p:cNvSpPr/>
          <p:nvPr/>
        </p:nvSpPr>
        <p:spPr>
          <a:xfrm>
            <a:off x="533520" y="3429000"/>
            <a:ext cx="2895480" cy="60948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1. Endothe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7"/>
          <p:cNvSpPr/>
          <p:nvPr/>
        </p:nvSpPr>
        <p:spPr>
          <a:xfrm>
            <a:off x="4038480" y="5410080"/>
            <a:ext cx="1371600" cy="30492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. Pod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4724280" y="4876560"/>
            <a:ext cx="0" cy="5331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9"/>
          <p:cNvSpPr/>
          <p:nvPr/>
        </p:nvSpPr>
        <p:spPr>
          <a:xfrm>
            <a:off x="914400" y="4267080"/>
            <a:ext cx="2514600" cy="68580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ndothelium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lomerular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3429000" y="4648320"/>
            <a:ext cx="685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2"/>
          <p:cNvSpPr/>
          <p:nvPr/>
        </p:nvSpPr>
        <p:spPr>
          <a:xfrm flipH="1">
            <a:off x="4267080" y="2590920"/>
            <a:ext cx="1828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3"/>
          <p:cNvSpPr/>
          <p:nvPr/>
        </p:nvSpPr>
        <p:spPr>
          <a:xfrm>
            <a:off x="6019920" y="2209680"/>
            <a:ext cx="2438280" cy="76212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. Basement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5"/>
          <p:cNvSpPr/>
          <p:nvPr/>
        </p:nvSpPr>
        <p:spPr>
          <a:xfrm>
            <a:off x="2971800" y="2819520"/>
            <a:ext cx="2666880" cy="533160"/>
          </a:xfrm>
          <a:prstGeom prst="rightArrow">
            <a:avLst>
              <a:gd name="adj1" fmla="val 50000"/>
              <a:gd name="adj2" fmla="val 92699"/>
            </a:avLst>
          </a:prstGeom>
          <a:solidFill>
            <a:srgbClr val="ffffff">
              <a:alpha val="31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27"/>
          <p:cNvSpPr/>
          <p:nvPr/>
        </p:nvSpPr>
        <p:spPr>
          <a:xfrm rot="10800000">
            <a:off x="3962520" y="3885840"/>
            <a:ext cx="372960" cy="1143000"/>
          </a:xfrm>
          <a:custGeom>
            <a:avLst/>
            <a:gdLst>
              <a:gd name="textAreaLeft" fmla="*/ 0 w 372960"/>
              <a:gd name="textAreaRight" fmla="*/ 373320 w 372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88" h="1782">
                <a:moveTo>
                  <a:pt x="117" y="18"/>
                </a:moveTo>
                <a:cubicBezTo>
                  <a:pt x="180" y="22"/>
                  <a:pt x="244" y="17"/>
                  <a:pt x="302" y="28"/>
                </a:cubicBezTo>
                <a:cubicBezTo>
                  <a:pt x="319" y="32"/>
                  <a:pt x="319" y="47"/>
                  <a:pt x="319" y="57"/>
                </a:cubicBezTo>
                <a:cubicBezTo>
                  <a:pt x="329" y="208"/>
                  <a:pt x="273" y="197"/>
                  <a:pt x="283" y="348"/>
                </a:cubicBezTo>
                <a:cubicBezTo>
                  <a:pt x="286" y="391"/>
                  <a:pt x="200" y="498"/>
                  <a:pt x="265" y="510"/>
                </a:cubicBezTo>
                <a:cubicBezTo>
                  <a:pt x="369" y="603"/>
                  <a:pt x="320" y="637"/>
                  <a:pt x="265" y="861"/>
                </a:cubicBezTo>
                <a:cubicBezTo>
                  <a:pt x="259" y="887"/>
                  <a:pt x="378" y="893"/>
                  <a:pt x="352" y="913"/>
                </a:cubicBezTo>
                <a:cubicBezTo>
                  <a:pt x="327" y="932"/>
                  <a:pt x="285" y="972"/>
                  <a:pt x="285" y="972"/>
                </a:cubicBezTo>
                <a:cubicBezTo>
                  <a:pt x="278" y="1261"/>
                  <a:pt x="588" y="1782"/>
                  <a:pt x="168" y="1611"/>
                </a:cubicBezTo>
                <a:cubicBezTo>
                  <a:pt x="163" y="1576"/>
                  <a:pt x="281" y="1521"/>
                  <a:pt x="247" y="1491"/>
                </a:cubicBezTo>
                <a:cubicBezTo>
                  <a:pt x="225" y="1473"/>
                  <a:pt x="184" y="1483"/>
                  <a:pt x="148" y="1473"/>
                </a:cubicBezTo>
                <a:cubicBezTo>
                  <a:pt x="133" y="1469"/>
                  <a:pt x="23" y="1473"/>
                  <a:pt x="17" y="1463"/>
                </a:cubicBezTo>
                <a:cubicBezTo>
                  <a:pt x="34" y="1457"/>
                  <a:pt x="49" y="1449"/>
                  <a:pt x="68" y="1445"/>
                </a:cubicBezTo>
                <a:cubicBezTo>
                  <a:pt x="94" y="1439"/>
                  <a:pt x="138" y="1449"/>
                  <a:pt x="151" y="1435"/>
                </a:cubicBezTo>
                <a:cubicBezTo>
                  <a:pt x="210" y="1365"/>
                  <a:pt x="127" y="1365"/>
                  <a:pt x="68" y="1356"/>
                </a:cubicBezTo>
                <a:cubicBezTo>
                  <a:pt x="57" y="1346"/>
                  <a:pt x="234" y="1329"/>
                  <a:pt x="247" y="1320"/>
                </a:cubicBezTo>
                <a:cubicBezTo>
                  <a:pt x="270" y="1303"/>
                  <a:pt x="134" y="1307"/>
                  <a:pt x="134" y="1307"/>
                </a:cubicBezTo>
                <a:cubicBezTo>
                  <a:pt x="129" y="1270"/>
                  <a:pt x="146" y="1230"/>
                  <a:pt x="117" y="1198"/>
                </a:cubicBezTo>
                <a:cubicBezTo>
                  <a:pt x="104" y="1184"/>
                  <a:pt x="146" y="1175"/>
                  <a:pt x="121" y="1167"/>
                </a:cubicBezTo>
                <a:cubicBezTo>
                  <a:pt x="104" y="1162"/>
                  <a:pt x="11" y="1169"/>
                  <a:pt x="0" y="1159"/>
                </a:cubicBezTo>
                <a:cubicBezTo>
                  <a:pt x="45" y="1156"/>
                  <a:pt x="108" y="1172"/>
                  <a:pt x="134" y="1149"/>
                </a:cubicBezTo>
                <a:cubicBezTo>
                  <a:pt x="163" y="1125"/>
                  <a:pt x="142" y="1087"/>
                  <a:pt x="117" y="1061"/>
                </a:cubicBezTo>
                <a:cubicBezTo>
                  <a:pt x="98" y="1039"/>
                  <a:pt x="17" y="1022"/>
                  <a:pt x="17" y="1022"/>
                </a:cubicBezTo>
                <a:cubicBezTo>
                  <a:pt x="57" y="1018"/>
                  <a:pt x="115" y="1032"/>
                  <a:pt x="134" y="1012"/>
                </a:cubicBezTo>
                <a:cubicBezTo>
                  <a:pt x="208" y="931"/>
                  <a:pt x="262" y="895"/>
                  <a:pt x="175" y="879"/>
                </a:cubicBezTo>
                <a:cubicBezTo>
                  <a:pt x="154" y="847"/>
                  <a:pt x="151" y="845"/>
                  <a:pt x="139" y="834"/>
                </a:cubicBezTo>
                <a:cubicBezTo>
                  <a:pt x="127" y="823"/>
                  <a:pt x="109" y="834"/>
                  <a:pt x="100" y="814"/>
                </a:cubicBezTo>
                <a:cubicBezTo>
                  <a:pt x="94" y="782"/>
                  <a:pt x="102" y="747"/>
                  <a:pt x="85" y="716"/>
                </a:cubicBezTo>
                <a:cubicBezTo>
                  <a:pt x="79" y="705"/>
                  <a:pt x="179" y="699"/>
                  <a:pt x="166" y="690"/>
                </a:cubicBezTo>
                <a:cubicBezTo>
                  <a:pt x="155" y="683"/>
                  <a:pt x="23" y="678"/>
                  <a:pt x="17" y="668"/>
                </a:cubicBezTo>
                <a:cubicBezTo>
                  <a:pt x="55" y="660"/>
                  <a:pt x="125" y="671"/>
                  <a:pt x="134" y="648"/>
                </a:cubicBezTo>
                <a:cubicBezTo>
                  <a:pt x="174" y="550"/>
                  <a:pt x="151" y="551"/>
                  <a:pt x="68" y="520"/>
                </a:cubicBezTo>
                <a:cubicBezTo>
                  <a:pt x="57" y="510"/>
                  <a:pt x="126" y="486"/>
                  <a:pt x="130" y="474"/>
                </a:cubicBezTo>
                <a:cubicBezTo>
                  <a:pt x="134" y="461"/>
                  <a:pt x="117" y="463"/>
                  <a:pt x="134" y="460"/>
                </a:cubicBezTo>
                <a:cubicBezTo>
                  <a:pt x="119" y="410"/>
                  <a:pt x="134" y="379"/>
                  <a:pt x="51" y="362"/>
                </a:cubicBezTo>
                <a:cubicBezTo>
                  <a:pt x="45" y="352"/>
                  <a:pt x="21" y="340"/>
                  <a:pt x="34" y="332"/>
                </a:cubicBezTo>
                <a:cubicBezTo>
                  <a:pt x="53" y="320"/>
                  <a:pt x="108" y="338"/>
                  <a:pt x="117" y="322"/>
                </a:cubicBezTo>
                <a:cubicBezTo>
                  <a:pt x="174" y="230"/>
                  <a:pt x="129" y="230"/>
                  <a:pt x="51" y="215"/>
                </a:cubicBezTo>
                <a:cubicBezTo>
                  <a:pt x="45" y="205"/>
                  <a:pt x="108" y="166"/>
                  <a:pt x="121" y="159"/>
                </a:cubicBezTo>
                <a:cubicBezTo>
                  <a:pt x="140" y="147"/>
                  <a:pt x="104" y="189"/>
                  <a:pt x="117" y="175"/>
                </a:cubicBezTo>
                <a:cubicBezTo>
                  <a:pt x="170" y="120"/>
                  <a:pt x="94" y="115"/>
                  <a:pt x="51" y="106"/>
                </a:cubicBezTo>
                <a:cubicBezTo>
                  <a:pt x="40" y="96"/>
                  <a:pt x="13" y="88"/>
                  <a:pt x="17" y="77"/>
                </a:cubicBezTo>
                <a:cubicBezTo>
                  <a:pt x="21" y="65"/>
                  <a:pt x="207" y="60"/>
                  <a:pt x="220" y="51"/>
                </a:cubicBezTo>
                <a:cubicBezTo>
                  <a:pt x="292" y="0"/>
                  <a:pt x="34" y="44"/>
                  <a:pt x="117" y="18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c5d50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5" name="rg_hi" descr="http://t1.gstatic.com/images?q=tbn:ANd9GcTc3s3kmMcnLSpYLkLAXZhevJxWDVgSvBbFgwXgBjOnh1dNWo_mFQ"/>
          <p:cNvPicPr/>
          <p:nvPr/>
        </p:nvPicPr>
        <p:blipFill>
          <a:blip r:embed="rId1"/>
          <a:stretch/>
        </p:blipFill>
        <p:spPr>
          <a:xfrm>
            <a:off x="1600200" y="1219320"/>
            <a:ext cx="6324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9360" y="2421000"/>
            <a:ext cx="8433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Characteristics of glomerular membrane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 passage of molecules up to 70,000 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bumin does not normally pass as they are repelled by the negative charge of th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lycoprotein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terial of basement membra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cells don not normally pass through the membra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Filtration Rate (GFR)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GFR is determined b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the net filtration pressure across the glomerular capillar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- the glomerular capillary filtration coefficient (Kf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Kf x Net filtration pressu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12.5 X 10 = 125 ml/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What are the functions of the kidney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water and electrolyte bal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body fluid osmolality &amp; electrolyt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xcretion of waste products (UREA, CREATININE, URIC ACID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arterial blood pressure (RAS, excretion of excess salt and water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acid/base bal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etoxification and excretion of drug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ynthesitic function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- active form of vit D (D3)= 1,25 dihydroxycholicalciferol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2- Erythropoietin produc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3- Renin forma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4- Synthesis of glucose from amino acids during prolonged fasting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Filtration Rate (GFR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ltrate formed per minu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ltration coefficient (K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 depends on permeability and surface area of filtration barri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NFP x K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125 ml/min or 180 L/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10 X 12.5 = 125 ml/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99% of filtrate reabsorbed, 1 to 2 L urine excre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Forces</a:t>
            </a:r>
            <a:r>
              <a:rPr b="0" lang="en-US" sz="3600" spc="-1" strike="noStrike">
                <a:solidFill>
                  <a:srgbClr val="7c5d5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controlling GFR: Starling’s forc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The net filtration pressure is the sum of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. glomerular hydrostatic pressure (= 60 mmHg). It promot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. hydrostatic pressure in Bowman’s capsule (= 18 mmHg). It oppos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. colloid osmotic pressure of glomerular plasma proteins  (= 32 mmHg). It oppos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, net filtration pressure = 60-18-32= 10 mmH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t Filtration Pressure (NFP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17" name="Picture 3" descr="H:\$$SaladinPowerPoints\Images\Ch-23labeled\0808L.JPG"/>
          <p:cNvPicPr/>
          <p:nvPr/>
        </p:nvPicPr>
        <p:blipFill>
          <a:blip r:embed="rId1"/>
          <a:srcRect l="0" t="13772" r="0" b="0"/>
          <a:stretch/>
        </p:blipFill>
        <p:spPr>
          <a:xfrm>
            <a:off x="506520" y="1371600"/>
            <a:ext cx="812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1629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w Cen MT"/>
              </a:rPr>
              <a:t>CONTROL OF GF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533520" y="1447920"/>
            <a:ext cx="8076960" cy="1523880"/>
          </a:xfrm>
          <a:prstGeom prst="rect">
            <a:avLst/>
          </a:prstGeom>
          <a:gradFill rotWithShape="0">
            <a:gsLst>
              <a:gs pos="0">
                <a:srgbClr val="00002a"/>
              </a:gs>
              <a:gs pos="50000">
                <a:srgbClr val="00005a"/>
              </a:gs>
              <a:gs pos="100000">
                <a:srgbClr val="00002a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GFR = Kf x [(P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G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-P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B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)-(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G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- 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B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)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GFR = Kf x [(60-18)-(32- 0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609480" y="3245760"/>
            <a:ext cx="7925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static pressure inside the glomerular capillaries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(glomerular hydrostatic pressure, PG), which promotes fil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hydrostatic pressure in bowman's capsule (PB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ide the capillaries, which oppos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The colloid osmotic pressure of the glomerular capillary plasma proteins (πg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oppos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colloid osmotic pressure of the proteins in bowman's capsule (πb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promot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How changes in Forces determining GFR affect GF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Bowman’s capsule pressur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creases GFR. It can happen in urinary obstruction e.g.  stones , tumors.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ar capillary colloid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smotic pressure decreases  GFR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ar capillary hydrostatic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essure increases GFR. This pressure is affected b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BP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fferent arteriolar resistanc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fferent arteriolar resista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5"/>
          <p:cNvSpPr/>
          <p:nvPr/>
        </p:nvSpPr>
        <p:spPr>
          <a:xfrm>
            <a:off x="90000" y="5238720"/>
            <a:ext cx="90086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s vasodilation and vasoconstriction of the afferent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erent arterioles alter the blood flow through 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lomerular capillaries, there are corresponding alter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the glomerular filtration rate (GFR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"/>
          <p:cNvPicPr/>
          <p:nvPr/>
        </p:nvPicPr>
        <p:blipFill>
          <a:blip r:embed="rId1"/>
          <a:stretch/>
        </p:blipFill>
        <p:spPr>
          <a:xfrm>
            <a:off x="1079640" y="42840"/>
            <a:ext cx="7773840" cy="1332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14_09"/>
          <p:cNvPicPr/>
          <p:nvPr/>
        </p:nvPicPr>
        <p:blipFill>
          <a:blip r:embed="rId2"/>
          <a:stretch/>
        </p:blipFill>
        <p:spPr>
          <a:xfrm>
            <a:off x="1541520" y="723960"/>
            <a:ext cx="62499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Factors affecting Renal blood flow and GFR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mpathetic stimulation of renal arterioles decrease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repinephrine de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giotensin II decreases RBF. It constricts efferent arteriole more than afferent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protein diet increases GF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yperglycemia in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ver in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ging decreases RBF &amp; GF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Nitrogenous Was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240" y="1773360"/>
            <a:ext cx="7086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tein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ino acid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remov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ms ammonia, liver converts to urea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ric aci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in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4" descr="H:\$$SaladinPowerPoints\Images\Ch-23labeled\0798L.JPG"/>
          <p:cNvPicPr/>
          <p:nvPr/>
        </p:nvPicPr>
        <p:blipFill>
          <a:blip r:embed="rId1"/>
          <a:srcRect l="59385" t="15024" r="15311" b="54987"/>
          <a:stretch/>
        </p:blipFill>
        <p:spPr>
          <a:xfrm>
            <a:off x="7162920" y="1523880"/>
            <a:ext cx="1447560" cy="1287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H:\$$SaladinPowerPoints\Images\Ch-23labeled\0798L.JPG"/>
          <p:cNvPicPr/>
          <p:nvPr/>
        </p:nvPicPr>
        <p:blipFill>
          <a:blip r:embed="rId2"/>
          <a:srcRect l="11578" t="52519" r="48118" b="2498"/>
          <a:stretch/>
        </p:blipFill>
        <p:spPr>
          <a:xfrm>
            <a:off x="2843280" y="328464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H:\$$SaladinPowerPoints\Images\Ch-23labeled\0798L.JPG"/>
          <p:cNvPicPr/>
          <p:nvPr/>
        </p:nvPicPr>
        <p:blipFill>
          <a:blip r:embed="rId3"/>
          <a:srcRect l="60324" t="51267" r="10621" b="2498"/>
          <a:stretch/>
        </p:blipFill>
        <p:spPr>
          <a:xfrm>
            <a:off x="4140360" y="5029200"/>
            <a:ext cx="153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fImage" descr="showimage"/>
          <p:cNvPicPr/>
          <p:nvPr/>
        </p:nvPicPr>
        <p:blipFill>
          <a:blip r:embed="rId1"/>
          <a:stretch/>
        </p:blipFill>
        <p:spPr>
          <a:xfrm>
            <a:off x="1143000" y="2209680"/>
            <a:ext cx="6858000" cy="4191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406" name="Rectangle 10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PHYSIOLOGIC ANATOMY OF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762120" y="1339200"/>
            <a:ext cx="23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Clenched F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ght 150 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2"/>
          <p:cNvSpPr/>
          <p:nvPr/>
        </p:nvSpPr>
        <p:spPr>
          <a:xfrm flipH="1">
            <a:off x="6095880" y="2590920"/>
            <a:ext cx="457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What is the functional unit of the kidney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nephron is the functional and structural unit of the kidne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kidney has 1 million nephrons, each nephron is capable of urine form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Structure of a nephr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us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capillary tuft: in which large amount of fluid is filtered from blood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Bwaman’s capsul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Around the glomerulus and receives the filtrat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Tubules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in which filtered fluid eventually is converted into urin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10" descr="https://encrypted-tbn0.gstatic.com/images?q=tbn:ANd9GcTDfiewCBzFVGaze2yLZc-XdAGSOVQQM6CWTCaw3XnzGOkbhhJvsg"/>
          <p:cNvPicPr/>
          <p:nvPr/>
        </p:nvPicPr>
        <p:blipFill>
          <a:blip r:embed="rId1"/>
          <a:stretch/>
        </p:blipFill>
        <p:spPr>
          <a:xfrm>
            <a:off x="4951440" y="1916280"/>
            <a:ext cx="36702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506520" y="1341360"/>
            <a:ext cx="8129520" cy="5287680"/>
            <a:chOff x="506520" y="1341360"/>
            <a:chExt cx="8129520" cy="5287680"/>
          </a:xfrm>
        </p:grpSpPr>
        <p:pic>
          <p:nvPicPr>
            <p:cNvPr id="415" name="Picture 3" descr="0805L"/>
            <p:cNvPicPr/>
            <p:nvPr/>
          </p:nvPicPr>
          <p:blipFill>
            <a:blip r:embed="rId1"/>
            <a:srcRect l="0" t="10022" r="0" b="1252"/>
            <a:stretch/>
          </p:blipFill>
          <p:spPr>
            <a:xfrm>
              <a:off x="506520" y="1414800"/>
              <a:ext cx="8129520" cy="52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Rectangle 4"/>
            <p:cNvSpPr/>
            <p:nvPr/>
          </p:nvSpPr>
          <p:spPr>
            <a:xfrm>
              <a:off x="4876920" y="1341360"/>
              <a:ext cx="38088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c5d50"/>
                </a:solidFill>
                <a:latin typeface="Tw Cen MT"/>
              </a:rPr>
              <a:t>The Glomerulu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411360" y="5638320"/>
            <a:ext cx="5275440" cy="83844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Glomerular filtrate collects in capsular space, flows into renal tubul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c5d50"/>
                </a:solidFill>
                <a:latin typeface="Tw Cen MT"/>
              </a:rPr>
              <a:t>Structure of a Nephro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0" name="rg_hi" descr="http://t0.gstatic.com/images?q=tbn:ANd9GcTeUcv4XftpfPvdsc_l9eEJ6KUQgaHjyunEsAFjUk1Zhcf03MXV"/>
          <p:cNvPicPr/>
          <p:nvPr/>
        </p:nvPicPr>
        <p:blipFill>
          <a:blip r:embed="rId1"/>
          <a:stretch/>
        </p:blipFill>
        <p:spPr>
          <a:xfrm>
            <a:off x="1676520" y="1600200"/>
            <a:ext cx="6248160" cy="41148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5105520" y="5181480"/>
            <a:ext cx="320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1- Glomer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2- P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3- Loop of Hen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4- D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5- Collecting tubules &amp; duct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03:12:17Z</dcterms:created>
  <dc:creator>user</dc:creator>
  <dc:description/>
  <dc:language>en-US</dc:language>
  <cp:lastModifiedBy>Manan</cp:lastModifiedBy>
  <dcterms:modified xsi:type="dcterms:W3CDTF">2016-04-11T06:21:06Z</dcterms:modified>
  <cp:revision>20</cp:revision>
  <dc:subject/>
  <dc:title>Renal functions &amp; GFR</dc:title>
</cp:coreProperties>
</file>