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E92-2C3F-42D1-A847-AD3383FA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31E-6F27-41B8-B40C-A5BD467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354F0-0ADF-40AF-903D-7625F67B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528DE-DCD7-4FE1-B584-A6341100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DA16C-D86E-4D6F-A3DC-60827E21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E1626-5ABC-4876-8D67-561CD2D0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8AB2D-36AE-43E4-8A94-7B26E3A0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7B5C0-C576-47BE-8C9E-C51519D8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9403D-E815-4F46-AB65-3B245A1B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3FDEA-2AF5-4C22-999C-3C51B2D3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7F66A-E2A8-4788-BE49-720EABA3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372-1589-4EE7-B2DF-A9C6E4AF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0DC-15FA-4008-BDE2-36446022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C680-182D-4B6C-8357-3EB0092A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1FA7-B70F-409B-AA53-88A5E7B6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A149-8CF5-405F-ADFA-7D802999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BE9E-93CB-47CC-B425-3FAFC1FB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BA7F-14CF-487A-9653-4F5E0AC3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A6BC-C48F-4031-AD89-0A9FA081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AE1-832F-4AE6-8F51-F4A7A9E6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840-6E8F-4FB7-9E11-F176F53C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D8F1-7DC1-4E37-9E7C-D5F61401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E5C7-AB3C-4106-B102-68808E14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3661-3D35-46E5-AC97-03FAA44E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FB42-926D-4CCF-BBC4-6E4E9CC6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F36C-6E6B-4219-BADF-C31A672C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AD630-8697-402D-9A54-D93A3ACF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40FA1-70C1-4277-BF05-7E608E6C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4114A-0430-4218-A85C-2D39070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A5BC4-0DC1-4E44-8587-6DFDF06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04C4C-9CD1-4B10-8DC2-883ACC81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427-E293-4E8F-B3D1-99B46524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A2CAE-4454-4DC3-8921-7D6525B1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741CA9-BA1C-4CA2-8595-C9F00DBB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5D7C6-7BE4-44AC-AABD-5706B703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85B52-DC84-4E6F-A7C4-0DD64B96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0AF34-759D-4A46-B274-4361BE6E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9DC86E-F32F-488B-BE88-A7AA5CB4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DC14C-0596-49F6-8371-E01C086F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B434A-EE25-4D85-9A5F-9905116B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3A1B9-B7E9-4D52-8370-75C6D630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2C2AF1-2E84-4B88-A562-58C58CFE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229-1130-476D-8096-ABB9F1F4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4B0BC-8FDE-4ED9-878D-F06AF5A6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BD873-06B7-4BA3-91AF-86D5AA3D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0ACD9-6733-475D-A21F-DFE1EBC8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A3B4F-34B9-444F-87D9-23AC1A2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088B5-58E9-48E0-B9CA-1636D67F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4B931-FECA-48CC-BC3D-02ACF8F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822BC-52FB-4222-8A90-46872E1B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6964D-D048-4154-8B41-929111AE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8A05D-ADD4-4E62-B68C-852FB749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D6CA5-4A2E-4021-B290-7BF27B42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1E7-98B4-4FAE-BE78-64F7EBCF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8CC81-1ACC-4ECB-B661-036378C2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888A4-2A9B-4D9D-83C4-1CD91C4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26395-0AA9-4CCF-8779-E4AF18CB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0E8DE-AEB8-4C09-A4B4-8C078C4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7D5B6-98EB-41C7-BD8D-8A7423C6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71943-602B-46EB-88B8-0B670BAF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4EA3A-DBA1-407D-9D63-1097C547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ABF35-5E47-4D31-926D-ED410074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59E12-2BFE-4EE0-B959-5A3B79F2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B1A437-4E37-4F85-B4CE-A690DC72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87E-1AFD-4409-91C3-01EB6170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4C47B-CCDA-4C4C-92ED-9A8F16FD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BB74F-62EE-48FD-8F92-9279B60D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58278-F130-4596-B567-1B7995BC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2E16-3E09-4109-BE3B-AC925761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C9EFA-39E7-455E-8633-FC653686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1D3CB-3167-43B8-A439-714FE2CD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9C672-DEF0-48EE-AF6D-42AB4E01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6C5B5-C064-468D-850E-0A1BE105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723BC-D9EB-425F-BBFC-338C3606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8CF46-75AC-490F-986A-E83AEEBD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F01-697F-4609-9033-539992E3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35DEE-9B78-4823-95E5-951C5074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9B129-E82E-4504-8AF3-A544A4BE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5224A-9595-4176-80BD-3167D809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736576-9B62-4D99-B1F8-53991785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5B626-ABF9-4FCA-8727-7EE53623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E9E36-7A84-4EE3-A9F5-A0612502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BD8DD-6CD6-4BFD-ADF8-67185EA7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824E29-CD89-4E0D-A9D3-51D4549B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F6842-D9EA-495F-B660-7BE51BCF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22F5A-380E-4893-8D58-B3CF3A6B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E56-5785-494E-8878-44DCD1CE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84503-1BF1-4BE0-88EE-6F70095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B9FCD5-4D93-4CF5-9076-277C2B3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E6608-0E60-4F69-A4FB-64BA53C9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2F75D-A5AE-484E-B0DB-F706C50D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1DB3A-AFB6-4903-9AB9-9CC3241D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DD390-55F0-4532-8125-FD14A3F8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99617-3F34-455E-BC40-37587E4B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ED9F7-C20C-4B53-8AA9-2E694877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B7210-91B5-4327-9CA4-D403ACD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0F626-BF23-4581-A829-26F12839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E1A-9A0D-412E-9030-B83B05EA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283F7-6C71-47FE-8C03-0031F6DC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041AF-6AE5-4F9F-B6B3-692A7A46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AF4EA-4DFA-499D-94D1-F03BC824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55AED-F545-40AA-81AA-42BD5C6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20131-1C27-44EE-8FE9-52483476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87321-8A2B-44B0-8370-E13A69BA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2EF17-6FDE-4C24-8570-5D984C5C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EFCF0-3B4C-4D35-A76B-2A4E32E2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61FDB-D04C-4FD1-B1B7-D528F1F2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B6D91-9CA8-4732-9ADD-B0728E34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63B4-04BC-4260-8AF7-FE771126D4F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59D4-3CF9-450D-A9B6-97B78C95ACAA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CF36-E386-4D3B-9E0F-E77B93DF67CE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5C8C-8810-41E9-81A2-643E3EC9BE2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DAFA-3D62-472F-9C50-846A199C435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7675-4B1F-4C10-865F-F191F7D5469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749C-CE8C-46F2-A07A-FBC85666BBAD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B845-4418-496C-89FB-827F698C402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30C7-F81F-4BBE-926B-D6BD16E5445B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NAL FUNCTIONS &amp; GFR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w Cen MT"/>
              </a:rPr>
              <a:t>Structure of a nephron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renal tubule is divided into different sections with different structural and functional characteristic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oximal tubules ( in the cortex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op of Henl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istal tubule (in the renal cortex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necting tubule, cortical collecting, and the cortical collecting ducts, which run downward in the medulla and becom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edullary collecting duc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w Cen MT"/>
              </a:rPr>
              <a:t>RENAL BLOOD VESSEL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238880" cy="396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AFFERENT ARTERIOL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ELIVERS BLOOD INTO THE GLOMERUL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GLOMERULI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APILLARY NETWORK THAT PRODUCES FILTRATE THAT ENTERS THE URINARY TUBUL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FFERENT ARTERIOL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ELIVERS BLOOD FROM GLOMERULI TO PERITUBULAR CAPILLARI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PERITUBULAR CAPILLAR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ASA RECT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5b22"/>
                </a:solidFill>
                <a:latin typeface="Tw Cen MT"/>
              </a:rPr>
              <a:t>Structure of a nephron, cont….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360" y="1600200"/>
            <a:ext cx="583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Types of nephr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1- Cortical nephrons: (85%)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ir glomeruli in the outer portion of cortex and have short loops of Henl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 Peritubular capelarie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2-Juxtamedullary nephrons: (15%)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ave long loops extended into the medulla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Vasa rec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intain salt gradient, helps conserve wat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8" name="Picture 3" descr="H:\$$SaladinPowerPoints\Images\Ch-23labeled\0804L.JPG"/>
          <p:cNvPicPr/>
          <p:nvPr/>
        </p:nvPicPr>
        <p:blipFill>
          <a:blip r:embed="rId1"/>
          <a:srcRect l="31265" t="12526" r="37807" b="0"/>
          <a:stretch/>
        </p:blipFill>
        <p:spPr>
          <a:xfrm>
            <a:off x="6629400" y="1523880"/>
            <a:ext cx="2514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330984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838080" y="2362320"/>
            <a:ext cx="2286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1-2 %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F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hr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Juxta Medul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Neph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fImage" descr="showimage"/>
          <p:cNvPicPr/>
          <p:nvPr/>
        </p:nvPicPr>
        <p:blipFill>
          <a:blip r:embed="rId1"/>
          <a:srcRect l="14343" t="0" r="13942" b="4713"/>
          <a:stretch/>
        </p:blipFill>
        <p:spPr>
          <a:xfrm>
            <a:off x="3429000" y="533520"/>
            <a:ext cx="5286240" cy="5867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533520" y="60948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NEPHRON TYPES Cortical and Juxtamedullary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"/>
          <p:cNvPicPr/>
          <p:nvPr/>
        </p:nvPicPr>
        <p:blipFill>
          <a:blip r:embed="rId2"/>
          <a:srcRect l="21093" t="8333" r="23438" b="15627"/>
          <a:stretch/>
        </p:blipFill>
        <p:spPr>
          <a:xfrm>
            <a:off x="3352680" y="533520"/>
            <a:ext cx="5410440" cy="5867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9"/>
          <p:cNvSpPr/>
          <p:nvPr/>
        </p:nvSpPr>
        <p:spPr>
          <a:xfrm>
            <a:off x="7391520" y="846000"/>
            <a:ext cx="1523880" cy="75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Originates in outer 2/3 of cort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7467480" y="4427640"/>
            <a:ext cx="1524240" cy="75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Originates in inner 1/3 of cort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Renal blood flow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360" y="1600200"/>
            <a:ext cx="460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nal blood flow to the kidney represents 20% of cardiac outpu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blood flows to each kidney through a renal arter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w Cen MT"/>
              </a:rPr>
              <a:t>Features of renal circulatio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- High blood flow rate (1200 ml/min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- Presence of two capillary beds: glomerular and peritubula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fferent and afferent arterioles are major sites of renal resist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38" name="Group 14"/>
          <p:cNvGrpSpPr/>
          <p:nvPr/>
        </p:nvGrpSpPr>
        <p:grpSpPr>
          <a:xfrm>
            <a:off x="5364000" y="1628640"/>
            <a:ext cx="3428640" cy="4251240"/>
            <a:chOff x="5364000" y="1628640"/>
            <a:chExt cx="3428640" cy="4251240"/>
          </a:xfrm>
        </p:grpSpPr>
        <p:pic>
          <p:nvPicPr>
            <p:cNvPr id="439" name="Picture 4" descr="Juxtaglom apparatus"/>
            <p:cNvPicPr/>
            <p:nvPr/>
          </p:nvPicPr>
          <p:blipFill>
            <a:blip r:embed="rId1"/>
            <a:srcRect l="58539" t="0" r="1046" b="0"/>
            <a:stretch/>
          </p:blipFill>
          <p:spPr>
            <a:xfrm>
              <a:off x="5585040" y="1628640"/>
              <a:ext cx="3207600" cy="42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Rectangle 13"/>
            <p:cNvSpPr/>
            <p:nvPr/>
          </p:nvSpPr>
          <p:spPr>
            <a:xfrm>
              <a:off x="5364000" y="2035080"/>
              <a:ext cx="663480" cy="11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Urine formati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primary function of the kidney is to ‘clear’ unneeded substances from the blood to be excreted in urin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eps of urine formation (basic renal processes)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1- Glomerular filtration: Filtration of fluid from glomerular capillaries into the renal tubule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2- Tubular reabsorption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3- Tubular se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4- Ex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w Cen MT"/>
              </a:rPr>
              <a:t>Urinary excretion rate = Filtration rate- reabsorption+se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609480" y="304920"/>
            <a:ext cx="3048120" cy="1904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RENAL PROCESSES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3352680" y="380880"/>
            <a:ext cx="5140080" cy="5321160"/>
            <a:chOff x="3352680" y="380880"/>
            <a:chExt cx="5140080" cy="5321160"/>
          </a:xfrm>
        </p:grpSpPr>
        <p:sp>
          <p:nvSpPr>
            <p:cNvPr id="445" name="AutoShape 4"/>
            <p:cNvSpPr/>
            <p:nvPr/>
          </p:nvSpPr>
          <p:spPr>
            <a:xfrm rot="2588400">
              <a:off x="6553080" y="3200040"/>
              <a:ext cx="914400" cy="99036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44360 h 990360"/>
                <a:gd name="textAreaBottom" fmla="*/ 8460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6830" y="14032"/>
                  </a:moveTo>
                  <a:cubicBezTo>
                    <a:pt x="17363" y="13038"/>
                    <a:pt x="17642" y="11927"/>
                    <a:pt x="17642" y="10800"/>
                  </a:cubicBezTo>
                  <a:cubicBezTo>
                    <a:pt x="17642" y="7021"/>
                    <a:pt x="14578" y="3958"/>
                    <a:pt x="10800" y="3958"/>
                  </a:cubicBezTo>
                  <a:cubicBezTo>
                    <a:pt x="9672" y="3957"/>
                    <a:pt x="8561" y="4236"/>
                    <a:pt x="7567" y="4769"/>
                  </a:cubicBezTo>
                  <a:close/>
                  <a:moveTo>
                    <a:pt x="4769" y="7567"/>
                  </a:moveTo>
                  <a:cubicBezTo>
                    <a:pt x="4236" y="8561"/>
                    <a:pt x="3958" y="9672"/>
                    <a:pt x="3958" y="10799"/>
                  </a:cubicBezTo>
                  <a:cubicBezTo>
                    <a:pt x="3958" y="14578"/>
                    <a:pt x="7021" y="17642"/>
                    <a:pt x="10800" y="17642"/>
                  </a:cubicBezTo>
                  <a:cubicBezTo>
                    <a:pt x="11927" y="17642"/>
                    <a:pt x="13038" y="17363"/>
                    <a:pt x="14032" y="1683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"/>
            <p:cNvSpPr/>
            <p:nvPr/>
          </p:nvSpPr>
          <p:spPr>
            <a:xfrm flipV="1">
              <a:off x="5257800" y="909360"/>
              <a:ext cx="304920" cy="1224000"/>
            </a:xfrm>
            <a:prstGeom prst="can">
              <a:avLst>
                <a:gd name="adj" fmla="val 98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6"/>
            <p:cNvSpPr/>
            <p:nvPr/>
          </p:nvSpPr>
          <p:spPr>
            <a:xfrm>
              <a:off x="5105520" y="2590560"/>
              <a:ext cx="609480" cy="2743200"/>
            </a:xfrm>
            <a:prstGeom prst="can">
              <a:avLst>
                <a:gd name="adj" fmla="val 989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7"/>
            <p:cNvSpPr/>
            <p:nvPr/>
          </p:nvSpPr>
          <p:spPr>
            <a:xfrm flipV="1">
              <a:off x="4343400" y="1370520"/>
              <a:ext cx="2133720" cy="15238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23880"/>
                <a:gd name="textAreaBottom" fmla="*/ 14050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21" y="16671"/>
                  </a:moveTo>
                  <a:cubicBezTo>
                    <a:pt x="6029" y="15702"/>
                    <a:pt x="4465" y="13380"/>
                    <a:pt x="4465" y="10800"/>
                  </a:cubicBezTo>
                  <a:cubicBezTo>
                    <a:pt x="4465" y="7301"/>
                    <a:pt x="7301" y="4465"/>
                    <a:pt x="10800" y="4465"/>
                  </a:cubicBezTo>
                  <a:cubicBezTo>
                    <a:pt x="14298" y="4465"/>
                    <a:pt x="17135" y="7301"/>
                    <a:pt x="17135" y="10800"/>
                  </a:cubicBezTo>
                  <a:cubicBezTo>
                    <a:pt x="17135" y="13380"/>
                    <a:pt x="15570" y="15702"/>
                    <a:pt x="13178" y="16671"/>
                  </a:cubicBezTo>
                  <a:lnTo>
                    <a:pt x="14855" y="20809"/>
                  </a:lnTo>
                  <a:cubicBezTo>
                    <a:pt x="18932" y="19157"/>
                    <a:pt x="21600" y="1519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198"/>
                    <a:pt x="2667" y="19157"/>
                    <a:pt x="6744" y="20809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8"/>
            <p:cNvSpPr/>
            <p:nvPr/>
          </p:nvSpPr>
          <p:spPr>
            <a:xfrm>
              <a:off x="5029200" y="1828800"/>
              <a:ext cx="76212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9"/>
            <p:cNvSpPr/>
            <p:nvPr/>
          </p:nvSpPr>
          <p:spPr>
            <a:xfrm>
              <a:off x="3352680" y="833400"/>
              <a:ext cx="1981440" cy="30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0"/>
            <p:cNvSpPr/>
            <p:nvPr/>
          </p:nvSpPr>
          <p:spPr>
            <a:xfrm>
              <a:off x="5486400" y="833400"/>
              <a:ext cx="1676520" cy="30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11"/>
            <p:cNvSpPr/>
            <p:nvPr/>
          </p:nvSpPr>
          <p:spPr>
            <a:xfrm>
              <a:off x="6858000" y="833400"/>
              <a:ext cx="304920" cy="267156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671560"/>
                <a:gd name="textAreaBottom" fmla="*/ 2656800 h 2671560"/>
              </a:gdLst>
              <a:ahLst/>
              <a:rect l="textAreaLeft" t="textAreaTop" r="textAreaRight" b="textAreaBottom"/>
              <a:pathLst>
                <a:path w="21600" h="189051">
                  <a:moveTo>
                    <a:pt x="3600" y="0"/>
                  </a:moveTo>
                  <a:arcTo wR="3600" hR="3600" stAng="16200000" swAng="-5400000"/>
                  <a:lnTo>
                    <a:pt x="0" y="185451"/>
                  </a:lnTo>
                  <a:arcTo wR="3600" hR="3600" stAng="10800000" swAng="-5400000"/>
                  <a:lnTo>
                    <a:pt x="18000" y="189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12"/>
            <p:cNvSpPr/>
            <p:nvPr/>
          </p:nvSpPr>
          <p:spPr>
            <a:xfrm>
              <a:off x="6858000" y="3962160"/>
              <a:ext cx="304920" cy="16002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600200"/>
                <a:gd name="textAreaBottom" fmla="*/ 1585440 h 1600200"/>
              </a:gdLst>
              <a:ahLst/>
              <a:rect l="textAreaLeft" t="textAreaTop" r="textAreaRight" b="textAreaBottom"/>
              <a:pathLst>
                <a:path w="21600" h="113247">
                  <a:moveTo>
                    <a:pt x="3600" y="0"/>
                  </a:moveTo>
                  <a:arcTo wR="3600" hR="3600" stAng="16200000" swAng="-5400000"/>
                  <a:lnTo>
                    <a:pt x="0" y="109647"/>
                  </a:lnTo>
                  <a:arcTo wR="3600" hR="3600" stAng="10800000" swAng="-5400000"/>
                  <a:lnTo>
                    <a:pt x="18000" y="113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7b615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3"/>
            <p:cNvSpPr/>
            <p:nvPr/>
          </p:nvSpPr>
          <p:spPr>
            <a:xfrm>
              <a:off x="4233240" y="380880"/>
              <a:ext cx="2293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1. Filtration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4"/>
            <p:cNvSpPr/>
            <p:nvPr/>
          </p:nvSpPr>
          <p:spPr>
            <a:xfrm>
              <a:off x="6177960" y="2514600"/>
              <a:ext cx="1909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2. Reabsor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5"/>
            <p:cNvSpPr/>
            <p:nvPr/>
          </p:nvSpPr>
          <p:spPr>
            <a:xfrm>
              <a:off x="7016760" y="4038480"/>
              <a:ext cx="14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3. Secre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6"/>
            <p:cNvSpPr/>
            <p:nvPr/>
          </p:nvSpPr>
          <p:spPr>
            <a:xfrm>
              <a:off x="4807080" y="5333760"/>
              <a:ext cx="14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4. Excre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7"/>
            <p:cNvSpPr/>
            <p:nvPr/>
          </p:nvSpPr>
          <p:spPr>
            <a:xfrm rot="5400000">
              <a:off x="4530960" y="1711800"/>
              <a:ext cx="1757520" cy="304920"/>
            </a:xfrm>
            <a:prstGeom prst="rightArrow">
              <a:avLst>
                <a:gd name="adj1" fmla="val 35000"/>
                <a:gd name="adj2" fmla="val 109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8"/>
            <p:cNvSpPr/>
            <p:nvPr/>
          </p:nvSpPr>
          <p:spPr>
            <a:xfrm flipH="1" rot="10800000">
              <a:off x="5562720" y="2895120"/>
              <a:ext cx="1295280" cy="304920"/>
            </a:xfrm>
            <a:prstGeom prst="rightArrow">
              <a:avLst>
                <a:gd name="adj1" fmla="val 35000"/>
                <a:gd name="adj2" fmla="val 808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9"/>
            <p:cNvSpPr/>
            <p:nvPr/>
          </p:nvSpPr>
          <p:spPr>
            <a:xfrm rot="10800000">
              <a:off x="5638320" y="4114800"/>
              <a:ext cx="1295640" cy="304560"/>
            </a:xfrm>
            <a:prstGeom prst="rightArrow">
              <a:avLst>
                <a:gd name="adj1" fmla="val 35000"/>
                <a:gd name="adj2" fmla="val 809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20"/>
            <p:cNvSpPr/>
            <p:nvPr/>
          </p:nvSpPr>
          <p:spPr>
            <a:xfrm rot="5400000">
              <a:off x="4762440" y="4457520"/>
              <a:ext cx="1295280" cy="457200"/>
            </a:xfrm>
            <a:prstGeom prst="rightArrow">
              <a:avLst>
                <a:gd name="adj1" fmla="val 35000"/>
                <a:gd name="adj2" fmla="val 539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21"/>
          <p:cNvSpPr/>
          <p:nvPr/>
        </p:nvSpPr>
        <p:spPr>
          <a:xfrm>
            <a:off x="685800" y="2590920"/>
            <a:ext cx="3962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Filt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absor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Se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Excretion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2"/>
          <p:cNvSpPr/>
          <p:nvPr/>
        </p:nvSpPr>
        <p:spPr>
          <a:xfrm>
            <a:off x="304920" y="5791320"/>
            <a:ext cx="86104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rinary Excretion Rate = Filtration Rate – Reabsorption Rate + Secre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Urine Formation P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65" name="Picture 3" descr="H:\$$SaladinPowerPoints\Images\Ch-23labeled\0806L.JPG"/>
          <p:cNvPicPr/>
          <p:nvPr/>
        </p:nvPicPr>
        <p:blipFill>
          <a:blip r:embed="rId1"/>
          <a:srcRect l="0" t="11274" r="0" b="0"/>
          <a:stretch/>
        </p:blipFill>
        <p:spPr>
          <a:xfrm>
            <a:off x="533520" y="1447920"/>
            <a:ext cx="8129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Glomerular filtration rate (GFR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first step in urine formation is glomerular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is the filtration of fluid from the glomerular capillaries into the renal tub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contains all substances present in plasma except protei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is normally 125 ml/min = 20% renal plasma flow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glomerular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controls passage of molecules through this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are the forces responsible for passage of fluid (filtrate) through this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ct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من سلك طريقا يلتمس فيه علما سهل الله له به طريقا إلى الجن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in the glomerulus is separated from the fluid in the Bowman’s space by a filtration barrier (glomerular membrane) consisting of three layer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Single layer of capillary endothel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 Single epithelial lining of Bowman’s capsule (Podocytes) During filtration the fluid moves between their foot processes (psudopodia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- Basement membrane between endothelium and epithel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2268360" y="2914560"/>
            <a:ext cx="3830760" cy="33940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4608360" y="1413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we see a glomerular capillary in longitudinal 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6192720" y="466560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thel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755640" y="1814400"/>
            <a:ext cx="4537080" cy="427860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5"/>
          <p:cNvSpPr/>
          <p:nvPr/>
        </p:nvSpPr>
        <p:spPr>
          <a:xfrm>
            <a:off x="5329080" y="416232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thel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395280" y="2390760"/>
            <a:ext cx="5432400" cy="355932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"/>
          <p:cNvSpPr/>
          <p:nvPr/>
        </p:nvSpPr>
        <p:spPr>
          <a:xfrm>
            <a:off x="5832360" y="4305240"/>
            <a:ext cx="45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755640" y="2390760"/>
            <a:ext cx="4430880" cy="413388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4"/>
          <p:cNvSpPr/>
          <p:nvPr/>
        </p:nvSpPr>
        <p:spPr>
          <a:xfrm>
            <a:off x="5329080" y="45831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ration sl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5184720" y="2967120"/>
            <a:ext cx="4572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ocytes (cell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nucle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reeform 3"/>
          <p:cNvSpPr/>
          <p:nvPr/>
        </p:nvSpPr>
        <p:spPr>
          <a:xfrm>
            <a:off x="4316400" y="2286000"/>
            <a:ext cx="1017720" cy="2819520"/>
          </a:xfrm>
          <a:custGeom>
            <a:avLst/>
            <a:gdLst>
              <a:gd name="textAreaLeft" fmla="*/ 0 w 1017720"/>
              <a:gd name="textAreaRight" fmla="*/ 1018080 w 101772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339" h="1600">
                <a:moveTo>
                  <a:pt x="90" y="11"/>
                </a:moveTo>
                <a:cubicBezTo>
                  <a:pt x="123" y="14"/>
                  <a:pt x="157" y="10"/>
                  <a:pt x="188" y="20"/>
                </a:cubicBezTo>
                <a:cubicBezTo>
                  <a:pt x="197" y="23"/>
                  <a:pt x="197" y="37"/>
                  <a:pt x="197" y="46"/>
                </a:cubicBezTo>
                <a:cubicBezTo>
                  <a:pt x="202" y="182"/>
                  <a:pt x="200" y="318"/>
                  <a:pt x="205" y="454"/>
                </a:cubicBezTo>
                <a:cubicBezTo>
                  <a:pt x="207" y="493"/>
                  <a:pt x="225" y="514"/>
                  <a:pt x="259" y="525"/>
                </a:cubicBezTo>
                <a:cubicBezTo>
                  <a:pt x="314" y="609"/>
                  <a:pt x="296" y="571"/>
                  <a:pt x="267" y="773"/>
                </a:cubicBezTo>
                <a:cubicBezTo>
                  <a:pt x="264" y="796"/>
                  <a:pt x="228" y="799"/>
                  <a:pt x="214" y="817"/>
                </a:cubicBezTo>
                <a:cubicBezTo>
                  <a:pt x="201" y="834"/>
                  <a:pt x="179" y="870"/>
                  <a:pt x="179" y="870"/>
                </a:cubicBezTo>
                <a:cubicBezTo>
                  <a:pt x="175" y="1131"/>
                  <a:pt x="339" y="1600"/>
                  <a:pt x="117" y="1446"/>
                </a:cubicBezTo>
                <a:cubicBezTo>
                  <a:pt x="114" y="1414"/>
                  <a:pt x="126" y="1376"/>
                  <a:pt x="108" y="1349"/>
                </a:cubicBezTo>
                <a:cubicBezTo>
                  <a:pt x="96" y="1332"/>
                  <a:pt x="65" y="1349"/>
                  <a:pt x="46" y="1340"/>
                </a:cubicBezTo>
                <a:cubicBezTo>
                  <a:pt x="38" y="1336"/>
                  <a:pt x="40" y="1322"/>
                  <a:pt x="37" y="1313"/>
                </a:cubicBezTo>
                <a:cubicBezTo>
                  <a:pt x="46" y="1307"/>
                  <a:pt x="54" y="1300"/>
                  <a:pt x="64" y="1296"/>
                </a:cubicBezTo>
                <a:cubicBezTo>
                  <a:pt x="78" y="1291"/>
                  <a:pt x="101" y="1300"/>
                  <a:pt x="108" y="1287"/>
                </a:cubicBezTo>
                <a:cubicBezTo>
                  <a:pt x="139" y="1224"/>
                  <a:pt x="95" y="1224"/>
                  <a:pt x="64" y="1216"/>
                </a:cubicBezTo>
                <a:cubicBezTo>
                  <a:pt x="58" y="1207"/>
                  <a:pt x="39" y="1197"/>
                  <a:pt x="46" y="1189"/>
                </a:cubicBezTo>
                <a:cubicBezTo>
                  <a:pt x="58" y="1174"/>
                  <a:pt x="99" y="1172"/>
                  <a:pt x="99" y="1172"/>
                </a:cubicBezTo>
                <a:cubicBezTo>
                  <a:pt x="96" y="1139"/>
                  <a:pt x="105" y="1103"/>
                  <a:pt x="90" y="1074"/>
                </a:cubicBezTo>
                <a:cubicBezTo>
                  <a:pt x="83" y="1061"/>
                  <a:pt x="59" y="1072"/>
                  <a:pt x="46" y="1065"/>
                </a:cubicBezTo>
                <a:cubicBezTo>
                  <a:pt x="37" y="1060"/>
                  <a:pt x="34" y="1048"/>
                  <a:pt x="28" y="1039"/>
                </a:cubicBezTo>
                <a:cubicBezTo>
                  <a:pt x="52" y="1036"/>
                  <a:pt x="85" y="1050"/>
                  <a:pt x="99" y="1030"/>
                </a:cubicBezTo>
                <a:cubicBezTo>
                  <a:pt x="114" y="1008"/>
                  <a:pt x="103" y="974"/>
                  <a:pt x="90" y="950"/>
                </a:cubicBezTo>
                <a:cubicBezTo>
                  <a:pt x="80" y="931"/>
                  <a:pt x="37" y="915"/>
                  <a:pt x="37" y="915"/>
                </a:cubicBezTo>
                <a:cubicBezTo>
                  <a:pt x="58" y="912"/>
                  <a:pt x="89" y="924"/>
                  <a:pt x="99" y="906"/>
                </a:cubicBezTo>
                <a:cubicBezTo>
                  <a:pt x="138" y="833"/>
                  <a:pt x="83" y="805"/>
                  <a:pt x="37" y="791"/>
                </a:cubicBezTo>
                <a:cubicBezTo>
                  <a:pt x="12" y="717"/>
                  <a:pt x="0" y="740"/>
                  <a:pt x="81" y="728"/>
                </a:cubicBezTo>
                <a:cubicBezTo>
                  <a:pt x="78" y="699"/>
                  <a:pt x="82" y="668"/>
                  <a:pt x="73" y="640"/>
                </a:cubicBezTo>
                <a:cubicBezTo>
                  <a:pt x="70" y="630"/>
                  <a:pt x="53" y="630"/>
                  <a:pt x="46" y="622"/>
                </a:cubicBezTo>
                <a:cubicBezTo>
                  <a:pt x="40" y="615"/>
                  <a:pt x="40" y="605"/>
                  <a:pt x="37" y="596"/>
                </a:cubicBezTo>
                <a:cubicBezTo>
                  <a:pt x="57" y="589"/>
                  <a:pt x="94" y="599"/>
                  <a:pt x="99" y="578"/>
                </a:cubicBezTo>
                <a:cubicBezTo>
                  <a:pt x="120" y="490"/>
                  <a:pt x="108" y="491"/>
                  <a:pt x="64" y="463"/>
                </a:cubicBezTo>
                <a:cubicBezTo>
                  <a:pt x="58" y="454"/>
                  <a:pt x="44" y="447"/>
                  <a:pt x="46" y="436"/>
                </a:cubicBezTo>
                <a:cubicBezTo>
                  <a:pt x="48" y="424"/>
                  <a:pt x="90" y="412"/>
                  <a:pt x="99" y="409"/>
                </a:cubicBezTo>
                <a:cubicBezTo>
                  <a:pt x="91" y="364"/>
                  <a:pt x="99" y="336"/>
                  <a:pt x="55" y="321"/>
                </a:cubicBezTo>
                <a:cubicBezTo>
                  <a:pt x="52" y="312"/>
                  <a:pt x="39" y="301"/>
                  <a:pt x="46" y="294"/>
                </a:cubicBezTo>
                <a:cubicBezTo>
                  <a:pt x="56" y="283"/>
                  <a:pt x="85" y="299"/>
                  <a:pt x="90" y="285"/>
                </a:cubicBezTo>
                <a:cubicBezTo>
                  <a:pt x="120" y="202"/>
                  <a:pt x="96" y="202"/>
                  <a:pt x="55" y="188"/>
                </a:cubicBezTo>
                <a:cubicBezTo>
                  <a:pt x="52" y="179"/>
                  <a:pt x="39" y="168"/>
                  <a:pt x="46" y="161"/>
                </a:cubicBezTo>
                <a:cubicBezTo>
                  <a:pt x="56" y="150"/>
                  <a:pt x="83" y="165"/>
                  <a:pt x="90" y="152"/>
                </a:cubicBezTo>
                <a:cubicBezTo>
                  <a:pt x="118" y="103"/>
                  <a:pt x="78" y="98"/>
                  <a:pt x="55" y="90"/>
                </a:cubicBezTo>
                <a:cubicBezTo>
                  <a:pt x="49" y="81"/>
                  <a:pt x="35" y="74"/>
                  <a:pt x="37" y="64"/>
                </a:cubicBezTo>
                <a:cubicBezTo>
                  <a:pt x="39" y="53"/>
                  <a:pt x="57" y="54"/>
                  <a:pt x="64" y="46"/>
                </a:cubicBezTo>
                <a:cubicBezTo>
                  <a:pt x="102" y="0"/>
                  <a:pt x="46" y="34"/>
                  <a:pt x="90" y="11"/>
                </a:cubicBezTo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4"/>
          <p:cNvSpPr/>
          <p:nvPr/>
        </p:nvSpPr>
        <p:spPr>
          <a:xfrm>
            <a:off x="4224240" y="2286000"/>
            <a:ext cx="276480" cy="2627280"/>
          </a:xfrm>
          <a:custGeom>
            <a:avLst/>
            <a:gdLst>
              <a:gd name="textAreaLeft" fmla="*/ 0 w 276480"/>
              <a:gd name="textAreaRight" fmla="*/ 276840 w 27648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cc00cc"/>
          </a:solidFill>
          <a:ln w="9360">
            <a:solidFill>
              <a:srgbClr val="775f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4005360" y="2286000"/>
            <a:ext cx="185760" cy="6573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4005360" y="3025800"/>
            <a:ext cx="185760" cy="6555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7"/>
          <p:cNvSpPr/>
          <p:nvPr/>
        </p:nvSpPr>
        <p:spPr>
          <a:xfrm>
            <a:off x="4005360" y="3763800"/>
            <a:ext cx="185760" cy="6573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8"/>
          <p:cNvSpPr/>
          <p:nvPr/>
        </p:nvSpPr>
        <p:spPr>
          <a:xfrm>
            <a:off x="4005360" y="4503600"/>
            <a:ext cx="185760" cy="409680"/>
          </a:xfrm>
          <a:custGeom>
            <a:avLst/>
            <a:gdLst>
              <a:gd name="textAreaLeft" fmla="*/ 0 w 185760"/>
              <a:gd name="textAreaRight" fmla="*/ 186120 w 185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9"/>
          <p:cNvSpPr/>
          <p:nvPr/>
        </p:nvSpPr>
        <p:spPr>
          <a:xfrm>
            <a:off x="4778280" y="3271680"/>
            <a:ext cx="185760" cy="40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TRATION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3"/>
          <p:cNvSpPr/>
          <p:nvPr/>
        </p:nvSpPr>
        <p:spPr>
          <a:xfrm>
            <a:off x="3352680" y="3733920"/>
            <a:ext cx="685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4"/>
          <p:cNvSpPr/>
          <p:nvPr/>
        </p:nvSpPr>
        <p:spPr>
          <a:xfrm>
            <a:off x="533520" y="3429000"/>
            <a:ext cx="2895480" cy="60948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1. Endothe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7"/>
          <p:cNvSpPr/>
          <p:nvPr/>
        </p:nvSpPr>
        <p:spPr>
          <a:xfrm>
            <a:off x="4038480" y="5410080"/>
            <a:ext cx="1371600" cy="30492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. Pod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724280" y="4876560"/>
            <a:ext cx="0" cy="5331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9"/>
          <p:cNvSpPr/>
          <p:nvPr/>
        </p:nvSpPr>
        <p:spPr>
          <a:xfrm>
            <a:off x="914400" y="4267080"/>
            <a:ext cx="2514600" cy="68580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ndothelium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lomerular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3429000" y="4648320"/>
            <a:ext cx="685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2"/>
          <p:cNvSpPr/>
          <p:nvPr/>
        </p:nvSpPr>
        <p:spPr>
          <a:xfrm flipH="1">
            <a:off x="4267080" y="2590920"/>
            <a:ext cx="1828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3"/>
          <p:cNvSpPr/>
          <p:nvPr/>
        </p:nvSpPr>
        <p:spPr>
          <a:xfrm>
            <a:off x="6019920" y="2209680"/>
            <a:ext cx="2438280" cy="76212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. Basement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5"/>
          <p:cNvSpPr/>
          <p:nvPr/>
        </p:nvSpPr>
        <p:spPr>
          <a:xfrm>
            <a:off x="2971800" y="2819520"/>
            <a:ext cx="2666880" cy="533160"/>
          </a:xfrm>
          <a:prstGeom prst="rightArrow">
            <a:avLst>
              <a:gd name="adj1" fmla="val 50000"/>
              <a:gd name="adj2" fmla="val 92699"/>
            </a:avLst>
          </a:prstGeom>
          <a:solidFill>
            <a:srgbClr val="ffffff">
              <a:alpha val="3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7"/>
          <p:cNvSpPr/>
          <p:nvPr/>
        </p:nvSpPr>
        <p:spPr>
          <a:xfrm rot="10800000">
            <a:off x="3962520" y="3885840"/>
            <a:ext cx="372960" cy="1143000"/>
          </a:xfrm>
          <a:custGeom>
            <a:avLst/>
            <a:gdLst>
              <a:gd name="textAreaLeft" fmla="*/ 0 w 372960"/>
              <a:gd name="textAreaRight" fmla="*/ 373320 w 372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8" h="1782">
                <a:moveTo>
                  <a:pt x="117" y="18"/>
                </a:moveTo>
                <a:cubicBezTo>
                  <a:pt x="180" y="22"/>
                  <a:pt x="244" y="17"/>
                  <a:pt x="302" y="28"/>
                </a:cubicBezTo>
                <a:cubicBezTo>
                  <a:pt x="319" y="32"/>
                  <a:pt x="319" y="47"/>
                  <a:pt x="319" y="57"/>
                </a:cubicBezTo>
                <a:cubicBezTo>
                  <a:pt x="329" y="208"/>
                  <a:pt x="273" y="197"/>
                  <a:pt x="283" y="348"/>
                </a:cubicBezTo>
                <a:cubicBezTo>
                  <a:pt x="286" y="391"/>
                  <a:pt x="200" y="498"/>
                  <a:pt x="265" y="510"/>
                </a:cubicBezTo>
                <a:cubicBezTo>
                  <a:pt x="369" y="603"/>
                  <a:pt x="320" y="637"/>
                  <a:pt x="265" y="861"/>
                </a:cubicBezTo>
                <a:cubicBezTo>
                  <a:pt x="259" y="887"/>
                  <a:pt x="378" y="893"/>
                  <a:pt x="352" y="913"/>
                </a:cubicBezTo>
                <a:cubicBezTo>
                  <a:pt x="327" y="932"/>
                  <a:pt x="285" y="972"/>
                  <a:pt x="285" y="972"/>
                </a:cubicBezTo>
                <a:cubicBezTo>
                  <a:pt x="278" y="1261"/>
                  <a:pt x="588" y="1782"/>
                  <a:pt x="168" y="1611"/>
                </a:cubicBezTo>
                <a:cubicBezTo>
                  <a:pt x="163" y="1576"/>
                  <a:pt x="281" y="1521"/>
                  <a:pt x="247" y="1491"/>
                </a:cubicBezTo>
                <a:cubicBezTo>
                  <a:pt x="225" y="1473"/>
                  <a:pt x="184" y="1483"/>
                  <a:pt x="148" y="1473"/>
                </a:cubicBezTo>
                <a:cubicBezTo>
                  <a:pt x="133" y="1469"/>
                  <a:pt x="23" y="1473"/>
                  <a:pt x="17" y="1463"/>
                </a:cubicBezTo>
                <a:cubicBezTo>
                  <a:pt x="34" y="1457"/>
                  <a:pt x="49" y="1449"/>
                  <a:pt x="68" y="1445"/>
                </a:cubicBezTo>
                <a:cubicBezTo>
                  <a:pt x="94" y="1439"/>
                  <a:pt x="138" y="1449"/>
                  <a:pt x="151" y="1435"/>
                </a:cubicBezTo>
                <a:cubicBezTo>
                  <a:pt x="210" y="1365"/>
                  <a:pt x="127" y="1365"/>
                  <a:pt x="68" y="1356"/>
                </a:cubicBezTo>
                <a:cubicBezTo>
                  <a:pt x="57" y="1346"/>
                  <a:pt x="234" y="1329"/>
                  <a:pt x="247" y="1320"/>
                </a:cubicBezTo>
                <a:cubicBezTo>
                  <a:pt x="270" y="1303"/>
                  <a:pt x="134" y="1307"/>
                  <a:pt x="134" y="1307"/>
                </a:cubicBezTo>
                <a:cubicBezTo>
                  <a:pt x="129" y="1270"/>
                  <a:pt x="146" y="1230"/>
                  <a:pt x="117" y="1198"/>
                </a:cubicBezTo>
                <a:cubicBezTo>
                  <a:pt x="104" y="1184"/>
                  <a:pt x="146" y="1175"/>
                  <a:pt x="121" y="1167"/>
                </a:cubicBezTo>
                <a:cubicBezTo>
                  <a:pt x="104" y="1162"/>
                  <a:pt x="11" y="1169"/>
                  <a:pt x="0" y="1159"/>
                </a:cubicBezTo>
                <a:cubicBezTo>
                  <a:pt x="45" y="1156"/>
                  <a:pt x="108" y="1172"/>
                  <a:pt x="134" y="1149"/>
                </a:cubicBezTo>
                <a:cubicBezTo>
                  <a:pt x="163" y="1125"/>
                  <a:pt x="142" y="1087"/>
                  <a:pt x="117" y="1061"/>
                </a:cubicBezTo>
                <a:cubicBezTo>
                  <a:pt x="98" y="1039"/>
                  <a:pt x="17" y="1022"/>
                  <a:pt x="17" y="1022"/>
                </a:cubicBezTo>
                <a:cubicBezTo>
                  <a:pt x="57" y="1018"/>
                  <a:pt x="115" y="1032"/>
                  <a:pt x="134" y="1012"/>
                </a:cubicBezTo>
                <a:cubicBezTo>
                  <a:pt x="208" y="931"/>
                  <a:pt x="262" y="895"/>
                  <a:pt x="175" y="879"/>
                </a:cubicBezTo>
                <a:cubicBezTo>
                  <a:pt x="154" y="847"/>
                  <a:pt x="151" y="845"/>
                  <a:pt x="139" y="834"/>
                </a:cubicBezTo>
                <a:cubicBezTo>
                  <a:pt x="127" y="823"/>
                  <a:pt x="109" y="834"/>
                  <a:pt x="100" y="814"/>
                </a:cubicBezTo>
                <a:cubicBezTo>
                  <a:pt x="94" y="782"/>
                  <a:pt x="102" y="747"/>
                  <a:pt x="85" y="716"/>
                </a:cubicBezTo>
                <a:cubicBezTo>
                  <a:pt x="79" y="705"/>
                  <a:pt x="179" y="699"/>
                  <a:pt x="166" y="690"/>
                </a:cubicBezTo>
                <a:cubicBezTo>
                  <a:pt x="155" y="683"/>
                  <a:pt x="23" y="678"/>
                  <a:pt x="17" y="668"/>
                </a:cubicBezTo>
                <a:cubicBezTo>
                  <a:pt x="55" y="660"/>
                  <a:pt x="125" y="671"/>
                  <a:pt x="134" y="648"/>
                </a:cubicBezTo>
                <a:cubicBezTo>
                  <a:pt x="174" y="550"/>
                  <a:pt x="151" y="551"/>
                  <a:pt x="68" y="520"/>
                </a:cubicBezTo>
                <a:cubicBezTo>
                  <a:pt x="57" y="510"/>
                  <a:pt x="126" y="486"/>
                  <a:pt x="130" y="474"/>
                </a:cubicBezTo>
                <a:cubicBezTo>
                  <a:pt x="134" y="461"/>
                  <a:pt x="117" y="463"/>
                  <a:pt x="134" y="460"/>
                </a:cubicBezTo>
                <a:cubicBezTo>
                  <a:pt x="119" y="410"/>
                  <a:pt x="134" y="379"/>
                  <a:pt x="51" y="362"/>
                </a:cubicBezTo>
                <a:cubicBezTo>
                  <a:pt x="45" y="352"/>
                  <a:pt x="21" y="340"/>
                  <a:pt x="34" y="332"/>
                </a:cubicBezTo>
                <a:cubicBezTo>
                  <a:pt x="53" y="320"/>
                  <a:pt x="108" y="338"/>
                  <a:pt x="117" y="322"/>
                </a:cubicBezTo>
                <a:cubicBezTo>
                  <a:pt x="174" y="230"/>
                  <a:pt x="129" y="230"/>
                  <a:pt x="51" y="215"/>
                </a:cubicBezTo>
                <a:cubicBezTo>
                  <a:pt x="45" y="205"/>
                  <a:pt x="108" y="166"/>
                  <a:pt x="121" y="159"/>
                </a:cubicBezTo>
                <a:cubicBezTo>
                  <a:pt x="140" y="147"/>
                  <a:pt x="104" y="189"/>
                  <a:pt x="117" y="175"/>
                </a:cubicBezTo>
                <a:cubicBezTo>
                  <a:pt x="170" y="120"/>
                  <a:pt x="94" y="115"/>
                  <a:pt x="51" y="106"/>
                </a:cubicBezTo>
                <a:cubicBezTo>
                  <a:pt x="40" y="96"/>
                  <a:pt x="13" y="88"/>
                  <a:pt x="17" y="77"/>
                </a:cubicBezTo>
                <a:cubicBezTo>
                  <a:pt x="21" y="65"/>
                  <a:pt x="207" y="60"/>
                  <a:pt x="220" y="51"/>
                </a:cubicBezTo>
                <a:cubicBezTo>
                  <a:pt x="292" y="0"/>
                  <a:pt x="34" y="44"/>
                  <a:pt x="117" y="18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c5d50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5" name="rg_hi" descr="http://t1.gstatic.com/images?q=tbn:ANd9GcTc3s3kmMcnLSpYLkLAXZhevJxWDVgSvBbFgwXgBjOnh1dNWo_mFQ"/>
          <p:cNvPicPr/>
          <p:nvPr/>
        </p:nvPicPr>
        <p:blipFill>
          <a:blip r:embed="rId1"/>
          <a:stretch/>
        </p:blipFill>
        <p:spPr>
          <a:xfrm>
            <a:off x="1600200" y="1219320"/>
            <a:ext cx="632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9360" y="2421000"/>
            <a:ext cx="8433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Characteristics of glomerular membrane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 passage of molecules up to 70,000 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bumin does not normally pass as they are repelled by the negative charge of th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lycoprotein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terial of basement membra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cells don not normally pass through the membra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Filtration Rate (GFR)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GFR is determined b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the net filtration pressure across the glomerular capillar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 the glomerular capillary filtration coefficient (Kf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Kf x Net filtration press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12.5 X 10 = 125 ml/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hat are the functions of the kidney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water and electrolyte bal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body fluid osmolality &amp; electrolyt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xcretion of waste products (UREA, CREATININE, URIC ACID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arterial blood pressure (RAS, excretion of excess salt and water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acid/base bal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toxification and excretion of drug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ynthesitic functio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- active form of vit D (D3)= 1,25 dihydroxycholicalciferol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- Erythropoietin produc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3- Renin forma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4- Synthesis of glucose from amino acids during prolonged fasting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Filtration Rate (GFR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ltrate formed per minu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ltration coefficient (K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 depends on permeability and surface area of filtration barri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NFP x K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125 ml/min or 180 L/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10 X 12.5 = 125 ml/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99% of filtrate reabsorbed, 1 to 2 L urine excre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Forces</a:t>
            </a:r>
            <a:r>
              <a:rPr b="0" lang="en-US" sz="3600" spc="-1" strike="noStrike">
                <a:solidFill>
                  <a:srgbClr val="7c5d5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controlling GFR: Starling’s forc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The net filtration pressure is the sum of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. glomerular hydrostatic pressure (= 60 mmHg). It promot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. hydrostatic pressure in Bowman’s capsule (= 18 mmHg). It oppos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. colloid osmotic pressure of glomerular plasma proteins  (= 32 mmHg). It oppos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, net filtration pressure = 60-18-32= 10 mmH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t Filtration Pressure (NFP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7" name="Picture 3" descr="H:\$$SaladinPowerPoints\Images\Ch-23labeled\0808L.JPG"/>
          <p:cNvPicPr/>
          <p:nvPr/>
        </p:nvPicPr>
        <p:blipFill>
          <a:blip r:embed="rId1"/>
          <a:srcRect l="0" t="13772" r="0" b="0"/>
          <a:stretch/>
        </p:blipFill>
        <p:spPr>
          <a:xfrm>
            <a:off x="506520" y="1371600"/>
            <a:ext cx="812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1629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w Cen MT"/>
              </a:rPr>
              <a:t>CONTROL OF GF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533520" y="1447920"/>
            <a:ext cx="8076960" cy="1523880"/>
          </a:xfrm>
          <a:prstGeom prst="rect">
            <a:avLst/>
          </a:prstGeom>
          <a:gradFill rotWithShape="0">
            <a:gsLst>
              <a:gs pos="0">
                <a:srgbClr val="00002a"/>
              </a:gs>
              <a:gs pos="50000">
                <a:srgbClr val="00005a"/>
              </a:gs>
              <a:gs pos="100000">
                <a:srgbClr val="00002a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GFR = Kf x [(P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G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-P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B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)-(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G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- 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B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)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GFR = Kf x [(60-18)-(32- 0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609480" y="3245760"/>
            <a:ext cx="7925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static pressure inside the glomerular capillaries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(glomerular hydrostatic pressure, PG), which promotes fil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hydrostatic pressure in bowman's capsule (P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ide the capillaries, which oppos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The colloid osmotic pressure of the glomerular capillary plasma proteins (πg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ppos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colloid osmotic pressure of the proteins in bowman's capsule (πb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promot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How changes in Forces determining GFR affect GF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Bowman’s capsule pressur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creases GFR. It can happen in urinary obstruction e.g.  stones , tumors.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ar capillary colloid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smotic pressure decreases  GFR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ar capillary hydrostatic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essure increases GFR. This pressure is affected b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BP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fferent arteriolar resistanc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fferent arteriolar resista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5"/>
          <p:cNvSpPr/>
          <p:nvPr/>
        </p:nvSpPr>
        <p:spPr>
          <a:xfrm>
            <a:off x="90000" y="5238720"/>
            <a:ext cx="90086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s vasodilation and vasoconstriction of the afferen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erent arterioles alter the blood flow through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lomerular capillaries, there are corresponding alter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the glomerular filtration rate (GFR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"/>
          <p:cNvPicPr/>
          <p:nvPr/>
        </p:nvPicPr>
        <p:blipFill>
          <a:blip r:embed="rId1"/>
          <a:stretch/>
        </p:blipFill>
        <p:spPr>
          <a:xfrm>
            <a:off x="1079640" y="42840"/>
            <a:ext cx="7773840" cy="1332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14_09"/>
          <p:cNvPicPr/>
          <p:nvPr/>
        </p:nvPicPr>
        <p:blipFill>
          <a:blip r:embed="rId2"/>
          <a:stretch/>
        </p:blipFill>
        <p:spPr>
          <a:xfrm>
            <a:off x="1541520" y="723960"/>
            <a:ext cx="62499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Factors affecting Renal blood flow and GFR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mpathetic stimulation of renal arterioles decrease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epinephrine de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giotensin II decreases RBF. It constricts efferent arteriole more than afferent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protein diet increases GF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yperglycemia in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ver in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ing decreases RBF &amp; GF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Nitrogenous Was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7086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tein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ino acid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remov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ms ammonia, liver converts to ure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ric aci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in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H:\$$SaladinPowerPoints\Images\Ch-23labeled\0798L.JPG"/>
          <p:cNvPicPr/>
          <p:nvPr/>
        </p:nvPicPr>
        <p:blipFill>
          <a:blip r:embed="rId1"/>
          <a:srcRect l="59385" t="15024" r="15311" b="54987"/>
          <a:stretch/>
        </p:blipFill>
        <p:spPr>
          <a:xfrm>
            <a:off x="7162920" y="1523880"/>
            <a:ext cx="1447560" cy="1287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H:\$$SaladinPowerPoints\Images\Ch-23labeled\0798L.JPG"/>
          <p:cNvPicPr/>
          <p:nvPr/>
        </p:nvPicPr>
        <p:blipFill>
          <a:blip r:embed="rId2"/>
          <a:srcRect l="11578" t="52519" r="48118" b="2498"/>
          <a:stretch/>
        </p:blipFill>
        <p:spPr>
          <a:xfrm>
            <a:off x="2843280" y="328464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H:\$$SaladinPowerPoints\Images\Ch-23labeled\0798L.JPG"/>
          <p:cNvPicPr/>
          <p:nvPr/>
        </p:nvPicPr>
        <p:blipFill>
          <a:blip r:embed="rId3"/>
          <a:srcRect l="60324" t="51267" r="10621" b="2498"/>
          <a:stretch/>
        </p:blipFill>
        <p:spPr>
          <a:xfrm>
            <a:off x="4140360" y="5029200"/>
            <a:ext cx="153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fImage" descr="showimage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4191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06" name="Rectangle 10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PHYSIOLOGIC ANATOMY OF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762120" y="1339200"/>
            <a:ext cx="23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Clenched F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ght 150 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2"/>
          <p:cNvSpPr/>
          <p:nvPr/>
        </p:nvSpPr>
        <p:spPr>
          <a:xfrm flipH="1">
            <a:off x="6095880" y="2590920"/>
            <a:ext cx="457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hat is the functional unit of the kidney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nephron is the functional and structural unit of the kidne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kidney has 1 million nephrons, each nephron is capable of urine form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Structure of a nephr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us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capillary tuft: in which large amount of fluid is filtered from bloo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Bwaman’s capsul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Around the glomerulus and receives the filtra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Tubules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in which filtered fluid eventually is converted into urin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10" descr="https://encrypted-tbn0.gstatic.com/images?q=tbn:ANd9GcTDfiewCBzFVGaze2yLZc-XdAGSOVQQM6CWTCaw3XnzGOkbhhJvsg"/>
          <p:cNvPicPr/>
          <p:nvPr/>
        </p:nvPicPr>
        <p:blipFill>
          <a:blip r:embed="rId1"/>
          <a:stretch/>
        </p:blipFill>
        <p:spPr>
          <a:xfrm>
            <a:off x="4951440" y="1916280"/>
            <a:ext cx="36702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506520" y="1341360"/>
            <a:ext cx="8129520" cy="5287680"/>
            <a:chOff x="506520" y="1341360"/>
            <a:chExt cx="8129520" cy="5287680"/>
          </a:xfrm>
        </p:grpSpPr>
        <p:pic>
          <p:nvPicPr>
            <p:cNvPr id="415" name="Picture 3" descr="0805L"/>
            <p:cNvPicPr/>
            <p:nvPr/>
          </p:nvPicPr>
          <p:blipFill>
            <a:blip r:embed="rId1"/>
            <a:srcRect l="0" t="10022" r="0" b="1252"/>
            <a:stretch/>
          </p:blipFill>
          <p:spPr>
            <a:xfrm>
              <a:off x="506520" y="1414800"/>
              <a:ext cx="8129520" cy="52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Rectangle 4"/>
            <p:cNvSpPr/>
            <p:nvPr/>
          </p:nvSpPr>
          <p:spPr>
            <a:xfrm>
              <a:off x="4876920" y="1341360"/>
              <a:ext cx="38088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c5d50"/>
                </a:solidFill>
                <a:latin typeface="Tw Cen MT"/>
              </a:rPr>
              <a:t>The Glomerulu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411360" y="5638320"/>
            <a:ext cx="5275440" cy="83844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Glomerular filtrate collects in capsular space, flows into renal tubul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c5d50"/>
                </a:solidFill>
                <a:latin typeface="Tw Cen MT"/>
              </a:rPr>
              <a:t>Structure of a Nephro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0" name="rg_hi" descr="http://t0.gstatic.com/images?q=tbn:ANd9GcTeUcv4XftpfPvdsc_l9eEJ6KUQgaHjyunEsAFjUk1Zhcf03MXV"/>
          <p:cNvPicPr/>
          <p:nvPr/>
        </p:nvPicPr>
        <p:blipFill>
          <a:blip r:embed="rId1"/>
          <a:stretch/>
        </p:blipFill>
        <p:spPr>
          <a:xfrm>
            <a:off x="1676520" y="1600200"/>
            <a:ext cx="6248160" cy="41148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5105520" y="5181480"/>
            <a:ext cx="320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1- Glomer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2- P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3- Loop of Hen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4- D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5- Collecting tubules &amp; duct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03:12:17Z</dcterms:created>
  <dc:creator>user</dc:creator>
  <dc:description/>
  <dc:language>en-US</dc:language>
  <cp:lastModifiedBy>Manan</cp:lastModifiedBy>
  <dcterms:modified xsi:type="dcterms:W3CDTF">2016-04-11T06:21:06Z</dcterms:modified>
  <cp:revision>20</cp:revision>
  <dc:subject/>
  <dc:title>Renal functions &amp; GFR</dc:title>
</cp:coreProperties>
</file>