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77075" cy="852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77600" cy="852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4008240" y="0"/>
            <a:ext cx="3066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409400" y="639720"/>
            <a:ext cx="4259160" cy="31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093160"/>
            <a:ext cx="30672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400824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37AE-5179-4123-9D7C-507BD7DD97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708-7749-4F66-8517-64B79F1CFC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1248-45C6-4682-B026-38668C37F3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sphoric acid (H3PO4) has three dissociable protons. The pK value of H2PO4 to H + HPO4 is 6.8 making it a good ECF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2BAE-F1A0-498A-8277-E25AB51C66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b represents 80% of the non-bicarbonate buffer power of the ECF. 36 of Hbs 574 amino acids are histidines which have dissociable protons on their side groups. It has an average pK value of ~6.5 making it a good buffer in the physiological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0A57-B210-4677-93E6-AB4CFC79E7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9A6-D70B-40C6-8727-4C55CB72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D9-1174-40A8-9809-319FE56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B4B-8C3E-4090-B899-C63E745F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FC7-97C9-4300-9056-AE2DD6B6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2F1D-D05D-41B1-88ED-8D8D0419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E803-CDEA-4D23-8ECF-07A52C4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59BD-E20C-4639-B322-53F9945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435B-A547-4BEE-8859-40092418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74B6-0D7C-4D65-8FF7-F626452F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C544-C46B-4CD6-86EF-2A38CABD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D75-FB61-4AE7-90BE-85B9E9F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977-B66F-4F13-B719-86BEF3D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B415-B5B0-408F-8DB8-DA9D3D9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A92-4F9D-47DB-8102-3B88C6F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7177-0C51-4976-9A04-EA9F3321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DB7-EF53-425F-B5CE-76A222E0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9043-FF25-4629-BBCE-B5C45893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D2BF-44E9-4514-8F49-38DA5863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C272-5B62-4097-B43D-4959360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1A07-9369-4475-BB6C-D0F6A81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9085-DCCB-41D9-8665-05668AE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9BED-B394-4376-BD5A-ABDFDA8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ABF-2D6D-4F46-8A47-2209B8D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8A24-1DDC-4690-BE1F-B5C79DB0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FDD8-1C55-4F1E-AB63-5C954DF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B8CD-E230-41B6-8A9E-B1898E03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1A6F-5A7B-4B4E-B97C-8798D40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2441-0B04-47D5-AC11-F01058D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E9D5-75A5-4DA5-A49C-F00C4B6B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D365-D88F-4B68-BED7-5DD9D961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CBC4-EE71-4556-B1E9-E2355FD2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BA48-883A-48F3-93E1-FD7D443E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B7F3-626F-4F1C-AF17-98A48AB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5FE-7247-49FC-8F32-14C0969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ECCF-468D-496D-8A3E-B6D068A5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68E4-12A4-4B96-AD1F-FEC0E1E0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D4246-CF56-4C78-AC09-7331FF44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EBDD-C68C-4595-838D-56B201E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CEC5-BA1B-48C2-952E-92CB365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7FE2-1A2B-4CAC-BA9C-C3AAA27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DC15-67D1-4275-9A58-2C8B223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AFF0-8758-4102-A7B9-30A0492D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4069-2ACE-4645-BDBF-E19A68D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0417-1714-45D9-986A-1A4AC000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F78-9750-4224-8B01-F4804A80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118A-EF35-413C-A84D-23D832B5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F8AA5-E03C-45D4-B2A0-71874E33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6C86-8499-408A-B1F1-EF0ED0FD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4261-6D98-4BA7-9F6E-748B308D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6F87-A44E-49E0-BC1A-F83E12E1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BFDA-497F-4813-A550-E00D79E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76E9-2771-457B-82A8-5B563B1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A3E7-D6F5-4E0E-B020-E1BB20B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928E-4D89-460C-AA8A-D2ACF06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A8C7-DA4D-47B6-BF47-69B19DAD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B48-BDA1-4708-8FAB-580B0E61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3272-CC3B-4A77-A2A2-61F44FFE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81ED-ACEB-49A4-9E17-C81F6699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61702-59E8-4040-8747-C12BDE6C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E34F-6904-4C05-9526-0937DA36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BB76-218C-4EE0-A2BC-F6B69E5E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3BCD-9256-4533-B3FF-F18FAD3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19F9-B058-4C8C-8A15-98F2601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BE641-7249-42E7-8BDE-1BE20977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B29F-F474-467F-9C4B-B8B44A1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7970-5F0D-42C3-B1D1-0EF044F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BD2-9B16-479F-8455-E3F3D60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3451-A4D9-4241-868C-A80E404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6B192-E79A-4A00-9553-A4E8AA27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360A9-DFB7-4BB1-9FA6-3EB77B30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2322-0797-4899-AFE0-50C7FE49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EC56-8DFF-43C2-9039-006118B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C709A-2C4C-4DD8-8EE7-A1D1F071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972F5-39D7-444C-9D0F-A3CE1EB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6F90-BB0B-4093-BFD7-2598E6C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F2A4-3E9D-4B84-B1E4-0F39C8A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B8FF-7D65-41BE-8C57-3EA3F27D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B88-2217-4128-AAEC-E2BA82A9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BAFD-1C87-4809-9422-01C3264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7DB6-92E8-4C9F-B891-B7ED5C08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33A1-FE12-443E-BEE2-1A166E5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884F-9E0C-4495-B874-26373B7D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0B658-12FC-47EB-8EE8-83CA3DA4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9A4-E01E-432E-8ABB-DB4F956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E11-C583-4481-AF6D-14E3F0A6D6B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8E3-6FAB-4BEE-B055-7889120149E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B989-C273-470F-BEEC-14008A9A556A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1585-2B9B-4937-94D8-6C2AF1A1A94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19FB-5DAC-486D-89D8-258DF6890F2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499-C6A4-4C11-9F36-6A398897C6B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7B4-0A28-42AA-823E-80FE9FFA913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uffer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019240" y="3357720"/>
            <a:ext cx="493272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Dr. Mona Soliman, MBBS, MSc, P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Head, Medical Education Depar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ssociate Professor of Phys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Chair of Cardiovascular 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King Saud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rbel"/>
              </a:rPr>
              <a:t>Dr.Ahmad Ahme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C87E-263D-4032-9A06-C1CD1D07361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507960" y="1109520"/>
            <a:ext cx="73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all of these buffer systems work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AN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84200" y="2320920"/>
            <a:ext cx="77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s can only </a:t>
            </a:r>
            <a:r>
              <a:rPr b="1" i="1" lang="en-IE" sz="2400" spc="-1" strike="noStrike">
                <a:solidFill>
                  <a:srgbClr val="ffff00"/>
                </a:solidFill>
                <a:latin typeface="Arial"/>
              </a:rPr>
              <a:t>LIMIT CHANG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n pH, they cann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b8803"/>
                </a:solidFill>
                <a:latin typeface="Arial"/>
              </a:rPr>
              <a:t>REVERS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619560" y="35989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nce arterial pH has deviated from normal value, ca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e returned to normal by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SPIRATORY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RENAL</a:t>
            </a:r>
            <a:r>
              <a:rPr b="0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COMPENS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896120" y="14292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09200" y="24494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79360" y="2502000"/>
            <a:ext cx="8864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alveolar ventilation can alter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plasma Pco</a:t>
            </a:r>
            <a:r>
              <a:rPr b="1" lang="en-IE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ventilation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↓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↑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↓ ventilation, ↑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↓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4" name="Object 2"/>
          <p:cNvGraphicFramePr/>
          <p:nvPr/>
        </p:nvGraphicFramePr>
        <p:xfrm>
          <a:off x="5653080" y="3916440"/>
          <a:ext cx="30081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3916440"/>
                    <a:ext cx="30081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Box 4"/>
          <p:cNvSpPr/>
          <p:nvPr/>
        </p:nvSpPr>
        <p:spPr>
          <a:xfrm>
            <a:off x="341280" y="1428840"/>
            <a:ext cx="88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ulmonary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normally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BALAN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rm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78640" y="46069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lso a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ALVEOLAR VENTIL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450720" y="1353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OW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-2 x better than extracellular chem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), bu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 fully rec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ances out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system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fixed acids like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446760" y="2924280"/>
            <a:ext cx="812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relative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PI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stop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hanging too mu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renal buffering kicks in but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i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82400" y="4591080"/>
            <a:ext cx="8628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ities of respiration can alter bodily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ulting i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1572120" y="2205000"/>
            <a:ext cx="606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380-5C62-4B8C-8428-ECA80C06B9F0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971640" y="822240"/>
            <a:ext cx="7200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ere are three major renal mechanisms for the maintenance of normal body p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absorption of filtered bicarb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duction of  titratable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cretion of ammo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f these three mechanisms involve the secretion of hydrogen ions into the urine and the addition of bicarbonate ions to the bl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188000" y="1000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-624960" y="7128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OST 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of pH but muc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x. activity after 5-6 days) than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-469800" y="1643040"/>
            <a:ext cx="86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IMIN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80 -100 mEq of fi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ted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-672480" y="2714760"/>
            <a:ext cx="1006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must also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reel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able </a:t>
            </a:r>
            <a:r>
              <a:rPr b="1" lang="en-US" sz="2400" spc="-1" strike="noStrike">
                <a:solidFill>
                  <a:srgbClr val="d6ecff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d6ec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d6ecff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d6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preserve this primary buffe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-682200" y="3738600"/>
            <a:ext cx="956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OTH PROC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ependent on both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ration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into renal tubules and secretion / reabsorp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1400" y="5099040"/>
            <a:ext cx="934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neys also responsible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ENSATORY CHAN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during respiratory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1147320" y="5586480"/>
            <a:ext cx="77842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KIDNEYS FAIL, pH BALANCE WILL FAIL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 *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4"/>
          <p:cNvSpPr/>
          <p:nvPr/>
        </p:nvSpPr>
        <p:spPr>
          <a:xfrm>
            <a:off x="1188000" y="7714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12560" y="2111400"/>
            <a:ext cx="7925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echanism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ontinuously filtered into tub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ecreted into tub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than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↑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tha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↓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B51-C852-4845-B2CD-1B0579D38B9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-401400" y="928800"/>
            <a:ext cx="86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s filtrate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T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 glomeruli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SECRE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tub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2" descr="fox25642_1729"/>
          <p:cNvPicPr/>
          <p:nvPr/>
        </p:nvPicPr>
        <p:blipFill>
          <a:blip r:embed="rId1"/>
          <a:stretch/>
        </p:blipFill>
        <p:spPr>
          <a:xfrm>
            <a:off x="3571920" y="2714760"/>
            <a:ext cx="5492880" cy="275112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0"/>
          <p:cNvSpPr/>
          <p:nvPr/>
        </p:nvSpPr>
        <p:spPr>
          <a:xfrm>
            <a:off x="415080" y="5382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nal H</a:t>
            </a:r>
            <a:r>
              <a:rPr b="1" lang="en-GB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23760" y="18129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(80%) occurs across wall of PC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tiporter  (&amp;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ase in type A cells of DC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219240" y="2857680"/>
            <a:ext cx="288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88560" y="-302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34560" y="43592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imary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ng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ic acid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imulat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ALKAL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duc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0E7B-C051-44D1-A0B0-1669612F9B7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3880" y="6825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-674640" y="1143000"/>
            <a:ext cx="9367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FREELY FILT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glomeruli (3 mM/min)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goes significant (&gt; 99%) reabsorption in PCT, aLo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cortical collecting ducts (CC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4" descr="segmental reabsorption of bicarbonate - fig 36.1.JPG"/>
          <p:cNvPicPr/>
          <p:nvPr/>
        </p:nvPicPr>
        <p:blipFill>
          <a:blip r:embed="rId1"/>
          <a:stretch/>
        </p:blipFill>
        <p:spPr>
          <a:xfrm>
            <a:off x="5881680" y="2173320"/>
            <a:ext cx="324468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4"/>
          <p:cNvSpPr/>
          <p:nvPr/>
        </p:nvSpPr>
        <p:spPr>
          <a:xfrm>
            <a:off x="988560" y="284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-747360" y="2867040"/>
            <a:ext cx="6583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s of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T (&amp; aLoH) and CC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e simi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t not ident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ll look at CC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in acid-base practic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-663480" y="4941720"/>
            <a:ext cx="6758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is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-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ependent on tub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secretion of H</a:t>
            </a:r>
            <a:r>
              <a:rPr b="0" lang="en-US" sz="24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ap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por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ump f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fine buffer system and discuss the role of blood buffers and to explain their relevant roles in the bo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kidney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lung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01C8-C4C8-4047-950D-C2E8D87FF16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184-38F1-4D62-83C1-12E85386B382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4"/>
          <p:cNvGrpSpPr/>
          <p:nvPr/>
        </p:nvGrpSpPr>
        <p:grpSpPr>
          <a:xfrm>
            <a:off x="1116000" y="530280"/>
            <a:ext cx="7302600" cy="5635440"/>
            <a:chOff x="1116000" y="530280"/>
            <a:chExt cx="7302600" cy="5635440"/>
          </a:xfrm>
        </p:grpSpPr>
        <p:pic>
          <p:nvPicPr>
            <p:cNvPr id="471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530280"/>
              <a:ext cx="730260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3"/>
            <p:cNvSpPr/>
            <p:nvPr/>
          </p:nvSpPr>
          <p:spPr>
            <a:xfrm>
              <a:off x="1658160" y="94392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CT &amp; Lo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6"/>
          <p:cNvSpPr/>
          <p:nvPr/>
        </p:nvSpPr>
        <p:spPr>
          <a:xfrm>
            <a:off x="563400" y="1557360"/>
            <a:ext cx="78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ammonium-ammonia buffer system is 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ologica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587520" y="2565360"/>
            <a:ext cx="718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stimulates renal glutamine meta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w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m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↑ buffering of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 ↓ 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70600" y="3943440"/>
            <a:ext cx="808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, ammonia buffer system accounts for ~ 50%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ed (&amp;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cr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618840" y="51004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CHRONIC 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mmoniagenesis can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10 fold (500 mEq/day; over days) to become domi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988560" y="21420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11920" y="9079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regeneration -  Metabolism of glu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8610480" y="6308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EB6-BDE1-447A-AE9E-712F37836A8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63240" y="563400"/>
            <a:ext cx="85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Titratable Acid Secretion and Urine 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36680" y="1249200"/>
            <a:ext cx="77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art from generating new bicarbonate, titratable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retion is important for regulating urinary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-78480" y="4606920"/>
            <a:ext cx="86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re were no non-bicarbonate buffers 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80 mEq/ day excess of fixed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eliminat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-129600" y="210672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urine acidity ~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 4.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quates to urin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only ~ 0.03 mM/L!!</a:t>
            </a:r>
            <a:r>
              <a:rPr b="0" lang="en-US" sz="2400" spc="-1" strike="noStrike">
                <a:solidFill>
                  <a:srgbClr val="ef0bf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-149040" y="3017880"/>
            <a:ext cx="88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80 mEq/L exces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gested each day, and an eq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acid is excreted each day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5840" y="3776760"/>
            <a:ext cx="89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need to excrete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667 L urine / 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norm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rete only1-2 L / day) i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mained in ionised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7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027-E5F2-4E93-87BB-2469B6EB7F3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125-337E-4E97-859B-3D544813DE8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73600" y="81288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Buffer is substance that stabilises (limits the change o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 when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ons are added or removed from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34640" y="185724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 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eliminate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from body –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REVERSIBLY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b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until balance is re-esta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2518920" y="3786120"/>
            <a:ext cx="2789640" cy="520560"/>
            <a:chOff x="2518920" y="3786120"/>
            <a:chExt cx="2789640" cy="520560"/>
          </a:xfrm>
        </p:grpSpPr>
        <p:sp>
          <p:nvSpPr>
            <p:cNvPr id="385" name="TextBox 6"/>
            <p:cNvSpPr/>
            <p:nvPr/>
          </p:nvSpPr>
          <p:spPr>
            <a:xfrm>
              <a:off x="2518920" y="378612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HA         H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+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+ A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Straight Arrow Connector 8"/>
            <p:cNvCxnSpPr/>
            <p:nvPr/>
          </p:nvCxnSpPr>
          <p:spPr>
            <a:xfrm>
              <a:off x="3152160" y="398772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</p:cxnSp>
        <p:cxnSp>
          <p:nvCxnSpPr>
            <p:cNvPr id="387" name="Straight Arrow Connector 11"/>
            <p:cNvCxnSpPr/>
            <p:nvPr/>
          </p:nvCxnSpPr>
          <p:spPr>
            <a:xfrm>
              <a:off x="3101400" y="414000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headEnd len="med" type="arrow" w="med"/>
            </a:ln>
          </p:spPr>
        </p:cxnSp>
      </p:grpSp>
      <p:sp>
        <p:nvSpPr>
          <p:cNvPr id="388" name="Text Box 6"/>
          <p:cNvSpPr/>
          <p:nvPr/>
        </p:nvSpPr>
        <p:spPr>
          <a:xfrm>
            <a:off x="166680" y="459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Reaction direction (&amp; dissociation rate) dependent on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each chemical spe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79280" y="5599080"/>
            <a:ext cx="80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f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↑ then equation moves leftwards and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↓ - 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minimises changes in [H</a:t>
            </a:r>
            <a:r>
              <a:rPr b="1" i="1" lang="en-IE" sz="2400" spc="-1" strike="noStrike" baseline="30000">
                <a:solidFill>
                  <a:srgbClr val="66ff33"/>
                </a:solidFill>
                <a:latin typeface="Arial"/>
                <a:ea typeface="Arial"/>
              </a:rPr>
              <a:t>+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5616000" y="371160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A = undissociated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= conjugate base (any an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34280" y="2943360"/>
            <a:ext cx="89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General form of buffering reaction usually in form of conju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cid-base pa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5DDE-457C-4003-A4B4-F122F40ED0F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defenses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85B-6A64-4651-AF36-2CD290B23FE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25960" y="5716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What buffer systems exist in the bo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518400" y="11430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578520" y="17859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Most important buffering system. Works by a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roton acceptor for carbon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598760" y="2712960"/>
            <a:ext cx="5759280" cy="966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8EAB-6845-4E27-9E0D-0F53A2E3378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890360" y="-28440"/>
            <a:ext cx="54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2) Phosphate Buffe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08880" y="1157400"/>
            <a:ext cx="85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hosphate buffer system not important as extracellular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 (concentration too low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294120" y="20350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ever, major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INTRACELLULAR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buffer and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NAL TUBULAR FLUI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858600" y="3571920"/>
            <a:ext cx="659556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acid converted to weak aci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336960" y="3027240"/>
            <a:ext cx="610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mponents are H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055880" y="4944960"/>
            <a:ext cx="67478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base converted to weak bas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1896120" y="3110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293040" y="4235400"/>
            <a:ext cx="86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xyl an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groups on plasma proteins are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243360" y="287172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60 - 70% of total chemical buffering of body fluids is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ellularly, mostly due to intracellular prot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246600" y="1492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mong most plentiful buffers in body, partic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concentrated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TRACELLULAR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265040" y="46972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COOH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CO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590480" y="5213520"/>
            <a:ext cx="52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521280" y="5119560"/>
            <a:ext cx="854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 of cells changes in proportion to pH of extracellular fl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rapidly traverse cell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718200" y="1577880"/>
            <a:ext cx="785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important non-bicarbonate buffering protein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itratable groups on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HAEMOGLOBI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(Hb also important for buffering CO</a:t>
            </a:r>
            <a:r>
              <a:rPr b="1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13"/>
          <p:cNvGrpSpPr/>
          <p:nvPr/>
        </p:nvGrpSpPr>
        <p:grpSpPr>
          <a:xfrm>
            <a:off x="-403200" y="3322800"/>
            <a:ext cx="12031200" cy="1628280"/>
            <a:chOff x="-403200" y="3322800"/>
            <a:chExt cx="12031200" cy="1628280"/>
          </a:xfrm>
        </p:grpSpPr>
        <p:sp>
          <p:nvSpPr>
            <p:cNvPr id="417" name="Rectangle 2"/>
            <p:cNvSpPr/>
            <p:nvPr/>
          </p:nvSpPr>
          <p:spPr>
            <a:xfrm>
              <a:off x="-403200" y="3322800"/>
              <a:ext cx="814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2"/>
            <p:cNvSpPr/>
            <p:nvPr/>
          </p:nvSpPr>
          <p:spPr>
            <a:xfrm>
              <a:off x="3484440" y="4402440"/>
              <a:ext cx="81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b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H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8"/>
            <p:cNvSpPr/>
            <p:nvPr/>
          </p:nvSpPr>
          <p:spPr>
            <a:xfrm>
              <a:off x="5119560" y="384192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Box 10"/>
            <p:cNvSpPr/>
            <p:nvPr/>
          </p:nvSpPr>
          <p:spPr>
            <a:xfrm>
              <a:off x="2098080" y="4308480"/>
              <a:ext cx="26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(DeoxyHb a better buf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than OxyH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4"/>
          <p:cNvSpPr/>
          <p:nvPr/>
        </p:nvSpPr>
        <p:spPr>
          <a:xfrm>
            <a:off x="1896120" y="49680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393840" y="2349360"/>
            <a:ext cx="85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important source of buffer 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ab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osi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nal tubular acidosis &amp; uraemic 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414720" y="11667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ly involved in providing a degree of buffering (by 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hange) in most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13640" y="3500280"/>
            <a:ext cx="837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ase) is most important buffer released from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ing metabolic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443160" y="4694400"/>
            <a:ext cx="81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in major depletion of skeletal minera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ronic metabolic acidosis that occur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tubule acidosis (RTA) can lead to developme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kets / osteomala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896120" y="-284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4)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msoliman1</cp:lastModifiedBy>
  <cp:lastPrinted>2016-04-30T15:22:53Z</cp:lastPrinted>
  <dcterms:modified xsi:type="dcterms:W3CDTF">2016-04-30T15:26:25Z</dcterms:modified>
  <cp:revision>539</cp:revision>
  <dc:subject/>
  <dc:title>Slide 1</dc:title>
</cp:coreProperties>
</file>