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77075" cy="852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77600" cy="852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008240" y="0"/>
            <a:ext cx="3066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409400" y="639720"/>
            <a:ext cx="4259160" cy="319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093160"/>
            <a:ext cx="30672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00824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41D-295F-4D02-88AD-66565706AE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80E-5BFE-4BD6-9A3D-0A8225BBAA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4A5-A91D-4B30-87CB-4CC9A7A7238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EB75-C3D7-41EA-A55B-4992F05624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409760" y="63972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7760" y="4047840"/>
            <a:ext cx="56610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4008600" y="8093160"/>
            <a:ext cx="3066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D8F-518C-4B4F-AF82-227CED3DFB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E28-10BF-41A0-AEF9-C6EB66AA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614-14F3-4BFB-9177-523344A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2F3-109E-43DF-B4E3-6F6E860F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22C-53E1-4937-8D9E-EA75D959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3AC-1881-4798-96BB-8A6F19D8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1471-39E5-4992-BAB9-3B7A0BBA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C587-3933-4859-9DCE-0826AB7A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D0E4-DDD5-431A-9182-178734BA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D7FC-591B-420A-9D02-71F7BA27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E91A-E6FA-4972-BBAA-2702204F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BDA8-BF73-4857-8784-4DDDF4BA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256-A893-4CA4-8459-5787AC68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E31-D1C1-4BD5-97CD-B7A55FA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690C-BAD5-43F2-8A00-5BDE04A8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191-53F4-4B56-A2AE-7F935E62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A5E6-1A28-4119-8113-B1326379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E3B3-B56E-4748-B401-0682A3C3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3FE5-1DC1-4B19-89D8-52C6081D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D1D4-C6F3-4D87-BBDC-E274A8E6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A373-A45F-4E0E-A75E-9EAEF11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1B8B-C3A4-481B-B1FC-78BBEB52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359E-94AC-4CEA-96AD-A6110D7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6B0-917A-4E0A-B1CB-75E9BAE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7C0F-D0F6-477E-8A15-05192FC9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F08C-388D-4709-8035-FCF0B10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4AB4-9F6E-4B6F-A8DA-40D02C32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AD9F2-8C5B-46EE-A3B6-262510A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D489-699D-42FD-A803-DE884F5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537E-8EC1-4D42-B81C-FD64A887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2ADAE-B7D5-4343-871E-3651845B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457E-34DC-45A9-A301-4E97DBF5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FEE72-B9DA-4383-80C0-D1E2777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11CB-77B4-4E21-A53A-BE78E0F4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399-D129-4F6A-AC25-2EF0C83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0122D-3809-46B5-A928-A025267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B58D-AFD6-4044-B7AD-A2F5E8C4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FF3C-3491-43DA-BC3A-4534B700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306C2-7332-497E-9F2A-F7ABC8D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123E-437B-4E52-954C-A01AE27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0E054-582D-494A-9135-446C6F7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152E1-74CA-45B4-AF11-A4724D67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4D37-4DE3-411B-8A9B-7DCE535E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EC00-796D-4E82-A236-DB4887F7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4D7C2-D640-44B7-B5A2-939BAC99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315-032A-4BFB-8FB5-4BCAB8FD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3E2C-3FEA-474C-BA30-A412712C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63C0-8ACC-494D-B61A-71EA6140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221B-0124-475D-AACA-8F78463D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FF04-A927-4DE0-9799-211B682A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5BDA-EB2A-492D-A995-9A84C0B3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AEADE-8C11-41BC-B15F-E23D7A2D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5CEA-667F-44A3-BB22-8BD55FD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B263-203A-46FD-BC2F-808A4F66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BF56-AEF5-4392-B412-7B452B25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0FA7D-51E9-4A12-B270-8073D6CA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C11-0CA9-488F-B15E-74663D96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9E15-CF2D-430F-B484-54AF1233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693A-1870-4282-847B-506119C4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D2122-C902-4BE1-9FE2-9AAFB4B5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89D0-40A2-41A8-8622-6A687F9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DEB8D-E580-4C65-A7EF-A733A06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6874F-7687-4FC6-89FF-F47B0DDA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D566A-05B8-45D9-A6C7-3927CD66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6D95-294C-44F9-8A86-5C81966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ACD0-EF4C-43BD-AEF1-902432A0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FFF83-753B-407F-9859-B219FEEE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A73-5DE6-4654-B634-678C690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975A-7BB0-4138-98DB-CDF2C20A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A687F-90A6-4379-98F7-09BC8004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0584-3600-4201-B4E8-1776D3D3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FCC45-87E1-4FB9-A8F9-41E34EB8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279C9-6071-42C8-A34A-851DCE59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4F6AF-4F94-46B8-B1DE-B3B61B6F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7FA48-00AC-4BC5-A60F-3676D796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4CBE1-23A1-4ED1-847B-A4356BF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37F12-D444-4FF4-816F-2BF2AD5E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EF0F3-3E48-49D1-B7B1-FA05748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28E-511C-4B1F-886D-CD338D36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29A3C-DD55-4E26-A8B9-0DB5B47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A0EC-2093-4945-B807-5C90B13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2160-73FB-4D5F-BC4E-0DC7DAC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A5309-E018-44DF-9F93-6147614A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8B857-2C2D-4EC8-A449-11278142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909-93D5-457E-8ED3-0C6CC327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F173-1F2B-4004-B053-AB376F2BD08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0954-9989-47D1-9E0C-27DA7C53B40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A03-24FE-4857-83E3-AB7D1B0C3A0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42D4-5F51-4EEE-9DA4-03B62037C48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0BD-AB2A-4980-8906-4DE2D0D03C7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4630-E259-4CD6-8F6D-E40474175F1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FC71-987F-4764-BAFC-0753A75BC7F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019240" y="3357720"/>
            <a:ext cx="4932720" cy="31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Dr. Mona Soliman, MBBS, MSc, P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Head, Medical Education Depar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Associate Professor of Phys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rbel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Corbel"/>
              </a:rPr>
              <a:t>Dr.Ahmad Ahme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9EC-C12A-41FB-9CB7-EFD7F77E174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4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F07-B08E-45CA-B0D6-C1252FF77B4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 titrat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C50-E93E-4CB1-A47A-C1FB1E1AFC8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FBA-0914-4E89-A281-80163F502AB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-747360" y="2867040"/>
            <a:ext cx="6583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ll look at CC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in acid-base practic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2914-060A-4996-AA69-F37C6D4B80B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0BD9-F061-48F2-94F6-A1B7155C641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471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308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BA3-3D83-4500-ACFC-C6E97EB22AA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63240" y="563400"/>
            <a:ext cx="85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Titratable Acid Secretion and Urine 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36680" y="1249200"/>
            <a:ext cx="77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art from generating new bicarbonate, titratable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retion is important for regulating urinary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-78480" y="4606920"/>
            <a:ext cx="86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re were no non-bicarbonate buffers 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80 mEq/ day excess of fixed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eliminat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-129600" y="210672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urine acidity ~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 4.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quates to urin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only ~ 0.03 mM/L!!</a:t>
            </a:r>
            <a:r>
              <a:rPr b="0" lang="en-US" sz="2400" spc="-1" strike="noStrike">
                <a:solidFill>
                  <a:srgbClr val="ef0bf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-149040" y="3017880"/>
            <a:ext cx="88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80 mEq/L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gested each day, and an e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acid is excreted each day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15840" y="3776760"/>
            <a:ext cx="89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need to excrete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667 L urine /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or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only1-2 L / day) i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ained in ionise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7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FC8-3B35-429E-811C-0A76C582674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2900-9F61-43DD-B2A5-25E0D14FF10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EB90-45DE-475B-BADB-AB5DD492EAD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5FFC-9900-4E6D-8489-1774FA18793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1A70-5D93-4236-B9D6-54A3575D0B0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17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msoliman1</cp:lastModifiedBy>
  <cp:lastPrinted>2016-04-30T15:22:53Z</cp:lastPrinted>
  <dcterms:modified xsi:type="dcterms:W3CDTF">2016-04-30T15:26:25Z</dcterms:modified>
  <cp:revision>539</cp:revision>
  <dc:subject/>
  <dc:title>Slide 1</dc:title>
</cp:coreProperties>
</file>