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724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08440" y="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911A-E415-44A7-83F0-37071532D13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B201-0924-4050-A99E-73630A689A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08440" y="9283680"/>
            <a:ext cx="2914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312D-E2ED-45BB-AE3D-CBA8FF4C60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9080" y="7333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3200" y="4642920"/>
            <a:ext cx="537840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16E-345C-4284-BBDC-C9492908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449A-9F66-4C76-B9D1-27E0E253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D18E-2064-4B47-8AD8-95D6C413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0328-D409-4F78-A81D-8CB0FAF5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A1DE-5B5D-4D84-8CF2-22B8FFE3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67D5-496E-4F4B-934A-200D2917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FDD0-EA53-4531-A815-29707E03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E489-C233-47F5-A443-C04AA4DD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D28C-AFFC-4599-BA32-7D1D3638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C63E-83F9-4380-BAF2-7BE5D519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91E9-3CAA-4E0F-9C93-7161445E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EA7-FC24-4926-8B52-86F1EEEC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7937-F6D3-4B6A-9710-CBC3DBAF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BC32-09E3-4258-A42C-2813C2A7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BE24-6630-485C-AD70-BAE8CE0A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8777-4933-4EC0-8D05-F23181C0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71D4-6DD5-46C3-B9A6-A93496F2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D08E-6BDD-49DE-99C3-7BC8F445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F333-0921-455A-B824-F2DFDC29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42B0-3BB4-4C28-A9C4-CB8DA96F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DA3FD-C96A-4D23-9C9F-57319937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EED2-F34A-4298-8A8E-9001BBC5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678-6140-4C55-AA21-2F5EED1C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D4A72-D6BF-47E6-A92E-8D436EA4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CC41-E88D-4A87-B52B-06EE4E4D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8523-0194-47B8-BDEF-1A257AD7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CE6D6-ACBB-4059-B5A2-AE48218F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6B982-67F3-4385-82C0-DCDEC790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1690-A3D5-408E-B26A-DD094C0B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6F0E-F174-475E-8D8F-43EA78D4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7D919-71DA-47FA-A4FA-C19C358D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0DEBC-33AB-4F9F-BD33-AF70724D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A6B6E-13A8-4A07-8537-87D103DB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8D4-8F2D-4166-A6F1-F2728315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C6113-70F0-4520-A053-CC23970D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71902-05CA-4EBE-8ACA-39FD80A8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CBAB1-2B4B-4153-987B-CED56E5F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00887-B399-4C57-A5CE-AF21E504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C606-B7DD-48DC-9ED7-4CF68319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CE599-9DA2-47C7-9868-B93FEDFC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755D1-3199-479C-91C1-03610C62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3B3EA-FA63-4594-BD97-00590161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3401C-4B37-454C-AEB6-841AC6B8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EEC3C-A929-42BD-9A66-9B190F73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A1E-D464-4421-B1B8-B5534F82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AE7F4-DC78-4D74-90A4-3B2F28BF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F0D20-7AB3-46E7-B578-03053259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8042-F380-4B5E-95D1-B908AC4E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E2E6E-CC6F-43E6-8F84-C03A4826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B0E20-1FAE-49E1-930D-18BCCFF9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1FE28-64C6-42B0-90A2-12D854CC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09F38-6605-4636-9447-BBBFBA4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2FEFD-5E30-4E05-A5DB-9C42C8E7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217BD-DDF1-4178-A811-AEA36F61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A9363-6BEB-4DB7-A282-3B42BB9C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B1B-F464-408E-8E71-182A94EB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4170D-4468-4C98-BF33-CB28DDE4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87629-7DDC-4F95-ACB2-7374750F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90188-1E34-4B38-807E-C5952D99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63E63-8A15-4732-B57D-944FE4BF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537DF-A8EA-43B7-A406-5E4EEF53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35B24-F287-4BDF-A186-A40A9112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318D9-4F4D-41EB-98B8-799806FD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B0CE2-61E1-4F8B-8641-6D275255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9983C-0488-43FB-B73F-62EF6857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36291-929A-4087-B68A-8C7E8193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663D-4B71-4B38-8AD3-B1C8B8D4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3F28A-89C3-4975-A04C-5CC4E082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94E87-8A77-417D-8500-3A4659A8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A5943-41B3-4E6E-A21B-4A284FA6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FABD0-4C99-488F-AF86-9105EB75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6608A-5D73-41CE-931F-07CB8DEF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65E91-6554-4914-A781-732938B6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E4E76-B36D-4E0B-BFAE-2ED8359B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29132-9458-45FD-9AC2-D65E42B0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F614A-6A1C-456B-8436-1B47FD10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BE49A-16EE-4A41-8755-DDA5D046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F2E-03F5-4576-95C9-88BF71D0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9D400-2967-4969-9DB5-EE8B1AD5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E0DCF-E962-45FE-A6FF-2A84183E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1AF02-2DC0-465F-8174-97EBD555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0D4B-DBF1-4789-A6AB-26C668B9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9CE03-845C-4C78-B096-FA403768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BD7-0B1A-4495-A200-DB34474E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8C51-A48D-4866-8558-ACB586BE93B4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2390-F5E5-4FCC-8AF4-C77578622B2E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AD9E-64F1-4F0D-B08B-AEACA6B6A564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2092-089F-4B95-925A-32CCB9D74FC8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89EA-B156-45F4-BB96-8BC41BFAA070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3A58-B0F4-4E09-98B3-A53734D13EC1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ECFB-DD4D-49D5-A1F6-E404A11B891B}" type="slidenum">
              <a:rPr b="0" lang="en-GB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3"/>
          <p:cNvSpPr/>
          <p:nvPr/>
        </p:nvSpPr>
        <p:spPr>
          <a:xfrm>
            <a:off x="1950840" y="907920"/>
            <a:ext cx="492948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Renal Physiology 1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cid-Base Balance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id Base Dis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550880" y="3141720"/>
            <a:ext cx="5869800" cy="37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Dr. Mona Soliman, MBBS, MSc, P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Head, Medical Education Depar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Associate Professor of Physi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hair of Cardiovascular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College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King Saud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Corbel"/>
              </a:rPr>
              <a:t>Dr.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 u="sng">
                <a:solidFill>
                  <a:srgbClr val="eb8803"/>
                </a:solidFill>
                <a:uFillTx/>
                <a:latin typeface="Corbel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Slide Number Placeholder 6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68FA-504B-4C97-B20E-E688B7E6A7E5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CFF4-4CEA-4ED3-9C99-6571511D00B8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390600" y="164304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buClr>
                <a:srgbClr val="d6ecff"/>
              </a:buClr>
              <a:buSzPct val="9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High protein diet - protein catabolism produ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phosphoric acid and sulphur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2) High fat diet  - fat catabolism produces fatty aci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3) Heavy exercise – stimulates anaerobic metabolism, producing lactic ac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4) Addition of fixed acids (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iabetic ketoacidosi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5) Severe diarrhoea – loss of bicarbonate from intest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6) Alterations in renal function (inability to excrete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7) Tissue hypoxia (produces lactic ac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9720" indent="-30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8) Ingested substances such as methanol, aspirin (acetylsalicylic acid), ethylene glyc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35244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1420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aused by either i) </a:t>
            </a:r>
            <a:r>
              <a:rPr b="1" lang="en-GB" sz="2400" spc="-1" strike="noStrike">
                <a:solidFill>
                  <a:srgbClr val="ff0000"/>
                </a:solidFill>
                <a:latin typeface="Corbel"/>
              </a:rPr>
              <a:t>INCREAS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production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ii)</a:t>
            </a:r>
            <a:r>
              <a:rPr b="1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00b0f0"/>
                </a:solidFill>
                <a:latin typeface="Corbel"/>
              </a:rPr>
              <a:t>IMPAIR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acid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excretion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4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88D5-B328-4621-A76B-0516A906FD8B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533520" y="714240"/>
            <a:ext cx="8396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357480" indent="-29808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irst line of defence is shift of buffering reactions to the left to neutralise excess acid (for bicarbonate, cell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&amp; bone buffer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480" indent="-298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1643040" y="1890720"/>
            <a:ext cx="5759640" cy="96696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2"/>
          <p:cNvSpPr/>
          <p:nvPr/>
        </p:nvSpPr>
        <p:spPr>
          <a:xfrm>
            <a:off x="495360" y="72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135000" y="5618160"/>
            <a:ext cx="986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Characterised by DECREASED [HCO</a:t>
            </a:r>
            <a:r>
              <a:rPr b="1" lang="en-GB" sz="2800" spc="-1" strike="noStrike" u="sng" baseline="-25000">
                <a:solidFill>
                  <a:srgbClr val="ef0bf5"/>
                </a:solidFill>
                <a:uFillTx/>
                <a:latin typeface="Arial"/>
              </a:rPr>
              <a:t>3</a:t>
            </a:r>
            <a:r>
              <a:rPr b="1" lang="en-GB" sz="2800" spc="-1" strike="noStrike" u="sng" baseline="30000">
                <a:solidFill>
                  <a:srgbClr val="ef0bf5"/>
                </a:solidFill>
                <a:uFillTx/>
                <a:latin typeface="Arial"/>
              </a:rPr>
              <a:t>-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ef0bf5"/>
                </a:solidFill>
                <a:uFillTx/>
                <a:latin typeface="Arial"/>
              </a:rPr>
              <a:t>(&lt;25mM) and pH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90680" y="2857680"/>
            <a:ext cx="75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etabolic acidosis increases ventilation rate </a:t>
            </a: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v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chemoreceptor activ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473040" y="3787920"/>
            <a:ext cx="8528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d expiration of 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duces 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 wh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s pH of ECF (respiratory compens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92120" y="4691160"/>
            <a:ext cx="9302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cidosis </a:t>
            </a:r>
            <a:r>
              <a:rPr b="1" lang="en-IE" sz="2400" spc="-1" strike="noStrike">
                <a:solidFill>
                  <a:srgbClr val="ff0000"/>
                </a:solidFill>
                <a:latin typeface="Arial"/>
              </a:rPr>
              <a:t>INCREAS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</a:rPr>
              <a:t>SECRETION 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</a:rPr>
              <a:t>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00b0f0"/>
                </a:solidFill>
                <a:latin typeface="Arial"/>
              </a:rPr>
              <a:t>ABSORPTION</a:t>
            </a:r>
            <a:r>
              <a:rPr b="0" lang="en-IE" sz="2400" spc="-1" strike="noStrike">
                <a:solidFill>
                  <a:srgbClr val="00b0f0"/>
                </a:solidFill>
                <a:latin typeface="Arial"/>
              </a:rPr>
              <a:t> of </a:t>
            </a:r>
            <a:r>
              <a:rPr b="0" lang="en-GB" sz="2400" spc="-1" strike="noStrike">
                <a:solidFill>
                  <a:srgbClr val="00b0f0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00b0f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b0f0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EC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] increa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C35A-90CD-476E-B891-4DD0863DEA6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579240" y="171468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650160" y="2214720"/>
            <a:ext cx="2050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4BCF-2483-4F9A-9EF8-ACF4E0A00EA2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95360" y="15480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293760" y="107172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*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Uptake of excess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by cells is accompanied, in part, by </a:t>
            </a:r>
            <a:r>
              <a:rPr b="1" lang="en-GB" sz="2400" spc="-1" strike="noStrike">
                <a:solidFill>
                  <a:srgbClr val="0099ff"/>
                </a:solidFill>
                <a:latin typeface="Corbel"/>
              </a:rPr>
              <a:t>LOSS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of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intr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ellular 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(and N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) to </a:t>
            </a:r>
            <a:r>
              <a:rPr b="1" i="1" lang="en-GB" sz="2400" spc="-1" strike="noStrike">
                <a:solidFill>
                  <a:srgbClr val="ffffff"/>
                </a:solidFill>
                <a:latin typeface="Corbel"/>
              </a:rPr>
              <a:t>extr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ellular fluid to maint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</a:t>
            </a:r>
            <a:r>
              <a:rPr b="1" lang="en-GB" sz="2400" spc="-1" strike="noStrike">
                <a:solidFill>
                  <a:srgbClr val="ef0bf5"/>
                </a:solidFill>
                <a:latin typeface="Corbel"/>
              </a:rPr>
              <a:t>ELECTRONEUTRALITY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285840" y="2714760"/>
            <a:ext cx="8610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Thus, metabolic acidosis often associated with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INCRE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plasma [K</a:t>
            </a:r>
            <a:r>
              <a:rPr b="1" lang="en-GB" sz="2400" spc="-1" strike="noStrike" baseline="30000">
                <a:solidFill>
                  <a:srgbClr val="66ff33"/>
                </a:solidFill>
                <a:latin typeface="Corbel"/>
              </a:rPr>
              <a:t>+</a:t>
            </a: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]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relative to that expected from state of potass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bal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"/>
          <p:cNvSpPr/>
          <p:nvPr/>
        </p:nvSpPr>
        <p:spPr>
          <a:xfrm>
            <a:off x="293760" y="4286160"/>
            <a:ext cx="86104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rbe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rbel"/>
              </a:rPr>
              <a:t>HYPERKALEMIA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can develop even though body 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stores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diminish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299880" y="5357880"/>
            <a:ext cx="86108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342720"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Cation shift is </a:t>
            </a:r>
            <a:r>
              <a:rPr b="1" lang="en-GB" sz="2400" spc="-1" strike="noStrike">
                <a:solidFill>
                  <a:srgbClr val="ffc000"/>
                </a:solidFill>
                <a:latin typeface="Corbel"/>
              </a:rPr>
              <a:t>REVERSED</a:t>
            </a:r>
            <a:r>
              <a:rPr b="0" lang="en-GB" sz="2400" spc="-1" strike="noStrike">
                <a:solidFill>
                  <a:srgbClr val="ffffff"/>
                </a:solidFill>
                <a:latin typeface="Corbel"/>
              </a:rPr>
              <a:t> with correction of acid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100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4517-E6BE-43AC-937B-C71953C6C96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533520" y="1112760"/>
            <a:ext cx="86104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1) Excessive vomiting – loss of HCl from stomach (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tention o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(duodenal) bicarbonate in circulati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2) Alterations in renal function (↑ excretion of titratable ac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.,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thiazide and loop diuretics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N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reabsorption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excre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of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3) Excessive ingestion of bicarbonate antacids paired with renal fail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4)  Volume contraction (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e.g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Corbel"/>
              </a:rPr>
              <a:t>via 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diuretic therapy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 plasma [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rbe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]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5) Excess aldosterone (stimulates collecting duct 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-ATPases to excrete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Corbel"/>
              </a:rPr>
              <a:t>)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etabolic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655560" y="4235400"/>
            <a:ext cx="8358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crease in pH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REDUCES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ventilation rate, elev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642960" y="5094360"/>
            <a:ext cx="807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Reduction in renal absorption and ↑ excretion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n the nephron.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6"/>
          <p:cNvSpPr/>
          <p:nvPr/>
        </p:nvSpPr>
        <p:spPr>
          <a:xfrm>
            <a:off x="168120" y="5792760"/>
            <a:ext cx="878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Characterised by ELEVATED plasma [H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</a:rPr>
              <a:t>3</a:t>
            </a:r>
            <a:r>
              <a:rPr b="1" lang="en-GB" sz="2800" spc="-1" strike="noStrike" baseline="30000">
                <a:solidFill>
                  <a:srgbClr val="ef0bf5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</a:rPr>
              <a:t>and p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-59400" y="668160"/>
            <a:ext cx="88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ly rare phenomenon that can occur in response t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8"/>
          <p:cNvSpPr/>
          <p:nvPr/>
        </p:nvSpPr>
        <p:spPr>
          <a:xfrm>
            <a:off x="214200" y="3751200"/>
            <a:ext cx="864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ss of acid ↑ dissociation of 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↑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A939-6A59-4C5F-B376-5D7930561400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79240" y="171468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Metabolic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704160" y="2214720"/>
            <a:ext cx="28065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95000"/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 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,</a:t>
            </a:r>
            <a:r>
              <a:rPr b="1" lang="en-GB" sz="18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2008440" y="60480"/>
            <a:ext cx="503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cid-Base Imbala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Summar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498240" y="107172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id-base balance can be altered in one of four way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) respiratory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i) metabolic acidosis or alkal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00400" y="4286160"/>
            <a:ext cx="864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METABOLIC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 / intak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 ↓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92120" y="5184720"/>
            <a:ext cx="794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ef0bf5"/>
                </a:solidFill>
                <a:latin typeface="Arial"/>
              </a:rPr>
              <a:t>METABOLIC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roducti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imination of 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r ↑ in [bicarbonate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98960" y="2357280"/>
            <a:ext cx="8009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↓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, secondary to either ↓ respiration or gas ex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19840" y="3216240"/>
            <a:ext cx="8128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fd13b"/>
                </a:solidFill>
                <a:latin typeface="Arial"/>
              </a:rPr>
              <a:t>RESPIRATORY ALKAL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used b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elimination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by hyperventila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"/>
          <p:cNvPicPr/>
          <p:nvPr/>
        </p:nvPicPr>
        <p:blipFill>
          <a:blip r:embed="rId1"/>
          <a:srcRect l="23660" t="39286" r="10715" b="25003"/>
          <a:stretch/>
        </p:blipFill>
        <p:spPr>
          <a:xfrm>
            <a:off x="46080" y="1859040"/>
            <a:ext cx="9063000" cy="3082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495360" y="176040"/>
            <a:ext cx="825336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cid / 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3F61-A8C1-46C5-939E-A709074FCA44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328320" y="928800"/>
            <a:ext cx="83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aimed at identifying underlying cause  of dis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uch that appropriate therapy can be init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50280" y="1955880"/>
            <a:ext cx="81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n addition to usual history taking and physical finding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sampling of arterial blood can yield valuable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397080" y="3027240"/>
            <a:ext cx="77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nalysis of blood sample data is straightforward i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approached systematically either using the Daven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nomogram or flow diagra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Picture 4" descr="Davenport diagram-fig 30"/>
          <p:cNvPicPr/>
          <p:nvPr/>
        </p:nvPicPr>
        <p:blipFill>
          <a:blip r:embed="rId1"/>
          <a:stretch/>
        </p:blipFill>
        <p:spPr>
          <a:xfrm>
            <a:off x="3000240" y="4286160"/>
            <a:ext cx="28083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7B06-92C5-40B4-A6ED-892DB9269AC1}" type="slidenum">
              <a:rPr b="0" lang="en-GB" sz="1200" spc="-1" strike="noStrike">
                <a:solidFill>
                  <a:srgbClr val="d6ec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ow to Analyze an AB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826920" y="1415880"/>
            <a:ext cx="784872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80 – 10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  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7.35 – 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7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7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35 – 45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lt;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=  22 – 26 mmol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idotic          &lt;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&gt; 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5"/>
          <p:cNvSpPr/>
          <p:nvPr/>
        </p:nvSpPr>
        <p:spPr>
          <a:xfrm>
            <a:off x="684360" y="2138400"/>
            <a:ext cx="7704000" cy="25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explain the principles of blood gas and acid-base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o interpret blood gas analysis and diagnose various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scribe causes of acid base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nderstand use of acid base nom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228040" y="40644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lide Number Placeholder 7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F561-AAA4-4104-BF75-77F00BCF7B32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0353-72B8-4312-8D3A-924DDAA75936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1015560" y="100080"/>
            <a:ext cx="72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Analysis of Acid-Base Disord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3" descr="approach for the analysis of simple acid-base disorders - fig 36.6.JPG"/>
          <p:cNvPicPr/>
          <p:nvPr/>
        </p:nvPicPr>
        <p:blipFill>
          <a:blip r:embed="rId1"/>
          <a:stretch/>
        </p:blipFill>
        <p:spPr>
          <a:xfrm>
            <a:off x="3733920" y="928800"/>
            <a:ext cx="5367240" cy="4846680"/>
          </a:xfrm>
          <a:prstGeom prst="rect">
            <a:avLst/>
          </a:prstGeom>
          <a:ln w="0">
            <a:noFill/>
          </a:ln>
        </p:spPr>
      </p:pic>
      <p:sp>
        <p:nvSpPr>
          <p:cNvPr id="463" name="TextBox 4"/>
          <p:cNvSpPr/>
          <p:nvPr/>
        </p:nvSpPr>
        <p:spPr>
          <a:xfrm>
            <a:off x="18000" y="1214280"/>
            <a:ext cx="33627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pH = 7.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] = 16mEq/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PCO2 = 30 mm 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Box 5"/>
          <p:cNvSpPr/>
          <p:nvPr/>
        </p:nvSpPr>
        <p:spPr>
          <a:xfrm>
            <a:off x="14040" y="285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1) Evaluate pH -  ac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Box 6"/>
          <p:cNvSpPr/>
          <p:nvPr/>
        </p:nvSpPr>
        <p:spPr>
          <a:xfrm>
            <a:off x="41040" y="3344760"/>
            <a:ext cx="3705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2) Metabolic or respiratory sour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[H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] &lt; 24mM = metabo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Box 7"/>
          <p:cNvSpPr/>
          <p:nvPr/>
        </p:nvSpPr>
        <p:spPr>
          <a:xfrm>
            <a:off x="36360" y="4354560"/>
            <a:ext cx="31114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3) Analysis of compens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↓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PCO</a:t>
            </a:r>
            <a:r>
              <a:rPr b="0" lang="en-IE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– respirato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compens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Box 8"/>
          <p:cNvSpPr/>
          <p:nvPr/>
        </p:nvSpPr>
        <p:spPr>
          <a:xfrm>
            <a:off x="480600" y="5878440"/>
            <a:ext cx="81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Mixed acid-base disorders can also occur (</a:t>
            </a: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emphysema with diarrhea) i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which an appropriate compensatory response has not occurr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8D28-6E71-4F95-90E7-20894DCE048E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Content Placeholder 2"/>
          <p:cNvSpPr/>
          <p:nvPr/>
        </p:nvSpPr>
        <p:spPr>
          <a:xfrm>
            <a:off x="685800" y="522360"/>
            <a:ext cx="79246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) A 50 year-old man with history of type 2 diabetes was admitted to the emergency department with history of polyuria. On examination he had rapid and deep breathing. Blood analysis showed glucose level of 400 mg/dl.    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following is the arterial blood analysis report of  this patient: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H = 7.1,  P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 40 mmHg and HC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= 18 mmol/L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Normal reference ranges: PCO2 = 36.0-46.0 mmHg, HCO3- = 22.0-26.0 mmol/L)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679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at is the acid base disturbance in this cas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C13E-4298-446F-B93A-A6789F13E917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Content Placeholder 2"/>
          <p:cNvSpPr/>
          <p:nvPr/>
        </p:nvSpPr>
        <p:spPr>
          <a:xfrm>
            <a:off x="685800" y="457200"/>
            <a:ext cx="777240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2) PH= 7.12, PaCO2= 60mmHg, HCO3‾ = 24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a) Compensated metabolic acid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b) Uncompensated metabolic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) 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26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d) Un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37FA-EE55-4BA9-A78D-6D062A01CC4E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Content Placeholder 2"/>
          <p:cNvSpPr/>
          <p:nvPr/>
        </p:nvSpPr>
        <p:spPr>
          <a:xfrm>
            <a:off x="685800" y="45720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d6ecff"/>
              </a:buClr>
              <a:buSzPct val="9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PH= 7.51, PaCO2= 40mmHg, HCO3‾ = 31meq/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Normal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Compensated respiratory acid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respiratory alkalo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4080" indent="-457200">
              <a:lnSpc>
                <a:spcPct val="115000"/>
              </a:lnSpc>
              <a:buClr>
                <a:srgbClr val="ffffff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Uncompensated metabolic alkalos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1378-0023-4CAB-9A6B-0B141FDF712C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539640" y="692280"/>
            <a:ext cx="81518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4 y-o </a:t>
            </a:r>
            <a:r>
              <a:rPr b="0" lang="en-US" sz="2400" spc="-1" strike="noStrike">
                <a:solidFill>
                  <a:srgbClr val="ffffff"/>
                </a:solidFill>
                <a:latin typeface="Webdings"/>
                <a:ea typeface="Webdings"/>
              </a:rPr>
              <a:t>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with hx chronic renal failure and chronic diuretic therapy was admitted to ICU comatose and severely dehydrated.  On 40% oxygen her ABG &amp; Vital Sig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.5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30/90 mmH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5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ul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20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2 mmH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5/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2 mmol/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847800" y="4724280"/>
            <a:ext cx="77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nterpretation: Partly compensated metabo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WordArt 2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8" name="Slide Number Placeholder 2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BE58-8CBB-40D2-B6DA-4429BBF460A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8E27-82A3-4EC8-8DC3-388348F0DC45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Picture 2" descr=""/>
          <p:cNvPicPr/>
          <p:nvPr/>
        </p:nvPicPr>
        <p:blipFill>
          <a:blip r:embed="rId1"/>
          <a:srcRect l="19922" t="34686" r="8008" b="10001"/>
          <a:stretch/>
        </p:blipFill>
        <p:spPr>
          <a:xfrm>
            <a:off x="182520" y="1285920"/>
            <a:ext cx="8786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0072-C1EE-49D0-B1E9-EEDA57D0D899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35244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Causes of Metabolic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1"/>
          <a:stretch/>
        </p:blipFill>
        <p:spPr>
          <a:xfrm>
            <a:off x="298440" y="1042920"/>
            <a:ext cx="86025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27BA-5C9F-4283-A741-1BF59149B9EA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1"/>
          <a:srcRect l="22267" t="39377" r="9180" b="17499"/>
          <a:stretch/>
        </p:blipFill>
        <p:spPr>
          <a:xfrm>
            <a:off x="98280" y="1000080"/>
            <a:ext cx="8902800" cy="350064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jor Causes of Metabolic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8FB6-8637-486D-8966-A9FE78C5ED3D}" type="slidenum">
              <a:rPr b="0" lang="en-GB" sz="1200" spc="-1" strike="noStrike">
                <a:solidFill>
                  <a:srgbClr val="d6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556560" y="2286000"/>
            <a:ext cx="809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  <a:ea typeface="Arial"/>
              </a:rPr>
              <a:t>Bal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4"/>
          <p:cNvSpPr/>
          <p:nvPr/>
        </p:nvSpPr>
        <p:spPr>
          <a:xfrm>
            <a:off x="665280" y="809640"/>
            <a:ext cx="788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isturbances of Acid-Base Ba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541440" y="1762200"/>
            <a:ext cx="821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id-base disturbances may be either </a:t>
            </a:r>
            <a:r>
              <a:rPr b="0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542520" y="2739960"/>
            <a:ext cx="792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ff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 problems due to a respiratory disorder resul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66ff33"/>
                </a:solidFill>
                <a:latin typeface="Arial"/>
              </a:rPr>
              <a:t>RESPIRATOR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H problems arising from acids or bases of a non-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igin result in </a:t>
            </a:r>
            <a:r>
              <a:rPr b="1" lang="en-GB" sz="2400" spc="-1" strike="noStrike">
                <a:solidFill>
                  <a:srgbClr val="ef0bf5"/>
                </a:solidFill>
                <a:latin typeface="Arial"/>
              </a:rPr>
              <a:t>METABO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cidosis or alkal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915192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b8803"/>
                </a:solidFill>
                <a:latin typeface="Arial"/>
                <a:ea typeface="Arial"/>
              </a:rPr>
              <a:t>Respiratory Acid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ssociated with </a:t>
            </a:r>
            <a:r>
              <a:rPr b="1" lang="en-GB" sz="2000" spc="-1" strike="noStrike">
                <a:solidFill>
                  <a:srgbClr val="66ff33"/>
                </a:solidFill>
                <a:latin typeface="Arial"/>
                <a:ea typeface="Arial"/>
              </a:rPr>
              <a:t>RESPIRATORY FAILUR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COPDs like emphysema)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nadequate alveolar ventilation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25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Impaired gas diffusion (</a:t>
            </a:r>
            <a:r>
              <a:rPr b="0" i="1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  <a:ea typeface="Arial"/>
              </a:rPr>
              <a:t> pulmonary oedema)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aracterised by ↑ Pco</a:t>
            </a:r>
            <a:r>
              <a:rPr b="1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(hypercapnia) and ↓ plasma pH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itial response is increased conversion of 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o H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 H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80000"/>
              </a:lnSpc>
              <a:spcBef>
                <a:spcPts val="4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INCREASE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ECF [H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+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</a:t>
            </a:r>
            <a:r>
              <a:rPr b="1" lang="en-GB" sz="2000" spc="-1" strike="noStrike" u="sng">
                <a:solidFill>
                  <a:srgbClr val="ef0bf5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plasma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66ff33"/>
                </a:solidFill>
                <a:latin typeface="Arial"/>
                <a:ea typeface="Arial"/>
              </a:rPr>
              <a:t>INCREASED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) renal </a:t>
            </a:r>
            <a:r>
              <a:rPr b="1" lang="en-IE" sz="2000" spc="-1" strike="noStrike">
                <a:solidFill>
                  <a:srgbClr val="ffff00"/>
                </a:solidFill>
                <a:latin typeface="Arial"/>
                <a:ea typeface="Arial"/>
              </a:rPr>
              <a:t>SECRETION OF H</a:t>
            </a:r>
            <a:r>
              <a:rPr b="1" lang="en-IE" sz="20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and ii) </a:t>
            </a:r>
            <a:r>
              <a:rPr b="1" lang="en-IE" sz="2000" spc="-1" strike="noStrike">
                <a:solidFill>
                  <a:srgbClr val="0099ff"/>
                </a:solidFill>
                <a:latin typeface="Arial"/>
                <a:ea typeface="Arial"/>
              </a:rPr>
              <a:t>ABSORPTION OF </a:t>
            </a:r>
            <a:r>
              <a:rPr b="1" lang="en-GB" sz="2000" spc="-1" strike="noStrike">
                <a:solidFill>
                  <a:srgbClr val="0099ff"/>
                </a:solidFill>
                <a:latin typeface="Arial"/>
                <a:ea typeface="Arial"/>
              </a:rPr>
              <a:t>HCO</a:t>
            </a:r>
            <a:r>
              <a:rPr b="1" lang="en-GB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3</a:t>
            </a: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baseline="30000">
                <a:solidFill>
                  <a:srgbClr val="0099ff"/>
                </a:solidFill>
                <a:latin typeface="Arial"/>
                <a:ea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 COMPENSATORY MECHANISM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 ACUTE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,1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 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tissue buffering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CHRONICALLY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, 3.5 mEq/L [H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3</a:t>
            </a:r>
            <a:r>
              <a:rPr b="0" lang="en-GB" sz="2000" spc="-1" strike="noStrike" baseline="30000">
                <a:solidFill>
                  <a:srgbClr val="ef0bf5"/>
                </a:solidFill>
                <a:latin typeface="Arial"/>
                <a:ea typeface="Arial"/>
              </a:rPr>
              <a:t>-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] per 10 mm Hg </a:t>
            </a:r>
            <a:r>
              <a:rPr b="0" lang="en-GB" sz="2000" spc="-1" strike="noStrike">
                <a:solidFill>
                  <a:srgbClr val="ef0bf5"/>
                </a:solidFill>
                <a:latin typeface="Symbol"/>
                <a:ea typeface="Symbol"/>
              </a:rPr>
              <a:t>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 in Pco</a:t>
            </a:r>
            <a:r>
              <a:rPr b="0" lang="en-GB" sz="20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ef0bf5"/>
                </a:solidFill>
                <a:latin typeface="Arial"/>
                <a:ea typeface="Arial"/>
              </a:rPr>
              <a:t>( renal acid excretion)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ci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A580-9233-48F1-9553-5CCBE942482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238644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4" descr="Davenport diagram-fig 30"/>
          <p:cNvPicPr/>
          <p:nvPr/>
        </p:nvPicPr>
        <p:blipFill>
          <a:blip r:embed="rId1"/>
          <a:stretch/>
        </p:blipFill>
        <p:spPr>
          <a:xfrm>
            <a:off x="3484440" y="1744560"/>
            <a:ext cx="4730760" cy="39704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4"/>
          <p:cNvSpPr/>
          <p:nvPr/>
        </p:nvSpPr>
        <p:spPr>
          <a:xfrm>
            <a:off x="581040" y="171468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Arial"/>
              </a:rPr>
              <a:t>Respiratory Acid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7968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pH, ↑ P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ef0bf5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ef0bf5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ef0bf5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33520" y="112536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Arial"/>
                <a:ea typeface="Arial"/>
              </a:rPr>
              <a:t>Respiratory Alkalosi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Reduced plasma Pco</a:t>
            </a:r>
            <a:r>
              <a:rPr b="0" lang="en-GB" sz="2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(hypocapnia) and elevated p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Caused by increased gas exchange mainly due to </a:t>
            </a:r>
            <a:r>
              <a:rPr b="1" lang="en-GB" sz="2200" spc="-1" strike="noStrike">
                <a:solidFill>
                  <a:srgbClr val="ef0bf5"/>
                </a:solidFill>
                <a:latin typeface="Arial"/>
                <a:ea typeface="Arial"/>
              </a:rPr>
              <a:t>HYPERVENTIL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xiety / fe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-196560">
              <a:lnSpc>
                <a:spcPct val="100000"/>
              </a:lnSpc>
              <a:spcBef>
                <a:spcPts val="499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gh altitud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- Characterised by ↓ Pco</a:t>
            </a:r>
            <a:r>
              <a:rPr b="1" lang="en-GB" sz="2800" spc="-1" strike="noStrike" baseline="-25000">
                <a:solidFill>
                  <a:srgbClr val="ef0bf5"/>
                </a:solidFill>
                <a:latin typeface="Arial"/>
                <a:ea typeface="Arial"/>
              </a:rPr>
              <a:t>2</a:t>
            </a:r>
            <a:r>
              <a:rPr b="1" lang="en-GB" sz="2800" spc="-1" strike="noStrike">
                <a:solidFill>
                  <a:srgbClr val="ef0bf5"/>
                </a:solidFill>
                <a:latin typeface="Arial"/>
                <a:ea typeface="Arial"/>
              </a:rPr>
              <a:t> and ↑ plasma pH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855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duction in P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hifts buffering reaction to the lef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636120" indent="-245520">
              <a:lnSpc>
                <a:spcPct val="100000"/>
              </a:lnSpc>
              <a:spcBef>
                <a:spcPts val="55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DECREASE 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in ECF [H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 </a:t>
            </a: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nd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 plasma [HCO</a:t>
            </a:r>
            <a:r>
              <a:rPr b="0" lang="en-GB" sz="22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3</a:t>
            </a:r>
            <a:r>
              <a:rPr b="0" lang="en-GB" sz="22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-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353520" indent="-2944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0000"/>
                </a:solidFill>
                <a:latin typeface="Arial"/>
                <a:ea typeface="Arial"/>
              </a:rPr>
              <a:t>DECREASE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) renal </a:t>
            </a:r>
            <a:r>
              <a:rPr b="1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SECRETION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of H</a:t>
            </a:r>
            <a:r>
              <a:rPr b="0" lang="en-IE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0" lang="en-IE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IE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d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ii)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  <a:ea typeface="Arial"/>
              </a:rPr>
              <a:t>ABSORPT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till an excess of H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relative to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  <a:ea typeface="Arial"/>
              </a:rPr>
              <a:t>COMPENSATORY MECHANISM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495360" y="165960"/>
            <a:ext cx="825336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spiratory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2386440" y="6215040"/>
            <a:ext cx="26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11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(see G &amp;H, p.396-7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BC68-CFE0-450A-8E0A-0C8E481E860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2437560" y="344520"/>
            <a:ext cx="439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Davenport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id-base alt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Davenport diagram-fig 30"/>
          <p:cNvPicPr/>
          <p:nvPr/>
        </p:nvPicPr>
        <p:blipFill>
          <a:blip r:embed="rId1"/>
          <a:stretch/>
        </p:blipFill>
        <p:spPr>
          <a:xfrm>
            <a:off x="3556080" y="1835280"/>
            <a:ext cx="4730760" cy="397008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"/>
          <p:cNvSpPr/>
          <p:nvPr/>
        </p:nvSpPr>
        <p:spPr>
          <a:xfrm>
            <a:off x="581400" y="17146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33"/>
                </a:solidFill>
                <a:latin typeface="Arial"/>
              </a:rPr>
              <a:t>Respiratory Alkal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648000" y="2214720"/>
            <a:ext cx="25045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↑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pH,↓ P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,,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↓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plasma [HCO</a:t>
            </a:r>
            <a:r>
              <a:rPr b="1" lang="en-GB" sz="1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GB" sz="1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1149840" y="100080"/>
            <a:ext cx="69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Arial"/>
              </a:rPr>
              <a:t>Metabolic Acidosis &amp; Alkal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-440280" y="1041480"/>
            <a:ext cx="908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bolic acidosis and alkalosis includes all situations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n those in which primary problem is respira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-382320" y="2090880"/>
            <a:ext cx="9270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efinition, metabolic acidosis and alkalosis cannot be d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xcess retention or loss of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does arterial Pco</a:t>
            </a:r>
            <a:r>
              <a:rPr b="0" lang="en-US" sz="24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remain unchanged in these cas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-478080" y="3392640"/>
            <a:ext cx="17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-414360" y="3886200"/>
            <a:ext cx="96602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 in acidosis will reflexly stimulate ventilation to lower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versely, ventilation will be inhibited in alkalosis to rest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[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-410400" y="5216400"/>
            <a:ext cx="94143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66ff33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member, plasma P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hanges during metabolic acidosis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kalosis are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ul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no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u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of, compensatory ref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ponses to non-respiratory abnorma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2T09:34:33Z</dcterms:created>
  <dc:creator>Computer Centre</dc:creator>
  <dc:description/>
  <dc:language>en-US</dc:language>
  <cp:lastModifiedBy>msoliman1</cp:lastModifiedBy>
  <dcterms:modified xsi:type="dcterms:W3CDTF">2016-04-30T13:50:51Z</dcterms:modified>
  <cp:revision>517</cp:revision>
  <dc:subject/>
  <dc:title>Slide 1</dc:title>
</cp:coreProperties>
</file>