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C109-4603-49FA-B37A-704C856120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93E-3580-4342-84BD-88F19C6313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4E5D-ED3F-4D2F-B76A-A9DF4257D7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D3E-BF89-4869-A92B-8DB9F455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275-703D-4CFD-BEB2-E3D9DF58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640-27DC-43A8-A2ED-B777651F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391-5243-4F50-8ECA-787805A8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7CD8-6336-4F77-B061-7ED3026A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0BBA-4048-4905-9F46-89CADD15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AACA-BF3C-4A71-8CE1-4BA39E4F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1AB7-EEC5-4CD9-B0C2-1A269387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4F1B-A8FC-4568-B25D-05C2C3DE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B04C-6E58-4D0A-AA94-DE06CF3B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ED03-A661-4329-8533-CCE5C3E0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571-2D0F-491B-BA7C-D70B5090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C2E0-990F-44B1-991A-32338F3C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6B4A-A8FF-4CD2-AD90-0F45560E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2490-250E-480D-9E8D-E33C002D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405E-81FC-4850-9B86-3976F3CE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A215-6C63-41F9-B503-AFBAB8E2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B720-03E2-4D7A-9487-392CFFF1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C794-278A-4B39-AE85-6E11505A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44FA-DFF7-475C-A04E-E68200E0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AC7E-7C37-4241-9262-04BC1069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886D-D7C0-450B-8AA9-BCFB463C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20F-17EB-4B50-8B4E-048185B4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A8D3-0F39-401B-A7AF-228F89E7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1D5D-5D06-4512-9FF3-9AB1C21A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FE9D-ADD8-465A-875A-006E321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3400-48D9-46CE-9541-FFADA24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294C-AECC-44BA-BF4B-93785691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A4D9-58C2-4BB4-9BE2-E55BB6AF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8289-BCD6-4870-B238-8D5E49A1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D8857-8699-4466-BEDD-215FD603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B2E30-66BB-4B37-AE53-44BB2DFE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F018-FAC9-4E06-8BF2-4ECF8521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0DF-0A2F-4A99-850F-74D35BAC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4B00-EC8A-4EB6-825C-52E108BE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40D51-99B7-4E8C-AD6E-1FC7AE15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EED7-5AE2-4B73-B65E-C44DF1F7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8228-DF00-4E56-81B6-6D9C1D3B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F52C7-43C1-4F66-A2A2-B2D456BC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0B12E-4824-46DA-A596-623B0AAB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660D-E5CC-4C33-8D8C-172A7BCA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D7216-655B-4E2B-95C2-58B6912A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8882-EF40-44FA-8EC5-90D8A1A3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C45CD-D968-4C04-821B-BDF8B2BB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BCA-C8D9-431A-B5DC-17B11FBA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51C27-F2EB-4F2B-A4CA-74C751DE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45B98-301E-4593-9C78-EFCFC49C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18485-3F15-47A4-8209-0502DED0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597E4-40EA-484D-AB27-125E41DA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3F6F-388B-4EC9-B0BA-3484BFF8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52E4B-6C15-497E-B602-7D463FFC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9B4CF-FACA-44E0-8DD2-F16E10F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B6B0A-E47A-46D2-A0B7-98DE1E2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81F56-1037-457B-B08C-039B6F7C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A5016-F391-4462-8A3C-965DDD57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980-D192-4711-8F8B-07528F1C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84C11-2E5C-4D8D-8635-B26A5C8F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8F687-13A3-4664-A239-9211889B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00176-B7E8-49E5-87D5-7FB4C052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CE67B-9BA1-4E0A-A5DB-C73F0015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01053-D1D9-43C3-BB0A-740F0AD1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525F9-9D81-401C-AD49-A8785A21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4D00C-7C0C-485F-99D1-F684D583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68220-3807-44A7-8D93-F7E8022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C2F12-1996-487A-9821-48424F34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6208-C8FE-40D5-A2A6-DE5EFA9C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E6F-86F5-457A-98A1-224B67E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EC9C-F183-4E5C-ACA5-98F64447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EC822-EDF3-4BFB-9331-A116BBE5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4E940-0EFB-497A-827C-E90149D8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10C8F-6AF4-4308-BE76-DE0A4AC3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866F7-CF7A-4E27-82BE-9B4B11F9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9106F-AEDB-4190-A412-675A0FD9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9115-FE6F-47FB-82B6-502A56ED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6C797-9133-4362-B1DB-2D076CF6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0C676-1584-49DF-99E3-89C9B45D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BEC0E-A551-47E1-8AA0-E3635CD3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39E-63D5-42F5-9E53-EB33FF8C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73410-C825-49B2-9502-E2F9FC0C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811DC-19B6-44CC-8556-4EBC9097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B83FE-D075-431A-BDD6-8C90C903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31DB8-7AC0-486A-BF70-2888084B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A6356-8586-456A-886F-D67C6DE9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455-1909-4111-AE7F-71FA462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F81E-2576-4491-9D7F-3BC005E46C98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EF54-14F7-4A41-BC7D-A28FE514A84B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D45E-F2EF-454F-8AC1-9D6CFAE4BA8D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583A-A0F0-4784-8FA2-3E4D5DEB1FE8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8419-5B73-410A-BCC2-DCC6CECF4EE3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8B98-10E9-4027-9D69-E71E82CF5DE6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E9E2-DB61-403C-B9A8-2FEBF277C74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90792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id Base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550880" y="3141720"/>
            <a:ext cx="5869800" cy="37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Dr. Mona Soliman, MBBS, MSc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Head, Medical Education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Associate Professor of Physi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hair of Cardiovascular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ollege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King Saud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Dr.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A73A-7F2B-4B9D-B556-FEFFDFAC67BC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E419-8B30-4B2C-AC4B-C3A752A65B31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390600" y="164304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buClr>
                <a:srgbClr val="d6ecff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igh protein diet - protein catabolism produ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phosphoric acid and sulphur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2) High fat diet  - fat catabolism produces fatty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3) Heavy exercise – stimulates anaerobic metabolism, producing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4) Addition of fixed acid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iabetic keto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5) Severe diarrhoea – loss of bicarbonate from intest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6) Alterations in renal function (inability to excrete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7) Tissue hypoxia (produces lactic ac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8) Ingested substances such as methanol, aspirin (acetylsalicylic acid), ethylene glyc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244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1420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aused by either i) </a:t>
            </a:r>
            <a:r>
              <a:rPr b="1" lang="en-GB" sz="2400" spc="-1" strike="noStrike">
                <a:solidFill>
                  <a:srgbClr val="ff0000"/>
                </a:solidFill>
                <a:latin typeface="Corbel"/>
              </a:rPr>
              <a:t>INCREAS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production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ii)</a:t>
            </a: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00b0f0"/>
                </a:solidFill>
                <a:latin typeface="Corbel"/>
              </a:rPr>
              <a:t>IMPAIR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excretion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3768-484D-4316-AEC5-D10A47621D46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53352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57480" indent="-298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irst line of defence is shift of buffering reactions to the left to neutralise excess acid (for bicarbonate, cell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&amp; bone buffe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480" indent="-298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1643040" y="1890720"/>
            <a:ext cx="5759640" cy="9669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2"/>
          <p:cNvSpPr/>
          <p:nvPr/>
        </p:nvSpPr>
        <p:spPr>
          <a:xfrm>
            <a:off x="495360" y="72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35000" y="5618160"/>
            <a:ext cx="986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Characterised by DECREASED [HCO</a:t>
            </a:r>
            <a:r>
              <a:rPr b="1" lang="en-GB" sz="2800" spc="-1" strike="noStrike" u="sng" baseline="-25000">
                <a:solidFill>
                  <a:srgbClr val="ef0bf5"/>
                </a:solidFill>
                <a:uFillTx/>
                <a:latin typeface="Arial"/>
              </a:rPr>
              <a:t>3</a:t>
            </a:r>
            <a:r>
              <a:rPr b="1" lang="en-GB" sz="2800" spc="-1" strike="noStrike" u="sng" baseline="30000">
                <a:solidFill>
                  <a:srgbClr val="ef0bf5"/>
                </a:solidFill>
                <a:uFillTx/>
                <a:latin typeface="Arial"/>
              </a:rPr>
              <a:t>-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(&lt;25mM) and pH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90680" y="2857680"/>
            <a:ext cx="75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etabolic acidosis increases ventilation rate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emoreceptor activ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473040" y="3787920"/>
            <a:ext cx="8528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d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duces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 wh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s pH of ECF (respiratory compens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92120" y="4691160"/>
            <a:ext cx="9302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cidosis </a:t>
            </a: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INCREAS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SECRETION 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ABSORPTION</a:t>
            </a:r>
            <a:r>
              <a:rPr b="0" lang="en-IE" sz="2400" spc="-1" strike="noStrike">
                <a:solidFill>
                  <a:srgbClr val="00b0f0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00b0f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b0f0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EC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] in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0F7D-0ADD-4189-AC3B-16D751D58BC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579240" y="17146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650160" y="2214720"/>
            <a:ext cx="2050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9B01-FE81-4F19-B32D-33197407406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95360" y="15480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93760" y="107172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*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Uptake of exces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by cells is accompanied, in part, by </a:t>
            </a:r>
            <a:r>
              <a:rPr b="1" lang="en-GB" sz="2400" spc="-1" strike="noStrike">
                <a:solidFill>
                  <a:srgbClr val="0099ff"/>
                </a:solidFill>
                <a:latin typeface="Corbel"/>
              </a:rPr>
              <a:t>LOSS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of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intr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ellular 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(and N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) to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extr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ellular fluid to mai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1" lang="en-GB" sz="2400" spc="-1" strike="noStrike">
                <a:solidFill>
                  <a:srgbClr val="ef0bf5"/>
                </a:solidFill>
                <a:latin typeface="Corbel"/>
              </a:rPr>
              <a:t>ELECTRONEUTRALITY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285840" y="271476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us, metabolic acidosis often associated with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plasma [K</a:t>
            </a:r>
            <a:r>
              <a:rPr b="1" lang="en-GB" sz="2400" spc="-1" strike="noStrike" baseline="30000">
                <a:solidFill>
                  <a:srgbClr val="66ff33"/>
                </a:solidFill>
                <a:latin typeface="Corbel"/>
              </a:rPr>
              <a:t>+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]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relative to that expected from state of 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293760" y="4286160"/>
            <a:ext cx="86104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rbel"/>
              </a:rPr>
              <a:t>HYPERKALEMI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can develop even though body 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store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dimin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99880" y="5357880"/>
            <a:ext cx="8610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ation shift is </a:t>
            </a:r>
            <a:r>
              <a:rPr b="1" lang="en-GB" sz="2400" spc="-1" strike="noStrike">
                <a:solidFill>
                  <a:srgbClr val="ffc000"/>
                </a:solidFill>
                <a:latin typeface="Corbel"/>
              </a:rPr>
              <a:t>REVERS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with correction of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25D2-71F8-4C51-BBE3-F3E7A2262221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33520" y="111276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1) Excessive vomiting – loss of HCl from stomach (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tention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(duodenal) bicarbonate in circulati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2) Alterations in renal function (↑ excretion of titratable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.,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thiazide and loop diuretics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N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absorption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excre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of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3) Excessive ingestion of bicarbonate antacids paired with renal fail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4)  Volume contraction (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via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diuretic therapy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plasma [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5) Excess aldosterone (stimulates collecting duct 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-ATPases to excrete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55560" y="423540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 in pH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ventilation rate, elev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42960" y="5094360"/>
            <a:ext cx="807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duction in renal absorption and ↑ excretion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the nephron.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168120" y="5792760"/>
            <a:ext cx="878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Characterised by ELEVATED plasma [H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</a:rPr>
              <a:t>3</a:t>
            </a:r>
            <a:r>
              <a:rPr b="1" lang="en-GB" sz="2800" spc="-1" strike="noStrike" baseline="30000">
                <a:solidFill>
                  <a:srgbClr val="ef0bf5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and 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-59400" y="668160"/>
            <a:ext cx="88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ly rare phenomenon that 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214200" y="3751200"/>
            <a:ext cx="864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ss of acid ↑ dissociation of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↑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3D0D-1C3A-47D9-ABEE-5AB0E23B7B8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79240" y="17146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04160" y="2214720"/>
            <a:ext cx="28065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,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2008440" y="60480"/>
            <a:ext cx="503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cid-Base Imbala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Summa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98240" y="107172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-base balance can be altered in one of four w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) respiratory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i) metabolic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00400" y="4286160"/>
            <a:ext cx="86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 / in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↓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92120" y="5184720"/>
            <a:ext cx="79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METABOLIC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imination o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r ↑ in 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98960" y="2357280"/>
            <a:ext cx="800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secondary to either ↓ respiration or gas ex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19840" y="3216240"/>
            <a:ext cx="8128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fd13b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by hyperventil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"/>
          <p:cNvPicPr/>
          <p:nvPr/>
        </p:nvPicPr>
        <p:blipFill>
          <a:blip r:embed="rId1"/>
          <a:srcRect l="23660" t="39286" r="10715" b="25003"/>
          <a:stretch/>
        </p:blipFill>
        <p:spPr>
          <a:xfrm>
            <a:off x="46080" y="1859040"/>
            <a:ext cx="9063000" cy="3082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495360" y="176040"/>
            <a:ext cx="825336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id / 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5DD5-A9D4-443D-8357-B470D03DCA4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328320" y="928800"/>
            <a:ext cx="83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aimed at identifying underlying cause  of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uch that appropriate therapy can be init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50280" y="1955880"/>
            <a:ext cx="81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n addition to usual history taking and physical finding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ampling of arterial blood can yield valuable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397080" y="302724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of blood sample data is straightforward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pproached systematically either using the Daven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nomogram or flow dia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4" descr="Davenport diagram-fig 30"/>
          <p:cNvPicPr/>
          <p:nvPr/>
        </p:nvPicPr>
        <p:blipFill>
          <a:blip r:embed="rId1"/>
          <a:stretch/>
        </p:blipFill>
        <p:spPr>
          <a:xfrm>
            <a:off x="3000240" y="4286160"/>
            <a:ext cx="2808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7638-2559-4D0E-98AF-B35BDA046F5C}" type="slidenum">
              <a:rPr b="0" lang="en-GB" sz="1200" spc="-1" strike="noStrike">
                <a:solidFill>
                  <a:srgbClr val="d6ec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ow to Analyze an AB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826920" y="1415880"/>
            <a:ext cx="784872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80 – 10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 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7.35 – 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7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35 – 45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22 – 26 m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          &lt;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 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explain the principles of blood gas and acid-base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interpret blood gas analysis and diagnose various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scribe causes of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nderstand use of acid base nom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F977-D270-4DEF-BBF7-E3A6F76A7A95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1FB2-B08F-454F-A499-81CC5A73D4EE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3" descr="approach for the analysis of simple acid-base disorders - fig 36.6.JPG"/>
          <p:cNvPicPr/>
          <p:nvPr/>
        </p:nvPicPr>
        <p:blipFill>
          <a:blip r:embed="rId1"/>
          <a:stretch/>
        </p:blipFill>
        <p:spPr>
          <a:xfrm>
            <a:off x="3733920" y="928800"/>
            <a:ext cx="5367240" cy="4846680"/>
          </a:xfrm>
          <a:prstGeom prst="rect">
            <a:avLst/>
          </a:prstGeom>
          <a:ln w="0">
            <a:noFill/>
          </a:ln>
        </p:spPr>
      </p:pic>
      <p:sp>
        <p:nvSpPr>
          <p:cNvPr id="463" name="TextBox 4"/>
          <p:cNvSpPr/>
          <p:nvPr/>
        </p:nvSpPr>
        <p:spPr>
          <a:xfrm>
            <a:off x="18000" y="1214280"/>
            <a:ext cx="3362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pH = 7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= 16mEq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2 = 30 mm 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14040" y="285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1) Evaluate pH - 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41040" y="3344760"/>
            <a:ext cx="3705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2) Metabolic or respiratory sour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] &lt; 24mM = metabo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7"/>
          <p:cNvSpPr/>
          <p:nvPr/>
        </p:nvSpPr>
        <p:spPr>
          <a:xfrm>
            <a:off x="36360" y="4354560"/>
            <a:ext cx="311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3) Analysis of compens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↓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– respir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ompen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480600" y="5878440"/>
            <a:ext cx="81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Mixed acid-base disorders can also occur (</a:t>
            </a: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emphysema with diarrhea)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which an appropriate compensatory response has not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1421-0D29-443E-9E55-95ED37DB8C8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Content Placeholder 2"/>
          <p:cNvSpPr/>
          <p:nvPr/>
        </p:nvSpPr>
        <p:spPr>
          <a:xfrm>
            <a:off x="685800" y="522360"/>
            <a:ext cx="7924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) A 50 year-old man with history of type 2 diabetes was admitted to the emergency department with history of polyuria. On examination he had rapid and deep breathing. Blood analysis showed glucose level of 400 mg/dl.    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following is the arterial blood analysis report of  this patient: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H = 7.1,  P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40 mmHg and H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= 18 mmol/L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Normal reference ranges: PCO2 = 36.0-46.0 mmHg, HCO3- = 22.0-26.0 mmol/L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at is the acid base disturbance in this cas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44FE-82D6-464B-94BF-E515A4536765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Content Placeholder 2"/>
          <p:cNvSpPr/>
          <p:nvPr/>
        </p:nvSpPr>
        <p:spPr>
          <a:xfrm>
            <a:off x="685800" y="457200"/>
            <a:ext cx="777240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2) PH= 7.12, PaCO2= 60mmHg, HCO3‾ = 24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a) Compensated metabolic acid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b) Uncompensated metabolic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) 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d) Un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B6F4-BFA2-4C49-AE03-97B05477748C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Content Placeholder 2"/>
          <p:cNvSpPr/>
          <p:nvPr/>
        </p:nvSpPr>
        <p:spPr>
          <a:xfrm>
            <a:off x="685800" y="45720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PH= 7.51, PaCO2= 40mmHg, HCO3‾ = 31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Norm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respiratory alkal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metabolic alkal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15B8-41F0-4174-B7F9-327AF9713D1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539640" y="692280"/>
            <a:ext cx="81518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4 y-o 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with hx chronic renal failure and chronic diuretic therapy was admitted to ICU comatose and severely dehydrated.  On 40% oxygen her ABG &amp; Vital Sig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.5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0/9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5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l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20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2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5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 mmol/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847800" y="4724280"/>
            <a:ext cx="77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terpretation: Partly compensated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8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ED2A-5D04-427C-A281-EEF3A13C606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84A3-691D-42AE-BF9D-8855F4333FF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rcRect l="19922" t="34686" r="8008" b="10001"/>
          <a:stretch/>
        </p:blipFill>
        <p:spPr>
          <a:xfrm>
            <a:off x="182520" y="1285920"/>
            <a:ext cx="8786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B2DB-2384-48C5-B3A9-1D6CC77BF31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35244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Causes of 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298440" y="1042920"/>
            <a:ext cx="86025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C988-C1CC-46BE-822B-2F76DCE60402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rcRect l="22267" t="39377" r="9180" b="17499"/>
          <a:stretch/>
        </p:blipFill>
        <p:spPr>
          <a:xfrm>
            <a:off x="98280" y="1000080"/>
            <a:ext cx="8902800" cy="350064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Causes of Metabolic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36C1-4A8A-4B34-A64A-61F838AD3646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56560" y="2286000"/>
            <a:ext cx="809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665280" y="809640"/>
            <a:ext cx="78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41440" y="176220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-base disturbances may be either </a:t>
            </a:r>
            <a:r>
              <a:rPr b="0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42520" y="2739960"/>
            <a:ext cx="792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 problems due to a respiratory disorder resul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H problems arising from acids or bases of a non-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igin result in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91519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b8803"/>
                </a:solidFill>
                <a:latin typeface="Arial"/>
                <a:ea typeface="Arial"/>
              </a:rPr>
              <a:t>Respiratory Acid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ssociated with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  <a:ea typeface="Arial"/>
              </a:rPr>
              <a:t>RESPIRATORY FAILU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OPDs like emphysema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nadequate alveolar ventilatio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mpaired gas diffusion (</a:t>
            </a:r>
            <a:r>
              <a:rPr b="0" i="1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 pulmonary oedema)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aracterised by ↑ Pco</a:t>
            </a:r>
            <a:r>
              <a:rPr b="1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(hypercapnia) and ↓ plasma pH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itial response is increased conversion of 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o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 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INCREASE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ECF [H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</a:t>
            </a:r>
            <a:r>
              <a:rPr b="1" lang="en-GB" sz="2000" spc="-1" strike="noStrike" u="sng">
                <a:solidFill>
                  <a:srgbClr val="ef0bf5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plasma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66ff33"/>
                </a:solidFill>
                <a:latin typeface="Arial"/>
                <a:ea typeface="Arial"/>
              </a:rPr>
              <a:t>INCREASED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) renal </a:t>
            </a:r>
            <a:r>
              <a:rPr b="1" lang="en-IE" sz="2000" spc="-1" strike="noStrike">
                <a:solidFill>
                  <a:srgbClr val="ffff00"/>
                </a:solidFill>
                <a:latin typeface="Arial"/>
                <a:ea typeface="Arial"/>
              </a:rPr>
              <a:t>SECRETION OF H</a:t>
            </a:r>
            <a:r>
              <a:rPr b="1" lang="en-IE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and ii) </a:t>
            </a:r>
            <a:r>
              <a:rPr b="1" lang="en-IE" sz="2000" spc="-1" strike="noStrike">
                <a:solidFill>
                  <a:srgbClr val="0099ff"/>
                </a:solidFill>
                <a:latin typeface="Arial"/>
                <a:ea typeface="Arial"/>
              </a:rPr>
              <a:t>ABSORPTION OF </a:t>
            </a:r>
            <a:r>
              <a:rPr b="1" lang="en-GB" sz="2000" spc="-1" strike="noStrike">
                <a:solidFill>
                  <a:srgbClr val="0099ff"/>
                </a:solidFill>
                <a:latin typeface="Arial"/>
                <a:ea typeface="Arial"/>
              </a:rPr>
              <a:t>HCO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3</a:t>
            </a: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COMPENSATORY MECHANISM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 ACUTE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,1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 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tissue buffering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RONICAL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, 3.5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 renal acid excretion)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42B8-AABB-4655-AF0D-4062A907DFD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38644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484440" y="1744560"/>
            <a:ext cx="4730760" cy="39704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4"/>
          <p:cNvSpPr/>
          <p:nvPr/>
        </p:nvSpPr>
        <p:spPr>
          <a:xfrm>
            <a:off x="581040" y="17146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Arial"/>
              </a:rPr>
              <a:t>Respiratory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7968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pH, ↑ P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ef0bf5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33520" y="112536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Respiratory Alkal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Reduced plasma Pco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(hypocapnia) and elevated p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Caused by increased gas exchange mainly due to </a:t>
            </a:r>
            <a:r>
              <a:rPr b="1" lang="en-GB" sz="2200" spc="-1" strike="noStrike">
                <a:solidFill>
                  <a:srgbClr val="ef0bf5"/>
                </a:solidFill>
                <a:latin typeface="Arial"/>
                <a:ea typeface="Arial"/>
              </a:rPr>
              <a:t>HYPERVENTIL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xiety / fe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gh altitu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- Characterised by ↓ P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 and ↑ plasma pH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duction in P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hifts buffering reaction to the lef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DECREASE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in ECF [H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 plasma [HCO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  <a:ea typeface="Arial"/>
              </a:rPr>
              <a:t>DECREASE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)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SECRETION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i)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  <a:ea typeface="Arial"/>
              </a:rPr>
              <a:t>ABSORP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till an excess of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relative to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MPENSATORY MECHANIS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386440" y="6215040"/>
            <a:ext cx="26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(see G &amp;H, p.396-7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B704-CEB1-4F0A-B92A-3D95EB0886B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"/>
          <p:cNvSpPr/>
          <p:nvPr/>
        </p:nvSpPr>
        <p:spPr>
          <a:xfrm>
            <a:off x="581400" y="17146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Respiratory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64800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↓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1149840" y="100080"/>
            <a:ext cx="69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Metabolic Acidosis &amp;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-440280" y="1041480"/>
            <a:ext cx="908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acidosis and alkalosis includes all situations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 those in which primary problem is respira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-382320" y="2090880"/>
            <a:ext cx="9270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efinition, metabolic acidosis and alkalosis cannot be d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xcess retention or loss of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oes arterial Pco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remain unchanged in these ca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-478080" y="3392640"/>
            <a:ext cx="17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-414360" y="3886200"/>
            <a:ext cx="96602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 in acidosis will reflexly stimulate ventilation to lower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sely, ventilation will be inhibited in alkalosis to re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-410400" y="5216400"/>
            <a:ext cx="941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ember, plasma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hanges during metabolic acidosis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sis are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no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compensatory ref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ponses to non-respiratory abnorma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msoliman1</cp:lastModifiedBy>
  <dcterms:modified xsi:type="dcterms:W3CDTF">2016-04-30T13:50:51Z</dcterms:modified>
  <cp:revision>517</cp:revision>
  <dc:subject/>
  <dc:title>Slide 1</dc:title>
</cp:coreProperties>
</file>