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3214-CCB6-4B0C-9C96-5A88AE10D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2856-0D53-4C27-A977-2F488E810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5CD-4DF8-4152-8731-11BF6509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8F2-DF27-4AEC-969A-733A06D5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49C-EF9C-466B-B57F-70CD339F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F57-6028-4F0E-90F9-E6D9559B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96E8-FB31-46C6-97FF-1059D1CD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7687-F1A7-4730-83A2-FE8D03E3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1F8B-679F-4AAE-994D-E7480BC7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734D-B2D6-4174-ABF8-D4D3D3BA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7982-61B3-4561-9225-95737CD1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74D2-7C2A-406B-B683-B447C061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96C9-37AE-41FA-8E2B-57068EDF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226-8331-4496-9CF2-3CBE248A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9CB2-C907-4631-ACF8-20C162E9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D9C3-3B67-42FC-9A9A-684413A9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9BAA-1FCA-4E95-9637-DDED63EF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8DB2-48A7-44DE-A00C-9F68CDE4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CF70-A44F-494E-AB75-96D40806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CD2A9-DEB7-40D0-B831-8F934CA3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5A84C-DA4F-4ED6-A96C-FE08FC0A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B1BCE-2EA4-40B5-8354-2FB3D17F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D7AD2-8D71-46C5-A716-4C0741AA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FD46A-71FB-434C-96CE-83786CAA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E09-1729-4368-B772-1ACAAB67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DB3AD-60EA-42BC-A922-BBF78408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44B36-11B1-4300-9109-C1D340E7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0CB0B-3181-4ABC-BFD6-6EB6A8D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22C1C-B454-452C-8F11-0CDFDFC6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93630-84F2-41E3-904D-04FD971B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984E1-A651-4216-8EE3-FD85D69E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CF889-D6A9-4A47-B4E2-BE41EFAA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6FB75-FACA-47A6-8B24-271EA622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4E581-6F94-41EA-AED9-D7EAF90F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7AF76-897B-4577-A431-18EA11E2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01A-F52F-4D8C-B562-C543F031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8EBD3-6D03-40C8-8068-345A7EF4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D3C91-01CD-4B25-BC18-3B5325AD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DC2CB-FEFE-41FB-BC61-27452D33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686FA-37D4-4036-8C66-847755C0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94597-9A58-4023-B5EB-F7758E40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6637F-3234-4B87-924F-0233AFE3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E597F-B750-4635-892D-FF6CE664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D65A6A-2261-484B-B38A-FB3C4E03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7F78E-7177-4743-A354-9643D8F6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FB755-E7C5-4781-8CA3-0DF36B6D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FFE-A1E2-46A6-9272-F74777F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523044-F1FE-419D-9061-607E447A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CF04D-CB69-4B2F-A119-AD5679AA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D4410-7978-47BF-80AF-DD610152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E9689-C922-4383-8527-0188E911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04B98-82D0-4FD3-9E3F-9CDAFB52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33D1A-6B36-4972-A5D0-02C2AED1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3814B-0B47-40F7-842A-29B685A6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8CC83A-C8F6-476E-B877-C4A0D34B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2326F-366A-4733-A495-1A7E8301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B729D-42A0-4C53-A76E-5868C581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B8C-F91C-4DCB-B7A5-11BA87EB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F1620-A48C-4A31-843A-746DC00E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9F339-F7CA-4111-A95C-D15A3DEB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C0BAC-D5C8-48E2-A4FC-8BE6E34F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6F28D-B2C2-45A0-B437-4653B57F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63EA5-0965-475C-8AD6-E488282F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E2DBC-6918-4331-919C-56500EC6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04BE2-6805-49F8-82D3-C034A1A7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7254E-EB4E-49FE-853F-65BB001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AF1E6-C174-48F3-AFEC-0285942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E4F93-9D52-48CF-AF18-B481E2F2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1FB-0F97-42FD-B555-B0EC6274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22343-6959-410A-BD91-7F018104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5CD91-9E6E-418E-9ED1-9AECD43D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43EDA-CE38-4C1E-86CA-292E3205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71018-3051-4D57-8272-091DDED3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2E17BC-F901-4D26-9602-E1056FBA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F10ACF-BD3A-423E-A627-CA3ADC87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98B61-B420-495B-AA9A-0F94124E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427DF-C163-4228-9045-832A61EC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FA638-80F3-4F1F-AD08-85CCE050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5F88E0-86F6-46F9-B633-27A2DFF5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F54-E20D-4A31-B79D-79D7B685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BC15B-A6D9-488B-B00F-EC818C31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9B3BF-40CE-400C-83BC-354F03BD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D61571-F567-4ADB-9545-FD1CB036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488CB-3D8C-4B58-8EA4-A3F94F3A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8C68E-8CB7-4241-A6CC-25A261E7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49636-835E-439C-A84E-764648D8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8F7E2-5B96-46AB-B96B-A950EF8C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433F1-C0B6-4D27-AEFC-16BD76AB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3DC14-2014-4ABE-AEC9-9485C505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0F1F4-9C4C-47AD-9304-D5178F9E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2C7-0DFC-4C15-8605-78967CAD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B5904-BB79-4C2E-AEC8-975991CF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2E1E9-5349-420D-AB59-564A8D41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9A43F-10D3-4AA6-82D4-9F89564C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14D94-4EB7-4BFD-AF42-01992956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A28DF-2ECD-4883-9FB7-1C630C4E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1BC3C-3AD6-462E-9023-146318C5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B3D4B-914D-4E0E-96D2-DC950F9F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9887-8700-49E0-AE21-7B4D61AC78F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2504-FF54-4C5D-B730-241CED461E73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A34F-675E-4211-9012-F7F118747C3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30D2-BD08-40A6-BA6C-F00880022AA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79F4-4117-4EC1-9147-04D9DC69A98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1FDD-33F6-4024-8C62-CA49F9E32BE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1BF2-2DCD-4330-84EB-597B349D00A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BE7F-2666-49DF-82F4-35E712A1B87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GULATION OF GFR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5" descr="Image result for thinkin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521280" y="549360"/>
            <a:ext cx="81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ow autoregulation takes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tle 1"/>
          <p:cNvSpPr/>
          <p:nvPr/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bb8"/>
                </a:solidFill>
                <a:latin typeface="Tw Cen MT"/>
              </a:rPr>
              <a:t>Auto-regulation of 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2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 to feedback mechanisms intrinsic to the kidney that keep the renal blood flow and GFR relatively constant despite fluctuations in ABP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se mechanisms operate over an ABP ranging between 75-160 mmH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c00000"/>
                </a:solidFill>
                <a:latin typeface="Tw Cen MT"/>
              </a:rPr>
              <a:t>Achieved by 2 major mechanism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64200" indent="-41580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yogenic auto-regul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64200" indent="-41580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ubulo-glomerular feedback mechanism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Renal Autoregulation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3" name="Picture 3" descr="H:\$$SaladinPowerPoints\Images\CH_23\0809L.JPG"/>
          <p:cNvPicPr/>
          <p:nvPr/>
        </p:nvPicPr>
        <p:blipFill>
          <a:blip r:embed="rId1"/>
          <a:srcRect l="28452" t="16270" r="26561" b="8746"/>
          <a:stretch/>
        </p:blipFill>
        <p:spPr>
          <a:xfrm>
            <a:off x="0" y="152388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581280" y="1773360"/>
            <a:ext cx="556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P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onstrict afferent arteriole, &amp; dilate effer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P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dilate afferent arteriole, &amp; constrict effer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ble for BP range of 75 to 160 mmHg (systol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not compensate for extreme BP chang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Juxtaglomerular Apparatu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6" name="Picture 3" descr="0809L"/>
          <p:cNvPicPr/>
          <p:nvPr/>
        </p:nvPicPr>
        <p:blipFill>
          <a:blip r:embed="rId1"/>
          <a:srcRect l="0" t="12526" r="0" b="0"/>
          <a:stretch/>
        </p:blipFill>
        <p:spPr>
          <a:xfrm>
            <a:off x="457200" y="990720"/>
            <a:ext cx="8129520" cy="533376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4"/>
          <p:cNvGrpSpPr/>
          <p:nvPr/>
        </p:nvGrpSpPr>
        <p:grpSpPr>
          <a:xfrm>
            <a:off x="6457320" y="4129200"/>
            <a:ext cx="2238480" cy="2501640"/>
            <a:chOff x="6457320" y="4129200"/>
            <a:chExt cx="2238480" cy="2501640"/>
          </a:xfrm>
        </p:grpSpPr>
        <p:sp>
          <p:nvSpPr>
            <p:cNvPr id="398" name="Text Box 5"/>
            <p:cNvSpPr/>
            <p:nvPr/>
          </p:nvSpPr>
          <p:spPr>
            <a:xfrm>
              <a:off x="6457320" y="4129200"/>
              <a:ext cx="223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-</a:t>
              </a:r>
              <a:r>
                <a:rPr b="0" lang="en-US" sz="2400" spc="-1" strike="noStrike">
                  <a:solidFill>
                    <a:srgbClr val="0000ff"/>
                  </a:solidFill>
                  <a:latin typeface="Tw Cen MT"/>
                </a:rPr>
                <a:t>secrete Ren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6"/>
            <p:cNvSpPr/>
            <p:nvPr/>
          </p:nvSpPr>
          <p:spPr>
            <a:xfrm>
              <a:off x="6471360" y="6110280"/>
              <a:ext cx="22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- </a:t>
              </a:r>
              <a:r>
                <a:rPr b="1" lang="en-US" sz="1800" spc="-1" strike="noStrike">
                  <a:solidFill>
                    <a:srgbClr val="0000ff"/>
                  </a:solidFill>
                  <a:latin typeface="Tw Cen MT"/>
                </a:rPr>
                <a:t>monitor salin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itle 1"/>
          <p:cNvSpPr/>
          <p:nvPr/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bb8"/>
                </a:solidFill>
                <a:latin typeface="Tw Cen MT"/>
              </a:rPr>
              <a:t>Tubulo-glomerular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2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85680" y="1279440"/>
            <a:ext cx="1400400" cy="2149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"/>
          <p:cNvPicPr/>
          <p:nvPr/>
        </p:nvPicPr>
        <p:blipFill>
          <a:blip r:embed="rId2"/>
          <a:stretch/>
        </p:blipFill>
        <p:spPr>
          <a:xfrm>
            <a:off x="1371600" y="1308240"/>
            <a:ext cx="6248520" cy="54734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14"/>
          <p:cNvSpPr/>
          <p:nvPr/>
        </p:nvSpPr>
        <p:spPr>
          <a:xfrm>
            <a:off x="4704840" y="4952880"/>
            <a:ext cx="1614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xtaglomerula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5"/>
          <p:cNvSpPr/>
          <p:nvPr/>
        </p:nvSpPr>
        <p:spPr>
          <a:xfrm>
            <a:off x="2139120" y="47242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↓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Straight Arrow Connector 17"/>
          <p:cNvCxnSpPr/>
          <p:nvPr/>
        </p:nvCxnSpPr>
        <p:spPr>
          <a:xfrm flipV="1">
            <a:off x="2819520" y="4501440"/>
            <a:ext cx="305280" cy="22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407" name="Plus 18"/>
          <p:cNvSpPr/>
          <p:nvPr/>
        </p:nvSpPr>
        <p:spPr>
          <a:xfrm>
            <a:off x="2774880" y="4387680"/>
            <a:ext cx="203400" cy="228600"/>
          </a:xfrm>
          <a:custGeom>
            <a:avLst/>
            <a:gdLst>
              <a:gd name="textAreaLeft" fmla="*/ 27000 w 203400"/>
              <a:gd name="textAreaRight" fmla="*/ 176400 w 203400"/>
              <a:gd name="textAreaTop" fmla="*/ 99720 h 228600"/>
              <a:gd name="textAreaBottom" fmla="*/ 128880 h 228600"/>
            </a:gdLst>
            <a:ahLst/>
            <a:rect l="textAreaLeft" t="textAreaTop" r="textAreaRight" b="textAreaBottom"/>
            <a:pathLst>
              <a:path w="202482" h="228600">
                <a:moveTo>
                  <a:pt x="26839" y="99876"/>
                </a:moveTo>
                <a:lnTo>
                  <a:pt x="86817" y="99876"/>
                </a:lnTo>
                <a:lnTo>
                  <a:pt x="86817" y="30301"/>
                </a:lnTo>
                <a:lnTo>
                  <a:pt x="115665" y="30301"/>
                </a:lnTo>
                <a:lnTo>
                  <a:pt x="115665" y="99876"/>
                </a:lnTo>
                <a:lnTo>
                  <a:pt x="175643" y="99876"/>
                </a:lnTo>
                <a:lnTo>
                  <a:pt x="175643" y="128724"/>
                </a:lnTo>
                <a:lnTo>
                  <a:pt x="115665" y="128724"/>
                </a:lnTo>
                <a:lnTo>
                  <a:pt x="115665" y="198299"/>
                </a:lnTo>
                <a:lnTo>
                  <a:pt x="86817" y="198299"/>
                </a:lnTo>
                <a:lnTo>
                  <a:pt x="86817" y="128724"/>
                </a:lnTo>
                <a:lnTo>
                  <a:pt x="26839" y="128724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Bent Arrow 27"/>
          <p:cNvSpPr/>
          <p:nvPr/>
        </p:nvSpPr>
        <p:spPr>
          <a:xfrm flipH="1" rot="10800000">
            <a:off x="3276720" y="5229000"/>
            <a:ext cx="349200" cy="561960"/>
          </a:xfrm>
          <a:custGeom>
            <a:avLst/>
            <a:gdLst/>
            <a:ahLst/>
            <a:rect l="l" t="t" r="r" b="b"/>
            <a:pathLst>
              <a:path w="348896" h="561201">
                <a:moveTo>
                  <a:pt x="0" y="561201"/>
                </a:moveTo>
                <a:lnTo>
                  <a:pt x="0" y="196254"/>
                </a:lnTo>
                <a:lnTo>
                  <a:pt x="0" y="196254"/>
                </a:lnTo>
                <a:arcTo wR="152642" hR="152642" stAng="10800000" swAng="5400000"/>
                <a:lnTo>
                  <a:pt x="261672" y="43612"/>
                </a:lnTo>
                <a:lnTo>
                  <a:pt x="261672" y="0"/>
                </a:lnTo>
                <a:lnTo>
                  <a:pt x="348896" y="87224"/>
                </a:lnTo>
                <a:lnTo>
                  <a:pt x="261672" y="174448"/>
                </a:lnTo>
                <a:lnTo>
                  <a:pt x="261672" y="130836"/>
                </a:lnTo>
                <a:lnTo>
                  <a:pt x="152642" y="130836"/>
                </a:lnTo>
                <a:lnTo>
                  <a:pt x="152642" y="130836"/>
                </a:lnTo>
                <a:arcTo wR="65418" hR="65418" stAng="-5400000" swAng="-5400000"/>
                <a:lnTo>
                  <a:pt x="87224" y="561201"/>
                </a:lnTo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"/>
          <p:cNvSpPr/>
          <p:nvPr/>
        </p:nvSpPr>
        <p:spPr>
          <a:xfrm>
            <a:off x="3976560" y="4516560"/>
            <a:ext cx="55800" cy="1081080"/>
          </a:xfrm>
          <a:custGeom>
            <a:avLst/>
            <a:gdLst/>
            <a:ahLst/>
            <a:rect l="l" t="t" r="r" b="b"/>
            <a:pathLst>
              <a:path w="55585" h="1080654">
                <a:moveTo>
                  <a:pt x="55585" y="1080654"/>
                </a:moveTo>
                <a:cubicBezTo>
                  <a:pt x="29030" y="852054"/>
                  <a:pt x="2476" y="623454"/>
                  <a:pt x="167" y="443345"/>
                </a:cubicBezTo>
                <a:cubicBezTo>
                  <a:pt x="-2142" y="263236"/>
                  <a:pt x="19794" y="131618"/>
                  <a:pt x="41730" y="0"/>
                </a:cubicBezTo>
              </a:path>
            </a:pathLst>
          </a:custGeom>
          <a:noFill/>
          <a:ln w="31680">
            <a:solidFill>
              <a:srgbClr val="c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"/>
          <p:cNvSpPr/>
          <p:nvPr/>
        </p:nvSpPr>
        <p:spPr>
          <a:xfrm>
            <a:off x="2382840" y="2244600"/>
            <a:ext cx="345960" cy="706680"/>
          </a:xfrm>
          <a:custGeom>
            <a:avLst/>
            <a:gdLst/>
            <a:ahLst/>
            <a:rect l="l" t="t" r="r" b="b"/>
            <a:pathLst>
              <a:path w="346363" h="706582">
                <a:moveTo>
                  <a:pt x="346363" y="706582"/>
                </a:moveTo>
                <a:cubicBezTo>
                  <a:pt x="285172" y="585355"/>
                  <a:pt x="223981" y="464128"/>
                  <a:pt x="166254" y="346364"/>
                </a:cubicBezTo>
                <a:cubicBezTo>
                  <a:pt x="108527" y="228600"/>
                  <a:pt x="54263" y="114300"/>
                  <a:pt x="0" y="0"/>
                </a:cubicBezTo>
              </a:path>
            </a:pathLst>
          </a:custGeom>
          <a:noFill/>
          <a:ln w="31680">
            <a:solidFill>
              <a:srgbClr val="c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0"/>
          <p:cNvSpPr/>
          <p:nvPr/>
        </p:nvSpPr>
        <p:spPr>
          <a:xfrm>
            <a:off x="1685880" y="6197760"/>
            <a:ext cx="1971720" cy="580680"/>
          </a:xfrm>
          <a:prstGeom prst="rect">
            <a:avLst/>
          </a:prstGeom>
          <a:solidFill>
            <a:srgbClr val="d3deea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w Cen MT"/>
              </a:rPr>
              <a:t>Vasodilation of afferent arteri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eft-Up Arrow 31"/>
          <p:cNvSpPr/>
          <p:nvPr/>
        </p:nvSpPr>
        <p:spPr>
          <a:xfrm rot="6889800">
            <a:off x="3123720" y="3919320"/>
            <a:ext cx="533520" cy="577800"/>
          </a:xfrm>
          <a:custGeom>
            <a:avLst/>
            <a:gdLst>
              <a:gd name="textAreaLeft" fmla="*/ 66600 w 533520"/>
              <a:gd name="textAreaRight" fmla="*/ 400320 w 533520"/>
              <a:gd name="textAreaTop" fmla="*/ 378000 h 577800"/>
              <a:gd name="textAreaBottom" fmla="*/ 511200 h 577800"/>
            </a:gdLst>
            <a:ahLst/>
            <a:rect l="textAreaLeft" t="textAreaTop" r="textAreaRight" b="textAreaBottom"/>
            <a:pathLst>
              <a:path w="533400" h="578427">
                <a:moveTo>
                  <a:pt x="0" y="445077"/>
                </a:moveTo>
                <a:lnTo>
                  <a:pt x="133350" y="311727"/>
                </a:lnTo>
                <a:lnTo>
                  <a:pt x="133350" y="378402"/>
                </a:lnTo>
                <a:lnTo>
                  <a:pt x="333375" y="378402"/>
                </a:lnTo>
                <a:lnTo>
                  <a:pt x="333375" y="133350"/>
                </a:lnTo>
                <a:lnTo>
                  <a:pt x="266700" y="133350"/>
                </a:lnTo>
                <a:lnTo>
                  <a:pt x="400050" y="0"/>
                </a:lnTo>
                <a:lnTo>
                  <a:pt x="533400" y="133350"/>
                </a:lnTo>
                <a:lnTo>
                  <a:pt x="466725" y="133350"/>
                </a:lnTo>
                <a:lnTo>
                  <a:pt x="466725" y="511752"/>
                </a:lnTo>
                <a:lnTo>
                  <a:pt x="133350" y="511752"/>
                </a:lnTo>
                <a:lnTo>
                  <a:pt x="133350" y="578427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us 33"/>
          <p:cNvSpPr/>
          <p:nvPr/>
        </p:nvSpPr>
        <p:spPr>
          <a:xfrm>
            <a:off x="3454560" y="3979800"/>
            <a:ext cx="203040" cy="228600"/>
          </a:xfrm>
          <a:custGeom>
            <a:avLst/>
            <a:gdLst>
              <a:gd name="textAreaLeft" fmla="*/ 26640 w 203040"/>
              <a:gd name="textAreaRight" fmla="*/ 176400 w 203040"/>
              <a:gd name="textAreaTop" fmla="*/ 99720 h 228600"/>
              <a:gd name="textAreaBottom" fmla="*/ 128880 h 228600"/>
            </a:gdLst>
            <a:ahLst/>
            <a:rect l="textAreaLeft" t="textAreaTop" r="textAreaRight" b="textAreaBottom"/>
            <a:pathLst>
              <a:path w="202482" h="228600">
                <a:moveTo>
                  <a:pt x="26839" y="99876"/>
                </a:moveTo>
                <a:lnTo>
                  <a:pt x="86817" y="99876"/>
                </a:lnTo>
                <a:lnTo>
                  <a:pt x="86817" y="30301"/>
                </a:lnTo>
                <a:lnTo>
                  <a:pt x="115665" y="30301"/>
                </a:lnTo>
                <a:lnTo>
                  <a:pt x="115665" y="99876"/>
                </a:lnTo>
                <a:lnTo>
                  <a:pt x="175643" y="99876"/>
                </a:lnTo>
                <a:lnTo>
                  <a:pt x="175643" y="128724"/>
                </a:lnTo>
                <a:lnTo>
                  <a:pt x="115665" y="128724"/>
                </a:lnTo>
                <a:lnTo>
                  <a:pt x="115665" y="198299"/>
                </a:lnTo>
                <a:lnTo>
                  <a:pt x="86817" y="198299"/>
                </a:lnTo>
                <a:lnTo>
                  <a:pt x="86817" y="128724"/>
                </a:lnTo>
                <a:lnTo>
                  <a:pt x="26839" y="128724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Straight Arrow Connector 34"/>
          <p:cNvCxnSpPr/>
          <p:nvPr/>
        </p:nvCxnSpPr>
        <p:spPr>
          <a:xfrm>
            <a:off x="3733560" y="4266720"/>
            <a:ext cx="3353400" cy="1080"/>
          </a:xfrm>
          <a:prstGeom prst="straightConnector1">
            <a:avLst/>
          </a:prstGeom>
          <a:ln w="31680">
            <a:solidFill>
              <a:srgbClr val="00b0f0"/>
            </a:solidFill>
            <a:miter/>
            <a:tailEnd len="lg" type="stealth" w="lg"/>
          </a:ln>
        </p:spPr>
      </p:cxnSp>
      <p:sp>
        <p:nvSpPr>
          <p:cNvPr id="415" name="TextBox 36"/>
          <p:cNvSpPr/>
          <p:nvPr/>
        </p:nvSpPr>
        <p:spPr>
          <a:xfrm>
            <a:off x="7174800" y="4038480"/>
            <a:ext cx="167436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Re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39"/>
          <p:cNvSpPr/>
          <p:nvPr/>
        </p:nvSpPr>
        <p:spPr>
          <a:xfrm>
            <a:off x="7848720" y="4495680"/>
            <a:ext cx="304560" cy="436680"/>
          </a:xfrm>
          <a:prstGeom prst="downArrow">
            <a:avLst>
              <a:gd name="adj1" fmla="val 50000"/>
              <a:gd name="adj2" fmla="val 50070"/>
            </a:avLst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41"/>
          <p:cNvSpPr/>
          <p:nvPr/>
        </p:nvSpPr>
        <p:spPr>
          <a:xfrm>
            <a:off x="6947640" y="5040360"/>
            <a:ext cx="206892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iotensinogen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Down Arrow 42"/>
          <p:cNvSpPr/>
          <p:nvPr/>
        </p:nvSpPr>
        <p:spPr>
          <a:xfrm>
            <a:off x="7924680" y="5506920"/>
            <a:ext cx="304920" cy="4366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3"/>
          <p:cNvSpPr/>
          <p:nvPr/>
        </p:nvSpPr>
        <p:spPr>
          <a:xfrm>
            <a:off x="6629400" y="6083280"/>
            <a:ext cx="2438280" cy="642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asoconstri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fferent arteri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Arrow 45"/>
          <p:cNvSpPr/>
          <p:nvPr/>
        </p:nvSpPr>
        <p:spPr>
          <a:xfrm>
            <a:off x="3733920" y="6400800"/>
            <a:ext cx="966600" cy="2462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ight Arrow 47"/>
          <p:cNvSpPr/>
          <p:nvPr/>
        </p:nvSpPr>
        <p:spPr>
          <a:xfrm flipH="1">
            <a:off x="5866560" y="6337440"/>
            <a:ext cx="660600" cy="304560"/>
          </a:xfrm>
          <a:prstGeom prst="rightArrow">
            <a:avLst>
              <a:gd name="adj1" fmla="val 50000"/>
              <a:gd name="adj2" fmla="val 50109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6"/>
          <p:cNvSpPr/>
          <p:nvPr/>
        </p:nvSpPr>
        <p:spPr>
          <a:xfrm>
            <a:off x="4774680" y="6335640"/>
            <a:ext cx="10663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↑↑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G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chanism of autoreg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Tubuloglomerular feedback mechanis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    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BP          delivery of NaCl to the macula densa cells, which are capable of sensing this change , this will cause two effect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1- decrease in resistance of the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afferent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rterioles (i.e.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vasodilatation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)           glomerular hydrostatic pressure to normal leve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2-  increase in renin release from JG cells    Ang II       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constrict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efferent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rteriole       glomerular hydrostatic pressure &amp; GFR to norma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425" name="Straight Arrow Connector 4"/>
          <p:cNvCxnSpPr/>
          <p:nvPr/>
        </p:nvCxnSpPr>
        <p:spPr>
          <a:xfrm>
            <a:off x="1258560" y="2133720"/>
            <a:ext cx="1080" cy="35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6"/>
          <p:cNvCxnSpPr/>
          <p:nvPr/>
        </p:nvCxnSpPr>
        <p:spPr>
          <a:xfrm>
            <a:off x="2195640" y="2420640"/>
            <a:ext cx="5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7" name="Straight Arrow Connector 8"/>
          <p:cNvCxnSpPr/>
          <p:nvPr/>
        </p:nvCxnSpPr>
        <p:spPr>
          <a:xfrm>
            <a:off x="2916000" y="2205000"/>
            <a:ext cx="108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0"/>
          <p:cNvCxnSpPr/>
          <p:nvPr/>
        </p:nvCxnSpPr>
        <p:spPr>
          <a:xfrm>
            <a:off x="4284360" y="4292280"/>
            <a:ext cx="649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9" name="Straight Arrow Connector 12"/>
          <p:cNvCxnSpPr/>
          <p:nvPr/>
        </p:nvCxnSpPr>
        <p:spPr>
          <a:xfrm flipV="1">
            <a:off x="6516360" y="4149360"/>
            <a:ext cx="108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Straight Arrow Connector 14"/>
          <p:cNvCxnSpPr/>
          <p:nvPr/>
        </p:nvCxnSpPr>
        <p:spPr>
          <a:xfrm>
            <a:off x="7453440" y="5300280"/>
            <a:ext cx="28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16"/>
          <p:cNvCxnSpPr/>
          <p:nvPr/>
        </p:nvCxnSpPr>
        <p:spPr>
          <a:xfrm>
            <a:off x="1403280" y="5732280"/>
            <a:ext cx="5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Straight Arrow Connector 18"/>
          <p:cNvCxnSpPr/>
          <p:nvPr/>
        </p:nvCxnSpPr>
        <p:spPr>
          <a:xfrm>
            <a:off x="6084360" y="5732280"/>
            <a:ext cx="288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20"/>
          <p:cNvCxnSpPr/>
          <p:nvPr/>
        </p:nvCxnSpPr>
        <p:spPr>
          <a:xfrm flipV="1">
            <a:off x="7164000" y="5589000"/>
            <a:ext cx="108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echanism of autoregulation, cont……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Myogenic mechanis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It is the intrinsic capability of blood vessels to constrict when blood pressure is increased. The constriction prevents excess increase in renal blood flow and GFR when blood pressure rise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When blood pressure decreases the myogenic mechanism reduces vascular resistance and the vessel dila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w Cen MT"/>
              </a:rPr>
              <a:t>Example of autoreg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533520" y="1219320"/>
            <a:ext cx="8129520" cy="5562360"/>
            <a:chOff x="533520" y="1219320"/>
            <a:chExt cx="8129520" cy="5562360"/>
          </a:xfrm>
        </p:grpSpPr>
        <p:pic>
          <p:nvPicPr>
            <p:cNvPr id="438" name="Picture 3" descr="H:\$$SaladinPowerPoints\Images\Ch-23labeled\0810L.JPG"/>
            <p:cNvPicPr/>
            <p:nvPr/>
          </p:nvPicPr>
          <p:blipFill>
            <a:blip r:embed="rId1"/>
            <a:srcRect l="0" t="10022" r="0" b="0"/>
            <a:stretch/>
          </p:blipFill>
          <p:spPr>
            <a:xfrm>
              <a:off x="533520" y="1295280"/>
              <a:ext cx="81295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"/>
            <p:cNvSpPr/>
            <p:nvPr/>
          </p:nvSpPr>
          <p:spPr>
            <a:xfrm>
              <a:off x="1295280" y="1219320"/>
              <a:ext cx="381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Hormonal Control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441" name="Group 5"/>
          <p:cNvGrpSpPr/>
          <p:nvPr/>
        </p:nvGrpSpPr>
        <p:grpSpPr>
          <a:xfrm>
            <a:off x="506520" y="1371600"/>
            <a:ext cx="8129520" cy="5410080"/>
            <a:chOff x="506520" y="1371600"/>
            <a:chExt cx="8129520" cy="5410080"/>
          </a:xfrm>
        </p:grpSpPr>
        <p:pic>
          <p:nvPicPr>
            <p:cNvPr id="442" name="Picture 3" descr="H:\$$SaladinPowerPoints\Images\Ch-23labeled\0811L.JPG"/>
            <p:cNvPicPr/>
            <p:nvPr/>
          </p:nvPicPr>
          <p:blipFill>
            <a:blip r:embed="rId1"/>
            <a:srcRect l="0" t="11274" r="0" b="0"/>
            <a:stretch/>
          </p:blipFill>
          <p:spPr>
            <a:xfrm>
              <a:off x="506520" y="1371600"/>
              <a:ext cx="812952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Text Box 4"/>
            <p:cNvSpPr/>
            <p:nvPr/>
          </p:nvSpPr>
          <p:spPr>
            <a:xfrm>
              <a:off x="4165200" y="5881680"/>
              <a:ext cx="236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-efferent arterio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Effects of Angiotensin II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5" name="Picture 3" descr="H:\$$SaladinPowerPoints\Images\Ch-23labeled\0812L.JPG"/>
          <p:cNvPicPr/>
          <p:nvPr/>
        </p:nvPicPr>
        <p:blipFill>
          <a:blip r:embed="rId1"/>
          <a:srcRect l="25308" t="13772" r="0" b="0"/>
          <a:stretch/>
        </p:blipFill>
        <p:spPr>
          <a:xfrm>
            <a:off x="1828800" y="1295280"/>
            <a:ext cx="6072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omerular Filtration Rate (GFR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ed as: The volume of filtrate produced by both kidneys per 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verages 125 ml/m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tals about 180L/day (45 gallon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o most filtered water must be reabsorbed or death would ensue from water lost through urin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FR is directly proportional to the NFP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n  increase in NFP          GF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 decrease in NFP           GF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Changes in GFR normally result from changes in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lomerular blood pressure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136440" y="4191120"/>
            <a:ext cx="87789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6"/>
          <p:cNvCxnSpPr/>
          <p:nvPr/>
        </p:nvCxnSpPr>
        <p:spPr>
          <a:xfrm>
            <a:off x="3276360" y="4508280"/>
            <a:ext cx="64836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3" name="Straight Arrow Connector 8"/>
          <p:cNvCxnSpPr/>
          <p:nvPr/>
        </p:nvCxnSpPr>
        <p:spPr>
          <a:xfrm>
            <a:off x="3131640" y="4868640"/>
            <a:ext cx="79308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4" name="Straight Arrow Connector 10"/>
          <p:cNvCxnSpPr/>
          <p:nvPr/>
        </p:nvCxnSpPr>
        <p:spPr>
          <a:xfrm flipV="1">
            <a:off x="3995280" y="4365000"/>
            <a:ext cx="1080" cy="2163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5" name="Straight Arrow Connector 12"/>
          <p:cNvCxnSpPr/>
          <p:nvPr/>
        </p:nvCxnSpPr>
        <p:spPr>
          <a:xfrm>
            <a:off x="3995280" y="4724280"/>
            <a:ext cx="1080" cy="2181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66" name="TextBox 1"/>
          <p:cNvSpPr/>
          <p:nvPr/>
        </p:nvSpPr>
        <p:spPr>
          <a:xfrm>
            <a:off x="684360" y="61326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P = net filtration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w Cen MT"/>
              </a:rPr>
              <a:t>Sympathetic Control of GFR (Extrinsic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the sympathetic nervous system is at rest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nal blood vessels are maximally dil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utoregulation mechanisms preva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der stres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repinephrine is released by the sympathetic nervous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pinephrine is released by the adrenal medull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w Cen MT"/>
              </a:rPr>
              <a:t>Afferent arterioles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constric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filtration is inhibi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te: during fight or flight blood is shunted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away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rom kidneys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sympathetic nervous system also stimulates the r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enin-angiotensin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chanism. This induces vasoconstriction of </a:t>
            </a:r>
            <a:r>
              <a:rPr b="0" lang="en-US" sz="2400" spc="-1" strike="noStrike">
                <a:solidFill>
                  <a:srgbClr val="0000cc"/>
                </a:solidFill>
                <a:latin typeface="Tw Cen MT"/>
              </a:rPr>
              <a:t>efferent arterio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2195640" y="1600200"/>
            <a:ext cx="6769080" cy="50688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6"/>
          <p:cNvSpPr/>
          <p:nvPr/>
        </p:nvSpPr>
        <p:spPr>
          <a:xfrm>
            <a:off x="-36360" y="1557360"/>
            <a:ext cx="381636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 = 125 ml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L /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% excr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28600" y="1294920"/>
            <a:ext cx="844704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w Cen MT"/>
              </a:rPr>
              <a:t>Why is it important to have the GFR regulated?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egulation of GFR</a:t>
            </a:r>
            <a:br>
              <a:rPr sz="40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Glomerular Filtration Rat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w Cen MT"/>
              </a:rPr>
              <a:t>If the GFR is too high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uid flows through tubules too rapidly to be absorb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rine output ri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reates threat of dehydration and electrolyte deple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w Cen MT"/>
              </a:rPr>
              <a:t>If the GFR is too lo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uid flows sluggishly through tubu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ubules reabsorb wastes that should be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zotemia develops (high levels of nitrogen-containing substances in the blood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Regulation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controlled by adjusting glomerular blood pressure through the following mechanis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- Autoregula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- Sympathetic control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- Hormonal mechanism: renin and angiotensi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↑↑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BP </a:t>
            </a: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→ ↑↑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GF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owever, the body maintains 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nstant GFR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over an </a:t>
            </a:r>
            <a:r>
              <a:rPr b="1" i="1" lang="en-US" sz="2900" spc="-1" strike="noStrike">
                <a:solidFill>
                  <a:srgbClr val="a51b91"/>
                </a:solidFill>
                <a:latin typeface="Arial"/>
                <a:ea typeface="Arial"/>
              </a:rPr>
              <a:t>AB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range of </a:t>
            </a:r>
            <a:r>
              <a:rPr b="1" i="1" lang="en-US" sz="2900" spc="-1" strike="noStrike">
                <a:solidFill>
                  <a:srgbClr val="a51b91"/>
                </a:solidFill>
                <a:latin typeface="Arial"/>
                <a:ea typeface="Arial"/>
              </a:rPr>
              <a:t>75-160 mmH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Why? And how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Title 1"/>
          <p:cNvSpPr/>
          <p:nvPr/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bb8"/>
                </a:solidFill>
                <a:latin typeface="Tw Cen MT"/>
              </a:rPr>
              <a:t>Effect of Arterial BP on 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5"/>
          <p:cNvSpPr/>
          <p:nvPr/>
        </p:nvSpPr>
        <p:spPr>
          <a:xfrm>
            <a:off x="304920" y="1219320"/>
            <a:ext cx="8381880" cy="0"/>
          </a:xfrm>
          <a:prstGeom prst="line">
            <a:avLst/>
          </a:prstGeom>
          <a:ln w="381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Content Placeholder 6" descr=""/>
          <p:cNvPicPr/>
          <p:nvPr/>
        </p:nvPicPr>
        <p:blipFill>
          <a:blip r:embed="rId1"/>
          <a:stretch/>
        </p:blipFill>
        <p:spPr>
          <a:xfrm>
            <a:off x="4676760" y="2144880"/>
            <a:ext cx="42386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w Cen MT"/>
              </a:rPr>
              <a:t>Autoregulation (intrinsic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t is the relative constancy of GFR and renal blood flow in response to changes in blood pressure range from 75 to 160 mmHg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at means in a normal kidneys, a decrease in arterial blood pressure as low as 75 mmHg, or an increase as high as 160 mmHg causes a change in GFR by only a few percentag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owever, autoregulation is not perfect but it prevents potentially great changes in GFR , with changes in blood pressure, therefore, kidney continue to excrete wast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06436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fImage" descr="showimage"/>
          <p:cNvPicPr/>
          <p:nvPr/>
        </p:nvPicPr>
        <p:blipFill>
          <a:blip r:embed="rId1"/>
          <a:srcRect l="14332" t="0" r="15597" b="5648"/>
          <a:stretch/>
        </p:blipFill>
        <p:spPr>
          <a:xfrm>
            <a:off x="3429000" y="685800"/>
            <a:ext cx="5207040" cy="55627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609480" y="1981080"/>
            <a:ext cx="2743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gency FB"/>
              </a:rPr>
              <a:t>GFR remains constant over a large range of values of B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gency FB"/>
              </a:rPr>
              <a:t>75-16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533520" y="609480"/>
            <a:ext cx="3581280" cy="1143000"/>
          </a:xfrm>
          <a:prstGeom prst="rect">
            <a:avLst/>
          </a:prstGeom>
          <a:gradFill rotWithShape="0">
            <a:gsLst>
              <a:gs pos="0">
                <a:srgbClr val="00002a"/>
              </a:gs>
              <a:gs pos="50000">
                <a:srgbClr val="00005a"/>
              </a:gs>
              <a:gs pos="100000">
                <a:srgbClr val="00002a"/>
              </a:gs>
            </a:gsLst>
            <a:lin ang="5400000"/>
          </a:gradFill>
          <a:ln w="936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UTOREGUL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G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2:55:36Z</dcterms:created>
  <dc:creator>user</dc:creator>
  <dc:description/>
  <dc:language>en-US</dc:language>
  <cp:lastModifiedBy>Manan</cp:lastModifiedBy>
  <dcterms:modified xsi:type="dcterms:W3CDTF">2016-04-13T18:51:50Z</dcterms:modified>
  <cp:revision>22</cp:revision>
  <dc:subject/>
  <dc:title>Regulation of GFR</dc:title>
</cp:coreProperties>
</file>