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34D4-C41F-4862-A610-AB61F5F92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8C8D-FC62-4EF8-B5F9-8D140D742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23C-60BD-4D33-9CEE-7B99399D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FC9-0C7A-45C3-8672-4871054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411-1BD7-45B5-A246-0D86745A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13C-C153-454C-90A4-D738963B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FCB-E51C-4C74-9BDA-CDADB779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3A8F-7DFC-4CA9-8F8B-45D58FD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077B-C498-4EB1-B7D9-46A3983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C70-37C6-434D-843F-2D91E93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5F5-9E37-45C3-A732-2B452D0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542-0859-43D9-B583-88ED7EDD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98AD-604E-4025-A59F-6FBC848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A31-00CD-4909-BF34-924C55FC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B01E-45E5-45A7-BBC5-57B0EBA3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3CB-B099-4FEA-BE20-52EFD6A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15D3-62C8-4511-84EB-7D2E9C1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88EB-C78B-4239-94D3-4F429F18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73AD-779C-4F47-884B-4E4C1D3D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68B2C-082D-41F9-AE1C-F2F9ADEF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FDF51-8B9D-4D28-8139-09F6D2E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98FBF-912E-4E60-9C01-CEE6344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FA7C3-70AD-4231-9195-1AC26C6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3D6FF-6FAC-4F0E-89C5-4E79956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D3B-EC87-4971-ADC6-2C75567F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71202-E1A1-4349-8417-9FC3D6D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EF2B1-F804-4AF5-B6BD-C6BD84E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1B206-1AF5-4E10-A64B-E68293B1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82215-6A62-4E51-B28C-F525D2E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B1BA2-CAF9-453F-92F4-D82E3D0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921A3-1AEF-4B93-9768-40984113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C8CF9-6954-4EFC-B6AE-2EAB9728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B7DE4-82B0-4489-A797-0F7CFA97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1024E-5A39-46C0-8FF4-B4FB63D9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4D259-48CA-43AD-88EA-BB3FCC54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953-DF3E-4355-8D73-5D653BA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11414-8BF8-4CEA-B55D-F73BBFEF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0042F-2591-457B-9416-E0390C1E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01128-8FE7-48ED-BB51-7AF6F58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D1E89-D9C9-4F8A-94F9-A949E9E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F86E9-9759-4DAC-AB63-1B2A864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733A0-2DF6-4C7E-B568-E498557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D7247-E008-4096-97D3-92F6F326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72EC5-4D07-4B15-B528-68EBE9B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B1885-0948-4B7C-ACBC-3C01EC1E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EFE0A-4BB7-4FCB-B642-F9868B89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016-4C92-422A-9416-BA09D74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4FA50-A192-4515-AE44-23A4C22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0A827-1594-4089-A7B8-E1C0C1C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5C18C-4465-4F1C-9957-165F08E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CBF04-EC99-4073-A0F8-74AE8342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74A27-E763-46FE-A11C-F9CC4331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E9342-6B90-451B-8633-C7C86BD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D77C5-73A1-4AC4-9332-C35CD817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E9836-40BB-454E-A244-A914127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44C72-AFE4-4C48-B6A9-F3D946A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0C4A2-136A-4518-A849-31DCCE69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6F0-9A98-47D8-8C0E-B6F62D3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A23EB-85DE-4A33-9575-9F4DCDC4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4712-D250-41B3-BFE9-462BFD1B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B283-3657-4155-B1A0-DE7AC25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2A7B-74EA-4489-90A8-5065DC7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D6D9-2771-4EA3-9119-D13A47AF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732D-92E0-404E-A271-A81F29DD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5B91-B07E-495C-956B-CB522AE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CFE2-8E88-4240-A57A-1ACFCC7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0D3BA-28DB-448C-8D36-0E96816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BCBD-6EF3-4DB2-A2B6-78DC3DA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1C4-88F3-44D7-A288-B51BC7E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9698-78D5-407A-8B01-E887B421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8F80-EE66-470B-82FB-8D8BE731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7BB78-64D2-48C0-91A5-2B35D8E8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219B8-903A-4601-BF8D-7B7E3754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6DCED-CB2E-4BC7-9D81-3E22342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9FEA7-3C67-4426-8509-F6ABD0AC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95437-2CD9-4E50-BD68-A015CFA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15F42-B787-4107-9199-EF4F6CD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A13CE-CBD4-4C38-89BE-2B9C8B2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8EEE9-189D-43C7-9907-13FDD81A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251-5EAE-41D3-A1C9-F0906B8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F9389-2C88-4F16-B409-8AD14AB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191E3-BD6B-46A4-AE4A-4F578ED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A1393-821F-4FD4-B630-BA3D16B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A29B8-8BDA-48E6-B7BA-3A7CC58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BB03F-688E-436F-BFFA-6A62CD5B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BBD38-9291-4A0D-BE24-B6CCE315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A891-76BD-404F-93E7-30BEF14B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0977-998E-481E-8B6C-538E3DC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2A7F-14F8-4D64-8B77-6F162CD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F9A8A-A427-40BF-B3D4-C94B29C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5CA-CE09-42A6-93DE-9B9BB8E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3F47-A459-48E9-B467-BAE9591B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99EA-1FDE-48B4-8F9F-1EECC00C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587D-22DD-43C2-BCBA-00EFD07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FC611-A01A-4E36-8D44-1CBE988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1BBF-6A0B-4694-87A8-D927236B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A6141-50B3-4828-A815-6F986859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B8333-47FF-44D0-B86F-6F5875A3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977-1ADE-40EE-9510-A9A48A1890E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C3F-2461-485F-B015-CCA89D6B065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015-5CE5-424F-B8AF-CD0812FEF09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9FA-4E14-42AF-94E7-3529A3482D1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C43-E741-4E9C-B6C0-A6B689EF72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9F4C-4A14-41E1-8E68-6010FB44AE7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A58C-BE52-40BE-AF4E-8BFE7B34063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007-8A45-4E74-BE04-515264F8292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5" descr="Image result for thinkin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521280" y="54936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autoregulation takes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Auto-regulation of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 to feedback mechanisms intrinsic to the kidney that keep the renal blood flow and GFR relatively constant despite fluctuations in ABP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se mechanisms operate over an ABP ranging between 75-16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c00000"/>
                </a:solidFill>
                <a:latin typeface="Tw Cen MT"/>
              </a:rPr>
              <a:t>Achieved by 2 major mechanism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64200" indent="-41580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yogenic auto-regul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64200" indent="-41580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ubulo-glomerular feedback mechanis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nal Auto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3" descr="H:\$$SaladinPowerPoints\Images\CH_23\0809L.JPG"/>
          <p:cNvPicPr/>
          <p:nvPr/>
        </p:nvPicPr>
        <p:blipFill>
          <a:blip r:embed="rId1"/>
          <a:srcRect l="28452" t="16270" r="26561" b="8746"/>
          <a:stretch/>
        </p:blipFill>
        <p:spPr>
          <a:xfrm>
            <a:off x="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81280" y="1773360"/>
            <a:ext cx="556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onstrict afferent arteriole, &amp; dilate effer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dilate afferent arteriole, &amp; constrict effer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ble for BP range of 75 to 160 mmHg (systol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not compensate for extreme BP chan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Juxtaglomerular Apparat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4"/>
          <p:cNvGrpSpPr/>
          <p:nvPr/>
        </p:nvGrpSpPr>
        <p:grpSpPr>
          <a:xfrm>
            <a:off x="6457320" y="4129200"/>
            <a:ext cx="2238480" cy="2501640"/>
            <a:chOff x="6457320" y="4129200"/>
            <a:chExt cx="2238480" cy="2501640"/>
          </a:xfrm>
        </p:grpSpPr>
        <p:sp>
          <p:nvSpPr>
            <p:cNvPr id="398" name="Text Box 5"/>
            <p:cNvSpPr/>
            <p:nvPr/>
          </p:nvSpPr>
          <p:spPr>
            <a:xfrm>
              <a:off x="6457320" y="4129200"/>
              <a:ext cx="22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0" lang="en-US" sz="2400" spc="-1" strike="noStrike">
                  <a:solidFill>
                    <a:srgbClr val="0000ff"/>
                  </a:solidFill>
                  <a:latin typeface="Tw Cen MT"/>
                </a:rPr>
                <a:t>secrete Re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6"/>
            <p:cNvSpPr/>
            <p:nvPr/>
          </p:nvSpPr>
          <p:spPr>
            <a:xfrm>
              <a:off x="6471360" y="6110280"/>
              <a:ext cx="22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 </a:t>
              </a:r>
              <a:r>
                <a:rPr b="1" lang="en-US" sz="1800" spc="-1" strike="noStrike">
                  <a:solidFill>
                    <a:srgbClr val="0000ff"/>
                  </a:solidFill>
                  <a:latin typeface="Tw Cen MT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Tubulo-glomerula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2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85680" y="1279440"/>
            <a:ext cx="1400400" cy="2149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"/>
          <p:cNvPicPr/>
          <p:nvPr/>
        </p:nvPicPr>
        <p:blipFill>
          <a:blip r:embed="rId2"/>
          <a:stretch/>
        </p:blipFill>
        <p:spPr>
          <a:xfrm>
            <a:off x="1371600" y="1308240"/>
            <a:ext cx="6248520" cy="54734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14"/>
          <p:cNvSpPr/>
          <p:nvPr/>
        </p:nvSpPr>
        <p:spPr>
          <a:xfrm>
            <a:off x="4704840" y="4952880"/>
            <a:ext cx="161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xtaglomeru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2139120" y="47242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↓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Straight Arrow Connector 17"/>
          <p:cNvCxnSpPr/>
          <p:nvPr/>
        </p:nvCxnSpPr>
        <p:spPr>
          <a:xfrm flipV="1">
            <a:off x="2819520" y="4501440"/>
            <a:ext cx="305280" cy="22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407" name="Plus 18"/>
          <p:cNvSpPr/>
          <p:nvPr/>
        </p:nvSpPr>
        <p:spPr>
          <a:xfrm>
            <a:off x="2774880" y="4387680"/>
            <a:ext cx="203400" cy="228600"/>
          </a:xfrm>
          <a:custGeom>
            <a:avLst/>
            <a:gdLst>
              <a:gd name="textAreaLeft" fmla="*/ 27000 w 203400"/>
              <a:gd name="textAreaRight" fmla="*/ 176400 w 203400"/>
              <a:gd name="textAreaTop" fmla="*/ 99720 h 228600"/>
              <a:gd name="textAreaBottom" fmla="*/ 128880 h 228600"/>
            </a:gdLst>
            <a:ahLst/>
            <a:rect l="textAreaLeft" t="textAreaTop" r="textAreaRight" b="textAreaBottom"/>
            <a:pathLst>
              <a:path w="202482" h="228600">
                <a:moveTo>
                  <a:pt x="26839" y="99876"/>
                </a:moveTo>
                <a:lnTo>
                  <a:pt x="86817" y="99876"/>
                </a:lnTo>
                <a:lnTo>
                  <a:pt x="86817" y="30301"/>
                </a:lnTo>
                <a:lnTo>
                  <a:pt x="115665" y="30301"/>
                </a:lnTo>
                <a:lnTo>
                  <a:pt x="115665" y="99876"/>
                </a:lnTo>
                <a:lnTo>
                  <a:pt x="175643" y="99876"/>
                </a:lnTo>
                <a:lnTo>
                  <a:pt x="175643" y="128724"/>
                </a:lnTo>
                <a:lnTo>
                  <a:pt x="115665" y="128724"/>
                </a:lnTo>
                <a:lnTo>
                  <a:pt x="115665" y="198299"/>
                </a:lnTo>
                <a:lnTo>
                  <a:pt x="86817" y="198299"/>
                </a:lnTo>
                <a:lnTo>
                  <a:pt x="86817" y="128724"/>
                </a:lnTo>
                <a:lnTo>
                  <a:pt x="26839" y="128724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Bent Arrow 27"/>
          <p:cNvSpPr/>
          <p:nvPr/>
        </p:nvSpPr>
        <p:spPr>
          <a:xfrm flipH="1" rot="10800000">
            <a:off x="3276720" y="5229000"/>
            <a:ext cx="349200" cy="561960"/>
          </a:xfrm>
          <a:custGeom>
            <a:avLst/>
            <a:gdLst/>
            <a:ahLst/>
            <a:rect l="l" t="t" r="r" b="b"/>
            <a:pathLst>
              <a:path w="348896" h="561201">
                <a:moveTo>
                  <a:pt x="0" y="561201"/>
                </a:moveTo>
                <a:lnTo>
                  <a:pt x="0" y="196254"/>
                </a:lnTo>
                <a:lnTo>
                  <a:pt x="0" y="196254"/>
                </a:lnTo>
                <a:arcTo wR="152642" hR="152642" stAng="10800000" swAng="5400000"/>
                <a:lnTo>
                  <a:pt x="261672" y="43612"/>
                </a:lnTo>
                <a:lnTo>
                  <a:pt x="261672" y="0"/>
                </a:lnTo>
                <a:lnTo>
                  <a:pt x="348896" y="87224"/>
                </a:lnTo>
                <a:lnTo>
                  <a:pt x="261672" y="174448"/>
                </a:lnTo>
                <a:lnTo>
                  <a:pt x="261672" y="130836"/>
                </a:lnTo>
                <a:lnTo>
                  <a:pt x="152642" y="130836"/>
                </a:lnTo>
                <a:lnTo>
                  <a:pt x="152642" y="130836"/>
                </a:lnTo>
                <a:arcTo wR="65418" hR="65418" stAng="-5400000" swAng="-5400000"/>
                <a:lnTo>
                  <a:pt x="87224" y="561201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"/>
          <p:cNvSpPr/>
          <p:nvPr/>
        </p:nvSpPr>
        <p:spPr>
          <a:xfrm>
            <a:off x="3976560" y="4516560"/>
            <a:ext cx="55800" cy="1081080"/>
          </a:xfrm>
          <a:custGeom>
            <a:avLst/>
            <a:gdLst/>
            <a:ahLst/>
            <a:rect l="l" t="t" r="r" b="b"/>
            <a:pathLst>
              <a:path w="55585" h="1080654">
                <a:moveTo>
                  <a:pt x="55585" y="1080654"/>
                </a:moveTo>
                <a:cubicBezTo>
                  <a:pt x="29030" y="852054"/>
                  <a:pt x="2476" y="623454"/>
                  <a:pt x="167" y="443345"/>
                </a:cubicBezTo>
                <a:cubicBezTo>
                  <a:pt x="-2142" y="263236"/>
                  <a:pt x="19794" y="131618"/>
                  <a:pt x="41730" y="0"/>
                </a:cubicBezTo>
              </a:path>
            </a:pathLst>
          </a:custGeom>
          <a:noFill/>
          <a:ln w="31680">
            <a:solidFill>
              <a:srgbClr val="c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"/>
          <p:cNvSpPr/>
          <p:nvPr/>
        </p:nvSpPr>
        <p:spPr>
          <a:xfrm>
            <a:off x="2382840" y="2244600"/>
            <a:ext cx="345960" cy="706680"/>
          </a:xfrm>
          <a:custGeom>
            <a:avLst/>
            <a:gdLst/>
            <a:ahLst/>
            <a:rect l="l" t="t" r="r" b="b"/>
            <a:pathLst>
              <a:path w="346363" h="706582">
                <a:moveTo>
                  <a:pt x="346363" y="706582"/>
                </a:moveTo>
                <a:cubicBezTo>
                  <a:pt x="285172" y="585355"/>
                  <a:pt x="223981" y="464128"/>
                  <a:pt x="166254" y="346364"/>
                </a:cubicBezTo>
                <a:cubicBezTo>
                  <a:pt x="108527" y="228600"/>
                  <a:pt x="54263" y="114300"/>
                  <a:pt x="0" y="0"/>
                </a:cubicBezTo>
              </a:path>
            </a:pathLst>
          </a:custGeom>
          <a:noFill/>
          <a:ln w="31680">
            <a:solidFill>
              <a:srgbClr val="c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0"/>
          <p:cNvSpPr/>
          <p:nvPr/>
        </p:nvSpPr>
        <p:spPr>
          <a:xfrm>
            <a:off x="1685880" y="6197760"/>
            <a:ext cx="1971720" cy="580680"/>
          </a:xfrm>
          <a:prstGeom prst="rect">
            <a:avLst/>
          </a:prstGeom>
          <a:solidFill>
            <a:srgbClr val="d3deea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Vasodilation of afferent arteri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eft-Up Arrow 31"/>
          <p:cNvSpPr/>
          <p:nvPr/>
        </p:nvSpPr>
        <p:spPr>
          <a:xfrm rot="6889800">
            <a:off x="3123720" y="3919320"/>
            <a:ext cx="533520" cy="577800"/>
          </a:xfrm>
          <a:custGeom>
            <a:avLst/>
            <a:gdLst>
              <a:gd name="textAreaLeft" fmla="*/ 66600 w 533520"/>
              <a:gd name="textAreaRight" fmla="*/ 400320 w 533520"/>
              <a:gd name="textAreaTop" fmla="*/ 378000 h 577800"/>
              <a:gd name="textAreaBottom" fmla="*/ 511200 h 577800"/>
            </a:gdLst>
            <a:ahLst/>
            <a:rect l="textAreaLeft" t="textAreaTop" r="textAreaRight" b="textAreaBottom"/>
            <a:pathLst>
              <a:path w="533400" h="578427">
                <a:moveTo>
                  <a:pt x="0" y="445077"/>
                </a:moveTo>
                <a:lnTo>
                  <a:pt x="133350" y="311727"/>
                </a:lnTo>
                <a:lnTo>
                  <a:pt x="133350" y="378402"/>
                </a:lnTo>
                <a:lnTo>
                  <a:pt x="333375" y="378402"/>
                </a:lnTo>
                <a:lnTo>
                  <a:pt x="333375" y="133350"/>
                </a:lnTo>
                <a:lnTo>
                  <a:pt x="266700" y="133350"/>
                </a:lnTo>
                <a:lnTo>
                  <a:pt x="400050" y="0"/>
                </a:lnTo>
                <a:lnTo>
                  <a:pt x="533400" y="133350"/>
                </a:lnTo>
                <a:lnTo>
                  <a:pt x="466725" y="133350"/>
                </a:lnTo>
                <a:lnTo>
                  <a:pt x="466725" y="511752"/>
                </a:lnTo>
                <a:lnTo>
                  <a:pt x="133350" y="511752"/>
                </a:lnTo>
                <a:lnTo>
                  <a:pt x="133350" y="578427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us 33"/>
          <p:cNvSpPr/>
          <p:nvPr/>
        </p:nvSpPr>
        <p:spPr>
          <a:xfrm>
            <a:off x="3454560" y="3979800"/>
            <a:ext cx="203040" cy="228600"/>
          </a:xfrm>
          <a:custGeom>
            <a:avLst/>
            <a:gdLst>
              <a:gd name="textAreaLeft" fmla="*/ 26640 w 203040"/>
              <a:gd name="textAreaRight" fmla="*/ 176400 w 203040"/>
              <a:gd name="textAreaTop" fmla="*/ 99720 h 228600"/>
              <a:gd name="textAreaBottom" fmla="*/ 128880 h 228600"/>
            </a:gdLst>
            <a:ahLst/>
            <a:rect l="textAreaLeft" t="textAreaTop" r="textAreaRight" b="textAreaBottom"/>
            <a:pathLst>
              <a:path w="202482" h="228600">
                <a:moveTo>
                  <a:pt x="26839" y="99876"/>
                </a:moveTo>
                <a:lnTo>
                  <a:pt x="86817" y="99876"/>
                </a:lnTo>
                <a:lnTo>
                  <a:pt x="86817" y="30301"/>
                </a:lnTo>
                <a:lnTo>
                  <a:pt x="115665" y="30301"/>
                </a:lnTo>
                <a:lnTo>
                  <a:pt x="115665" y="99876"/>
                </a:lnTo>
                <a:lnTo>
                  <a:pt x="175643" y="99876"/>
                </a:lnTo>
                <a:lnTo>
                  <a:pt x="175643" y="128724"/>
                </a:lnTo>
                <a:lnTo>
                  <a:pt x="115665" y="128724"/>
                </a:lnTo>
                <a:lnTo>
                  <a:pt x="115665" y="198299"/>
                </a:lnTo>
                <a:lnTo>
                  <a:pt x="86817" y="198299"/>
                </a:lnTo>
                <a:lnTo>
                  <a:pt x="86817" y="128724"/>
                </a:lnTo>
                <a:lnTo>
                  <a:pt x="26839" y="128724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34"/>
          <p:cNvCxnSpPr/>
          <p:nvPr/>
        </p:nvCxnSpPr>
        <p:spPr>
          <a:xfrm>
            <a:off x="3733560" y="4266720"/>
            <a:ext cx="3353400" cy="1080"/>
          </a:xfrm>
          <a:prstGeom prst="straightConnector1">
            <a:avLst/>
          </a:prstGeom>
          <a:ln w="31680">
            <a:solidFill>
              <a:srgbClr val="00b0f0"/>
            </a:solidFill>
            <a:miter/>
            <a:tailEnd len="lg" type="stealth" w="lg"/>
          </a:ln>
        </p:spPr>
      </p:cxnSp>
      <p:sp>
        <p:nvSpPr>
          <p:cNvPr id="415" name="TextBox 36"/>
          <p:cNvSpPr/>
          <p:nvPr/>
        </p:nvSpPr>
        <p:spPr>
          <a:xfrm>
            <a:off x="7174800" y="4038480"/>
            <a:ext cx="1674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Re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39"/>
          <p:cNvSpPr/>
          <p:nvPr/>
        </p:nvSpPr>
        <p:spPr>
          <a:xfrm>
            <a:off x="7848720" y="4495680"/>
            <a:ext cx="304560" cy="43668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1"/>
          <p:cNvSpPr/>
          <p:nvPr/>
        </p:nvSpPr>
        <p:spPr>
          <a:xfrm>
            <a:off x="6947640" y="5040360"/>
            <a:ext cx="206892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iotensinoge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Down Arrow 42"/>
          <p:cNvSpPr/>
          <p:nvPr/>
        </p:nvSpPr>
        <p:spPr>
          <a:xfrm>
            <a:off x="7924680" y="5506920"/>
            <a:ext cx="304920" cy="4366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3"/>
          <p:cNvSpPr/>
          <p:nvPr/>
        </p:nvSpPr>
        <p:spPr>
          <a:xfrm>
            <a:off x="6629400" y="6083280"/>
            <a:ext cx="243828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soconstri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fferent arteri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45"/>
          <p:cNvSpPr/>
          <p:nvPr/>
        </p:nvSpPr>
        <p:spPr>
          <a:xfrm>
            <a:off x="3733920" y="6400800"/>
            <a:ext cx="966600" cy="2462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ight Arrow 47"/>
          <p:cNvSpPr/>
          <p:nvPr/>
        </p:nvSpPr>
        <p:spPr>
          <a:xfrm flipH="1">
            <a:off x="5866560" y="6337440"/>
            <a:ext cx="660600" cy="304560"/>
          </a:xfrm>
          <a:prstGeom prst="rightArrow">
            <a:avLst>
              <a:gd name="adj1" fmla="val 50000"/>
              <a:gd name="adj2" fmla="val 5010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6"/>
          <p:cNvSpPr/>
          <p:nvPr/>
        </p:nvSpPr>
        <p:spPr>
          <a:xfrm>
            <a:off x="4774680" y="6335640"/>
            <a:ext cx="10663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↑↑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G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chanism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Tubuloglomerular feedback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   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BP          delivery of NaCl to the macula densa cells, which are capable of sensing this change , this will cause two effect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1- decrease in resistance of the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a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s (i.e.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vasodilatation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)           glomerular hydrostatic pressure to normal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2-  increase in renin release from JG cells    Ang II  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constrict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e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       glomerular hydrostatic pressure &amp; GFR to norm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25" name="Straight Arrow Connector 4"/>
          <p:cNvCxnSpPr/>
          <p:nvPr/>
        </p:nvCxnSpPr>
        <p:spPr>
          <a:xfrm>
            <a:off x="1258560" y="2133720"/>
            <a:ext cx="1080" cy="35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6"/>
          <p:cNvCxnSpPr/>
          <p:nvPr/>
        </p:nvCxnSpPr>
        <p:spPr>
          <a:xfrm>
            <a:off x="2195640" y="242064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Straight Arrow Connector 8"/>
          <p:cNvCxnSpPr/>
          <p:nvPr/>
        </p:nvCxnSpPr>
        <p:spPr>
          <a:xfrm>
            <a:off x="2916000" y="220500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0"/>
          <p:cNvCxnSpPr/>
          <p:nvPr/>
        </p:nvCxnSpPr>
        <p:spPr>
          <a:xfrm>
            <a:off x="4284360" y="4292280"/>
            <a:ext cx="649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Straight Arrow Connector 12"/>
          <p:cNvCxnSpPr/>
          <p:nvPr/>
        </p:nvCxnSpPr>
        <p:spPr>
          <a:xfrm flipV="1">
            <a:off x="6516360" y="414936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Straight Arrow Connector 14"/>
          <p:cNvCxnSpPr/>
          <p:nvPr/>
        </p:nvCxnSpPr>
        <p:spPr>
          <a:xfrm>
            <a:off x="7453440" y="5300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16"/>
          <p:cNvCxnSpPr/>
          <p:nvPr/>
        </p:nvCxnSpPr>
        <p:spPr>
          <a:xfrm>
            <a:off x="1403280" y="573228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8"/>
          <p:cNvCxnSpPr/>
          <p:nvPr/>
        </p:nvCxnSpPr>
        <p:spPr>
          <a:xfrm>
            <a:off x="6084360" y="5732280"/>
            <a:ext cx="28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20"/>
          <p:cNvCxnSpPr/>
          <p:nvPr/>
        </p:nvCxnSpPr>
        <p:spPr>
          <a:xfrm flipV="1">
            <a:off x="7164000" y="5589000"/>
            <a:ext cx="108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echanism of autoregulation, cont……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Myogenic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It is the intrinsic capability of blood vessels to constrict when blood pressure is increased. The constriction prevents excess increase in renal blood flow and GFR when blood pressure ris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When blood pressure decreases the myogenic mechanism reduces vascular resistance and the vessel dil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w Cen MT"/>
              </a:rPr>
              <a:t>Example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533520" y="1219320"/>
            <a:ext cx="8129520" cy="5562360"/>
            <a:chOff x="533520" y="1219320"/>
            <a:chExt cx="8129520" cy="5562360"/>
          </a:xfrm>
        </p:grpSpPr>
        <p:pic>
          <p:nvPicPr>
            <p:cNvPr id="438" name="Picture 3" descr="H:\$$SaladinPowerPoints\Images\Ch-23labeled\0810L.JPG"/>
            <p:cNvPicPr/>
            <p:nvPr/>
          </p:nvPicPr>
          <p:blipFill>
            <a:blip r:embed="rId1"/>
            <a:srcRect l="0" t="10022" r="0" b="0"/>
            <a:stretch/>
          </p:blipFill>
          <p:spPr>
            <a:xfrm>
              <a:off x="533520" y="1295280"/>
              <a:ext cx="81295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"/>
            <p:cNvSpPr/>
            <p:nvPr/>
          </p:nvSpPr>
          <p:spPr>
            <a:xfrm>
              <a:off x="1295280" y="121932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Hormonal Control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41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42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4"/>
            <p:cNvSpPr/>
            <p:nvPr/>
          </p:nvSpPr>
          <p:spPr>
            <a:xfrm>
              <a:off x="4165200" y="58816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Effects of Angiotensin II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5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as: The volume of filtrate produced by both kidneys per 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s 125 ml/m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tals about 180L/day (45 gallo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 most filtered water must be reabsorbed or death would ensue from water lost through urin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FR is directly proportional to the NFP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n  increase in NFP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 decrease in NFP 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anges in GFR normally result from changes in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omerular blood pressur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36440" y="4191120"/>
            <a:ext cx="8778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/>
          <p:nvPr/>
        </p:nvCxnSpPr>
        <p:spPr>
          <a:xfrm>
            <a:off x="3276360" y="4508280"/>
            <a:ext cx="64836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3" name="Straight Arrow Connector 8"/>
          <p:cNvCxnSpPr/>
          <p:nvPr/>
        </p:nvCxnSpPr>
        <p:spPr>
          <a:xfrm>
            <a:off x="3131640" y="4868640"/>
            <a:ext cx="79308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Straight Arrow Connector 10"/>
          <p:cNvCxnSpPr/>
          <p:nvPr/>
        </p:nvCxnSpPr>
        <p:spPr>
          <a:xfrm flipV="1">
            <a:off x="3995280" y="4365000"/>
            <a:ext cx="1080" cy="216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5" name="Straight Arrow Connector 12"/>
          <p:cNvCxnSpPr/>
          <p:nvPr/>
        </p:nvCxnSpPr>
        <p:spPr>
          <a:xfrm>
            <a:off x="3995280" y="4724280"/>
            <a:ext cx="1080" cy="218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6" name="TextBox 1"/>
          <p:cNvSpPr/>
          <p:nvPr/>
        </p:nvSpPr>
        <p:spPr>
          <a:xfrm>
            <a:off x="684360" y="61326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 = net filtration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Sympathetic Control of GFR (Extrinsic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the sympathetic nervous system is at res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al blood vessels are maximally dil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regulation mechanisms prev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der stres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repinephrine is released by the sympathetic nervous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pinephrine is released by the adrenal medull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Afferent arterioles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onstric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filtration is inhibi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e: during fight or flight blood is shunt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wa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kidneys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ympathetic nervous system also stimulates the r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enin-angiotensi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sm. This induces vasoconstriction of </a:t>
            </a: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efferent arterio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6769080" cy="5068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-36360" y="1557360"/>
            <a:ext cx="38163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= 125 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L 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% ex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28600" y="1294920"/>
            <a:ext cx="84470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w Cen MT"/>
              </a:rPr>
              <a:t>Why is it important to have the GFR regulated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gulation of GFR</a:t>
            </a:r>
            <a:br>
              <a:rPr sz="40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lomerular Filtration Rat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high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through tubules too rapidly to be absorb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rine output r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eates threat of dehydration and electrolyte de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lo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sluggishly through tubu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bules reabsorb wastes that should be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zotemia develops (high levels of nitrogen-containing substances in the bloo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controlled by adjusting glomerular blood pressure through the following mechanis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Autoregul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Sympathetic control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Hormonal mechanism: renin and angiotensi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↑↑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P </a:t>
            </a: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→ ↑↑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owever, the body maintains 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nstant GF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over an </a:t>
            </a:r>
            <a:r>
              <a:rPr b="1" i="1" lang="en-US" sz="2900" spc="-1" strike="noStrike">
                <a:solidFill>
                  <a:srgbClr val="a51b91"/>
                </a:solidFill>
                <a:latin typeface="Arial"/>
                <a:ea typeface="Arial"/>
              </a:rPr>
              <a:t>AB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range of </a:t>
            </a:r>
            <a:r>
              <a:rPr b="1" i="1" lang="en-US" sz="2900" spc="-1" strike="noStrike">
                <a:solidFill>
                  <a:srgbClr val="a51b91"/>
                </a:solidFill>
                <a:latin typeface="Arial"/>
                <a:ea typeface="Arial"/>
              </a:rPr>
              <a:t>75-16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Why? And ho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Effect of Arterial BP on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5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Content Placeholder 6" descr=""/>
          <p:cNvPicPr/>
          <p:nvPr/>
        </p:nvPicPr>
        <p:blipFill>
          <a:blip r:embed="rId1"/>
          <a:stretch/>
        </p:blipFill>
        <p:spPr>
          <a:xfrm>
            <a:off x="4676760" y="2144880"/>
            <a:ext cx="423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w Cen MT"/>
              </a:rPr>
              <a:t>Autoregulation (intrinsic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the relative constancy of GFR and renal blood flow in response to changes in blood pressure range from 75 to 160 mmHg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means in a normal kidneys, a decrease in arterial blood pressure as low as 75 mmHg, or an increase as high as 160 mmHg causes a change in GFR by only a few percentag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ever, autoregulation is not perfect but it prevents potentially great changes in GFR , with changes in blood pressure, therefore, kidney continue to excrete was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fImage" descr="showimage"/>
          <p:cNvPicPr/>
          <p:nvPr/>
        </p:nvPicPr>
        <p:blipFill>
          <a:blip r:embed="rId1"/>
          <a:srcRect l="14332" t="0" r="15597" b="5648"/>
          <a:stretch/>
        </p:blipFill>
        <p:spPr>
          <a:xfrm>
            <a:off x="3429000" y="685800"/>
            <a:ext cx="5207040" cy="55627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609480" y="1981080"/>
            <a:ext cx="2743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gency FB"/>
              </a:rPr>
              <a:t>GFR remains constant over a large range of values of B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gency FB"/>
              </a:rPr>
              <a:t>75-1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533520" y="609480"/>
            <a:ext cx="3581280" cy="114300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UTOREGUL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G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2:55:36Z</dcterms:created>
  <dc:creator>user</dc:creator>
  <dc:description/>
  <dc:language>en-US</dc:language>
  <cp:lastModifiedBy>Manan</cp:lastModifiedBy>
  <dcterms:modified xsi:type="dcterms:W3CDTF">2016-04-13T18:51:50Z</dcterms:modified>
  <cp:revision>22</cp:revision>
  <dc:subject/>
  <dc:title>Regulation of GFR</dc:title>
</cp:coreProperties>
</file>