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1.xml.rels" ContentType="application/vnd.openxmlformats-package.relationships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8.png" ContentType="image/png"/>
  <Override PartName="/ppt/media/image14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18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A196E-8BF7-46D2-8BB1-A2D0EC4D4315}" type="slidenum">
              <a:rPr b="0" lang="en-I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FD3B7-653F-4C00-9B1C-B79DEE0DF39C}" type="slidenum">
              <a:rPr b="0" lang="en-I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A08C7-6B12-4FD7-8AB0-79D401AF6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14CDD-6480-4D39-B6F7-DC9DDC2DE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1BB1D-745C-410C-8E6A-95C82BC8B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63D79-C63F-4D11-A5A4-37A812E1C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C7160-3F5C-4364-9583-F65924A65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648F1-F1B9-4728-9CE1-088681FF2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D5562-F1F8-4E37-B9C0-0FF371446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991C9-087C-488A-B556-3BD9BEB8E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CDE3E-3C24-47F5-8703-E0C4CE68D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F9726-831A-4CA0-A8D3-9F553C3B4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0EA7F-4973-49ED-9920-E0721BC8C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D4742-6F0C-4FE4-A659-FFF93187B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FBAB9-837D-4D46-AA94-A472FBF8EA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aahmeda@ksu.edu.sa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"/>
          <p:cNvSpPr/>
          <p:nvPr/>
        </p:nvSpPr>
        <p:spPr>
          <a:xfrm>
            <a:off x="858960" y="1171440"/>
            <a:ext cx="7446960" cy="708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0000"/>
                </a:solidFill>
                <a:latin typeface="Arial"/>
              </a:rPr>
              <a:t>Renal Transport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630720" y="2971800"/>
            <a:ext cx="4206960" cy="267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r. Mona Soliman, MBBS, MSc, Ph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ad, Medical Education Depar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sociate Professor of Physi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air of Cardiovascular 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llege of Medic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ing Saud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</a:rPr>
              <a:t>Dr. Ahmad Ahme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IE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ahmeda@ksu.edu.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6B4CE-4063-473C-86AF-A34FDE3188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" descr=""/>
          <p:cNvPicPr/>
          <p:nvPr/>
        </p:nvPicPr>
        <p:blipFill>
          <a:blip r:embed="rId2"/>
          <a:stretch/>
        </p:blipFill>
        <p:spPr>
          <a:xfrm>
            <a:off x="4876920" y="2976480"/>
            <a:ext cx="3208320" cy="250992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8080" y="655560"/>
            <a:ext cx="7391520" cy="1020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Tubular Transport Maximu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8487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 amino acids, T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Arial"/>
              </a:rPr>
              <a:t>m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so very high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no urinary excretion occu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owever, kidney does regulate some substances by means of the T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Arial"/>
              </a:rPr>
              <a:t>m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echanism, eg sulphate and phosphate ions. This is because T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Arial"/>
              </a:rPr>
              <a:t>m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s set at a level whereby the normal [plasma] causes saturation so any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bove the normal level will be excreted, therefore achieving its plasma regulation. (Also subject to PTH regulation for phosphate, PTH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reabsorptio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5E7D4-F5D2-482B-BFFA-D2289DE423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3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8" dur="5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ubular Reabsorp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4479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orted substances move through three membrane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uminal and basolateral membranes of tubule ce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othelium of peritubular capill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g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nd some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an be reabsorbed vi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acellula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thway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Content Placeholder 5" descr=""/>
          <p:cNvPicPr/>
          <p:nvPr/>
        </p:nvPicPr>
        <p:blipFill>
          <a:blip r:embed="rId1"/>
          <a:stretch/>
        </p:blipFill>
        <p:spPr>
          <a:xfrm>
            <a:off x="4187880" y="2514600"/>
            <a:ext cx="4384800" cy="2440080"/>
          </a:xfrm>
          <a:prstGeom prst="rect">
            <a:avLst/>
          </a:prstGeom>
          <a:ln w="0">
            <a:noFill/>
          </a:ln>
        </p:spPr>
      </p:pic>
      <p:sp>
        <p:nvSpPr>
          <p:cNvPr id="8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41FE6-C448-4712-AA75-48B3B29FE7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5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0" dur="5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5" dur="5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0" dur="500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086600" cy="990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ubular Reabsorp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Diagram 1" descr=""/>
          <p:cNvPicPr/>
          <p:nvPr/>
        </p:nvPicPr>
        <p:blipFill>
          <a:blip r:embed="rId1"/>
          <a:stretch/>
        </p:blipFill>
        <p:spPr>
          <a:xfrm>
            <a:off x="701640" y="2133720"/>
            <a:ext cx="7716960" cy="3706560"/>
          </a:xfrm>
          <a:prstGeom prst="rect">
            <a:avLst/>
          </a:prstGeom>
          <a:ln w="0">
            <a:noFill/>
          </a:ln>
        </p:spPr>
      </p:pic>
      <p:sp>
        <p:nvSpPr>
          <p:cNvPr id="8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8CA00-0920-4BAA-8912-5060B7749B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"/>
          <p:cNvPicPr/>
          <p:nvPr/>
        </p:nvPicPr>
        <p:blipFill>
          <a:blip r:embed="rId1"/>
          <a:srcRect l="4714" t="0" r="5662" b="0"/>
          <a:stretch/>
        </p:blipFill>
        <p:spPr>
          <a:xfrm>
            <a:off x="533520" y="2757600"/>
            <a:ext cx="8001000" cy="27288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7467840" cy="1676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tration, Excretion, and Reabsorption of Water, Electrolyte, and Solute by the Kidne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A717F-8E1A-4EA2-B35A-7725689190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dium Reabsorption: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imary Active Transpo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dium reabsorption is almost always by active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nters the tubule cells at the luminal membr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actively transported out of the tubules by a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K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TPas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Content Placeholder 2" descr=""/>
          <p:cNvPicPr/>
          <p:nvPr/>
        </p:nvPicPr>
        <p:blipFill>
          <a:blip r:embed="rId1"/>
          <a:stretch/>
        </p:blipFill>
        <p:spPr>
          <a:xfrm>
            <a:off x="4424400" y="2057400"/>
            <a:ext cx="4491000" cy="2589120"/>
          </a:xfrm>
          <a:prstGeom prst="rect">
            <a:avLst/>
          </a:prstGeom>
          <a:ln w="0">
            <a:noFill/>
          </a:ln>
        </p:spPr>
      </p:pic>
      <p:sp>
        <p:nvSpPr>
          <p:cNvPr id="9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8B397-ABEE-496C-9623-B95C7DFB02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7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2" dur="5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7" dur="50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2120" y="685440"/>
            <a:ext cx="7619760" cy="1066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Water &amp; Solute hand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213372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One of the main functions of nephr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- 25,000 mEq/day Na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179 L/day w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important solutes are linked either directly or indirectly to reabsorption of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6"/>
          <p:cNvSpPr/>
          <p:nvPr/>
        </p:nvSpPr>
        <p:spPr>
          <a:xfrm>
            <a:off x="4724280" y="3178080"/>
            <a:ext cx="217440" cy="647640"/>
          </a:xfrm>
          <a:custGeom>
            <a:avLst/>
            <a:gdLst>
              <a:gd name="textAreaLeft" fmla="*/ 0 w 217440"/>
              <a:gd name="textAreaRight" fmla="*/ 78480 w 217440"/>
              <a:gd name="textAreaTop" fmla="*/ 16560 h 647640"/>
              <a:gd name="textAreaBottom" fmla="*/ 6310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7"/>
          <p:cNvSpPr/>
          <p:nvPr/>
        </p:nvSpPr>
        <p:spPr>
          <a:xfrm>
            <a:off x="5181480" y="3139920"/>
            <a:ext cx="2667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bsorped daily by renal tub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6A0E4-CBC9-4B2F-95C8-9FFED9F3D7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4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9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2" dur="5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5" dur="500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685440"/>
            <a:ext cx="7619760" cy="1219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echanisms of tubular absorption &amp; secre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84872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ssiv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ilitated diffus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e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ocytosi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5"/>
          <p:cNvSpPr/>
          <p:nvPr/>
        </p:nvSpPr>
        <p:spPr>
          <a:xfrm>
            <a:off x="4038480" y="2895480"/>
            <a:ext cx="217440" cy="533520"/>
          </a:xfrm>
          <a:custGeom>
            <a:avLst/>
            <a:gdLst>
              <a:gd name="textAreaLeft" fmla="*/ 0 w 217440"/>
              <a:gd name="textAreaRight" fmla="*/ 78480 w 217440"/>
              <a:gd name="textAreaTop" fmla="*/ 13680 h 533520"/>
              <a:gd name="textAreaBottom" fmla="*/ 5198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6"/>
          <p:cNvSpPr/>
          <p:nvPr/>
        </p:nvSpPr>
        <p:spPr>
          <a:xfrm>
            <a:off x="4610160" y="2743200"/>
            <a:ext cx="3085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Down chemical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electrical grad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7"/>
          <p:cNvSpPr/>
          <p:nvPr/>
        </p:nvSpPr>
        <p:spPr>
          <a:xfrm>
            <a:off x="4076640" y="4267080"/>
            <a:ext cx="217440" cy="571680"/>
          </a:xfrm>
          <a:custGeom>
            <a:avLst/>
            <a:gdLst>
              <a:gd name="textAreaLeft" fmla="*/ 0 w 217440"/>
              <a:gd name="textAreaRight" fmla="*/ 78480 w 217440"/>
              <a:gd name="textAreaTop" fmla="*/ 14760 h 571680"/>
              <a:gd name="textAreaBottom" fmla="*/ 556920 h 571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4648320" y="4038480"/>
            <a:ext cx="34290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Against chemical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electrical gradient, need ener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lide Number Placeholder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86510-0719-4EEC-8190-D8D0669149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2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5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8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3" dur="5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6" dur="500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31520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</a:rPr>
              <a:t>Proximal convoluted tubule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a+ Reabsor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ky epithelium permeable to ions &amp; w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~ 70 % of Na+, Cl-, K+, water absorbed passively (follows Na+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+ Reabsorption (transcellular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Early PCT Na+ absorb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changed with H+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HCO3- reabsorb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organic substa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lucose, amino acids, lactate, 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4"/>
          <p:cNvSpPr/>
          <p:nvPr/>
        </p:nvSpPr>
        <p:spPr>
          <a:xfrm>
            <a:off x="5867280" y="4419720"/>
            <a:ext cx="293760" cy="1371600"/>
          </a:xfrm>
          <a:custGeom>
            <a:avLst/>
            <a:gdLst>
              <a:gd name="textAreaLeft" fmla="*/ 0 w 293760"/>
              <a:gd name="textAreaRight" fmla="*/ 106200 w 29376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6477120" y="4495680"/>
            <a:ext cx="148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en-IE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/K</a:t>
            </a:r>
            <a:r>
              <a:rPr b="0" lang="en-IE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-ATPase import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C695F-CE0D-4E78-A460-61E7D9C32E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9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42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47" dur="5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0" dur="5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3" dur="5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6" dur="500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9" dur="500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2" dur="500"/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9D93A-B817-4A77-96DE-93499188F5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5" descr=""/>
          <p:cNvPicPr/>
          <p:nvPr/>
        </p:nvPicPr>
        <p:blipFill>
          <a:blip r:embed="rId1"/>
          <a:stretch/>
        </p:blipFill>
        <p:spPr>
          <a:xfrm>
            <a:off x="1828800" y="609480"/>
            <a:ext cx="5472000" cy="563904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685800"/>
            <a:ext cx="4267080" cy="838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CT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a+ Reabsor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62120" y="1722600"/>
            <a:ext cx="3962160" cy="44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) NHE takes up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Causes reabsorption of HCO3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) Sympor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gluc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amino ac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lact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"/>
          <p:cNvPicPr/>
          <p:nvPr/>
        </p:nvPicPr>
        <p:blipFill>
          <a:blip r:embed="rId1"/>
          <a:stretch/>
        </p:blipFill>
        <p:spPr>
          <a:xfrm>
            <a:off x="4994280" y="609480"/>
            <a:ext cx="3540240" cy="5639040"/>
          </a:xfrm>
          <a:prstGeom prst="rect">
            <a:avLst/>
          </a:prstGeom>
          <a:ln w="0">
            <a:noFill/>
          </a:ln>
        </p:spPr>
      </p:pic>
      <p:sp>
        <p:nvSpPr>
          <p:cNvPr id="113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17608-16CE-4FB2-8807-1AC076CFF5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7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80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8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90" dur="5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93" dur="5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96" dur="500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99" dur="500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02" dur="500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7720" y="685440"/>
            <a:ext cx="762012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Learning Objective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762120" y="1904760"/>
            <a:ext cx="761976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 tubular reabsorption, tubular secretion, transcellular and paracellular transpor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y and describe mechanisms of tubular trans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be tubular reabsorption of sodium and wa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vise tubulo-glomerular feedback and describe its physiological import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y and describe mechanism involved in Glucose  reabsor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udy glucose titration curve in terms of renal threshold, tubular transport maximum, splay, excretion and filt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y the tubular site and describe how Amino Acids, HCO3-, P04- and Urea are reabsorb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47B33-1F1B-4E39-BAC3-6A044D7D14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lucose Reabsorp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3716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rom tubular lumen to tubular cell: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odium co-transporter (Carrier-mediated secondary active transpor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. Uphill transport of glucose driven by electro-chemical gradient of sodium, which is maintained by Na-K pump presents in basolateral cell membran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rom tubular cell to peritubular capillary: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Facilitated diffusion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Carrier-mediated passive transpor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5310E-DB90-4292-9E9F-B7462EC663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4" descr=""/>
          <p:cNvPicPr/>
          <p:nvPr/>
        </p:nvPicPr>
        <p:blipFill>
          <a:blip r:embed="rId1"/>
          <a:stretch/>
        </p:blipFill>
        <p:spPr>
          <a:xfrm>
            <a:off x="5186520" y="1600200"/>
            <a:ext cx="2962080" cy="452592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0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9A2C0-01D3-4649-BCCD-50A01466B8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4" descr=""/>
          <p:cNvPicPr/>
          <p:nvPr/>
        </p:nvPicPr>
        <p:blipFill>
          <a:blip r:embed="rId1"/>
          <a:stretch/>
        </p:blipFill>
        <p:spPr>
          <a:xfrm>
            <a:off x="646200" y="792000"/>
            <a:ext cx="7888320" cy="53038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CT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a+ Reabsor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5699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Late PC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+ Reabsorbed mainly with Cl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Why ?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ue to different transport mechanisms in late PCT,  lack of organic molecul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) Transcellula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Na+ entry using NHE &amp; 1 or 2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anion antipor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51C8E-709C-434A-9446-2D062FEC3D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4" descr=""/>
          <p:cNvPicPr/>
          <p:nvPr/>
        </p:nvPicPr>
        <p:blipFill>
          <a:blip r:embed="rId1"/>
          <a:stretch/>
        </p:blipFill>
        <p:spPr>
          <a:xfrm>
            <a:off x="4419720" y="2268360"/>
            <a:ext cx="4267080" cy="337032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16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21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26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31" dur="5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4479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b) Paracellula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passive diffusion) With Cl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iven by high [Cl-] in tub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40mEq/L in the tubule lumen and 105 mEq/L in interstitiu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conc. gradient favors diffusion of Cl- from the tubular lumen a cross the tight junction into the lateral intercellular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BC0CB-18A7-478C-9CBC-707011A9A9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2"/>
          <p:cNvSpPr/>
          <p:nvPr/>
        </p:nvSpPr>
        <p:spPr>
          <a:xfrm>
            <a:off x="457200" y="304920"/>
            <a:ext cx="82296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a+ Reabsor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4" descr=""/>
          <p:cNvPicPr/>
          <p:nvPr/>
        </p:nvPicPr>
        <p:blipFill>
          <a:blip r:embed="rId1"/>
          <a:stretch/>
        </p:blipFill>
        <p:spPr>
          <a:xfrm>
            <a:off x="4648320" y="1914480"/>
            <a:ext cx="4038480" cy="319104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38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3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8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3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8" dur="5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320" y="639720"/>
            <a:ext cx="7086600" cy="960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rea Reabsorp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838080" y="17226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rmal plasma level of urea 2.5-6.5 mM/L (15-39 mg/100ml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Mechanism of urea reabsorp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bout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40-70%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f filtered load of urea is reabsorped in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half of PC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dullary CT and CD (ADH dependent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ue to water reabsorption in the first half of PCT, the conc. of urea is increased in the second half and urea is reabsorbed by simple diffusion (downhill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F40AB-1DA7-4CF8-8269-F5B09BA9CB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5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5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500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500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500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764E2-A1C8-4D83-83D0-72E0C693DE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2" descr=""/>
          <p:cNvPicPr/>
          <p:nvPr/>
        </p:nvPicPr>
        <p:blipFill>
          <a:blip r:embed="rId1"/>
          <a:srcRect l="0" t="0" r="50003" b="58889"/>
          <a:stretch/>
        </p:blipFill>
        <p:spPr>
          <a:xfrm>
            <a:off x="2133720" y="690480"/>
            <a:ext cx="4800600" cy="555804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609480"/>
            <a:ext cx="7315200" cy="10670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ater reabsorp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62120" y="1752120"/>
            <a:ext cx="761976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T cells permeable to w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T Reabsorbs 67% of filtered wa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tubular Passive (osmosis), due to osmotic active substances that are absorbed e.g.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glucose, HCO3-, Cl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bule osmol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acellular space osmolali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2DBBC-ADCE-41D3-95EA-E38C68F039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93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98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3" dur="5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8" dur="500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13" dur="500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4" descr=""/>
          <p:cNvPicPr/>
          <p:nvPr/>
        </p:nvPicPr>
        <p:blipFill>
          <a:blip r:embed="rId1"/>
          <a:stretch/>
        </p:blipFill>
        <p:spPr>
          <a:xfrm>
            <a:off x="1143000" y="609480"/>
            <a:ext cx="6934320" cy="5608800"/>
          </a:xfrm>
          <a:prstGeom prst="rect">
            <a:avLst/>
          </a:prstGeom>
          <a:ln w="0">
            <a:noFill/>
          </a:ln>
        </p:spPr>
      </p:pic>
      <p:sp>
        <p:nvSpPr>
          <p:cNvPr id="138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32FF7-FCF1-48B0-9E16-C7C59C2887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7543800" cy="990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ater reabsorp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696080" cy="46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vent drag: K+, Ca2+, carried with water &amp; hence reabsorb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ccumulation of fluid and solutes within the lateral intercellular space increases hydrostatic pressure in this compart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ncreased hydrostatic pressure forces fluid and solutes into the capillaries. Thus, water reabsorption follows solu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 proximal tubule reabsorption is isosmoti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0A234-4A5C-4FFC-9C12-212818689B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20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25" dur="5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30" dur="5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35" dur="500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61760" y="685800"/>
            <a:ext cx="7543800" cy="838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otein reabsorp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ptide hormones, small proteins &amp; amino acids reabsorbed in P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go Endocytosis into PCT, either intact or after being partially degraded by enzy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ce protein inside the cell, enzyme digest them into amino acids, which leave the cell to bloo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 a maximum capa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too much protein filtered = proteinu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F9B05-80A2-4F68-8C97-4C0D31F78F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42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47" dur="5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52" dur="500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57" dur="500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62" dur="500"/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1760" y="685800"/>
            <a:ext cx="7467480" cy="990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nal Thresho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09480" y="179856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When the plasma concentration of the substance is beyond it </a:t>
            </a:r>
            <a:r>
              <a:rPr b="0" lang="en-IE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 the substance begins to appear in uri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At this level </a:t>
            </a:r>
            <a:r>
              <a:rPr b="0" lang="en-IE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 the filtered load exceeds the absorptive capacity of the tubu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Substances of high threshold: glucose, amino acids &amp; vitami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Substances of medium threshold: K+ &amp; ure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Substances of low threshold: phosphate &amp; uric ac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Substances of no threshold: creatinine, mannitol &amp; inul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5AF27-09C2-4BAD-91D4-5754F5C39F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838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rganic ion/cation secre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696080" cy="44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Endogenous compou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End products of metabol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Bile sa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Creatin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Catecholamines (adrenaline, noradrenailn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Exogenous compou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Penicill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NSAIDs (e.g. ibuprof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Morph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35657-2133-4EAB-BDAA-39E6C7AF50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69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72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75" dur="5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78" dur="50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81" dur="500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86" dur="500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89" dur="500"/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92" dur="500"/>
                                        <p:tgtEl>
                                          <p:spTgt spid="1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95" dur="500"/>
                                        <p:tgtEl>
                                          <p:spTgt spid="1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CO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reabsorp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3716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renal tubules are poorly-permeable to HCO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 However, it is still reabsorbed but in the form of CO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(to which the tubules are very highly permeable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s occurs through the following step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is formed inside the cells then secreted in the tubular flui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combines with HCO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in the tubular fluid forming H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BD4B1-74AF-4563-ADE9-D5C861C9B2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3" descr=""/>
          <p:cNvPicPr/>
          <p:nvPr/>
        </p:nvPicPr>
        <p:blipFill>
          <a:blip r:embed="rId1"/>
          <a:stretch/>
        </p:blipFill>
        <p:spPr>
          <a:xfrm>
            <a:off x="4419720" y="2133720"/>
            <a:ext cx="4244760" cy="32004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2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7" dur="5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5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5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762120"/>
            <a:ext cx="7239240" cy="8841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HCO</a:t>
            </a:r>
            <a:r>
              <a:rPr b="1" lang="en-US" sz="4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4400" spc="-1" strike="noStrike" baseline="30000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reabsor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85800" y="1828440"/>
            <a:ext cx="73915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550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y activity of the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carbonic anhydrase enzyme (C.A.)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the tubular cells, H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dissociates into CO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&amp; H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550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diffuses into the cells where it combines with H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 (by activity of an intracellular C.A.), forming H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which dissociates into HCO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&amp; H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550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CO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passively diffuses into the interstitial fluid (then to the blood) while H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is secreted into the tubular fluid to help more reabsorption of HCO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48558-D313-430B-9701-35798BD870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9" dur="5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500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685800"/>
            <a:ext cx="7391520" cy="8841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HCO</a:t>
            </a:r>
            <a:r>
              <a:rPr b="1" lang="en-US" sz="4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4400" spc="-1" strike="noStrike" baseline="30000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reabsor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990360" y="1904760"/>
            <a:ext cx="70102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actors affecting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CO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reabsorption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rterial Pco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lasma[K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lasma Aldosteron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lasma [cl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E131C-6584-4EB2-BF3F-A493BF8E91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1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6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6" dur="500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1" dur="500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uyton and Hall Textbook of physi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pter 2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DE2E7-2E94-4B5A-8E3F-586275F832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WordArt 2"/>
          <p:cNvSpPr txBox="1"/>
          <p:nvPr/>
        </p:nvSpPr>
        <p:spPr>
          <a:xfrm>
            <a:off x="2057400" y="1371600"/>
            <a:ext cx="5486400" cy="380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Thanks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163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55C53-41E1-4960-BE65-2B6086F171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F1099-9FAD-432F-A394-9580CED5AA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2" descr=""/>
          <p:cNvPicPr/>
          <p:nvPr/>
        </p:nvPicPr>
        <p:blipFill>
          <a:blip r:embed="rId1"/>
          <a:stretch/>
        </p:blipFill>
        <p:spPr>
          <a:xfrm>
            <a:off x="2573280" y="0"/>
            <a:ext cx="3997440" cy="68580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8C3EA-1B15-46BA-9DE4-ED87F4BAAF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2" descr=""/>
          <p:cNvPicPr/>
          <p:nvPr/>
        </p:nvPicPr>
        <p:blipFill>
          <a:blip r:embed="rId1"/>
          <a:stretch/>
        </p:blipFill>
        <p:spPr>
          <a:xfrm>
            <a:off x="2136600" y="0"/>
            <a:ext cx="4870800" cy="68580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2120" y="685440"/>
            <a:ext cx="761976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0000"/>
                </a:solidFill>
                <a:latin typeface="Arial"/>
              </a:rPr>
              <a:t>Tubular transport maximu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761760" y="2133720"/>
            <a:ext cx="75438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3200" spc="-1" strike="noStrike">
                <a:solidFill>
                  <a:srgbClr val="000000"/>
                </a:solidFill>
                <a:latin typeface="Arial"/>
              </a:rPr>
              <a:t>Defini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It is the maximal amount of a substance (in mg) which can be transported (reabsorbed or secreted) by tubular cells/m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F8255-3316-4D51-9947-9977D00B5A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69608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Tubular Transport Maximum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6197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y substances are reabsorbed by carrier mediated transport systems e.g. glucose, amino acids, organic acids, sulphate and phosphate 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rriers have a maximum transport capacity (</a:t>
            </a: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T</a:t>
            </a:r>
            <a:r>
              <a:rPr b="1" lang="en-GB" sz="2400" spc="-1" strike="noStrike" baseline="-25000">
                <a:solidFill>
                  <a:srgbClr val="ff3300"/>
                </a:solidFill>
                <a:latin typeface="Arial"/>
              </a:rPr>
              <a:t>m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ich is due to </a:t>
            </a:r>
            <a:r>
              <a:rPr b="1" lang="en-GB" sz="2400" spc="-1" strike="noStrike">
                <a:solidFill>
                  <a:srgbClr val="ff0066"/>
                </a:solidFill>
                <a:latin typeface="Arial"/>
              </a:rPr>
              <a:t>saturatio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of the carriers. If T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Arial"/>
              </a:rPr>
              <a:t>m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s exceeded, then the excess substrate enters the uri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lucose is </a:t>
            </a:r>
            <a:r>
              <a:rPr b="1" lang="en-GB" sz="2400" spc="-1" strike="noStrike">
                <a:solidFill>
                  <a:srgbClr val="ff0066"/>
                </a:solidFill>
                <a:latin typeface="Arial"/>
              </a:rPr>
              <a:t>freely filtere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, so whatever its [plasma] that will be filte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B3D6B-1EB8-4DE6-881A-EC09098468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9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4" dur="5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9" dur="5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771480" y="760320"/>
            <a:ext cx="7686720" cy="5335560"/>
          </a:xfrm>
          <a:prstGeom prst="rect">
            <a:avLst/>
          </a:prstGeom>
          <a:ln w="0">
            <a:noFill/>
          </a:ln>
        </p:spPr>
      </p:pic>
      <p:sp>
        <p:nvSpPr>
          <p:cNvPr id="65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FA82C-C238-4417-A0BF-A30C858058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650880" y="635040"/>
            <a:ext cx="7883640" cy="5537160"/>
          </a:xfrm>
          <a:prstGeom prst="rect">
            <a:avLst/>
          </a:prstGeom>
          <a:ln w="0">
            <a:noFill/>
          </a:ln>
        </p:spPr>
      </p:pic>
      <p:sp>
        <p:nvSpPr>
          <p:cNvPr id="67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6CEE5-E178-4164-BCF1-DFD99387E0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18960" y="685800"/>
            <a:ext cx="7010280" cy="838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Tubular Transport Maximu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3160" y="182880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n man for plasma glucose up to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80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mg/dl, all will be </a:t>
            </a:r>
            <a:r>
              <a:rPr b="1" lang="en-GB" sz="2200" spc="-1" strike="noStrike">
                <a:solidFill>
                  <a:srgbClr val="333399"/>
                </a:solidFill>
                <a:latin typeface="Arial"/>
              </a:rPr>
              <a:t>reabsorbed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. Beyond this level of plasma [glucose], it appears in the urine = Renal plasma threshold for glucos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If plasma [glucose] = 275 mg/dl, 275 mg/dl will be filtered, 180mg/dl reabsorbed and 90 mg/dl excreted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Kidney does NOT regulate [glucose], (insulin and glucagon). Normal [glucose] of 90 mg/dl,  so T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Arial"/>
              </a:rPr>
              <a:t>m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s set way above any possible level of (non-diabetic) [glucose] at 360 mg/dl. Thus, ensure that all this valuable nutrient is normally reabsorbed. The appearance of glucose in the urine of diabetic patients = glycosuria, is due to failure of insulin, NOT, the kidne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234B6-0396-4744-8184-0F71D7832F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6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1" dur="5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6" dur="5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Slide Number Placeholder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AD86A-C566-414E-A6FB-F4D8FFB0E1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2" descr=""/>
          <p:cNvPicPr/>
          <p:nvPr/>
        </p:nvPicPr>
        <p:blipFill>
          <a:blip r:embed="rId1"/>
          <a:srcRect l="0" t="0" r="65132" b="0"/>
          <a:stretch/>
        </p:blipFill>
        <p:spPr>
          <a:xfrm>
            <a:off x="609480" y="609480"/>
            <a:ext cx="2764080" cy="56451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" descr=""/>
          <p:cNvPicPr/>
          <p:nvPr/>
        </p:nvPicPr>
        <p:blipFill>
          <a:blip r:embed="rId2"/>
          <a:stretch/>
        </p:blipFill>
        <p:spPr>
          <a:xfrm>
            <a:off x="3429000" y="609480"/>
            <a:ext cx="5094360" cy="564516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soliman1</dc:creator>
  <dc:description/>
  <dc:language>en-US</dc:language>
  <cp:lastModifiedBy>msoliman1</cp:lastModifiedBy>
  <dcterms:modified xsi:type="dcterms:W3CDTF">2016-04-24T08:25:01Z</dcterms:modified>
  <cp:revision>24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