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8.png" ContentType="image/png"/>
  <Override PartName="/ppt/media/image14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9F5A-F2BF-47F2-9C83-6EFA6699D186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D8A9-05D0-4B93-8A8A-FC9DB79F02B6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B059-C5A5-4F87-B8B0-84DE465B6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8650-053D-4412-BAAC-68857139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A98C-B467-4833-AD3D-BC62B80F7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77C8-3DD4-466B-A194-0DA29AE8C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5357-3721-4A57-8FCA-720FAC2F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0BEA-85DC-4832-B090-FCD653B4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CB4B-44DD-4B68-A854-89A64FC3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EFC0-BB2C-4B8A-86E8-58104B47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4FB2-B621-44A7-A0E0-BA864047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B314-0454-410B-89DA-7059286E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B330-0DC4-493A-8C7D-CE33C88A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9366-2D9C-4358-A830-BB5D1A9B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F6E7-2FFF-475F-9785-9FAB70ADE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ahmeda@ksu.edu.sa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858960" y="1171440"/>
            <a:ext cx="7446960" cy="70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Renal Transport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630720" y="2971800"/>
            <a:ext cx="4206960" cy="26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. Mona Soliman, MBBS, MSc, Ph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d, Medical Education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ociate Professor of Phys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ir of Cardiovascular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lege of Med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Dr. Ahmad Ahme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E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ahmeda@ksu.edu.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8FE2-BBFB-4491-8D4B-5B0D94392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4876920" y="2976480"/>
            <a:ext cx="3208320" cy="2509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655560"/>
            <a:ext cx="7391520" cy="1020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ubular Transport Maxim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amino acids,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so very high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no urinary excretion occ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, kidney does regulate some substances by means of the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chanism, eg sulphate and phosphate ions. This is because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set at a level whereby the normal [plasma] causes saturation so any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bove the normal level will be excreted, therefore achieving its plasma regulation. (Also subject to PTH regulation for phosphate, PTH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absorp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9A52-CB36-42C1-84A5-EA9057A4A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ubular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ed substances move through three membran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minal and basolateral membranes of tubule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othelium of peritubular capill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some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reabsorbed vi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cellul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th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Content Placeholder 5" descr=""/>
          <p:cNvPicPr/>
          <p:nvPr/>
        </p:nvPicPr>
        <p:blipFill>
          <a:blip r:embed="rId1"/>
          <a:stretch/>
        </p:blipFill>
        <p:spPr>
          <a:xfrm>
            <a:off x="4187880" y="2514600"/>
            <a:ext cx="4384800" cy="2440080"/>
          </a:xfrm>
          <a:prstGeom prst="rect">
            <a:avLst/>
          </a:prstGeom>
          <a:ln w="0">
            <a:noFill/>
          </a:ln>
        </p:spPr>
      </p:pic>
      <p:sp>
        <p:nvSpPr>
          <p:cNvPr id="8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20D7-6FEC-49F2-83D9-0E272DF0C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0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5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0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08660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ubular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Diagram 1" descr=""/>
          <p:cNvPicPr/>
          <p:nvPr/>
        </p:nvPicPr>
        <p:blipFill>
          <a:blip r:embed="rId1"/>
          <a:stretch/>
        </p:blipFill>
        <p:spPr>
          <a:xfrm>
            <a:off x="701640" y="2133720"/>
            <a:ext cx="7716960" cy="3706560"/>
          </a:xfrm>
          <a:prstGeom prst="rect">
            <a:avLst/>
          </a:prstGeom>
          <a:ln w="0">
            <a:noFill/>
          </a:ln>
        </p:spPr>
      </p:pic>
      <p:sp>
        <p:nvSpPr>
          <p:cNvPr id="8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CD2C-075D-4849-B78F-3452FA6BC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rcRect l="4714" t="0" r="5662" b="0"/>
          <a:stretch/>
        </p:blipFill>
        <p:spPr>
          <a:xfrm>
            <a:off x="533520" y="2757600"/>
            <a:ext cx="8001000" cy="2728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467840" cy="167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tration, Excretion, and Reabsorption of Water, Electrolyte, and Solute by the Kidn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4B02-4DF4-4C97-B8DE-599D40E64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dium Reabsorption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mary Active Trans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dium reabsorption is almost always by activ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ters the tubule cells at the luminal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ctively transported out of the tubules by 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TPa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Content Placeholder 2" descr=""/>
          <p:cNvPicPr/>
          <p:nvPr/>
        </p:nvPicPr>
        <p:blipFill>
          <a:blip r:embed="rId1"/>
          <a:stretch/>
        </p:blipFill>
        <p:spPr>
          <a:xfrm>
            <a:off x="4424400" y="2057400"/>
            <a:ext cx="4491000" cy="2589120"/>
          </a:xfrm>
          <a:prstGeom prst="rect">
            <a:avLst/>
          </a:prstGeom>
          <a:ln w="0">
            <a:noFill/>
          </a:ln>
        </p:spPr>
      </p:pic>
      <p:sp>
        <p:nvSpPr>
          <p:cNvPr id="9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0F30-842B-4F46-8C96-26CDB07E3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61976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Water &amp; Solute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One of the main functions of neph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- 25,000 mEq/day Na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179 L/day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important solutes are linked either directly or indirectly to reabsorption of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4724280" y="3178080"/>
            <a:ext cx="217440" cy="647640"/>
          </a:xfrm>
          <a:custGeom>
            <a:avLst/>
            <a:gdLst>
              <a:gd name="textAreaLeft" fmla="*/ 0 w 217440"/>
              <a:gd name="textAreaRight" fmla="*/ 78480 w 21744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5181480" y="313992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bsorped daily by renal tub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FA2B-1E38-4826-B89F-B4EBE7EF8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2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5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61976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chanisms of tubular absorption &amp; secre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848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d diffu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ocyto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4038480" y="2895480"/>
            <a:ext cx="217440" cy="533520"/>
          </a:xfrm>
          <a:custGeom>
            <a:avLst/>
            <a:gdLst>
              <a:gd name="textAreaLeft" fmla="*/ 0 w 217440"/>
              <a:gd name="textAreaRight" fmla="*/ 78480 w 21744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4610160" y="2743200"/>
            <a:ext cx="308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own chemica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electrical grad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4076640" y="4267080"/>
            <a:ext cx="217440" cy="571680"/>
          </a:xfrm>
          <a:custGeom>
            <a:avLst/>
            <a:gdLst>
              <a:gd name="textAreaLeft" fmla="*/ 0 w 217440"/>
              <a:gd name="textAreaRight" fmla="*/ 78480 w 217440"/>
              <a:gd name="textAreaTop" fmla="*/ 14760 h 571680"/>
              <a:gd name="textAreaBottom" fmla="*/ 55692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4648320" y="4038480"/>
            <a:ext cx="3429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gainst chemica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electrical gradient, need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A42B-59BB-4B60-9AF5-73E330D1E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8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3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3152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Proximal convoluted tubul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+ Reabsor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y epithelium permeable to ions &amp;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 70 % of Na+, Cl-, K+, water absorbed passively (follows Na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+ Reabsorption (transcellular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arly PCT Na+ absorb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hanged with H+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HCO3- re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organic sub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ucose, amino acids, lactate, 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5867280" y="4419720"/>
            <a:ext cx="293760" cy="1371600"/>
          </a:xfrm>
          <a:custGeom>
            <a:avLst/>
            <a:gdLst>
              <a:gd name="textAreaLeft" fmla="*/ 0 w 293760"/>
              <a:gd name="textAreaRight" fmla="*/ 106200 w 29376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477120" y="4495680"/>
            <a:ext cx="148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IE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/K</a:t>
            </a:r>
            <a:r>
              <a:rPr b="0" lang="en-IE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-ATPase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1F71-D94C-4174-B6D5-5A38E5065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7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6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9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2" dur="5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D91B-4977-4940-B819-E0754094C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72000" cy="5639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4267080" cy="838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C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+ Reabsor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722600"/>
            <a:ext cx="396216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NHE takes up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auses reabsorption of HCO3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Sympor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gluc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mino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act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4994280" y="609480"/>
            <a:ext cx="3540240" cy="5639040"/>
          </a:xfrm>
          <a:prstGeom prst="rect">
            <a:avLst/>
          </a:prstGeom>
          <a:ln w="0">
            <a:noFill/>
          </a:ln>
        </p:spPr>
      </p:pic>
      <p:sp>
        <p:nvSpPr>
          <p:cNvPr id="11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577E-F8A0-4F79-B957-B28DBB503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0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0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3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6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9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2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Learning Objectiv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tubular reabsorption, tubular secretion, transcellular and paracellular trans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and describe mechanisms of tubular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ubular reabsorption of sodium and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e tubulo-glomerular feedback and describe its physiological impor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and describe mechanism involved in Glucose  reabsor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y glucose titration curve in terms of renal threshold, tubular transport maximum, splay, excretion and fil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ubular site and describe how Amino Acids, HCO3-, P04- and Urea are reabsorb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87FA-F1BC-4DD0-8B76-60FBFB936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lucose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3716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m tubular lumen to tubular cell: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odium co-transporter (Carrier-mediated secondary active transpor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. Uphill transport of glucose driven by electro-chemical gradient of sodium, which is maintained by Na-K pump presents in basolateral cell membra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m tubular cell to peritubular capillary: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Facilitated diffusio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arrier-mediated passive transpor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85CD-28F1-4A8D-9667-593DCE4EA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5186520" y="1600200"/>
            <a:ext cx="2962080" cy="4525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0305E-B8FE-4185-906B-C4D554767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46200" y="792000"/>
            <a:ext cx="7888320" cy="5303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C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+ Re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5699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ate P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+ Reabsorbed mainly with Cl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hy 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e to different transport mechanisms in late PCT,  lack of organic molecu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) Transcellul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Na+ entry using NHE &amp; 1 or 2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nion antipo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DCD9-DA27-40FD-959A-371943175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4419720" y="2268360"/>
            <a:ext cx="4267080" cy="33703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6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1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) Paracellul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assive diffusion) With Cl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n by high [Cl-] in tub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0mEq/L in the tubule lumen and 105 mEq/L in interstit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onc. gradient favors diffusion of Cl- from the tubular lumen a cross the tight junction into the lateral intercellular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39D7E-A11B-40BC-97AD-C7F857D8A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+ Re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4648320" y="1914480"/>
            <a:ext cx="4038480" cy="3191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3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8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8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639720"/>
            <a:ext cx="7086600" cy="96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rea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17226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rmal plasma level of urea 2.5-6.5 mM/L (15-39 mg/100m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Mechanism of urea reabsorp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out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40-70%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filtered load of urea is reabsorped i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half of P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ullary CT and CD (ADH depende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e to water reabsorption in the first half of PCT, the conc. of urea is increased in the second half and urea is reabsorbed by simple diffusion (downhil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1EB2-D9F1-4FB0-82C9-1440A317D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A4B2-10B0-4AE1-94EF-7953DA700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rcRect l="0" t="0" r="50003" b="58889"/>
          <a:stretch/>
        </p:blipFill>
        <p:spPr>
          <a:xfrm>
            <a:off x="2133720" y="690480"/>
            <a:ext cx="4800600" cy="5558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15200" cy="1067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6197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T cells permeable to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T Reabsorbs 67% of filtered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tubular Passive (osmosis), due to osmotic active substances that are absorbed e.g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lucose, HCO3-, Cl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bule osmol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acellular space osmol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CE51-4821-4F3A-9E7A-BB214E18A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8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3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8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3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6934320" cy="5608800"/>
          </a:xfrm>
          <a:prstGeom prst="rect">
            <a:avLst/>
          </a:prstGeom>
          <a:ln w="0">
            <a:noFill/>
          </a:ln>
        </p:spPr>
      </p:pic>
      <p:sp>
        <p:nvSpPr>
          <p:cNvPr id="13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07B4-5833-4B63-BF61-2AAFCEF0C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54380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69608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nt drag: K+, Ca2+, carried with water &amp; hence re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cumulation of fluid and solutes within the lateral intercellular space increases hydrostatic pressure in this compart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creased hydrostatic pressure forces fluid and solutes into the capillaries. Thus, water reabsorption follows sol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 proximal tubule reabsorption is isosmot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757F-E408-48EB-93A2-19E893000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5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0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5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685800"/>
            <a:ext cx="7543800" cy="838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tein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ptide hormones, small proteins &amp; amino acids reabsorbed in P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 Endocytosis into PCT, either intact or after being partially degraded by enzy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protein inside the cell, enzyme digest them into amino acids, which leave the cell to bl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a maximum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oo much protein filtered = proteinu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8662-5EF0-4586-ABC5-B00147B35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7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2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7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2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685800"/>
            <a:ext cx="746748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nal Thresh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9480" y="179856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When the plasma concentration of the substance is beyond it </a:t>
            </a: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the substance begins to appear in ur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t this level </a:t>
            </a: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the filtered load exceeds the absorptive capacity of the tub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ubstances of high threshold: glucose, amino acids &amp; vitam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ubstances of medium threshold: K+ &amp; u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ubstances of low threshold: phosphate &amp; uric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ubstances of no threshold: creatinine, mannitol &amp; inul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B1B8-2632-4FA1-B097-5927224C8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ganic ion/cation secre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6960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ndogenous compou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nd products of metabo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Bile sa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reatin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atecholamines (adrenaline, noradrenail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xogenous compou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enicil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NSAIDs (e.g. ibuprof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orp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48E9-6A5A-4343-BE78-E06EA7E72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5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8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1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6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9" dur="5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2" dur="5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5" dur="500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C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nal tubules are poorly-permeable to H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However, it is still reabsorbed but in the form of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to which the tubules are very highly permeabl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occurs through the following step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formed inside the cells then secreted in the tubular flui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mbines with H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 the tubular fluid forming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9247-04C8-4BE7-9C45-78C71F397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4419720" y="2133720"/>
            <a:ext cx="4244760" cy="3200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762120"/>
            <a:ext cx="7239240" cy="884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C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reabsor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82844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 activity of th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arbonic anhydrase enzyme (C.A.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e tubular cells,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issociates into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&amp;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iffuses into the cells where it combines with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 (by activity of an intracellular C.A.), forming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hich dissociates into H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&amp; H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assively diffuses into the interstitial fluid (then to the blood) while H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secreted into the tubular fluid to help more reabsorption of H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DF26-01D0-49D9-AAEF-6E7C7F048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391520" cy="884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C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reabsor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90360" y="1904760"/>
            <a:ext cx="7010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tors affecting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C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eabsorp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terial P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sma[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sma Aldoster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sma [cl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42F0-FFAD-42D7-AEA7-CA064B81E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yton and Hall Textbook of phys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66A6-6318-42DC-A0BD-F9339C3FA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2"/>
          <p:cNvSpPr txBox="1"/>
          <p:nvPr/>
        </p:nvSpPr>
        <p:spPr>
          <a:xfrm>
            <a:off x="2057400" y="1371600"/>
            <a:ext cx="54864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ank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63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38AF-B3CA-42DD-AF9E-99DEB386A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36A0-7632-437F-A22F-ECB27745E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2573280" y="0"/>
            <a:ext cx="399744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516D-45E3-465A-89FF-86EB0A96A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2136600" y="0"/>
            <a:ext cx="48708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61976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Tubular transport maxim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61760" y="213372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It is the maximal amount of a substance (in mg) which can be transported (reabsorbed or secreted) by tubular cells/m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22F3-7952-4551-B03F-6997255FA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69608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ubular Transport Maximu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substances are reabsorbed by carrier mediated transport systems e.g. glucose, amino acids, organic acids, sulphate and phosphate 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riers have a maximum transport capacity (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1" lang="en-GB" sz="2400" spc="-1" strike="noStrike" baseline="-25000">
                <a:solidFill>
                  <a:srgbClr val="ff3300"/>
                </a:solidFill>
                <a:latin typeface="Arial"/>
              </a:rPr>
              <a:t>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is due to </a:t>
            </a:r>
            <a:r>
              <a:rPr b="1" lang="en-GB" sz="2400" spc="-1" strike="noStrike">
                <a:solidFill>
                  <a:srgbClr val="ff0066"/>
                </a:solidFill>
                <a:latin typeface="Arial"/>
              </a:rPr>
              <a:t>satur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f the carriers. If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exceeded, then the excess substrate enters the ur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is </a:t>
            </a:r>
            <a:r>
              <a:rPr b="1" lang="en-GB" sz="2400" spc="-1" strike="noStrike">
                <a:solidFill>
                  <a:srgbClr val="ff0066"/>
                </a:solidFill>
                <a:latin typeface="Arial"/>
              </a:rPr>
              <a:t>freely filter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so whatever its [plasma] that will be filte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404F-A63E-4D02-BE68-1E04ACA64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771480" y="760320"/>
            <a:ext cx="7686720" cy="5335560"/>
          </a:xfrm>
          <a:prstGeom prst="rect">
            <a:avLst/>
          </a:prstGeom>
          <a:ln w="0">
            <a:noFill/>
          </a:ln>
        </p:spPr>
      </p:pic>
      <p:sp>
        <p:nvSpPr>
          <p:cNvPr id="6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C26F-B48C-4784-AEEC-692A1320B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650880" y="635040"/>
            <a:ext cx="7883640" cy="5537160"/>
          </a:xfrm>
          <a:prstGeom prst="rect">
            <a:avLst/>
          </a:prstGeom>
          <a:ln w="0">
            <a:noFill/>
          </a:ln>
        </p:spPr>
      </p:pic>
      <p:sp>
        <p:nvSpPr>
          <p:cNvPr id="6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11E7-FE26-4AD0-B3F9-97CD5A6E1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7010280" cy="838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ubular Transport Maxim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 man for plasma glucose up to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mg/dl, all will be </a:t>
            </a: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reabsorbed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 Beyond this level of plasma [glucose], it appears in the urine = Renal plasma threshold for gluco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f plasma [glucose] = 275 mg/dl, 275 mg/dl will be filtered, 180mg/dl reabsorbed and 90 mg/dl excrete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Kidney does NOT regulate [glucose], (insulin and glucagon). Normal [glucose] of 90 mg/dl,  so T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s set way above any possible level of (non-diabetic) [glucose] at 360 mg/dl. Thus, ensure that all this valuable nutrient is normally reabsorbed. The appearance of glucose in the urine of diabetic patients = glycosuria, is due to failure of insulin, NOT, the kidne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0E5C-0F4E-437B-8779-E38BB6442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9001-F8A6-477B-9412-FA0CC9A20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rcRect l="0" t="0" r="65132" b="0"/>
          <a:stretch/>
        </p:blipFill>
        <p:spPr>
          <a:xfrm>
            <a:off x="609480" y="609480"/>
            <a:ext cx="2764080" cy="5645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3429000" y="609480"/>
            <a:ext cx="5094360" cy="5645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soliman1</dc:creator>
  <dc:description/>
  <dc:language>en-US</dc:language>
  <cp:lastModifiedBy>msoliman1</cp:lastModifiedBy>
  <dcterms:modified xsi:type="dcterms:W3CDTF">2016-04-24T08:25:01Z</dcterms:modified>
  <cp:revision>2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