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6712-9BD6-4AFF-A48A-29E7E6F1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45CE-CEEF-44C6-B9C7-B45904BE82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48D-A5E1-4A04-BB6A-C7E2413B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542-B4C0-47E6-B794-19FA5C8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73084-EF8E-45CF-8F7E-0F87654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0AE1-A7B1-4226-BEA2-4C73D54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AB4C3-6638-40E8-B14A-8697EC5E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362A6-0E62-4AA4-B6E6-8FCB8F25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11AFD-0709-4CF0-989D-7E5716A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FBFEB-AF1C-408F-921E-256161E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056ED-EE39-47AE-92A7-03FC36E2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C8BAE-861A-4C98-8D26-A0D45888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20C2B-5307-4756-A4E5-BC732B5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A992B-9A6D-4F06-A5AA-F552FDFC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8CE-57AB-4EEE-9B13-BFCE08E0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87782-46E4-41BE-A067-F7A15295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2EE71-34C4-473E-8FBD-26DEBC4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48B57-7380-4BA5-8DF8-727DF90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12397-6FC6-4065-8D5D-E4C393F1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1E781-AD3D-4553-A0AC-881B8A4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EC3BD-5222-493E-BC9C-5E8F8EB5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7A6A8-26ED-4D54-AC0E-96F63E99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7485E-99F2-413F-A618-2DEE1E0C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8473-140E-40DD-A9BD-4D429DC5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9C4A4-3995-4D9A-8BE2-C0C1F756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7D5-7E71-4909-A0A5-6A552268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980F9-22C7-421B-BE5F-6EE62989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BD239-1FE5-462C-B398-BAA0D56E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2D631-6168-4809-98BD-7A19FE4B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A68A1-2E7B-48AA-B0E0-4CCBB4A2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C8CDC-85DF-4209-96B2-CA52ED37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F374A-E629-4E28-88AF-F6DC3AF6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4F067-D443-4BBF-9C45-17FB7C8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544B-6C90-461A-97E2-9A86F64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2EA2-C649-4307-9851-22B553C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FAFCB-21B5-4D29-BFA7-43A75B9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07E7-06AF-4802-94DF-9210FEF4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B14E3-686C-437B-953D-4B3270C4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37562-AB84-4409-9C23-48A9A331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0E2CE-2433-42B4-89B3-7597197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AB6ED-867F-44E6-BEEC-EA365122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7B200-96A4-46D7-B24D-A1BB3C00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FBE17-CDF5-459D-AB20-41AB602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7F7EA-19FB-4AFB-80F6-EC67DDBA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2E2EE-409D-47B7-A68F-C3DEBFD3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A4705-DA7F-44DB-A239-5182ABC5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1A59E-115A-42E8-801A-85BB548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039C-C5C3-434E-9E8D-17738C66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C7CBB-568A-4AE3-8BEE-772E014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AF333-2B66-4173-9C78-B4BCEC1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C1DBD-BFDB-4534-B814-2A60A233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D39F9-53C7-42C4-B459-64A1483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148FA-E96C-486C-BBE0-3BDB6432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1AE39-0F15-43FA-99BC-C83192AD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DDBC4-9E5C-46D1-9339-DC74AD3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7BC54-5CC3-45AA-BE9B-AF40087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AEC68-9597-477F-BA10-AA876F83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F8969-EFFF-4ADA-8488-C347B53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89D1-0F30-4BCF-9B2B-C9B4AD0C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5ECB4-6E64-4E4D-A5FE-A5E55DFD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7B013-D478-4EF5-B6F5-C924A535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A8532-6C28-41E4-93C9-915A10E0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19BC8-E3E7-427C-9FEF-CC7E3DA8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0781B-8329-41B5-8CFF-35CBEF3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1615A-185F-4FBE-AC04-11B893DD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FCF1E-3D16-4E72-9129-9EBD931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BD2C-DA8E-4821-A7C1-0BCD9199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42D9-D6C9-4EFF-B43C-591C01A6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F200-6428-42E0-861B-BA4DC9C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2021-ED06-4D23-8FC6-2E856FC5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6B2-5908-4B51-B654-16372E6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0D0-50D8-4494-A494-6BA580F3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52A-A8A4-471D-8944-61870C9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4639-6953-400D-9584-4B18923A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8B22-C137-4792-ABE4-58EA2AFD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3ACB-D242-4FA8-8672-09BB24D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84DF-46E9-4E27-8949-1B2EC164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3712-C6EA-48E5-BAC2-0FCB3CA6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B27BC-1A60-463D-BBB4-22260FE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C79E-00D7-4C31-BB28-A49F969F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8DC9-7719-41B0-B9BF-78251ED9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2F5-58DB-4FA1-B087-552B8913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309E-A469-4932-8654-B8AB453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CDAA-3BBE-4DFD-99FA-FFEB47E5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A48F-48C5-473B-9946-D16B3F2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C709-D443-429B-984E-9DBA12B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5D9F5-56ED-487E-BC0F-B76ACA8B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6D29-5640-4E79-AAB1-E58EB7FF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A1C0-91C1-46BE-8A48-671E3A1C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494D-B439-40E7-A5E0-613ACCC8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C46E-8A75-4ED1-8B52-22F7802E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EB46-CABA-41D6-89C4-3BE07B6A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0EC-F908-4A06-9BB4-A36B5A91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8C80-A666-4B4A-82D5-4B25CAE6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B656-1659-43D4-B0C1-6A84727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58A4-7357-4C94-B377-4C67BE4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32F7-7779-4B74-BA7F-AB5C8BA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6A7AF-6471-4373-BA03-16A9A6BE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3865-FFE9-482A-96B3-DE036518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AE10-746B-44EB-92CC-BC2187DE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B6F7-EFFF-40CB-9FB4-DA1C62E5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2DE4-92D1-4FE9-B638-3988AC89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45C24-30C8-4D62-8018-3BE71F3D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C73-A3A4-400A-9CFF-55CB89B6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6762-549D-4787-8D1C-E0E3802C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DF6D-5707-4953-973D-C094700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3DEB-DF0C-4FDC-BA28-79AB8E71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969D-229E-4CC8-A7BA-D3AF7880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471CB-20BC-49E3-BB3F-16F89FBD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417B-0819-4B79-86DC-6FB77B9E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6D4B-CF28-45FD-B1A6-D4C89734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70CF-9EB3-44DC-9689-EDBECD5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BABCE-9884-4DD1-A04B-2124424A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B7CED-53FE-4D26-A5FD-5F8C52D3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550-6294-4149-8B1A-AB5362BF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7DDE9-98A7-4DFF-8358-1C009174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B1E3B-AA13-4F10-AD74-3E3AA4B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FBA0-3772-412A-AE5B-FC7ACDF3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2F4B-8180-46D5-B211-FF24455D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B1B1-36C6-4982-9A74-2C9310D4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8BA8D-3E84-47E6-B6F2-8B21EA5D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060A-CF72-48C0-96C3-E8B3966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B79E-50B7-45ED-B421-60B2A30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DFBF-EB2B-45AD-8DB9-E30F75A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7DA11-6BA0-4E8E-BC40-F6C625E0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020-ABF8-4F3E-AF45-DE612DD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DB555-0CF0-47BB-9ED4-6FADECB7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3668-BCB3-4A8C-97E2-B8DCD905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54A0-9BDD-4412-9190-8B807583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C127-589C-4068-9096-B074906A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D9ED3-43A7-4577-9B7D-D66A7005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2664F-624B-43C3-A608-9C06FCE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6B229-FE24-470E-A022-6371BA93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4F91-6BDB-4F8B-8BDE-4E56EAE9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D20F-29C9-4F81-96F5-686C137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A38D9-280F-4F36-BD0D-8F309A41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2DD-07DA-4CDE-B2A3-C8227227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E329A-46BB-4FF2-B080-BCD5E03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DC32C-BD8F-4D8F-8FBD-95A0D30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FE56-7E0E-409D-A443-7CCBDC6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D15F0-68A2-4AAD-840B-B78C89F4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9878-D7DD-4A64-9149-CC87202D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747B-68BA-4FB9-B3B0-D2729085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886A6-5575-41A8-B7B7-EE805437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B7BD0-37D6-4AA2-AA78-FB7FCF7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FDF6-BB3E-4397-85D9-C2FEC3AB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12B5-64C0-4EF7-A83D-D6EFC43F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5FF-5629-4E8D-8AD7-B658EA9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EF4F0-4D55-4259-9B9C-CBA66117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44B4D-9997-4DF7-8722-99498D29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9C267-61FA-4F0E-BD79-5C83C44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7B2B6-580D-4386-8CBE-22604D8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E041-BF89-493B-A112-A98BAF7D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7945-F7A4-4E05-8122-FF9EACC7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1049-43E9-42B7-B6F7-DDAB2A3D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5010A-8FF4-4F81-9E87-0D8FACAF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6223E-34BC-4C90-AA6E-5CE50F6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4620C-56C2-40DA-BDD8-ECF87C8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57B0-309F-4B44-9DD9-F3B5BD7BC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E8B-6B87-4D31-A738-F64E15D2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DC48-2BC5-4AD5-8FFF-F88219D93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C7F7-5BB5-4787-9C77-0D43A2DA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6EE-B8B6-4DE9-B34D-D7A9FD59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26F3-247D-474C-8907-D70F2EF755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F440-16EC-4F7A-B73B-694DC70CA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D258-3818-4D93-B113-C5B34DA6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BA8-1B8A-421A-B5B4-CD2C7CCD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20A4-74D3-43CA-8993-0125C0C9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1D9-FC4C-4CFC-A589-B614CF9A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296-B705-47AA-8CD6-1512B044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C23-EAFE-4015-B8B0-F97069DA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630720" y="2895480"/>
            <a:ext cx="420696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r. Mona Soliman, MBBS, MSc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Head, Medical Education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ssociate Professor of 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hair of Cardiovascular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llege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MS PGothic"/>
              </a:rPr>
              <a:t>Dr. Ahmad Ahm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6FBA-4E5C-44AD-AB93-F9A331D44B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B016-58D4-4D26-BF14-1B402726B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lk re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A47-5228-4632-A412-7BC198B97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is Reabsorbe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Content Placeholder 2" descr=""/>
          <p:cNvPicPr/>
          <p:nvPr/>
        </p:nvPicPr>
        <p:blipFill>
          <a:blip r:embed="rId1"/>
          <a:stretch/>
        </p:blipFill>
        <p:spPr>
          <a:xfrm>
            <a:off x="4648320" y="1814400"/>
            <a:ext cx="4038480" cy="4097520"/>
          </a:xfrm>
          <a:prstGeom prst="rect">
            <a:avLst/>
          </a:prstGeom>
          <a:ln w="0">
            <a:noFill/>
          </a:ln>
        </p:spPr>
      </p:pic>
      <p:sp>
        <p:nvSpPr>
          <p:cNvPr id="5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672-3354-43F9-8502-EFB2F748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3E16-A27C-4540-ACA8-EA098FD4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5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937-5D24-4683-A6A5-CB9473D50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5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7F80-DC4D-4939-9283-30F577F2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5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4E7-1906-4C56-89FE-81EC15A6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882-7A31-4D0F-B34A-FB5B30783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DFD-692E-40DE-83AD-B19578A0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6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03B0-77DD-4822-9540-7939C915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CAC6-0572-4771-A85F-7E0F2B8AF3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6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7E1-4F44-496E-A016-1C2D026C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58E4-AA3D-419A-8736-0DC33A617E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5882-CFD6-4854-A2A0-07775878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water absorb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able to water (filtrate 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le to water (is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in concentrating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NaCl, K+ reabsorbed as well as 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2544-75AB-46DC-8646-0E0E2C1BD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C018-73F2-4E37-A0D2-5AE99EAE5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3B1C-DE1B-4386-942A-FB4B5490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B23-2D30-4869-82D0-28633D70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le cell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Na+ diffuses via selective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rete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calated cel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rete H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HCO3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bsorb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↑Na reabsorption by principle cells, ↑K+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Content Placeholder 2" descr=""/>
          <p:cNvPicPr/>
          <p:nvPr/>
        </p:nvPicPr>
        <p:blipFill>
          <a:blip r:embed="rId1"/>
          <a:stretch/>
        </p:blipFill>
        <p:spPr>
          <a:xfrm>
            <a:off x="4800600" y="1461960"/>
            <a:ext cx="3733920" cy="5091120"/>
          </a:xfrm>
          <a:prstGeom prst="rect">
            <a:avLst/>
          </a:prstGeom>
          <a:ln w="0">
            <a:noFill/>
          </a:ln>
        </p:spPr>
      </p:pic>
      <p:sp>
        <p:nvSpPr>
          <p:cNvPr id="5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6149-66D9-432D-8E6F-3B2CED19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5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FA6A-8757-4560-A69F-38E5F386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801-4CA4-426B-A4F9-A0A6C7944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3T15:45:37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