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19EA-E4FA-4B9A-9ECD-E6F0493F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140-51A6-47D2-A414-A8C29A53F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CCB-0940-4FB7-A980-40EF4C6D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19A-E9E6-4070-8B07-563156F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D0C24-679F-475B-B1DF-E510112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BFFDB-DCB4-4F99-BF0C-80106D7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FA646-8DC2-471C-ACC0-9F41BA5A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3A8C-D4A7-41A6-9368-1A9466E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EE2AE-D6FE-4ABD-B54A-4DFDB8C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D7133-1108-4840-A4C1-3621C90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3B8B5-B2F0-4795-9677-BBE271C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D2024-7D79-4F68-85C9-B563D3B1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FA18F-E180-4332-9801-AC57334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CF770-653F-4147-A91C-E4B596A1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49A-2EAD-4B27-8CB8-A4B9BE2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3857-A24C-4F3D-9006-D19ADD6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1F7C2-C994-48B0-AA5D-D474E3A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D53F7-60C7-4CD7-8847-FA3779BB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9E95D-1480-4FE7-AAC2-369BF48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FFF2-AAC2-40C9-83B3-DFB1EB83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63E3-A8DD-47F6-9EC8-FA2723AC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1F7E4-30AA-4B5F-916E-DA539FA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A990E-4DC0-4013-8664-A4D6578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EE37-FD79-4518-9BB9-79483148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88C7F-BD14-4182-ADD3-C51B357A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775-011F-4630-8675-53EDC66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A5E85-8DF2-41C9-89FF-1B835B5A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DAFD3-E0D7-48F3-80DE-6B8018F1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55305-4D02-4730-926A-1C4F732D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39C4-D380-4D26-ADCD-3B0C5A9D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5CA6-AECD-434E-A145-D8EF432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5B6D-6029-448E-8D50-FC774DA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F95ED-FE63-442B-B23B-2C70EC4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83A75-06B4-4127-9514-F1CEFEC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71264-DA57-4F95-8E2F-5A0FDD0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03FF-A7DD-4057-8B99-8AEFAEE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D91-9DF6-484D-80A9-1E7A38FC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3C98-CA64-4719-AF4F-F4BCAEC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EDCA-41C7-4D2B-9C97-73C903DF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C65CD-35F2-4280-A943-6199691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C34C-B3B2-41CA-8B53-B175727C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4776F-930C-4FC3-A6C0-A72EA63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0ADA6-2BF4-432F-A46E-3B087174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2978F-B4F4-4B2E-98D9-B88FC54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A2441-8725-4449-8363-DB66E787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606AB-8D88-406B-A813-AFC22B65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FA9B1-774F-4C37-8AB9-0E13C9F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6C42-012A-406A-B9B2-1B3B4EB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57107-EC0C-43B8-B15C-7F997EB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BF35-89D5-4D29-9ACF-6EABDEB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2BFA6-3AAD-4CE7-B302-949A2A57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1C6DC-7D23-403F-9E09-4C004F9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0D3F3-F50C-46A7-9186-25618B66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0240A-F1E4-45FE-BF05-B6C919FC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3EB03-1AA8-4120-853B-545C4186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E3063-C458-4CEF-8475-B190940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E4B5C-9625-4D8E-84E3-D1863F9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8CF5F-5DCC-4140-93BE-9D990122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32C-C048-4129-95DB-4F751F39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1A388-1BFD-4288-8495-B44828CF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26914-C9CB-40D1-9BAC-3ABAF6A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A6B8C-5042-4D31-8831-6FC4F9C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1DBB7-2ABD-4CD5-AE8C-1A738BB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72633-9B61-48CE-BD1F-BB8D22D5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159D4-F7B2-4FCC-9712-41C98BF8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47071-38B6-460C-AD29-6CADA8B5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A7E0-6472-4BE7-B37F-4C9491B0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B5DD-AE58-4A8F-9F0E-3BE717A1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E246-152F-4FB7-8E6D-CF9C5C1A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D4E-5C1E-44F4-854D-02D7010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E51-C563-4263-BCD2-A57D37C5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79A4-CCA2-4F1C-BCCB-7F5568E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3F55-2DC2-4116-A9AB-1BE476F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6EC-AB74-4C34-95EB-92A108D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8F27-7346-4B65-8063-30A7C3A0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DE7E-5509-4568-8F16-A2CDAF69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1AD2-44A2-4759-AA61-1A979DE1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3835-D269-433B-92CC-488671B7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F70B-4B60-4F32-BC60-AA84408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7C0C-FD9D-492F-B12A-263105A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680D-ADB3-4246-886A-856EC44C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E56-EE69-4528-AD32-E98A64A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7B37-BB33-4207-A9FC-76B203D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93CB-EA1E-4436-B5DA-B188B1A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5CDE-6948-457B-A956-30CA0FE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0280-CF55-4627-8B64-5FC6A4E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B6C0-76CD-4D0D-B32D-04EDFC83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E0B4-0754-48E1-AF50-326C9000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3D0A-1543-44A7-A620-247A490E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3BF5-9C23-4535-9615-7909C1FA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CFF1-BC30-4B83-A702-9D5364B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CE77-0186-4B79-8E3F-0E5058D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BE2-1682-48ED-BE92-7D645ADC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ED3F-F8FE-41D7-A16D-02B872F4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E7B4-8562-4F9B-8A9D-AA904F0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1CD3-A489-4CB5-96CE-1E9E41B3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C355-C03F-477A-A4C6-7FBAAFD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0B27-A9CE-415D-944F-341020B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5168-44B8-4FE0-B3AB-26029D5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A25F-31A3-4AC0-A60D-5B3B5F08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98A1-E31D-47D2-B7A9-5662C430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BF6B-0C96-4DD8-B6D4-A64A731F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FEF6-16B2-44E3-B1C1-8D62D28D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D87-17EA-40E7-B58A-A9CCB7BC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49AB-A682-464B-B43B-16E07B9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8985-9989-402C-8EE4-5BBF89BE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79AB-8AAA-4273-A51B-6D3D51A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AF99D-B2B2-4E5C-B654-78BC2B05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681A-75BD-4C28-9E5F-3F5CDF6B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0780-0E58-4569-82DA-CF1A8F0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5406-9FC2-4694-BCF6-A1A8E2A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AAD0-3B8A-49F9-B95E-8B03ECF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74B6-0E57-4428-A9E1-6818D1C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5F8B-D1DD-4867-8643-EDEA3960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21B-E0BC-4200-ABCA-2F8325C3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6090-75B4-4827-9890-18B863D0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373D-FD9C-4FEC-9406-AEB672E5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130E-0429-44D7-8098-BA050185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3767-6601-4BE3-98C3-156B712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30BCE-04C6-4396-AE13-F7116AFA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25104-C9C1-47EC-AD89-9962B6B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5D2D-E559-4B6A-A1A3-E98DF2A7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EC4D-9D35-43B4-A2BD-8B51705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CAB7-AB7B-433C-82EB-71905A9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28CAB-B8C2-4898-8E2D-C7443422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C40-2764-4726-A00D-DAF85D0D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FC46F-E8A3-4C0B-80B3-539F0CB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5FFE-7A89-4719-B529-1A3D842F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55A2-384B-4526-85E2-A02DB5DA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375D-B634-4EA8-991B-91593D4D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7D2F-9E59-48A8-BF38-C62E216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EFF4-661D-4EF1-8543-85BA429C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9419-CBE8-4259-8CF1-F813B0E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D036-10D6-4537-9BC1-6E19AD3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C9D6-8C45-4E68-BEAF-61433C1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F1DC-3E5F-4A68-B1D9-6AE2EC18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0EC-2101-48E7-9765-424129D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25AB-D575-4389-B75D-E027773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CCF0C-45DE-468C-8073-0DD6485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BA590-2C48-4007-929D-44BE7D23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517A-44F0-43F8-B9DB-273A5AB2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D470-F267-47EC-8BEB-7CFD9D3F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6C447-1F84-42AC-8A2F-6461F13B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5F02F-4B92-4008-91E0-CEB32D5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6A42D-1F0F-4B6B-B45A-CAEAB9B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9D32E-A862-4F9C-A9B8-61C2A70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BB9C-6206-4E97-8489-F14CE91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602-E1F2-483E-8A78-304A3E3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4F543-79B1-41F2-B53E-3588393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F629-6BBC-42B6-B0E4-C785EA5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77129-CDF9-469B-BDAA-CB32261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A7AB-7250-4DEB-A08F-921330B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759A-0437-444D-976A-58BF566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8B9E-0C0D-400D-A7A5-FBF01C85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CE9F-A6AC-4EB0-8FB4-500C9B4C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3F65D-A7F0-4C3D-AE88-4E45B687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7E9B8-30B3-4D85-ABF4-6FDCF66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03E14-7B75-4399-8D87-4C6BD49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37B-FBDC-47FA-B251-BDEF10B6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86C-F747-4B5F-8660-F8946DED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0988-60FD-4DAA-AF53-6FF4BE02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879-FBC7-416D-932F-DD3738AEE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47B8-127A-4C67-8C32-3268F1DE1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51F8-BBCA-4273-A3E1-D19B3B5941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6E33-BBF8-4BA0-83EC-902F14E6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21B2-D423-47D5-B2FD-B90E30F1E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AEAF-0D11-4524-AADB-9C389C312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2D2-4E6C-4BE2-83DC-25FCE5265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070-A32E-4FCC-8830-9AF989D1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EAC2-96FB-4219-B5B4-6F37EB16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1535-EFA7-435C-92B0-F60CBFDD5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630720" y="2895480"/>
            <a:ext cx="4206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r. Mona Soliman, MBBS, M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ead, Medical Education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ssociate Professor of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hair of Cardiovascula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MS PGothic"/>
              </a:rPr>
              <a:t>Dr. Ahmad Ah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F0D-051F-4013-8253-6E6629651F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71C0-9E5E-4D28-B9B3-663FD332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lk re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6BB1-9603-4432-A0D3-E169999E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is Reabsorbe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Content Placeholder 2" descr=""/>
          <p:cNvPicPr/>
          <p:nvPr/>
        </p:nvPicPr>
        <p:blipFill>
          <a:blip r:embed="rId1"/>
          <a:stretch/>
        </p:blipFill>
        <p:spPr>
          <a:xfrm>
            <a:off x="4648320" y="1814400"/>
            <a:ext cx="4038480" cy="4097520"/>
          </a:xfrm>
          <a:prstGeom prst="rect">
            <a:avLst/>
          </a:prstGeom>
          <a:ln w="0">
            <a:noFill/>
          </a:ln>
        </p:spPr>
      </p:pic>
      <p:sp>
        <p:nvSpPr>
          <p:cNvPr id="5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5EF8-87EA-4B34-8AB6-39C7F8E8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E767-45F8-45A8-A1AA-9FE421E2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CFCD-321B-4D5E-A363-2E368B1A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5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F61-F2EC-490D-95FD-5ABE9F5B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5B3E-0CF0-4242-AA0C-1C6DED22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A732-A333-49D7-B49F-B31E2AAC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EB64-8D22-41E8-B5D6-D591470C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8ABF-5C14-495C-B180-AA1D679D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1D4-7525-41D3-9B03-A7A7DCC7EA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6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16B-F95C-4DF5-91E1-E796BFE60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471B-C614-46F8-82FD-3FC0BAEA3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D2A-FCAA-4D9B-AD5D-10F9A64F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water absorb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able to water (filtrate 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le to water (is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n concentrating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NaCl, K+ reabsorbed as well as 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200-E932-48DA-A4A9-7E7AC375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28C0-977E-4B72-B4A0-4C325777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ACF-F771-4815-9E0F-A9914F71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33DD-A711-4FFB-923E-BA5418653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le cell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a+ diffuses via selective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rete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calated ce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rete H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HCO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↑Na reabsorption by principle cells, ↑K+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Content Placeholder 2" descr=""/>
          <p:cNvPicPr/>
          <p:nvPr/>
        </p:nvPicPr>
        <p:blipFill>
          <a:blip r:embed="rId1"/>
          <a:stretch/>
        </p:blipFill>
        <p:spPr>
          <a:xfrm>
            <a:off x="4800600" y="1461960"/>
            <a:ext cx="3733920" cy="5091120"/>
          </a:xfrm>
          <a:prstGeom prst="rect">
            <a:avLst/>
          </a:prstGeom>
          <a:ln w="0">
            <a:noFill/>
          </a:ln>
        </p:spPr>
      </p:pic>
      <p:sp>
        <p:nvSpPr>
          <p:cNvPr id="5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5CB-381F-4316-AE62-23CA15329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BA3-2993-417F-B475-1DB80FA1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5CE-F1E8-406E-97FB-231F096D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3T15:45:37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