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274-1509-4063-93EB-89FA0D48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2F8-2FC8-4BAB-945D-66C8D6D2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5CF-3F15-4D3B-8DA1-BC3CA8DF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BDA-6DF3-4A94-A23A-0905B70A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28D-0A63-4C01-9CAA-3660CF5B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107-5444-4232-BAF2-2B554DD0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24E-D7F6-4F25-9183-8C3319D5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5DC-23B5-4B54-AD13-E49DCBD6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145-63A6-481E-A5BA-7F7CC105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598-B994-449B-B3DD-563574D0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D23-0562-46F0-953A-F8614DD7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4A2-8F67-4E66-8DCD-F49D1ED2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022A-CAE6-4AE2-A4DE-116B71183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58960" y="1171440"/>
            <a:ext cx="7446960" cy="70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l Regulation of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F782-704C-471C-8336-6546BD7CE4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408400" y="3200400"/>
            <a:ext cx="4327200" cy="279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Horm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nin-angiotensin-aldosterone system (</a:t>
            </a:r>
            <a:r>
              <a:rPr b="0" lang="sv-SE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pressur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in secreted,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) Sympathetic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fusion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+ reaching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acula d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giotensin 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) aldosterone release by adrenal 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reabsorption in TAL, DT,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) Vasocon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i) ADH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absorption in P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21DD-2CF8-410F-9D84-466B63D9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914040"/>
            <a:ext cx="693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) AN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tri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yoc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leased by stretch of atri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Cl &amp; water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tagonist of renin-angiotens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) vasodilation of afferent arteriole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soconstriction of eff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nin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direc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ldosterone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absorption in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5988-B791-4406-BAC8-AAA844EB9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46748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o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dilute (~ 5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arge volume (up to 18 L/d!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er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ncentrated (up to 120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volume (0.5 L/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nal water excretion mechanism(s) independent of solute excretion mechanism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ows water balance maintenance without damaging solute homeostasis (e.g. Na+, K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2DFA-120D-4D81-954A-4E6884016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synthesized in neuroendocrine cells located within the supraoptic and paraventricular nuclei of the hypothala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nthesized hormone is packaged in granules that are transported down the axon of the cell and stored in nerve terminals located in the neurohypophysis (posterior pituitary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2A8B-6A0E-4A9E-9D5F-EA8A759D1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5000" y="2133720"/>
            <a:ext cx="266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events water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protein hormone (only 9 amino aci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ast acting, short half life in cir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actors influencing 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Haemodynamic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Nausea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Atrial natriuretic peptide (ANP) → inhi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Angiotensin II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952880" y="2895480"/>
            <a:ext cx="114480" cy="669960"/>
          </a:xfrm>
          <a:custGeom>
            <a:avLst/>
            <a:gdLst>
              <a:gd name="textAreaLeft" fmla="*/ 0 w 114480"/>
              <a:gd name="textAreaRight" fmla="*/ 41400 w 114480"/>
              <a:gd name="textAreaTop" fmla="*/ 13680 h 669960"/>
              <a:gd name="textAreaBottom" fmla="*/ 656280 h 66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7"/>
                  <a:pt x="10800" y="1433"/>
                </a:cubicBezTo>
                <a:lnTo>
                  <a:pt x="10800" y="9367"/>
                </a:lnTo>
                <a:cubicBezTo>
                  <a:pt x="10800" y="10084"/>
                  <a:pt x="16200" y="10800"/>
                  <a:pt x="21600" y="10800"/>
                </a:cubicBezTo>
                <a:cubicBezTo>
                  <a:pt x="16200" y="10800"/>
                  <a:pt x="10800" y="11517"/>
                  <a:pt x="10800" y="12233"/>
                </a:cubicBezTo>
                <a:lnTo>
                  <a:pt x="10800" y="20167"/>
                </a:lnTo>
                <a:cubicBezTo>
                  <a:pt x="10800" y="208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257800" y="2743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in physiologic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523A-37D6-48F3-96F3-1C4A82562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FBB4-5A7E-4D94-9AE4-D6707C346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gh estimate of ECF osmolality can be obtained by doubling Plasma sodium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mEq/l X 2 = 290 (Normal 285-295 mOsm/kg H2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concentration gives best estimate of effective osmolality of E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inical situations glucose &amp; urea concentrations (mmols) are also taken into account, useful in cases of patients with diabetes mellitus or chronic renal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glucose or urea are “effective osmoles” i.e. they do not shift fluid between ECF &amp; IC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absorbed glucose in kidney tubule can however prevent fluid absorption generating an osmotic diures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A449-4C3E-49D5-9C3B-209E385AD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0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179800"/>
            <a:ext cx="38098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receptors in hypothalamus, outside blood-brain b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lality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t point” ~ 280 – 285 mOsm/kg H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19012" t="0" r="20947" b="70576"/>
          <a:stretch/>
        </p:blipFill>
        <p:spPr>
          <a:xfrm>
            <a:off x="4419720" y="2220840"/>
            <a:ext cx="4114800" cy="341784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A656-7B49-4C87-ACD2-834C1008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4114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Blood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lood volum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ess sensitive than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eed 5 – 10%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loo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 would be expected changes in blood volume affect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olume/BP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t point steeper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19012" t="31716" r="20947" b="4284"/>
          <a:stretch/>
        </p:blipFill>
        <p:spPr>
          <a:xfrm>
            <a:off x="5183280" y="609480"/>
            <a:ext cx="3122640" cy="56390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844C-FF3B-4FB0-AF60-68B34B660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DH re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llecting duct cells only permeable to water in presence of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permeability in inner medullary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stimulates reabsorption of NaCl by the thick ascending limb of Henle’s loop and by the DCT and cortical segment of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A8CD-1274-4DEF-AD67-C2DB5AA68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040" y="21333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role of the Sensors and Effectors in the renal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the kidney in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ole of ADH in the reabsorption of water and u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2F28-3B0D-41B4-80DA-2C6BE748BC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790960" cy="565164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81CD-E563-44EC-8D51-D8ACCAF4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pothalamic thirst center is stimu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 decline in plasma volume of 10%–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creases in plasma osmolality of 1–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 baroreceptor input, angiotensin II, and other stimu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DE89-E67D-4C85-9404-09749F565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st is quenched as soon as we begin to drink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signals that inhibit the thirst center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stening of the mucosa of the mouth and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of stomach and intestinal stretch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985A-C56A-4389-84B3-A2150E07D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841400" y="685800"/>
            <a:ext cx="5092920" cy="556272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B004-7E92-4EEE-BEBF-B617AE83F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2388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Angiotensin II receptors are found on the zona glomerulosa cells of the adrenal cortex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ation of these receptors leads to an immediate and rapid increase in aldosterone secr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dosterone acts on the distal tubule and collecting duct to ca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diu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likely to be an important mechanism for determining long-term sodium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8360-C05A-4660-AD91-2F12E7C9A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462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  Vascula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iotensin II is one of the most potent vasoconstrictor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iction of vascular smooth muscle leads to a prompt rise in blood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plays an important role in maintaining vascular tone and blood pressure in volume depleted states, for example haemorrhage and fluid de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CDCD-1134-46FC-A4C6-A49722640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yton and Hall Textbook of 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5 &amp;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7314-03F2-4CA0-B496-3FB39752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2817-BE5E-47EC-BA38-A0B911FBF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09480" y="2344680"/>
            <a:ext cx="7848720" cy="2989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1143000" y="685800"/>
            <a:ext cx="6991200" cy="118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mposition of the Human Bo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17F3-4C6B-4836-BA51-7BCA19E29CB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e Overview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tracellular vs. Extra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5680" y="2487240"/>
            <a:ext cx="3322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02401-025-f002"/>
          <p:cNvPicPr/>
          <p:nvPr/>
        </p:nvPicPr>
        <p:blipFill>
          <a:blip r:embed="rId1"/>
          <a:srcRect l="14625" t="0" r="14614" b="4940"/>
          <a:stretch/>
        </p:blipFill>
        <p:spPr>
          <a:xfrm>
            <a:off x="4713120" y="1954080"/>
            <a:ext cx="3821400" cy="429444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A042-DFB1-43D5-AADA-87BBF3F77929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</a:rPr>
              <a:t>The major body fluid compartment and membranes separate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02401-025-f001"/>
          <p:cNvPicPr/>
          <p:nvPr/>
        </p:nvPicPr>
        <p:blipFill>
          <a:blip r:embed="rId1"/>
          <a:stretch/>
        </p:blipFill>
        <p:spPr>
          <a:xfrm>
            <a:off x="1708200" y="2052720"/>
            <a:ext cx="5226120" cy="41958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1755-744A-429A-8AE3-58422462350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ody water balance must be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Kidneys concentrate or dilute ur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main properly hydrated, water intake must equal water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s in plasma osmolality trigger thirst and release of antidiuretic hormone (AD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9CE5-CED3-4D68-9744-4B3E6823B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8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Steady St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2133720"/>
            <a:ext cx="3124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C0BE-C1BB-4942-9B91-E5E2DB264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15894" t="0" r="18336" b="3166"/>
          <a:stretch/>
        </p:blipFill>
        <p:spPr>
          <a:xfrm>
            <a:off x="4114800" y="1525680"/>
            <a:ext cx="427212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 down to N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balance i.e. absorption &amp;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olume sensors: (Effectively pressure recep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asc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w pressure sensors: Cardiac atria (ANP), pulmonary vascul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essure: carotid sinus, aortic arch and juxtaglomerular apparatus of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 nervous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pa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E113-9E5A-4ED1-9D6C-974B9F0A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ume sensor signals/Mediat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u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pressure 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sympathe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afferent &amp; Efferent arterioles con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GRF 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less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lt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i) more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sorbed by P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renin rele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↑ aldoster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↑ angiotensin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9161-9060-430C-A6D3-1A83A44DC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oliman1</dc:creator>
  <dc:description/>
  <dc:language>en-US</dc:language>
  <cp:lastModifiedBy>msoliman1</cp:lastModifiedBy>
  <dcterms:modified xsi:type="dcterms:W3CDTF">2016-04-23T16:30:27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