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8DD-3BA4-4A54-A686-82F71D97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939-FBC9-4724-96AE-131816A8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5EA-F84F-46D5-8023-1CA85FF0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B24-728D-4FCD-9AA1-3A26E1F4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FBC-1A57-426D-AD27-A6B893A3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D7A-4B3B-419F-832D-28FBC27A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407-42F5-4938-922D-1DCA66D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61B-291F-400E-80C0-256A94F5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59F-0544-4849-9D29-5906C354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88C-B44C-4341-9B59-B67D0281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F9F-F091-4196-BB25-5593ADB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24F-69EE-4627-815B-7EA1D8D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C0D1-3F14-421F-A1A6-AE20BEF65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58960" y="1171440"/>
            <a:ext cx="744696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l Regulation of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6D1D-27C1-41C1-AF0F-CBEA699A7A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408400" y="3200400"/>
            <a:ext cx="4327200" cy="279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Horm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nin-angiotensin-aldosterone system (</a:t>
            </a:r>
            <a:r>
              <a:rPr b="0" lang="sv-SE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essur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in secreted,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) Sympathetic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fusion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+ reaching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cula d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iotensin 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) aldosterone release by adrenal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reabsorption in TAL, DT,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) Vaso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i) ADH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absorption in P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482A-038F-4ADE-9E82-095D59015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914040"/>
            <a:ext cx="693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) AN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tri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yoc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eased by stretch of atri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Cl &amp; water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tagonist of renin-angiotens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) vasodilation of afferent arteriole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soconstriction of eff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nin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direc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ldosterone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absorption in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6A08-C260-47DE-8A42-A894CC95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46748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o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dilute (~ 5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arge volume (up to 18 L/d!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er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ncentrated (up to 120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volume (0.5 L/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nal water excretion mechanism(s) independent of solute excretion mechanism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ows water balance maintenance without damaging solute homeostasis (e.g. Na+, K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4D66-49FD-47AF-AB75-70A37EAD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synthesized in neuroendocrine cells located within the supraoptic and paraventricular nuclei of the hypothal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nthesized hormone is packaged in granules that are transported down the axon of the cell and stored in nerve terminals located in the neurohypophysis (posterior pituitary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9B6B-1144-4117-9119-8FE0B998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5000" y="2133720"/>
            <a:ext cx="266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events water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protein hormone (only 9 amino aci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ast acting, short half life in cir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actors influencing 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Haemodynamic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Nausea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Atrial natriuretic peptide (ANP) → inhi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Angiotensin II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952880" y="2895480"/>
            <a:ext cx="114480" cy="669960"/>
          </a:xfrm>
          <a:custGeom>
            <a:avLst/>
            <a:gdLst>
              <a:gd name="textAreaLeft" fmla="*/ 0 w 114480"/>
              <a:gd name="textAreaRight" fmla="*/ 41400 w 114480"/>
              <a:gd name="textAreaTop" fmla="*/ 13680 h 669960"/>
              <a:gd name="textAreaBottom" fmla="*/ 656280 h 6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7"/>
                  <a:pt x="10800" y="1433"/>
                </a:cubicBezTo>
                <a:lnTo>
                  <a:pt x="10800" y="9367"/>
                </a:lnTo>
                <a:cubicBezTo>
                  <a:pt x="10800" y="10084"/>
                  <a:pt x="16200" y="10800"/>
                  <a:pt x="21600" y="10800"/>
                </a:cubicBezTo>
                <a:cubicBezTo>
                  <a:pt x="16200" y="10800"/>
                  <a:pt x="10800" y="11517"/>
                  <a:pt x="10800" y="12233"/>
                </a:cubicBezTo>
                <a:lnTo>
                  <a:pt x="10800" y="20167"/>
                </a:lnTo>
                <a:cubicBezTo>
                  <a:pt x="10800" y="208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257800" y="2743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in physiologic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A1C5-56AC-44D5-9278-D45CADD36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DE5-081D-488F-9528-C08BA8D3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gh estimate of ECF osmolality can be obtained by doubling Plasma sodium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mEq/l X 2 = 290 (Normal 285-295 mOsm/kg H2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oncentration gives best estimate of effective osmolality of E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inical situations glucose &amp; urea concentrations (mmols) are also taken into account, useful in cases of patients with diabetes mellitus or chronic renal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glucose or urea are “effective osmoles” i.e. they do not shift fluid between ECF &amp; IC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absorbed glucose in kidney tubule can however prevent fluid absorption generating an osmotic diure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53F4-2BDD-4C4F-9450-11D7E996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0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179800"/>
            <a:ext cx="38098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receptors in hypothalamus, outside blood-brain b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lality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t point” ~ 280 – 285 mOsm/kg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19012" t="0" r="20947" b="70576"/>
          <a:stretch/>
        </p:blipFill>
        <p:spPr>
          <a:xfrm>
            <a:off x="4419720" y="2220840"/>
            <a:ext cx="4114800" cy="34178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5BC3-37A9-4655-8B67-E6B1EDB5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4114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Blood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lood volum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ess sensitive than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ed 5 – 10%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loo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 would be expected changes in blood volume affect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olume/BP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t point steeper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19012" t="31716" r="20947" b="4284"/>
          <a:stretch/>
        </p:blipFill>
        <p:spPr>
          <a:xfrm>
            <a:off x="5183280" y="609480"/>
            <a:ext cx="3122640" cy="56390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4D58-CF4D-45FB-88BA-9C1FBD7FE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DH re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llecting duct cells only permeable to water in presence of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permeability in inner medullary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stimulates reabsorption of NaCl by the thick ascending limb of Henle’s loop and by the DCT and cortical segment of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2F9D-24CC-45EA-BCFF-C5C4615A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040" y="21333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role of the Sensors and Effectors in the renal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the kidney in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ole of ADH in the reabsorption of water and u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33F2-54B3-41BD-A136-496C21E4BE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90960" cy="565164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0703-59A3-434B-99EF-1D18A986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pothalamic thirst center is stimu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 decline in plasma volume of 10%–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creases in plasma osmolality of 1–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 baroreceptor input, angiotensin II, and other stimu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6CBA-F5A5-4580-8B73-EA1F8607B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st is quenched as soon as we begin to drink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signals that inhibit the thirst center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stening of the mucosa of the mouth and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of stomach and intestinal stretc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023A-233F-4A82-ABD9-E07C1865B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841400" y="685800"/>
            <a:ext cx="5092920" cy="556272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410C-F7AA-413B-99FD-AB16A50CD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2388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Angiotensin II receptors are found on the zona glomerulosa cells of the adrenal cortex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ation of these receptors leads to an immediate and rapid increase in aldosterone secr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osterone acts on the distal tubule and collecting duct to ca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diu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likely to be an important mechanism for determining long-term sodiu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F57D-C408-45C0-BDDD-61482661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462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  Vascula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iotensin II is one of the most potent vasoconstrictor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iction of vascular smooth muscle leads to a prompt rise in bloo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lays an important role in maintaining vascular tone and blood pressure in volume depleted states, for example haemorrhage and fluid de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3FF7-A49A-40D2-8E90-4D6464FD6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ton and Hall Textbook of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&amp;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5384-EE7A-4F46-A658-79928F43E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DB55-4510-401D-BEB9-CEF6B86EA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09480" y="2344680"/>
            <a:ext cx="7848720" cy="2989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143000" y="685800"/>
            <a:ext cx="6991200" cy="11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position of the Human Bo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3DB1-5517-46B7-8208-8C683F7C507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e Overview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tracellular vs. Extra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5680" y="2487240"/>
            <a:ext cx="3322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02401-025-f002"/>
          <p:cNvPicPr/>
          <p:nvPr/>
        </p:nvPicPr>
        <p:blipFill>
          <a:blip r:embed="rId1"/>
          <a:srcRect l="14625" t="0" r="14614" b="4940"/>
          <a:stretch/>
        </p:blipFill>
        <p:spPr>
          <a:xfrm>
            <a:off x="4713120" y="1954080"/>
            <a:ext cx="3821400" cy="429444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C142-2784-4EF8-8DAE-2516C47819C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</a:rPr>
              <a:t>The major body fluid compartment and membranes separat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02401-025-f001"/>
          <p:cNvPicPr/>
          <p:nvPr/>
        </p:nvPicPr>
        <p:blipFill>
          <a:blip r:embed="rId1"/>
          <a:stretch/>
        </p:blipFill>
        <p:spPr>
          <a:xfrm>
            <a:off x="1708200" y="2052720"/>
            <a:ext cx="5226120" cy="41958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A725-37B3-41AB-821D-4F6FE19C3E9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ody water balance must be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Kidneys concentrate or dilute ur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main properly hydrated, water intake must equal water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in plasma osmolality trigger thirst and release of antidiuretic hormone (AD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56C5-F34E-4F5D-ACB3-E3960744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Steady St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2133720"/>
            <a:ext cx="312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0B8-E878-4F54-A5D2-E9BC734F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5894" t="0" r="18336" b="3166"/>
          <a:stretch/>
        </p:blipFill>
        <p:spPr>
          <a:xfrm>
            <a:off x="4114800" y="1525680"/>
            <a:ext cx="427212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 down to N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balance i.e. absorption &amp;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olume sensors: (Effectively pressure recep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asc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w pressure sensors: Cardiac atria (ANP), pulmonary vascul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essure: carotid sinus, aortic arch and juxtaglomerular apparatus of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 nervous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pa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2CBD-9721-484C-8743-F160EC960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ume sensor signals/Media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u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ressure 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sympathe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afferent &amp; Efferent arterioles con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GRF 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less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lt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) more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sorbed by P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renin rele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↑ aldoste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↑ angiotensin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F3B3-8BDB-4FA2-A69E-7351A6478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oliman1</dc:creator>
  <dc:description/>
  <dc:language>en-US</dc:language>
  <cp:lastModifiedBy>msoliman1</cp:lastModifiedBy>
  <dcterms:modified xsi:type="dcterms:W3CDTF">2016-04-23T16:30:27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