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2104-9EC7-4E1D-B32D-35E123419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19CF-E6D5-4D16-BA88-A092941F7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CAA-6BE2-4188-8D39-D1EF1668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553-11E7-4CEC-AB35-67F3E481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A0C-93AD-464B-B280-80A28368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901-49CB-41BA-B5FE-FD244734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9C6-AE3B-433A-BA83-FAD1A1F5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42B-8528-4368-86C8-8A72281F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FEC-078A-45B8-A633-9AB29837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FA9-900C-4EB5-A76F-74A28375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634-8FE9-4EA3-8957-0147981F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29A-37DE-46B9-8158-D56265D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8A3-F53C-4514-BDFB-02F87A4A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DB7-D49F-4DED-84F7-C0F75299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AB95-943B-46F8-A763-3F3FB8B2D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76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Concentration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C406-3F15-4E83-90CE-80010E65E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408400" y="3048120"/>
            <a:ext cx="4327200" cy="279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Fluid reaching CD hypoosmotic (osm due u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water to diffuse out up to a max of 30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D344-C0A6-461C-8879-2DD365AEF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) Osmolality of medullary tissue high up to 1200 mOsm/kg wat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ue to NaCl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rea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arly CD impermeable to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allows water reabsorption pas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67B8-6EE8-4DE2-A130-58D54E89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39152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en ADH levels high urea levels in medullary  CD &amp; interstitium equilib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st water absorbed in presence of ADH is in the cortical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2333-F431-41D7-8E33-B9353FF0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two special features of the renal medullary blood flow that contribute to the preservation of the high solute concentr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dullary blood flow is low, accounting for less than 5% of the renal blood flow. This sluggish blood flow is sufficient to supply the metabolic needs of the tissues but helps to minimize solute loss from the medullary interstit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sa recta serve as countercurrent exchanger, minimizing washout of solutes from the medullary interstit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vasa recta do not create the medullary hyperosmolarity, but they do prevent from being dissip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8" descr=""/>
          <p:cNvPicPr/>
          <p:nvPr/>
        </p:nvPicPr>
        <p:blipFill>
          <a:blip r:embed="rId1"/>
          <a:stretch/>
        </p:blipFill>
        <p:spPr>
          <a:xfrm>
            <a:off x="4648320" y="1927080"/>
            <a:ext cx="4038480" cy="387216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B2D9-3D07-49BC-B47D-C5B096F16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exchange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exchange in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s NaCl in medu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from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 transpor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aporin protein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chann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estrate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BDFE-3646-424F-A6DB-54106C4F6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7_17"/>
          <p:cNvPicPr/>
          <p:nvPr/>
        </p:nvPicPr>
        <p:blipFill>
          <a:blip r:embed="rId1"/>
          <a:srcRect l="7500" t="4244" r="7500" b="0"/>
          <a:stretch/>
        </p:blipFill>
        <p:spPr>
          <a:xfrm>
            <a:off x="4267080" y="1933560"/>
            <a:ext cx="4267440" cy="408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a recta maintains hypertonicity by 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and urea diffuse into descending limb and diffuse back into medullary tissue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of the medulla, [solute] is higher in the ascending limb than in the interstitial fluid; and higher in the interstitial fluid than in descending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s are permeable to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NaCl and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 osmotic pressure in vasa recta &gt;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949D-8C33-4098-8875-D0069A01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440" y="18745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: causes an increase in permeability of DCT, CT, and CD for water. It also increase the permeability of medullary CD to u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 of the loop of Henle: the longer the loop of Henle, the greater the countercurrent multiplication effect and more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born baby having shorter loop of Henle can not concentrate as same as the ad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3A62-6784-4E04-BD87-7A7DEC05C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salt to ALH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a decrease in GFR (Hemorrhage) the filter load of solute is decre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a decrease in the delivery of salt to ALH resulting in decreased reabsorption of salt from AL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there is decreased addition of salts to the medullary ISF, leading to decreased medullary longitudinal osmotic gradient and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C570-C1EA-4DC2-AEA0-50DAC6D3A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09120" y="1951200"/>
            <a:ext cx="76964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bsorption of salt out of ALH: Diuretic drugs (Lasix) prevents NaCl reabsorption from thick ALH, leading to decreased addition of salts to the medullary ISF, decreased medullary longitudinal osmotic gradient and finally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fluid to medullary CT and C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urine concentration occures when only a small amount of fluid enters the medullary CT and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A024-567A-40EF-9CF2-833997037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0912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during an osmotic diuresis, the increased fluid volume delivered to the medullary CT and CD leads to wash out of medullary longitudinal osmotic gradient and cause decreased urine concent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blood flow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ly very low blood flow (about 5% of total RBF) to the medu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blood flow to the medulla may cause wash out of the medullary longitudinal osmotic gradient, decreased effectiveness of the countercurrent exchange system and decreased urine 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73A-642B-454F-A83F-2F2903922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828800"/>
            <a:ext cx="78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at the loop of Henle is referred to as countercurrent multiplier and the loop and vasa recta as countercurrent  exchange systems in concentrating and diluting u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what happens to osmolarity of tubular fluid in the various segments of the loop of Henle when concentrated urine is being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factors that determine the ability of loop of Henle to make a concentrated medullary grad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 between water diuresis and osmotic diur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e clinical correlates of diabetes mellitus and diabetes insipid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9FF5-B356-4CD4-B1F9-770410C62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7720" y="2026800"/>
            <a:ext cx="72392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 recycling contributes significantly to the medullary longitudinal osmotic gradient and is essential for the countercurrent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erson on a protein free diet loses the ability to concentrate urine due to lack of urea in the medu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C2AC-2675-430C-9FDB-A57908271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Diuresis and Osmotic Diu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ADA0-ACC8-4A06-B388-108F39063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ontent Placeholder 4" descr=""/>
          <p:cNvPicPr/>
          <p:nvPr/>
        </p:nvPicPr>
        <p:blipFill>
          <a:blip r:embed="rId1"/>
          <a:stretch/>
        </p:blipFill>
        <p:spPr>
          <a:xfrm>
            <a:off x="749160" y="719280"/>
            <a:ext cx="7651800" cy="126828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FB1-3F32-4455-A247-507BD9454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335916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1376-7B8E-4EBF-8F01-6D46A720C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538308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EEC2-9BB7-41BC-AA4D-E9C4C3C7F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178596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A682-B32B-4146-A580-B4D4EB76F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248112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E633-4D3C-4D2F-9967-DF5192C3A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396864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9D2-0E07-4AE9-826D-ED82B9113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5499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1A9-9A6D-46E5-811F-4525D584B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635200"/>
            <a:ext cx="358128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to produce or release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: low fixed specific gravity (diluted u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dip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4720" y="1839600"/>
            <a:ext cx="404172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phrogenic diabetes insipi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876560" y="2711520"/>
            <a:ext cx="3429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of kidney to respond to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pecific gravity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5848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9A9C-4781-4D02-86EE-BC0191456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title"/>
          </p:nvPr>
        </p:nvSpPr>
        <p:spPr>
          <a:xfrm>
            <a:off x="76176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Disorders of urinary concentrating 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18288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n which inflow runs parallel and in close proximity but opposite to the outf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 of such a system allows the outgoing fluid to heat the incoming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BB9B-0743-481D-AB3A-C42F02AD6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30764" t="67276" r="62244" b="9015"/>
          <a:stretch/>
        </p:blipFill>
        <p:spPr>
          <a:xfrm>
            <a:off x="5403960" y="1828800"/>
            <a:ext cx="2174760" cy="41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F8BD-1039-47A3-96A0-727C2CE53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Mechanism for urine concentration/di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loop of Henle reabsorbs another 20% of the salt/water in tubular fluid, primary function is to determine osmolarity of urine (i.e. whether concentrated or diluted)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ountercurrent multipli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ollecting duct is where urine concentration is determined, osmolarity of interstitial fluid in medulla must be high and osmolarity of tubular fluid must b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multiplier system achiev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35A9-C90B-4A39-9A44-8A957524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ountercurrent multiplier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repetitive reabsorption of NaCl by the thick ascending loop of Henle and continued inflow of new NaCl from PCT into L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Cl reabsorbed from the ascending LOH keeps adding newly arrived NaCl (into LOH from PCT), thus multiplying its concentration in the med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063D-D2CB-45A4-9EC4-1B9AA2485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on (low or no AD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 solute don’t absorb 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Isoosmotic fluid from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Thin descending limb permeable to water, less for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ater reabsorbed, tubule osomolality = medulla (i.e.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4E1C-9E01-4EE6-8572-5DD18B00F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Thin ascending limb impermeable to water, permeable to NaCl (pas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bule volume unchanged, [NaCl]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TAL impermeable to water, NaCl actively reabsorbed (diluting segment of nephr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ng tubule fluid 15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B7A4-1992-4959-B80C-C12A11140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) Collecting duct reabsorb NaCl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smolality, may reach 50 mOsm/kg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AA90-0C45-4778-909E-D19279498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403848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centration of urine (ADH depend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-4 same as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ed NaCl in loop of Henl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smolality of intersti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ted by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untercurren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209680"/>
            <a:ext cx="4191120" cy="301176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0ED7-409D-46C5-82D6-1508B6818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oliman1</dc:creator>
  <dc:description/>
  <dc:language>en-US</dc:language>
  <cp:lastModifiedBy>msoliman1</cp:lastModifiedBy>
  <dcterms:modified xsi:type="dcterms:W3CDTF">2016-04-24T15:33:00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