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D53C-87AA-4992-9F18-04A5DCA2F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CBB3-32EF-4461-9ADE-F3E843826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AD2F-943A-4213-9C99-9CCFD97A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BC52-2373-4697-A9C1-78AFF507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AAA-42BA-46E4-AB36-52FCEEA6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E5A1-3C74-49B3-B898-6BCC50C9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178-75E3-4D28-B81A-9D8D90C2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B5F1-B3E4-4C39-BAB8-E0B2A8F9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B4B-6E9E-4F10-94DB-2685A1E3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6819-F937-4076-8FC6-8D5BFE25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FFC-75DA-408E-846A-58D52284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E06D-E50B-4894-AC3A-B143D28B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4054-3341-48C0-9ECA-A6B1E049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02DE-CCD4-4AB9-A96A-78F2FAAF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EB53-BDCC-444F-B726-7B53D8FF4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58960" y="1171440"/>
            <a:ext cx="7446960" cy="76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rine Concentration Mecha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20B1-1A51-4407-A2B5-94C44CB39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408400" y="3048120"/>
            <a:ext cx="4327200" cy="279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) Fluid reaching CD hypoosmotic (osm due u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causes water to diffuse out up to a max of 300 mOsm/kg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9648" t="53430" r="0" b="4284"/>
          <a:stretch/>
        </p:blipFill>
        <p:spPr>
          <a:xfrm>
            <a:off x="4343400" y="2057400"/>
            <a:ext cx="4191120" cy="3011400"/>
          </a:xfrm>
          <a:prstGeom prst="rect">
            <a:avLst/>
          </a:prstGeom>
          <a:ln w="0">
            <a:noFill/>
          </a:ln>
        </p:spPr>
      </p:pic>
      <p:sp>
        <p:nvSpPr>
          <p:cNvPr id="8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A364-7661-4333-9315-19965C3D6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6) Osmolality of medullary tissue high up to 1200 mOsm/kg wate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ue to NaCl (accounts for 6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urea (accounts for 6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arly CD impermeable to u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allows water reabsorption pass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9648" t="53430" r="0" b="4284"/>
          <a:stretch/>
        </p:blipFill>
        <p:spPr>
          <a:xfrm>
            <a:off x="4343400" y="2057400"/>
            <a:ext cx="4191120" cy="30114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55FE-BED2-49BC-9093-0DD64174E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39152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6197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en ADH levels high urea levels in medullary  CD &amp; interstitium equilib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ost water absorbed in presence of ADH is in the cortical collecting 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1012-8181-458D-A5A8-0E088738D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two special features of the renal medullary blood flow that contribute to the preservation of the high solute concentr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edullary blood flow is low, accounting for less than 5% of the renal blood flow. This sluggish blood flow is sufficient to supply the metabolic needs of the tissues but helps to minimize solute loss from the medullary interstit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asa recta serve as countercurrent exchanger, minimizing washout of solutes from the medullary interstit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 vasa recta do not create the medullary hyperosmolarity, but they do prevent from being dissip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ontent Placeholder 8" descr=""/>
          <p:cNvPicPr/>
          <p:nvPr/>
        </p:nvPicPr>
        <p:blipFill>
          <a:blip r:embed="rId1"/>
          <a:stretch/>
        </p:blipFill>
        <p:spPr>
          <a:xfrm>
            <a:off x="4648320" y="1927080"/>
            <a:ext cx="4038480" cy="387216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2672-3FCC-4713-BD19-D47209A5D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ercurrent exchange in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sa Rec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ercurrent exchange in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sa Rec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ycles NaCl in medu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s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from interstitial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ending lim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ea transpor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uaporin proteins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channe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ending lim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nestrated capill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3567-830E-4AC0-8E4A-75D213BBE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17_17"/>
          <p:cNvPicPr/>
          <p:nvPr/>
        </p:nvPicPr>
        <p:blipFill>
          <a:blip r:embed="rId1"/>
          <a:srcRect l="7500" t="4244" r="7500" b="0"/>
          <a:stretch/>
        </p:blipFill>
        <p:spPr>
          <a:xfrm>
            <a:off x="4267080" y="1933560"/>
            <a:ext cx="4267440" cy="408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4674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Vasa Rec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a recta maintains hypertonicity by countercurrent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l and urea diffuse into descending limb and diffuse back into medullary tissue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level of the medulla, [solute] is higher in the ascending limb than in the interstitial fluid; and higher in the interstitial fluid than in descending vess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s are permeable to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NaCl and u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oid osmotic pressure in vasa recta &gt; interstitial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DE5A-3E5D-4678-BBF3-772916A4B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440" y="1874520"/>
            <a:ext cx="76201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H: causes an increase in permeability of DCT, CT, and CD for water. It also increase the permeability of medullary CD to u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ngth of the loop of Henle: the longer the loop of Henle, the greater the countercurrent multiplication effect and more urine concent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w born baby having shorter loop of Henle can not concentrate as same as the adu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FD7E-9D0D-4158-B3B0-2E97EF610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621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 of salt to ALH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to a decrease in GFR (Hemorrhage) the filter load of solute is decrea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leads to a decrease in the delivery of salt to ALH resulting in decreased reabsorption of salt from AL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us there is decreased addition of salts to the medullary ISF, leading to decreased medullary longitudinal osmotic gradient and decreased urine concent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54DA-BA11-4EE3-BB8F-7FBD374BE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09120" y="1951200"/>
            <a:ext cx="769644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bsorption of salt out of ALH: Diuretic drugs (Lasix) prevents NaCl reabsorption from thick ALH, leading to decreased addition of salts to the medullary ISF, decreased medullary longitudinal osmotic gradient and finally decreased urine concent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 of fluid to medullary CT and CD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um urine concentration occures when only a small amount of fluid enters the medullary CT and 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6626-E1BC-4A8F-B276-293F9C5DE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09120" y="18284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during an osmotic diuresis, the increased fluid volume delivered to the medullary CT and CD leads to wash out of medullary longitudinal osmotic gradient and cause decreased urine concentr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ullary blood flow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ly very low blood flow (about 5% of total RBF) to the medu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blood flow to the medulla may cause wash out of the medullary longitudinal osmotic gradient, decreased effectiveness of the countercurrent exchange system and decreased urine concen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78DB-4ECE-4760-8240-B6B96D37E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828800"/>
            <a:ext cx="7848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scribe that the loop of Henle is referred to as countercurrent multiplier and the loop and vasa recta as countercurrent  exchange systems in concentrating and diluting u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what happens to osmolarity of tubular fluid in the various segments of the loop of Henle when concentrated urine is being produ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the factors that determine the ability of loop of Henle to make a concentrated medullary grad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iate between water diuresis and osmotic diur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eciate clinical correlates of diabetes mellitus and diabetes insipid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9528-0FC7-4A94-BA8B-5D97B7309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7720" y="2026800"/>
            <a:ext cx="72392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e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ea recycling contributes significantly to the medullary longitudinal osmotic gradient and is essential for the countercurrent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erson on a protein free diet loses the ability to concentrate urine due to lack of urea in the medul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8D90-59F5-4F64-B055-9F3ADF4AA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 Diuresis and Osmotic Diu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5BFF-756C-4197-AF8B-2D8671EDD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ontent Placeholder 4" descr=""/>
          <p:cNvPicPr/>
          <p:nvPr/>
        </p:nvPicPr>
        <p:blipFill>
          <a:blip r:embed="rId1"/>
          <a:stretch/>
        </p:blipFill>
        <p:spPr>
          <a:xfrm>
            <a:off x="749160" y="719280"/>
            <a:ext cx="7651800" cy="126828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1274-CB14-4D8E-9D2C-2F6C6A8B9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Content Placeholder 4" descr=""/>
          <p:cNvPicPr/>
          <p:nvPr/>
        </p:nvPicPr>
        <p:blipFill>
          <a:blip r:embed="rId1"/>
          <a:stretch/>
        </p:blipFill>
        <p:spPr>
          <a:xfrm>
            <a:off x="743040" y="719280"/>
            <a:ext cx="7657920" cy="3359160"/>
          </a:xfrm>
          <a:prstGeom prst="rect">
            <a:avLst/>
          </a:prstGeom>
          <a:ln w="0">
            <a:noFill/>
          </a:ln>
        </p:spPr>
      </p:pic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6178-B3D7-4136-A498-F28349796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ontent Placeholder 4" descr=""/>
          <p:cNvPicPr/>
          <p:nvPr/>
        </p:nvPicPr>
        <p:blipFill>
          <a:blip r:embed="rId1"/>
          <a:stretch/>
        </p:blipFill>
        <p:spPr>
          <a:xfrm>
            <a:off x="743040" y="719280"/>
            <a:ext cx="7657920" cy="5383080"/>
          </a:xfrm>
          <a:prstGeom prst="rect">
            <a:avLst/>
          </a:prstGeom>
          <a:ln w="0">
            <a:noFill/>
          </a:ln>
        </p:spPr>
      </p:pic>
      <p:sp>
        <p:nvSpPr>
          <p:cNvPr id="1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BFE6-92BC-4583-A428-1EACB13D8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178596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17C4-26E8-479A-A3F3-850272350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2481120"/>
          </a:xfrm>
          <a:prstGeom prst="rect">
            <a:avLst/>
          </a:prstGeom>
          <a:ln w="0">
            <a:noFill/>
          </a:ln>
        </p:spPr>
      </p:pic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38C4-20C4-44E5-A16E-30A1AD1A0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396864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AEFA-6E2D-4C75-8FEA-D840F39DC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5499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04B4-DA33-43C8-BE97-CE3569790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abetes insipi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2635200"/>
            <a:ext cx="3581280" cy="30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: inability to produce or release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ine: low fixed specific gravity (diluted ur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dip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4720" y="1839600"/>
            <a:ext cx="4041720" cy="90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phrogenic diabetes insipid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876560" y="2711520"/>
            <a:ext cx="34290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: inability of kidney to respond to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betes melli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specific gravity u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553080" y="5848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3F6B-5DE3-4E09-8EEF-9657B2BDF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title"/>
          </p:nvPr>
        </p:nvSpPr>
        <p:spPr>
          <a:xfrm>
            <a:off x="761760" y="609120"/>
            <a:ext cx="75438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Disorders of urinary concentrating 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197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ercurr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14400" y="1828800"/>
            <a:ext cx="3733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stem in which inflow runs parallel and in close proximity but opposite to the outf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eration of such a system allows the outgoing fluid to heat the incoming flui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107C-EF9F-48EE-A1BF-67B3AD2CB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30764" t="67276" r="62244" b="9015"/>
          <a:stretch/>
        </p:blipFill>
        <p:spPr>
          <a:xfrm>
            <a:off x="5403960" y="1828800"/>
            <a:ext cx="2174760" cy="4151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2182-4640-467F-B0AB-A83448169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5438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Mechanism for urine concentration/di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loop of Henle reabsorbs another 20% of the salt/water in tubular fluid, primary function is to determine osmolarity of urine (i.e. whether concentrated or diluted)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ountercurrent multipli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collecting duct is where urine concentration is determined, osmolarity of interstitial fluid in medulla must be high and osmolarity of tubular fluid must be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current multiplier system achieves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DCCB-E709-448F-BA3E-19EFF28B5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Countercurrent multiplier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repetitive reabsorption of NaCl by the thick ascending loop of Henle and continued inflow of new NaCl from PCT into L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Cl reabsorbed from the ascending LOH keeps adding newly arrived NaCl (into LOH from PCT), thus multiplying its concentration in the med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4CBA-0EFD-400D-868D-CC0879562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rcRect l="8622" t="1591" r="0" b="55718"/>
          <a:stretch/>
        </p:blipFill>
        <p:spPr>
          <a:xfrm>
            <a:off x="4495680" y="2362320"/>
            <a:ext cx="403884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dilute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102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ilution (low or no AD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absorb solute don’t absorb wa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) Isoosmotic fluid from P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2) Thin descending limb permeable to water, less for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ater reabsorbed, tubule osomolality = medulla (i.e.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3325-EFD1-483B-998E-2AC719546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rcRect l="8622" t="1591" r="0" b="55718"/>
          <a:stretch/>
        </p:blipFill>
        <p:spPr>
          <a:xfrm>
            <a:off x="4495680" y="2362320"/>
            <a:ext cx="4038840" cy="28954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dilute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38102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3) Thin ascending limb impermeable to water, permeable to NaCl (pas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ubule volume unchanged, [NaCl]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4) TAL impermeable to water, NaCl actively reabsorbed (diluting segment of nephr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iluting tubule fluid 150 mOsm/kg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E515-930A-49FF-8B8B-5E6A5D7CA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8622" t="1591" r="0" b="55718"/>
          <a:stretch/>
        </p:blipFill>
        <p:spPr>
          <a:xfrm>
            <a:off x="4495680" y="2362320"/>
            <a:ext cx="4038840" cy="28954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dilute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65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5) Collecting duct reabsorb NaCl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smolality, may reach 50 mOsm/kg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BA7D-4C2D-4882-9DBD-461FAA5E9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19720" y="609120"/>
            <a:ext cx="403848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3657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ncentration of urine (ADH depend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-4 same as di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absorbed NaCl in loop of Henle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osmolality of intersti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enerated by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ountercurrent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rcRect l="9648" t="53430" r="0" b="4284"/>
          <a:stretch/>
        </p:blipFill>
        <p:spPr>
          <a:xfrm>
            <a:off x="4343400" y="2209680"/>
            <a:ext cx="4191120" cy="301176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58C4-4EFA-43DF-9B54-90E3CD08E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soliman1</dc:creator>
  <dc:description/>
  <dc:language>en-US</dc:language>
  <cp:lastModifiedBy>msoliman1</cp:lastModifiedBy>
  <dcterms:modified xsi:type="dcterms:W3CDTF">2016-04-24T15:33:00Z</dcterms:modified>
  <cp:revision>1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