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2355-903B-45A5-96B1-4852729DA48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C60A-2856-4527-B89C-1CB42878FDD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1927-B0CF-4983-BA4F-89B6E9CCE63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984F-6FE5-4061-A0FC-5AF200E8284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6ED9-AA21-42B9-B312-6EEBC8ADB6A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B77E-9561-4048-81A7-777DCF6D0A6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64B5-E8D0-4222-8D37-D802574CCD5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9423-3F95-4736-96DA-28E3BB7C48D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518F-E636-4BAE-B28B-EE75D0E8349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6798-7C98-4ABE-B75F-52436DC4288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7E1E-E4F1-42B7-AEA5-F03A3478872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2DFC-6A54-4C20-8674-C6182151B1A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1D2F-A01E-4578-943A-7B211BDE0C3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D45F-C808-4813-ABF2-A86B9EC2104F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71E6-7C4D-46AC-AEF2-19A5432A644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E5A6-5292-44D7-8B39-D92727C017D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4E08-6CBC-46BE-A3DB-D664B01A584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5A8E-1E6D-43DF-A140-A7AD3E3709C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7236-7C3B-4CA1-82B4-333C9213268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490D-DECE-405E-AE32-18FC0EC7A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CC24-B154-4937-A262-831DBE05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32CF-10C2-492C-AB1A-67F60A103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B132-A0C6-461B-B8AE-80A79AEEF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5579-9D93-46F3-A431-00E0E13D6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770B-C65C-4631-B1C4-3E7F7CE0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E7B0-DEAE-45BD-9CC1-7F398559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57A9-01F1-4441-833D-61D90B75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4E00-3877-4E16-97BE-FD4B6742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D943-2CF3-471C-AAEF-D92A7177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7F2F-1FE1-4A90-8CA2-3AFAAF8F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593F-B90C-4D6A-8ACC-AF2446A9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1827-1F1C-4D3F-BBF9-F4D36291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C5CA-80DD-4824-BF36-0ABED0ED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4617-10B8-4CAC-9C1A-A70A46C1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B039-6DA4-4D7F-A52A-522DB88FF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898B-AE3E-4ECA-A020-D695B4B4E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D8FEBC-7BC0-4B72-B14E-05E75CCF0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78AC50-1A29-4FEB-A1FF-CAA9C104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DFEF87-14A5-4594-BBEB-62423E0A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017F2C-8AF5-4FF5-9601-6823BB42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DCA715-CD3A-4A1C-86E7-3156AD27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2368-F2A9-46E3-8411-16C5B0A3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58F996-9AF0-4160-A420-DDA6D436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8214D4-C0CD-4811-A9A2-B055806E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05DF94-D821-47C4-880E-2B5EEC2B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5DA71B-CD15-4AA2-8428-C56F67AC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86EA87-1636-47AD-921E-79FD48F4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825C10-8C5F-4365-913E-2F010FF8A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A2CD2F-4E25-49D3-AB49-A209C151E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05EBD-682F-4354-9436-A97211CA7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6AA7A-BFA0-44AD-B9F5-E6F1671A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931A1-0BDA-414F-80B5-300BBB73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034D-7536-4ACB-AB4D-7C5FE470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E2379-A98E-4406-8E9F-FA1672DB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29704-BAB5-43DE-A9FD-3052978A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7DE49-69BC-4A04-8BEF-B96272C8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A5D48-29B8-4756-8464-564D9CF4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76E51-16DB-4552-BA55-636E2356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5DB0C-3A55-4834-A81C-E4B3C334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57557-F154-4EA1-9074-227801E7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87AD3-7C61-43B0-9E97-DA14E09E7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7E1DA-03B8-4C6A-B11A-A76B39442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5DC948-CF55-44FB-A214-9E9D71380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5235-AF49-4C0A-BB5D-8D710B76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3FC4FA-0A5D-4E9D-AAA9-064D91FC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9DE483-174E-4AC2-BEE4-136F84F3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83D687-377E-4A45-B79A-6CB9A2C4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F6D926-AB2F-4574-B2DD-29E8960B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82603A-907C-49A1-B3D8-ECCE577C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1BFC80-A86C-4091-A3A7-16C223A0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D5D53B-2688-4DB4-96AC-2A936B4C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AC051C-C1E0-441E-9E21-7E5E47DD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8FFA8D-A493-4EFC-8EF7-772F537E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427164-B3AF-4620-AB90-1461AD7EE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157A-B491-4C94-B538-16C76348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8BF5C3-0DC8-45FE-8810-17D5034D4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28A7-D9F1-413C-88E7-D70AD07F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0E73-B44B-4414-BAFA-D3E43711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AF36-5D55-4C99-937F-5E608219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CFB3-D051-4445-8FD4-B163385B20AE}" type="slidenum">
              <a:rPr b="0" lang="en-US" sz="1600" spc="-1" strike="noStrike">
                <a:solidFill>
                  <a:srgbClr val="fefac9"/>
                </a:solidFill>
                <a:latin typeface="Constantia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2A06-F88C-44EC-8755-177C90A9B6F3}" type="slidenum">
              <a:rPr b="0" lang="ar-SA" sz="1200" spc="-1" strike="noStrike">
                <a:solidFill>
                  <a:srgbClr val="d6ec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traight Connector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Straight Connector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Oval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8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9228-B402-4BB3-8E0E-212984AABC4E}" type="slidenum">
              <a:rPr b="0" lang="en-US" sz="1600" spc="-1" strike="noStrike">
                <a:solidFill>
                  <a:srgbClr val="fefac9"/>
                </a:solidFill>
                <a:latin typeface="Constantia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9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4d26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44d26"/>
                </a:solidFill>
                <a:latin typeface="Constanti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4AFF-F047-4AE4-A8CE-B00AAFEB5231}" type="slidenum">
              <a:rPr b="0" lang="en-US" sz="1600" spc="-1" strike="noStrike">
                <a:solidFill>
                  <a:srgbClr val="444d26"/>
                </a:solidFill>
                <a:latin typeface="Constantia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Straight Connector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1296-CAD2-47A9-840E-1410D1ED414D}" type="slidenum">
              <a:rPr b="0" lang="en-US" sz="1600" spc="-1" strike="noStrike">
                <a:solidFill>
                  <a:srgbClr val="fefac9"/>
                </a:solidFill>
                <a:latin typeface="Constantia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dt" idx="15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Renal Block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1 Lectur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037520" y="2362320"/>
            <a:ext cx="702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  <a:ea typeface="Arial"/>
              </a:rPr>
              <a:t>Chemical Examination of Ur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179-5-iline_default"/>
          <p:cNvPicPr/>
          <p:nvPr/>
        </p:nvPicPr>
        <p:blipFill>
          <a:blip r:embed="rId1"/>
          <a:stretch/>
        </p:blipFill>
        <p:spPr>
          <a:xfrm>
            <a:off x="684360" y="115920"/>
            <a:ext cx="7991280" cy="49006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3"/>
          <p:cNvSpPr/>
          <p:nvPr/>
        </p:nvSpPr>
        <p:spPr>
          <a:xfrm>
            <a:off x="1295280" y="5094720"/>
            <a:ext cx="713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3880"/>
                </a:solidFill>
                <a:latin typeface="Constantia"/>
                <a:ea typeface="Tahoma"/>
              </a:rPr>
              <a:t>A: Normal ser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8803"/>
                </a:solidFill>
                <a:latin typeface="Constantia"/>
                <a:ea typeface="Tahoma"/>
              </a:rPr>
              <a:t>B: Multiple myeloma (M component in </a:t>
            </a:r>
            <a:r>
              <a:rPr b="1" lang="en-US" sz="2000" spc="-1" strike="noStrike">
                <a:solidFill>
                  <a:srgbClr val="eb8803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eb8803"/>
                </a:solidFill>
                <a:latin typeface="Constantia"/>
                <a:ea typeface="Tahoma"/>
              </a:rPr>
              <a:t> reg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3880"/>
                </a:solidFill>
                <a:latin typeface="Constantia"/>
                <a:ea typeface="Tahoma"/>
              </a:rPr>
              <a:t>C: Densitometry of </a:t>
            </a:r>
            <a:r>
              <a:rPr b="1" lang="ja-JP" sz="2000" spc="-1" strike="noStrike">
                <a:solidFill>
                  <a:srgbClr val="613880"/>
                </a:solidFill>
                <a:latin typeface="Constantia"/>
                <a:ea typeface="Tahoma"/>
              </a:rPr>
              <a:t>“</a:t>
            </a:r>
            <a:r>
              <a:rPr b="1" lang="en-US" sz="2000" spc="-1" strike="noStrike">
                <a:solidFill>
                  <a:srgbClr val="613880"/>
                </a:solidFill>
                <a:latin typeface="Constantia"/>
                <a:ea typeface="Tahoma"/>
              </a:rPr>
              <a:t>A</a:t>
            </a:r>
            <a:r>
              <a:rPr b="1" lang="ja-JP" sz="2000" spc="-1" strike="noStrike">
                <a:solidFill>
                  <a:srgbClr val="613880"/>
                </a:solidFill>
                <a:latin typeface="Constantia"/>
                <a:ea typeface="Tahoma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8803"/>
                </a:solidFill>
                <a:latin typeface="Constantia"/>
                <a:ea typeface="Tahoma"/>
              </a:rPr>
              <a:t>D: Densitometry of </a:t>
            </a:r>
            <a:r>
              <a:rPr b="1" lang="ja-JP" sz="2000" spc="-1" strike="noStrike">
                <a:solidFill>
                  <a:srgbClr val="eb8803"/>
                </a:solidFill>
                <a:latin typeface="Constantia"/>
                <a:ea typeface="Tahoma"/>
              </a:rPr>
              <a:t>“</a:t>
            </a:r>
            <a:r>
              <a:rPr b="1" lang="en-US" sz="2000" spc="-1" strike="noStrike">
                <a:solidFill>
                  <a:srgbClr val="eb8803"/>
                </a:solidFill>
                <a:latin typeface="Constantia"/>
                <a:ea typeface="Tahoma"/>
              </a:rPr>
              <a:t>B</a:t>
            </a:r>
            <a:r>
              <a:rPr b="1" lang="ja-JP" sz="2000" spc="-1" strike="noStrike">
                <a:solidFill>
                  <a:srgbClr val="eb8803"/>
                </a:solidFill>
                <a:latin typeface="Constantia"/>
                <a:ea typeface="Tahoma"/>
              </a:rPr>
              <a:t>”</a:t>
            </a:r>
            <a:r>
              <a:rPr b="1" lang="en-US" sz="2000" spc="-1" strike="noStrike">
                <a:solidFill>
                  <a:srgbClr val="eb8803"/>
                </a:solidFill>
                <a:latin typeface="Constantia"/>
                <a:ea typeface="Tahoma"/>
              </a:rPr>
              <a:t> (M component is called M Spik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5720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ssociated with renal diseas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Glomerular protein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igh glomerular permeability causes filtration of high molecular weight protei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83280" indent="-2628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glomerulonephriti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Tubular protein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ow tubular reabsorption with normal glomerular permeabilit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uses excretion of low mol. wt. protei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83280" indent="-2628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chronic nephriti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82520" y="380880"/>
            <a:ext cx="40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Renal protein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45720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Orthostatic (postural) protein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form of benign or physiological proteinur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ccurs frequently in young adults due to periods spent in a vertical posture (body position) or during muscular exercis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creased pressure on the renal vein in the vertical position causes orthostatic proteinur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isappears in horizontal postur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82520" y="380880"/>
            <a:ext cx="40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Renal protein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Microalbumin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small amounts of albumin in the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83280" indent="-2628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20–200 mg/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83280" indent="-2628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nnot be detected by ordinary urine test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eeds special tests for detec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arly indicator of glomerular dysfunction due to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83280" indent="-2628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Uncontrolled diabetes mellitu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83280" indent="-2628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Hypertension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82520" y="380880"/>
            <a:ext cx="40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Renal protein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oteins are added to the urine after kidney filtr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ile passing through the lower urinary tract (ureters, bladder, urethra, prostate, vagina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ue to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05600" indent="-271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Lower urinary tract infection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05600" indent="-271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rauma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05600" indent="-271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umor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05600" indent="-271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tone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56600" y="380880"/>
            <a:ext cx="50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Post-renal protein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sugar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Glucos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detectable amount of glucose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ue to diabetes mellitu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Plasma glucose level exceeds the renal threshold                       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ue to renal disease (renal glucosuria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Normal plasma glucose level with proximal tubular malfunction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Decreased renal threshold as observed in gestational diabetes and Fanconi’s syndrom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266400" y="380880"/>
            <a:ext cx="25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Glycos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Fructos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fructose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utritional caus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13160" indent="-2743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High fructose intak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etabolic caus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13160" indent="-2743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Low fructokinase or aldolase B in the liver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Galactos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galactose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utritional cause: high galactose intak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etabolic caus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13160" indent="-2743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Low galactokinase or galactose -1-PO4 uridyl transferase in the liver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266400" y="380880"/>
            <a:ext cx="25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Glycos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7200" y="1143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ketones, acetone, acetoacetic acid and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hydroxybutyric acid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ue to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iabetic ketoacidosi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tarv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ietary imbalance: high fat and low CHO die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henylketonuria (PKU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380880" y="3808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Keton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bile, bilirubin and bile salts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Bilirubi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normally no billirubin is detected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is detected in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20720" indent="-2772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Hepatocellular damag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20720" indent="-2772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Obstruction of bile duct due to stones (extrahepatic) and hepatic tumors (intrahepatic)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Urobilinoge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normally present in trace amoun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igh urobilinogen is found in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20720" indent="-2772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Hemolytic anemia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20720" indent="-2772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Hepatocellular damag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Nitrite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ositive nitrite test indicates bacteria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01320" y="380880"/>
            <a:ext cx="20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Chol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066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detectable amount of blood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ue to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cute / chronic glomerulonephriti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ocal disorders of kidney and genito-urinary trac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rauma, cystitis, renal calculi, tumor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leeding disorder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Hemophilia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268560" y="380880"/>
            <a:ext cx="255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Hemat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Upon completion of this lecture, students should be able to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ifferentiate between normal and abnormal constituents of urine including: Proteins, sugars, ketone bodies, nitrite, bile pigments, blood etc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Know the clinical conditions in different types of proteinuria, blood urea and glycosuria etc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489240" y="533520"/>
            <a:ext cx="243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Objec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7200" y="1066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Hemoglobin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hemolysed blood in urine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ue to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emoglobinopathi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ickle cell anemia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halassemia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lar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ransfusion reac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Blood group incompatibility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268560" y="380880"/>
            <a:ext cx="255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Hemat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troduc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ormal composition of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bnormal composition of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otein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Pre-renal (multiple myeloma)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Rena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Post-rena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lycosuria: fructosuria, galactosur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Ketonur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ematuria: hemoglobinur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446040" y="53352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5720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Urine is a fluid excreted by most animals including huma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is formed in the kidneys (renal glomeruli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fluid undergoes chemical changes before it is excreted as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ormal urine excretion by a healthy person is about 1.5 L per da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333000" y="380880"/>
            <a:ext cx="14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Ur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1143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Urine contains organic and inorganic constituent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jor inorganic constituent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odium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Potassium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Chlorid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mall amounts of Ca, Mg, sulfur and phosphate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races of Fe, Cu, Zn, I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jor organic constituent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Non-protein nitrogen (NPN) compound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Organic acid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ugar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races of proteins, vitamins, hormones, pigment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04040" y="380880"/>
            <a:ext cx="650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Normal composition of ur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12193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38960" indent="-13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otein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38960" indent="-13896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ormal urine contains small amount of protein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78720" indent="-145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&lt; 200 mg/day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138960" indent="-13896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cretion of more than this level causes proteinur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38960" indent="-13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38960" indent="-13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otein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38960" indent="-13896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cretion of abnormal amounts of protein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38960" indent="-13896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oteinuria has three type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78720" indent="-145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Pre-rena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378720" indent="-145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Rena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378720" indent="-145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Post-rena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72000" y="380880"/>
            <a:ext cx="705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Abnormal composition of ur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10663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163440" indent="-16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ome diseases or conditions increase plasma protein levels not involving the kidney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63440" indent="-16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uses increased filtration of these proteins in the kidney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63440" indent="-16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s exceeds the normal reabsorptive capacity of renal tubul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63440" indent="-16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sults in overflow of proteins in the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63440" indent="-16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63440" indent="-16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ultiple myelom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63440" indent="-16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ncer of the antibody-producing plasma cell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63440" indent="-16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uses pre-renal proteinur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41120" y="380880"/>
            <a:ext cx="48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Pre-renal protein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0663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52640" indent="-15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serum contains elevated levels of light-chain monoclonal antibodies called Bence-Jones protei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52640" indent="-15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s protein is filtered in the kidneys in high amoun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52640" indent="-15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ceeding the tubular reabsorption capacit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52640" indent="-15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ence excreted in the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52640" indent="-15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ence-Jones protein coagulates at 40–60 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onstantia"/>
              </a:rPr>
              <a:t>o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 and dissolves at 100 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onstantia"/>
              </a:rPr>
              <a:t>o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52640" indent="-15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52640" indent="-15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ultiple myeloma cases are diagnosed by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415800" indent="-159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erum electrophoresi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415800" indent="-159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Immunoelectrophoresi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141120" y="380880"/>
            <a:ext cx="48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Pre-renal protein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44" name="Picture 3" descr="179-6-iline_default"/>
          <p:cNvPicPr/>
          <p:nvPr/>
        </p:nvPicPr>
        <p:blipFill>
          <a:blip r:embed="rId1"/>
          <a:stretch/>
        </p:blipFill>
        <p:spPr>
          <a:xfrm>
            <a:off x="324000" y="620640"/>
            <a:ext cx="8351640" cy="4969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45" name="Rectangle 4"/>
          <p:cNvSpPr/>
          <p:nvPr/>
        </p:nvSpPr>
        <p:spPr>
          <a:xfrm>
            <a:off x="2646720" y="166680"/>
            <a:ext cx="34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7791"/>
                </a:solidFill>
                <a:latin typeface="Constantia"/>
                <a:ea typeface="Tahoma"/>
              </a:rPr>
              <a:t>Multiple myel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533520" y="5766480"/>
            <a:ext cx="828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7791"/>
                </a:solidFill>
                <a:latin typeface="Constantia"/>
                <a:ea typeface="Tahoma"/>
              </a:rPr>
              <a:t>A: Serum protein electrophoresis showing the M compon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7791"/>
                </a:solidFill>
                <a:latin typeface="Constantia"/>
                <a:ea typeface="Tahoma"/>
              </a:rPr>
              <a:t>B: Serum and urine immunofixation electrophore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0:54:02Z</dcterms:created>
  <dc:creator/>
  <dc:description/>
  <dc:language>en-US</dc:language>
  <cp:lastModifiedBy/>
  <dcterms:modified xsi:type="dcterms:W3CDTF">2016-04-14T08:04:38Z</dcterms:modified>
  <cp:revision>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513351033</vt:lpwstr>
  </property>
</Properties>
</file>