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7136-295D-478D-9859-18835E481D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C55C-4D21-4B72-B5C1-A14247C4B14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1355-B4B1-4E15-A3E6-3FA0E21206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B5C0-7E83-4F0D-98B6-68DAA6A4E7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7EE7-7FDF-4740-9A94-50B0D2DE44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E629-93E9-4E62-8929-D40612ABF9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8FB8-CD74-413F-938C-65357FA4A5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3BB4-18F8-45FB-AB60-5C9525E409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0661-9086-401E-96B7-1BA86EEA46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0164-8D7D-4533-B5AB-CFBB2ED24C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8F4C-6B5F-4290-AEAB-7D080AEACC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847C-914F-453A-B647-BD0A5DD802E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7CD8-77CD-458D-A37B-A24FEBA90E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DE16-7D28-4CC5-BAE3-08708C14F63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B6D0-997A-471D-8A8B-E2E9332EA5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D6FF-7E37-4917-A9E8-9C958655A4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DDB1-8034-4027-BE8D-BEBC9E80FA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6289-F685-4CA9-B37A-9887434A37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C148-FBC3-4A9A-ADFB-B19FEA6F01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057-C0F4-4E1F-B77B-CB388070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F28-7942-4360-945D-1E96D68D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D98-C03E-4251-B5B0-BA7F4B69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976-5E58-496A-B0D6-DC5F6AE5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B51C-4E4C-445D-8265-378F5CF8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EDB4-0ED6-494D-9FF0-24301D73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1210-C93B-4BC3-9550-FC7A2114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EDEC-8D5E-49B7-92D2-88503F5F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C3EE-4CDE-4E7A-A1F5-E0234172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34E1-AA23-46E2-8E89-78BDE984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D758-97F9-4104-8441-0790F8FF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FB5-B36F-4F71-8604-15C072E0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DC15-B52A-41C9-BF1E-774CF7C4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51C3-642D-4B16-B73C-D7581D6F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1DF4-D933-4E27-B6E6-0A19F94A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85F2-26E2-4E8D-8F39-E83DB96C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9399-BB0E-4A28-AE8B-E9805A39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24C82-6D3E-42C3-B8BC-A9839FD0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DFC9D-6551-4C21-B5C1-900A06D1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A7531-9B76-43C9-B770-4BF22EDF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7487D-B565-487B-9C34-E6A6524C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56BCA-6CA8-43CD-81AF-B56546FA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BDC-E964-4CCB-BEBD-8A5B2FE7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3100A-1E9D-439A-BAAF-1B696E3C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9E270-8DE7-4DD4-BBBE-04AC6615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1175C-D850-488F-9501-B6C31DE4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86565-6FC0-45DC-B9D8-F559AECC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67001-2C5D-469B-8329-011D039C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58D90-3796-4C4C-B95E-C490D4CE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D801F-D78F-4C39-BE6A-71226820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89E14-089E-44AF-A4C7-BFCEB51B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776CC-7F91-4721-A627-C164B6F8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2EFF7-4CE3-44F8-B4FD-5CAEECBA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2C3-1CAC-40ED-BE5F-886C8710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12AC9-60C6-4F33-BD2B-9C563118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DDA46-4561-4AC8-8EAF-7E072D3C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7BB92-C1D8-4C6F-8BF4-0216C667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221AE-9295-4FFE-A9E7-A2EDCCC5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4D84F-2656-4931-9A28-785F14BC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509D-6C59-45DC-A5FE-A62B37D0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D688B-D452-409E-8402-BA91A5B9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46261-F406-4EE9-B773-B26A8CFB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A185F-D676-4EE4-832E-7157CA21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F7F0FA-CFB7-46E3-939D-6231BC22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479-8D6D-4453-93C2-FBF70F60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7A5CA3-F65E-4461-A202-71CA071D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F1F462-CE8B-4655-9896-5696FB97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E72061-D372-4466-A767-B8DF6BA5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657E8F-2BF9-4433-9053-CD0D1564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0B8B8B-F96C-499A-AEE3-12F097EE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D72DC9-BB67-4FAC-AB7A-ABA21F82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04B2E8-6C30-444D-95FB-B745D752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0F8938-4A71-447F-9501-A5EEDF02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B0DDF1-1632-4742-8392-FF939C81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ED0173-F9C7-4759-9D3B-5AA29CB8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4D5-2F27-4FE9-A967-501D1C10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D47924-FD0C-4264-BAF0-603E552C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853-72AD-414A-B7A0-8951324F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562-EB7F-4577-BCA3-6F8C1E93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07A-ABEC-4159-91EE-815351B3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FA45-43B0-416A-ACDD-297C5C99140C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13DB-0B65-465F-BBA8-D3E3DC8FD4FF}" type="slidenum">
              <a:rPr b="0" lang="ar-SA" sz="1200" spc="-1" strike="noStrike">
                <a:solidFill>
                  <a:srgbClr val="d6ec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6AA8-63A1-4F5C-A268-E3339D0416DB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60F7-3448-43AC-AFA1-8E4BD3E7D96C}" type="slidenum">
              <a:rPr b="0" lang="en-US" sz="1600" spc="-1" strike="noStrike">
                <a:solidFill>
                  <a:srgbClr val="444d26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0C97-7455-4A87-A13F-EA50240F9D57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 Block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1 Lectu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37520" y="2362320"/>
            <a:ext cx="70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  <a:ea typeface="Arial"/>
              </a:rPr>
              <a:t>Chemical Examina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179-5-iline_default"/>
          <p:cNvPicPr/>
          <p:nvPr/>
        </p:nvPicPr>
        <p:blipFill>
          <a:blip r:embed="rId1"/>
          <a:stretch/>
        </p:blipFill>
        <p:spPr>
          <a:xfrm>
            <a:off x="684360" y="115920"/>
            <a:ext cx="7991280" cy="4900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1295280" y="5094720"/>
            <a:ext cx="713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3880"/>
                </a:solidFill>
                <a:latin typeface="Constantia"/>
                <a:ea typeface="Tahoma"/>
              </a:rPr>
              <a:t>A: Normal se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8803"/>
                </a:solidFill>
                <a:latin typeface="Constantia"/>
                <a:ea typeface="Tahoma"/>
              </a:rPr>
              <a:t>B: Multiple myeloma (M component in </a:t>
            </a:r>
            <a:r>
              <a:rPr b="1" lang="en-US" sz="2000" spc="-1" strike="noStrike">
                <a:solidFill>
                  <a:srgbClr val="eb8803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  <a:ea typeface="Tahoma"/>
              </a:rPr>
              <a:t> reg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3880"/>
                </a:solidFill>
                <a:latin typeface="Constantia"/>
                <a:ea typeface="Tahoma"/>
              </a:rPr>
              <a:t>C: Densitometry of </a:t>
            </a:r>
            <a:r>
              <a:rPr b="1" lang="ja-JP" sz="2000" spc="-1" strike="noStrike">
                <a:solidFill>
                  <a:srgbClr val="613880"/>
                </a:solidFill>
                <a:latin typeface="Constantia"/>
                <a:ea typeface="Tahoma"/>
              </a:rPr>
              <a:t>“</a:t>
            </a:r>
            <a:r>
              <a:rPr b="1" lang="en-US" sz="2000" spc="-1" strike="noStrike">
                <a:solidFill>
                  <a:srgbClr val="613880"/>
                </a:solidFill>
                <a:latin typeface="Constantia"/>
                <a:ea typeface="Tahoma"/>
              </a:rPr>
              <a:t>A</a:t>
            </a:r>
            <a:r>
              <a:rPr b="1" lang="ja-JP" sz="2000" spc="-1" strike="noStrike">
                <a:solidFill>
                  <a:srgbClr val="613880"/>
                </a:solidFill>
                <a:latin typeface="Constantia"/>
                <a:ea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8803"/>
                </a:solidFill>
                <a:latin typeface="Constantia"/>
                <a:ea typeface="Tahoma"/>
              </a:rPr>
              <a:t>D: Densitometry of </a:t>
            </a:r>
            <a:r>
              <a:rPr b="1" lang="ja-JP" sz="2000" spc="-1" strike="noStrike">
                <a:solidFill>
                  <a:srgbClr val="eb8803"/>
                </a:solidFill>
                <a:latin typeface="Constantia"/>
                <a:ea typeface="Tahoma"/>
              </a:rPr>
              <a:t>“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  <a:ea typeface="Tahoma"/>
              </a:rPr>
              <a:t>B</a:t>
            </a:r>
            <a:r>
              <a:rPr b="1" lang="ja-JP" sz="2000" spc="-1" strike="noStrike">
                <a:solidFill>
                  <a:srgbClr val="eb8803"/>
                </a:solidFill>
                <a:latin typeface="Constantia"/>
                <a:ea typeface="Tahoma"/>
              </a:rPr>
              <a:t>”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  <a:ea typeface="Tahoma"/>
              </a:rPr>
              <a:t> (M component is called M Spik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sociated with renal disea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lomerular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igh glomerular permeability causes filtration of high molecular weight prote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glomerulonephrit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Tubular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w tubular reabsorption with normal glomerular permeabil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excretion of low mol. wt. prote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chronic nephrit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Orthostatic (postural)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form of benign or physiological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curs frequently in young adults due to periods spent in a vertical posture (body position) or during muscular exerci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creased pressure on the renal vein in the vertical position causes orthostatic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sappears in horizontal post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Microalbum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small amounts of albumin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20–200 mg/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not be detected by ordinary urine test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eds special tests for dete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arly indicator of glomerular dysfunction 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Uncontrolled diabetes mellitu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ypertens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s are added to the urine after kidney filt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ile passing through the lower urinary tract (ureters, bladder, urethra, prostate, vagin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er urinary tract infec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um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umo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ton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56600" y="380880"/>
            <a:ext cx="50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ost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sugar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luc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detectable amount of gluc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diabetes mellitu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lasma glucose level exceeds the renal threshold                      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renal disease (renal glucosuri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ormal plasma glucose level with proximal tubular malfunc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Decreased renal threshold as observed in gestational diabetes and Fanconi’s syndrom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66400" y="38088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Glycos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Fruct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fruct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tritional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igh fructose intak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abolic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 fructokinase or aldolase B in the liver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alact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galact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tritional cause: high galactose intak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abolic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 galactokinase or galactose -1-PO4 uridyl transferase in the liver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266400" y="38088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Glycos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ketones, acetone, acetoacetic acid and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hydroxybutyric aci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abetic ketoacidos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rv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etary imbalance: high fat and low CHO die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henylketonuria (PKU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80880" y="380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Keto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bile, bilirubin and bile salts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Bilirub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normally no billirubin is detecte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detected 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patocellular damag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bstruction of bile duct due to stones (extrahepatic) and hepatic tumors (intrahepatic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Urobilinoge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normally present in trace amou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igh urobilinogen is found 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molytic an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patocellular damag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Nitrit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sitive nitrite test indicates bacteria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01320" y="380880"/>
            <a:ext cx="20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Chol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detectable amount of bloo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cute / chronic glomerulonephrit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cal disorders of kidney and genito-urinary trac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uma, cystitis, renal calculi, tumo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eeding disord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mophil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268560" y="38088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Hemat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pon completion of this lecture, students should be abl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fferentiate between normal and abnormal constituents of urine including: Proteins, sugars, ketone bodies, nitrite, bile pigments, blood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now the clinical conditions in different types of proteinuria, blood urea and glycosuria et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89240" y="533520"/>
            <a:ext cx="24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Hemoglob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hemolysed blood in urine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moglobinopath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ickle cell an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alass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la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ansfusion rea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Blood group incompatibilit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268560" y="38088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Hemat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composition of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bnormal composition of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re-renal (multiple myeloma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st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lycosuria: fructosuria, galactos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eto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maturia: hemoglob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46040" y="53352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rine is a fluid excreted by most animals including huma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formed in the kidneys (renal glomeruli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luid undergoes chemical changes before it is excreted as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urine excretion by a healthy person is about 1.5 L per da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33000" y="38088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rine contains organic and in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jor in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odiu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tassiu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hlorid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mall amounts of Ca, Mg, sulfur and phosphat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ces of Fe, Cu, Zn, I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jor 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on-protein nitrogen (NPN) compound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rganic acid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uga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ces of proteins, vitamins, hormones, pigment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04040" y="380880"/>
            <a:ext cx="65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Normal composi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urine contains small amount of prote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&lt; 200 mg/da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retion of more than this level causes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retion of abnormal amounts of protein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 has three typ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re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st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72000" y="380880"/>
            <a:ext cx="70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Abnormal composi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me diseases or conditions increase plasma protein levels not involving the kidney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increased filtration of these proteins in the kidney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exceeds the normal reabsorptive capacity of renal tubu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sults in overflow of proteins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ltiple myelom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cer of the antibody-producing plasma ce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pre-renal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41120" y="380880"/>
            <a:ext cx="48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re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erum contains elevated levels of light-chain monoclonal antibodies called Bence-Jones prote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protein is filtered in the kidneys in high amou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eeding the tubular reabsorption capac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nce excreted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nce-Jones protein coagulates at 40–60 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 and dissolves at 100 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ltiple myeloma cases are diagnosed b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15800" indent="-159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erum electrophores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415800" indent="-159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Immunoelectrophores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41120" y="380880"/>
            <a:ext cx="48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re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4" name="Picture 3" descr="179-6-iline_default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496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5" name="Rectangle 4"/>
          <p:cNvSpPr/>
          <p:nvPr/>
        </p:nvSpPr>
        <p:spPr>
          <a:xfrm>
            <a:off x="2646720" y="166680"/>
            <a:ext cx="34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7791"/>
                </a:solidFill>
                <a:latin typeface="Constantia"/>
                <a:ea typeface="Tahoma"/>
              </a:rPr>
              <a:t>Multiple myel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33520" y="5766480"/>
            <a:ext cx="82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7791"/>
                </a:solidFill>
                <a:latin typeface="Constantia"/>
                <a:ea typeface="Tahoma"/>
              </a:rPr>
              <a:t>A: Serum protein electrophoresis showing the M compon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7791"/>
                </a:solidFill>
                <a:latin typeface="Constantia"/>
                <a:ea typeface="Tahoma"/>
              </a:rPr>
              <a:t>B: Serum and urine immunofixation electrophor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0:54:02Z</dcterms:created>
  <dc:creator/>
  <dc:description/>
  <dc:language>en-US</dc:language>
  <cp:lastModifiedBy/>
  <dcterms:modified xsi:type="dcterms:W3CDTF">2016-04-14T08:04:38Z</dcterms:modified>
  <cp:revision>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513351033</vt:lpwstr>
  </property>
</Properties>
</file>