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B391-F172-4290-B145-7632477A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88DF-0169-4FF3-B5CF-E129712A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A17E8-0C1D-4138-B82C-02E80A02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B2F13-A9CA-4359-B93E-710E09EC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4BB834-2D6D-45F7-8E33-8DC83DE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DFDBB3-1FD4-49EB-8D84-A061B41D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07D021-4A2C-48A3-94F0-8039B07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18DD8-A4F6-492D-B655-F444966B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B8FC9-25AE-441C-B0CD-478F83AB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7043C-AC66-4E24-9AA6-78654476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29EA30-319F-4269-85CE-E906D981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42F5D-AE14-4C17-94A6-2FC4CC18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DED2-A890-4C34-8E00-552CB677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2BB1A0-D67B-44C4-95CE-2E8C844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0096E0-818E-4D1E-95F1-354A8424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36D0E-3C58-4B83-BA3C-EEDEF4E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E4822-2B8D-42A7-89E5-B5DB051D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57D80B-2EB8-4BDB-9E41-66D7F12F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2761AD-E60A-41A4-8215-DA86EE15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0DF495-E85D-4B05-A671-039000CD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D5A301-45BF-42D3-8DF9-37A3AAE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84C978-2E06-4E22-A6CD-2B4760FA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3566CD-7467-4CDC-AFE5-759BEF4E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6D16-DC20-4278-AFC1-5900AEAA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2AEF6-AE84-4D47-8D67-802306F5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059DF8-2849-4FC9-AC07-7FC0B88C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062E1E-226E-489B-9005-38142E5B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4C7E4D-CAB0-4FA2-AF8D-85EC170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451338-6AE8-4C73-AE7D-45C562C6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DF5107-CD55-444E-A6EA-AA517541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81B221-120C-494B-B1BB-AB7171D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1AEAE5-F43E-4415-AC4F-49B247F8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71ADE8-6BAE-4890-8338-1466DCA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23D22-FA0A-4B2F-8A9A-2E4C7230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381D0-87F7-40B3-B65D-DBF7FC76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0B0952-F6AE-4B17-989D-96D77C3B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A074EB-3327-401F-8774-074605CE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EE17A5-946E-41B9-BD72-162C888B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33C144-FAF9-4395-BE4E-897F3223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E99B44-24DA-43BF-A6EF-5CA1377B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143C72-A5FF-40A7-A4FF-33487745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61F81F-77FD-4A65-8B8B-48148811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495FA6-E7E3-441B-9288-9D249D81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4C2887-E614-47A7-B2C1-A8E86E78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A550CB-88FC-4982-A873-F204750C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037FE-74A4-4CD8-919F-6E3774C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D1BC25-7313-4651-990F-99721C0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F4F744-C437-4D37-8815-E71AB890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2BB066-BF58-4BD9-AE07-09B65A94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919693-40E2-4305-B6FF-7F0902EB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EC6B1A-E884-419D-B847-DBE3A67B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E1FDA6-83A6-4963-BA1B-72E41186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49D663-E1C2-4BD8-9DDA-FEC9F27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804CC8-5A9D-4735-B978-50AD3AA8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6D9299-32E3-4053-A18E-943E50AB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8FAC55-69BB-4F1D-827C-146C8336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8C8D-0058-4CE4-A410-07B20D17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FD1907-9D63-460E-B7A0-67FA4F95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E3D2A8-32C4-434E-B3D8-537C821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D32AD-7A1C-4891-AD48-E4C0CD9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738088-651E-4F23-88BA-CC1C5A5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8DAD9-FB64-4D7F-A6F1-3281FDB7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1D80A1-08E8-406A-9091-6B8F97EF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C7E388-95F0-46A1-83E1-36FC162D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F0FDE-1BAA-4C8B-B4A9-F8C434B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A2110-D3AA-46BE-A9B3-3810AC1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89554-3BCE-42EC-B14F-97CE735E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6F1A2-681B-44D4-A9A6-303B66D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DA54-7C4A-49FC-8FC2-DDC332D7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EA6A0-C1A4-4E4D-9473-AF199D17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77285-67F0-4A39-B46C-2906855D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8DA6F-0FE8-42D4-83BB-2ADFC04A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FF015-6D24-488C-AF6A-7801C22C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1ECC7-1301-4CB4-8450-283614CE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D0458-7171-4835-901A-F7C15973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81802-E595-4287-94E7-5E555B9D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88BFD-8B08-4AB2-8427-7B9C0CCF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B17BA-5D02-4117-B1DD-5E1C2B81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D8CC3-89B6-4B12-8694-B19827D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FC81-82B0-4EFD-94C9-4A85F25C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239EE-AD9F-4923-9295-24BDD1BD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55374-3C0D-437E-9305-2B76CA2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5FEC0-865D-4F6B-BDE5-698D460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9FA88-9057-46E7-99BB-1AE043C3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030F3-0EFB-42B2-986F-F670D3E4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80732-A8BC-4931-BADB-BAD5B575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8AF74-1763-4977-93EF-9139A427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4481D-44B1-4B01-BBF2-48772DF6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0D7D8-E639-4959-AA60-7034EC7C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32FC0-CD88-44EE-944B-70E0596F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1498-2CE3-4C1E-9128-16FF427D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E09F5-2BFD-45D9-99AF-D117B41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92EBB8-2CB3-4AF5-861E-A9855905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2CB36-040D-4900-970F-5C0057CB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EDA9F-1BB3-41B2-8FB5-F776A58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EBDE0-5A75-4841-9EBB-B32860D2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1C146-F4B0-427C-B7E4-A5C30E5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5BCE6-A561-4D8F-B4EE-6D897F6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B8A20-D98F-468E-806C-3E5AE06D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71DAA-9667-4179-A027-8741CAF3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C8BC6-935A-46F9-B3E6-668AAD98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0B3C-032F-40E3-9810-F812D26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4F5D2-B254-4F9E-A3E8-F2B86514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FA93C-646C-4CFC-AED9-3CB4171D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2F7A7-B211-49EE-9DBC-0941DA9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5160B-714D-4FAB-B4E0-7802365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E09D7-B442-49FB-8144-AA324C53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DD5935-487D-426E-BFB1-DD8A9B0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A22F0-D495-4E52-9A05-50CC9CB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CBC53-4FF5-4D35-8024-09B49779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CC84E-97D0-4E7E-8F21-0986E50B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F67B2-7096-405C-914F-6016A536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71003-822E-4126-B2A4-089D258A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834E9-9832-4632-87E8-2ED1E6D0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1DE8A-06BB-478B-AED1-926D72FA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CA5BB-43A6-4939-997F-2724AF6D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05446-23BE-4B29-9730-48B27AA5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CC19D-7E3E-4711-9055-743A4B74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C5C73-954C-4AE1-8DBC-CF604B26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36067-7E2E-4572-B6FD-0B370EB8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2425E-CE7D-45E0-8374-A18DD9CF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1AD93-A111-4AB1-A1BD-2261D02B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B28613-A148-4612-B341-1EBE626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3512-C874-4D59-9CB4-35FC1F3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EFB1D-DA22-4DA7-A809-FEE48DD2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B7A5C-8AD0-4EB1-87A8-5918C81B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F4969-89F7-46FF-B2C1-453511C6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1DBC0-BB4D-454A-BA40-1D964A42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91531-1553-4254-A0F3-7A9A84F2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6486E-43CE-4052-9771-AEE8EF3D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B31A5-B4D2-4732-BB9A-B7BF522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CBC59-545A-4435-B554-757D4F56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3F193-562F-4D60-B639-31B0EBF9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00E81-36CF-4FBC-B9E9-959F427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9E0E-5058-4B3F-8CEB-477C2D4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83CB6-F638-4356-AD16-40E4EDAA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7305DC-6B0F-48EA-87EE-22E28987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511CF-DF48-4744-8AEA-27422748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3F7048-8C2E-4FF9-8C63-B85295FB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66694C-1158-4152-AEEC-B509C79A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5609F-7488-49E8-8150-8DFB5547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BCF2A-3E67-4E1A-A6C4-1502F168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ADEE3B-CC72-4513-B599-0698A2D6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784C9-C65E-4529-AAC5-BFAABC8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10984-CC0F-48F6-A9AF-F0ADA0B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7474-A6A0-49F3-A302-2E979510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7192E-2C2D-424F-A4EA-744B63F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D0F14C-F025-4E16-9027-A33518C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815DF-BBFA-484E-B43D-D4FD7C9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79619-FA29-471F-A3EC-EC203F1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F5932-E734-4B2A-BCA6-BF1D3C76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C9130F-9D8D-404F-99CE-77C162C6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498DF-628A-4CF6-9F11-320270AC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2DAA30-104A-437E-9F9B-716C38C0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8DE81-1BAF-44E1-8702-0E655CF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575533-D5B7-4174-87A0-097862ED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4CE9-2895-493D-8745-67440A50D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0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8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9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219F-BBF1-46E3-8464-AD7A4545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30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5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2373-513A-4AF8-872D-94A98D099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3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9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3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9A3B-46BE-4527-902E-AA4EDCA9F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dt" idx="3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54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3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3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68ED-35AE-4AB5-9B05-876733F00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dt" idx="3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10285200" cy="6858000"/>
            <a:chOff x="0" y="0"/>
            <a:chExt cx="102852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62504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80400" y="3619440"/>
              <a:ext cx="9588240" cy="76320"/>
              <a:chOff x="680400" y="3619440"/>
              <a:chExt cx="958824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80400" y="3695760"/>
                <a:ext cx="958824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80400" y="3619440"/>
                <a:ext cx="958824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85440" y="1523880"/>
              <a:ext cx="959976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ABE7-FD28-49D4-B50B-C7667C75C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9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57F2-E246-4B1D-8046-36EF66D64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3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5B1E-A1D7-4F26-BA92-317DCD0DB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8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3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1B60-0EB2-4F07-AAB6-2FBCC3530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2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6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7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091F-594E-4B8D-8FF4-B3697A0F9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7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9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20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EE5D-B049-4783-B1E7-34865C27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1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2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64D3-EE20-4CE6-8936-9F913CCF8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dt" idx="24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6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5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6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6D23-950B-4942-83C0-A1DF59F0A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dt" idx="27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9001080" cy="13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idney Ston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562200" y="3733920"/>
            <a:ext cx="3181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28"/>
          <p:cNvSpPr/>
          <p:nvPr/>
        </p:nvSpPr>
        <p:spPr>
          <a:xfrm>
            <a:off x="1812960" y="552600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622440" y="838080"/>
            <a:ext cx="2209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al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80% of kidney stones contain calc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he type of salt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vailability of oxa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hite, hard,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: staghorn in renal pelvis (l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oxalate: present in ureter (sm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of calcium salt st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calci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urinary calcium ex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n: &gt; 7.5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omen &gt; 6.2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or may not be due to hypercal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the formation of calcium oxalates without hypercalc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et rich in oxa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oxalate absorption in fat mal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imary 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inbor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oxalate excretion: &gt; 400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01_calcium_oxalate"/>
          <p:cNvPicPr/>
          <p:nvPr/>
        </p:nvPicPr>
        <p:blipFill>
          <a:blip r:embed="rId1"/>
          <a:stretch/>
        </p:blipFill>
        <p:spPr>
          <a:xfrm>
            <a:off x="647640" y="1447920"/>
            <a:ext cx="4496040" cy="2970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7"/>
          <p:cNvSpPr/>
          <p:nvPr/>
        </p:nvSpPr>
        <p:spPr>
          <a:xfrm>
            <a:off x="4365720" y="545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2930400" y="55753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lcium oxalate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11" descr="Calcium oxalate"/>
          <p:cNvPicPr/>
          <p:nvPr/>
        </p:nvPicPr>
        <p:blipFill>
          <a:blip r:embed="rId2"/>
          <a:stretch/>
        </p:blipFill>
        <p:spPr>
          <a:xfrm>
            <a:off x="5143680" y="1447920"/>
            <a:ext cx="4495680" cy="297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primary causes such as infection, hypercalcemia, hyperoxal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xalat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cidific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 stones are formed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8% of renal stones contain 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be associated with hyperuricemia (with or without gou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mall, friable, yellow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form stag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Radiolucent (plain x-rays cannot det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Visualized by ultrasound or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urin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02_uric_acid"/>
          <p:cNvPicPr/>
          <p:nvPr/>
        </p:nvPicPr>
        <p:blipFill>
          <a:blip r:embed="rId1"/>
          <a:stretch/>
        </p:blipFill>
        <p:spPr>
          <a:xfrm>
            <a:off x="495360" y="1752480"/>
            <a:ext cx="4495680" cy="297036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3610800" y="55753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ric acid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06_uric_acid"/>
          <p:cNvPicPr/>
          <p:nvPr/>
        </p:nvPicPr>
        <p:blipFill>
          <a:blip r:embed="rId2"/>
          <a:stretch/>
        </p:blipFill>
        <p:spPr>
          <a:xfrm>
            <a:off x="5295960" y="1752480"/>
            <a:ext cx="44956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10% of all renal stones contain 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so called struvite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ssociated with chronic urinary trac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icroorganisms (such as from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oteu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genus) that metabolize urea into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ing urine pH to become alkaline leading to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mmonly associated with staghorn calc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75% of staghorn stones are of struvi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aci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bjectiv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y the end of this lecture, the students will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scuss the general physiological and pathological factors that favor kidney stones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ist the types of kidney stones, their chemical constituents and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etiological causes of each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scuss the diagnosis, treatment and prevention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515600" y="556272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g ammonium phosphate (struvite) st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3" descr="08_struvite"/>
          <p:cNvPicPr/>
          <p:nvPr/>
        </p:nvPicPr>
        <p:blipFill>
          <a:blip r:embed="rId1"/>
          <a:stretch/>
        </p:blipFill>
        <p:spPr>
          <a:xfrm>
            <a:off x="1638360" y="762120"/>
            <a:ext cx="6705720" cy="44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 rare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homozygous cyst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oluble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aint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enicillamine (binds to cysteine to form a compound more soluble than cyst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6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09_cystine"/>
          <p:cNvPicPr/>
          <p:nvPr/>
        </p:nvPicPr>
        <p:blipFill>
          <a:blip r:embed="rId1"/>
          <a:stretch/>
        </p:blipFill>
        <p:spPr>
          <a:xfrm>
            <a:off x="1790640" y="1066680"/>
            <a:ext cx="6296040" cy="415944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3724920" y="55753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stine 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formed and remov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emical analysis of stone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dvise patient on prevention and future re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not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is type of investigation identifies causes that may contribute to stone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Serum calcium and uric aci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lysis: volume, calcium, oxalates and cystin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e pH &gt; 8 suggests urinary tract infection (Mg amm. 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tract imag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ltrasound and i.v.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verview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nditions causing kidney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ypes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aboratory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What are kidney stones?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Renal calculi (kidney stones) are formed in renal tubules, ureter or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omposed of metabolic products present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ese products are in high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Near or above maximum solu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37880" y="1903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 in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3788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urinary volume (with normal renal function) due to restrict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loss from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excretion of metabolic products form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plasma volume (high filtrate lev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tubular reabsorption from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3788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acterial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cipitation of salts at different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bstruction of urinary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3788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itrate, pyrophosphate, glycoproteins inhibit growth of calcium phosphate and calcium oxalate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 type I renal tubular acidosis, hypocitraturia leads to renal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69640" y="761760"/>
            <a:ext cx="786924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Types 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5748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3200400" y="4191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3200400" y="44956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23:32:10Z</dcterms:created>
  <dc:creator>Usman Ghani</dc:creator>
  <dc:description/>
  <dc:language>en-US</dc:language>
  <cp:lastModifiedBy>UG</cp:lastModifiedBy>
  <dcterms:modified xsi:type="dcterms:W3CDTF">2016-04-17T06:58:58Z</dcterms:modified>
  <cp:revision>186</cp:revision>
  <dc:subject/>
  <dc:title> [Project Name] Post-Mortem</dc:title>
</cp:coreProperties>
</file>