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E096-7670-4681-ACA1-B5C2669B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A5F4-2673-497E-8EE3-E820810A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8264F-E017-44EA-8B60-DDF89ADD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66CD64-D01B-46A6-9E15-9BE78A03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F06F4C-07C5-430A-B980-8596D0BB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45A20-E48A-4051-B646-43FF282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5CA9D-3654-47FD-87D6-6BBFCEED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1E44C-D2CA-4A32-99C1-F1967E9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053670-9DC6-44D2-8FCE-89488F4C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52BB64-7892-41F1-A606-C200186E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32CA51-7D18-461A-86C9-7A99A6FA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0C2A38-10A1-432A-BC01-16097310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B173-F5B6-42D0-9FFF-FA978303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AD38B-FDAE-44D4-ACED-9284CF4C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06293C-7FAE-4047-A0AE-D27B82CA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DC4C7-D77C-4C8B-9803-544CE41B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2F335E-A6EB-4F8F-A6A7-80523A7D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1297E-F748-4C1E-9506-58BA473F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809105-4A71-49DC-AFA9-0778618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15CA65-EE88-4ECD-B782-D87C172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FE6B4E-3374-4621-89E4-3634D874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632FF-16AD-46B9-9F0B-E1E9512C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6BC13E-91C2-418C-B424-F60837AF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418E-1C65-471D-A5E5-81739628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C4F98F-309C-4CDF-975B-8FA321BA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89AAE1-8BDE-49CA-96A5-417BD49E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D423C9-F88F-468A-A731-9BFE2804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586C79-E0E2-42E9-B1F1-697922D2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5C7BC0-3A16-4C31-A080-144EA767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24D3CA-2F0B-468F-8F93-929B1FC6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ACD5A3-BA35-4A2A-AF6F-0E2EBD79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DD988E-171D-4FDA-B7C7-283DE1D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7E3DEC-4032-4DDE-BA63-C09D0953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ADEA3B-EE76-499D-A397-D0BAF39A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F8F90-6008-48AE-9AE7-DFD4A0E3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54863C-E87F-413E-B056-4FE418D2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FB20E1-99AC-4436-A080-CD20B36E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AA1F5E-A85B-4DE8-A2F1-B957B5B0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328200-040D-4554-A8E3-9947C791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8AE39A-6B44-4C14-8441-96DCC91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755A6D-5FC6-4B54-8EF8-5EAAD01E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7D980-10E4-4D56-93C4-304694B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DA6640-B135-48C2-BB49-5AAEBD79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C3863A-56BA-420F-AA52-9EC2F41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AA180F-8507-48D2-95FB-A378F92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C1E92-9300-4999-8ED5-50DCFC67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729BD3-AD27-4331-83A9-3209044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78998B-FB89-4A59-B0D0-396A706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C67A87-118B-4618-8D2A-021A1386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8629C6-3A37-4E55-BAEA-AF32CE6D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9C8A30-4F00-4E84-BFAE-F8966340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0675E0-171B-460C-B3BC-81111EF6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CEAECD-CF97-41CA-A0CD-BBC59A6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D6E080-70D0-4960-A037-C307C60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13AF54-A534-4B61-8F7E-8A92C3D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39888B-1FCE-401F-B618-4874160B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B7FF4-B9E1-4758-BA9E-751E7C1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8BA6F7-62E3-456D-87E6-19E4D6E6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A9034F-0EB7-47F8-B0B2-131A9201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C2768D-EAED-40A4-8B6F-C06DE97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F88BDB-8879-4248-9F2B-BDDB66DE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8534B2-406D-4859-B261-378BED8A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2F153C-39AE-4DE9-8BDE-EC07FD37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719E96-DE42-4EBE-818C-60BB2B29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60A23-46A2-4078-94A3-AA7CDE90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CFE6B-0DA3-4879-986D-F5271026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AA7D7-89EE-4B09-B625-25A45908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55134-82DC-458B-97BB-FA246AB3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269C-DF05-4662-B286-121852E0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E47EA-E500-48F0-9969-7FAE192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E3A0E-1C8B-47D5-ABFF-D6AF379C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579D7-3278-4341-95B4-FE6DE725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22F0F-EE69-4528-AEAC-591A865A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844BC-CF3D-4977-8521-36D8E133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95060-0348-41EF-A054-053013F3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1F006-B287-4B1E-8D4A-5C9FC5BF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E3095-2D9C-40D7-ABA3-7548E8DC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CEF0E-1315-42A9-9E2B-937E7A20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3F132-25EF-4DCD-941C-D1D0EDD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7438-F53E-4914-9E5D-CA4FAE07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C065E-AAA4-4FCE-912D-B9217760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D544D-AB6B-4CE1-90D9-AC988FF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AC519-5DD5-4D5F-AADF-56B5CF48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6C5AC-68E0-4493-9FE2-8F05814B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AED0B-9203-4C60-9B2A-65B550DC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45AB7-ACC8-4274-947A-610F9211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AC384-422D-46D7-859B-7DC8C104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EBA6F-506E-4191-BBB6-18A539FE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C9E6C-1E97-4EEE-8277-11D2B08D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10D4E-E4E4-4DB1-83EB-486DB26F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3D09-2B5A-4FE2-A3A3-207C8088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C4A60-349C-4C07-A4F8-9045EEAC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1FF5B-EABB-4FA1-86CF-87A2639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D0AFD-6F50-4C16-BD6C-B8AAC3FF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7F1D5-DAB8-4565-B238-BFCA389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30B00-41E3-409D-BE6C-1810166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EDA0A-4E61-439D-97BF-045C2AE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D61B3-5D4D-473C-9AEB-E51F7C85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62E44-F1EC-48C6-91FB-FAF8EA5A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73C69-528D-49DD-97F5-30AAB15A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FF261-BE1F-411C-9588-24A1491A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11135-2C7C-4102-9AC0-A03F18D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01BE0-1AE5-4489-9CDF-8B26B46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CADF6-1DA8-49CC-A9AC-3528468A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E60CF2-2146-4670-BF8C-49C51D7F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C36FF-D103-4F72-B209-50BA12D4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9F80E-16FB-49A4-9B5D-5D5FE9BB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077E9-4DA6-4F92-913D-4B04995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32802-49A0-4289-9D9C-566132D1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9A7CC-CE0C-4A1D-A67B-29E6206B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7B792-FB82-431E-BE0C-7E7BBCE1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713FB-ED75-4FDD-81C1-120449E8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FF93-F54F-46F3-97B6-F3943676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11B92-DC37-4987-8720-8A1ACC22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3F71C-7492-4923-9B09-243973B3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5D688-7F8D-4719-9816-5C601243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E67D3-6DE3-457A-A322-827B4583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72C8B-81AA-47DB-9299-02366B0E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D4995-B5A9-41E9-906D-EB94D08D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116E1-8D8A-4AB3-B243-4DEBFA6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088C5-C227-4D95-85B4-09C8762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55187-479A-40DC-9A54-1323F5B8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A1A62-4F3F-46ED-B7E8-3FAAB7A3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7CE1-D427-4587-BC49-738F788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78737-B8FE-42E4-BF39-EADFAEF6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68597-00F5-4B6B-93EF-9287610D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4F3F6-CC14-4217-ADD5-46CF3B64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A8237C-2820-42B3-80E6-438D865C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8E632-BCF8-4F48-8783-CE7DA2C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EB215-E4A0-4B2A-8CC5-45461F9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EF8D0-8EA9-40B4-8DE6-DA190849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81CC7-1C66-41AB-A1A9-32EE55F2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E955E-53F0-4B81-AAC5-2B5DF0F0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A6DF2-8FBC-42FA-BE2E-F9E80EF3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9C64-E7F1-4AE1-B146-971D54D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E16F3-8402-4069-AA81-F644054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45E68-8D3A-4FD9-9BF6-707BA11D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6CFBE-B1F9-44A0-90EC-2BC72BEF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91DC9F-226F-429C-B40D-9EB5DC9D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0D8EE-6A62-4930-B9D2-26CF977A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B514C-B55C-41C0-B18C-E2F24FB2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38B396-C199-4D39-BAFD-AE3B4D5E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2EFBE-36F4-4792-AB63-6A3C18F9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C21871-1D4B-4B42-883C-24D73432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C52A9-1B96-4D8F-9602-387D8E20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B5C2-94EC-46A1-B42F-9CC38EF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3DA97A-8F61-4E68-A47C-37711704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FF79F-4D09-4C16-97BC-F126EBE3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39060F-AFCB-401A-B0CA-3083C8D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354DE-8E43-4B1F-AD64-F8E55B0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46385-9B7E-412A-B004-DC599ED9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4602A9-0B61-45A5-9B44-0A954EBF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70830F-2783-4DBB-B6ED-05E72C92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76071D-2204-41D2-9476-D4E56594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A0706-6616-4A08-9388-B67324CC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B29BCC-E561-40BF-88EC-AC1902D7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351F-03F7-4399-950A-FC7E53EBB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0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8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9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B559-F9FB-44F9-A035-F6503B391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30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5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3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74C2-ABDD-4080-8FF6-54619C097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dt" idx="3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9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3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3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717A-1081-4C10-91E8-1483878DF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dt" idx="3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54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3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3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86F3-F001-436C-AE91-5C5BA536F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dt" idx="3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10285200" cy="6858000"/>
            <a:chOff x="0" y="0"/>
            <a:chExt cx="1028520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62504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680400" y="3619440"/>
              <a:ext cx="9588240" cy="76320"/>
              <a:chOff x="680400" y="3619440"/>
              <a:chExt cx="958824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80400" y="3695760"/>
                <a:ext cx="958824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80400" y="3619440"/>
                <a:ext cx="958824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3"/>
            <p:cNvSpPr/>
            <p:nvPr/>
          </p:nvSpPr>
          <p:spPr>
            <a:xfrm>
              <a:off x="685440" y="1523880"/>
              <a:ext cx="959976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0641-5441-4BD0-9BCE-1339EF45E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9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9164-ABF1-4E9D-A50C-45B370E9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3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EB9-DC80-4DBC-A433-3705688C2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12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8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3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4217-60EA-4B72-A79D-0E27FB66A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2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6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7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F175-49F0-4702-B62F-B8932B39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7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9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20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B53C-9BD8-4962-BE17-72ACD2B91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1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2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0D9F-0028-45D7-9822-B745866C8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dt" idx="24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6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5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6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287A-78C8-43FE-84F4-CF8972206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dt" idx="27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9001080" cy="13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Kidney Stone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562200" y="3733920"/>
            <a:ext cx="3181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. Usman Gh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028"/>
          <p:cNvSpPr/>
          <p:nvPr/>
        </p:nvSpPr>
        <p:spPr>
          <a:xfrm>
            <a:off x="1812960" y="552600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030"/>
          <p:cNvSpPr/>
          <p:nvPr/>
        </p:nvSpPr>
        <p:spPr>
          <a:xfrm>
            <a:off x="622440" y="838080"/>
            <a:ext cx="2209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al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80% of kidney stones contain calc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he type of salt depend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e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vailability of oxa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hite, hard,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: staghorn in renal pelvis (lar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oxalate: present in ureter (sm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es of calcium salt st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calci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urinary calcium ex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n: &gt; 7.5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omen &gt; 6.2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or may not be due to hypercalc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es the formation of calcium oxalates without hypercalci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iet rich in oxa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oxalate absorption in fat mal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imary 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ue to inbor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oxalate excretion: &gt; 400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01_calcium_oxalate"/>
          <p:cNvPicPr/>
          <p:nvPr/>
        </p:nvPicPr>
        <p:blipFill>
          <a:blip r:embed="rId1"/>
          <a:stretch/>
        </p:blipFill>
        <p:spPr>
          <a:xfrm>
            <a:off x="647640" y="1447920"/>
            <a:ext cx="4496040" cy="2970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7"/>
          <p:cNvSpPr/>
          <p:nvPr/>
        </p:nvSpPr>
        <p:spPr>
          <a:xfrm>
            <a:off x="4365720" y="545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2930400" y="55753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lcium oxalate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11" descr="Calcium oxalate"/>
          <p:cNvPicPr/>
          <p:nvPr/>
        </p:nvPicPr>
        <p:blipFill>
          <a:blip r:embed="rId2"/>
          <a:stretch/>
        </p:blipFill>
        <p:spPr>
          <a:xfrm>
            <a:off x="5143680" y="1447920"/>
            <a:ext cx="4495680" cy="297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 of primary causes such as infection, hypercalcemia, hyperoxal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xalat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cidific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 stones are formed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8% of renal stones contain 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be associated with hyperuricemia (with or without gou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mall, friable, yellow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form stag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Radiolucent (plain x-rays cannot det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Visualized by ultrasound or i.v. pyel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urin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02_uric_acid"/>
          <p:cNvPicPr/>
          <p:nvPr/>
        </p:nvPicPr>
        <p:blipFill>
          <a:blip r:embed="rId1"/>
          <a:stretch/>
        </p:blipFill>
        <p:spPr>
          <a:xfrm>
            <a:off x="495360" y="1752480"/>
            <a:ext cx="4495680" cy="297036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3610800" y="55753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ric acid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4" descr="06_uric_acid"/>
          <p:cNvPicPr/>
          <p:nvPr/>
        </p:nvPicPr>
        <p:blipFill>
          <a:blip r:embed="rId2"/>
          <a:stretch/>
        </p:blipFill>
        <p:spPr>
          <a:xfrm>
            <a:off x="5295960" y="1752480"/>
            <a:ext cx="4495680" cy="29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  <a:ea typeface="Arial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10% of all renal stones contain Mg amm.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so called struvite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ssociated with chronic urinary tract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icroorganisms (such as from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oteu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genus) that metabolize urea into am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ing urine pH to become alkaline leading to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  <a:ea typeface="Arial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mmonly associated with staghorn calc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75% of staghorn stones are of struvi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 of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e aci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bjectiv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By the end of this lecture, the students will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iscuss the general physiological and pathological factors that favor kidney stones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ist the types of kidney stones, their chemical constituents and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dentify the etiological causes of each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iscuss the diagnosis, treatment and prevention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515600" y="556272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g ammonium phosphate (struvite) st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3" descr="08_struvite"/>
          <p:cNvPicPr/>
          <p:nvPr/>
        </p:nvPicPr>
        <p:blipFill>
          <a:blip r:embed="rId1"/>
          <a:stretch/>
        </p:blipFill>
        <p:spPr>
          <a:xfrm>
            <a:off x="1638360" y="762120"/>
            <a:ext cx="6705720" cy="44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ystine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 rare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ue to homozygous cyst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oluble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aint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enicillamine (binds to cysteine to form a compound more soluble than cyst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09_cystine"/>
          <p:cNvPicPr/>
          <p:nvPr/>
        </p:nvPicPr>
        <p:blipFill>
          <a:blip r:embed="rId1"/>
          <a:stretch/>
        </p:blipFill>
        <p:spPr>
          <a:xfrm>
            <a:off x="1790640" y="1066680"/>
            <a:ext cx="6296040" cy="415944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3724920" y="55753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stine 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formed and remov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emical analysis of stone help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dentify the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dvise patient on prevention and future recur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not form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This type of investigation identifies causes that may contribute to stone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Serum calcium and uric aci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lysis: volume, calcium, oxalates and cystin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e pH &gt; 8 suggests urinary tract infection (Mg amm. 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ry tract imag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ltrasound and i.v. pye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verview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nditions causing kidney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ypes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aboratory invest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What are kidney stones?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Renal calculi (kidney stones) are formed in renal tubules, ureter or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omposed of metabolic products present in glomerular fil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These products are in high 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Near or above maximum solu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37880" y="1903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High conc. of metabolic products in glomerular fil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Deficiency of stone-forming inhibitors in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3788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igh conc. of metabolic products in glomerular filtrate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ow urinary volume (with normal renal function) due to restrict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loss from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excretion of metabolic products form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igh plasma volume (high filtrate lev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ow tubular reabsorption from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3788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Bacterial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ecipitation of salts at different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bstruction of urinary 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3788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eficiency of stone-forming inhibi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itrate, pyrophosphate, glycoproteins inhibit growth of calcium phosphate and calcium oxalate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 type I renal tubular acidosis, hypocitraturia leads to renal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69640" y="761760"/>
            <a:ext cx="786924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Types 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57480" y="1904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3200400" y="4191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3200400" y="44956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23:32:10Z</dcterms:created>
  <dc:creator>Usman Ghani</dc:creator>
  <dc:description/>
  <dc:language>en-US</dc:language>
  <cp:lastModifiedBy>UG</cp:lastModifiedBy>
  <dcterms:modified xsi:type="dcterms:W3CDTF">2016-04-17T06:58:58Z</dcterms:modified>
  <cp:revision>186</cp:revision>
  <dc:subject/>
  <dc:title> [Project Name] Post-Mortem</dc:title>
</cp:coreProperties>
</file>