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AEB-3442-48F3-A8A6-8D60882B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243-2117-4EAB-9299-1E7CC3C8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DB9-892E-42A8-AC54-1B23A4BC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968-7169-4F9C-B966-54CE610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591-66D8-4388-8B1C-D96E7E5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62D-13B1-481E-9326-F3A4960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776-0620-4365-AED9-19B42C5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5CF-B703-405F-946C-336B40A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81A-A58B-4E66-9B89-8AE72EC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9E3-9157-425D-90FC-99FFFEA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11D-92EF-4AA3-9585-97834B6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E9B-D303-4F14-BDAC-C22B81F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BF0-8FE5-49A8-989A-7CF08DA150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urinary bladd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013360"/>
            <a:ext cx="81360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Dr. Sanaa  Alsharawi           Dr. Essam Eldin Salama</a:t>
            </a: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3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endoderm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urethral orifice opens dorsal to the glans 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67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ital tubercle elongates forming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the precursor of the pe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; prostatic, membranous and spongy part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endoderm of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(terminal) p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urethra in glans penis starts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solid co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s to meet the spongy urethra , later it canaliz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821844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strophy of the bladder (Ectopiae vesica); exposure of the posterior wall of the bladder due to a defect in the anterior abdominal wall and 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hral Anoma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remnant of epithelial lining of urac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chal sinu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urachus remains patent 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2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3683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ost common anomaly, with incomplete fusion of the urethral folds, and abnormal openings of the urethra occur along the ventral (inferior) aspect of 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are abnormality, in which the urethral meatus is found on the dorsum of penis, it is most often associated wit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s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6" descr="F2FD6340"/>
          <p:cNvPicPr/>
          <p:nvPr/>
        </p:nvPicPr>
        <p:blipFill>
          <a:blip r:embed="rId2"/>
          <a:srcRect l="13603" t="42522" r="57283" b="29769"/>
          <a:stretch/>
        </p:blipFill>
        <p:spPr>
          <a:xfrm>
            <a:off x="4932360" y="4437000"/>
            <a:ext cx="31669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Forte"/>
              </a:rPr>
              <a:t>Any question </a:t>
            </a:r>
            <a:br>
              <a:rPr sz="8000"/>
            </a:br>
            <a:r>
              <a:rPr b="0" lang="en-GB" sz="8000" spc="-1" strike="noStrike">
                <a:solidFill>
                  <a:srgbClr val="ff0000"/>
                </a:solidFill>
                <a:latin typeface="Forte"/>
              </a:rPr>
              <a:t>Thank you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loaca and the formation of th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genital sinus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vision of the urogenital sinus into various parts and name 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audal parts of the mesonephric ducts and ureters 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position of the urachus 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rious anomalies concerned with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683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dilated terminal 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ceive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closed by the 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360" y="404280"/>
            <a:ext cx="300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oaca, con.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744720" cy="56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oderma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rectal sept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cloaca and the cloacal membrane in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rm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pper par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can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11640" y="2637000"/>
            <a:ext cx="57636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194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403380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ost of the bladder 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ain part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nti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genital tubercle and shares in the formation o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752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mainly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urogenital sin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the absorbed distal part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pithelium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, of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rogenital sin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layers are derived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91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rinary bladder, con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st continues with the bladder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becomes a thick fibrous cor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ach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apex of the bladder to the umbilicu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ult it is represent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mesonephric ducts to form the trigon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eparately in the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98100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C:\Documents and Settings\Dr.Essam\My Documents\Downloads\f27-9a_urinary_bladder_c.jpg"/>
          <p:cNvPicPr/>
          <p:nvPr/>
        </p:nvPicPr>
        <p:blipFill>
          <a:blip r:embed="rId2"/>
          <a:stretch/>
        </p:blipFill>
        <p:spPr>
          <a:xfrm>
            <a:off x="4854600" y="3645000"/>
            <a:ext cx="517356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7667640" y="3716280"/>
            <a:ext cx="2089080" cy="28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308720" y="5013360"/>
            <a:ext cx="251964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2"/>
          <p:cNvCxnSpPr/>
          <p:nvPr/>
        </p:nvCxnSpPr>
        <p:spPr>
          <a:xfrm flipV="1">
            <a:off x="5075640" y="1773000"/>
            <a:ext cx="35964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Straight Connector 14"/>
          <p:cNvSpPr/>
          <p:nvPr/>
        </p:nvSpPr>
        <p:spPr>
          <a:xfrm flipH="1" flipV="1">
            <a:off x="5076720" y="2276280"/>
            <a:ext cx="503280" cy="12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nfants and children the bladder is an abdominal orga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arts to enter the greater pelvis at about 6 years  and becomes a pelvic organ after puber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oscrotal, (cloacal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e with each other to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e the penile ureth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fe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 separate to form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5292720" y="3283920"/>
            <a:ext cx="28800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Straight Arrow Connector 13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val 15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4716360" y="321300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SAM</cp:lastModifiedBy>
  <dcterms:modified xsi:type="dcterms:W3CDTF">2016-04-19T07:25:45Z</dcterms:modified>
  <cp:revision>143</cp:revision>
  <dc:subject/>
  <dc:title>Development of the urinary bladder and urethra </dc:title>
</cp:coreProperties>
</file>