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CB23-CE18-46BD-B26C-8FEE23BDB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E822-2436-4852-AF84-4E85D52F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23D6-A711-45DC-867B-732B6761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BB7-EB0C-4945-A883-F80B0260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9D4-469D-426D-9C36-07ACA79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6D9-E100-4E6D-8840-3231CF98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2E3-FC5C-4B2A-AAF8-5D719F2E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056-0701-4C1F-B613-C5B72940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848-5792-4F6F-9F59-BBFA8B3C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448-45CD-453C-A142-DE8C820F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320A-B1B1-4E21-BA82-49BD9CE2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03C-1834-44EE-97AF-C278DAE7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1EEC-F368-4036-B10B-9381EE82F35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the urinary bladd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5013360"/>
            <a:ext cx="81360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Dr. Sanaa  Alsharawi           Dr. Essam Eldin Salama</a:t>
            </a:r>
            <a:r>
              <a:rPr b="1" lang="en-US" sz="2700" spc="-1" strike="noStrike">
                <a:solidFill>
                  <a:srgbClr val="ff0000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38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3538440" cy="525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endoderm of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xternal urethral orifice opens dorsal to the glans 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5" descr="genitalia.jpg"/>
          <p:cNvPicPr/>
          <p:nvPr/>
        </p:nvPicPr>
        <p:blipFill>
          <a:blip r:embed="rId1"/>
          <a:stretch/>
        </p:blipFill>
        <p:spPr>
          <a:xfrm>
            <a:off x="4965840" y="981000"/>
            <a:ext cx="3638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467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ital tubercle elongates forming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the precursor of the pen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; prostatic, membranous and spongy parts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endoderm of th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(terminal) par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urethra in glans penis starts a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solid cor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s to meet the spongy urethra , later it canalizes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600200"/>
            <a:ext cx="821844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strophy of the bladder (Ectopiae vesica); exposure of the posterior wall of the bladder due to a defect in the anterior abdominal wall and 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hral Anomal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98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remnant of epithelial lining of urach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chal sinus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re urachus remains patent 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002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368316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most common anomaly, with incomplete fusion of the urethral folds, and abnormal openings of the urethra occur along the ventral (inferior) aspect of 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 rare abnormality, in which the urethral meatus is found on the dorsum of penis, it is most often associated with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s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6" descr="F2FD6340"/>
          <p:cNvPicPr/>
          <p:nvPr/>
        </p:nvPicPr>
        <p:blipFill>
          <a:blip r:embed="rId2"/>
          <a:srcRect l="13603" t="42522" r="57283" b="29769"/>
          <a:stretch/>
        </p:blipFill>
        <p:spPr>
          <a:xfrm>
            <a:off x="4932360" y="4437000"/>
            <a:ext cx="316692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0000"/>
                </a:solidFill>
                <a:latin typeface="Forte"/>
              </a:rPr>
              <a:t>Any question </a:t>
            </a:r>
            <a:br>
              <a:rPr sz="8000"/>
            </a:br>
            <a:r>
              <a:rPr b="0" lang="en-GB" sz="8000" spc="-1" strike="noStrike">
                <a:solidFill>
                  <a:srgbClr val="ff0000"/>
                </a:solidFill>
                <a:latin typeface="Forte"/>
              </a:rPr>
              <a:t>Thank you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cloaca and the formation of th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genital sinus.</a:t>
            </a: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vision of the urogenital sinus into various parts and name 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e caudal parts of the mesonephric ducts and ureters 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position of the urachus 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rious anomalies concerned with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683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dilated terminal part of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ceives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closed by the 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0">
            <a:noFill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360" y="404280"/>
            <a:ext cx="3008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loaca, con. 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744720" cy="564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soderma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rectal septu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cloaca and the cloacal membrane in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p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form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upper part of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can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floor is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11640" y="2637000"/>
            <a:ext cx="576360" cy="36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443640" y="3573360"/>
            <a:ext cx="57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19444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4033800" cy="469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ost of the bladder 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forms main part of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ntir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genital tubercle and shares in the formation of th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le ureth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827520" cy="494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mainly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urogenital sin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rived from the absorbed distal parts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pithelium i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, of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urogenital sinu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layers are derived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스캔0053"/>
          <p:cNvPicPr/>
          <p:nvPr/>
        </p:nvPicPr>
        <p:blipFill>
          <a:blip r:embed="rId1"/>
          <a:srcRect l="0" t="0" r="3865" b="0"/>
          <a:stretch/>
        </p:blipFill>
        <p:spPr>
          <a:xfrm>
            <a:off x="4643280" y="3789360"/>
            <a:ext cx="4284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2610BC6D"/>
          <p:cNvPicPr/>
          <p:nvPr/>
        </p:nvPicPr>
        <p:blipFill>
          <a:blip r:embed="rId2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Oval 5"/>
          <p:cNvSpPr/>
          <p:nvPr/>
        </p:nvSpPr>
        <p:spPr>
          <a:xfrm>
            <a:off x="7524720" y="515772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7"/>
          <p:cNvSpPr/>
          <p:nvPr/>
        </p:nvSpPr>
        <p:spPr>
          <a:xfrm>
            <a:off x="7020000" y="220500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691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Urinary bladder, con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330800" cy="52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st continues with the bladder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it becomes a thick fibrous cor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ach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apex of the bladder to the umbilicu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ult it is represented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mesonephric ducts to form the trigon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eparately in the bladd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98100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Picture 2" descr="C:\Documents and Settings\Dr.Essam\My Documents\Downloads\f27-9a_urinary_bladder_c.jpg"/>
          <p:cNvPicPr/>
          <p:nvPr/>
        </p:nvPicPr>
        <p:blipFill>
          <a:blip r:embed="rId2"/>
          <a:stretch/>
        </p:blipFill>
        <p:spPr>
          <a:xfrm>
            <a:off x="4854600" y="3645000"/>
            <a:ext cx="5173560" cy="3168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7667640" y="3716280"/>
            <a:ext cx="2089080" cy="28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7308720" y="5013360"/>
            <a:ext cx="2519640" cy="165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2"/>
          <p:cNvCxnSpPr/>
          <p:nvPr/>
        </p:nvCxnSpPr>
        <p:spPr>
          <a:xfrm flipV="1">
            <a:off x="5075640" y="1773000"/>
            <a:ext cx="359640" cy="50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Straight Connector 14"/>
          <p:cNvSpPr/>
          <p:nvPr/>
        </p:nvSpPr>
        <p:spPr>
          <a:xfrm flipH="1" flipV="1">
            <a:off x="5076720" y="2276280"/>
            <a:ext cx="503280" cy="122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infants and children the bladder is an abdominal orga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arts to enter the greater pelvis at about 6 years  and becomes a pelvic organ after puber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4114800" cy="487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two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oscrotal, (cloacal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 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use with each other to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se the penile ureth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rethral folds in femal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 separate to form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8"/>
          <p:cNvCxnSpPr/>
          <p:nvPr/>
        </p:nvCxnSpPr>
        <p:spPr>
          <a:xfrm flipV="1">
            <a:off x="5292720" y="3283920"/>
            <a:ext cx="288000" cy="73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Straight Arrow Connector 13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val 15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6"/>
          <p:cNvSpPr/>
          <p:nvPr/>
        </p:nvSpPr>
        <p:spPr>
          <a:xfrm>
            <a:off x="4716360" y="3213000"/>
            <a:ext cx="57636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SSAM</cp:lastModifiedBy>
  <dcterms:modified xsi:type="dcterms:W3CDTF">2016-04-19T07:25:45Z</dcterms:modified>
  <cp:revision>143</cp:revision>
  <dc:subject/>
  <dc:title>Development of the urinary bladder and urethra </dc:title>
</cp:coreProperties>
</file>