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4266-8CCC-4B58-8EB9-06B9E142AF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87EF-2316-4BDC-A2AE-81BC51064E8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0E76-14CB-455C-B28D-DACCD260AEC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AA62-8A68-4966-99EE-7A8BEDD1A10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D72-D828-4753-9CE0-7BA5D990E98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986-FC56-45C8-960D-5175C4E028A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549B-7471-4E93-8C4D-52615EE97D8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855D-87A5-4612-B40A-C027687FAB8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4C38-136E-41EB-A044-536674342EE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14F-1DEE-478F-8C65-A07141D6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9DE-2B5A-4170-A7D8-089C558D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0D8-3F94-4A34-8F34-4B88DA81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499-C9EF-4A70-B3BC-C4827B69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9491-1977-4524-9D2C-A553C2F5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791E-BB1B-4B0D-B35E-25CB10F4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78FE-8E37-4549-BF9D-CB4F1FB5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3498-24F3-4DD8-BB4D-509C589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EDA8-0DA9-4AD5-AEFD-41768ECF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5990-77CA-413F-851F-6FE337B3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A136-FC75-405D-96D5-BA6FE4D6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DF5-E912-4835-910D-D128A81F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E17D-98C2-45CB-8437-5B54634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1705-AF69-451C-89BF-A0D81B2F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49C0-8FC8-4C25-B498-CBA1C28A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CC42-6996-46FA-B917-69881338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B5A0-52E8-4644-8783-3A8326AD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2E7C-E980-4C41-90EB-38E0F47C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3EF-C534-4AE5-B449-4687898A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81B-EE90-4CF6-8279-1A6F79E3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31A-3066-4197-8C7F-576047C8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0A02-8FC7-4C4D-8462-41463DF5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777-B0F2-4240-A62D-D762B7D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D9F-2289-450D-B0B2-A6421BC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5E5-8922-43FA-87B6-E4FBDDCCA05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9829-F1AD-4985-81E6-47E3197E100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سم الله الرحمن الرحيم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urethra is short and lined by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- Epitheli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Transitional epith. Near the bla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Pseudostratified columnar epith.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- Sub-epithelial fibroelastic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contains glands of Littre (mucus-secreting gland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- Smooth musc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gitudinal and outer circular laye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long and is divided into 3 reg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static urethr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d with transitional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mbranous urethra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lined with:          Stratified columnar epith.  with patches of pseudustratified columnar epitheli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nile (spongy) ureth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s lined with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ified columnar epith.  with patches of pseudustratified columnar epithel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 navicular fossa ( enlarged terminal portion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atified squamous non-keratinized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mina propria contains mucus-secreting glands of Lit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EST WISHES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rinary passag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981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be able to describe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The microscopic structure of the Renal pelvis and ur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The microscopic structure of the urinary bladder and male and female 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7C6E7C31"/>
          <p:cNvPicPr/>
          <p:nvPr/>
        </p:nvPicPr>
        <p:blipFill>
          <a:blip r:embed="rId1"/>
          <a:srcRect l="0" t="6889" r="11431" b="54068"/>
          <a:stretch/>
        </p:blipFill>
        <p:spPr>
          <a:xfrm>
            <a:off x="4267080" y="3048120"/>
            <a:ext cx="4876920" cy="3740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4" descr="98BD9F5"/>
          <p:cNvPicPr/>
          <p:nvPr/>
        </p:nvPicPr>
        <p:blipFill>
          <a:blip r:embed="rId2"/>
          <a:srcRect l="49630" t="18337" r="15294" b="28497"/>
          <a:stretch/>
        </p:blipFill>
        <p:spPr>
          <a:xfrm>
            <a:off x="0" y="1708200"/>
            <a:ext cx="419112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3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The macula dens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istal tubule: Tall cells with centrally-placed nuc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Juxtaglomerular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fferent glomerular arteriole (modified smooth muscle of tunica media). Nuclei are round with granular cyt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hey secrete ren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9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-The extraglomer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sangial cell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ly\My Documents\back\Janquira Images\19\F19_21.jpg"/>
          <p:cNvPicPr/>
          <p:nvPr/>
        </p:nvPicPr>
        <p:blipFill>
          <a:blip r:embed="rId1"/>
          <a:stretch/>
        </p:blipFill>
        <p:spPr>
          <a:xfrm>
            <a:off x="5791320" y="37339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ly\My Documents\My Pictures\kidney0221he.jpg"/>
          <p:cNvPicPr/>
          <p:nvPr/>
        </p:nvPicPr>
        <p:blipFill>
          <a:blip r:embed="rId1"/>
          <a:stretch/>
        </p:blipFill>
        <p:spPr>
          <a:xfrm>
            <a:off x="1752480" y="228600"/>
            <a:ext cx="6248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nal Caly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yx accepts urine from the renal papilla of a renal pyram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lined with transitional epith., lamina propria and smooth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calyces merge to form major calyces (with same lining tissue as minor caly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calyces open i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pel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25C78913"/>
          <p:cNvPicPr/>
          <p:nvPr/>
        </p:nvPicPr>
        <p:blipFill>
          <a:blip r:embed="rId1"/>
          <a:srcRect l="30592" t="20588" r="35778" b="49514"/>
          <a:stretch/>
        </p:blipFill>
        <p:spPr>
          <a:xfrm>
            <a:off x="4775040" y="4267080"/>
            <a:ext cx="436896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34080" indent="-334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ormed of transitional epith. and lamina prop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Muscular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scular coat):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2 layers of smooth muscle in the upper  2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 Outer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3001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3 layers of smooth muscle in the lower 1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Middle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   Out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Adventi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ous C.T. covering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ser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AE4A960F"/>
          <p:cNvPicPr/>
          <p:nvPr/>
        </p:nvPicPr>
        <p:blipFill>
          <a:blip r:embed="rId1"/>
          <a:srcRect l="0" t="15719" r="62354" b="38691"/>
          <a:stretch/>
        </p:blipFill>
        <p:spPr>
          <a:xfrm>
            <a:off x="3657600" y="3857760"/>
            <a:ext cx="2895480" cy="23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53080" y="3862440"/>
            <a:ext cx="25909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inary blad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the same structure as the lower third of ur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ficial layer of  transitional epithelium has dome-shaped cells (in empty bladd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3 layers of smooth muscle: inner and outer longitudinal  (thin) and middle circular (thick)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outer covering is adventi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ser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8" descr="D1B010FD"/>
          <p:cNvPicPr/>
          <p:nvPr/>
        </p:nvPicPr>
        <p:blipFill>
          <a:blip r:embed="rId1"/>
          <a:srcRect l="72552" t="34776" r="982" b="39295"/>
          <a:stretch/>
        </p:blipFill>
        <p:spPr>
          <a:xfrm>
            <a:off x="5562720" y="3624120"/>
            <a:ext cx="2646360" cy="323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1B010FD"/>
          <p:cNvPicPr/>
          <p:nvPr/>
        </p:nvPicPr>
        <p:blipFill>
          <a:blip r:embed="rId2"/>
          <a:srcRect l="39295" t="27453" r="23772" b="41181"/>
          <a:stretch/>
        </p:blipFill>
        <p:spPr>
          <a:xfrm>
            <a:off x="1981080" y="4646520"/>
            <a:ext cx="31244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2590920" y="3889440"/>
            <a:ext cx="4138560" cy="281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286000" y="304920"/>
            <a:ext cx="5029200" cy="342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ly</cp:lastModifiedBy>
  <dcterms:modified xsi:type="dcterms:W3CDTF">2015-04-25T18:47:47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