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6ED0-73CA-4164-9314-4A1906FFCAD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CE3C-DB1E-4D04-9F42-07DF0C05817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AA90-BC92-4E0B-9DEE-516E933F073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CC48-F7C5-4925-871B-37BB784A110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280C-7660-4824-A566-07E20A1B90D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C3EC-5C01-4977-B3EE-355A1145F8D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C2C1-74E7-4FCF-8002-C796D1ED87E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D121-0167-4621-9975-7C21588DDB7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AD2A-8F3C-4D66-BB38-D39F74D1F14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1E5-8B56-4AA2-A212-731C1380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F9A-2E6D-42A2-811B-10B5AFEA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A75-EAC2-4234-95E0-B2928FFF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1FB-67C9-4985-8890-2443A7FA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D871-71F8-4D08-B429-3AB1B365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8377-4910-49B2-AF8E-A8F67C67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D416-BCBA-470F-B04B-FBD5FA02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C105-0692-42F9-BE7E-5B75BB64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5222-EF66-4674-B02B-BCAFA3F1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76DE-06CF-4ADA-A1EE-0E84CFCD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46F9-D418-4FA0-9F07-D9DDD080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AD3E-AADD-43CB-A38A-BE955577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FB1B-EB16-4B35-8545-92338AD8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BC5F-49EF-474B-A793-602088F8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5EA2-1562-4395-B0DB-D2685C90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DC3D-0918-4BB3-85E5-F5CE5D8D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7829-FE44-4348-9FA1-AE44D64B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09F-7900-453D-AA56-27505269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B13-DCE5-4AD8-BE06-6508093C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FF2-17A6-4A7C-BC3B-DE5363E4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1E8F-03E0-406B-8198-576DE237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2797-2CF0-4651-B562-AE891E9D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6CB3-DE2F-46C8-8118-46CF8179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5EE-F44B-4C63-99F4-E58259AE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358F-E57A-47A5-9495-821ED17FC08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9CE9-08EE-4870-BA5A-936486D994A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بسم الله الرحمن الرحيم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Female Urethr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ale urethra is short and lined by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- Epitheliu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-Transitional epith. Near the blad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- Pseudostratified columnar epith.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- Stratified squamous non-keratinized epi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- Sub-epithelial fibroelastic 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contains glands of Littre (mucus-secreting gland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- Smooth musc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er longitudinal and outer circular layer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Male Urethr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long and is divided into 3 reg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static urethr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ed with transitional ep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mbranous urethra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lined with:          Stratified columnar epith.  with patches of pseudustratified columnar epitheli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nile (spongy) urethr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is lined with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ified columnar epith.  with patches of pseudustratified columnar epitheli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 navicular fossa ( enlarged terminal portion)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ratified squamous non-keratinized ep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mina propria contains mucus-secreting glands of Litt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BEST WISHES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urinary passage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9810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y the end of this lecture, the student should be able to describe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The microscopic structure of the Renal pelvis and ure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The microscopic structure of the urinary bladder and male and female ureth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7C6E7C31"/>
          <p:cNvPicPr/>
          <p:nvPr/>
        </p:nvPicPr>
        <p:blipFill>
          <a:blip r:embed="rId1"/>
          <a:srcRect l="0" t="6889" r="11431" b="54068"/>
          <a:stretch/>
        </p:blipFill>
        <p:spPr>
          <a:xfrm>
            <a:off x="4267080" y="3048120"/>
            <a:ext cx="4876920" cy="3740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Juxtaglomerular apparatu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4" descr="98BD9F5"/>
          <p:cNvPicPr/>
          <p:nvPr/>
        </p:nvPicPr>
        <p:blipFill>
          <a:blip r:embed="rId2"/>
          <a:srcRect l="49630" t="18337" r="15294" b="28497"/>
          <a:stretch/>
        </p:blipFill>
        <p:spPr>
          <a:xfrm>
            <a:off x="0" y="1708200"/>
            <a:ext cx="4191120" cy="51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Juxtaglomerular apparatu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has 3 compon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The macula dens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distal tubule: Tall cells with centrally-placed nucl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Juxtaglomerular cel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fferent glomerular arteriole (modified smooth muscle of tunica media). Nuclei are round with granular cytoplas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They secrete ren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9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-The extraglomerul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sangial cell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" descr="C:\Documents and Settings\Aly\My Documents\back\Janquira Images\19\F19_21.jpg"/>
          <p:cNvPicPr/>
          <p:nvPr/>
        </p:nvPicPr>
        <p:blipFill>
          <a:blip r:embed="rId1"/>
          <a:stretch/>
        </p:blipFill>
        <p:spPr>
          <a:xfrm>
            <a:off x="5791320" y="3733920"/>
            <a:ext cx="33526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Aly\My Documents\My Pictures\kidney0221he.jpg"/>
          <p:cNvPicPr/>
          <p:nvPr/>
        </p:nvPicPr>
        <p:blipFill>
          <a:blip r:embed="rId1"/>
          <a:stretch/>
        </p:blipFill>
        <p:spPr>
          <a:xfrm>
            <a:off x="1752480" y="228600"/>
            <a:ext cx="624852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nal Caly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calyx accepts urine from the renal papilla of a renal pyram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lined with transitional epith., lamina propria and smooth mus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or calyces merge to form major calyces (with same lining tissue as minor calyc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calyces open in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pelv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25C78913"/>
          <p:cNvPicPr/>
          <p:nvPr/>
        </p:nvPicPr>
        <p:blipFill>
          <a:blip r:embed="rId1"/>
          <a:srcRect l="30592" t="20588" r="35778" b="49514"/>
          <a:stretch/>
        </p:blipFill>
        <p:spPr>
          <a:xfrm>
            <a:off x="4775040" y="4267080"/>
            <a:ext cx="4368960" cy="24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Ure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34080" indent="-334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os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formed of transitional epith. and lamina prop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Muscular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muscular coat):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Is formed of 2 layers of smooth muscle in the upper  2/3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-  Inner longitud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-   Outer cir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3001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Is formed of 3 layers of smooth muscle in the lower 1/3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-  Inner longitudinal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-  Middle cir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-   Outer longitud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. Adventi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brous C.T. covering.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o sero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AE4A960F"/>
          <p:cNvPicPr/>
          <p:nvPr/>
        </p:nvPicPr>
        <p:blipFill>
          <a:blip r:embed="rId1"/>
          <a:srcRect l="0" t="15719" r="62354" b="38691"/>
          <a:stretch/>
        </p:blipFill>
        <p:spPr>
          <a:xfrm>
            <a:off x="3657600" y="3857760"/>
            <a:ext cx="2895480" cy="2363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6553080" y="3862440"/>
            <a:ext cx="2590920" cy="19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Urinary bladd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the same structure as the lower third of ure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ficial layer of  transitional epithelium has dome-shaped cells (in empty bladd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3 layers of smooth muscle: inner and outer longitudinal  (thin) and middle circular (thick) 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outer covering is adventi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sero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8" descr="D1B010FD"/>
          <p:cNvPicPr/>
          <p:nvPr/>
        </p:nvPicPr>
        <p:blipFill>
          <a:blip r:embed="rId1"/>
          <a:srcRect l="72552" t="34776" r="982" b="39295"/>
          <a:stretch/>
        </p:blipFill>
        <p:spPr>
          <a:xfrm>
            <a:off x="5562720" y="3624120"/>
            <a:ext cx="2646360" cy="3233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D1B010FD"/>
          <p:cNvPicPr/>
          <p:nvPr/>
        </p:nvPicPr>
        <p:blipFill>
          <a:blip r:embed="rId2"/>
          <a:srcRect l="39295" t="27453" r="23772" b="41181"/>
          <a:stretch/>
        </p:blipFill>
        <p:spPr>
          <a:xfrm>
            <a:off x="1981080" y="4646520"/>
            <a:ext cx="312444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" descr=""/>
          <p:cNvPicPr/>
          <p:nvPr/>
        </p:nvPicPr>
        <p:blipFill>
          <a:blip r:embed="rId1"/>
          <a:stretch/>
        </p:blipFill>
        <p:spPr>
          <a:xfrm>
            <a:off x="2590920" y="3889440"/>
            <a:ext cx="4138560" cy="281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2286000" y="304920"/>
            <a:ext cx="5029200" cy="3422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ny</dc:creator>
  <dc:description/>
  <dc:language>en-US</dc:language>
  <cp:lastModifiedBy>Aly</cp:lastModifiedBy>
  <dcterms:modified xsi:type="dcterms:W3CDTF">2015-04-25T18:47:47Z</dcterms:modified>
  <cp:revision>1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