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13.png" ContentType="image/png"/>
  <Override PartName="/ppt/media/image37.png" ContentType="image/png"/>
  <Override PartName="/ppt/media/image41.jpeg" ContentType="image/jpeg"/>
  <Override PartName="/ppt/media/image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7C8B-E3D7-454B-8C65-67890F6F4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489F-3C78-4F49-A0AC-6F9AFC5D9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986-7A8E-42D0-8E57-4EAA070E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FD3-B160-4620-B076-E304594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269-F8D0-4234-8975-EA19D3E4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F5C-DF38-4A67-9D6B-8858B163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6AB-C759-4187-B080-BE923E2E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1AD-260A-4A56-8E1B-6ED0D725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1D6-57D3-462D-BCC7-BCE62F7C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E00-3652-4810-B5C6-E9365C4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DEE-49D7-450B-A097-EADC7A8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000-357A-4801-ADC8-EB17B69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EE9-94F6-49A5-B3D0-E83D0C4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2AA-0A96-4C39-AB88-54AC44BD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B59B-24F0-44C7-83CB-C9CEAF33F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4791240"/>
            <a:ext cx="6248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pharyng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skin infe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77860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22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860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8EA6-8E70-47C1-81B0-31C3C6272345}" type="slidenum">
              <a:rPr b="1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8789760" cy="128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822240"/>
            <a:ext cx="90676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IF MEM PROF II.jpg"/>
          <p:cNvPicPr/>
          <p:nvPr/>
        </p:nvPicPr>
        <p:blipFill>
          <a:blip r:embed="rId1"/>
          <a:stretch/>
        </p:blipFill>
        <p:spPr>
          <a:xfrm>
            <a:off x="5934240" y="3962520"/>
            <a:ext cx="3187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0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n the pathogenesis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which depend 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n the site of depositi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244440" y="3906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    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-176040" y="55440"/>
            <a:ext cx="932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4" descr=""/>
          <p:cNvPicPr/>
          <p:nvPr/>
        </p:nvPicPr>
        <p:blipFill>
          <a:blip r:embed="rId2"/>
          <a:stretch/>
        </p:blipFill>
        <p:spPr>
          <a:xfrm>
            <a:off x="-55440" y="23760"/>
            <a:ext cx="904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25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e complexes underlie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p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49320"/>
            <a:ext cx="8534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76040" y="128520"/>
            <a:ext cx="8510760" cy="120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3422</cp:lastModifiedBy>
  <dcterms:modified xsi:type="dcterms:W3CDTF">2016-04-25T06:02:09Z</dcterms:modified>
  <cp:revision>118</cp:revision>
  <dc:subject/>
  <dc:title>Immunology of  nephritis.</dc:title>
</cp:coreProperties>
</file>