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5.png" ContentType="image/png"/>
  <Override PartName="/ppt/media/image35.png" ContentType="image/png"/>
  <Override PartName="/ppt/media/image31.jpeg" ContentType="image/jpeg"/>
  <Override PartName="/ppt/media/image8.png" ContentType="image/png"/>
  <Override PartName="/ppt/media/image11.jpeg" ContentType="image/jpeg"/>
  <Override PartName="/ppt/media/image40.png" ContentType="image/png"/>
  <Override PartName="/ppt/media/image36.jpeg" ContentType="image/jpeg"/>
  <Override PartName="/ppt/media/image13.png" ContentType="image/png"/>
  <Override PartName="/ppt/media/image37.png" ContentType="image/png"/>
  <Override PartName="/ppt/media/image41.jpeg" ContentType="image/jpeg"/>
  <Override PartName="/ppt/media/image6.png" ContentType="image/png"/>
  <Override PartName="/ppt/media/image29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5795-2308-486B-BD57-F12C4082D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2E8F-7C34-4F87-8DC4-F9AAFA638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C64-C0DF-4C55-A04D-B0BCB610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08F-D74A-49A7-BB8D-38AB080C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173-EE75-4C83-96B4-4A98E6B3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854-C2FD-44CD-BAE2-75053943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2AE-4E27-4B49-A0E9-154E5256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B1F-8403-4322-863A-53767BBE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4D5-7B90-442B-B6E9-05FCA9B7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2D7-33F7-4B3F-BA53-0C3B26D5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19A-EEB4-4BC0-A0B6-7CFD0231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73F9-1D70-44CA-BE1F-E5287782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512-A92D-4DCE-A750-595A1A02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83A2-6E50-442D-9AC1-20B65566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1838-3C12-4A8D-B72A-D09B473DA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medlib.med.utah.edu/WebPath/jpeg1/RENAL085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51128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1371600" y="4791240"/>
            <a:ext cx="62485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ctangle 2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287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sentati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7-14 days </a:t>
            </a:r>
            <a:r>
              <a:rPr b="0" i="1" lang="en-US" sz="2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pharyngit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4-21 days </a:t>
            </a:r>
            <a:r>
              <a:rPr b="0" i="1" lang="en-US" sz="2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(skin infec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brupt onset (</a:t>
            </a:r>
            <a:r>
              <a:rPr b="0" lang="en-GB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ute nephritic syndrom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rep antigens trigger antibodies that cross-react to glomeruli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irculating immune complexes during filtration in the glomerulus deposit  in the kidne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mmune complexes activate compl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ctangle 2" descr=""/>
          <p:cNvPicPr/>
          <p:nvPr/>
        </p:nvPicPr>
        <p:blipFill>
          <a:blip r:embed="rId1"/>
          <a:stretch/>
        </p:blipFill>
        <p:spPr>
          <a:xfrm>
            <a:off x="60480" y="96840"/>
            <a:ext cx="8778600" cy="1085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04920" y="914400"/>
            <a:ext cx="8610480" cy="56386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Caused by known streptococcal types called: nephritic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most children bacterial culture will be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–streptolysin-O antibody(ASO) will be the only         evi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nti-DNAse B titre is a better indicator of          streptococcal skin sepsis than the ASO ti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holesterol and lipids in skin suppress the ASO antibody response but not the anti-DNAse B antibody ti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le 1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381880" cy="1225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457200" y="1447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ffuse proliferative GN (PG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228600" y="23623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ffuse proliferation of glomerular cell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requent infiltration  of leukocytes  (especially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eutrophi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228600" y="417996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ypical features of immune complex diseas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Hypocomplement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Granular deposits of IgG &amp; complement on G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A09D-D03A-476A-B1F5-20B081BEA332}" type="slidenum">
              <a:rPr b="1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RENAL086"/>
          <p:cNvPicPr/>
          <p:nvPr/>
        </p:nvPicPr>
        <p:blipFill>
          <a:blip r:embed="rId1"/>
          <a:stretch/>
        </p:blipFill>
        <p:spPr>
          <a:xfrm>
            <a:off x="0" y="3429000"/>
            <a:ext cx="2590920" cy="241128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304920" y="58672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immune deposits are distributed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in the capillary loops in a granular, bumpy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ttern because of the focal nature of the deposition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RENAL08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143000"/>
            <a:ext cx="2590920" cy="2279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post streptococcal nephritis.jpg"/>
          <p:cNvPicPr/>
          <p:nvPr/>
        </p:nvPicPr>
        <p:blipFill>
          <a:blip r:embed="rId5"/>
          <a:stretch/>
        </p:blipFill>
        <p:spPr>
          <a:xfrm>
            <a:off x="2590920" y="1143000"/>
            <a:ext cx="6270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244440" y="195120"/>
            <a:ext cx="8442360" cy="1462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28600" y="1981080"/>
            <a:ext cx="87631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slowly progressive dise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form of chronic immune-complex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ephrit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ost common between 30 - 50 y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Memb_illustrationcapillary.jpg"/>
          <p:cNvPicPr/>
          <p:nvPr/>
        </p:nvPicPr>
        <p:blipFill>
          <a:blip r:embed="rId1"/>
          <a:stretch/>
        </p:blipFill>
        <p:spPr>
          <a:xfrm>
            <a:off x="50760" y="609480"/>
            <a:ext cx="9042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-23760" y="-19080"/>
            <a:ext cx="8789760" cy="1287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t is a chronic progressive glomerulonephritis that occurs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lder children and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 main typ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Type I MPGN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(80% of cas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irculating immune complexes have been identif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ay occur in association with hepatitis B&amp;C antigenemia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tra-renal infections  or S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bendothelial and mesangial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pos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IF membranoproliferative I.jpg"/>
          <p:cNvPicPr/>
          <p:nvPr/>
        </p:nvPicPr>
        <p:blipFill>
          <a:blip r:embed="rId2"/>
          <a:stretch/>
        </p:blipFill>
        <p:spPr>
          <a:xfrm>
            <a:off x="5715000" y="2320920"/>
            <a:ext cx="342900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822240"/>
            <a:ext cx="906768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Type II MPGN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Also known as 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nse deposit disease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fundamental  abnormality is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cessive complement activ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me patients have autoantibody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gainst C3 convertase called: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C3 nephritic factor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amembranous dense depos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IF MEM PROF II.jpg"/>
          <p:cNvPicPr/>
          <p:nvPr/>
        </p:nvPicPr>
        <p:blipFill>
          <a:blip r:embed="rId1"/>
          <a:stretch/>
        </p:blipFill>
        <p:spPr>
          <a:xfrm>
            <a:off x="5934240" y="3962520"/>
            <a:ext cx="318744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6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obr4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0" name="Down Arrow 4"/>
          <p:cNvSpPr/>
          <p:nvPr/>
        </p:nvSpPr>
        <p:spPr>
          <a:xfrm>
            <a:off x="6781680" y="2057400"/>
            <a:ext cx="152640" cy="1676520"/>
          </a:xfrm>
          <a:prstGeom prst="downArrow">
            <a:avLst>
              <a:gd name="adj1" fmla="val 50000"/>
              <a:gd name="adj2" fmla="val 4993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9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Understand the importance of immun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complexes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in the pathogenesis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of renal inju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Learn that immune complexes form in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circulation and may deposit in different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tissu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Understand the dynamics of deposition of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complexes which depend on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the size and rate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Identify the different types of renal disease based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on the site of deposition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of the immune complex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244440" y="390600"/>
            <a:ext cx="8442360" cy="974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 most common from of primary      glomerulonephritis in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Affects children and young ad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Begins as an episode of gross hematuria that occurs within 1-2 days of a non specific upper respiratory tract inf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11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04560" y="15235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pathogenic hallmark i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position of IgA &amp; complement C3 in th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esangiu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re is evidence of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tivation of complement by 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the alternativ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pathway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serum complement C2 and C4 will b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orma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IgA.jpg"/>
          <p:cNvPicPr/>
          <p:nvPr/>
        </p:nvPicPr>
        <p:blipFill>
          <a:blip r:embed="rId1"/>
          <a:stretch/>
        </p:blipFill>
        <p:spPr>
          <a:xfrm>
            <a:off x="685800" y="838080"/>
            <a:ext cx="7924680" cy="52038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228600" y="6019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This immunofluorescence pattern demonstrates positivity with antibody to IgA. The pattern is that of mesangial deposition in the glomerulus. This is IgA nephropat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2286000" y="1522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IgA Nephropa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244440" y="195120"/>
            <a:ext cx="8442360" cy="1462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-360" y="1523880"/>
            <a:ext cx="8839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PGN is a clinical syndrome and not a specific form of 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most cases the glomerular injury is immunologically medi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practical classification divides CrGN  into three groups on the basis of immunologic finding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www.health-writings.com/img/oy/membrane-glomerulonephritis/rapidly_progressive_crescentic_glomerulonephritis_02.jpg"/>
          <p:cNvPicPr/>
          <p:nvPr/>
        </p:nvPicPr>
        <p:blipFill>
          <a:blip r:embed="rId1"/>
          <a:stretch/>
        </p:blipFill>
        <p:spPr>
          <a:xfrm>
            <a:off x="0" y="1003320"/>
            <a:ext cx="8991720" cy="586404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4" descr=""/>
          <p:cNvPicPr/>
          <p:nvPr/>
        </p:nvPicPr>
        <p:blipFill>
          <a:blip r:embed="rId2"/>
          <a:stretch/>
        </p:blipFill>
        <p:spPr>
          <a:xfrm>
            <a:off x="-176040" y="55440"/>
            <a:ext cx="93200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62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linear deposition of IgG and C3 on the G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 Goodpasture syndr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bodies bind also in the pulmonary    alveolar capillary basement membr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anti gbm1.jpg"/>
          <p:cNvPicPr/>
          <p:nvPr/>
        </p:nvPicPr>
        <p:blipFill>
          <a:blip r:embed="rId1"/>
          <a:stretch/>
        </p:blipFill>
        <p:spPr>
          <a:xfrm>
            <a:off x="0" y="0"/>
            <a:ext cx="910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62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ay occur as a complication of any of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immune complex nephritid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ost infectio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gA nephropath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stic granular (lumpy-bumpy) pattern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aining of the GBM for immunoglobulin &amp; comple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md_99-08-0054.jpg"/>
          <p:cNvPicPr/>
          <p:nvPr/>
        </p:nvPicPr>
        <p:blipFill>
          <a:blip r:embed="rId1"/>
          <a:stretch/>
        </p:blipFill>
        <p:spPr>
          <a:xfrm>
            <a:off x="228600" y="990720"/>
            <a:ext cx="8705880" cy="586728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4" descr=""/>
          <p:cNvPicPr/>
          <p:nvPr/>
        </p:nvPicPr>
        <p:blipFill>
          <a:blip r:embed="rId2"/>
          <a:stretch/>
        </p:blipFill>
        <p:spPr>
          <a:xfrm>
            <a:off x="-55440" y="23760"/>
            <a:ext cx="904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62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Defined by the lack of anti-GBM antibod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Most cases are  associated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-neutrophil cytoplasmic antibodies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erum (ANCA) and systemic vasculit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GNspectrumB.gif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304920" y="152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of antibody with various microbial OR  self antigens induce type II or III hypersensitivity reactions in the kidne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7086600" y="5105520"/>
            <a:ext cx="1676520" cy="1218960"/>
          </a:xfrm>
          <a:prstGeom prst="rect">
            <a:avLst/>
          </a:prstGeom>
          <a:solidFill>
            <a:srgbClr val="fdea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flam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04920" y="5029200"/>
            <a:ext cx="1600200" cy="137160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jury to renal t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791320" y="3276720"/>
            <a:ext cx="838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09680" y="3276720"/>
            <a:ext cx="533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191120" y="380988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own Arrow 8"/>
          <p:cNvSpPr/>
          <p:nvPr/>
        </p:nvSpPr>
        <p:spPr>
          <a:xfrm>
            <a:off x="6172200" y="3886200"/>
            <a:ext cx="380880" cy="152388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own Arrow 9"/>
          <p:cNvSpPr/>
          <p:nvPr/>
        </p:nvSpPr>
        <p:spPr>
          <a:xfrm>
            <a:off x="4267080" y="4114800"/>
            <a:ext cx="381240" cy="143496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own Arrow 10"/>
          <p:cNvSpPr/>
          <p:nvPr/>
        </p:nvSpPr>
        <p:spPr>
          <a:xfrm>
            <a:off x="2209680" y="3886200"/>
            <a:ext cx="228600" cy="1816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pauci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093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80880" y="62118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Granular staining (Immune compl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733920" y="6211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Linear st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(Anti-G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6248520" y="61722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No antibody st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(Pauci associated with vasculit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itle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425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Immune complexes underlie the pathogenesis of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many of the glomerulo-nephritid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Activation of the complement system is an integral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part of the process, and measurement of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complement proteins help in diagnosis and follow-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up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of patie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Immunofluoresence of renal biopsy demonstrat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the presence of immune complexes and confirm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diagnosi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iagram 1" descr=""/>
          <p:cNvPicPr/>
          <p:nvPr/>
        </p:nvPicPr>
        <p:blipFill>
          <a:blip r:embed="rId1"/>
          <a:stretch/>
        </p:blipFill>
        <p:spPr>
          <a:xfrm>
            <a:off x="0" y="1438200"/>
            <a:ext cx="9144000" cy="528012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3" descr=""/>
          <p:cNvPicPr/>
          <p:nvPr/>
        </p:nvPicPr>
        <p:blipFill>
          <a:blip r:embed="rId2"/>
          <a:stretch/>
        </p:blipFill>
        <p:spPr>
          <a:xfrm>
            <a:off x="384120" y="49320"/>
            <a:ext cx="85345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weeningslide200804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tle 1" descr=""/>
          <p:cNvPicPr/>
          <p:nvPr/>
        </p:nvPicPr>
        <p:blipFill>
          <a:blip r:embed="rId1"/>
          <a:stretch/>
        </p:blipFill>
        <p:spPr>
          <a:xfrm>
            <a:off x="176040" y="128520"/>
            <a:ext cx="8510760" cy="1200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accumulate in tissues where filtration of plasma occurs. This explains the high incidence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Glomerulonephritis (deposition in the   kidne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Vasculitis (deposition in the arterie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thritis (deposition in the synovial joi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Introduction-NIER_01.png"/>
          <p:cNvPicPr/>
          <p:nvPr/>
        </p:nvPicPr>
        <p:blipFill>
          <a:blip r:embed="rId1"/>
          <a:stretch/>
        </p:blipFill>
        <p:spPr>
          <a:xfrm>
            <a:off x="2631960" y="1998720"/>
            <a:ext cx="6512040" cy="485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imagesCAMCCZKX.jpg"/>
          <p:cNvPicPr/>
          <p:nvPr/>
        </p:nvPicPr>
        <p:blipFill>
          <a:blip r:embed="rId2"/>
          <a:stretch/>
        </p:blipFill>
        <p:spPr>
          <a:xfrm>
            <a:off x="0" y="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stock-photo-scheme-of-a-nephron-dissected-in-which-we-can-see-inside-72413677.jpg"/>
          <p:cNvPicPr/>
          <p:nvPr/>
        </p:nvPicPr>
        <p:blipFill>
          <a:blip r:embed="rId3"/>
          <a:stretch/>
        </p:blipFill>
        <p:spPr>
          <a:xfrm>
            <a:off x="0" y="2666880"/>
            <a:ext cx="267012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3048120" y="3049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Nephron and glomeru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weeningslide200809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442360" cy="974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80880" y="1371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ntibody-mediated Inju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embranous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IgA nephropath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Membranoproliferative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Post infectious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Antiglomerular basement membrane disea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6:13:51Z</dcterms:created>
  <dc:creator>Dr.Hazem</dc:creator>
  <dc:description/>
  <dc:language>en-US</dc:language>
  <cp:lastModifiedBy>3422</cp:lastModifiedBy>
  <dcterms:modified xsi:type="dcterms:W3CDTF">2016-04-25T06:02:09Z</dcterms:modified>
  <cp:revision>118</cp:revision>
  <dc:subject/>
  <dc:title>Immunology of  nephritis.</dc:title>
</cp:coreProperties>
</file>