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2A3-33E8-4BFE-8F90-B8B61EB6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081-C538-4E1D-88DF-71C8B7C5A6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28A-8987-4839-835A-150F0F1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5B6-6F48-4727-A73C-C6BEFAE7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9AF-F572-4A9F-9C7D-1BA332AF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73C-2FEF-432E-B5FB-DF8237D8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03023-96B9-47FC-A2A1-CFEA624B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99E00-57B0-4D37-AFA1-84656F5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2FE6-5B76-473B-A27B-B2C433A0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AA7A-E79B-4DDC-ABEB-A3AB32E4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B5469-E0BC-4E1F-BD0E-351DBEC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DC373-F95F-410B-89F2-C1EDC502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B8A2-40C4-4E43-AE15-D2A7E8B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FC4-CC68-4B34-96DE-9ACE7100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44A84-DE30-4111-90F1-E2F2DE7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FA55-D610-480C-839D-E5AFDFF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5AFD9-F89A-48D9-9C35-F12218C0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5190-A832-4EA1-9A48-CB6A475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E1913-632F-46F9-9AB9-971F1324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573-A4B0-4164-9608-85791204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B2F-5E94-4489-B4D9-D49EB86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346-4BE5-4202-B44D-8642774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5E8-FE3D-4B7A-BE76-7F9BF999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76C-A589-4949-B909-2C17B49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20E-8D13-4895-A7F6-6017AEAB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ADF-C3B0-4093-ADC5-680A7C6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BC5-4D17-4601-901B-713281983E00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DD3F-6B10-45E1-A4D1-A27470449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BA3E-42A8-4683-834E-18D77664AB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yelonephrit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F400-4E0F-4DC9-9722-F5F709C71DB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6 weeks course if re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 urine culture 2 weeks after completion of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D092-450F-4032-AD05-825C96C13350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Pyelonephr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d bouts of acute pyelonephritis may lead to chronic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ymptoms of infection unless an acute exacerb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scarr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C75-8A56-42CC-84C6-E81BAD361975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Assessment and diagnostic find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um creatin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u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RD=end stage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&amp;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carefully titrated if renal function i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7856-FCF8-49E0-B137-99CE03DE358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Nursing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balance – I / O 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s encouraged unless contraind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l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767-8AB8-4BA9-A7AC-3C381A5B768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arred and contorted kidne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hronic_pyelonephritis"/>
          <p:cNvPicPr/>
          <p:nvPr/>
        </p:nvPicPr>
        <p:blipFill>
          <a:blip r:embed="rId1"/>
          <a:stretch/>
        </p:blipFill>
        <p:spPr>
          <a:xfrm>
            <a:off x="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927C-2373-409A-BE7B-F000E45FB07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609480" y="111456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FB3-4903-485B-A8CC-5F033FC55D6E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sm causing pyelonephrit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cending pathway or vesicoureteric refl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 – E. 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- 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Klebsiella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aerogenes (causes          renal st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b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coccus faec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saprophyti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.    Haematogenous patho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aureus from infection els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ycobacterium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lmonella typ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rucella meliten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4E44-6B1E-4CEF-9D6D-D1A95209E3E4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boratory diagnosis of Pyelonephr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Urine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yuria : Presence of pus cell 10 pus cells/cmm unspun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. Gram stain one drop of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 organism indicate 10⁵ significant bacteri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. Urine biochemical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. nitrate reduction to Nitrate by enterobacteriaceae e.g. 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2. Leukocyte esterase indicate presence of pus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B. Blood Culture :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s acute Pyelonephritis is most accompanied by fever and Bacteri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. Radiological Stud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se indicate Kidneys and urinary tract abnormalities in chronic Pyelonep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AE11-B65F-4757-BD4B-7BE8A975F16E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 of Pyelonephritis by Antimicrobial ag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Most of the antibiotics used for cytitis can be used in treatment of Pyelonephritis as far as they are distributed in Blood stream exampl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mpicillin /amoxicillin/ clavulan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ephospor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iprosfloxa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Other Anti-microbial which cannot be used in treatment of Pyelonephritis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itrofuranto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alidix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9A70-BA04-4EA1-936B-3C6159827843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acterial infection of the renal pelvis, tubules and interstitial tissue of one or both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thophysiology and aet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 usually ascends from the urethra most bacterial causes eg Eco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ematogenous spread is rare eg Staph 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due to ureteroves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6F4-0248-4512-A63E-12519696B5B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are :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tract obstruction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dder tum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ral str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prostatic hyper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8C7A-2849-4773-931D-B5DAACC39884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elonephritis may be acute or 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infiltration of inflammator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cesses on the capsule and at corticomedullary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n destruction of tubules and the glomer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ronic, kidneys become scarred, contracted and nonfunc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D636-AC46-4AD2-B6F7-0BEB5B1D740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Clinical Manifestations  of acute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ly 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nk pai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angle ten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k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 symptoms of lower tract invol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4411-3BFE-49DA-9F41-269F6A547DBC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cc"/>
                </a:solidFill>
                <a:uFillTx/>
                <a:latin typeface="Arial"/>
              </a:rPr>
              <a:t>Investig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P=intra venous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nucleotide imaging with gallium citrate and indium-111-labeled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 culture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5EFD-F35F-4AA9-8776-1EFF073C78A4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the next picture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B802-E5B5-40D8-A1AC-321629868ECF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257800" y="5118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To go to any slide type the number and press enter during slide show onl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E87-90D7-4FA4-9575-0A623B737DFC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week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amicin with or without amoxici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ERICA</cp:lastModifiedBy>
  <dcterms:modified xsi:type="dcterms:W3CDTF">2014-08-04T08:46:23Z</dcterms:modified>
  <cp:revision>16</cp:revision>
  <dc:subject/>
  <dc:title>Slide 1</dc:title>
</cp:coreProperties>
</file>