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DE36-2ACB-41F9-86C5-4EE05AEFD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E350-E9AB-4D70-A1A5-161A1D5BB8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RD = end stage renal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EB3-FCA3-4C3D-8B87-3E07ED1C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2DA-D841-471F-BDF7-5F4C3E85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506-D29E-4E90-857E-576D3308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FACA-8DBA-429E-B980-D5355622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4BFA3-C683-42D9-A1D4-1E252FA7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3B556-0D2A-4888-9976-2B824656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3A07F-778B-40B2-9F32-E4BF262B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75521-A86D-4766-9DA8-8D59E72B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248A8-FDDB-4482-9F0E-72C48381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39528-B28C-4143-85A2-1F0DEEFE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B1B4E-E477-4540-8DDE-BA0BFDBD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9C7-40D1-489C-9565-D240B247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F99EB-56CA-4F49-9076-47CA27F9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B7D36-1597-41D7-B907-2EE5F4BC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D6659-7BBA-4BE5-9805-71F2BDFD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F215E-0BA9-4A62-A693-4D7FC6DD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EADA5-4E35-4D8A-993B-19A83C8C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59E-ECCD-44DD-9D80-9D6FC9B1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B02B-67FE-4EDD-85F4-813E2F92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197-F43B-49A4-B3AF-B07ED437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347-2FA9-4CF4-AE5D-39D735BA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91BC-7973-4564-8E21-AD3FA9F9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1B7-4D9A-406A-B361-CAD2702D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EFF-F11B-4A50-9903-19557117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4733-9565-4561-B1CA-8C5F86E62342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A2F0-E54A-4335-8BAB-CD96CB849D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51AF-E6A9-4BE9-B225-6A0B34B1F4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yelonephrit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E244-5785-428D-9BF9-7D3D7412B12B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or recurring symptomless infection persisting for months or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6 weeks course if re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 up urine culture 2 weeks after completion of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5B22-D6F1-4C82-9BD8-EB2F9ED25BCE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ronic Pyelonephriti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d bouts of acute pyelonephritis may lead to chronic pyelonep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linical manifes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ymptoms of infection unless an acute exacerbation occ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appet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th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 scarr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nal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5E4A-B10B-480C-AE68-D948B4A20A2D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Assessment and diagnostic find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um creatin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u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and sensi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Complic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RD=end stage renal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Medical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C&amp;S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 carefully titrated if renal function is impa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2DA3-E674-4705-8E55-D002AED1728B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Nursing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id balance – I / O 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ids encouraged unless contraindi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urly te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d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 how to prevent recurrent infections : adequate fluids, emptying the bladder regularly and performing recommended perineal hygiene taking antibiotics as prescri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2212-973F-44B3-A47A-C7F56CC347FC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carred and contorted kidney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chronic_pyelonephritis"/>
          <p:cNvPicPr/>
          <p:nvPr/>
        </p:nvPicPr>
        <p:blipFill>
          <a:blip r:embed="rId1"/>
          <a:stretch/>
        </p:blipFill>
        <p:spPr>
          <a:xfrm>
            <a:off x="0" y="701640"/>
            <a:ext cx="8531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5C27-E6AD-4ABD-8418-2C38EA0F1FD6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Destruction of approximately 70% of the kidney. Numerous dilated calyces with yellow-brown calculi. The central necrotic areas are surrounded by dense fibrosis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Kidney_XGP_Gross4"/>
          <p:cNvPicPr/>
          <p:nvPr/>
        </p:nvPicPr>
        <p:blipFill>
          <a:blip r:embed="rId1"/>
          <a:srcRect l="0" t="0" r="0" b="10509"/>
          <a:stretch/>
        </p:blipFill>
        <p:spPr>
          <a:xfrm>
            <a:off x="609480" y="1114560"/>
            <a:ext cx="853452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39BC-5D3F-4164-8682-96A079A62757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ganism causing pyelonephriti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scending pathway or vesicoureteric refl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ainly – E. co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-  </a:t>
            </a:r>
            <a:r>
              <a:rPr b="0" i="1" lang="en-US" sz="2400" spc="-1" strike="noStrike">
                <a:solidFill>
                  <a:srgbClr val="ffffff"/>
                </a:solidFill>
                <a:latin typeface="Footlight MT Light"/>
              </a:rPr>
              <a:t>Klebsiella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aerogenes (causes          renal st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Enterob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seudom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Enterococcus faec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taphylococcus saprophyti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.    Haematogenous pathog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taphylococcus aureus from infection elsew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ycobacterium tubercu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almonella typh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rucella meliten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andida albic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8A0F-162E-4E2C-BF56-A9B01A0F970F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boratory diagnosis of Pyelonephrit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A. Urine exa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a.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Pyuria : Presence of pus cell 10 pus cells/cmm unspun uri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b. Gram stain one drop of u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1 organism indicate 10⁵ significant bacteriu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. Urine biochemical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1. nitrate reduction to Nitrate by enterobacteriaceae e.g. E. 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2. Leukocyte esterase indicate presence of pus ce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B. Blood Culture :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s acute Pyelonephritis is most accompanied by fever and Bacterim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. Radiological Stud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hese indicate Kidneys and urinary tract abnormalities in chronic Pyelonephr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583E-CDA2-419D-8EE4-3D6BA824F06F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eatment of Pyelonephritis by Antimicrobial agen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Most of the antibiotics used for cytitis can be used in treatment of Pyelonephritis as far as they are distributed in Blood stream exampl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mpicillin /amoxicillin/ clavulan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ephospor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iprosfloxac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Gentamic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Other Anti-microbial which cannot be used in treatment of Pyelonephritis inclu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Nitrofuranto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Nalidix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DFCC-4C63-4140-93C8-E55EE4AFDFFB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Bacterial infection of the renal pelvis, tubules and interstitial tissue of one or both kidn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athophysiology and aet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ction usually ascends from the urethra most bacterial causes eg Ecol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ematogenous spread is rare eg Staph aur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tly due to ureterovesic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l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F825-88A7-4B12-B9A9-0153F9B0F8CB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auses are :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ary tract obstruction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dder tumou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ethral stri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ign prostatic hyperpl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ary 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5311-6921-40A2-BFFA-6615164A3D28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elonephritis may be acute or chr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cccc"/>
                </a:solidFill>
                <a:uFillTx/>
                <a:latin typeface="Arial"/>
              </a:rPr>
              <a:t>Path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s en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stitial infiltration of inflammatory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cesses on the capsule and at corticomedullary j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in destruction of tubules and the glomeru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hronic, kidneys become scarred, contracted and nonfunc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E6CC-D6EE-4E2F-B7C5-5F7734418B87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16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cccc"/>
                </a:solidFill>
                <a:uFillTx/>
                <a:latin typeface="Arial"/>
              </a:rPr>
              <a:t>Clinical Manifestations  of acute pyelonep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ly 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nk pain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al angle tender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ukocy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u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u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ddition symptoms of lower tract involv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su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E098-7C45-4680-960A-D0F3A0386C67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cccc"/>
                </a:solidFill>
                <a:uFillTx/>
                <a:latin typeface="Arial"/>
              </a:rPr>
              <a:t>Investig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 s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P=intra venous pye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onucleotide imaging with gallium citrate and indium-111-labeled WB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e culture and sensi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9D94-A11F-4D55-BEE0-D47F4C2DAFC2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486040" y="-360"/>
            <a:ext cx="3429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icturiting cystourethrogram (MCW showing bilateral VUR, grade IV on right and grade III on left-side. There is bilateral ureteral and pelvic dilation with blunting of fornices in the right kid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the next picture al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513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F88E-854E-4DD2-B750-7B904A3A52E7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10080" y="-36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e3ff"/>
                </a:solidFill>
                <a:latin typeface="Arial"/>
              </a:rPr>
              <a:t>Bilateral reflux extending into the pelvicalyceal systems of the kidney without dilatation of the calyces or ureters. (Note catheter in bladder)</a:t>
            </a:r>
            <a:endParaRPr b="0" lang="en-US" sz="3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11015" t="8139" r="43275" b="10466"/>
          <a:stretch/>
        </p:blipFill>
        <p:spPr>
          <a:xfrm>
            <a:off x="45720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5257800" y="51181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To go to any slide type the number and press enter during slide show only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771F-25D9-4293-812B-4263A51EFCF0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cccc"/>
                </a:solidFill>
                <a:uFillTx/>
                <a:latin typeface="Arial"/>
              </a:rPr>
              <a:t>Medical Management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ed as outpatients if there is no nausea, vomiting or dehydration and other signs and symptoms of sep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ill patients and all pregnant women are hospitalized at least for 2 to 3 days for parenteral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weeks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r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profloxac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amicin with or without amoxicil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3:30:40Z</dcterms:created>
  <dc:creator>Kasiviswanathan</dc:creator>
  <dc:description/>
  <dc:language>en-US</dc:language>
  <cp:lastModifiedBy>JERICA</cp:lastModifiedBy>
  <dcterms:modified xsi:type="dcterms:W3CDTF">2014-08-04T08:46:23Z</dcterms:modified>
  <cp:revision>16</cp:revision>
  <dc:subject/>
  <dc:title>Slide 1</dc:title>
</cp:coreProperties>
</file>