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AB71-F5F3-478A-BC09-422B098A7A0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AAA1-06EF-4742-A157-6D04EDB8E08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4320-F071-46F2-A61A-AEB32B9F34F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598C-F72C-439E-9E86-FA432DA63BDB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4158-0742-4197-B4A1-61D37970DFB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C3C9-92A1-4568-B2EB-B6BB6CA56D5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BD6B-30D0-4D50-A35C-8D8A26563960}" type="slidenum">
              <a:rPr b="0" lang="ar-EG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A7A4-4AAF-4226-85C6-99767B4B678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A9C9-8969-4612-A162-7037F7306EC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08F6-F02C-4700-A0D6-401E75B8860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5F83-2EAF-43F2-A780-4C1361F4DA3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2E32-E51B-4847-910B-85AAC62FC0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DCAB-8E3E-411C-999C-DD7BED0BE36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17C-3778-445D-9C68-233FD0DF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175-0469-4294-A961-02C7963B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B7C-A3F0-4298-A726-4A534A3A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A3C-678C-46F6-9770-D1574489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F2BF-3CF2-4A21-93B5-06D023E61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0FCC-7029-45F8-B956-118145A5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1759-1A25-43C6-B22B-1E062AE2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52A0-E320-415F-887D-59940560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7068-827A-49AA-870F-FD6A747B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19E5-BD75-424C-9D10-BC21B1B0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7A0A-6AB1-44C8-A1E3-7DD97BBD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9C52-A565-462E-8726-DF27DF2B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3B0E-2B4D-4867-9F1C-D5E9CC9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9CCB-AC37-427D-854C-5205B4C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D418D-764D-4A01-91C9-70F9A7AD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4341-01DD-4063-A11E-0D85195C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A6E4-C659-4221-847E-EE22147F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1CD2-2C66-4BD3-BE42-847BAF48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FA3-C7D0-4600-B24A-8975201E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FD12-B505-45C3-BE68-0A453813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6894-9813-4AA0-A2E4-4FA98ECB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AB8-DA5C-4337-8BED-217F5871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BE7-3849-4A87-9AE3-8E3D9589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010-A239-4388-8F72-76681F39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EFFF-E6D8-4D4D-95AA-AAC32D01BE0B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98A8-C4A7-43F7-A03A-0FC32109B677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755640" y="4221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Dr. Ishfaq Bukh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Active tubular secre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79280" y="1268280"/>
            <a:ext cx="8640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Therapeutic advantages of compet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robenicid inhibits active tubular secretion of organic acids e.g. Penicillin, increases their plasma conc. 2 fol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enecid acts as a uricosuric agent in treatment of gou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t suppresses the carrier mediated reabsorption of endogenous metabolite uric aci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erapeutic disadvantages of compet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Inhibition of nitrofurantoin secretion by probenecid decreased efficacy  in UTIs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78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assive tubular re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distal convoluted tubules &amp; collecting 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ive diffusion of unionized, lipophilic drugs reabsorbed back into blood circulation and urinary excretion will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onized drugs are poorly reabsorbed &amp; so urinary excretion will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ig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ctive Tubular Reabsorp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ive Tubular Reabsorption (energy dependant)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genous substances or nutrients that the body needs to conserve. e.g. glucose, electrolytes, amino acids, uric ac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ubular re-absorption and  Urinary pH trapping (Ion trappin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of the drugs are weak acids or weak bas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pH of urine can inhibit or enhance the tubular drug reabsor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hance renal clearance of drugs during tox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is normally slightly acidic and favors excretion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drug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pH varies from 4.5 to 8 depending upon the diet e.g meat causes more acidic urine and carbohydrates rich food may increase urinary p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cidific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y ammonium chloride (NH4Cl) increases excre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sic drug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mphetamine, gentamicin)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e alkalizatio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sodium bicarbonate NaHCO3 increases excretion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idic drug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spirin, barbiturat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Comic Sans MS"/>
              </a:rPr>
              <a:t>Ion trapp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2280" y="1031760"/>
            <a:ext cx="8712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ine pH varies  (4.5 - 8.0).  Consider a barbiturate (weak acidic drug) overdose.  Sodium bicarbonate may be given to make the urine alka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121280" y="2901960"/>
            <a:ext cx="291960" cy="3111480"/>
          </a:xfrm>
          <a:prstGeom prst="rect">
            <a:avLst/>
          </a:prstGeom>
          <a:solidFill>
            <a:srgbClr val="5f5f5f"/>
          </a:solidFill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110680" y="2708280"/>
            <a:ext cx="5024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63de8"/>
                </a:solidFill>
                <a:latin typeface="Arial"/>
              </a:rPr>
              <a:t>Urine                 Rest of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63de8"/>
                </a:solidFill>
                <a:latin typeface="Arial"/>
              </a:rPr>
              <a:t>pH 8.0                    pH 7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21720" y="3886200"/>
            <a:ext cx="556740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-ionised                Non-io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onised                        Io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2362320" y="4491000"/>
            <a:ext cx="0" cy="70956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590920" y="4464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5791320" y="4464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6019920" y="4414680"/>
            <a:ext cx="0" cy="78588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657600" y="4006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684600" y="4235400"/>
            <a:ext cx="1243080" cy="0"/>
          </a:xfrm>
          <a:prstGeom prst="line">
            <a:avLst/>
          </a:prstGeom>
          <a:ln w="1015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95280" y="2590920"/>
            <a:ext cx="835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31760" y="6137280"/>
            <a:ext cx="89409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rbiturate moves into urine - eliminated from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713800" cy="626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nal Excre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mainly by the kidney includ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s antibiotics (Gentamyc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h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comyc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ipin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se drugs may be contraindicated or need dose adjust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64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600" spc="-1" strike="noStrike">
                <a:solidFill>
                  <a:srgbClr val="ec1edd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ec1edd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Biliary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to few drugs that are excreted into feces. e.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ftriax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ainl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creted via bil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oest need dose adjustment in renal impair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undergo enterohepatic circulation back into systemic circulati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569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 renal clear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nce is the unit volume (ml) of plasma cleared by the kidney per unit time (mi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rate (mg/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ance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l/min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 (mg/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of many drugs and their metabolites depends on adequate renal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clearance is especially important for some drugs with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narrow therapeutic index (e.g. lithium, digoxin, warfarin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3059280" y="2421000"/>
            <a:ext cx="4321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2700360" y="2924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renal clearance may occur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morrh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ogenic sh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renal excre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 (e.g. glomerulonephrit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is may increase half-life (t ½ )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960" y="1314000"/>
            <a:ext cx="828504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in Routes of 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liary Excre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inor Routes of Excre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xhaled air (Exhala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liva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0000"/>
                </a:solidFill>
                <a:latin typeface="Garamond"/>
              </a:rPr>
              <a:t>So what should we do in this situation?</a:t>
            </a:r>
            <a:r>
              <a:rPr b="0" lang="en-AU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reduction of drugs is required to prevent toxicity especially with a narrow therapeutic index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 adjustment is needed when the creatinine clearance is below 60 mL/min.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usual dose but prolong the dosing intervals (e.g. gentamic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the dose without changing dosing intervals (e.g. digox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0000"/>
                </a:solidFill>
                <a:latin typeface="Garamond"/>
              </a:rPr>
              <a:t>So what should we do in this situation?</a:t>
            </a:r>
            <a:r>
              <a:rPr b="0" lang="en-AU" sz="3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 blood levels of drugs </a:t>
            </a:r>
            <a:r>
              <a:rPr b="1" i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therapeutic drug monitorin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ysicochemical factors affecting renal excretion of drug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s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ophi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of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blood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actors Affecting Renal Excretion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Drug Molecular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arger molecular size of the drugs are difficult to be excreted than smaller molecular size especially by glumerular fil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Drug lipid solu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rinary excretion is inversely related to lipophilicity, increased lipid solubility increase volume of distribution of drug and decrease renal excre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lasma Co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Glomerular filtration and Reabsorption are directly affected by plasma concentration Of dru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Distribution and binding characteristics of the dru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earance is inversely related to apparent volume of distribution of drugs. A drug with large V d is poorly excreted in urine. Drugs restricted to blood compartment have higher excre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actors Affecting Renal Excre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Renal blood f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portant for drugs excreted by Glomerular filtration). Irrespective of the mechanism of excretion : increased perfusion leads to increased contact of drug with secretary site and increased excre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Protein-Drug bi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renal clearance of drugs extensively bound to plasma proteins is increased after displacement with another drugs. E.g. Gentamicin induced nephrotoxicity by Furosemide .. ( Furosemide displaces gentamicin from prot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Alteration of urine 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Discussed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rders of eli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13840" y="1285920"/>
            <a:ext cx="86439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r first-order drug elimin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half-life t(1/2) is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equ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t two places on the curve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onsta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erce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lost per unit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drugs follow the first order kinetic of excretion e.g pencillin, amino gylcoside , quinilones 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irst order kinetic the rate of excretion increased with increased in concentration of drug in plasma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13840" y="21420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rug with a 2-hour half life is given with an initial dose of 8 mcg/ml, assuming first-order kinetics, how much drug will be left at 6 hou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8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4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2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) 1 mc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0% is lost every 2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8 mg                       4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4 mg                       2 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h : 2 mg     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 mg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4"/>
          <p:cNvCxnSpPr/>
          <p:nvPr/>
        </p:nvCxnSpPr>
        <p:spPr>
          <a:xfrm>
            <a:off x="1928520" y="4572000"/>
            <a:ext cx="1215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" name="Straight Arrow Connector 5"/>
          <p:cNvCxnSpPr/>
          <p:nvPr/>
        </p:nvCxnSpPr>
        <p:spPr>
          <a:xfrm>
            <a:off x="1928520" y="4928760"/>
            <a:ext cx="1215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Straight Arrow Connector 6"/>
          <p:cNvCxnSpPr/>
          <p:nvPr/>
        </p:nvCxnSpPr>
        <p:spPr>
          <a:xfrm>
            <a:off x="1928520" y="5285880"/>
            <a:ext cx="121500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Orders of eli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13840" y="1285920"/>
            <a:ext cx="864396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For zero-order drug elimin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half-life t(1/2) is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not equal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wo places on the curve and a consta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mou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lost per unit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Ethanol, phenytoin, aspir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zero order the rate of excretion is independent of the concentration of drugs  in the plasm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Risk Factors for NSAIDs-Associated Acute Renal Failure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9280" y="1196640"/>
            <a:ext cx="843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alndins (PGs) have major role in the preservation of renal function when pathologic states compromise physiologic kidney processes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GI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d PG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antagonize the local effects of circulating angiotensin II, endothelin,vasopressin, and catecholamines that reduce renal circ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aglandins  preserve GFR by antagonizing arteriolar 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significant reduction in GF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ccur follow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ministration of an NSA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patient with any underlying disease states (NSAIDs inhibit production of P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684360" y="1429920"/>
            <a:ext cx="845964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ale:    CrClest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           (140 − age)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r × 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emale:     CrClest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         0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85(140 − age)B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r × 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rClest= estimated creatinine clearnce, BW= body wieght, Scr= serum creatin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359360" y="404640"/>
            <a:ext cx="44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ine  clearance and drugs excre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611280" y="836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The Cockcroft-Gault equation for creatinine clerance esti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755640" y="5516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or dose adjustment if CrClest is 30-60 mL/min, Major dose adjustment if CrClest less that 15 mL/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unit of kidney is 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of Hen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dium bicarbon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monium chlori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hepatic circulation prolongs half life of th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ulin and creatinine are used to assess re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on for active secretion prolongs half life of some drugs e.g penicillin and probenic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binding  of drugs inhibits renal excretion of drugs except those that are actively secre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IDS e.g aspirin and ibuprofen inhbits the production of PGs and thefore reduces renal perfusion and GF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spective of the mechanism of excretion renal of drugs , decreased renal blood flow  decrease excretion of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01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11280" y="5373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nal Excretion inclu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ar fil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ubular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or active tubular re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51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6944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lomerular filtration (GF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upon renal blood flow (Normal GFR = 125-130 ml/mi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 depends on hydrostatic pressure  of blood flowing in the capilla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Glomerular filtration occu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60732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ow MW drug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most proteins have high MW and are not filtered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60732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Only free drugs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unbound to plasma proteins) are filte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60732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olar or ionized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 water soluble drugs are easily filtered e.g aminoglycosid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30960" indent="-607320"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FR is determined by creatinine, inulin, inulin is easily filtered by kidney not reabsorbed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605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Tubular secre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urs mainly in proximal tubules;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creases drug conc. in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is carrier mediat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quires energ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ransport drugs against conc. grad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605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Tubular secre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acids/anions e.g Penicillin and aspirin, ur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bases/cations e.g morphine, catecholamine are actively secr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wo drugs using the same carrier compete for excretion e.g probenicid increases half life of penicillin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User</cp:lastModifiedBy>
  <dcterms:modified xsi:type="dcterms:W3CDTF">2016-04-12T06:27:45Z</dcterms:modified>
  <cp:revision>462</cp:revision>
  <dc:subject/>
  <dc:title>GENERAL PHARMACOLOGY</dc:title>
</cp:coreProperties>
</file>