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DE7-92B8-4E94-B5E4-0FA4FD26CD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076-6E21-4F88-BFAA-987D3AB132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364-B595-42B0-9DF3-731802CC7F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CC1D-620C-44CB-AA79-84C24545DF42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ECDC-F1CE-43AF-B5F5-BA5130A7431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C369-9659-404C-B579-BDB73B0AF3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6D2-78D0-463C-B20F-D1A1AB41D43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0140-824A-4D7C-8E9A-3DAA78208A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7AA-78F8-4A57-BBFB-9954AC1E0A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56A7-F740-4B6F-A565-1F557579A1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F239-FA1D-4B2F-8AE7-A45FFCFE2B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D2D-0F75-453C-8CFA-7D7CEB39EA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C7F-CEA3-45F5-9F25-C306CFAA24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D12-FD2A-40EA-AAED-EC5E21D1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0C3-120E-4C9F-8C93-B539F9D4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9AB-0D75-49DC-97FE-A986C23E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C22-2772-4C82-AA6C-8BF1D188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D1C2-D089-4034-87B8-D82ADB4D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42DB-463C-4B30-801B-EF793417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34B-1333-492C-BEE5-2B4F63A7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B1E-752A-4BD2-B23B-5FDC13BE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655-1DA9-47A3-93D8-5143297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940-34D7-43CE-B81E-E976274C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0D91-38A9-49E8-8CD9-15DF381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4B4-2720-4F8F-A059-BD3F4FD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393D-39BE-4FFD-87C5-F323FC1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58A-A428-4280-B3F9-21C18C0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BFE9-01BE-48BF-950A-CE8FC4A6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3F0-825C-470C-9752-2C77B80A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25B-7F22-41A1-AF33-E8964203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E09-E612-4C20-82A0-B941D5F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2BE-0DA8-47F1-A3FC-8E8D863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EAE-97B9-497B-8C74-ADE9DC6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829-C67A-4F0D-A286-6FDB42C3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068-7083-4086-B2CA-244F431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113-857A-47E2-859E-5112476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3D1-FA77-4893-9BCC-6E80A2D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FB0-78E8-49BF-A07A-3C7017EB68DE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CC57-76C4-4535-9263-49A764A4753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ctive tubular secre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268280"/>
            <a:ext cx="8640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Therapeutic advantages of compet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benicid inhibits active tubular secretion of organic acids e.g. Penicillin, increases their plasma conc. 2 fol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enecid acts as a uricosuric agent in treatment of gou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t suppresses the carrier mediated reabsorption of endogenous metabolite uric aci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rapeutic disadvantages of compet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hibition of nitrofurantoin secretion by probenecid decreased efficacy  in UTIs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78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ssive tubular re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distal convoluted tubules &amp; collecting 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iffusion of unionized, lipophilic drugs reabsorbed back into blood circulation and urinary excretion will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zed drugs are poorly reabsorbed &amp; so urinary excretion will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e Tubular Reabsor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Tubular Reabsorption (energy dependant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genous substances or nutrients that the body needs to conserve. e.g. glucose, electrolytes, amino acids, uric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bular re-absorption and  Urinary pH trapping (Ion trapp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drugs are weak acids or weak b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can inhibit or enhance the tubular drug reabsor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hance renal clearance of drugs during tox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dru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 varies from 4.5 to 8 depending upon the diet e.g meat causes more acidic urine and carbohydrates rich food may increase urinary 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y ammonium chloride (NH4Cl) increases excre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mphetamine, gentamicin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ic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pirin, barbitura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1031760"/>
            <a:ext cx="871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pH varies  (4.5 - 8.0).  Consider a barbiturate (weak acidic drug) overdose.  Sodium bicarbonate may be given to make the urine alk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121280" y="290196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110680" y="2708280"/>
            <a:ext cx="5024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Rest of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1720" y="3886200"/>
            <a:ext cx="556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ionised                Non-io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onised                        Io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2362320" y="4491000"/>
            <a:ext cx="0" cy="70956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590920" y="4464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5791320" y="4464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6019920" y="4414680"/>
            <a:ext cx="0" cy="78588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657600" y="400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684600" y="4235400"/>
            <a:ext cx="124308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95280" y="25909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31760" y="613728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biturate moves into urine - eliminated from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nal Excr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myc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pin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se drugs may be contraindicated or need dose adju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600" spc="-1" strike="noStrike">
                <a:solidFill>
                  <a:srgbClr val="ec1edd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ec1edd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 e.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in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reted via bi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oes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enterohepatic circulation back into systemic circulat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nce is the unit volume (ml) of plasma cleared by the kidney per unit time (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(mg/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ance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(mg/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of many drugs and their metabolites depends on adequate ren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ith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narrow therapeutic index (e.g. lithium, digoxin, warfar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700360" y="2924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renal clearance may occu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is may increase half-life (t ½ )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960" y="1314000"/>
            <a:ext cx="828504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liary Excre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nor Routes of Excre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haled air (Exha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iva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Garamond"/>
              </a:rPr>
              <a:t>So what should we do in this situation?</a:t>
            </a:r>
            <a:r>
              <a:rPr b="0" lang="en-AU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to prevent toxicity especially with a narrow therapeutic index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adjustment is needed when the creatinine clearance is below 60 mL/min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(e.g. gentami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(e.g. digox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Garamond"/>
              </a:rPr>
              <a:t>So what should we do in this situation?</a:t>
            </a:r>
            <a:r>
              <a:rPr b="0" lang="en-AU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i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ochemical factors affecting renal excretion of drug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tors Affecting Renal Excretio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rug Molecular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rger molecular size of the drugs are difficult to be excreted than smaller molecular size especially by glumerular fil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rug lipid solu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inary excretion is inversely related to lipophilicity, increased lipid solubility increase volume of distribution of drug and decrease renal ex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sma Co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lomerular filtration and Reabsorption are directly affected by plasma concentration Of dr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istribution and binding characteristics of the 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earance is inversely related to apparent volume of distribution of drugs. A drug with large V d is poorly excreted in urine. Drugs restricted to blood compartment have higher excre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tors Affecting Renal Excre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Renal blood f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for drugs excreted by Glomerular filtration). Irrespective of the mechanism of excretion : increased perfusion leads to increased contact of drug with secretary site and increased ex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rotein-Drug bi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renal clearance of drugs extensively bound to plasma proteins is increased after displacement with another drugs. E.g. Gentamicin induced nephrotoxicity by Furosemide .. ( Furosemide displaces gentamicin from 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Alteration of urine 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iscussed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first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alf-life t(1/2) i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qu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two places on the curve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erce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drugs follow the first order kinetic of excretion e.g pencillin, amino gylcoside , quinilones 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rst order kinetic the rate of excretion increased with increased in concentration of drug in plasm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3840" y="2142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rug with a 2-hour half life is given with an initial dose of 8 mcg/ml, assuming first-order kinetics, how much drug will be left at 6 h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8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4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2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) 1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% is lost every 2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8 mg                       4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4 mg                       2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2 mg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 m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4"/>
          <p:cNvCxnSpPr/>
          <p:nvPr/>
        </p:nvCxnSpPr>
        <p:spPr>
          <a:xfrm>
            <a:off x="1928520" y="457200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5"/>
          <p:cNvCxnSpPr/>
          <p:nvPr/>
        </p:nvCxnSpPr>
        <p:spPr>
          <a:xfrm>
            <a:off x="1928520" y="492876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6"/>
          <p:cNvCxnSpPr/>
          <p:nvPr/>
        </p:nvCxnSpPr>
        <p:spPr>
          <a:xfrm>
            <a:off x="1928520" y="528588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zero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alf-life t(1/2) i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 equ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wo places on the curve and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mou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Ethanol, phenytoin,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zero order the rate of excretion is independent of the concentration of drugs  in the plas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84360" y="1429920"/>
            <a:ext cx="845964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ale:    CrClest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(140 − age)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 × 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male:     CrClest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0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85(140 − age)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 × 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Clest= estimated creatinine clearnce, BW= body wieght, Scr= serum creati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359360" y="40464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ine  clearance and drugs excre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1280" y="836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The Cockcroft-Gault equation for creatinine clerance est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55640" y="5516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or dose adjustment if CrClest is 30-60 mL/min, Major dose adjustment if CrClest less that 15 mL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  of drugs inhibits renal excretion of drugs except those that are actively secr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 aspirin and ibuprofen inhbits the production of PGs and thefore reduces renal perfusion and G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spective of the mechanism of excretion renal of drugs , decreased renal blood flow  decrease excretion of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or active tubula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Normal GFR = 125-130 ml/mi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depends on hydrostatic pressure  of blood flowing in the capil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w MW drug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most proteins have high MW and are not filtere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nly free drug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unbound to plasma proteins) 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lar or ionized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 water soluble drugs are easily filtered e.g aminoglycosi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FR is determined by creatinine, inulin, inulin is easily filtered by kidney not reabsorbed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s drug conc.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carrier media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s energ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port drugs against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acids/anions e.g Penicillin and aspirin, 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bases/cations e.g morphine, catecholamine are actively sec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 drugs using the same carrier compete for excretion e.g probenicid increases half life of penicillin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6-04-12T06:27:45Z</dcterms:modified>
  <cp:revision>462</cp:revision>
  <dc:subject/>
  <dc:title>GENERAL PHARMACOLOGY</dc:title>
</cp:coreProperties>
</file>