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B6F-FF51-4DBA-AF2A-0F1632649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E6A-5936-409A-A95B-1E7D3203BEC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321-7F64-496E-B879-0FBE48D74CE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095B-F961-4A9A-86D0-F373A4F8E41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A19-4363-4028-9DC4-B84A60B8FDB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EE04-42CB-452C-A5FF-CE130F5F582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1BBD-BB0E-4E68-A280-249DBC598A4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6CFF-5562-424D-B9B7-C57BE5D4F2F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E44-E832-40EA-8551-6FEB53EDCC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9ED-686F-46EF-93A3-A8CDA1A33B1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97F-19DF-436E-9B95-96389BF8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A7F-0B1B-44CF-8E7F-5F03C40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035-5660-4A7E-B9AA-C7A8AF2D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F8B-8793-4A32-ADC1-1A2A213D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827-F2B7-4888-8BFD-1BCCCD34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72C-DC60-478D-BA28-6FCBA08E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43D-B5F1-4A8F-8BA7-853928D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699-024E-4FF9-9244-5FA0E5A7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C33-5C7D-4C44-A25A-1CF817FA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5C2-BD59-40B9-BB2A-64535A9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879-9C11-4614-A59A-A1E31EF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2CF-22BE-4C5F-99EB-A3E55E8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B7A-DFC9-4D33-9B4D-8B4D2F182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77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78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79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t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 against E. coli and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tabolized (75%)&amp; excreted so rapidly that no        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molytic anaemia(G6PD de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aind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ts with G6PD defici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bb59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ntraindication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73C6-83BE-42A3-B3F2-FE1CECC91C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.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Cephalosporins</a:t>
            </a:r>
            <a:br>
              <a:rPr sz="4000"/>
            </a:b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br>
              <a:rPr sz="4000"/>
            </a:b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0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inic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** 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dverse 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usea , vomiting ,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NS effects ( confusion, insomnia, headache, anxi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mage of growing cartilag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arthropath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toxicity(avoid excessive sunligh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eus mirabil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m+ bacteri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phylococcus Saprophyticus(Approx. 20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Mycoplasma, Chlamydia trachomatis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Spread to other parts of the body and resistant to many antibiotics and more difficult to cure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reatment of UTI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Co-trimoxazole(SMX/TMP) )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Nitrofuranto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Tetracyclines, e.g. Doxycycline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Aminoglycosides, e.g. gentam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cephalosporins(e.g.ceftriaxone&amp;ceftazid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Quinolones, e.g. ciprofloxacin,p.o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alibri"/>
              </a:rPr>
              <a:t>Co-trimoxazole (Bactrim, Septra)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kk105041</cp:lastModifiedBy>
  <cp:lastPrinted>2016-04-10T06:09:37Z</cp:lastPrinted>
  <dcterms:modified xsi:type="dcterms:W3CDTF">2016-04-18T04:49:31Z</dcterms:modified>
  <cp:revision>320</cp:revision>
  <dc:subject/>
  <dc:title>Urinary tract infections</dc:title>
</cp:coreProperties>
</file>