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77AC-35A9-44E3-B595-31225065CD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1EB4-F4E5-4762-B582-A796704BB5D5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C7CE-F7B0-4DB1-B715-968E0D4DBCD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827F-1F84-4826-A662-B9DD7EC8AC6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8C1D-B45A-45F8-8BCA-550BD97BACA7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378D-F7FF-4FA2-ABFE-1E10566CE66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A908-3000-427D-8479-64B315C0CC5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B899-EF64-4E54-A387-7949809AD45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50D1-7247-4D39-B842-C6C7766250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7812-E070-4B56-9676-BED44CB94BB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A85-FDFB-4254-8021-9FCED717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5A3-7E72-41C3-8B38-42BBD34D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232-0657-4B22-B9D7-7592FBB9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18C-E029-4F7F-8E93-367B6176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ABBD-E91F-4028-9A89-D24B0DBB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E67-68E7-4531-8FA1-BAD7A479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8C0-9FBA-470B-AADA-52F84CD3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EE0-8FE1-4644-A55C-1F551CCB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95F-86CF-4F2A-9826-849BCE5A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DFB-C5A8-4409-86D8-570D4E00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5A1-7F38-41AB-B1C6-2EC19D3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E10A-1FBD-4B1E-B2B4-BB321D99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B7A3-4A61-4920-80CE-BE80738AF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44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f. Mohammad Alhumayy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artment of Pharmac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920" y="18288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CHANISM OF 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-Aminobenzo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pteroate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lfonamid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tas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trahydrofo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ic acid synthesi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4"/>
          <p:cNvSpPr/>
          <p:nvPr/>
        </p:nvSpPr>
        <p:spPr>
          <a:xfrm>
            <a:off x="3492360" y="2060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341964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334800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468360" y="2276640"/>
            <a:ext cx="280836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324000" y="3571920"/>
            <a:ext cx="2447640" cy="1009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356400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 flipH="1">
            <a:off x="3564000" y="393372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932360" y="371628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rimethopr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nk 13" descr=""/>
          <p:cNvPicPr/>
          <p:nvPr/>
        </p:nvPicPr>
        <p:blipFill>
          <a:blip r:embed="rId1"/>
          <a:stretch/>
        </p:blipFill>
        <p:spPr>
          <a:xfrm>
            <a:off x="6527880" y="4840200"/>
            <a:ext cx="704880" cy="1133640"/>
          </a:xfrm>
          <a:prstGeom prst="rect">
            <a:avLst/>
          </a:prstGeom>
          <a:ln w="0">
            <a:noFill/>
          </a:ln>
        </p:spPr>
      </p:pic>
      <p:pic>
        <p:nvPicPr>
          <p:cNvPr id="76" name="Ink 14" descr=""/>
          <p:cNvPicPr/>
          <p:nvPr/>
        </p:nvPicPr>
        <p:blipFill>
          <a:blip r:embed="rId2"/>
          <a:stretch/>
        </p:blipFill>
        <p:spPr>
          <a:xfrm>
            <a:off x="7564320" y="4759200"/>
            <a:ext cx="552600" cy="874800"/>
          </a:xfrm>
          <a:prstGeom prst="rect">
            <a:avLst/>
          </a:prstGeom>
          <a:ln w="0">
            <a:noFill/>
          </a:ln>
        </p:spPr>
      </p:pic>
      <p:pic>
        <p:nvPicPr>
          <p:cNvPr id="77" name="Ink 15" descr=""/>
          <p:cNvPicPr/>
          <p:nvPr/>
        </p:nvPicPr>
        <p:blipFill>
          <a:blip r:embed="rId3"/>
          <a:stretch/>
        </p:blipFill>
        <p:spPr>
          <a:xfrm>
            <a:off x="7724880" y="5635800"/>
            <a:ext cx="1330200" cy="534960"/>
          </a:xfrm>
          <a:prstGeom prst="rect">
            <a:avLst/>
          </a:prstGeom>
          <a:ln w="0">
            <a:noFill/>
          </a:ln>
        </p:spPr>
      </p:pic>
      <p:pic>
        <p:nvPicPr>
          <p:cNvPr id="78" name="Ink 16" descr=""/>
          <p:cNvPicPr/>
          <p:nvPr/>
        </p:nvPicPr>
        <p:blipFill>
          <a:blip r:embed="rId4"/>
          <a:stretch/>
        </p:blipFill>
        <p:spPr>
          <a:xfrm>
            <a:off x="6402240" y="6162840"/>
            <a:ext cx="857520" cy="347400"/>
          </a:xfrm>
          <a:prstGeom prst="rect">
            <a:avLst/>
          </a:prstGeom>
          <a:ln w="0">
            <a:noFill/>
          </a:ln>
        </p:spPr>
      </p:pic>
      <p:pic>
        <p:nvPicPr>
          <p:cNvPr id="79" name="Ink 17" descr=""/>
          <p:cNvPicPr/>
          <p:nvPr/>
        </p:nvPicPr>
        <p:blipFill>
          <a:blip r:embed="rId5"/>
          <a:stretch/>
        </p:blipFill>
        <p:spPr>
          <a:xfrm>
            <a:off x="7751880" y="6259680"/>
            <a:ext cx="86508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7300"/>
                            </p:stCondLst>
                            <p:childTnLst>
                              <p:par>
                                <p:cTn id="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135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8002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bsorption,metabolism&amp;Exce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04560" y="1916280"/>
            <a:ext cx="80010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Sulfonam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ly 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pidly absorbed from stomach and small intest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idely distributed to tissues and body fluids ( including CNS, CSF ), placenta and fet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sorbed sulfonamides bind to serum protein( approx. 70%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tabolized in the liver by the process of acety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iminated in the urine, partly as such and partly as acetylated deriva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rimethoprim ( TMP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sually given orally, alone or in combination with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ll absorbed from the g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dely distributed in body fluids &amp; tissues ( including CSF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re lipid soluble than SM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tein bound ( approx.40 %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60% of TMP or its metabolite is excreted in the ur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MP concentrates in the prostatic flui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58ed5"/>
                </a:solidFill>
                <a:latin typeface="Calibri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Gastrointestinal- Nausea,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All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Hematolog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Acute hemolyt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) hypersensitvity b) G6PD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) Megaloblastic anemia due to TMP.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Drug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place bilirubin- if severe – kernicte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te warfarin, oral hypoglycem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Calibri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Nursing m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Infants under 6 wee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Renal or hepatic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 Blood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2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4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77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5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77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6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8" dur="77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7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5905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64a2"/>
                </a:solidFill>
                <a:latin typeface="Calibri"/>
              </a:rPr>
              <a:t>Antibacterial Spectrum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ctive against E. coli and Staph. saprophyticus, but other common UT gm- bacteria may be resista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8ed5"/>
                </a:solidFill>
                <a:latin typeface="Calibri"/>
              </a:rPr>
              <a:t>Mechanism of action of nitrofuranto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nsitive bacteria reduce the drug to an active agent that inhibits various enzymes and damages 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64a2"/>
                </a:solidFill>
                <a:latin typeface="Calibri"/>
              </a:rPr>
              <a:t>Pharmacokinetic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bsorption is complete after oral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etabolized (75%)&amp; excreted so rapidly that no            systemic antibacterial action is achiev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oncentrated in the urine(25% of the dose       excreted unchang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Urinary pH is kept &lt;5.5(acidic) to enhance drug activ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It turns urine to a dark orange-brow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dverse effects of nitrofuran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I disturbances: bleeding of the stomach,nausea, vomiting and diarrhea(must be taken with food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eadache and nystagm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Hemolytic anaemia(G6PD deficie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ntaindica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ts with G6PD defici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eonat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egnant women(after 38 wks of pregnanc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bbb59"/>
                </a:solidFill>
                <a:latin typeface="Calibri"/>
              </a:rPr>
              <a:t>Therapeutic Uses of nitrofuranto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used as urinary antiseptics .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ts usefulness is limited to lower UTI’s &amp; cannot be used for upper UT or systemic inf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se: 50-100 mg, po q 6h/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ng acting: 100mg twice da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238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Tetracyclin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(e.g. Doxycyclin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bb59"/>
                </a:solidFill>
                <a:latin typeface="Calibri"/>
              </a:rPr>
              <a:t>It is a long acting tetracyc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Inhibit protein synthesis by binding reversibly to 30 s sub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Pharmacokin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Usually </a:t>
            </a: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given or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Absorption is 90-100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Absorbed in the upper s. intestine &amp; best in absence of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Food &amp; di &amp; tri-valent cations ( Ca, Mg, Fe, AL) impair 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Protein binding 40-80 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Distributed well, including  CS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Cross placenta and excreted in mi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Calibri"/>
              </a:rPr>
              <a:t>Largely metabolized in the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oxycycline ( Cont. 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nausea, vomiting ,diarrhea &amp; epigastric pain(give with foo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 Thrombophlebitis – i.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 Hepatic toxicity ( prolonged therapy with high dose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Brown discolouration of teeth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. Deformity or growth inhibition of bones –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 Phototox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. Vertig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. Superinfection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ontraindication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east f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(below 1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F46C-148A-4FA2-8C06-48ACAD9BCDA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Calibri"/>
              </a:rPr>
              <a:t>Therapeutic Uses of Doxycyc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761760" y="2057400"/>
            <a:ext cx="70102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Treatment of UTI’s due to Mycoplasma &amp; Chlamydia, 100 mg p.o bid for 7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Aminoglycos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.g. GENTAMICIN,i.m,i.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 antibio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hibits protein synthesis by binding to 30S  ribosomal sub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orly absorbed orally(highly charge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oss placen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Gentamicin(CON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reted  unchanged in 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active in alkaline med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dverse effec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t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phro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uromuscular blocking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rapeutic uses of Gentamicin in UTI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e infections caused by gram negative organisms (pseudomonas or enterobact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Cephalosporins</a:t>
            </a:r>
            <a:br>
              <a:rPr sz="4000"/>
            </a:b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br>
              <a:rPr sz="4000"/>
            </a:b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3</a:t>
            </a:r>
            <a:r>
              <a:rPr b="1" lang="en-US" sz="4000" spc="-1" strike="noStrike" baseline="30000">
                <a:solidFill>
                  <a:srgbClr val="558ed5"/>
                </a:solidFill>
                <a:latin typeface="Calibri"/>
              </a:rPr>
              <a:t>rd</a:t>
            </a:r>
            <a:r>
              <a:rPr b="1" lang="en-US" sz="4000" spc="-1" strike="noStrike">
                <a:solidFill>
                  <a:srgbClr val="558ed5"/>
                </a:solidFill>
                <a:latin typeface="Calibri"/>
              </a:rPr>
              <a:t> generation cephalosporins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eftriaxone  &amp; Ceftazid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ly effective against gm-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ts by inhibition of cell wal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y are given paren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ven in severe / complicated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 acute prostat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Fluroquinolones</a:t>
            </a:r>
            <a:br>
              <a:rPr sz="4400"/>
            </a:b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(Detail was explained in respiratory le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iprofloxac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gainst gram negative aerobic organ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ibits DNA gyr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linical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multidrug resistance organisms as pseudomon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statitis ( acute / chronic 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pper urinary tract (kidney &amp;ureters) infections: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wer urinary tract (bladder, urethra &amp; prostate): cystitis , urethritis &amp; prostatit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** Upper urinary tract infections are more seri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dverse  effec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usea , vomiting , diarrh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NS effects ( confusion, insomnia, headache, anxiet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mage of growing cartilage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(arthropath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toxicity(avoid excessive sunligh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Urinary tract infections(UTI’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the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ost common  infection ( after RTI’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often associated with some obstruction of the flow of ur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more common in women more than 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:1  (Why?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idence of UTI increases in old age(10% of men &amp; 20% of wom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91476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Calibri"/>
              </a:rPr>
              <a:t>What are the causes of UTI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-360" y="990720"/>
            <a:ext cx="8839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Normally urine is sterile. Bacteria comes from digestive tract to opening of the ureth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struction of the flow of urine(e.g. kidney st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largement of prostate gland in men(common cau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heters placed in urethra and blad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 drinking enough flui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iting too long to urin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rge uterus in pregnant w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or toilet habits(wiping back to front for wom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sorders that suppress the immune system(diabetes &amp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ncer chemotherap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Bacteria responsible of urinary tract infec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04560" y="14475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Gm- bacteria (most common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.coli (approx. 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roteus mirabil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Klebsiel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seudomonas aerugino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f81bd"/>
                </a:solidFill>
                <a:latin typeface="Calibri"/>
              </a:rPr>
              <a:t>Gm+ bacteria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taphylococcus Saprophyticus(Approx. 20%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Mycoplasma, Chlamydia trachomatis &amp;  N. gonorrh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limited to urethra, unlike E.coli may be sexually transmit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Calibri"/>
              </a:rPr>
              <a:t>Urinary tract infections can b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447560"/>
            <a:ext cx="9296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Calibri"/>
              </a:rPr>
              <a:t>Simple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 do not spread to other parts of the body and go away readily with treatment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 (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Due to E.coli in most cases</a:t>
            </a:r>
            <a:r>
              <a:rPr b="1" lang="en-US" sz="2800" spc="-1" strike="noStrike">
                <a:solidFill>
                  <a:srgbClr val="898989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omplicated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ections Spread to other parts of the body and resistant to many antibiotics and more difficult to cure.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{Due to hospital- acquired bacteria(E.coli, Klebsiella,, Proteus, Pseudomonas, enterococci, staphylococci)}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Treatment of UTI’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b050"/>
                </a:solidFill>
                <a:latin typeface="Calibri"/>
              </a:rPr>
              <a:t>Antibiotics: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Co-trimoxazole(SMX/TMP) )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Nitrofurantoin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Tetracyclines, e.g. Doxycycline,p.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Aminoglycosides, e.g. gentam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cephalosporins(e.g.ceftriaxone&amp;ceftazid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58ed5"/>
                </a:solidFill>
                <a:latin typeface="Calibri"/>
              </a:rPr>
              <a:t>Quinolones, e.g. ciprofloxacin,p.o</a:t>
            </a: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Calibri"/>
              </a:rPr>
              <a:t>Co-trimoxazole (Bactrim, Septra)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Sulfamethoxazole- Trimethoprim</a:t>
            </a:r>
            <a:br>
              <a:rPr sz="4000"/>
            </a:br>
            <a:r>
              <a:rPr b="1" lang="en-US" sz="4000" spc="-1" strike="noStrike">
                <a:solidFill>
                  <a:srgbClr val="00cc00"/>
                </a:solidFill>
                <a:latin typeface="Calibri"/>
              </a:rPr>
              <a:t>        (SMX)                   (TMP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458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one, each agent is bacteriost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gether they are bactericidals(synerg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optimal ratio of TMP to SMX in vivo is 1: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ted 5(SMX):1(TMP); 800mg SMX+160mg TMP; 400 mg SMX+ 80 mg TMP; 40 mg SMX+8 mg TM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06:55:00Z</dcterms:created>
  <dc:creator>Alhumayyd</dc:creator>
  <dc:description/>
  <dc:language>en-US</dc:language>
  <cp:lastModifiedBy>kk105041</cp:lastModifiedBy>
  <cp:lastPrinted>2016-04-10T06:09:37Z</cp:lastPrinted>
  <dcterms:modified xsi:type="dcterms:W3CDTF">2016-04-18T04:49:31Z</dcterms:modified>
  <cp:revision>320</cp:revision>
  <dc:subject/>
  <dc:title>Urinary tract infections</dc:title>
</cp:coreProperties>
</file>