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30387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397188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1080" y="8829720"/>
            <a:ext cx="30387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3588-D42E-46D7-BF0E-5FA204EF48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1440" y="8829720"/>
            <a:ext cx="3038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AE56-AD65-405D-BCBC-5805232CE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4A7-9370-49C1-B6E8-0A373194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710C-04D0-4B4D-8C2D-C7B2A8A2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ECB9-46B8-4BBD-8469-65E1CB2A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CD00-9A49-465E-A24B-635095D7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3006-3D40-4BC7-A251-C0B28F65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B467-177A-41C7-97B9-A4ECA8D8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5D02-E742-4183-9225-D8C72160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007E-948A-4FCE-BF70-C8FE78F3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AF47-FD8C-4D50-B82C-9DB96653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1FA0-11ED-4060-B3E2-0857D2CE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FDAD-5674-4D5F-8BE1-76C5BBE3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40A5-419D-48CD-8669-4A8CADA2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C69C-9DFD-4882-B08B-5E175EAC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D2FA-A945-498E-8845-38FB6A30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8AE0-3035-48E1-9389-323C85A5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12BE-9289-4F0D-AFAD-139CD7D4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296E-5E79-4597-B5EA-C87D95B54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AC71A-04C7-439A-8EF1-5297E02F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108A8-BD15-4C2F-B655-D8B700B5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C3294-55EE-464F-ABB8-3B3D96D5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9BC5ED-9FFF-4C76-9CAF-64DE3B56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11E2D-6A0F-4918-995A-C90267A1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09C-D8A6-4AD4-824A-43072F60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47D9B-BCEA-4A80-996B-457D521F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542A7-C1A2-4BF4-9858-27467B2B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D98B2-A977-4570-A27E-559AC9B3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7D2A2-FA49-46E8-B194-B158C709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5682F4-4A56-4A81-B7E4-082701EE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845B5-D425-474C-883F-F2E08C34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E56E3-B3FF-46A3-8E36-2654AF90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C6C85-3BD5-4EBC-94A1-1FC9C3F3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5057D-840D-4F43-B12A-87E5B365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2ADD6-0A26-425C-81C7-CB699251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A7E-07F6-4BDD-A63A-833F49A5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56B2A-0D3D-4F18-8686-B22377F8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5B201-E8FA-4D6E-87B8-6F44037B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0CC06-D95B-44FB-B3E4-D3F31908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F0813-586E-44B2-82A9-458A1578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A002E-9DD3-4F2F-A5B2-ABBFB0DA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D694C-6162-4712-B28D-C82C8621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F625C-CEFA-401C-BF53-0D69D4D6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648CE-AA1A-43C3-ACBF-E0833A8B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66050-12F2-48FE-A8BF-103A1521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5A5D1-4B1D-4D27-839B-2B2D4B51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DFC-B9EF-4B41-947B-A00C22BE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B7B659-BE68-415F-B90A-CB454F40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E5FA8E-CB75-47E5-8917-96FC45E3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6BB9C-1F76-433B-8139-8FBF5DEC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A63550-C4EE-47D0-A969-250E4CA1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3E4C6B-F773-4355-9272-0CEEC489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0539A1-A3AD-4027-B188-7445E9D2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7B7B09-5351-4F6C-952C-CC403E6D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A3460C-80B3-46AF-AA38-4A84E19D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20C5A7-2A0B-4C2C-8D3B-F0DCA472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601B5-F5C5-4E3B-911C-D2373A50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7033-04BD-46E3-93AD-0BC7FAD5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EF1BDE-BF8E-41F1-ACEE-01F47861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A478F9-CAA7-49E0-B2DF-05BC3ABF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6AE79A-8E9F-4EB0-93B4-8C256DAE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DBD144-F457-48F1-B46B-845E151C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55F9AD-6071-455C-B8E8-BCADF5D0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A560A9-F671-405C-A476-C5AB1F6D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DF2E4F-DC78-4EBD-A538-58386972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5C9447-881C-4816-BBDC-462E9017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4C108-AA66-40C6-AEAE-2EE7DC24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58F703-0E2E-4924-AC79-FA8052AC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2B65-3B0C-4A8F-BBCD-3CC03B86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C06EAE-7EF8-45DD-8B15-811AB849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2CFFB8-0E60-4A73-8041-27CED7E3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5D4158-2B8D-4CB2-AB37-8B7DAED6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946182-083F-4DE5-B1F2-B3CEBA45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9B6E18-C778-452E-976F-121D89A6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418185-8649-4869-8B8D-39702B19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67A3BD-18E6-46F6-BD01-B75FB16B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248221-E4AF-4960-AEF6-BAFA5129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AE135B-4A99-4305-BDE1-4E996657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57F7FE-0306-4E7C-A7DB-8258338C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A69C-1CFB-4ADC-83F6-28092199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BF4348-E213-4971-A53C-67EB007E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831F55-7C22-49F5-A3A5-6B943BD2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235186-F197-415C-90D1-DEBBC25A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444606-23BC-4245-BF3D-1084D1BF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50C9FE-7778-4C43-A206-1DCD7474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A7A-EF75-460F-BA7F-482EEC88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E40A-0A5B-421C-8A6D-DE2C6662DC4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رابط مستقيم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شكل بيضاوي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شكل بيضاوي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شكل بيضاوي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شكل بيضاوي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شكل بيضاوي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0A07-B75F-4A67-B41F-2075C17DF3D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9B58-F685-4D68-91A6-19CBB072D4D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مستطيل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شكل بيضاوي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شكل بيضاوي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شكل بيضاوي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شكل بيضاوي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شكل بيضاوي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رابط مستقيم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5841-301B-4BF4-B61E-12EC6C17B6A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A979-1BA2-43F1-BC22-EE5FF7F4FC8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رابط مستقيم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رابط مستقيم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رابط مستقيم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مستطيل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رابط مستقيم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شكل بيضاوي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59B7-BA07-4A45-920D-28220651956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شكل بيضاوي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رابط مستقيم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مستطيل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رابط مستقيم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رابط مستقيم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رابط مستقيم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62B5-59CD-4803-946A-0ACF62FD0C2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14320" y="857160"/>
            <a:ext cx="507204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DIURETICS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Part 1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785880" y="2571840"/>
            <a:ext cx="4929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Dr.Abdullatif Mahesa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Pharmacology Uni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17" descr="1101"/>
          <p:cNvPicPr/>
          <p:nvPr/>
        </p:nvPicPr>
        <p:blipFill>
          <a:blip r:embed="rId1"/>
          <a:stretch/>
        </p:blipFill>
        <p:spPr>
          <a:xfrm>
            <a:off x="5676840" y="2957400"/>
            <a:ext cx="339588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79280" y="142920"/>
            <a:ext cx="864072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Site of action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08000" y="714240"/>
          <a:ext cx="8821800" cy="6026400"/>
        </p:xfrm>
        <a:graphic>
          <a:graphicData uri="http://schemas.openxmlformats.org/drawingml/2006/table">
            <a:tbl>
              <a:tblPr/>
              <a:tblGrid>
                <a:gridCol w="1727280"/>
                <a:gridCol w="2736720"/>
                <a:gridCol w="2592360"/>
                <a:gridCol w="1765440"/>
              </a:tblGrid>
              <a:tr h="69804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e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un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ranspor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ureti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-absorption of 66% Na, K, Ca, Mg, 100% glucose and amino acids; 85% Na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H transporter, Carbonic anhydrase en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rbonic anhydras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traight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retion and re-absorption of organic acids and b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id &amp; base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ck ascending loo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%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ondary reabsorption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,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K/2Cl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t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tubular reabsorption of 5%Na, Cl,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and Cl co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463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llecting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transpor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Classification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50920" y="126828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Loop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Thiazide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Potassium-sparing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Osmotic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1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2"/>
          <p:cNvSpPr/>
          <p:nvPr/>
        </p:nvSpPr>
        <p:spPr>
          <a:xfrm>
            <a:off x="1714680" y="714240"/>
            <a:ext cx="2000160" cy="928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Carbonic anhydr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inhib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4500720" y="4149720"/>
            <a:ext cx="2357280" cy="4287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Loop diur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5357880" y="1785960"/>
            <a:ext cx="2571840" cy="5713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Thiazide diur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7143840" y="5084640"/>
            <a:ext cx="1714320" cy="5050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K-sparing diur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2627280" y="4941720"/>
            <a:ext cx="208908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entury Schoolbook"/>
              </a:rPr>
              <a:t>Osmotic dirue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scan0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746748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entury Schoolbook"/>
              </a:rPr>
              <a:t>CARBONIC ANHYDRA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142920" y="549360"/>
            <a:ext cx="8750160" cy="63086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"/>
          <p:cNvSpPr/>
          <p:nvPr/>
        </p:nvSpPr>
        <p:spPr>
          <a:xfrm>
            <a:off x="395280" y="1125360"/>
            <a:ext cx="295272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mina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5616720" y="1125360"/>
            <a:ext cx="352728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olatera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1042920" y="620640"/>
            <a:ext cx="180036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6156360" y="620640"/>
            <a:ext cx="180036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ASCENDING LOOP OF HENL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88581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0920" y="109080"/>
            <a:ext cx="839304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l convoluted tubules (DCT)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rcRect l="0" t="0" r="0" b="8035"/>
          <a:stretch/>
        </p:blipFill>
        <p:spPr>
          <a:xfrm>
            <a:off x="142920" y="692280"/>
            <a:ext cx="885816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entury Schoolbook"/>
              </a:rPr>
              <a:t>COLLECTING TUBULES (CT)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842976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entury Schoolbook"/>
              </a:rPr>
              <a:t>COLLECTING TUBULES (CT)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86439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79280" y="260280"/>
            <a:ext cx="878544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entury Schoolbook"/>
              </a:rPr>
              <a:t>Diuretics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Are drugs that increase renal excretion of </a:t>
            </a: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sodium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and </a:t>
            </a: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water 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resulting in increase in urine volume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Diuresis: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s the process of excretion of </a:t>
            </a: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water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 in the urine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Natriuresis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 is the process of excretion of sodium in the urine 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179280" y="260280"/>
            <a:ext cx="878544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entury School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29400" cy="35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746748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entury Schoolbook"/>
              </a:rPr>
              <a:t>CARBONIC ANHYDRA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42920" y="549360"/>
            <a:ext cx="8750160" cy="63086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395280" y="1125360"/>
            <a:ext cx="295272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mina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5616720" y="1125360"/>
            <a:ext cx="352728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olatera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1042920" y="620640"/>
            <a:ext cx="180036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6156360" y="620640"/>
            <a:ext cx="180036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2940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2920" y="1052280"/>
            <a:ext cx="89647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etazolamide – dorzolamide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echanism of action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of ac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tubul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rbonic anhydrase (CA) enzym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 tubules thus interferes with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HCO3 re-absorp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auses diures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2940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14200" y="1479240"/>
            <a:ext cx="835344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entury Schoolbook"/>
              </a:rPr>
              <a:t>CA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is required for reversible reaction,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in which CO2 +H2O          H2CO3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     HCO3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13" name="Straight Arrow Connector 2"/>
          <p:cNvCxnSpPr/>
          <p:nvPr/>
        </p:nvCxnSpPr>
        <p:spPr>
          <a:xfrm>
            <a:off x="4714920" y="2928600"/>
            <a:ext cx="883440" cy="1080"/>
          </a:xfrm>
          <a:prstGeom prst="straightConnector1">
            <a:avLst/>
          </a:prstGeom>
          <a:ln w="381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4" name="Straight Arrow Connector 4"/>
          <p:cNvCxnSpPr/>
          <p:nvPr/>
        </p:nvCxnSpPr>
        <p:spPr>
          <a:xfrm flipH="1">
            <a:off x="4642920" y="3142800"/>
            <a:ext cx="982080" cy="1080"/>
          </a:xfrm>
          <a:prstGeom prst="straightConnector1">
            <a:avLst/>
          </a:prstGeom>
          <a:ln w="381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5" name="Straight Arrow Connector 14"/>
          <p:cNvCxnSpPr/>
          <p:nvPr/>
        </p:nvCxnSpPr>
        <p:spPr>
          <a:xfrm>
            <a:off x="6643440" y="3285720"/>
            <a:ext cx="648360" cy="15138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416" name="Straight Arrow Connector 19"/>
          <p:cNvCxnSpPr/>
          <p:nvPr/>
        </p:nvCxnSpPr>
        <p:spPr>
          <a:xfrm flipH="1">
            <a:off x="5357520" y="3357720"/>
            <a:ext cx="753120" cy="144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97800" cy="648000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285480" y="356760"/>
            <a:ext cx="835812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Pharmacokinetic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given orally once a da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mild diuretic effec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Onset of action is rapid (30 min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Duration of action (12 h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Excreted by active secretion in proximal convoluted tubul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Produces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alkaline urine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due to elevation of Hco3 in lume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250920" y="260280"/>
            <a:ext cx="875016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logical action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volum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excretion of sodium, potassium , bicarbonat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alkaline urine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c acidos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phosphate excre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s K+ excretion by ↑the load of Na+ delivered to the distal tubul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786280" y="117360"/>
            <a:ext cx="3071880" cy="666936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3"/>
          <p:cNvSpPr/>
          <p:nvPr/>
        </p:nvSpPr>
        <p:spPr>
          <a:xfrm>
            <a:off x="285840" y="142920"/>
            <a:ext cx="550044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y do CA inhibitors have weak diuretic propertie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uretic properti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decreas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fter several days as the blood bicarbonate f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179280" y="214200"/>
            <a:ext cx="86407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rapeutic use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Open angle glaucom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carbonic anhydrase inhibitors caus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↓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IOP by reducing  aqueous humor formation in ciliary body of ey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s prophylactic therapy, in acute mountain sickness ↓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CSF of bra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iven nightly 5 days before the ascent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↓ weaknes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reathlessness , dizziness, nausea, cerebral &amp; pulmonary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ede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OP: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raocular pressure;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SF: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rebrospinal flui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4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179280" y="214200"/>
            <a:ext cx="864072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rapeutic use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Epilepsy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(decrease cerebrospinal fluid, CSF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Urinary alkalinization to enhance renal excretion of acidic substances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(cysteine in cystinuria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yperphosphatem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Metabolic alkalosi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79280" y="260280"/>
            <a:ext cx="878544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Mechanism of actions of diuretic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ost diuretics act by interfering with the </a:t>
            </a:r>
            <a:r>
              <a:rPr b="0" lang="en-US" sz="3200" spc="-1" strike="noStrike">
                <a:solidFill>
                  <a:srgbClr val="0000ff"/>
                </a:solidFill>
                <a:latin typeface="Century Schoolbook"/>
              </a:rPr>
              <a:t>normal sodium reabsorption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y the renal tubules resulting into sodium and water excre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79280" y="356760"/>
            <a:ext cx="860760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se effect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ypokalemia (potassium loss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Metabolic acidosi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nal stone formation (calcium phosphate stones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ypersensitivity reactio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250920" y="260280"/>
            <a:ext cx="864216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rzolamid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s a carbonic anhydrase inhibit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Used topically for treatment of open-angle glaucom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o diuretic or systemic side effects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(Why?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Object 2"/>
          <p:cNvGraphicFramePr/>
          <p:nvPr/>
        </p:nvGraphicFramePr>
        <p:xfrm>
          <a:off x="847800" y="609480"/>
          <a:ext cx="7381800" cy="553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609480"/>
                    <a:ext cx="738180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Line 5"/>
          <p:cNvSpPr/>
          <p:nvPr/>
        </p:nvSpPr>
        <p:spPr>
          <a:xfrm flipV="1">
            <a:off x="3276720" y="2590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2763000" y="214776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60–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1364760" y="380880"/>
            <a:ext cx="551628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smotic diuretic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8" descr="mannitol-from-mannitol"/>
          <p:cNvPicPr/>
          <p:nvPr/>
        </p:nvPicPr>
        <p:blipFill>
          <a:blip r:embed="rId3"/>
          <a:stretch/>
        </p:blipFill>
        <p:spPr>
          <a:xfrm>
            <a:off x="838080" y="3657600"/>
            <a:ext cx="2644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5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Osmotic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13840" y="1341000"/>
            <a:ext cx="89298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-25920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Mannitol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Poorly absorb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f given orally          osmotic diarrhe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Given intravenousl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ot metaboliz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Excreted by glomerular filtration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without being re-absorbed or secreted within 30-60 m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Striped Right Arrow 3"/>
          <p:cNvSpPr/>
          <p:nvPr/>
        </p:nvSpPr>
        <p:spPr>
          <a:xfrm>
            <a:off x="3429000" y="3143160"/>
            <a:ext cx="533520" cy="46080"/>
          </a:xfrm>
          <a:custGeom>
            <a:avLst/>
            <a:gdLst>
              <a:gd name="textAreaLeft" fmla="*/ 6840 w 533520"/>
              <a:gd name="textAreaRight" fmla="*/ 522360 w 533520"/>
              <a:gd name="textAreaTop" fmla="*/ 11520 h 46080"/>
              <a:gd name="textAreaBottom" fmla="*/ 34560 h 46080"/>
            </a:gdLst>
            <a:ahLst/>
            <a:rect l="textAreaLeft" t="textAreaTop" r="textAreaRight" b="textAreaBottom"/>
            <a:pathLst>
              <a:path w="533400" h="46038">
                <a:moveTo>
                  <a:pt x="0" y="11510"/>
                </a:moveTo>
                <a:lnTo>
                  <a:pt x="1439" y="11510"/>
                </a:lnTo>
                <a:lnTo>
                  <a:pt x="1439" y="34529"/>
                </a:lnTo>
                <a:lnTo>
                  <a:pt x="0" y="34529"/>
                </a:lnTo>
                <a:close/>
                <a:moveTo>
                  <a:pt x="2877" y="11510"/>
                </a:moveTo>
                <a:lnTo>
                  <a:pt x="5755" y="11510"/>
                </a:lnTo>
                <a:lnTo>
                  <a:pt x="5755" y="34529"/>
                </a:lnTo>
                <a:lnTo>
                  <a:pt x="2877" y="34529"/>
                </a:lnTo>
                <a:close/>
                <a:moveTo>
                  <a:pt x="7193" y="11510"/>
                </a:moveTo>
                <a:lnTo>
                  <a:pt x="510381" y="11510"/>
                </a:lnTo>
                <a:lnTo>
                  <a:pt x="510381" y="0"/>
                </a:lnTo>
                <a:lnTo>
                  <a:pt x="533400" y="23019"/>
                </a:lnTo>
                <a:lnTo>
                  <a:pt x="510381" y="46038"/>
                </a:lnTo>
                <a:lnTo>
                  <a:pt x="510381" y="34529"/>
                </a:lnTo>
                <a:lnTo>
                  <a:pt x="7193" y="3452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14200" y="213840"/>
            <a:ext cx="8501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Mannitol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50000"/>
              </a:lnSpc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Acts in proximal tubules &amp; descending loop of Henle by </a:t>
            </a:r>
            <a:r>
              <a:rPr b="1" lang="en-US" sz="2700" spc="-1" strike="noStrike">
                <a:solidFill>
                  <a:srgbClr val="ff0000"/>
                </a:solidFill>
                <a:latin typeface="Century Schoolbook"/>
              </a:rPr>
              <a:t>osmotic effect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50000"/>
              </a:lnSpc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Mannitol, IV,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water excretion with relatively less effect on Na+ </a:t>
            </a:r>
            <a:r>
              <a:rPr b="1" lang="en-US" sz="2700" spc="-1" strike="noStrike">
                <a:solidFill>
                  <a:srgbClr val="0000ff"/>
                </a:solidFill>
                <a:latin typeface="Century Schoolbook"/>
              </a:rPr>
              <a:t>(water diuresis)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50000"/>
              </a:lnSpc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Expand the extracellular fluid volume, decrease blood  viscosity, and inhibit renin release, ↑renal blood flow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5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1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http://images.wisegeek.com/osmosis.jpg"/>
          <p:cNvPicPr/>
          <p:nvPr/>
        </p:nvPicPr>
        <p:blipFill>
          <a:blip r:embed="rId1"/>
          <a:stretch/>
        </p:blipFill>
        <p:spPr>
          <a:xfrm>
            <a:off x="0" y="2786040"/>
            <a:ext cx="9144000" cy="352440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2"/>
          <p:cNvSpPr/>
          <p:nvPr/>
        </p:nvSpPr>
        <p:spPr>
          <a:xfrm>
            <a:off x="500040" y="500040"/>
            <a:ext cx="78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nitol increases urine output by osmosis, drawing water out of cells and into the blood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Therapeutic Uses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50920" y="981000"/>
            <a:ext cx="867888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24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Acute renal failure due to shock or trauma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maintain urine flow- preserve kidney function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24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In acute drug poisoning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eliminate drugs that are reabsorbed from the renal tubules e.g. salicylates, barbiturat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24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ntracranial &amp; intraocular pressure before ophthalmic or brain procedures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cerebral edem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7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1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7" dur="10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49294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entury Schoolbook"/>
              </a:rPr>
              <a:t>Adverse Effects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214200" y="857160"/>
            <a:ext cx="86392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Headache, nausea, vomiting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Extracellular volume expansion, complicates heart failure &amp; pulmonary oedem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Excessive use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dehydration &amp; hypernatraemia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(Adequate water replacement is required)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2" descr="C:\Documents and Settings\dr.abdullatif\Desktop\nephron.jpg"/>
          <p:cNvPicPr/>
          <p:nvPr/>
        </p:nvPicPr>
        <p:blipFill>
          <a:blip r:embed="rId1"/>
          <a:stretch/>
        </p:blipFill>
        <p:spPr>
          <a:xfrm>
            <a:off x="-468360" y="-603360"/>
            <a:ext cx="9421920" cy="737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76160" y="-27000"/>
            <a:ext cx="746784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ff"/>
                </a:solidFill>
                <a:uFillTx/>
                <a:latin typeface="Century Schoolbook"/>
              </a:rPr>
              <a:t>Normal Sodium Re-absorption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638280"/>
          <a:ext cx="8750520" cy="6076800"/>
        </p:xfrm>
        <a:graphic>
          <a:graphicData uri="http://schemas.openxmlformats.org/drawingml/2006/table">
            <a:tbl>
              <a:tblPr/>
              <a:tblGrid>
                <a:gridCol w="3875040"/>
                <a:gridCol w="487548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Nephron Seg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Filtered Na</a:t>
                      </a:r>
                      <a:r>
                        <a:rPr b="1" lang="en-US" sz="2400" spc="-1" strike="noStrike" baseline="30000">
                          <a:solidFill>
                            <a:srgbClr val="c00000"/>
                          </a:solidFill>
                          <a:latin typeface="Century Schoolbook"/>
                        </a:rPr>
                        <a:t>+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re-absorb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Na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5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ce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of Hen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-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5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t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-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rtical Collecting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9280" y="142920"/>
            <a:ext cx="864072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Site of action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214200" y="714240"/>
          <a:ext cx="8786880" cy="6072480"/>
        </p:xfrm>
        <a:graphic>
          <a:graphicData uri="http://schemas.openxmlformats.org/drawingml/2006/table">
            <a:tbl>
              <a:tblPr/>
              <a:tblGrid>
                <a:gridCol w="2151000"/>
                <a:gridCol w="3408480"/>
                <a:gridCol w="3227400"/>
              </a:tblGrid>
              <a:tr h="6984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se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Fun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ranspor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-absorption of 100% glucose and amino acids, 66% Na, K, Ca, Mg; 85% Na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H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rbonic anhydrase en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80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traight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retion and re-absorption of organi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ids and b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id &amp; base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ck ascending loo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%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ondary reabsorption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,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K/2Cl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t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tubular reabsorption of 5%Na, Cl,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and Cl co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31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llecting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transpor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76160" y="-27000"/>
            <a:ext cx="746784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Normal Sodium Re-absorpti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08000" y="549360"/>
          <a:ext cx="8964720" cy="6262560"/>
        </p:xfrm>
        <a:graphic>
          <a:graphicData uri="http://schemas.openxmlformats.org/drawingml/2006/table">
            <a:tbl>
              <a:tblPr/>
              <a:tblGrid>
                <a:gridCol w="2297160"/>
                <a:gridCol w="3778200"/>
                <a:gridCol w="2889360"/>
              </a:tblGrid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ephron Seg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61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+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61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Filtered Na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 re-absorb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611c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im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H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transpor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Carbonic anhydrase enzy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As Na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ce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op of Hen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K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2Cl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co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0-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Cl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-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tical Collecting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chann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Aldoster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Antidiuretic horm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24000" y="260280"/>
            <a:ext cx="853416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Century Schoolbook"/>
              </a:rPr>
              <a:t>Sites of action for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entury Schoolbook"/>
              </a:rPr>
              <a:t>How diuretics produce their effects?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arget molecules for diuretics ar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carriers or transporte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Schoolbook"/>
              </a:rPr>
              <a:t>in luminal membrane of renal tubular cells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required for tubular reabsorption of sodium from filtrate back into bloo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44280"/>
            <a:ext cx="746748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Types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79280" y="836640"/>
          <a:ext cx="8713800" cy="5878440"/>
        </p:xfrm>
        <a:graphic>
          <a:graphicData uri="http://schemas.openxmlformats.org/drawingml/2006/table">
            <a:tbl>
              <a:tblPr/>
              <a:tblGrid>
                <a:gridCol w="2305080"/>
                <a:gridCol w="2879640"/>
                <a:gridCol w="3529080"/>
              </a:tblGrid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ephron Se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+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Transpo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Diure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im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H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ranspor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arbonic anhydrase enzy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Carbonic anhydrase inhibi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ce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op of Hen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K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2Cl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Loop 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Cl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Thiazide 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tical Collecting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hann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doster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K-sparing 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3:55:58Z</dcterms:created>
  <dc:creator>administrator</dc:creator>
  <dc:description/>
  <dc:language>en-US</dc:language>
  <cp:lastModifiedBy>dr.abdullatif</cp:lastModifiedBy>
  <dcterms:modified xsi:type="dcterms:W3CDTF">2016-04-25T06:10:34Z</dcterms:modified>
  <cp:revision>264</cp:revision>
  <dc:subject/>
  <dc:title>DIURETICS</dc:title>
</cp:coreProperties>
</file>