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97188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9B0C-2B14-436A-BA75-D76F0034A3A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144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B382-738B-40F1-8FF3-9487ED3E9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68E-1889-46B8-A01D-4248B933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E184-8CAA-4F68-93BC-5A0B6F86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780-8E11-4EB4-BEBA-3949EC75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720-D128-447A-9266-391504C8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24CFC-7177-4257-AFC8-8CB727D5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B1A63-B521-46F7-8EE8-2FCCAADA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F4D7-BA79-4364-8CF4-4158980D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5383-AD73-497B-A0E9-88D7CC96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B603-0097-4A83-8F68-5349C0A9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5571-499A-43AB-9D16-F100B646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93A7-C086-424C-B7E5-EB557388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AD9-A1D0-4D88-B859-7C455022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1CEC-7A42-4C9E-BE49-4A2C018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1FED-919E-49A3-AAAE-FF627948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9512-1065-4FA6-9EF4-04CA382E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DE5F-7D74-422C-B194-718E6D74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DD4C-2076-4959-81A9-A3A84155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2A09CA-BDE1-48CE-B4B5-1BF316F5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CADCCF-F2BE-4B73-BCBB-35640015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BD969-5FAC-41DA-AA7D-90703D38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E7C6E-8ED9-4853-B3AF-049B8BA3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AE1C9-E409-4235-A01A-4F55D069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9A9-F724-4B33-9DD0-8B4A5DCC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59B4C8-5827-443A-9227-78960BD7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5C50C-B9FE-4F0F-A533-D6E09188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6CA85E-DE9C-412E-8879-24C17F57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5D684C-BFEB-43CF-A4B5-67E623F0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E4011-830C-4A41-ABD7-31120533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F216F-DDCD-4692-AAA3-98B643D1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D1120-0655-4D14-ABF2-919DAA24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A6D6F-F6DC-4BDF-8699-EBE5D238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65EBB-79A5-4D78-8582-AB48D2E2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56CA-89A1-47F3-A551-F8650457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5FE-2B36-41DF-985C-83E434C1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744DD-1168-4C80-B4A2-10A06EE2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69784-055C-46C7-A441-9F1478A7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A3CAD-5138-42DE-8A25-4E5D3E2B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010E6-D865-42DA-A5CD-BB78754C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4BAE5-F757-41F3-9E29-804126C9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72F40-B824-4899-938C-6437941D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261D7-8C28-40E2-AEAA-044DC504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0A365-4F44-4C83-9391-D7F199BB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4FB4-8164-48D4-BF6A-337548D6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7783B-5B4E-4364-A563-C4853A8C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973-A7E2-4C7D-9313-661C6448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7499D-2A80-4650-BD64-92FC435C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82D062-F0CA-4ADE-973C-2DB05634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10A29-7039-4379-A6BC-E98CCBDA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1EF4A6-8552-4C1E-A442-8FB8533D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1EFDB-FEB6-4E84-A7EC-2300799F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8BB66-4869-430D-851D-687D0F4D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FB8C1-6F00-487D-BD7B-409A5DC9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C3752-C43C-4DC0-964A-511A794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CA2A5-76E8-4FEC-82EC-26361483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AE405A-D2CC-460B-984E-8E9B913FA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12A-F0B1-4A26-93AE-C1EEC478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FA958-A666-482D-B3C6-2B17DB2D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7BB870-6F52-4423-8045-D921929D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79567-D3E5-4595-9FD3-DF1EC217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FB9D5-9D5A-4122-88CB-2AC1A246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2D33F-B86D-438F-A63C-D1FE3CC2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24FE7-2FEB-4595-AA9B-F4EF436D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053444-EA18-47AA-BA97-D10D60B8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47B15-2FEF-452A-AAC5-8857B737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292D8-5183-4E4D-8F71-F04EBDF2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DC78BB-70FA-42B5-8FF9-B35043CE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25D-17E0-4236-A973-1AAC6DEF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04995-449B-4413-993D-06189C03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2BAC08-AD1A-44D9-A3EB-AC9EA0BC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67430-66D7-48E5-8156-7869B6A5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04AFCF-C542-40BD-BB28-9353383C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D62458-EC68-46FA-87EE-9A574498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2E70F-93B3-4253-9577-1D02C55F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0ABB30-9647-4C1F-8490-58940A14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10AA9-E969-417D-9400-3C9B7CBC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F43D0-B088-463A-93A0-FCA04306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7A7255-5068-4074-9040-ABC2D08A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4525-9526-4D8F-BB05-10AFAD99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6C49A9-10F9-410D-8331-8E35B7C6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922B02-F115-4447-8461-31CD3425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34610-E202-40B3-B7C8-B8271EBB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7C9358-2B5A-42EA-A613-D2A5A128F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9A7D2-D468-4ECF-8698-45BD3533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23E-B752-48E0-A73C-93B05C1A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EA2A-62DB-496A-A55A-250E63D1857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رابط مستقيم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مستطيل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شكل بيضاوي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شكل بيضاوي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شكل بيضاوي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شكل بيضاوي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شكل بيضاوي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CFB3-8558-4E6A-86DB-6D0AFEC6546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6B02-CA97-4B66-8902-3407BAA2601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مستطيل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مستطيل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مستطيل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رابط مستقيم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رابط مستقيم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رابط مستقيم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رابط مستقيم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رابط مستقيم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مستطيل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شكل بيضاوي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شكل بيضاوي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شكل بيضاوي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شكل بيضاوي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شكل بيضاوي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رابط مستقيم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355B-0430-41EA-8A10-62AD87C9BE20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رابط مستقيم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رابط مستقيم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رابط مستقيم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مستطيل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رابط مستقيم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شكل بيضاوي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F4F9-3E18-4303-86FC-B63F1F60F20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رابط مستقيم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رابط مستقيم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رابط مستقيم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مستطيل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رابط مستقيم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شكل بيضاوي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AC28-9078-4CAF-862D-6ACD85BADE8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رابط مستقيم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شكل بيضاوي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رابط مستقيم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مستطيل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رابط مستقيم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رابط مستقيم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رابط مستقيم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BDA1-C7A9-4E38-B686-FC2DAB07DEB4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14320" y="857160"/>
            <a:ext cx="507204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DIURETIC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entury Schoolbook"/>
              </a:rPr>
              <a:t>Part 1</a:t>
            </a: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785880" y="2571840"/>
            <a:ext cx="4929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Dr.Abdullatif Mahesar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Pharmacology Uni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ce3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17" descr="1101"/>
          <p:cNvPicPr/>
          <p:nvPr/>
        </p:nvPicPr>
        <p:blipFill>
          <a:blip r:embed="rId1"/>
          <a:stretch/>
        </p:blipFill>
        <p:spPr>
          <a:xfrm>
            <a:off x="5676840" y="2957400"/>
            <a:ext cx="33958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108000" y="714240"/>
          <a:ext cx="8821800" cy="6026400"/>
        </p:xfrm>
        <a:graphic>
          <a:graphicData uri="http://schemas.openxmlformats.org/drawingml/2006/table">
            <a:tbl>
              <a:tblPr/>
              <a:tblGrid>
                <a:gridCol w="1727280"/>
                <a:gridCol w="2736720"/>
                <a:gridCol w="2592360"/>
                <a:gridCol w="1765440"/>
              </a:tblGrid>
              <a:tr h="69804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uretic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66% Na, K, Ca, Mg, 100% glucose and amino acids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, 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 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,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azide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8463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-sparing diure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Classifica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50920" y="126828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Loop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Thiazide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Potassium-sparing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Osmotic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2"/>
          <p:cNvSpPr/>
          <p:nvPr/>
        </p:nvSpPr>
        <p:spPr>
          <a:xfrm>
            <a:off x="1714680" y="714240"/>
            <a:ext cx="2000160" cy="928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Carbonic anhyd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inhib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4500720" y="4149720"/>
            <a:ext cx="2357280" cy="4287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Loop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5357880" y="1785960"/>
            <a:ext cx="2571840" cy="5713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Thiazide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7143840" y="5084640"/>
            <a:ext cx="1714320" cy="505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K-sparing diure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"/>
          <p:cNvSpPr/>
          <p:nvPr/>
        </p:nvSpPr>
        <p:spPr>
          <a:xfrm>
            <a:off x="2627280" y="4941720"/>
            <a:ext cx="2089080" cy="432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entury Schoolbook"/>
              </a:rPr>
              <a:t>Osmotic dirue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scan00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CARBONIC ANHYDRA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142920" y="549360"/>
            <a:ext cx="8750160" cy="63086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4"/>
          <p:cNvSpPr/>
          <p:nvPr/>
        </p:nvSpPr>
        <p:spPr>
          <a:xfrm>
            <a:off x="395280" y="1125360"/>
            <a:ext cx="295272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min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5616720" y="1125360"/>
            <a:ext cx="352728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olater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104292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15636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28400" y="14256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ASCENDING LOOP OF HENL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42920" y="785880"/>
            <a:ext cx="88581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920" y="109080"/>
            <a:ext cx="839304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al convoluted tubules (DCT)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rcRect l="0" t="0" r="0" b="8035"/>
          <a:stretch/>
        </p:blipFill>
        <p:spPr>
          <a:xfrm>
            <a:off x="142920" y="692280"/>
            <a:ext cx="885816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entury Schoolbook"/>
              </a:rPr>
              <a:t>COLLECTING TUBULES (CT)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214200" y="714240"/>
            <a:ext cx="842976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entury Schoolbook"/>
              </a:rPr>
              <a:t>COLLECTING TUBULES (CT)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6439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Diuretics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re drugs that increase renal excretion of 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sodium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water </a:t>
            </a:r>
            <a:r>
              <a:rPr b="0" lang="en-US" sz="3400" spc="-1" strike="noStrike">
                <a:solidFill>
                  <a:srgbClr val="000000"/>
                </a:solidFill>
                <a:latin typeface="Century Schoolbook"/>
              </a:rPr>
              <a:t>resulting in increase in urine volume.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Century Schoolbook"/>
              </a:rPr>
              <a:t>Diuresis: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 is the process of excretion of 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water</a:t>
            </a: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 in the urine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</a:rPr>
              <a:t>Natriuresis: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 is the process of excretion of sodium in the urine 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429400" cy="35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7467480" cy="58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entury Schoolbook"/>
              </a:rPr>
              <a:t>CARBONIC ANHYDRAS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142920" y="549360"/>
            <a:ext cx="8750160" cy="63086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395280" y="1125360"/>
            <a:ext cx="295272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min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5616720" y="1125360"/>
            <a:ext cx="352728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olatera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104292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6156360" y="620640"/>
            <a:ext cx="1800360" cy="432000"/>
          </a:xfrm>
          <a:prstGeom prst="rect">
            <a:avLst/>
          </a:prstGeom>
          <a:solidFill>
            <a:srgbClr val="c8d6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294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42920" y="1052280"/>
            <a:ext cx="89647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azolamide – dorzolamide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bonic anhydrase (CA) enzym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 tubules thus interferes with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HCO3 re-absorp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auses diure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29400" cy="6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Carbonic Anhydrase Inhibitor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14200" y="1479240"/>
            <a:ext cx="835344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CA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is required for reversible reaction,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n which CO2 +H2O          H2CO3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entury Schoolbook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     HCO3</a:t>
            </a:r>
            <a:r>
              <a:rPr b="1" lang="en-US" sz="30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13" name="Straight Arrow Connector 2"/>
          <p:cNvCxnSpPr/>
          <p:nvPr/>
        </p:nvCxnSpPr>
        <p:spPr>
          <a:xfrm>
            <a:off x="4714920" y="2928600"/>
            <a:ext cx="883440" cy="108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4" name="Straight Arrow Connector 4"/>
          <p:cNvCxnSpPr/>
          <p:nvPr/>
        </p:nvCxnSpPr>
        <p:spPr>
          <a:xfrm flipH="1">
            <a:off x="4642920" y="3142800"/>
            <a:ext cx="982080" cy="1080"/>
          </a:xfrm>
          <a:prstGeom prst="straightConnector1">
            <a:avLst/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5" name="Straight Arrow Connector 14"/>
          <p:cNvCxnSpPr/>
          <p:nvPr/>
        </p:nvCxnSpPr>
        <p:spPr>
          <a:xfrm>
            <a:off x="6643440" y="3285720"/>
            <a:ext cx="648360" cy="15138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16" name="Straight Arrow Connector 19"/>
          <p:cNvCxnSpPr/>
          <p:nvPr/>
        </p:nvCxnSpPr>
        <p:spPr>
          <a:xfrm flipH="1">
            <a:off x="5357520" y="3357720"/>
            <a:ext cx="753120" cy="144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497800" cy="648000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85480" y="356760"/>
            <a:ext cx="835812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Pharmacokinetic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iven orally once a da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ild diuretic effec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nset of action is rapid (30 min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Duration of action (12 h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xcreted by active secretion in proximal convoluted tubul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roduces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alkaline urine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 due to elevation of Hco3 in lume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50920" y="260280"/>
            <a:ext cx="87501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volum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excretion of sodium, potassium , bicarbonat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lkaline urine)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acidosi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phosphate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s K+ excretion by ↑the load of Na+ delivered to the distal tubules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786280" y="117360"/>
            <a:ext cx="3071880" cy="666936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285840" y="142920"/>
            <a:ext cx="550044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hy do CA inhibitors have weak diuretic properties?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uretic propert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decrea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fter several days as the blood bicarbonate 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179280" y="214200"/>
            <a:ext cx="8640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Open angle glaucom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carbonic anhydrase inhibitors cause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↓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IOP by reducing  aqueous humor formation in ciliary body of eye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As prophylactic therapy, in acute mountain sickness ↓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CSF of bra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iven nightly 5 days before the ascent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↓ weaknes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breathlessness , dizziness, nausea, cerebral &amp; pulmonary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ede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OP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raocular pressure;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SF: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4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4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179280" y="214200"/>
            <a:ext cx="864072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pilepsy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decrease cerebrospinal fluid, CSF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rinary alkalinization to enhance renal excretion of acidic substances </a:t>
            </a:r>
            <a:r>
              <a:rPr b="1" lang="en-US" sz="2800" spc="-1" strike="noStrike">
                <a:solidFill>
                  <a:srgbClr val="c00000"/>
                </a:solidFill>
                <a:latin typeface="Century Schoolbook"/>
              </a:rPr>
              <a:t>(cysteine in cystinuria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phosphatem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79280" y="260280"/>
            <a:ext cx="878544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Mechanism of actions of diuretics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Most diuretics act by interfering with the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normal sodium reabsorption</a:t>
            </a:r>
            <a:r>
              <a:rPr b="0" lang="en-US" sz="32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by the renal tubules resulting into sodium and water excretion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179280" y="356760"/>
            <a:ext cx="860760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okalemia (potassium los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Metabolic acidosi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Renal stone formation (calcium phosphate stones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Hypersensitivity reactio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250920" y="260280"/>
            <a:ext cx="8642160" cy="62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rzolamide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s a carbonic anhydrase inhibitor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Used topically for treatment of open-angle glaucoma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 diuretic or systemic side effects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(Why?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847800" y="609480"/>
          <a:ext cx="7381800" cy="553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609480"/>
                    <a:ext cx="7381800" cy="55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Line 5"/>
          <p:cNvSpPr/>
          <p:nvPr/>
        </p:nvSpPr>
        <p:spPr>
          <a:xfrm flipV="1">
            <a:off x="327672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2763000" y="2147760"/>
            <a:ext cx="142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</a:rPr>
              <a:t>60–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364760" y="380880"/>
            <a:ext cx="551628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smotic diuret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8" descr="mannitol-from-mannitol"/>
          <p:cNvPicPr/>
          <p:nvPr/>
        </p:nvPicPr>
        <p:blipFill>
          <a:blip r:embed="rId3"/>
          <a:stretch/>
        </p:blipFill>
        <p:spPr>
          <a:xfrm>
            <a:off x="838080" y="3657600"/>
            <a:ext cx="2644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53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Osmotic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13840" y="1341000"/>
            <a:ext cx="89298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607680" indent="-25920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Schoolbook"/>
              </a:rPr>
              <a:t>Mannitol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Poorly absorb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If given orally          osmotic diarrhe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Given intravenously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Not metabolized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7680" indent="-25920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Excreted by glomerular filtration </a:t>
            </a:r>
            <a:r>
              <a:rPr b="1" lang="en-US" sz="2800" spc="-1" strike="noStrike">
                <a:solidFill>
                  <a:srgbClr val="ff0000"/>
                </a:solidFill>
                <a:latin typeface="Century Schoolbook"/>
              </a:rPr>
              <a:t>without being re-absorbed or secreted within 30-60 min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Striped Right Arrow 3"/>
          <p:cNvSpPr/>
          <p:nvPr/>
        </p:nvSpPr>
        <p:spPr>
          <a:xfrm>
            <a:off x="3429000" y="3143160"/>
            <a:ext cx="533520" cy="46080"/>
          </a:xfrm>
          <a:custGeom>
            <a:avLst/>
            <a:gdLst>
              <a:gd name="textAreaLeft" fmla="*/ 6840 w 533520"/>
              <a:gd name="textAreaRight" fmla="*/ 522360 w 533520"/>
              <a:gd name="textAreaTop" fmla="*/ 11520 h 46080"/>
              <a:gd name="textAreaBottom" fmla="*/ 34560 h 46080"/>
            </a:gdLst>
            <a:ahLst/>
            <a:rect l="textAreaLeft" t="textAreaTop" r="textAreaRight" b="textAreaBottom"/>
            <a:pathLst>
              <a:path w="533400" h="46038">
                <a:moveTo>
                  <a:pt x="0" y="11510"/>
                </a:moveTo>
                <a:lnTo>
                  <a:pt x="1439" y="11510"/>
                </a:lnTo>
                <a:lnTo>
                  <a:pt x="1439" y="34529"/>
                </a:lnTo>
                <a:lnTo>
                  <a:pt x="0" y="34529"/>
                </a:lnTo>
                <a:close/>
                <a:moveTo>
                  <a:pt x="2877" y="11510"/>
                </a:moveTo>
                <a:lnTo>
                  <a:pt x="5755" y="11510"/>
                </a:lnTo>
                <a:lnTo>
                  <a:pt x="5755" y="34529"/>
                </a:lnTo>
                <a:lnTo>
                  <a:pt x="2877" y="34529"/>
                </a:lnTo>
                <a:close/>
                <a:moveTo>
                  <a:pt x="7193" y="11510"/>
                </a:moveTo>
                <a:lnTo>
                  <a:pt x="510381" y="11510"/>
                </a:lnTo>
                <a:lnTo>
                  <a:pt x="510381" y="0"/>
                </a:lnTo>
                <a:lnTo>
                  <a:pt x="533400" y="23019"/>
                </a:lnTo>
                <a:lnTo>
                  <a:pt x="510381" y="46038"/>
                </a:lnTo>
                <a:lnTo>
                  <a:pt x="510381" y="34529"/>
                </a:lnTo>
                <a:lnTo>
                  <a:pt x="7193" y="34529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213840"/>
            <a:ext cx="8501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entury Schoolbook"/>
              </a:rPr>
              <a:t>Mannitol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Acts in proximal tubules &amp; descending loop of Henle by </a:t>
            </a:r>
            <a:r>
              <a:rPr b="1" lang="en-US" sz="2700" spc="-1" strike="noStrike">
                <a:solidFill>
                  <a:srgbClr val="ff0000"/>
                </a:solidFill>
                <a:latin typeface="Century Schoolbook"/>
              </a:rPr>
              <a:t>osmotic effect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Mannitol, IV,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water excretion with relatively less effect on Na+ </a:t>
            </a:r>
            <a:r>
              <a:rPr b="1" lang="en-US" sz="2700" spc="-1" strike="noStrike">
                <a:solidFill>
                  <a:srgbClr val="0000ff"/>
                </a:solidFill>
                <a:latin typeface="Century Schoolbook"/>
              </a:rPr>
              <a:t>(water diuresis)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lnSpc>
                <a:spcPct val="150000"/>
              </a:lnSpc>
              <a:spcBef>
                <a:spcPts val="11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entury Schoolbook"/>
              </a:rPr>
              <a:t>Expand the extracellular fluid volume, decrease blood  viscosity, and inhibit renin release, ↑renal blood flow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0" dur="10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5" dur="10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10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2" descr="http://images.wisegeek.com/osmosis.jpg"/>
          <p:cNvPicPr/>
          <p:nvPr/>
        </p:nvPicPr>
        <p:blipFill>
          <a:blip r:embed="rId1"/>
          <a:stretch/>
        </p:blipFill>
        <p:spPr>
          <a:xfrm>
            <a:off x="0" y="2786040"/>
            <a:ext cx="9144000" cy="35244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2"/>
          <p:cNvSpPr/>
          <p:nvPr/>
        </p:nvSpPr>
        <p:spPr>
          <a:xfrm>
            <a:off x="500040" y="500040"/>
            <a:ext cx="78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nitol increases urine output by osmosis, drawing water out of cells and into the blood stre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1471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Therapeutic Uses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50920" y="981000"/>
            <a:ext cx="867888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Acute renal failure due to shock or trauma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(maintain urine flow- preserve kidney function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In acute drug poisoning: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eliminate drugs that are reabsorbed from the renal tubules e.g. salicylates, barbiturat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24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intracranial &amp; intraocular pressure before ophthalmic or brain procedures (</a:t>
            </a: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cerebral edema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1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" dur="10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49294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entury Schoolbook"/>
              </a:rPr>
              <a:t>Adverse Effects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14200" y="857160"/>
            <a:ext cx="86392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Headache, nausea, vomiting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>
              <a:spcBef>
                <a:spcPts val="18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tracellular volume expansion, complicates heart failure &amp; pulmonary oedem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Excessive use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Century Schoolbook"/>
              </a:rPr>
              <a:t> dehydration &amp; hypernatraemia </a:t>
            </a: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(Adequate water replacement is required)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1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5" name="Picture 2" descr="C:\Documents and Settings\dr.abdullatif\Desktop\nephron.jpg"/>
          <p:cNvPicPr/>
          <p:nvPr/>
        </p:nvPicPr>
        <p:blipFill>
          <a:blip r:embed="rId1"/>
          <a:stretch/>
        </p:blipFill>
        <p:spPr>
          <a:xfrm>
            <a:off x="-468360" y="-603360"/>
            <a:ext cx="9421920" cy="737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76160" y="-27000"/>
            <a:ext cx="74678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0000ff"/>
                </a:solidFill>
                <a:uFillTx/>
                <a:latin typeface="Century Schoolbook"/>
              </a:rPr>
              <a:t>Normal Sodium Re-absorption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638280"/>
          <a:ext cx="8750520" cy="6076800"/>
        </p:xfrm>
        <a:graphic>
          <a:graphicData uri="http://schemas.openxmlformats.org/drawingml/2006/table">
            <a:tbl>
              <a:tblPr/>
              <a:tblGrid>
                <a:gridCol w="3875040"/>
                <a:gridCol w="4875480"/>
              </a:tblGrid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c00000"/>
                          </a:solidFill>
                          <a:latin typeface="Century Schoolbook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Na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51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64072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Site of action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214200" y="714240"/>
          <a:ext cx="8786880" cy="6072480"/>
        </p:xfrm>
        <a:graphic>
          <a:graphicData uri="http://schemas.openxmlformats.org/drawingml/2006/table">
            <a:tbl>
              <a:tblPr/>
              <a:tblGrid>
                <a:gridCol w="2151000"/>
                <a:gridCol w="3408480"/>
                <a:gridCol w="3227400"/>
              </a:tblGrid>
              <a:tr h="6984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se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Fun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transport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-absorption of 100% glucose and amino acids, 66% Na, K, Ca, Mg; 85% NaHCO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H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rbonic anhydrase en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800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ximal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raight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retion and re-absorption of organi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s and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id &amp; base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ick ascending loo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%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condary reabsorption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, 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/K/2Cl 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tal convoluted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tubular reabsorption of 5%Na, Cl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and Cl cotrans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316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llecting tubu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32c16"/>
                      </a:solidFill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transpor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b32c16"/>
                      </a:solidFill>
                    </a:lnR>
                    <a:lnT w="5760">
                      <a:solidFill>
                        <a:srgbClr val="b32c16"/>
                      </a:solidFill>
                    </a:lnT>
                    <a:lnB w="5760">
                      <a:solidFill>
                        <a:srgbClr val="b32c1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76160" y="-27000"/>
            <a:ext cx="74678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Normal Sodium Re-absorpt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08000" y="549360"/>
          <a:ext cx="8964720" cy="6262560"/>
        </p:xfrm>
        <a:graphic>
          <a:graphicData uri="http://schemas.openxmlformats.org/drawingml/2006/table">
            <a:tbl>
              <a:tblPr/>
              <a:tblGrid>
                <a:gridCol w="2297160"/>
                <a:gridCol w="3778200"/>
                <a:gridCol w="2889360"/>
              </a:tblGrid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Filtered Na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re-absorb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611c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As Na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0-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K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ctive reabsorptio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, 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Antidiuretic horm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a re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K &amp; H secre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24000" y="260280"/>
            <a:ext cx="8534160" cy="61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0000"/>
                </a:solidFill>
                <a:uFillTx/>
                <a:latin typeface="Century Schoolbook"/>
              </a:rPr>
              <a:t>Sites of action for diuretics</a:t>
            </a:r>
            <a:endParaRPr b="0" lang="en-US" sz="3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entury Schoolbook"/>
              </a:rPr>
              <a:t>How diuretics produce their effects? 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buClr>
                <a:srgbClr val="d2611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arget molecules for diuretics ar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carriers or transport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Century Schoolbook"/>
              </a:rPr>
              <a:t>in luminal membrane of renal tubular cells 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required for tubular reabsorption of sodium from filtrate back into bloo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44280"/>
            <a:ext cx="746748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entury Schoolbook"/>
              </a:rPr>
              <a:t>Types of diuretic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79280" y="836640"/>
          <a:ext cx="8713800" cy="5878440"/>
        </p:xfrm>
        <a:graphic>
          <a:graphicData uri="http://schemas.openxmlformats.org/drawingml/2006/table">
            <a:tbl>
              <a:tblPr/>
              <a:tblGrid>
                <a:gridCol w="2305080"/>
                <a:gridCol w="2879640"/>
                <a:gridCol w="3529080"/>
              </a:tblGrid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ephron Se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Na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Transpo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Diur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xim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H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ranspor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rbonic anhydrase enzy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Carbonic anhydrase inhibi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5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cend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op of Hen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K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2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Loop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al convoluted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Cl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por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Thiazide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tical Collecting Tub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chann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doster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entury Schoolbook"/>
                          <a:ea typeface="Arial"/>
                        </a:rPr>
                        <a:t>K-sparing diur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03:55:58Z</dcterms:created>
  <dc:creator>administrator</dc:creator>
  <dc:description/>
  <dc:language>en-US</dc:language>
  <cp:lastModifiedBy>dr.abdullatif</cp:lastModifiedBy>
  <dcterms:modified xsi:type="dcterms:W3CDTF">2016-04-25T06:10:34Z</dcterms:modified>
  <cp:revision>264</cp:revision>
  <dc:subject/>
  <dc:title>DIURETICS</dc:title>
</cp:coreProperties>
</file>