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0519-B0D2-4BD5-A507-7170E4AEA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0418-9820-4686-AA87-9E496D2B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3891-252E-494B-88DC-8D5095EBF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5722-2230-41EE-9C90-9C2150C19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67FE-F189-46F0-A150-A39A762D2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17640-4F33-402D-87B3-C346BF4E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C2CE-6AB3-41C8-91B4-998765BD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F94C4-4C55-42CE-8F33-4DAF7E56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A5DF-92FE-4D38-9D98-F0D105E8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5216-9A26-41DC-9F4F-1A9BDC0C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AA2A-3566-4879-8BEA-C05E2176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367B-F48F-4A9F-8B3F-05CE8946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F8CD-4297-4A06-A7FA-951D9EBF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1547-F35C-42F6-ABC4-C7B4FD54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F51F-1C84-42A3-BA31-C6836AB2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54B7-698F-449F-BB21-2D12F0DE0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78E1-6DA5-42C9-A854-6D733B9BB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839ECE-05E6-4DBB-BDDC-EB0D170D1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6CF038-3008-449D-9515-2C0E30A8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2544B5-BE81-4B97-9469-4D1C3C1A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59E695-E71F-4B2F-B5FC-BD125886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53654D-0BD2-4182-BFFD-523A8454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728B-6945-4AE9-945A-B2A52346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81BF9E-86F6-4BD2-BD7F-278B3D8D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180656-8535-477C-9419-842AB216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D8D4C8-70B8-4FB1-827A-C137E0ED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35CC02-0673-4615-8718-1043CA22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96FA1C-9278-40E7-975B-6EE54FE0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70368A-AC0C-4317-AD92-4BDA2B9BC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8334D9-3CD5-4AA3-91C0-66CFC5A67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46EF7-55DF-48A0-B043-634AE70DF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1E3A5-510C-41B5-96ED-E8853000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744CE-3332-4C0B-9338-5643DC16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B53E-EB6F-4B58-AD08-828F7115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551F2-4372-4232-9142-A15F4728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D0369-D0F4-44C0-BFA0-65F5B6B6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8FF18-DF0A-4986-B365-A6904AF6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B3014-8000-4C72-97C1-84271EF8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29D86-A22C-4298-8B0C-D06126DE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104FB-60EA-4C3A-94EE-072A2F47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A6748-1D18-4FAB-ACCB-4C2ED52D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9F537-556F-4A09-B480-D36293659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E36B7-E4DD-4981-B89B-FE331F8EB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744CEE-2CDD-441F-8404-CAA84EDD0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0488-23AB-4189-B5D0-F3F6D378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8F5B19-3700-44CB-A2BC-E9C3B7AF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72AC23-0E25-4ED4-B27C-8F821DD4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730708-4A20-493C-B378-63C08935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A857BE-CF85-4AFF-A5F5-1FD156DD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62524A-DCAC-4A05-8DDF-26C9B2A6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38145A-B053-495D-B118-AD85030E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C9AA4B-74EB-4EE4-A89F-D49E6521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207DFB-D7EF-4B0E-B9A3-0117291F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F3FB65-7CCF-45DD-8E0A-E7648C57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559303-502C-4E26-A261-649A9C9D6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2A56-FB2F-42A1-8BA2-F4797CE4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4087D7-289B-47E8-B4CD-FD92F0F87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1E089F-F0F4-4F9E-A37C-C08A76C8B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7D2B61-C165-4D7B-B500-1B98DB88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BF7E85-A516-4164-BE00-C6A5333A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DA4E46-A624-40E7-A285-70A69EB8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8A7431-2DA6-46E9-9F2F-EEB2A8C1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6D5F06-B29E-4D22-AAE6-FC616AD1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B3E177-4482-4557-B053-CDE6833F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27FC9C-3160-4004-AD3D-AC38F7D9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3CF501-70F4-4F44-9A30-943EF159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34D2-27F3-48CE-A558-F6BB62F1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DC4FE2-0009-4FFD-8A04-3625C40F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CEBCE4-9507-4B81-817C-0006578CE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A33C0E-EE1E-4BED-9C0F-76B330062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903799-B121-4BAE-95C0-97AA39C65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0490D3-7419-4936-9DBB-335F6D7F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F89724-ACCF-475B-8E0A-F9423006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150E3D-D1F5-4D73-BB3C-0F21BE4B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E203FF-6ED2-4E6A-8307-AC452DD8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5B7116-6F43-422C-9824-E78FD337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BED826-A158-4594-899D-A43B925C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31F3-14A9-4ADA-AC5A-208D3385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63D8B8-A414-4742-96AB-1C769B1D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6AB66B-4ECC-410D-B4D3-F3EB7ABD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FDF87E-6795-449B-BA0B-77F3B7EA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E0EDAD-30ED-4403-A0E7-18B794F29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174F26-90F6-400E-90E1-765E422A0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980A-FBF4-4E31-8F29-CE9C7181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3BA4-16E5-45A4-986F-6095EA2A77A9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مستطيل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مستطيل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مستطيل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مستطيل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رابط مستقيم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رابط مستقيم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رابط مستقيم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رابط مستقيم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رابط مستقيم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رابط مستقيم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مستطيل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شكل بيضاوي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شكل بيضاوي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شكل بيضاوي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شكل بيضاوي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شكل بيضاوي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129C-A43C-4FC8-A8CD-8631890CE3EA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3163-B75B-4339-A711-D5F788220AEF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مستطيل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مستطيل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مستطيل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مستطيل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رابط مستقيم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رابط مستقيم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رابط مستقيم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رابط مستقيم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رابط مستقيم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مستطيل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شكل بيضاوي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شكل بيضاوي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شكل بيضاوي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شكل بيضاوي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شكل بيضاوي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رابط مستقيم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C496-FBB7-4A5F-ADDD-519A39AF5CF1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35D5-D25C-49C2-B853-C1BBD21C774C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رابط مستقيم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رابط مستقيم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رابط مستقيم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رابط مستقيم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مستطيل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رابط مستقيم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شكل بيضاوي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171A-D704-47BE-A68C-96C3EE18E5BA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رابط مستقيم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شكل بيضاوي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رابط مستقيم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مستطيل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رابط مستقيم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رابط مستقيم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رابط مستقيم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5A0D-9F66-46B4-81F7-04CE15687E00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14280" y="28548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DIURETICS</a:t>
            </a:r>
            <a:br>
              <a:rPr sz="36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285920" y="1714680"/>
            <a:ext cx="6415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Hanan Hagar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.Abdul latif Mahesar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rmacology Uni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ce3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17" descr="1101"/>
          <p:cNvPicPr/>
          <p:nvPr/>
        </p:nvPicPr>
        <p:blipFill>
          <a:blip r:embed="rId1"/>
          <a:stretch/>
        </p:blipFill>
        <p:spPr>
          <a:xfrm>
            <a:off x="2428920" y="3143160"/>
            <a:ext cx="578628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771048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Uses: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79280" y="999720"/>
            <a:ext cx="878544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800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Treatment of essential hypertension </a:t>
            </a:r>
            <a:r>
              <a:rPr b="1" i="1" lang="en-US" sz="3400" spc="-1" strike="noStrike">
                <a:solidFill>
                  <a:srgbClr val="c00000"/>
                </a:solidFill>
                <a:latin typeface="Century Schoolbook"/>
              </a:rPr>
              <a:t>(cheap-well tolerated)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800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Treatment of mild heart failure </a:t>
            </a:r>
            <a:r>
              <a:rPr b="1" i="1" lang="en-US" sz="3400" spc="-1" strike="noStrike">
                <a:solidFill>
                  <a:srgbClr val="c00000"/>
                </a:solidFill>
                <a:latin typeface="Century Schoolbook"/>
              </a:rPr>
              <a:t>(to reduce extracellular volume)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800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92468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Uses: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79280" y="928440"/>
            <a:ext cx="8785440" cy="57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5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Calcium nephrolithiasis due to hypercalciuria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en-US" sz="3300" spc="-1" strike="noStrike">
                <a:solidFill>
                  <a:srgbClr val="c00000"/>
                </a:solidFill>
                <a:latin typeface="Century Schoolbook"/>
              </a:rPr>
              <a:t>(to increase calcium re-absorption and decrease renal calcium stones)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5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Nephrogenic diabetes insipidus </a:t>
            </a:r>
            <a:r>
              <a:rPr b="1" i="1" lang="en-US" sz="3400" spc="-1" strike="noStrike">
                <a:solidFill>
                  <a:srgbClr val="c00000"/>
                </a:solidFill>
                <a:latin typeface="Century Schoolbook"/>
              </a:rPr>
              <a:t>(decrease blood volume and GFR) 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AutoShape 8"/>
          <p:cNvSpPr/>
          <p:nvPr/>
        </p:nvSpPr>
        <p:spPr>
          <a:xfrm>
            <a:off x="12060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AutoShape 10"/>
          <p:cNvSpPr/>
          <p:nvPr/>
        </p:nvSpPr>
        <p:spPr>
          <a:xfrm>
            <a:off x="12060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Box 6"/>
          <p:cNvSpPr/>
          <p:nvPr/>
        </p:nvSpPr>
        <p:spPr>
          <a:xfrm>
            <a:off x="685800" y="7621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az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Down Arrow 7"/>
          <p:cNvSpPr/>
          <p:nvPr/>
        </p:nvSpPr>
        <p:spPr>
          <a:xfrm>
            <a:off x="1447920" y="1371600"/>
            <a:ext cx="304560" cy="76212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Box 8"/>
          <p:cNvSpPr/>
          <p:nvPr/>
        </p:nvSpPr>
        <p:spPr>
          <a:xfrm>
            <a:off x="380880" y="25146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l tubular Na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Box 10"/>
          <p:cNvSpPr/>
          <p:nvPr/>
        </p:nvSpPr>
        <p:spPr>
          <a:xfrm>
            <a:off x="685800" y="39625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inary ex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Down Arrow 11"/>
          <p:cNvSpPr/>
          <p:nvPr/>
        </p:nvSpPr>
        <p:spPr>
          <a:xfrm>
            <a:off x="1447920" y="3276720"/>
            <a:ext cx="304560" cy="68580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Up Arrow 12"/>
          <p:cNvSpPr/>
          <p:nvPr/>
        </p:nvSpPr>
        <p:spPr>
          <a:xfrm>
            <a:off x="533520" y="4267080"/>
            <a:ext cx="152280" cy="457200"/>
          </a:xfrm>
          <a:prstGeom prst="upArrow">
            <a:avLst>
              <a:gd name="adj1" fmla="val 50000"/>
              <a:gd name="adj2" fmla="val 50039"/>
            </a:avLst>
          </a:prstGeom>
          <a:solidFill>
            <a:srgbClr val="00b0f0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Box 13"/>
          <p:cNvSpPr/>
          <p:nvPr/>
        </p:nvSpPr>
        <p:spPr>
          <a:xfrm>
            <a:off x="3809880" y="579132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cellular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Bent-Up Arrow 19"/>
          <p:cNvSpPr/>
          <p:nvPr/>
        </p:nvSpPr>
        <p:spPr>
          <a:xfrm>
            <a:off x="5791320" y="5562720"/>
            <a:ext cx="1752480" cy="685800"/>
          </a:xfrm>
          <a:custGeom>
            <a:avLst/>
            <a:gdLst>
              <a:gd name="textAreaLeft" fmla="*/ 0 w 1752480"/>
              <a:gd name="textAreaRight" fmla="*/ 1666800 w 1752480"/>
              <a:gd name="textAreaTop" fmla="*/ 514440 h 685800"/>
              <a:gd name="textAreaBottom" fmla="*/ 686160 h 685800"/>
            </a:gdLst>
            <a:ahLst/>
            <a:rect l="textAreaLeft" t="textAreaTop" r="textAreaRight" b="textAreaBottom"/>
            <a:pathLst>
              <a:path w="1752600" h="685800">
                <a:moveTo>
                  <a:pt x="0" y="514350"/>
                </a:moveTo>
                <a:lnTo>
                  <a:pt x="1495425" y="514350"/>
                </a:lnTo>
                <a:lnTo>
                  <a:pt x="1495425" y="171450"/>
                </a:lnTo>
                <a:lnTo>
                  <a:pt x="1409700" y="171450"/>
                </a:lnTo>
                <a:lnTo>
                  <a:pt x="1581150" y="0"/>
                </a:lnTo>
                <a:lnTo>
                  <a:pt x="1752600" y="171450"/>
                </a:lnTo>
                <a:lnTo>
                  <a:pt x="1666875" y="171450"/>
                </a:lnTo>
                <a:lnTo>
                  <a:pt x="1666875" y="685800"/>
                </a:lnTo>
                <a:lnTo>
                  <a:pt x="0" y="685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-Shape 23"/>
          <p:cNvSpPr/>
          <p:nvPr/>
        </p:nvSpPr>
        <p:spPr>
          <a:xfrm>
            <a:off x="1600200" y="5257800"/>
            <a:ext cx="304920" cy="1066680"/>
          </a:xfrm>
          <a:custGeom>
            <a:avLst/>
            <a:gdLst>
              <a:gd name="textAreaLeft" fmla="*/ 0 w 304920"/>
              <a:gd name="textAreaRight" fmla="*/ 152640 w 30492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304800" h="1066800">
                <a:moveTo>
                  <a:pt x="0" y="0"/>
                </a:moveTo>
                <a:lnTo>
                  <a:pt x="152400" y="0"/>
                </a:lnTo>
                <a:lnTo>
                  <a:pt x="152400" y="914400"/>
                </a:lnTo>
                <a:lnTo>
                  <a:pt x="304800" y="914400"/>
                </a:lnTo>
                <a:lnTo>
                  <a:pt x="304800" y="1066800"/>
                </a:lnTo>
                <a:lnTo>
                  <a:pt x="0" y="1066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ight Arrow 24"/>
          <p:cNvSpPr/>
          <p:nvPr/>
        </p:nvSpPr>
        <p:spPr>
          <a:xfrm>
            <a:off x="1905120" y="6095880"/>
            <a:ext cx="1295280" cy="30492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Box 26"/>
          <p:cNvSpPr/>
          <p:nvPr/>
        </p:nvSpPr>
        <p:spPr>
          <a:xfrm>
            <a:off x="5791320" y="41148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ximal  Na+ &amp; Water reabsor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Up Arrow 27"/>
          <p:cNvSpPr/>
          <p:nvPr/>
        </p:nvSpPr>
        <p:spPr>
          <a:xfrm>
            <a:off x="5486400" y="4343400"/>
            <a:ext cx="152280" cy="533520"/>
          </a:xfrm>
          <a:prstGeom prst="upArrow">
            <a:avLst>
              <a:gd name="adj1" fmla="val 50000"/>
              <a:gd name="adj2" fmla="val 50055"/>
            </a:avLst>
          </a:prstGeom>
          <a:solidFill>
            <a:srgbClr val="00b0f0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Box 28"/>
          <p:cNvSpPr/>
          <p:nvPr/>
        </p:nvSpPr>
        <p:spPr>
          <a:xfrm>
            <a:off x="5562720" y="24382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l delivery of Na+ &amp;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Box 29"/>
          <p:cNvSpPr/>
          <p:nvPr/>
        </p:nvSpPr>
        <p:spPr>
          <a:xfrm>
            <a:off x="5562720" y="9144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ine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Down Arrow 30"/>
          <p:cNvSpPr/>
          <p:nvPr/>
        </p:nvSpPr>
        <p:spPr>
          <a:xfrm>
            <a:off x="5429160" y="928800"/>
            <a:ext cx="95400" cy="652320"/>
          </a:xfrm>
          <a:prstGeom prst="downArrow">
            <a:avLst>
              <a:gd name="adj1" fmla="val 50000"/>
              <a:gd name="adj2" fmla="val 49922"/>
            </a:avLst>
          </a:prstGeom>
          <a:solidFill>
            <a:srgbClr val="00b0f0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Down Arrow 31"/>
          <p:cNvSpPr/>
          <p:nvPr/>
        </p:nvSpPr>
        <p:spPr>
          <a:xfrm>
            <a:off x="5410080" y="2590920"/>
            <a:ext cx="152640" cy="533160"/>
          </a:xfrm>
          <a:prstGeom prst="downArrow">
            <a:avLst>
              <a:gd name="adj1" fmla="val 50000"/>
              <a:gd name="adj2" fmla="val 49903"/>
            </a:avLst>
          </a:prstGeom>
          <a:solidFill>
            <a:srgbClr val="00b0f0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Up Arrow 32"/>
          <p:cNvSpPr/>
          <p:nvPr/>
        </p:nvSpPr>
        <p:spPr>
          <a:xfrm>
            <a:off x="7010280" y="3276720"/>
            <a:ext cx="457200" cy="83808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Up Arrow 33"/>
          <p:cNvSpPr/>
          <p:nvPr/>
        </p:nvSpPr>
        <p:spPr>
          <a:xfrm>
            <a:off x="7010280" y="1447920"/>
            <a:ext cx="381240" cy="838080"/>
          </a:xfrm>
          <a:prstGeom prst="upArrow">
            <a:avLst>
              <a:gd name="adj1" fmla="val 50000"/>
              <a:gd name="adj2" fmla="val 49960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Down Arrow 34"/>
          <p:cNvSpPr/>
          <p:nvPr/>
        </p:nvSpPr>
        <p:spPr>
          <a:xfrm>
            <a:off x="3505320" y="5867280"/>
            <a:ext cx="304560" cy="68580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00b0f0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AutoShape 12"/>
          <p:cNvSpPr/>
          <p:nvPr/>
        </p:nvSpPr>
        <p:spPr>
          <a:xfrm>
            <a:off x="12060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37"/>
          <p:cNvSpPr/>
          <p:nvPr/>
        </p:nvSpPr>
        <p:spPr>
          <a:xfrm>
            <a:off x="0" y="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68c4"/>
                </a:solidFill>
                <a:latin typeface="Times New Roman"/>
              </a:rPr>
              <a:t>Mechanism of antidiuretic effect of thiazide in diabetes insipid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Down Arrow 35"/>
          <p:cNvSpPr/>
          <p:nvPr/>
        </p:nvSpPr>
        <p:spPr>
          <a:xfrm>
            <a:off x="457200" y="2743200"/>
            <a:ext cx="152280" cy="45720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7598d9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475272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Adverse effects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78920" y="928800"/>
            <a:ext cx="87138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12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Fluid and electrolyte imbalance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Hyponatremia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Hypovolemia (volume depletion)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Hypokalemia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Metabolic alkalosis.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Hyperuricaemia (gout)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Hypercalcemia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Hyperglycaemia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Hyperlipidemia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1000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1000"/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8" name="Object 2"/>
          <p:cNvGraphicFramePr/>
          <p:nvPr/>
        </p:nvGraphicFramePr>
        <p:xfrm>
          <a:off x="3657600" y="1981080"/>
          <a:ext cx="2387520" cy="30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981080"/>
                    <a:ext cx="2387520" cy="3092400"/>
                  </a:xfrm>
                  <a:prstGeom prst="rect">
                    <a:avLst/>
                  </a:prstGeom>
                  <a:ln w="50760">
                    <a:solidFill>
                      <a:srgbClr val="dadada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99680" y="214200"/>
            <a:ext cx="7721640" cy="642960"/>
          </a:xfrm>
          <a:prstGeom prst="rect">
            <a:avLst/>
          </a:prstGeom>
          <a:solidFill>
            <a:srgbClr val="500093"/>
          </a:solidFill>
          <a:ln w="50760">
            <a:solidFill>
              <a:srgbClr val="ef91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49f7"/>
                </a:solidFill>
                <a:latin typeface="Century Schoolbook"/>
              </a:rPr>
              <a:t>ADVERSE EFFEC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Oval 4"/>
          <p:cNvSpPr/>
          <p:nvPr/>
        </p:nvSpPr>
        <p:spPr>
          <a:xfrm>
            <a:off x="785880" y="4214880"/>
            <a:ext cx="2428920" cy="608040"/>
          </a:xfrm>
          <a:prstGeom prst="ellipse">
            <a:avLst/>
          </a:prstGeom>
          <a:solidFill>
            <a:srgbClr val="c0fef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ypomagnesa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Oval 5"/>
          <p:cNvSpPr/>
          <p:nvPr/>
        </p:nvSpPr>
        <p:spPr>
          <a:xfrm>
            <a:off x="6215040" y="1143000"/>
            <a:ext cx="2571840" cy="787320"/>
          </a:xfrm>
          <a:prstGeom prst="ellipse">
            <a:avLst/>
          </a:prstGeom>
          <a:solidFill>
            <a:srgbClr val="fafd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etabo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lkal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Oval 6"/>
          <p:cNvSpPr/>
          <p:nvPr/>
        </p:nvSpPr>
        <p:spPr>
          <a:xfrm>
            <a:off x="857160" y="2357280"/>
            <a:ext cx="2235240" cy="787680"/>
          </a:xfrm>
          <a:prstGeom prst="ellipse">
            <a:avLst/>
          </a:prstGeom>
          <a:solidFill>
            <a:srgbClr val="ef9100"/>
          </a:solidFill>
          <a:ln w="50760">
            <a:solidFill>
              <a:srgbClr val="50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0093"/>
                </a:solidFill>
                <a:latin typeface="Times New Roman"/>
              </a:rPr>
              <a:t>Hypokal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Oval 7"/>
          <p:cNvSpPr/>
          <p:nvPr/>
        </p:nvSpPr>
        <p:spPr>
          <a:xfrm>
            <a:off x="857160" y="1285920"/>
            <a:ext cx="2584440" cy="826920"/>
          </a:xfrm>
          <a:prstGeom prst="ellipse">
            <a:avLst/>
          </a:prstGeom>
          <a:solidFill>
            <a:srgbClr val="f9e181"/>
          </a:solidFill>
          <a:ln w="5076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Oval 8"/>
          <p:cNvSpPr/>
          <p:nvPr/>
        </p:nvSpPr>
        <p:spPr>
          <a:xfrm>
            <a:off x="6143760" y="4427640"/>
            <a:ext cx="2538360" cy="716040"/>
          </a:xfrm>
          <a:prstGeom prst="ellipse">
            <a:avLst/>
          </a:prstGeom>
          <a:solidFill>
            <a:srgbClr val="c0fe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yperglyc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Oval 9"/>
          <p:cNvSpPr/>
          <p:nvPr/>
        </p:nvSpPr>
        <p:spPr>
          <a:xfrm>
            <a:off x="6215040" y="3214800"/>
            <a:ext cx="2235240" cy="857160"/>
          </a:xfrm>
          <a:prstGeom prst="ellipse">
            <a:avLst/>
          </a:prstGeom>
          <a:solidFill>
            <a:srgbClr val="fafd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yperuric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Oval 11"/>
          <p:cNvSpPr/>
          <p:nvPr/>
        </p:nvSpPr>
        <p:spPr>
          <a:xfrm>
            <a:off x="857160" y="3357720"/>
            <a:ext cx="2235240" cy="572760"/>
          </a:xfrm>
          <a:prstGeom prst="ellipse">
            <a:avLst/>
          </a:prstGeom>
          <a:solidFill>
            <a:srgbClr val="f9e181"/>
          </a:solidFill>
          <a:ln w="5076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ypocalca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Oval 7"/>
          <p:cNvSpPr/>
          <p:nvPr/>
        </p:nvSpPr>
        <p:spPr>
          <a:xfrm>
            <a:off x="3214800" y="5500800"/>
            <a:ext cx="2584440" cy="826920"/>
          </a:xfrm>
          <a:prstGeom prst="ellipse">
            <a:avLst/>
          </a:prstGeom>
          <a:solidFill>
            <a:srgbClr val="f9e181"/>
          </a:solidFill>
          <a:ln w="5076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yperlipid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1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9" name="Object 2"/>
          <p:cNvGraphicFramePr/>
          <p:nvPr/>
        </p:nvGraphicFramePr>
        <p:xfrm>
          <a:off x="685800" y="1066680"/>
          <a:ext cx="7381800" cy="553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66680"/>
                    <a:ext cx="7381800" cy="553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Line 7"/>
          <p:cNvSpPr/>
          <p:nvPr/>
        </p:nvSpPr>
        <p:spPr>
          <a:xfrm>
            <a:off x="7338960" y="3740040"/>
            <a:ext cx="590760" cy="46080"/>
          </a:xfrm>
          <a:prstGeom prst="line">
            <a:avLst/>
          </a:prstGeom>
          <a:ln w="25560">
            <a:solidFill>
              <a:srgbClr val="0000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10"/>
          <p:cNvSpPr/>
          <p:nvPr/>
        </p:nvSpPr>
        <p:spPr>
          <a:xfrm>
            <a:off x="8001000" y="3571920"/>
            <a:ext cx="676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1"/>
          <p:cNvSpPr/>
          <p:nvPr/>
        </p:nvSpPr>
        <p:spPr>
          <a:xfrm>
            <a:off x="5260320" y="304920"/>
            <a:ext cx="2809440" cy="155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ilor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iamter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pironolact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2"/>
          <p:cNvSpPr/>
          <p:nvPr/>
        </p:nvSpPr>
        <p:spPr>
          <a:xfrm>
            <a:off x="4175280" y="4329000"/>
            <a:ext cx="0" cy="1600200"/>
          </a:xfrm>
          <a:prstGeom prst="line">
            <a:avLst/>
          </a:prstGeom>
          <a:ln w="1260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3"/>
          <p:cNvSpPr/>
          <p:nvPr/>
        </p:nvSpPr>
        <p:spPr>
          <a:xfrm>
            <a:off x="6994440" y="3262320"/>
            <a:ext cx="0" cy="762120"/>
          </a:xfrm>
          <a:prstGeom prst="line">
            <a:avLst/>
          </a:prstGeom>
          <a:ln w="1260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21"/>
          <p:cNvSpPr/>
          <p:nvPr/>
        </p:nvSpPr>
        <p:spPr>
          <a:xfrm>
            <a:off x="254880" y="228600"/>
            <a:ext cx="4708440" cy="17398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rial Narrow"/>
              </a:rPr>
              <a:t>Potassium-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Narrow"/>
              </a:rPr>
              <a:t>sparing diuretic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25"/>
          <p:cNvSpPr/>
          <p:nvPr/>
        </p:nvSpPr>
        <p:spPr>
          <a:xfrm>
            <a:off x="5699160" y="476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13" descr=""/>
          <p:cNvPicPr/>
          <p:nvPr/>
        </p:nvPicPr>
        <p:blipFill>
          <a:blip r:embed="rId3"/>
          <a:stretch/>
        </p:blipFill>
        <p:spPr>
          <a:xfrm>
            <a:off x="214200" y="4143240"/>
            <a:ext cx="221472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2"/>
          <p:cNvSpPr/>
          <p:nvPr/>
        </p:nvSpPr>
        <p:spPr>
          <a:xfrm>
            <a:off x="1181160" y="533520"/>
            <a:ext cx="6849720" cy="764280"/>
          </a:xfrm>
          <a:prstGeom prst="rect">
            <a:avLst/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tassium-sparing diure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142920" y="4071960"/>
            <a:ext cx="4929120" cy="1069200"/>
          </a:xfrm>
          <a:prstGeom prst="rect">
            <a:avLst/>
          </a:prstGeom>
          <a:solidFill>
            <a:srgbClr val="ceb5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Aldosterone antagoni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ironolac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5248440" y="3936960"/>
            <a:ext cx="3538440" cy="2471040"/>
          </a:xfrm>
          <a:prstGeom prst="rect">
            <a:avLst/>
          </a:prstGeom>
          <a:solidFill>
            <a:srgbClr val="ceb5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Na</a:t>
            </a:r>
            <a:r>
              <a:rPr b="1" lang="en-US" sz="3200" spc="-1" strike="noStrike" baseline="30000">
                <a:solidFill>
                  <a:srgbClr val="0000cc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channels inhibi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ilor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iamter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7"/>
          <p:cNvSpPr/>
          <p:nvPr/>
        </p:nvSpPr>
        <p:spPr>
          <a:xfrm>
            <a:off x="6553080" y="14479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9"/>
          <p:cNvSpPr/>
          <p:nvPr/>
        </p:nvSpPr>
        <p:spPr>
          <a:xfrm>
            <a:off x="1828800" y="14479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3"/>
          <p:cNvSpPr/>
          <p:nvPr/>
        </p:nvSpPr>
        <p:spPr>
          <a:xfrm>
            <a:off x="1066680" y="2133720"/>
            <a:ext cx="2219400" cy="520560"/>
          </a:xfrm>
          <a:prstGeom prst="rect">
            <a:avLst/>
          </a:prstGeom>
          <a:solidFill>
            <a:srgbClr val="c8d6f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tero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5286240" y="2057400"/>
            <a:ext cx="2500560" cy="520560"/>
          </a:xfrm>
          <a:prstGeom prst="rect">
            <a:avLst/>
          </a:prstGeom>
          <a:solidFill>
            <a:srgbClr val="c8d6f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Nonsrero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5480" y="274680"/>
            <a:ext cx="763884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250560" y="1125000"/>
            <a:ext cx="8497800" cy="53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Act in collecting tubules and ducts by inhibiting Na re-absorption and K &amp; H excretion </a:t>
            </a: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(K-sparing effect) by either: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Inhibition of Na influx through Na channels in the luminal membrane </a:t>
            </a:r>
            <a:r>
              <a:rPr b="1" lang="en-US" sz="3400" spc="-1" strike="noStrike">
                <a:solidFill>
                  <a:srgbClr val="0000ff"/>
                </a:solidFill>
                <a:latin typeface="Century Schoolbook"/>
              </a:rPr>
              <a:t>(triamterene – amiloride). 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8" name="مستطيل 3"/>
          <p:cNvSpPr/>
          <p:nvPr/>
        </p:nvSpPr>
        <p:spPr>
          <a:xfrm>
            <a:off x="214200" y="73080"/>
            <a:ext cx="47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Mechanism of 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1000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85480" y="274680"/>
            <a:ext cx="763884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250560" y="1125000"/>
            <a:ext cx="8497800" cy="53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entury Schoolbook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entury Schoolbook"/>
              </a:rPr>
              <a:t>Spironolactone: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by antagonizing cytoplasmic aldosterone receptors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مستطيل 3"/>
          <p:cNvSpPr/>
          <p:nvPr/>
        </p:nvSpPr>
        <p:spPr>
          <a:xfrm>
            <a:off x="142920" y="71280"/>
            <a:ext cx="54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Schoolbook"/>
                <a:ea typeface="Arial"/>
              </a:rPr>
              <a:t>Mechanism of 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8186760" cy="58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COLLECTED TUBULES (CT)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43" name="Picture 2" descr=""/>
          <p:cNvPicPr/>
          <p:nvPr/>
        </p:nvPicPr>
        <p:blipFill>
          <a:blip r:embed="rId1"/>
          <a:stretch/>
        </p:blipFill>
        <p:spPr>
          <a:xfrm>
            <a:off x="214200" y="714240"/>
            <a:ext cx="842976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Thiazide diuretic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79280" y="1052280"/>
            <a:ext cx="885672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Drugs as: 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Chlorothiazide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Hydrochlorothiazide 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Chlorthalidone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Metolazone 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Indapamide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0096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1" lang="en-US" sz="2900" spc="-1" strike="noStrike">
                <a:solidFill>
                  <a:srgbClr val="ff0000"/>
                </a:solidFill>
                <a:latin typeface="Century Schoolbook"/>
              </a:rPr>
              <a:t> 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70920" y="1052280"/>
            <a:ext cx="892980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urinary Na</a:t>
            </a:r>
            <a:r>
              <a:rPr b="1" lang="en-US" sz="34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excretion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urinary K</a:t>
            </a:r>
            <a:r>
              <a:rPr b="1" lang="en-US" sz="34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excretion </a:t>
            </a: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Hyperkalemia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H</a:t>
            </a:r>
            <a:r>
              <a:rPr b="1" lang="en-US" sz="34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excretion </a:t>
            </a: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(acidosis)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6" name="مستطيل 3"/>
          <p:cNvSpPr/>
          <p:nvPr/>
        </p:nvSpPr>
        <p:spPr>
          <a:xfrm>
            <a:off x="169920" y="18900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Schoolbook"/>
                <a:ea typeface="Arial"/>
              </a:rPr>
              <a:t>Pharmacodynamic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6"/>
          <p:cNvSpPr/>
          <p:nvPr/>
        </p:nvSpPr>
        <p:spPr>
          <a:xfrm flipV="1">
            <a:off x="826920" y="1195200"/>
            <a:ext cx="0" cy="577800"/>
          </a:xfrm>
          <a:prstGeom prst="line">
            <a:avLst/>
          </a:prstGeom>
          <a:ln w="69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7"/>
          <p:cNvSpPr/>
          <p:nvPr/>
        </p:nvSpPr>
        <p:spPr>
          <a:xfrm>
            <a:off x="826920" y="2781360"/>
            <a:ext cx="0" cy="64764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8"/>
          <p:cNvSpPr/>
          <p:nvPr/>
        </p:nvSpPr>
        <p:spPr>
          <a:xfrm>
            <a:off x="826920" y="1916280"/>
            <a:ext cx="0" cy="64764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77454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Therapeutic uses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250920" y="836280"/>
            <a:ext cx="86421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>
              <a:spcBef>
                <a:spcPts val="18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Drug of choice for patients with   hepatic cirrhosis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spcBef>
                <a:spcPts val="18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Secondary hyperaldosteronism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ff"/>
                </a:solidFill>
                <a:latin typeface="Century Schoolbook"/>
              </a:rPr>
              <a:t>(CHF, hepatic cirrhosis, nephrotic syndrome).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spcBef>
                <a:spcPts val="18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ff"/>
                </a:solidFill>
                <a:latin typeface="Century Schoolbook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Treatment of hypertension </a:t>
            </a:r>
            <a:r>
              <a:rPr b="1" lang="en-US" sz="3300" spc="-1" strike="noStrike">
                <a:solidFill>
                  <a:srgbClr val="0000ff"/>
                </a:solidFill>
                <a:latin typeface="Century Schoolbook"/>
              </a:rPr>
              <a:t>(combined with thiazide or loop diuretics to correct for hypokalemia).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10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1000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74678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entury Schoolbook"/>
              </a:rPr>
              <a:t> </a:t>
            </a:r>
            <a:r>
              <a:rPr b="1" lang="en-US" sz="3600" spc="-1" strike="noStrike">
                <a:solidFill>
                  <a:srgbClr val="a50021"/>
                </a:solidFill>
                <a:latin typeface="Century Schoolbook"/>
              </a:rPr>
              <a:t>Adverse Effect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250560" y="1268280"/>
            <a:ext cx="85690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120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Hyperkalaemia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Metabolic acidosis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Gynaecomastia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GIT upset and peptic ulcer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10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10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Century Schoolbook"/>
              </a:rPr>
              <a:t>Contraindications:</a:t>
            </a:r>
            <a:endParaRPr b="0" lang="en-US" sz="3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250920" y="1643040"/>
            <a:ext cx="864216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90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Century Schoolbook"/>
              </a:rPr>
              <a:t>Hyperkalaemia: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as in chronic renal failure, K+ supplementation, </a:t>
            </a:r>
            <a:r>
              <a:rPr b="1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-blockers or ACE inhibitors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Century Schoolbook"/>
              </a:rPr>
              <a:t>liver disease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(dose adjustment is needed)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10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10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56944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Therapeutic applications of diuretics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324000" y="1125000"/>
            <a:ext cx="8496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entury Schoolbook"/>
              </a:rPr>
              <a:t>Treatment of hypertension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d2611c"/>
              </a:buClr>
              <a:buSzPct val="70000"/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azide diuretic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d2611c"/>
              </a:buClr>
              <a:buSzPct val="70000"/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used alone or in combination with beta-blockers at low-dose (fewer side effects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d2611c"/>
              </a:buClr>
              <a:buSzPct val="70000"/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n presence of renal failure, loop diuretic is used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entury Schoolbook"/>
              </a:rPr>
              <a:t>Edema State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Thiazide diuretic is used in mild edema with normal renal function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d2611c"/>
              </a:buClr>
              <a:buSzPct val="70000"/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Loop diuretics are used in cases with impaired renal function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178920" y="188640"/>
            <a:ext cx="849636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entury Schoolbook"/>
              </a:rPr>
              <a:t>Congestive Heart failur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d2611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azides may be used in only mild cases with well-preserved renal function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d2611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Loop diuretics are much preferred in severe cases especially when GF is lowered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d2611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n life-threatening acute pulmonary edema, furosemide is given IV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17892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Century Schoolbook"/>
              </a:rPr>
              <a:t>Renal failur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Thiazides are used till GFR ≥ 40-50 ml/min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Loop diuretic are used below given values, with increasing the dose with as GFR goes down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Century Schoolbook"/>
              </a:rPr>
              <a:t>Diabetes inspidus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Large volume(&gt;10 L/day) of dilute urin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thiazide diuretics reduces urine volum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Century Schoolbook"/>
              </a:rPr>
              <a:t>Hepatic cirrhosis with ascites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Spironolactone is of choice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0" name=""/>
          <p:cNvGraphicFramePr/>
          <p:nvPr/>
        </p:nvGraphicFramePr>
        <p:xfrm>
          <a:off x="142920" y="142920"/>
          <a:ext cx="8858160" cy="6624720"/>
        </p:xfrm>
        <a:graphic>
          <a:graphicData uri="http://schemas.openxmlformats.org/drawingml/2006/table">
            <a:tbl>
              <a:tblPr/>
              <a:tblGrid>
                <a:gridCol w="2660760"/>
                <a:gridCol w="2803320"/>
                <a:gridCol w="339408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iure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echanism of a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Effec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 inhibi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Acetohexam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Dorzolamide</a:t>
                      </a: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Century Schoolbook"/>
                          <a:ea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nhibition of NaHCO3 reabsorption  in </a:t>
                      </a: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Century Schoolbook"/>
                        </a:rPr>
                        <a:t>P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inary Na HCO3, 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inary alkal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abolic acidos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smotic diure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Mannit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smotic effect </a:t>
                      </a: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Century Schoolbook"/>
                        </a:rPr>
                        <a:t>in PC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ine excre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ttle 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oop diure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Furosem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/K/2Cl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transporter in </a:t>
                      </a: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Century Schoolbook"/>
                        </a:rPr>
                        <a:t>TAL the most effe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inary Na, K, Ca, M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61640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iazide diure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hydrochlorothiaz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 and Cl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transporter in </a:t>
                      </a: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Century Schoolbook"/>
                        </a:rPr>
                        <a:t>D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inary Na, K, M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U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urinary Ca (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hypercalcemia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abolic alkal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6532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-sparing diure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Spironolactone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mpetitive antagonist of aldosterone </a:t>
                      </a: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Century Schoolbook"/>
                        </a:rPr>
                        <a:t>in C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↑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inary 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, H secre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abolic acid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1" name=""/>
          <p:cNvGraphicFramePr/>
          <p:nvPr/>
        </p:nvGraphicFramePr>
        <p:xfrm>
          <a:off x="179280" y="189000"/>
          <a:ext cx="8666280" cy="6561000"/>
        </p:xfrm>
        <a:graphic>
          <a:graphicData uri="http://schemas.openxmlformats.org/drawingml/2006/table">
            <a:tbl>
              <a:tblPr/>
              <a:tblGrid>
                <a:gridCol w="3184560"/>
                <a:gridCol w="5481720"/>
              </a:tblGrid>
              <a:tr h="55548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Century Schoolbook"/>
                        </a:rPr>
                        <a:t>Diure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Century Schoolbook"/>
                        </a:rPr>
                        <a:t>Uses</a:t>
                      </a: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Century Schoolbook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 inhibi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Acetohexam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Dorzolamide</a:t>
                      </a: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Century Schoolbook"/>
                          <a:ea typeface="Arial"/>
                        </a:rPr>
                        <a:t>  (topically) for glauco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Glaucoma, epilep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ountain sick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lkal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hosphatem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smotic diure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Mannit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erebral edema, glauc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ute renal failure, drug toxic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614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oop diure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Furosem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ute pulmonary edema </a:t>
                      </a: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(Drug of choic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eart fail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yperkalemia, Hypercalcem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iazide diure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hydrochlorothiaz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Commonly u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ypertension, mild heart failure, nephrolithiasis, diabetes inspid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-sparing diure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Spironolactone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epatic cirrh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(Drug of choic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2" name=""/>
          <p:cNvGraphicFramePr/>
          <p:nvPr/>
        </p:nvGraphicFramePr>
        <p:xfrm>
          <a:off x="214200" y="142920"/>
          <a:ext cx="8715600" cy="6643800"/>
        </p:xfrm>
        <a:graphic>
          <a:graphicData uri="http://schemas.openxmlformats.org/drawingml/2006/table">
            <a:tbl>
              <a:tblPr/>
              <a:tblGrid>
                <a:gridCol w="2573280"/>
                <a:gridCol w="6142320"/>
              </a:tblGrid>
              <a:tr h="56340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Century Schoolbook"/>
                        </a:rPr>
                        <a:t>Diure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Century Schoolbook"/>
                        </a:rPr>
                        <a:t>Side effec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 inhibi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etohexam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orzolamide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etabolic acidosis , Urinary alkal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ypokalem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smotic diure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nnit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Extracellular water expan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Dehyd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Hypernatrem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</a:tr>
              <a:tr h="13330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oop diure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urosem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ypokalemia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ypovolemia, hyponatremia, hypomagnesemia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ypocalcem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ecipitate gout,  alkal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</a:tr>
              <a:tr h="131580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iazide diure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ydrochlorothiaz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ypokalemia, hyponatremia, hypovolemia, hypomagnesemia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ypercalcem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lkalosis, precipitate g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yperlipidemia, hyperglycem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</a:tr>
              <a:tr h="154044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-sparing diure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pironolacton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Gynaecomast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Hyperkalaemi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, Metabolic acidos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GIT upset and peptic ulc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721280" cy="571320"/>
          </a:xfrm>
          <a:prstGeom prst="rect">
            <a:avLst/>
          </a:prstGeom>
          <a:solidFill>
            <a:srgbClr val="081d58"/>
          </a:solidFill>
          <a:ln w="50760">
            <a:solidFill>
              <a:srgbClr val="ef91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f9100"/>
                </a:solidFill>
                <a:latin typeface="Century Schoolbook"/>
              </a:rPr>
              <a:t>THIAZIDE DIURETIC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Oval 4"/>
          <p:cNvSpPr/>
          <p:nvPr/>
        </p:nvSpPr>
        <p:spPr>
          <a:xfrm>
            <a:off x="5429160" y="1285920"/>
            <a:ext cx="3286080" cy="1219320"/>
          </a:xfrm>
          <a:prstGeom prst="ellipse">
            <a:avLst/>
          </a:prstGeom>
          <a:solidFill>
            <a:srgbClr val="c0fef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lorthali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tency 10, t½ 26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Oval 5"/>
          <p:cNvSpPr/>
          <p:nvPr/>
        </p:nvSpPr>
        <p:spPr>
          <a:xfrm>
            <a:off x="2857680" y="2786040"/>
            <a:ext cx="3500280" cy="1143000"/>
          </a:xfrm>
          <a:prstGeom prst="ellipse">
            <a:avLst/>
          </a:prstGeom>
          <a:solidFill>
            <a:srgbClr val="fafd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Metolaz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Potency 5, t½ 5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Oval 6"/>
          <p:cNvSpPr/>
          <p:nvPr/>
        </p:nvSpPr>
        <p:spPr>
          <a:xfrm>
            <a:off x="285840" y="1428840"/>
            <a:ext cx="2921040" cy="1371600"/>
          </a:xfrm>
          <a:prstGeom prst="ellipse">
            <a:avLst/>
          </a:prstGeom>
          <a:solidFill>
            <a:srgbClr val="ef9100"/>
          </a:solidFill>
          <a:ln w="50760">
            <a:solidFill>
              <a:srgbClr val="50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0093"/>
                </a:solidFill>
                <a:latin typeface="Times New Roman"/>
              </a:rPr>
              <a:t>Chlorothiaz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0093"/>
                </a:solidFill>
                <a:latin typeface="Times New Roman"/>
              </a:rPr>
              <a:t>Potency 0.1, t½ 2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Oval 7"/>
          <p:cNvSpPr/>
          <p:nvPr/>
        </p:nvSpPr>
        <p:spPr>
          <a:xfrm>
            <a:off x="0" y="3929040"/>
            <a:ext cx="3962520" cy="11430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Hydrochlorothiaz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Potency 1 , t½  3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Oval 5"/>
          <p:cNvSpPr/>
          <p:nvPr/>
        </p:nvSpPr>
        <p:spPr>
          <a:xfrm>
            <a:off x="5072040" y="4429080"/>
            <a:ext cx="3571920" cy="1143000"/>
          </a:xfrm>
          <a:prstGeom prst="ellipse">
            <a:avLst/>
          </a:prstGeom>
          <a:solidFill>
            <a:srgbClr val="eb6e5a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Indapam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Potency 20, t½ 16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Thiazide diuretic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79280" y="1052280"/>
            <a:ext cx="885672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Mechanism of action: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acts via  inhibition of Na/Cl            co-transporter on the luminal membrane of distal convoluted tubules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Efficacy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Moderate natriuresis (5-10% of filtered  load of sodium is reabsorbed)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4" descr="23"/>
          <p:cNvPicPr/>
          <p:nvPr/>
        </p:nvPicPr>
        <p:blipFill>
          <a:blip r:embed="rId1"/>
          <a:srcRect l="2874" t="9310" r="0" b="12414"/>
          <a:stretch/>
        </p:blipFill>
        <p:spPr>
          <a:xfrm>
            <a:off x="36360" y="27000"/>
            <a:ext cx="9072720" cy="678672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5"/>
          <p:cNvSpPr/>
          <p:nvPr/>
        </p:nvSpPr>
        <p:spPr>
          <a:xfrm>
            <a:off x="34920" y="77760"/>
            <a:ext cx="4897440" cy="61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Distal convoluted tubul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chanism of action of thiazide diuretic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142920" y="836640"/>
            <a:ext cx="88581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178920" y="260280"/>
            <a:ext cx="8713800" cy="621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Pharmacokinetics: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15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Given orally, slow of onset 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15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long duration of action (40 h)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15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are secreted by active tubular secretory system of the kidney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15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may interfere with uric acid secretion and cause </a:t>
            </a:r>
            <a:r>
              <a:rPr b="1" i="1" lang="en-US" sz="3400" spc="-1" strike="noStrike">
                <a:solidFill>
                  <a:srgbClr val="ff0000"/>
                </a:solidFill>
                <a:latin typeface="Century Schoolbook"/>
              </a:rPr>
              <a:t>hyperuricemia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15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74674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Pharmacological effects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0" y="836640"/>
            <a:ext cx="9036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urinary NaCl excretion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urinary K excretion </a:t>
            </a: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(Hypokalemia)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urinary magnesium excretion 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cc"/>
                </a:solidFill>
                <a:latin typeface="Century Schoolbook"/>
              </a:rPr>
              <a:t>urinary calcium excretion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calcium re-absorption </a:t>
            </a: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hypercalcemia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Line 6"/>
          <p:cNvSpPr/>
          <p:nvPr/>
        </p:nvSpPr>
        <p:spPr>
          <a:xfrm flipV="1">
            <a:off x="285840" y="836640"/>
            <a:ext cx="0" cy="504720"/>
          </a:xfrm>
          <a:prstGeom prst="line">
            <a:avLst/>
          </a:prstGeom>
          <a:ln w="69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7"/>
          <p:cNvSpPr/>
          <p:nvPr/>
        </p:nvSpPr>
        <p:spPr>
          <a:xfrm flipV="1">
            <a:off x="285840" y="1557360"/>
            <a:ext cx="0" cy="504720"/>
          </a:xfrm>
          <a:prstGeom prst="line">
            <a:avLst/>
          </a:prstGeom>
          <a:ln w="69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8"/>
          <p:cNvSpPr/>
          <p:nvPr/>
        </p:nvSpPr>
        <p:spPr>
          <a:xfrm flipV="1">
            <a:off x="285840" y="2424240"/>
            <a:ext cx="0" cy="504720"/>
          </a:xfrm>
          <a:prstGeom prst="line">
            <a:avLst/>
          </a:prstGeom>
          <a:ln w="69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9"/>
          <p:cNvSpPr/>
          <p:nvPr/>
        </p:nvSpPr>
        <p:spPr>
          <a:xfrm flipV="1">
            <a:off x="285840" y="4138560"/>
            <a:ext cx="0" cy="504720"/>
          </a:xfrm>
          <a:prstGeom prst="line">
            <a:avLst/>
          </a:prstGeom>
          <a:ln w="69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13"/>
          <p:cNvSpPr/>
          <p:nvPr/>
        </p:nvSpPr>
        <p:spPr>
          <a:xfrm>
            <a:off x="285840" y="3281400"/>
            <a:ext cx="0" cy="5047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746748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Thiazide diuretic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7" name="Picture 5" descr=""/>
          <p:cNvPicPr/>
          <p:nvPr/>
        </p:nvPicPr>
        <p:blipFill>
          <a:blip r:embed="rId1">
            <a:alphaModFix amt="39000"/>
          </a:blip>
          <a:stretch/>
        </p:blipFill>
        <p:spPr>
          <a:xfrm>
            <a:off x="324000" y="765000"/>
            <a:ext cx="8351640" cy="5832720"/>
          </a:xfrm>
          <a:prstGeom prst="rect">
            <a:avLst/>
          </a:prstGeom>
          <a:ln w="9360">
            <a:solidFill>
              <a:srgbClr val="fe8637">
                <a:alpha val="59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03:55:58Z</dcterms:created>
  <dc:creator>administrator</dc:creator>
  <dc:description/>
  <dc:language>en-US</dc:language>
  <cp:lastModifiedBy>dr.abdullatif</cp:lastModifiedBy>
  <dcterms:modified xsi:type="dcterms:W3CDTF">2016-04-26T05:26:14Z</dcterms:modified>
  <cp:revision>234</cp:revision>
  <dc:subject/>
  <dc:title>DIURETICS</dc:title>
</cp:coreProperties>
</file>