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C78-3670-42D6-9E79-D9DF6F09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A61-1C6C-49F5-A3A1-499C14DD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B3E-0476-4042-8886-9E3DBE65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D01-A970-4B0C-B9DB-DE3F7C61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A0EB-43E8-4EDA-8F7E-8D1E5CA6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0C28-64E0-4C2C-8487-04C48BA4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103E-D906-435A-A21C-2023E0B4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E04D-3863-4944-B21D-9C09799A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C715-0D28-445C-A0A7-3CFC418E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318A-6E95-48F3-B5AC-A52FD71A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5893-165C-419A-AA8F-9E12CFA8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EEA8-54AB-47E6-9F78-D7DDE59F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9461-CBAE-42D8-BE8D-1F220A1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F968-F9AA-4909-A46D-2ECC4E72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B9B1-9DC5-4E39-91DD-C04BD5F6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9211-633B-4C22-B8D8-13DCBECB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7D03-1E88-4897-AE7F-D08F7E65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FA542-5AC8-4787-B265-8C0C24C3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5E752-457E-49E9-B85E-3899271E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80147-DC21-4F79-A56F-28227D2E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090A8-267B-45CB-AA82-FBCB137C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7D50F-7C98-486A-B773-A6FBEB7A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E32-2CB4-49C7-9980-24871D7E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1557B-88FF-4D9E-BFF4-25A8D177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4F3F4-C237-4994-801D-1F329510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84EFA-4B95-4788-B71B-4F5836D0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90A58-395F-4381-B451-5F3A0F8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2AC5A-FB80-4A1B-A6C5-44EBF23F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ABD86F-2E26-42EE-95D3-3845892E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7DDE7-62F3-44D0-9989-AA541376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ACEDD-68C3-4212-8872-FCC675B8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99D3-92E7-4248-A184-128C2FE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9A5EC-9CE6-45B8-9EAC-CAA07733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D82-700C-45C6-AC96-B289F492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8C78-7081-45A3-A681-15E54A37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0BBDF-9B64-4AF8-8D44-624BB70B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F3AE-EB47-4C0D-A8E9-40EE77DC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3976-8056-49AA-93B9-81F5B33F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5C172-0933-4786-B7A6-48C4659A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19364-EE5D-4281-A006-36798F4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F539C-A4CF-435C-A470-9937E4F5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2D7F-4EE5-43D7-9314-5E9918AB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02585-F753-488D-A960-D024A23F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F8EFBF-AC8C-4535-87D3-B891FECAE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6E2-668F-474A-AC0A-BF4838AA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FC041B-B8EC-4C53-8F91-58F7B503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80DCF-87BD-451F-A7E4-CCD48779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D37B11-3795-4569-BEAB-6AA5FAC3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C92DA2-0379-41ED-BCB9-C8FFDF75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C8A4E7-0467-4C66-B8A2-4A09F0E4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A0CF6-6F9F-4261-8114-3B05452E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EA49E8-3492-49BF-A2AC-8A19ED9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1BDE6-68F6-42EB-8802-DD627498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C3B14-389F-44D7-82F7-6D0F9EAB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4A9AC-F0A2-4D50-A1EE-641F169B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F43-0860-495E-AB24-8D8D13BA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39351-9B14-4230-90D6-72BE25CE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845DD-3477-4D13-B70E-FEF6C1AF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47C169-A867-406B-A362-A2C21766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844F5-2B0B-4534-B210-D715D927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C63A9A-30DC-4EF1-B681-5FF52A21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9F361-3D18-4899-B9F6-7025558E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915553-4E75-4FE8-8E8F-222AF3AE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1A2765-4E31-4938-84B1-9CBFDBB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26CBD-BA9D-4806-B6ED-82C7DA2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11363B-858B-496F-900B-6EB470C0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B3AE-0D7B-40BA-B401-69A82451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0BFF91-A88B-465C-9B25-FD51CCA4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D77D2-7B2C-4269-898E-970E860E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F4B3A-3FA4-498A-9511-8D81FDA2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59DA78-B96A-4045-92BC-73919F85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74DF97-4C51-455E-83D3-AC50FCAB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F94735-AB20-4B47-B4DE-5628A504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1A704-C453-40F0-9C63-0D697599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5BCEB-8B87-45B4-AE86-04E6F831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AF3680-5627-43C8-912D-9616764C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8B2954-2C9A-4987-A324-F42FB513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25F-0C23-4AD8-AF08-1D5B126D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4E1DB-3570-458C-90ED-37797511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453DF-BB5D-437B-B741-53E6FAE2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725437-1131-4929-A412-3121E7EF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1A24B-582B-4208-B4DE-E850927F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D5A9EE-DB90-4F63-BE3C-BEB61CC7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B64-93A2-4C04-9E4F-9361ABE6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0486-18DC-40D7-AD92-D3825C24AAC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3388-0577-4E25-9960-A32FD0FB5E6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AC56-AFD4-4C2C-AFE3-474212A9365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9D4B-8432-45AB-95C7-062AD0E4AAD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BF03-DE60-4A09-B80F-D508EDA4D21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45F1-3FCE-45E3-A38F-0C520485A60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CCBB-33D8-4B2B-A1E9-CB1B19970A2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4280" y="28548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85920" y="1714680"/>
            <a:ext cx="6415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Abdul latif Mahes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17" descr="1101"/>
          <p:cNvPicPr/>
          <p:nvPr/>
        </p:nvPicPr>
        <p:blipFill>
          <a:blip r:embed="rId1"/>
          <a:stretch/>
        </p:blipFill>
        <p:spPr>
          <a:xfrm>
            <a:off x="2428920" y="3143160"/>
            <a:ext cx="57862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77104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79280" y="999720"/>
            <a:ext cx="878544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essential hypertension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cheap-well tolerat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reatment of mild heart failure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to reduce extracellular volume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Uses: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79280" y="928440"/>
            <a:ext cx="8785440" cy="57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Calcium nephrolithiasis due to hypercalciuria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3300" spc="-1" strike="noStrike">
                <a:solidFill>
                  <a:srgbClr val="c00000"/>
                </a:solidFill>
                <a:latin typeface="Century Schoolbook"/>
              </a:rPr>
              <a:t>(to increase calcium re-absorption and decrease renal calcium stones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25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Nephrogenic diabetes insipidus </a:t>
            </a:r>
            <a:r>
              <a:rPr b="1" i="1" lang="en-US" sz="3400" spc="-1" strike="noStrike">
                <a:solidFill>
                  <a:srgbClr val="c00000"/>
                </a:solidFill>
                <a:latin typeface="Century Schoolbook"/>
              </a:rPr>
              <a:t>(decrease blood volume and GFR)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8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10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6"/>
          <p:cNvSpPr/>
          <p:nvPr/>
        </p:nvSpPr>
        <p:spPr>
          <a:xfrm>
            <a:off x="685800" y="762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az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Down Arrow 7"/>
          <p:cNvSpPr/>
          <p:nvPr/>
        </p:nvSpPr>
        <p:spPr>
          <a:xfrm>
            <a:off x="1447920" y="1371600"/>
            <a:ext cx="304560" cy="76212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Box 8"/>
          <p:cNvSpPr/>
          <p:nvPr/>
        </p:nvSpPr>
        <p:spPr>
          <a:xfrm>
            <a:off x="380880" y="2514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l tubular N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bsor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Box 10"/>
          <p:cNvSpPr/>
          <p:nvPr/>
        </p:nvSpPr>
        <p:spPr>
          <a:xfrm>
            <a:off x="685800" y="39625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ary 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Down Arrow 11"/>
          <p:cNvSpPr/>
          <p:nvPr/>
        </p:nvSpPr>
        <p:spPr>
          <a:xfrm>
            <a:off x="1447920" y="327672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Up Arrow 12"/>
          <p:cNvSpPr/>
          <p:nvPr/>
        </p:nvSpPr>
        <p:spPr>
          <a:xfrm>
            <a:off x="533520" y="4267080"/>
            <a:ext cx="152280" cy="4572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3809880" y="579132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ellular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Bent-Up Arrow 19"/>
          <p:cNvSpPr/>
          <p:nvPr/>
        </p:nvSpPr>
        <p:spPr>
          <a:xfrm>
            <a:off x="5791320" y="5562720"/>
            <a:ext cx="1752480" cy="685800"/>
          </a:xfrm>
          <a:custGeom>
            <a:avLst/>
            <a:gdLst>
              <a:gd name="textAreaLeft" fmla="*/ 0 w 1752480"/>
              <a:gd name="textAreaRight" fmla="*/ 1666800 w 1752480"/>
              <a:gd name="textAreaTop" fmla="*/ 514440 h 685800"/>
              <a:gd name="textAreaBottom" fmla="*/ 686160 h 685800"/>
            </a:gdLst>
            <a:ahLst/>
            <a:rect l="textAreaLeft" t="textAreaTop" r="textAreaRight" b="textAreaBottom"/>
            <a:pathLst>
              <a:path w="1752600" h="685800">
                <a:moveTo>
                  <a:pt x="0" y="514350"/>
                </a:moveTo>
                <a:lnTo>
                  <a:pt x="1495425" y="514350"/>
                </a:lnTo>
                <a:lnTo>
                  <a:pt x="1495425" y="171450"/>
                </a:lnTo>
                <a:lnTo>
                  <a:pt x="1409700" y="171450"/>
                </a:lnTo>
                <a:lnTo>
                  <a:pt x="1581150" y="0"/>
                </a:lnTo>
                <a:lnTo>
                  <a:pt x="1752600" y="171450"/>
                </a:lnTo>
                <a:lnTo>
                  <a:pt x="1666875" y="171450"/>
                </a:lnTo>
                <a:lnTo>
                  <a:pt x="1666875" y="685800"/>
                </a:lnTo>
                <a:lnTo>
                  <a:pt x="0" y="685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L-Shape 23"/>
          <p:cNvSpPr/>
          <p:nvPr/>
        </p:nvSpPr>
        <p:spPr>
          <a:xfrm>
            <a:off x="1600200" y="5257800"/>
            <a:ext cx="304920" cy="1066680"/>
          </a:xfrm>
          <a:custGeom>
            <a:avLst/>
            <a:gdLst>
              <a:gd name="textAreaLeft" fmla="*/ 0 w 304920"/>
              <a:gd name="textAreaRight" fmla="*/ 152640 w 3049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304800" h="1066800">
                <a:moveTo>
                  <a:pt x="0" y="0"/>
                </a:moveTo>
                <a:lnTo>
                  <a:pt x="152400" y="0"/>
                </a:lnTo>
                <a:lnTo>
                  <a:pt x="152400" y="914400"/>
                </a:lnTo>
                <a:lnTo>
                  <a:pt x="304800" y="914400"/>
                </a:lnTo>
                <a:lnTo>
                  <a:pt x="304800" y="1066800"/>
                </a:lnTo>
                <a:lnTo>
                  <a:pt x="0" y="10668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ight Arrow 24"/>
          <p:cNvSpPr/>
          <p:nvPr/>
        </p:nvSpPr>
        <p:spPr>
          <a:xfrm>
            <a:off x="1905120" y="609588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5791320" y="41148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al  Na+ &amp; Water reabsor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Up Arrow 27"/>
          <p:cNvSpPr/>
          <p:nvPr/>
        </p:nvSpPr>
        <p:spPr>
          <a:xfrm>
            <a:off x="5486400" y="4343400"/>
            <a:ext cx="152280" cy="53352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Box 28"/>
          <p:cNvSpPr/>
          <p:nvPr/>
        </p:nvSpPr>
        <p:spPr>
          <a:xfrm>
            <a:off x="5562720" y="24382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l delivery of Na+ &amp;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5562720" y="914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ine 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Down Arrow 30"/>
          <p:cNvSpPr/>
          <p:nvPr/>
        </p:nvSpPr>
        <p:spPr>
          <a:xfrm>
            <a:off x="5429160" y="928800"/>
            <a:ext cx="95400" cy="65232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Down Arrow 31"/>
          <p:cNvSpPr/>
          <p:nvPr/>
        </p:nvSpPr>
        <p:spPr>
          <a:xfrm>
            <a:off x="5410080" y="2590920"/>
            <a:ext cx="152640" cy="533160"/>
          </a:xfrm>
          <a:prstGeom prst="downArrow">
            <a:avLst>
              <a:gd name="adj1" fmla="val 50000"/>
              <a:gd name="adj2" fmla="val 49903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Up Arrow 32"/>
          <p:cNvSpPr/>
          <p:nvPr/>
        </p:nvSpPr>
        <p:spPr>
          <a:xfrm>
            <a:off x="7010280" y="3276720"/>
            <a:ext cx="457200" cy="83808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Up Arrow 33"/>
          <p:cNvSpPr/>
          <p:nvPr/>
        </p:nvSpPr>
        <p:spPr>
          <a:xfrm>
            <a:off x="7010280" y="1447920"/>
            <a:ext cx="381240" cy="838080"/>
          </a:xfrm>
          <a:prstGeom prst="upArrow">
            <a:avLst>
              <a:gd name="adj1" fmla="val 50000"/>
              <a:gd name="adj2" fmla="val 49960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Down Arrow 34"/>
          <p:cNvSpPr/>
          <p:nvPr/>
        </p:nvSpPr>
        <p:spPr>
          <a:xfrm>
            <a:off x="3505320" y="5867280"/>
            <a:ext cx="304560" cy="6858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b0f0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12060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37"/>
          <p:cNvSpPr/>
          <p:nvPr/>
        </p:nvSpPr>
        <p:spPr>
          <a:xfrm>
            <a:off x="0" y="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68c4"/>
                </a:solidFill>
                <a:latin typeface="Times New Roman"/>
              </a:rPr>
              <a:t>Mechanism of antidiuretic effect of thiazide in diabetes insipid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Down Arrow 35"/>
          <p:cNvSpPr/>
          <p:nvPr/>
        </p:nvSpPr>
        <p:spPr>
          <a:xfrm>
            <a:off x="457200" y="27432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7598d9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475272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Adverse effect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78920" y="928800"/>
            <a:ext cx="8713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Fluid and electrolyte imbalance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natr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volemia (volume depletion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okal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Metabolic alkalosis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uricaemia (gout)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calcemia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glyca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Hyperlipidemia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2"/>
          <p:cNvGraphicFramePr/>
          <p:nvPr/>
        </p:nvGraphicFramePr>
        <p:xfrm>
          <a:off x="3657600" y="1981080"/>
          <a:ext cx="238752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2387520" cy="3092400"/>
                  </a:xfrm>
                  <a:prstGeom prst="rect">
                    <a:avLst/>
                  </a:prstGeom>
                  <a:ln w="50760">
                    <a:solidFill>
                      <a:srgbClr val="dadad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7721640" cy="642960"/>
          </a:xfrm>
          <a:prstGeom prst="rect">
            <a:avLst/>
          </a:prstGeom>
          <a:solidFill>
            <a:srgbClr val="500093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49f7"/>
                </a:solidFill>
                <a:latin typeface="Century Schoolbook"/>
              </a:rPr>
              <a:t>ADVERSE EFFECT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Oval 4"/>
          <p:cNvSpPr/>
          <p:nvPr/>
        </p:nvSpPr>
        <p:spPr>
          <a:xfrm>
            <a:off x="785880" y="4214880"/>
            <a:ext cx="2428920" cy="608040"/>
          </a:xfrm>
          <a:prstGeom prst="ellipse">
            <a:avLst/>
          </a:prstGeom>
          <a:solidFill>
            <a:srgbClr val="c0fef9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magnes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6215040" y="1143000"/>
            <a:ext cx="2571840" cy="78732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abo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kal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Oval 6"/>
          <p:cNvSpPr/>
          <p:nvPr/>
        </p:nvSpPr>
        <p:spPr>
          <a:xfrm>
            <a:off x="857160" y="2357280"/>
            <a:ext cx="2235240" cy="78768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Hypokal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"/>
          <p:cNvSpPr/>
          <p:nvPr/>
        </p:nvSpPr>
        <p:spPr>
          <a:xfrm>
            <a:off x="857160" y="128592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Oval 8"/>
          <p:cNvSpPr/>
          <p:nvPr/>
        </p:nvSpPr>
        <p:spPr>
          <a:xfrm>
            <a:off x="6143760" y="4427640"/>
            <a:ext cx="2538360" cy="716040"/>
          </a:xfrm>
          <a:prstGeom prst="ellipse">
            <a:avLst/>
          </a:prstGeom>
          <a:solidFill>
            <a:srgbClr val="c0fe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gly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9"/>
          <p:cNvSpPr/>
          <p:nvPr/>
        </p:nvSpPr>
        <p:spPr>
          <a:xfrm>
            <a:off x="6215040" y="3214800"/>
            <a:ext cx="2235240" cy="857160"/>
          </a:xfrm>
          <a:prstGeom prst="ellipse">
            <a:avLst/>
          </a:prstGeom>
          <a:solidFill>
            <a:srgbClr val="fafd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yperuric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1"/>
          <p:cNvSpPr/>
          <p:nvPr/>
        </p:nvSpPr>
        <p:spPr>
          <a:xfrm>
            <a:off x="857160" y="3357720"/>
            <a:ext cx="2235240" cy="57276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ocalca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7"/>
          <p:cNvSpPr/>
          <p:nvPr/>
        </p:nvSpPr>
        <p:spPr>
          <a:xfrm>
            <a:off x="3214800" y="5500800"/>
            <a:ext cx="2584440" cy="826920"/>
          </a:xfrm>
          <a:prstGeom prst="ellipse">
            <a:avLst/>
          </a:prstGeom>
          <a:solidFill>
            <a:srgbClr val="f9e181"/>
          </a:solidFill>
          <a:ln w="507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y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2"/>
          <p:cNvGraphicFramePr/>
          <p:nvPr/>
        </p:nvGraphicFramePr>
        <p:xfrm>
          <a:off x="685800" y="10666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Line 7"/>
          <p:cNvSpPr/>
          <p:nvPr/>
        </p:nvSpPr>
        <p:spPr>
          <a:xfrm>
            <a:off x="7338960" y="3740040"/>
            <a:ext cx="590760" cy="46080"/>
          </a:xfrm>
          <a:prstGeom prst="line">
            <a:avLst/>
          </a:prstGeom>
          <a:ln w="25560">
            <a:solidFill>
              <a:srgbClr val="00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8001000" y="3571920"/>
            <a:ext cx="67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5260320" y="304920"/>
            <a:ext cx="2809440" cy="155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ironolac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4175280" y="4329000"/>
            <a:ext cx="0" cy="160020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3"/>
          <p:cNvSpPr/>
          <p:nvPr/>
        </p:nvSpPr>
        <p:spPr>
          <a:xfrm>
            <a:off x="6994440" y="3262320"/>
            <a:ext cx="0" cy="762120"/>
          </a:xfrm>
          <a:prstGeom prst="line">
            <a:avLst/>
          </a:prstGeom>
          <a:ln w="12600">
            <a:solidFill>
              <a:srgbClr val="759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254880" y="228600"/>
            <a:ext cx="4708440" cy="1739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Potassium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sparing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69916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3" descr=""/>
          <p:cNvPicPr/>
          <p:nvPr/>
        </p:nvPicPr>
        <p:blipFill>
          <a:blip r:embed="rId3"/>
          <a:stretch/>
        </p:blipFill>
        <p:spPr>
          <a:xfrm>
            <a:off x="214200" y="4143240"/>
            <a:ext cx="22147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181160" y="533520"/>
            <a:ext cx="6849720" cy="76428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tassium-sparing diure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42920" y="4071960"/>
            <a:ext cx="4929120" cy="106920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ldosterone antagoni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ironolac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5248440" y="3936960"/>
            <a:ext cx="3538440" cy="2471040"/>
          </a:xfrm>
          <a:prstGeom prst="rect">
            <a:avLst/>
          </a:prstGeom>
          <a:solidFill>
            <a:srgbClr val="ceb5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channels inhibi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ilor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mte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7"/>
          <p:cNvSpPr/>
          <p:nvPr/>
        </p:nvSpPr>
        <p:spPr>
          <a:xfrm>
            <a:off x="655308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9"/>
          <p:cNvSpPr/>
          <p:nvPr/>
        </p:nvSpPr>
        <p:spPr>
          <a:xfrm>
            <a:off x="1828800" y="144792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066680" y="2133720"/>
            <a:ext cx="221940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5286240" y="2057400"/>
            <a:ext cx="2500560" cy="520560"/>
          </a:xfrm>
          <a:prstGeom prst="rect">
            <a:avLst/>
          </a:prstGeom>
          <a:solidFill>
            <a:srgbClr val="c8d6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nsre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 in collecting tubules and ducts by inhibiting Na re-absorption and K &amp; H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K-sparing effect) by either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hibition of Na influx through Na channels in the luminal membrane </a:t>
            </a: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(triamterene – amiloride).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مستطيل 3"/>
          <p:cNvSpPr/>
          <p:nvPr/>
        </p:nvSpPr>
        <p:spPr>
          <a:xfrm>
            <a:off x="214200" y="7308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763884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50560" y="1125000"/>
            <a:ext cx="849780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pironolactone: </a:t>
            </a: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by antagonizing cytoplasmic aldosterone receptor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مستطيل 3"/>
          <p:cNvSpPr/>
          <p:nvPr/>
        </p:nvSpPr>
        <p:spPr>
          <a:xfrm>
            <a:off x="142920" y="71280"/>
            <a:ext cx="54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OLLECTED TUBULES (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Drugs as: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hlorothiaz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drochlorothiazide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hlorthalidon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olazone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Indap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0096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ff0000"/>
                </a:solidFill>
                <a:latin typeface="Century Schoolbook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70920" y="1052280"/>
            <a:ext cx="892980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kal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4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acidosis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مستطيل 3"/>
          <p:cNvSpPr/>
          <p:nvPr/>
        </p:nvSpPr>
        <p:spPr>
          <a:xfrm>
            <a:off x="169920" y="1890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  <a:ea typeface="Arial"/>
              </a:rPr>
              <a:t>Pharmacodynamic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6"/>
          <p:cNvSpPr/>
          <p:nvPr/>
        </p:nvSpPr>
        <p:spPr>
          <a:xfrm flipV="1">
            <a:off x="826920" y="1195200"/>
            <a:ext cx="0" cy="57780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7"/>
          <p:cNvSpPr/>
          <p:nvPr/>
        </p:nvSpPr>
        <p:spPr>
          <a:xfrm>
            <a:off x="826920" y="2781360"/>
            <a:ext cx="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8"/>
          <p:cNvSpPr/>
          <p:nvPr/>
        </p:nvSpPr>
        <p:spPr>
          <a:xfrm>
            <a:off x="826920" y="1916280"/>
            <a:ext cx="0" cy="64764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7454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Therapeutic use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50920" y="836280"/>
            <a:ext cx="86421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Drug of choice for patients with   hepatic cirrhosi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Secondary hyperaldosteronism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(CHF, hepatic cirrhosis, nephrotic syndrome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Treatment of hypertension </a:t>
            </a:r>
            <a:r>
              <a:rPr b="1" lang="en-US" sz="3300" spc="-1" strike="noStrike">
                <a:solidFill>
                  <a:srgbClr val="0000ff"/>
                </a:solidFill>
                <a:latin typeface="Century Schoolbook"/>
              </a:rPr>
              <a:t>(combined with thiazide or loop diuretics to correct for hypokalemia).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678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Century Schoolbook"/>
              </a:rPr>
              <a:t>Adverse Effect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50560" y="1268280"/>
            <a:ext cx="856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Hyperkalaemia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ynaecomast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2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T upset and peptic ulcer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Century Schoolbook"/>
              </a:rPr>
              <a:t>Contraindications: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50920" y="1643040"/>
            <a:ext cx="86421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Hyperkalaemia: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as in chronic renal failure, K+ supplementation, </a:t>
            </a:r>
            <a:r>
              <a:rPr b="1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-blockers or ACE inhibitor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Century Schoolbook"/>
              </a:rPr>
              <a:t>liver disease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(dose adjustment is need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Therapeutic applications of diuretic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reatment of hypertens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used alone or in combination with beta-blockers at low-dose (fewer side effects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presence of renal failure, loop diuretic is use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Edema States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Thiazide diuretic is used in mild edema with normal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Century Schoolboo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used in cases with impaired renal func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78920" y="188640"/>
            <a:ext cx="849636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ongestive Heart failu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azides may be used in only mild cases with well-preserved renal functio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Loop diuretics are much preferred in severe cases especially when GF is lowere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In life-threatening acute pulmonary edema, furosemide is given IV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Renal failur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s are used till GFR ≥ 40-50 ml/mi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oop diuretic are used below given values, with increasing the dose with as GFR goes down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Diabetes inspidus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arge volume(&gt;10 L/day) of dilute urin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thiazide diuretics reduces urine volum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Century Schoolbook"/>
              </a:rPr>
              <a:t>Hepatic cirrhosis with asci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pironolactone is of choice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142920" y="142920"/>
          <a:ext cx="8858160" cy="6624720"/>
        </p:xfrm>
        <a:graphic>
          <a:graphicData uri="http://schemas.openxmlformats.org/drawingml/2006/table">
            <a:tbl>
              <a:tblPr/>
              <a:tblGrid>
                <a:gridCol w="2660760"/>
                <a:gridCol w="2803320"/>
                <a:gridCol w="33940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echanism of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hibition of NaHCO3 reabsorption 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 HCO3,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effect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P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e ex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ttle 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TAL the most eff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Ca, 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616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transporter in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, K, M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U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urinary Ca (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hypercalcemi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653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mpetitive antagonist of aldosterone </a:t>
                      </a: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in C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rinary 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,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abolic aci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"/>
          <p:cNvGraphicFramePr/>
          <p:nvPr/>
        </p:nvGraphicFramePr>
        <p:xfrm>
          <a:off x="179280" y="189000"/>
          <a:ext cx="8666280" cy="6561000"/>
        </p:xfrm>
        <a:graphic>
          <a:graphicData uri="http://schemas.openxmlformats.org/drawingml/2006/table">
            <a:tbl>
              <a:tblPr/>
              <a:tblGrid>
                <a:gridCol w="3184560"/>
                <a:gridCol w="5481720"/>
              </a:tblGrid>
              <a:tr h="5554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Uses</a:t>
                      </a: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Dorzolamide</a:t>
                      </a: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Century Schoolbook"/>
                          <a:ea typeface="Arial"/>
                        </a:rPr>
                        <a:t>  (topically) for glauc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laucoma, epilep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untain s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hosphat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erebral edema, 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renal failure, drug toxic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6146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ute pulmonary edema </a:t>
                      </a: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art 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kalemia, 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ommonly 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tension, mild heart failure, nephrolithiasis, diabetes inspi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Spironolactone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entury Schoolbook"/>
                          <a:ea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epatic cirrh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entury Schoolbook"/>
                        </a:rPr>
                        <a:t>(Drug of choic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"/>
          <p:cNvGraphicFramePr/>
          <p:nvPr/>
        </p:nvGraphicFramePr>
        <p:xfrm>
          <a:off x="214200" y="142920"/>
          <a:ext cx="8715600" cy="6643800"/>
        </p:xfrm>
        <a:graphic>
          <a:graphicData uri="http://schemas.openxmlformats.org/drawingml/2006/table">
            <a:tbl>
              <a:tblPr/>
              <a:tblGrid>
                <a:gridCol w="2573280"/>
                <a:gridCol w="6142320"/>
              </a:tblGrid>
              <a:tr h="563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Century Schoolbook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 inhibi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etohexa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rzolamide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etabolic acidosis , Urinary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motic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nnit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Extracellular water expa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Dehyd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natr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urosem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volemia, hyponatr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cipitate gout,  alkal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drochlorothiazi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okalemia, hyponatremia, hypovolemia, hypomagnesemia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cal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kalosis, precipitate g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Hyperlipidemia, hyperglyce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  <a:tr h="15404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pironolacton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ynaecomast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Hyperkalaem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, Metabolic acidos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Times New Roman"/>
                        </a:rPr>
                        <a:t>GIT upset and peptic ulc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21280" cy="571320"/>
          </a:xfrm>
          <a:prstGeom prst="rect">
            <a:avLst/>
          </a:prstGeom>
          <a:solidFill>
            <a:srgbClr val="081d58"/>
          </a:solidFill>
          <a:ln w="50760">
            <a:solidFill>
              <a:srgbClr val="ef91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f9100"/>
                </a:solidFill>
                <a:latin typeface="Century Schoolbook"/>
              </a:rPr>
              <a:t>THIAZIDE DIURETIC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Oval 4"/>
          <p:cNvSpPr/>
          <p:nvPr/>
        </p:nvSpPr>
        <p:spPr>
          <a:xfrm>
            <a:off x="5429160" y="1285920"/>
            <a:ext cx="3286080" cy="1219320"/>
          </a:xfrm>
          <a:prstGeom prst="ellipse">
            <a:avLst/>
          </a:prstGeom>
          <a:solidFill>
            <a:srgbClr val="c0fef9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lorthali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cy 10, t½ 2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Oval 5"/>
          <p:cNvSpPr/>
          <p:nvPr/>
        </p:nvSpPr>
        <p:spPr>
          <a:xfrm>
            <a:off x="2857680" y="2786040"/>
            <a:ext cx="3500280" cy="1143000"/>
          </a:xfrm>
          <a:prstGeom prst="ellipse">
            <a:avLst/>
          </a:prstGeom>
          <a:solidFill>
            <a:srgbClr val="fafd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Metolaz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5, t½ 5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6"/>
          <p:cNvSpPr/>
          <p:nvPr/>
        </p:nvSpPr>
        <p:spPr>
          <a:xfrm>
            <a:off x="285840" y="1428840"/>
            <a:ext cx="2921040" cy="1371600"/>
          </a:xfrm>
          <a:prstGeom prst="ellipse">
            <a:avLst/>
          </a:prstGeom>
          <a:solidFill>
            <a:srgbClr val="ef9100"/>
          </a:solidFill>
          <a:ln w="50760">
            <a:solidFill>
              <a:srgbClr val="50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0093"/>
                </a:solidFill>
                <a:latin typeface="Times New Roman"/>
              </a:rPr>
              <a:t>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0093"/>
                </a:solidFill>
                <a:latin typeface="Times New Roman"/>
              </a:rPr>
              <a:t>Potency 0.1, t½ 2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7"/>
          <p:cNvSpPr/>
          <p:nvPr/>
        </p:nvSpPr>
        <p:spPr>
          <a:xfrm>
            <a:off x="0" y="3929040"/>
            <a:ext cx="3962520" cy="1143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Hydrochlorothiaz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1 , t½  3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5"/>
          <p:cNvSpPr/>
          <p:nvPr/>
        </p:nvSpPr>
        <p:spPr>
          <a:xfrm>
            <a:off x="5072040" y="4429080"/>
            <a:ext cx="3571920" cy="1143000"/>
          </a:xfrm>
          <a:prstGeom prst="ellipse">
            <a:avLst/>
          </a:prstGeom>
          <a:solidFill>
            <a:srgbClr val="eb6e5a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Indapam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Potency 20, t½ 16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79280" y="1052280"/>
            <a:ext cx="8856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cts via  inhibition of Na/Cl            co-transporter on the luminal membrane of distal convoluted tubules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Efficac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oderate natriuresis (5-10% of filtered  load of sodium is reabsorbed)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23"/>
          <p:cNvPicPr/>
          <p:nvPr/>
        </p:nvPicPr>
        <p:blipFill>
          <a:blip r:embed="rId1"/>
          <a:srcRect l="2874" t="9310" r="0" b="12414"/>
          <a:stretch/>
        </p:blipFill>
        <p:spPr>
          <a:xfrm>
            <a:off x="36360" y="27000"/>
            <a:ext cx="9072720" cy="678672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5"/>
          <p:cNvSpPr/>
          <p:nvPr/>
        </p:nvSpPr>
        <p:spPr>
          <a:xfrm>
            <a:off x="34920" y="77760"/>
            <a:ext cx="4897440" cy="6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Distal convoluted tubul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of thiazide diuretic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581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78920" y="260280"/>
            <a:ext cx="871380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Pharmacokinetics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Given orally, slow of onset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ng duration of action (40 h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are secreted by active tubular secretory system of the kidney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may interfere with uric acid secretion and cause </a:t>
            </a:r>
            <a:r>
              <a:rPr b="1" i="1" lang="en-US" sz="3400" spc="-1" strike="noStrike">
                <a:solidFill>
                  <a:srgbClr val="ff0000"/>
                </a:solidFill>
                <a:latin typeface="Century Schoolbook"/>
              </a:rPr>
              <a:t>hyperuri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1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4674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Pharmacological effects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836640"/>
            <a:ext cx="9036000" cy="53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NaCl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K excre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(Hypokalemia)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urinary magnesium excretion 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Century Schoolbook"/>
              </a:rPr>
              <a:t>urinary calcium excretion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lcium re-absorption </a:t>
            </a: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hypercalcemia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Line 6"/>
          <p:cNvSpPr/>
          <p:nvPr/>
        </p:nvSpPr>
        <p:spPr>
          <a:xfrm flipV="1">
            <a:off x="285840" y="8366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7"/>
          <p:cNvSpPr/>
          <p:nvPr/>
        </p:nvSpPr>
        <p:spPr>
          <a:xfrm flipV="1">
            <a:off x="285840" y="15573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"/>
          <p:cNvSpPr/>
          <p:nvPr/>
        </p:nvSpPr>
        <p:spPr>
          <a:xfrm flipV="1">
            <a:off x="285840" y="242424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285840" y="4138560"/>
            <a:ext cx="0" cy="504720"/>
          </a:xfrm>
          <a:prstGeom prst="line">
            <a:avLst/>
          </a:prstGeom>
          <a:ln w="69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3"/>
          <p:cNvSpPr/>
          <p:nvPr/>
        </p:nvSpPr>
        <p:spPr>
          <a:xfrm>
            <a:off x="285840" y="3281400"/>
            <a:ext cx="0" cy="5047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Thiazide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>
            <a:alphaModFix amt="39000"/>
          </a:blip>
          <a:stretch/>
        </p:blipFill>
        <p:spPr>
          <a:xfrm>
            <a:off x="324000" y="765000"/>
            <a:ext cx="8351640" cy="5832720"/>
          </a:xfrm>
          <a:prstGeom prst="rect">
            <a:avLst/>
          </a:prstGeom>
          <a:ln w="9360">
            <a:solidFill>
              <a:srgbClr val="fe8637">
                <a:alpha val="59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26T05:26:14Z</dcterms:modified>
  <cp:revision>234</cp:revision>
  <dc:subject/>
  <dc:title>DIURETICS</dc:title>
</cp:coreProperties>
</file>