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231-7BE3-4DC7-8316-54921688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149-9232-4339-B663-0C9C70B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F3B-3AB7-4AD1-8E86-C81051F5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40D-9658-4BD2-B193-15BFD82D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29C3-9266-42EA-9CDC-E931E888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5859-3D78-4987-8CD0-9A65333C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D8DC-0950-4DE0-8265-78B64318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764D-6519-4D0A-B732-34C8163D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C6AC-EA84-4E7D-8A3C-D3835992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7213-A8CB-444F-94AD-58A1AC43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C954-AF0F-4FDE-8BB6-3725523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0C6-160B-4B56-AD7A-04971338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881B-9EA9-4A15-9286-63A3468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C20A-BDB3-45BD-88A3-5A0CAB5C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F55A-8E67-4F61-AD86-DF5FC707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1BA5-978E-42D7-8014-6728BCA9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E8F3-738A-4145-90F8-A2976713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B44B6-3B68-4027-822F-55E39B64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91BDD-B90D-43EA-ABB6-B18051D0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9A2A7-E684-4F8F-96BA-F2238507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16408-1FCF-4AC1-B76B-AD5B3D8D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F4DE5-31E0-48E5-AF4A-AE7F2762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D17-6B13-4A8F-AB12-B248980B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7E84B-721E-40BD-9405-0F757CC2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9DA46-B32F-4908-BFB4-BE8D9435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79E64-08FA-40F2-A872-886C34D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210C8-A2FC-4CA2-A601-800DCD55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D1159-8311-4744-B267-6B14D7E1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CE40A-9201-4164-B49A-6C7F76AD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39019-2F1C-4ABD-9F5F-A674E6D6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62E08-AA1D-4397-9753-DAA8119A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1909-803B-420B-80A8-C4ABB69F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BBF8-6DAF-4083-B018-9DA61679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C3C-9E4C-4471-A7F3-079AB88E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338E4-91DB-40DF-96DC-8C434AB6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7027-FC62-4147-8FF9-0EDFE101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1CD8D-D2ED-4DFD-927D-C9038DCA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C24B-9B4E-47E7-A548-3B6F4CB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5F256-D752-40E8-8939-CA36949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D14FE-D5B3-44E5-A9A8-7F239640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EB61-0F84-469A-916F-1A654736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9103-6B85-4835-B22C-303B6108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7A6F-2326-4780-8680-A32C91C3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03DEB-FAF7-4D60-86B4-B4BE943D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C41-5074-46D4-AD00-0AC12275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E1616-FBC1-43FC-8DBB-D22BE057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50175-111C-4A03-8EB5-8BDB6EE1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CA17C-ADDC-4EDC-9C57-CB6C493B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15C78-E126-421B-82D7-FDFEA10F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92AFA-7437-469B-AD74-03331B0B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07428-EE59-48B5-8D9F-975735F7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783F8-77CE-47A8-B63A-D5D6E29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33E23-7F46-4892-8FFE-CE7D559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337AA-F3CE-44CC-8B94-9BC9FD7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ED0B2-FC7E-4FE4-9CA4-5EC452B9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6C5-BD3B-4B03-8A9F-33FDF4AA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962D3-090F-49E3-94A5-0A5E3252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BD44F-E5EC-4A43-9CBD-97E53210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54D0D-8FBC-48A0-B4C3-898E39F2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575F2-0B43-488E-AA20-55EA5EC2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42923-0993-413F-ACA1-0C4ACF58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0D34D-6C17-4D78-B628-E3D2B58E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06BC2-7419-4985-891B-DBC30766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DA3CC-710E-4C00-BA6B-743ABE89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B12B5-E03C-44FF-83C2-233AAD76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032D8-C3F0-452B-B6C7-A1F14DB3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48B-546F-4767-B9CF-B90BB156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530D4-626E-414D-879A-96C1C12B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99D28-7F33-48A7-B86C-CE25C780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9FB77-21F1-4671-AB29-612ACC73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D3652-8147-4972-9EC3-62EB7418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023A5-3EC3-45D6-BB80-11AAC324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12425-EE53-4B1A-880E-3034782B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A66DA-9944-4204-9D66-F53E6D62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EF25D-31B7-4FD2-85DC-697D5B1A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81425-0F69-44FD-9345-9086A124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09FB0-D640-4031-8414-A11E00C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B36-741D-4423-B6E2-F88CEAF1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AA6B6-B1B7-4DFD-AC86-77FA39BD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2CC42-0469-4F23-9808-BD9CBEAD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29D9E-FB83-48F1-82CD-164B0BB5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6153C-3054-40F3-8DB1-38F022F5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21D46-733A-4684-9E32-25052D48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793-67A8-4AA4-AD23-70D3FEED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FB81-2986-4CF6-9FF3-875DC8DCA80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5F4C-6389-43A4-83C8-D044EE9209B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7758-377A-4409-8482-2B3E257AC0B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5729-2C12-4AB9-B807-3E3A9A6E4F6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A240-B116-476E-9E25-2AF38AC2B5A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58E2-7784-4C2F-80E5-6EDFB3F9DA1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6CF9-2B69-415C-AE7C-B0D600DFC4B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Dr.abdul latif mahes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7" descr="1101"/>
          <p:cNvPicPr/>
          <p:nvPr/>
        </p:nvPicPr>
        <p:blipFill>
          <a:blip r:embed="rId1"/>
          <a:stretch/>
        </p:blipFill>
        <p:spPr>
          <a:xfrm>
            <a:off x="5676840" y="2214720"/>
            <a:ext cx="33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760" y="188640"/>
            <a:ext cx="4619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kin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8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r I. 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fast onset of action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suitable for emergency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short duration of a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tubular secretion of weak acids into urin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nterfere with uric acid secretion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(hyperuricemia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3217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892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of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684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6337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50920" y="260280"/>
            <a:ext cx="84643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are drug of choice for emergency situation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ema associated with congestive heart failure, nephrotic syndrom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ulmonary edema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hyperkalaemia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ypercalcem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6215040" y="2143080"/>
            <a:ext cx="2235240" cy="787320"/>
          </a:xfrm>
          <a:prstGeom prst="ellipse">
            <a:avLst/>
          </a:prstGeom>
          <a:solidFill>
            <a:srgbClr val="ef9100"/>
          </a:solidFill>
          <a:ln w="22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Oto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79280" y="836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volem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natraemia (↓ blood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kalemia (↓ bloo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magnesaemia (↓ blood M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calcaemia (↓ blood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Schoolbook"/>
              </a:rPr>
              <a:t>Dietary K supplementation or K-sparing diuretics should be used to avoid hypokalemia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eruricemia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(increase blood uric acid and gouty attack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otoxicity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(risk increased if combined with aminoglycoside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llergic reac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0920" y="16002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3"/>
          <p:cNvGraphicFramePr/>
          <p:nvPr/>
        </p:nvGraphicFramePr>
        <p:xfrm>
          <a:off x="609480" y="2057400"/>
          <a:ext cx="648180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48180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"/>
          <p:cNvSpPr/>
          <p:nvPr/>
        </p:nvSpPr>
        <p:spPr>
          <a:xfrm>
            <a:off x="2569320" y="623880"/>
            <a:ext cx="40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oop Diure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7" descr="file"/>
          <p:cNvPicPr/>
          <p:nvPr/>
        </p:nvPicPr>
        <p:blipFill>
          <a:blip r:embed="rId3"/>
          <a:stretch/>
        </p:blipFill>
        <p:spPr>
          <a:xfrm>
            <a:off x="7315200" y="4800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4"/>
          <a:stretch/>
        </p:blipFill>
        <p:spPr>
          <a:xfrm>
            <a:off x="6400800" y="1400040"/>
            <a:ext cx="2590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High Ceiling diuretics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78920" y="1528920"/>
            <a:ext cx="87138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most potent diuretic , termed </a:t>
            </a:r>
            <a:r>
              <a:rPr b="1" lang="en-US" sz="3200" spc="-1" strike="noStrike">
                <a:solidFill>
                  <a:srgbClr val="800000"/>
                </a:solidFill>
                <a:latin typeface="Century Schoolbook"/>
              </a:rPr>
              <a:t>“high ceiling diuretic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Efficac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High natriuresis as 25-30%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is reabsorb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rug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Furosemide - Torsemide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Bumetanide - Ethcrynic  acid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1360" y="214200"/>
            <a:ext cx="7721280" cy="164304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Loop Diuretics</a:t>
            </a: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High Ceiling Diuretics</a:t>
            </a:r>
            <a:br>
              <a:rPr sz="25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5214960" y="2214720"/>
            <a:ext cx="3252600" cy="142848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thacry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tency 0.7, t½ 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4857840" y="4214880"/>
            <a:ext cx="3357360" cy="1407960"/>
          </a:xfrm>
          <a:prstGeom prst="ellipse">
            <a:avLst/>
          </a:prstGeom>
          <a:gradFill rotWithShape="0">
            <a:gsLst>
              <a:gs pos="0">
                <a:srgbClr val="ffae87"/>
              </a:gs>
              <a:gs pos="100000">
                <a:srgbClr val="ffe5dc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r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3, t½  3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57160" y="2286000"/>
            <a:ext cx="3143520" cy="12142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0093"/>
                </a:solidFill>
                <a:latin typeface="Times New Roman"/>
              </a:rPr>
              <a:t>Bumetan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</a:rPr>
              <a:t>Potency40 ,t½ 0.8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714240" y="4286160"/>
            <a:ext cx="2928960" cy="1143000"/>
          </a:xfrm>
          <a:prstGeom prst="ellipse">
            <a:avLst/>
          </a:prstGeom>
          <a:solidFill>
            <a:srgbClr val="ffc000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o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1, t½  1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echanism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K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2 Cl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-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co-transporter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 the luminal membrane of the thick ascending loop of Henle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TAL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C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re-absorp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lso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14200" y="188640"/>
            <a:ext cx="8715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scending loop of Henl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impermeable to wa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entury Schoolbook"/>
              </a:rPr>
              <a:t>In thick ascending loop of Henle (TAL)</a:t>
            </a: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responsible for active re-absorption of Na, K and Cl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25-30%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is reabsorbed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ia transport system in luminal membrane called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/ K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/ 2C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co-transport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 and Mg are reabsorbed and enter the interstitial fluid via paracellular pathwa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AHD0404-10-001"/>
          <p:cNvPicPr/>
          <p:nvPr/>
        </p:nvPicPr>
        <p:blipFill>
          <a:blip r:embed="rId1"/>
          <a:srcRect l="10601" t="7630" r="14534" b="4265"/>
          <a:stretch/>
        </p:blipFill>
        <p:spPr>
          <a:xfrm>
            <a:off x="857160" y="206280"/>
            <a:ext cx="7429680" cy="6485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"/>
          <p:cNvSpPr/>
          <p:nvPr/>
        </p:nvSpPr>
        <p:spPr>
          <a:xfrm>
            <a:off x="2556000" y="44280"/>
            <a:ext cx="561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cending loop of Hen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26T05:29:42Z</dcterms:modified>
  <cp:revision>259</cp:revision>
  <dc:subject/>
  <dc:title>DIURETICS</dc:title>
</cp:coreProperties>
</file>