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081-289D-4EBF-A826-2C75A2A2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302-F695-4E4F-94B8-433365DA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EFC-2050-437A-9793-3079CDED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24C-800B-4E3A-B89A-9682CC56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565-67D1-4231-94D4-5C49EFF6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D175-79E6-4146-AFC9-0E3715E7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AEA7-55A4-4F82-A018-075BACC1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7776-79AC-482B-B85F-396D5FD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8005-29F2-4F89-929B-1CEA52CF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9096-9D27-4ED6-8436-B710D32D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1A0B-DC99-4369-9B2E-B7862C6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CE0-BBB3-4C6B-9C32-1990C626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CCFB-B319-4C80-9D2F-DBE7B87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0A22-B33C-43A6-9959-82F63625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F7F3-A05A-4238-BDFF-78A0F70C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E849-E150-4B8D-ADD4-8AC4EE10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E01B-DF42-4DB0-A883-C6C1C452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15183-AA14-42C2-9D48-21302081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F883E-1E53-4D91-8F2C-4F2B617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3B416-ED01-4AD5-8D24-F98E0F5D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76F76-2F52-4E33-8543-BAF102E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DA702-20A1-4324-8B64-D700F5D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E62-6207-4622-B779-5BC1EF3A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E768E-A6F1-4038-BD93-631FA588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002C2-F0B0-4125-8D21-782E30F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A5F0C-D8A7-48F3-B086-7BEE41E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FDA27-ADED-4F5C-B4CB-6BC76E0E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C7F51-35ED-4DBF-920B-A37329E4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8F306-D002-4F61-955D-16E932BA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63582-ABE4-42F5-B06C-88B4D879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444C-2BEF-4E17-B3D8-56B23431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2496-B251-40E9-9D13-1E637AA8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78D9-3A1C-44DC-896C-0D242687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D41-057A-44EC-BE4F-A2E2AE2F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5412-ED5B-49D6-89BD-C19E3C75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64EF-C821-446F-B344-DDA390B7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1F12-7A55-4B0E-AE05-BE6664B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9604-363C-41F6-9DB4-0407A9C7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F5A46-1DBB-4846-B89E-3638275E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C3F0-3BDA-4C8A-8F75-0EB588D1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8D6A-9F00-42D4-B770-8631FA7C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2A9B-D60E-4CB9-91DB-48072974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E327-B59C-4FA3-A8DB-EB4C2369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6E65A-C1B7-47A0-BFE9-34A960B5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C7E-B37C-4932-B561-4F77D8F5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5E91D-5A17-495A-B08A-EE4D3126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38CAE-1740-4EA7-BDA1-DDF46747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16588-5B34-4484-920E-626EEC3C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A5B63-A2CE-4C15-A9D7-F003E8BE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B5639-8F4F-4CEC-AEF7-EE141616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0FD5B-C342-4B44-AF58-E063574E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7503E-7DA8-4709-B709-5AFF7EA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6B41F-51C8-4581-92C4-B890BB2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D64AC-37F7-469C-B3BB-CBE7761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D60C2-B002-42F5-85D9-D6DAAACE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E31-F1E0-4BEA-820D-2AAD7262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9E78F6-1716-44AE-9F50-A88C0311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74FE1-94A9-4C82-BCA7-5744AADE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3D76E-D229-4155-A220-9DC306B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DDE89-2558-48ED-ACFC-F94FA3C2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5013F-6ED8-4384-89E3-5902F9BD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0882B-D18D-4ECF-A59B-44EA5AD5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FCB11F-28B4-4357-8791-28DE66FB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92A60-CE41-4153-B357-A0BEE81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AD77F-3DFD-4665-BD52-FF3020E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601D3-2616-4E28-89C0-609189F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C62-428C-4D24-9EA7-81013DBF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7710D-D5CA-423B-B100-CB60DDE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CE5892-B69D-494E-8FF6-799FB984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BDCB6-DC5F-4249-8A0A-AB1F274E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7DC72-8D5A-47DD-9BE4-73301B88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EEE92-974F-4AC1-9479-F0530E94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33FC0-326C-45F0-A462-0D8F6744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E6CD9-5381-4489-B0BC-FD6C712D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B16F1-8888-4BD5-BFBB-88D4D3F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18CF3-AB9E-4614-AC4C-1C6502C3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36749-2732-41E3-B5A0-7FB83C99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F7D-0FAC-4B64-BE97-2679A11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ABCCD0-1C35-4F90-ADF2-ABAD430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B5562-E192-4CF1-9B28-D2E4208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039AD-CB88-4EC2-B0BD-B2ECD44C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0B978-7F9B-4599-884C-C83E629C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5B484-60F9-4DD6-98C5-E29DF23C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332-C70A-4A11-8BE9-8ED9937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4FE2-1616-4EA5-9503-5551861AD21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D4AD-15A7-4B53-AC85-C3BC01C5D3A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9146-FF1F-45D9-BC74-31E5D698EB0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DED2-0012-452C-8580-06C3DC3D481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0C9E-9611-408B-9D60-896BBF5F636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FCC4-8087-4A75-872F-BD0C0822B7A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1099-9789-4DF4-B435-19861153582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Dr.abdul 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5676840" y="2214720"/>
            <a:ext cx="33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760" y="188640"/>
            <a:ext cx="4619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kin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8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r I. 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fast onset of action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suitable for emergency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short duration of a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tubular secretion of weak acids into uri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nterfere with uric acid secretion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(hyperuricemia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21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892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of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50920" y="260280"/>
            <a:ext cx="84643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re drug of choice for emergency situation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 associated with congestive heart failure, nephrotic syndrom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ulmonary edema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hyperkalaemi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ypercalcem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6215040" y="2143080"/>
            <a:ext cx="2235240" cy="787320"/>
          </a:xfrm>
          <a:prstGeom prst="ellipse">
            <a:avLst/>
          </a:prstGeom>
          <a:solidFill>
            <a:srgbClr val="ef9100"/>
          </a:solidFill>
          <a:ln w="22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O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9280" y="836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volem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natraemia (↓ blood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kalemia (↓ bloo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magnesaemia (↓ blood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calcaemia (↓ blood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Schoolbook"/>
              </a:rPr>
              <a:t>Dietary K supplementation or K-sparing diuretics should be used to avoid hypokalemi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eruricemia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increase blood uric acid and gouty attack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otoxicity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risk increased if combined with aminoglycoside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llergic reac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920" y="16002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3"/>
          <p:cNvGraphicFramePr/>
          <p:nvPr/>
        </p:nvGraphicFramePr>
        <p:xfrm>
          <a:off x="609480" y="2057400"/>
          <a:ext cx="648180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4818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2569320" y="62388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oop Diure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7" descr="file"/>
          <p:cNvPicPr/>
          <p:nvPr/>
        </p:nvPicPr>
        <p:blipFill>
          <a:blip r:embed="rId3"/>
          <a:stretch/>
        </p:blipFill>
        <p:spPr>
          <a:xfrm>
            <a:off x="73152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4"/>
          <a:stretch/>
        </p:blipFill>
        <p:spPr>
          <a:xfrm>
            <a:off x="6400800" y="140004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High Ceiling diuretics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78920" y="1528920"/>
            <a:ext cx="87138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ost potent diuretic , termed </a:t>
            </a:r>
            <a:r>
              <a:rPr b="1" lang="en-US" sz="3200" spc="-1" strike="noStrike">
                <a:solidFill>
                  <a:srgbClr val="800000"/>
                </a:solidFill>
                <a:latin typeface="Century Schoolbook"/>
              </a:rPr>
              <a:t>“high ceiling diuretic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Efficac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High natriuresis as 25-30%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rug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Furosemide - Torsemide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Bumetanide - Ethcrynic  acid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1360" y="214200"/>
            <a:ext cx="7721280" cy="164304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Loop Diuretics</a:t>
            </a: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High Ceiling Diuretics</a:t>
            </a:r>
            <a:br>
              <a:rPr sz="25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5214960" y="2214720"/>
            <a:ext cx="3252600" cy="142848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thacry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tency 0.7, t½ 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4857840" y="4214880"/>
            <a:ext cx="3357360" cy="1407960"/>
          </a:xfrm>
          <a:prstGeom prst="ellipse">
            <a:avLst/>
          </a:prstGeom>
          <a:gradFill rotWithShape="0">
            <a:gsLst>
              <a:gs pos="0">
                <a:srgbClr val="ffae87"/>
              </a:gs>
              <a:gs pos="100000">
                <a:srgbClr val="ffe5dc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3, t½  3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57160" y="2286000"/>
            <a:ext cx="3143520" cy="12142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0093"/>
                </a:solidFill>
                <a:latin typeface="Times New Roman"/>
              </a:rPr>
              <a:t>Bumetan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Potency40 ,t½ 0.8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714240" y="4286160"/>
            <a:ext cx="2928960" cy="1143000"/>
          </a:xfrm>
          <a:prstGeom prst="ellipse">
            <a:avLst/>
          </a:prstGeom>
          <a:solidFill>
            <a:srgbClr val="ffc000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o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1, t½  1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echanism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K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2 Cl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-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 the luminal membrane of the thick ascending loop of Henle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TAL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C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re-absorp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lso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14200" y="188640"/>
            <a:ext cx="8715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scending loop of Henl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impermeable to wa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In thick ascending loop of Henle (TAL)</a:t>
            </a: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responsible for active re-absorption of Na, K and Cl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25-30%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is reabsorbed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ia transport system in luminal membrane called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/ 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/ 2C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co-transport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 and Mg are reabsorbed and enter the interstitial fluid via paracellular pathwa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AHD0404-10-001"/>
          <p:cNvPicPr/>
          <p:nvPr/>
        </p:nvPicPr>
        <p:blipFill>
          <a:blip r:embed="rId1"/>
          <a:srcRect l="10601" t="7630" r="14534" b="4265"/>
          <a:stretch/>
        </p:blipFill>
        <p:spPr>
          <a:xfrm>
            <a:off x="857160" y="206280"/>
            <a:ext cx="7429680" cy="6485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"/>
          <p:cNvSpPr/>
          <p:nvPr/>
        </p:nvSpPr>
        <p:spPr>
          <a:xfrm>
            <a:off x="2556000" y="44280"/>
            <a:ext cx="561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cending loop of Hen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6T05:29:42Z</dcterms:modified>
  <cp:revision>259</cp:revision>
  <dc:subject/>
  <dc:title>DIURETICS</dc:title>
</cp:coreProperties>
</file>