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D575-AAC0-48E1-8672-22C301C17B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D388-6C78-4490-8290-A8D99FD715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F4F4-62F0-4486-A0E5-D205AE0FB0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6F97-1D91-452D-8ED8-65713DF1A6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C94A-05EF-4F4E-B42B-B04308C1A1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F10-746C-4521-914D-5020066E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EC0-D4BF-45E5-B678-4FCD6DE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723-3038-4B54-9E23-3E69685C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B7E-DD00-49D1-A329-71E3EB94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635-876C-42AF-8094-6A95FD10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48E4-F2ED-43A2-AB4E-FAE882D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0C7-4B2C-4F6F-9CEB-B4568F3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013-9730-4308-8DCE-D45B72F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122-8005-4AE4-BEFB-00E7C05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9328-F676-47A7-80DE-D8769172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269-DE2B-4B42-A02C-8EDE1EC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6A-82BF-4B62-A258-0B3180F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9DF9-C0B5-4778-9BAD-5BF27DE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E9CE-83E6-4BBF-9DFC-29FAA1D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FC4-CA03-490C-AF7A-EE5EE3D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F33D-55E1-4F1A-B5AD-753B74B4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1EFE-6FD3-4013-8543-729C4292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12E8-EB3F-4A8F-AA6D-DB4B0F6D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5BAC-CBF2-42F1-9CAC-E3F20CE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7599-8F86-433E-AC9A-9316472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F605-447D-4601-81BB-B2CD0E9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6473-55E2-4FAC-929A-BE9F6F1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D9F-5DB8-410F-ABDD-E30F1B47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2A19-8ED3-4445-970D-659BD403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C75C-FEA1-4DDE-88F9-14D1983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8776-4A14-4037-A960-2512AC31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F3C6-FBD8-4678-9CF6-7A9B783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4C9E-8644-4B6F-B01F-5576C33A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E153-ED5B-40AC-BA0B-C1C89AC1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EDC0-969D-408F-87C4-50DCBB46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C187-7838-41B4-9C1E-D0F787A0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6EEF-E942-43FC-8591-5FF3ADC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7C39-9077-47F4-9336-35B924A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928-9FA3-43EC-A242-3B1F3C3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7D35-D2CF-4A32-B369-51E4120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CD76-0FBD-45AD-9555-7616125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6708-CF89-4025-9751-52971E7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8FB0-8BA8-4A5C-B78C-94D5B83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70EB-0492-4FE4-B79E-6F1D19E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C544-B773-4AC3-8A30-4EB7637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AC7E-3A55-4FF9-9BA0-B259D1F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8EAE-D60A-41B5-8097-6B0B489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F444-FF22-4855-BBA3-8058A26B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2A0B-6749-4B4A-8C8C-FEA36D61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34B-C421-4A6C-9C10-84BC5D51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7655-E88F-420D-A17F-CCB84B8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8341-942C-4363-BC44-848E5ED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3E81-6AF0-4BA9-AC3C-C8C52DE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BD5D-DFDD-4600-B9E8-EA07554B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D49B-036E-49D1-82D8-B1D7F88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A5AD-CBA9-445D-A727-D70980B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2E00-E17B-49C7-AB5A-BDE8392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09C2-3ABA-4B8A-8486-D5F7F14A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E3C4-AA25-4DA6-9094-5E48D0D2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CC96-A81D-4A51-8E17-1F3DC79B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63E-500B-44EC-B622-4CC89EFD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0D51-D4EA-493F-A5FB-95D3E853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B6EE-CE7A-4155-B1B1-FE51B53E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1FAD-179B-4B27-8998-8B7AA860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32086-0D87-40BD-9F94-25826DC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8D15-67EA-4657-AFC7-98AC4F9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D24A-8454-466B-81E0-CF684B7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2AEC-5FF0-417E-8109-F667B36C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1B86-693B-4833-8B27-25D951D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431F-99FC-4D03-A156-33A27103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6634-2A6D-481D-AC24-4A3BC0E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E2B-3CFE-44E7-A0EC-503A2B4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31A0-E7A9-4CE8-B99A-6E10F82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5F97-3390-44C3-A1D7-C4D12C9A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80A26-D631-4482-B2F2-B9C42BD1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8CB6-0FC6-4B22-8006-9D40A473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FB9F-B728-4FDB-9540-E539ADD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353F-7CA6-4172-9ABB-4663FB7F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597C-20E7-4A45-8C2C-B30FB1A1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096C-36D2-46A7-B272-450E799E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B242-92C8-40C5-87B3-5D1BC62C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7E307-A8EC-4BCF-881A-C81498B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B54-DB3A-4E15-A7CF-13209B8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5ADB-C143-4596-A8FE-05D20EF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99BB-7F91-419B-938B-4A1E2EF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072A-FB01-498B-962E-AEC3F32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9EBA-DE2F-41DF-BBAF-FE5E25E7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031A-C501-42D2-9A4A-C255EC1E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947-0099-4765-AA04-CE877C2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B02-47BB-4B7A-8FD1-10ADC688D82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7606-8524-4702-8542-53ACDE601D8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AB4-8A25-4CF3-876B-2DFA22F8B8CC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981-007B-45D9-9CD8-B43A83A837F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4BB-C711-4C9F-AD63-941CB32E9F1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F3D-5972-452C-BEF8-96468E1BAFB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B1D-9468-4EB7-9435-427426AAFB0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AC49-49F6-4D81-97EA-EE5D5B8C2AE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50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E03-8A8A-45CC-A464-C37FAEB252F0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 titrat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E022-FB25-4A5A-B976-46CEEA40B6C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400-95E9-4512-B72F-E5900A65780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602-9CAB-4B2B-B133-4507ECB22B2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-747360" y="2867040"/>
            <a:ext cx="6583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FEC9-EC47-4CA8-9DDA-94BD2B8DF10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504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ECE-2AA3-4B50-95BC-4E3C62FD678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FCF-BF87-48F3-ACAB-EC7BF1133B1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AE18-FC3B-488E-95C9-56CE09B8064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013-01A7-4C60-9236-693DF6AC34F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586080" y="4032360"/>
            <a:ext cx="7219080" cy="1058760"/>
            <a:chOff x="586080" y="4032360"/>
            <a:chExt cx="7219080" cy="1058760"/>
          </a:xfrm>
        </p:grpSpPr>
        <p:sp>
          <p:nvSpPr>
            <p:cNvPr id="401" name="TextBox 9"/>
            <p:cNvSpPr/>
            <p:nvPr/>
          </p:nvSpPr>
          <p:spPr>
            <a:xfrm>
              <a:off x="586080" y="4367880"/>
              <a:ext cx="31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Using HH equation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Group 18"/>
            <p:cNvGrpSpPr/>
            <p:nvPr/>
          </p:nvGrpSpPr>
          <p:grpSpPr>
            <a:xfrm>
              <a:off x="3707280" y="4032360"/>
              <a:ext cx="4097880" cy="1058760"/>
              <a:chOff x="3707280" y="4032360"/>
              <a:chExt cx="4097880" cy="1058760"/>
            </a:xfrm>
          </p:grpSpPr>
          <p:sp>
            <p:nvSpPr>
              <p:cNvPr id="403" name="TextBox 13"/>
              <p:cNvSpPr/>
              <p:nvPr/>
            </p:nvSpPr>
            <p:spPr>
              <a:xfrm>
                <a:off x="3707280" y="4321440"/>
                <a:ext cx="2755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pH = p</a:t>
                </a:r>
                <a:r>
                  <a:rPr b="1" i="1" lang="en-IE" sz="28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 + log</a:t>
                </a:r>
                <a:r>
                  <a:rPr b="1" lang="en-IE" sz="2800" spc="-1" strike="noStrike" baseline="-25000">
                    <a:solidFill>
                      <a:srgbClr val="ffff00"/>
                    </a:solidFill>
                    <a:latin typeface="Arial"/>
                  </a:rPr>
                  <a:t>10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Group 27"/>
              <p:cNvGrpSpPr/>
              <p:nvPr/>
            </p:nvGrpSpPr>
            <p:grpSpPr>
              <a:xfrm>
                <a:off x="6332760" y="4032360"/>
                <a:ext cx="1472400" cy="1058760"/>
                <a:chOff x="6332760" y="4032360"/>
                <a:chExt cx="1472400" cy="1058760"/>
              </a:xfrm>
            </p:grpSpPr>
            <p:sp>
              <p:nvSpPr>
                <p:cNvPr id="405" name="TextBox 15"/>
                <p:cNvSpPr/>
                <p:nvPr/>
              </p:nvSpPr>
              <p:spPr>
                <a:xfrm>
                  <a:off x="6415560" y="4032360"/>
                  <a:ext cx="138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Straight Connector 16"/>
                <p:cNvSpPr/>
                <p:nvPr/>
              </p:nvSpPr>
              <p:spPr>
                <a:xfrm>
                  <a:off x="6531120" y="4564080"/>
                  <a:ext cx="928800" cy="1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TextBox 17"/>
                <p:cNvSpPr/>
                <p:nvPr/>
              </p:nvSpPr>
              <p:spPr>
                <a:xfrm>
                  <a:off x="6332760" y="4511520"/>
                  <a:ext cx="143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2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TextBox 23"/>
          <p:cNvSpPr/>
          <p:nvPr/>
        </p:nvSpPr>
        <p:spPr>
          <a:xfrm>
            <a:off x="645840" y="5500800"/>
            <a:ext cx="7819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very low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(6800 x less than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, difficul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asure but directly proportional to dissolved arte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x solubility coefficient (0.03 for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B37-8C86-4722-ADAF-A7F2F9C4209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503280" y="981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Therefore at 37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°</a:t>
            </a: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2385000" y="1338120"/>
            <a:ext cx="5580000" cy="1057680"/>
            <a:chOff x="2385000" y="1338120"/>
            <a:chExt cx="5580000" cy="1057680"/>
          </a:xfrm>
        </p:grpSpPr>
        <p:sp>
          <p:nvSpPr>
            <p:cNvPr id="414" name="TextBox 5"/>
            <p:cNvSpPr/>
            <p:nvPr/>
          </p:nvSpPr>
          <p:spPr>
            <a:xfrm>
              <a:off x="2385000" y="162720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pH = 6.1 + log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1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Box 7"/>
            <p:cNvSpPr/>
            <p:nvPr/>
          </p:nvSpPr>
          <p:spPr>
            <a:xfrm>
              <a:off x="5398920" y="1338120"/>
              <a:ext cx="138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[H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IE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>
              <a:off x="5116320" y="1870200"/>
              <a:ext cx="187164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Box 9"/>
            <p:cNvSpPr/>
            <p:nvPr/>
          </p:nvSpPr>
          <p:spPr>
            <a:xfrm>
              <a:off x="5023080" y="1816200"/>
              <a:ext cx="294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0.03 x P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2 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(mM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TextBox 9"/>
          <p:cNvSpPr/>
          <p:nvPr/>
        </p:nvSpPr>
        <p:spPr>
          <a:xfrm>
            <a:off x="187560" y="2349360"/>
            <a:ext cx="8870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H and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can both easily be measured, possibl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stimat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(normally ~ 24 mEq/L in arterial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an estimate [acid or base] required to correct imbal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170640" y="3686040"/>
            <a:ext cx="7809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maintain pH of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7.4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: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20:1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– if rat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, so too will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230040" y="4673520"/>
            <a:ext cx="8750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en enough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dded to halv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, pH would dr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6.0, </a:t>
            </a:r>
            <a:r>
              <a:rPr b="1" lang="en-IE" sz="2400" spc="-1" strike="noStrike" u="sng">
                <a:solidFill>
                  <a:srgbClr val="66ff33"/>
                </a:solidFill>
                <a:uFillTx/>
                <a:latin typeface="Arial"/>
              </a:rPr>
              <a:t>BU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→ ventilation↑ and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165960" y="5826240"/>
            <a:ext cx="70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means that </a:t>
            </a:r>
            <a:r>
              <a:rPr b="1" lang="en-IE" sz="2400" spc="-1" strike="noStrike" u="sng">
                <a:solidFill>
                  <a:srgbClr val="00b0f0"/>
                </a:solidFill>
                <a:uFillTx/>
                <a:latin typeface="Arial"/>
              </a:rPr>
              <a:t>pH only drops to ~ 7.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958760" y="4287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677-B953-4D07-9431-5BEA47A75C6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179280" y="1285920"/>
            <a:ext cx="8701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power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/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system (against acids but 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ases) usually only limited by depletion of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207120" y="3743280"/>
            <a:ext cx="2755800" cy="24303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3"/>
          <p:cNvGrpSpPr/>
          <p:nvPr/>
        </p:nvGrpSpPr>
        <p:grpSpPr>
          <a:xfrm>
            <a:off x="216720" y="2286000"/>
            <a:ext cx="7903800" cy="3283560"/>
            <a:chOff x="216720" y="2286000"/>
            <a:chExt cx="7903800" cy="3283560"/>
          </a:xfrm>
        </p:grpSpPr>
        <p:sp>
          <p:nvSpPr>
            <p:cNvPr id="427" name="TextBox 14"/>
            <p:cNvSpPr/>
            <p:nvPr/>
          </p:nvSpPr>
          <p:spPr>
            <a:xfrm>
              <a:off x="216720" y="2286000"/>
              <a:ext cx="7903800" cy="32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s pH of a 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/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solution depends on the ratio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: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rather than [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and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)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is controlled mainly by kidneys, whil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b)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is controlled by lu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pH can be expressed as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ffffff"/>
                  </a:solidFill>
                  <a:latin typeface="Arial"/>
                </a:rPr>
                <a:t>                         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ef0bf5"/>
                  </a:solidFill>
                  <a:latin typeface="Arial"/>
                </a:rPr>
                <a:t>             </a:t>
              </a:r>
              <a:r>
                <a:rPr b="1" lang="en-IE" sz="2800" spc="-1" strike="noStrike">
                  <a:solidFill>
                    <a:srgbClr val="eb8803"/>
                  </a:solidFill>
                  <a:latin typeface="Arial"/>
                </a:rPr>
                <a:t>pH  = constant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4286880" y="4548960"/>
              <a:ext cx="1505160" cy="1020600"/>
              <a:chOff x="4286880" y="4548960"/>
              <a:chExt cx="1505160" cy="102060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4286880" y="4548960"/>
                <a:ext cx="150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kidney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4500360" y="5049000"/>
                <a:ext cx="112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lung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Straight Connector 10"/>
              <p:cNvSpPr/>
              <p:nvPr/>
            </p:nvSpPr>
            <p:spPr>
              <a:xfrm>
                <a:off x="4362480" y="5121360"/>
                <a:ext cx="1359000" cy="1440"/>
              </a:xfrm>
              <a:prstGeom prst="line">
                <a:avLst/>
              </a:prstGeom>
              <a:ln w="28440">
                <a:solidFill>
                  <a:srgbClr val="61b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2030040" y="6429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CB1-E529-4DB7-A333-5DACB304AE8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DR.AHMAD</cp:lastModifiedBy>
  <dcterms:modified xsi:type="dcterms:W3CDTF">2016-05-01T06:37:52Z</dcterms:modified>
  <cp:revision>539</cp:revision>
  <dc:subject/>
  <dc:title>Slide 1</dc:title>
</cp:coreProperties>
</file>