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0844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A3EF-1A7A-427D-909A-F405179DAE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6A5D-D8F6-41BB-BD09-DE35498D2D0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b represents 80% of the non-bicarbonate buffer power of the ECF. 36 of Hbs 574 amino acids are histidines which have dissociable protons on their side groups. It has an average pK value of ~6.5 making it a good buffer in the physiological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9380-6E34-4624-98AD-28063B8F284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6525-4957-48DA-BBD1-A5FE5AC137A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Phosphoric acid (H3PO4) has three dissociable protons. The pK value of H2PO4 to H + HPO4 is 6.8 making it a good ECF bu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6B4D-925E-49B7-80F7-9A71A283442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3FC-B082-46C1-B9B9-57A9D86E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CA8-BACC-4047-B22A-5212EFA3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9C8-938F-4770-85AE-B97ACE70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639E-B352-4ABE-868A-10C422D4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70F5-8696-4A39-A740-21A82F3E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3B9A-FCE4-4437-8838-50EF5599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A6F8-BC5D-4392-B14C-FCBD1DE9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7D1B-1886-4776-929D-3B363F67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1E5C-ACEE-437E-9D90-CBDC00A3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E091-A228-4D7C-9EF8-4491A48A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F0C4-9BC9-4550-944C-56F43B2D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A24-8A69-4F6E-B744-C34B5B22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936F-1922-451C-B3AB-1AFA3B40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9C86-78F2-443F-8EDA-1B04296A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0684-FF8A-43CC-A6E2-BDA4941C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B7E0-72F3-4364-8A01-0241B105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505A-83D8-4B5F-8FB0-276863A6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0CB40-A5B0-44B2-AE5F-6A51B2BF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5855E-DA7B-42A8-A338-AB38BAF7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CF65F-E72D-47D0-AE5D-91C87552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73D20-87ED-4B07-899D-1C9635DB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9F718-D6A7-4180-A535-06D7E4BD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B749-0C48-4130-A0E3-5A3C0EE1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E87AD-5687-4926-B4EA-7BDFFC90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941B3-FD12-4358-9339-8856464E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EDD1C-8988-4927-9138-180A6E5E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6FCB8-8CEE-4DBD-933F-E7AD22AF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5D859-0957-46C3-86A0-1E9BB1A6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542EA-11DD-4048-8E73-C89F9136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BA9CF-19D8-4751-B7B0-08415759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11C69-427C-469E-805E-2C18D263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A9AA5-211C-4D51-9D69-33FC118A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B3E3B-F740-48C7-909F-C527E202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F470-3071-490E-82A6-2406F8D7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C7759-088E-4EAC-B543-6F4C6791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70E5A-B584-492C-955B-91866381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DE4E9-B107-429D-88D9-23E170EA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1D854-D154-47E1-9BD3-4C6F2525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4DEA8-AEF2-4C15-8531-255573AC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06DE8-404A-4035-A9A0-61D1BA38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5CDB5-10F4-4F25-9D03-C7C5420B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AB177-04AE-492A-9BF7-AA6888C0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BCE26-40F6-4F04-B9C4-4AE33C36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7D855-5CBD-436E-883C-6D855881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1493-FF88-49C2-8F53-5F03660D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F5C5A-48EC-4BDE-AEC3-24695AD6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7FFCF-EAAE-4185-AB0A-AF7D91E2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F8496-DEDD-4061-9EC2-C149E39A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0EA2C-9241-462C-9870-535ED755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C92AA-4EE6-4F67-9DCC-09B5DA3C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6791B-C277-4C8A-9EA1-AE8A52FF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E0E46-1D5B-426B-AF57-9FCDB069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9CBA3-3D6B-4597-A673-CB8937B1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FF493-13A5-457D-B383-CDF50726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8B5E2-05A5-42EE-9EDD-BD516DDD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76E1-82A7-4091-8EE0-E954E183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86AB0-4975-476A-83D9-2334DF44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4B893-61EC-4149-8991-F68CF11E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26ECE-BCAE-4FA8-818B-6DFA2890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ADCE0-73F9-4AA2-B3D8-AD20E2D0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24910-2F5B-41C6-9C36-FDA518FE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AFECE-CF79-4321-8929-0A589D51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95999-C868-4306-A306-288085A8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96161-9BE5-408C-B976-8671C5EA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B6EAC-246B-45BC-B00F-C2A415DE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59CB7-7CE2-46D2-932A-A7218EEA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DB3-D612-467A-9C47-1D204E2B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788FE-A5C9-4FC4-AAF1-77D79321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9F0DA-4A7D-44F6-A6AD-23745BC3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4DB0C-E517-4923-8FB8-BC669F26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8C8A3-9D8D-4F90-A0FB-3E8090F3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7528F-2F7F-4B1B-AF25-92DDE49A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DC9D6-001A-447A-A758-6A6EB5EF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21621-577B-4003-92B3-3ECCF2CF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AF1D9-8E93-4763-A935-CB0A3284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7522B-19E7-4851-9EC5-F0BEBF33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CC06D-C68F-43B1-8AD2-9ACCFCDF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71AE-990F-4BB6-A3BF-D3FF1956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0F864-6999-48E6-97D8-CABEB769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53C37-B8D0-4C85-8F1A-F4E6EA9A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04117-6DC8-4F41-B579-5255080A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29009-E408-45EE-9D09-4DF996FF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DEDAA-D5D6-44EC-8DA8-FC58DE41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5FE-0E97-4C31-A8D7-087E21A8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2A37-716D-4A43-A91D-E8287C06A67F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71D2-5D53-40C3-A6B5-0646FB7B363F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96DF-2A50-4246-A258-9EE3B223D8B1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F042-A66A-43AF-A3AC-F075177814AF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680E-8E82-4C4B-8997-9F9D56244C83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D0D9-17F3-4F3E-821C-B1C1C6C06271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80240" y="1217520"/>
              <a:ext cx="648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1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80240" y="1282320"/>
              <a:ext cx="648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3240" y="1370160"/>
              <a:ext cx="651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2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3240" y="1434960"/>
              <a:ext cx="651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5120" y="1473120"/>
              <a:ext cx="648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1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5120" y="1537920"/>
              <a:ext cx="648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15FB-F8AA-4620-8B18-A67806B611A9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1950840" y="1413000"/>
            <a:ext cx="492948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10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id-Base Balanc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MS PGothic"/>
              </a:rPr>
              <a:t>Buffer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2643480" y="3849840"/>
            <a:ext cx="368424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Corbel"/>
              </a:rPr>
              <a:t>Ahmad Ahme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aahmeda@ksu.edu.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Corbel"/>
              </a:rPr>
              <a:t>Cell phone: 05363134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Slide Number Placeholder 6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EAE9-0D67-4553-AFDD-D6AE04137B37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5"/>
          <p:cNvSpPr/>
          <p:nvPr/>
        </p:nvSpPr>
        <p:spPr>
          <a:xfrm>
            <a:off x="521280" y="5119560"/>
            <a:ext cx="854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 of cells changes in proportion to pH of extracellular flu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rapidly traverse cell membr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4"/>
          <p:cNvSpPr/>
          <p:nvPr/>
        </p:nvSpPr>
        <p:spPr>
          <a:xfrm>
            <a:off x="718200" y="1577880"/>
            <a:ext cx="7850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ost important non-bicarbonate buffering proteins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titratable groups on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HAEMOGLOBI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(Hb also important for buffering CO</a:t>
            </a:r>
            <a:r>
              <a:rPr b="1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Group 13"/>
          <p:cNvGrpSpPr/>
          <p:nvPr/>
        </p:nvGrpSpPr>
        <p:grpSpPr>
          <a:xfrm>
            <a:off x="-403200" y="3322800"/>
            <a:ext cx="12031200" cy="1628280"/>
            <a:chOff x="-403200" y="3322800"/>
            <a:chExt cx="12031200" cy="1628280"/>
          </a:xfrm>
        </p:grpSpPr>
        <p:sp>
          <p:nvSpPr>
            <p:cNvPr id="450" name="Rectangle 2"/>
            <p:cNvSpPr/>
            <p:nvPr/>
          </p:nvSpPr>
          <p:spPr>
            <a:xfrm>
              <a:off x="-403200" y="3322800"/>
              <a:ext cx="8143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3600" indent="-363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             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CO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+ H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O </a:t>
              </a:r>
              <a:r>
                <a:rPr b="0" lang="en-GB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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H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CO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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H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+ HCO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2"/>
            <p:cNvSpPr/>
            <p:nvPr/>
          </p:nvSpPr>
          <p:spPr>
            <a:xfrm>
              <a:off x="3484440" y="4402440"/>
              <a:ext cx="814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3600" indent="-363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             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H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+ Hb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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HH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19560" y="3841920"/>
              <a:ext cx="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Box 10"/>
            <p:cNvSpPr/>
            <p:nvPr/>
          </p:nvSpPr>
          <p:spPr>
            <a:xfrm>
              <a:off x="2098080" y="4308480"/>
              <a:ext cx="268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IE" sz="1800" spc="-1" strike="noStrike">
                  <a:solidFill>
                    <a:srgbClr val="66ff33"/>
                  </a:solidFill>
                  <a:latin typeface="Arial"/>
                </a:rPr>
                <a:t>(DeoxyHb a better buff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IE" sz="1800" spc="-1" strike="noStrike">
                  <a:solidFill>
                    <a:srgbClr val="66ff33"/>
                  </a:solidFill>
                  <a:latin typeface="Arial"/>
                </a:rPr>
                <a:t> </a:t>
              </a:r>
              <a:r>
                <a:rPr b="0" i="1" lang="en-IE" sz="1800" spc="-1" strike="noStrike">
                  <a:solidFill>
                    <a:srgbClr val="66ff33"/>
                  </a:solidFill>
                  <a:latin typeface="Arial"/>
                </a:rPr>
                <a:t>than OxyHb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Text Box 4"/>
          <p:cNvSpPr/>
          <p:nvPr/>
        </p:nvSpPr>
        <p:spPr>
          <a:xfrm>
            <a:off x="1896120" y="496800"/>
            <a:ext cx="5287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3) Protein Buf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5"/>
          <p:cNvSpPr/>
          <p:nvPr/>
        </p:nvSpPr>
        <p:spPr>
          <a:xfrm>
            <a:off x="393840" y="2349360"/>
            <a:ext cx="85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ever, important source of buffer in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HRON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abo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idosis 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.e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renal tubular acidosis &amp; uraemic acidosi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414720" y="1166760"/>
            <a:ext cx="86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bably involved in providing a degree of buffering (by i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change) in most acid-base disor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8"/>
          <p:cNvSpPr/>
          <p:nvPr/>
        </p:nvSpPr>
        <p:spPr>
          <a:xfrm>
            <a:off x="413640" y="3500280"/>
            <a:ext cx="837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base) is most important buffer released from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ring metabolic acid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9"/>
          <p:cNvSpPr/>
          <p:nvPr/>
        </p:nvSpPr>
        <p:spPr>
          <a:xfrm>
            <a:off x="443160" y="4694400"/>
            <a:ext cx="81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in major depletion of skeletal minera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hronic metabolic acidosis that occurs 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nal tubule acidosis (RTA) can lead to development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ickets / osteomalaci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1896120" y="-28440"/>
            <a:ext cx="5287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4) B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4"/>
          <p:cNvSpPr/>
          <p:nvPr/>
        </p:nvSpPr>
        <p:spPr>
          <a:xfrm>
            <a:off x="507960" y="1109520"/>
            <a:ext cx="73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at all of these buffer systems work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AND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iso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484200" y="2320920"/>
            <a:ext cx="779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uffers can only </a:t>
            </a:r>
            <a:r>
              <a:rPr b="1" i="1" lang="en-IE" sz="2400" spc="-1" strike="noStrike">
                <a:solidFill>
                  <a:srgbClr val="ffff00"/>
                </a:solidFill>
                <a:latin typeface="Arial"/>
              </a:rPr>
              <a:t>LIMIT CHANG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in pH, they canno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eb8803"/>
                </a:solidFill>
                <a:latin typeface="Arial"/>
              </a:rPr>
              <a:t>REVERSE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619560" y="3598920"/>
            <a:ext cx="835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Once arterial pH has deviated from normal value, can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e returned to normal by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RESPIRATORY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RENAL</a:t>
            </a:r>
            <a:r>
              <a:rPr b="0" lang="en-IE" sz="2400" spc="-1" strike="noStrike">
                <a:solidFill>
                  <a:srgbClr val="ef0bf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66ff33"/>
                </a:solidFill>
                <a:latin typeface="Arial"/>
              </a:rPr>
              <a:t>COMPENSATIO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896120" y="14292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4"/>
          <p:cNvSpPr/>
          <p:nvPr/>
        </p:nvSpPr>
        <p:spPr>
          <a:xfrm>
            <a:off x="709200" y="2449440"/>
            <a:ext cx="779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Respiratory Regulation of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Acid-Base Bal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4"/>
          <p:cNvSpPr/>
          <p:nvPr/>
        </p:nvSpPr>
        <p:spPr>
          <a:xfrm>
            <a:off x="539640" y="10008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spiratory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Ba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Box 4"/>
          <p:cNvSpPr/>
          <p:nvPr/>
        </p:nvSpPr>
        <p:spPr>
          <a:xfrm>
            <a:off x="279360" y="2502000"/>
            <a:ext cx="8864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hanges in alveolar ventilation can alter </a:t>
            </a:r>
            <a:r>
              <a:rPr b="1" lang="en-IE" sz="2400" spc="-1" strike="noStrike">
                <a:solidFill>
                  <a:srgbClr val="0099ff"/>
                </a:solidFill>
                <a:latin typeface="Arial"/>
              </a:rPr>
              <a:t>plasma Pco</a:t>
            </a:r>
            <a:r>
              <a:rPr b="1" lang="en-IE" sz="2400" spc="-1" strike="noStrike" baseline="-25000">
                <a:solidFill>
                  <a:srgbClr val="0099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ventilation,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↓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↑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↓ ventilation, ↑ 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, ↓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2"/>
          <p:cNvGraphicFramePr/>
          <p:nvPr/>
        </p:nvGraphicFramePr>
        <p:xfrm>
          <a:off x="5653080" y="3916440"/>
          <a:ext cx="300816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3080" y="3916440"/>
                    <a:ext cx="300816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TextBox 4"/>
          <p:cNvSpPr/>
          <p:nvPr/>
        </p:nvSpPr>
        <p:spPr>
          <a:xfrm>
            <a:off x="341280" y="1428840"/>
            <a:ext cx="882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ulmonary expiration of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normally </a:t>
            </a:r>
            <a:r>
              <a:rPr b="1" lang="en-IE" sz="2400" spc="-1" strike="noStrike">
                <a:solidFill>
                  <a:srgbClr val="66ff33"/>
                </a:solidFill>
                <a:latin typeface="Arial"/>
              </a:rPr>
              <a:t>BALANC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metabol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ormation of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Box 4"/>
          <p:cNvSpPr/>
          <p:nvPr/>
        </p:nvSpPr>
        <p:spPr>
          <a:xfrm>
            <a:off x="278640" y="4606920"/>
            <a:ext cx="43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hanges in 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also alt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ALVEOLAR VENTILATIO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539640" y="10008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spiratory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Ba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50720" y="1353960"/>
            <a:ext cx="779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POWER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-2 x better than extracellular chem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ers), but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nnot fully rectif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urbances outsi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 system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fixed acids like lactic ac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446760" y="2924280"/>
            <a:ext cx="8120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s relativel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PID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stop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changing too mu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il renal buffering kicks in but </a:t>
            </a:r>
            <a:r>
              <a:rPr b="1" lang="en-US" sz="2400" spc="-1" strike="noStrike" u="sng">
                <a:solidFill>
                  <a:srgbClr val="ef0bf5"/>
                </a:solidFill>
                <a:uFillTx/>
                <a:latin typeface="Arial"/>
              </a:rPr>
              <a:t>DOES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imi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or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from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482400" y="4591080"/>
            <a:ext cx="8628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normalities of respiration can alter bodily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resulting i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ORY ACID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RESPIRATORY ALKAL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4"/>
          <p:cNvSpPr/>
          <p:nvPr/>
        </p:nvSpPr>
        <p:spPr>
          <a:xfrm>
            <a:off x="1572120" y="2205000"/>
            <a:ext cx="606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Renal Regulation of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Acid-Base Bal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B752-14DA-4D7B-A38A-A6D14232476D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Box 2"/>
          <p:cNvSpPr/>
          <p:nvPr/>
        </p:nvSpPr>
        <p:spPr>
          <a:xfrm>
            <a:off x="971640" y="822240"/>
            <a:ext cx="72007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There are three major renal mechanisms for the maintenance of normal body pH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absorption of filtered bicarbon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roduction of  titratable aci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cretion of ammoni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ach of these three mechanisms involve the secretion of hydrogen ions into the urine and the addition of bicarbonate ions to the bloo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4"/>
          <p:cNvSpPr/>
          <p:nvPr/>
        </p:nvSpPr>
        <p:spPr>
          <a:xfrm>
            <a:off x="1188000" y="100080"/>
            <a:ext cx="683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nal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-624960" y="712800"/>
            <a:ext cx="88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MOST EFFECTI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 of pH but much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L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max. activity after 5-6 days) than other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-469800" y="1643040"/>
            <a:ext cx="86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ible for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ELIMINA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80 -100 mEq of fix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enerated each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6"/>
          <p:cNvSpPr/>
          <p:nvPr/>
        </p:nvSpPr>
        <p:spPr>
          <a:xfrm>
            <a:off x="-672480" y="2714760"/>
            <a:ext cx="10063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ly, must also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PREV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nal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LO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freely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terable </a:t>
            </a:r>
            <a:r>
              <a:rPr b="1" lang="en-US" sz="2400" spc="-1" strike="noStrike">
                <a:solidFill>
                  <a:srgbClr val="d6ecff"/>
                </a:solidFill>
                <a:latin typeface="Arial"/>
              </a:rPr>
              <a:t>HCO</a:t>
            </a:r>
            <a:r>
              <a:rPr b="1" lang="en-US" sz="2400" spc="-1" strike="noStrike" baseline="-25000">
                <a:solidFill>
                  <a:srgbClr val="d6ec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d6ecff"/>
                </a:solidFill>
                <a:latin typeface="Arial"/>
              </a:rPr>
              <a:t>-</a:t>
            </a:r>
            <a:r>
              <a:rPr b="0" lang="en-US" sz="2400" spc="-1" strike="noStrike" baseline="30000">
                <a:solidFill>
                  <a:srgbClr val="d6e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rder to preserve this primary buffer syst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-682200" y="3738600"/>
            <a:ext cx="95655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BOTH PROCES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dependent on both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ltration 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retion into renal tubules and secretion / reabsorption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ma [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9"/>
          <p:cNvSpPr/>
          <p:nvPr/>
        </p:nvSpPr>
        <p:spPr>
          <a:xfrm>
            <a:off x="41400" y="5099040"/>
            <a:ext cx="9342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neys also responsible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ENSATORY CHANG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[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during respiratory acid-base disor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1147320" y="5586480"/>
            <a:ext cx="778428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baseline="-25000">
                <a:solidFill>
                  <a:srgbClr val="ffff00"/>
                </a:solidFill>
                <a:latin typeface="Arial"/>
              </a:rPr>
              <a:t>*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KIDNEYS FAIL, pH BALANCE WILL FAIL</a:t>
            </a:r>
            <a:r>
              <a:rPr b="1" lang="en-US" sz="7200" spc="-1" strike="noStrike" baseline="-25000">
                <a:solidFill>
                  <a:srgbClr val="ffff00"/>
                </a:solidFill>
                <a:latin typeface="Arial"/>
              </a:rPr>
              <a:t> *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4"/>
          <p:cNvSpPr/>
          <p:nvPr/>
        </p:nvSpPr>
        <p:spPr>
          <a:xfrm>
            <a:off x="1188000" y="771480"/>
            <a:ext cx="683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nal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6"/>
          <p:cNvSpPr/>
          <p:nvPr/>
        </p:nvSpPr>
        <p:spPr>
          <a:xfrm>
            <a:off x="412560" y="2111400"/>
            <a:ext cx="792576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mechanism straightforwar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arge [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continuously filtered into tub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arge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secreted into tubu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more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creted than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lte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 net loss of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acid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↑p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more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ltered than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cre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 net loss of </a:t>
            </a:r>
            <a:r>
              <a:rPr b="1" i="1" lang="en-US" sz="2400" spc="-1" strike="noStrike" u="sng">
                <a:solidFill>
                  <a:srgbClr val="0099ff"/>
                </a:solidFill>
                <a:uFillTx/>
                <a:latin typeface="Arial"/>
              </a:rPr>
              <a:t>b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↓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5"/>
          <p:cNvSpPr/>
          <p:nvPr/>
        </p:nvSpPr>
        <p:spPr>
          <a:xfrm>
            <a:off x="684360" y="2138400"/>
            <a:ext cx="770400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define buffer system and discuss the role of blood buffers and to explain their relevant roles in the bo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describe the role of kidneys in the regulation of acid-base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describe the role of lungs in the regulation of acid-base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228040" y="406440"/>
            <a:ext cx="47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Slide Number Placeholder 7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25FE-806D-494E-8C44-14D1651C0EBA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ACCF-0156-4592-9255-A0C2739BAD5F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-401400" y="928800"/>
            <a:ext cx="86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ters filtrate b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LT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ough glomeruli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SECRE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o tubu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9" name="Picture 2" descr="fox25642_1729"/>
          <p:cNvPicPr/>
          <p:nvPr/>
        </p:nvPicPr>
        <p:blipFill>
          <a:blip r:embed="rId1"/>
          <a:stretch/>
        </p:blipFill>
        <p:spPr>
          <a:xfrm>
            <a:off x="3571920" y="2714760"/>
            <a:ext cx="5492880" cy="275112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"/>
          <p:cNvSpPr/>
          <p:nvPr/>
        </p:nvSpPr>
        <p:spPr>
          <a:xfrm>
            <a:off x="415080" y="53820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Renal H</a:t>
            </a:r>
            <a:r>
              <a:rPr b="1" lang="en-GB" sz="24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23760" y="1812960"/>
            <a:ext cx="880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 (80%) occurs across wall of PCT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v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/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tiporter  (&amp;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TPase in type A cells of DCT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219240" y="2857680"/>
            <a:ext cx="2885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ables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bsorp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988560" y="-30240"/>
            <a:ext cx="717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/ HCO</a:t>
            </a:r>
            <a:r>
              <a:rPr b="1" lang="en-GB" sz="36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Control by the Kid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34560" y="4359240"/>
            <a:ext cx="51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imary fac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ing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stemic acid-b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GB" sz="2400" spc="-1" strike="noStrike">
                <a:solidFill>
                  <a:srgbClr val="0099ff"/>
                </a:solidFill>
                <a:latin typeface="Arial"/>
              </a:rPr>
              <a:t>ACIDOS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timulates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GB" sz="2400" spc="-1" strike="noStrike">
                <a:solidFill>
                  <a:srgbClr val="ef0bf5"/>
                </a:solidFill>
                <a:latin typeface="Arial"/>
              </a:rPr>
              <a:t>ALKALOS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reduces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CA0B-7892-422C-9E96-5E3E645EE7BA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353880" y="68256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Bicarbonate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-674640" y="1143000"/>
            <a:ext cx="93675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FREELY FILTER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 glomeruli (3 mM/min)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goes significant (&gt; 99%) reabsorption in PCT, aLo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cortical collecting ducts (CCD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4" descr="segmental reabsorption of bicarbonate - fig 36.1.JPG"/>
          <p:cNvPicPr/>
          <p:nvPr/>
        </p:nvPicPr>
        <p:blipFill>
          <a:blip r:embed="rId1"/>
          <a:stretch/>
        </p:blipFill>
        <p:spPr>
          <a:xfrm>
            <a:off x="5881680" y="2173320"/>
            <a:ext cx="3244680" cy="421488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4"/>
          <p:cNvSpPr/>
          <p:nvPr/>
        </p:nvSpPr>
        <p:spPr>
          <a:xfrm>
            <a:off x="988560" y="28440"/>
            <a:ext cx="717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/ HCO</a:t>
            </a:r>
            <a:r>
              <a:rPr b="1" lang="en-GB" sz="36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Control by the Kid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6"/>
          <p:cNvSpPr/>
          <p:nvPr/>
        </p:nvSpPr>
        <p:spPr>
          <a:xfrm>
            <a:off x="-747360" y="2867040"/>
            <a:ext cx="6583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sms of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absorption 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CT (&amp; aLoH) and CC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re simi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ut not iden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-663480" y="4941720"/>
            <a:ext cx="6758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absorption is 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-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Arial"/>
              </a:rPr>
              <a:t>dependent on tub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Arial"/>
              </a:rPr>
              <a:t>secretion of H</a:t>
            </a:r>
            <a:r>
              <a:rPr b="0" lang="en-US" sz="2400" spc="-1" strike="noStrike" u="sng" baseline="30000">
                <a:solidFill>
                  <a:srgbClr val="66ff33"/>
                </a:solidFill>
                <a:uFillTx/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i="1" lang="en-US" sz="2400" spc="-1" strike="noStrike" u="sng">
                <a:solidFill>
                  <a:srgbClr val="0099ff"/>
                </a:solidFill>
                <a:uFillTx/>
                <a:latin typeface="Arial"/>
              </a:rPr>
              <a:t>ap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anspor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ump for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A028-65B8-450D-87EB-DE4647A87ED3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3" name="Group 14"/>
          <p:cNvGrpSpPr/>
          <p:nvPr/>
        </p:nvGrpSpPr>
        <p:grpSpPr>
          <a:xfrm>
            <a:off x="1116000" y="530280"/>
            <a:ext cx="7302600" cy="5635440"/>
            <a:chOff x="1116000" y="530280"/>
            <a:chExt cx="7302600" cy="5635440"/>
          </a:xfrm>
        </p:grpSpPr>
        <p:pic>
          <p:nvPicPr>
            <p:cNvPr id="504" name="Picture 3" descr=""/>
            <p:cNvPicPr/>
            <p:nvPr/>
          </p:nvPicPr>
          <p:blipFill>
            <a:blip r:embed="rId1"/>
            <a:stretch/>
          </p:blipFill>
          <p:spPr>
            <a:xfrm>
              <a:off x="1116000" y="530280"/>
              <a:ext cx="7302600" cy="56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TextBox 13"/>
            <p:cNvSpPr/>
            <p:nvPr/>
          </p:nvSpPr>
          <p:spPr>
            <a:xfrm>
              <a:off x="1658160" y="943920"/>
              <a:ext cx="97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CT &amp; LoH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6"/>
          <p:cNvSpPr/>
          <p:nvPr/>
        </p:nvSpPr>
        <p:spPr>
          <a:xfrm>
            <a:off x="563400" y="1557360"/>
            <a:ext cx="784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nal ammonium-ammonia buffer system is subjec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ysiological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587520" y="2565360"/>
            <a:ext cx="7187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CF [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] stimulates renal glutamine metabo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ew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formation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↑ buffering of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vice vers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for ↓ ECF [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]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570600" y="3943440"/>
            <a:ext cx="8082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ormally, ammonia buffer system accounts for ~ 50%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cid excreted (&amp;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creat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618840" y="5100480"/>
            <a:ext cx="812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n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CHRONIC ACIDOS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mmoniagenesis can incre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~10 fold (500 mEq/day; over days) to become domina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cid excretion mechan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988560" y="214200"/>
            <a:ext cx="717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/ HCO</a:t>
            </a:r>
            <a:r>
              <a:rPr b="1" lang="en-GB" sz="36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Control by the Kid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511920" y="90792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Bicarbonate regeneration -  Metabolism of gluta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6601-05EA-49D4-8775-FF5EA08AE5D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73B3-A644-453E-BAD0-70AB1F0CFF99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73600" y="812880"/>
            <a:ext cx="813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Buffer is substance that stabilises (limits the change of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] when 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ons are added or removed from a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134640" y="1857240"/>
            <a:ext cx="820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y </a:t>
            </a:r>
            <a:r>
              <a:rPr b="0" lang="en-IE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o not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eliminate 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from body –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REVERSIBLY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b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until balance is re-establish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13"/>
          <p:cNvGrpSpPr/>
          <p:nvPr/>
        </p:nvGrpSpPr>
        <p:grpSpPr>
          <a:xfrm>
            <a:off x="2518920" y="3786120"/>
            <a:ext cx="2789640" cy="520560"/>
            <a:chOff x="2518920" y="3786120"/>
            <a:chExt cx="2789640" cy="520560"/>
          </a:xfrm>
        </p:grpSpPr>
        <p:sp>
          <p:nvSpPr>
            <p:cNvPr id="385" name="TextBox 6"/>
            <p:cNvSpPr/>
            <p:nvPr/>
          </p:nvSpPr>
          <p:spPr>
            <a:xfrm>
              <a:off x="2518920" y="3786120"/>
              <a:ext cx="278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800" spc="-1" strike="noStrike">
                  <a:solidFill>
                    <a:srgbClr val="66ff33"/>
                  </a:solidFill>
                  <a:latin typeface="Arial"/>
                </a:rPr>
                <a:t>HA         H</a:t>
              </a:r>
              <a:r>
                <a:rPr b="1" lang="en-IE" sz="2800" spc="-1" strike="noStrike" baseline="30000">
                  <a:solidFill>
                    <a:srgbClr val="66ff33"/>
                  </a:solidFill>
                  <a:latin typeface="Arial"/>
                </a:rPr>
                <a:t>+</a:t>
              </a:r>
              <a:r>
                <a:rPr b="1" lang="en-IE" sz="2800" spc="-1" strike="noStrike">
                  <a:solidFill>
                    <a:srgbClr val="66ff33"/>
                  </a:solidFill>
                  <a:latin typeface="Arial"/>
                </a:rPr>
                <a:t> + A</a:t>
              </a:r>
              <a:r>
                <a:rPr b="1" lang="en-IE" sz="28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r>
                <a:rPr b="1" lang="en-IE" sz="2800" spc="-1" strike="noStrike">
                  <a:solidFill>
                    <a:srgbClr val="66ff33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86" name="Straight Arrow Connector 8"/>
            <p:cNvCxnSpPr/>
            <p:nvPr/>
          </p:nvCxnSpPr>
          <p:spPr>
            <a:xfrm>
              <a:off x="3152160" y="3987720"/>
              <a:ext cx="611640" cy="2160"/>
            </a:xfrm>
            <a:prstGeom prst="straightConnector1">
              <a:avLst/>
            </a:prstGeom>
            <a:ln w="28440">
              <a:solidFill>
                <a:srgbClr val="66ff33"/>
              </a:solidFill>
              <a:miter/>
              <a:tailEnd len="med" type="arrow" w="med"/>
            </a:ln>
          </p:spPr>
        </p:cxnSp>
        <p:cxnSp>
          <p:nvCxnSpPr>
            <p:cNvPr id="387" name="Straight Arrow Connector 11"/>
            <p:cNvCxnSpPr/>
            <p:nvPr/>
          </p:nvCxnSpPr>
          <p:spPr>
            <a:xfrm>
              <a:off x="3101400" y="4140000"/>
              <a:ext cx="611640" cy="2160"/>
            </a:xfrm>
            <a:prstGeom prst="straightConnector1">
              <a:avLst/>
            </a:prstGeom>
            <a:ln w="28440">
              <a:solidFill>
                <a:srgbClr val="66ff33"/>
              </a:solidFill>
              <a:miter/>
              <a:headEnd len="med" type="arrow" w="med"/>
            </a:ln>
          </p:spPr>
        </p:cxnSp>
      </p:grpSp>
      <p:sp>
        <p:nvSpPr>
          <p:cNvPr id="388" name="Text Box 6"/>
          <p:cNvSpPr/>
          <p:nvPr/>
        </p:nvSpPr>
        <p:spPr>
          <a:xfrm>
            <a:off x="166680" y="459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Reaction direction (&amp; dissociation rate) dependent on eff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concentration of each chemical spec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179280" y="5599080"/>
            <a:ext cx="803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If 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]↑ then equation moves leftwards and </a:t>
            </a:r>
            <a:r>
              <a:rPr b="0" i="1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vice versa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]↓ - </a:t>
            </a:r>
            <a:r>
              <a:rPr b="1" i="1" lang="en-IE" sz="2400" spc="-1" strike="noStrike">
                <a:solidFill>
                  <a:srgbClr val="66ff33"/>
                </a:solidFill>
                <a:latin typeface="Arial"/>
                <a:ea typeface="Arial"/>
              </a:rPr>
              <a:t>minimises changes in [H</a:t>
            </a:r>
            <a:r>
              <a:rPr b="1" i="1" lang="en-IE" sz="2400" spc="-1" strike="noStrike" baseline="30000">
                <a:solidFill>
                  <a:srgbClr val="66ff33"/>
                </a:solidFill>
                <a:latin typeface="Arial"/>
                <a:ea typeface="Arial"/>
              </a:rPr>
              <a:t>+</a:t>
            </a:r>
            <a:r>
              <a:rPr b="1" i="1" lang="en-IE" sz="2400" spc="-1" strike="noStrike">
                <a:solidFill>
                  <a:srgbClr val="66ff33"/>
                </a:solidFill>
                <a:latin typeface="Arial"/>
                <a:ea typeface="Arial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12"/>
          <p:cNvSpPr/>
          <p:nvPr/>
        </p:nvSpPr>
        <p:spPr>
          <a:xfrm>
            <a:off x="5616000" y="3711600"/>
            <a:ext cx="338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HA = undissociated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IE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= conjugate base (any an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34280" y="2943360"/>
            <a:ext cx="89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General form of buffering reaction usually in form of conjug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cid-base pa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1938960" y="-2700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D835-894F-495B-A2B8-A183CA599CDD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2" descr="defenses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8397-5B18-4A7F-B41E-C5C0A237CC1B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525960" y="571680"/>
            <a:ext cx="62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66ff33"/>
                </a:solidFill>
                <a:latin typeface="Arial"/>
              </a:rPr>
              <a:t>What buffer systems exist in the bod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518400" y="1143000"/>
            <a:ext cx="57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f0bf5"/>
                </a:solidFill>
                <a:latin typeface="Arial"/>
              </a:rPr>
              <a:t>1) Bicarbonate buffer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578520" y="1785960"/>
            <a:ext cx="721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- Most important buffering system. Works by ac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s proton acceptor for carbonic aci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1598760" y="2712960"/>
            <a:ext cx="5759280" cy="96696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24"/>
          <p:cNvGrpSpPr/>
          <p:nvPr/>
        </p:nvGrpSpPr>
        <p:grpSpPr>
          <a:xfrm>
            <a:off x="586080" y="4032360"/>
            <a:ext cx="7219080" cy="1058760"/>
            <a:chOff x="586080" y="4032360"/>
            <a:chExt cx="7219080" cy="1058760"/>
          </a:xfrm>
        </p:grpSpPr>
        <p:sp>
          <p:nvSpPr>
            <p:cNvPr id="401" name="TextBox 9"/>
            <p:cNvSpPr/>
            <p:nvPr/>
          </p:nvSpPr>
          <p:spPr>
            <a:xfrm>
              <a:off x="586080" y="4367880"/>
              <a:ext cx="31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ff33"/>
                </a:buClr>
                <a:buSzPct val="9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Using HH equation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2" name="Group 18"/>
            <p:cNvGrpSpPr/>
            <p:nvPr/>
          </p:nvGrpSpPr>
          <p:grpSpPr>
            <a:xfrm>
              <a:off x="3707280" y="4032360"/>
              <a:ext cx="4097880" cy="1058760"/>
              <a:chOff x="3707280" y="4032360"/>
              <a:chExt cx="4097880" cy="1058760"/>
            </a:xfrm>
          </p:grpSpPr>
          <p:sp>
            <p:nvSpPr>
              <p:cNvPr id="403" name="TextBox 13"/>
              <p:cNvSpPr/>
              <p:nvPr/>
            </p:nvSpPr>
            <p:spPr>
              <a:xfrm>
                <a:off x="3707280" y="4321440"/>
                <a:ext cx="2755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800" spc="-1" strike="noStrike">
                    <a:solidFill>
                      <a:srgbClr val="ffff00"/>
                    </a:solidFill>
                    <a:latin typeface="Arial"/>
                  </a:rPr>
                  <a:t>pH = p</a:t>
                </a:r>
                <a:r>
                  <a:rPr b="1" i="1" lang="en-IE" sz="2800" spc="-1" strike="noStrike">
                    <a:solidFill>
                      <a:srgbClr val="ffff00"/>
                    </a:solidFill>
                    <a:latin typeface="Arial"/>
                  </a:rPr>
                  <a:t>K</a:t>
                </a:r>
                <a:r>
                  <a:rPr b="1" lang="en-IE" sz="2800" spc="-1" strike="noStrike">
                    <a:solidFill>
                      <a:srgbClr val="ffff00"/>
                    </a:solidFill>
                    <a:latin typeface="Arial"/>
                  </a:rPr>
                  <a:t> + log</a:t>
                </a:r>
                <a:r>
                  <a:rPr b="1" lang="en-IE" sz="2800" spc="-1" strike="noStrike" baseline="-25000">
                    <a:solidFill>
                      <a:srgbClr val="ffff00"/>
                    </a:solidFill>
                    <a:latin typeface="Arial"/>
                  </a:rPr>
                  <a:t>10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4" name="Group 27"/>
              <p:cNvGrpSpPr/>
              <p:nvPr/>
            </p:nvGrpSpPr>
            <p:grpSpPr>
              <a:xfrm>
                <a:off x="6332760" y="4032360"/>
                <a:ext cx="1472400" cy="1058760"/>
                <a:chOff x="6332760" y="4032360"/>
                <a:chExt cx="1472400" cy="1058760"/>
              </a:xfrm>
            </p:grpSpPr>
            <p:sp>
              <p:nvSpPr>
                <p:cNvPr id="405" name="TextBox 15"/>
                <p:cNvSpPr/>
                <p:nvPr/>
              </p:nvSpPr>
              <p:spPr>
                <a:xfrm>
                  <a:off x="6415560" y="4032360"/>
                  <a:ext cx="13896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2800" spc="-1" strike="noStrike">
                      <a:solidFill>
                        <a:srgbClr val="ffff00"/>
                      </a:solidFill>
                      <a:latin typeface="Arial"/>
                    </a:rPr>
                    <a:t>[HCO</a:t>
                  </a:r>
                  <a:r>
                    <a:rPr b="1" lang="en-IE" sz="2800" spc="-1" strike="noStrike" baseline="-25000">
                      <a:solidFill>
                        <a:srgbClr val="ffff00"/>
                      </a:solidFill>
                      <a:latin typeface="Arial"/>
                    </a:rPr>
                    <a:t>3</a:t>
                  </a:r>
                  <a:r>
                    <a:rPr b="1" lang="en-IE" sz="2800" spc="-1" strike="noStrike" baseline="30000">
                      <a:solidFill>
                        <a:srgbClr val="ffff00"/>
                      </a:solidFill>
                      <a:latin typeface="Arial"/>
                    </a:rPr>
                    <a:t>-</a:t>
                  </a:r>
                  <a:r>
                    <a:rPr b="1" lang="en-IE" sz="2800" spc="-1" strike="noStrike">
                      <a:solidFill>
                        <a:srgbClr val="ffff00"/>
                      </a:solidFill>
                      <a:latin typeface="Arial"/>
                    </a:rPr>
                    <a:t>]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Straight Connector 16"/>
                <p:cNvSpPr/>
                <p:nvPr/>
              </p:nvSpPr>
              <p:spPr>
                <a:xfrm>
                  <a:off x="6531120" y="4564080"/>
                  <a:ext cx="928800" cy="144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TextBox 17"/>
                <p:cNvSpPr/>
                <p:nvPr/>
              </p:nvSpPr>
              <p:spPr>
                <a:xfrm>
                  <a:off x="6332760" y="4511520"/>
                  <a:ext cx="1434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2800" spc="-1" strike="noStrike">
                      <a:solidFill>
                        <a:srgbClr val="ffff00"/>
                      </a:solidFill>
                      <a:latin typeface="Arial"/>
                    </a:rPr>
                    <a:t>[H</a:t>
                  </a:r>
                  <a:r>
                    <a:rPr b="1" lang="en-IE" sz="2800" spc="-1" strike="noStrike" baseline="-25000">
                      <a:solidFill>
                        <a:srgbClr val="ffff00"/>
                      </a:solidFill>
                      <a:latin typeface="Arial"/>
                    </a:rPr>
                    <a:t>2</a:t>
                  </a:r>
                  <a:r>
                    <a:rPr b="1" lang="en-IE" sz="2800" spc="-1" strike="noStrike">
                      <a:solidFill>
                        <a:srgbClr val="ffff00"/>
                      </a:solidFill>
                      <a:latin typeface="Arial"/>
                    </a:rPr>
                    <a:t>CO</a:t>
                  </a:r>
                  <a:r>
                    <a:rPr b="1" lang="en-IE" sz="2800" spc="-1" strike="noStrike" baseline="-25000">
                      <a:solidFill>
                        <a:srgbClr val="ffff00"/>
                      </a:solidFill>
                      <a:latin typeface="Arial"/>
                    </a:rPr>
                    <a:t>3</a:t>
                  </a:r>
                  <a:r>
                    <a:rPr b="1" lang="en-IE" sz="2800" spc="-1" strike="noStrike">
                      <a:solidFill>
                        <a:srgbClr val="ffff00"/>
                      </a:solidFill>
                      <a:latin typeface="Arial"/>
                    </a:rPr>
                    <a:t>]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8" name="TextBox 23"/>
          <p:cNvSpPr/>
          <p:nvPr/>
        </p:nvSpPr>
        <p:spPr>
          <a:xfrm>
            <a:off x="645840" y="5500800"/>
            <a:ext cx="78199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1" lang="en-IE" sz="2400" spc="-1" strike="noStrike">
                <a:solidFill>
                  <a:srgbClr val="ff0000"/>
                </a:solidFill>
                <a:latin typeface="Arial"/>
              </a:rPr>
              <a:t>very low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(6800 x less than 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), difficult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easure but directly proportional to dissolved arte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[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= 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x solubility coefficient (0.03 for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938960" y="-2700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21FA-E868-48FD-BDDF-C7648A42EB74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1938960" y="-2700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503280" y="981000"/>
            <a:ext cx="31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66ff33"/>
                </a:solidFill>
                <a:latin typeface="Arial"/>
              </a:rPr>
              <a:t>Therefore at 37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  <a:ea typeface="Arial"/>
              </a:rPr>
              <a:t>°</a:t>
            </a:r>
            <a:r>
              <a:rPr b="0" lang="en-IE" sz="2800" spc="-1" strike="noStrike">
                <a:solidFill>
                  <a:srgbClr val="66ff33"/>
                </a:solidFill>
                <a:latin typeface="Arial"/>
              </a:rPr>
              <a:t>C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11"/>
          <p:cNvGrpSpPr/>
          <p:nvPr/>
        </p:nvGrpSpPr>
        <p:grpSpPr>
          <a:xfrm>
            <a:off x="2385000" y="1338120"/>
            <a:ext cx="5580000" cy="1057680"/>
            <a:chOff x="2385000" y="1338120"/>
            <a:chExt cx="5580000" cy="1057680"/>
          </a:xfrm>
        </p:grpSpPr>
        <p:sp>
          <p:nvSpPr>
            <p:cNvPr id="414" name="TextBox 5"/>
            <p:cNvSpPr/>
            <p:nvPr/>
          </p:nvSpPr>
          <p:spPr>
            <a:xfrm>
              <a:off x="2385000" y="162720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800" spc="-1" strike="noStrike">
                  <a:solidFill>
                    <a:srgbClr val="ffff00"/>
                  </a:solidFill>
                  <a:latin typeface="Arial"/>
                </a:rPr>
                <a:t>pH = 6.1 + log</a:t>
              </a:r>
              <a:r>
                <a:rPr b="1" lang="en-IE" sz="2800" spc="-1" strike="noStrike" baseline="-25000">
                  <a:solidFill>
                    <a:srgbClr val="ffff00"/>
                  </a:solidFill>
                  <a:latin typeface="Arial"/>
                </a:rPr>
                <a:t>10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Box 7"/>
            <p:cNvSpPr/>
            <p:nvPr/>
          </p:nvSpPr>
          <p:spPr>
            <a:xfrm>
              <a:off x="5398920" y="1338120"/>
              <a:ext cx="138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800" spc="-1" strike="noStrike">
                  <a:solidFill>
                    <a:srgbClr val="ffff00"/>
                  </a:solidFill>
                  <a:latin typeface="Arial"/>
                </a:rPr>
                <a:t>[HCO</a:t>
              </a:r>
              <a:r>
                <a:rPr b="1" lang="en-IE" sz="2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en-IE" sz="28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1" lang="en-IE" sz="2800" spc="-1" strike="noStrike">
                  <a:solidFill>
                    <a:srgbClr val="ffff00"/>
                  </a:solidFill>
                  <a:latin typeface="Arial"/>
                </a:rPr>
                <a:t>]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Straight Connector 7"/>
            <p:cNvSpPr/>
            <p:nvPr/>
          </p:nvSpPr>
          <p:spPr>
            <a:xfrm>
              <a:off x="5116320" y="1870200"/>
              <a:ext cx="1871640" cy="1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Box 9"/>
            <p:cNvSpPr/>
            <p:nvPr/>
          </p:nvSpPr>
          <p:spPr>
            <a:xfrm>
              <a:off x="5023080" y="1816200"/>
              <a:ext cx="2941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800" spc="-1" strike="noStrike">
                  <a:solidFill>
                    <a:srgbClr val="ffff00"/>
                  </a:solidFill>
                  <a:latin typeface="Arial"/>
                </a:rPr>
                <a:t>0.03 x Pco</a:t>
              </a:r>
              <a:r>
                <a:rPr b="1" lang="en-IE" sz="2800" spc="-1" strike="noStrike" baseline="-25000">
                  <a:solidFill>
                    <a:srgbClr val="ffff00"/>
                  </a:solidFill>
                  <a:latin typeface="Arial"/>
                </a:rPr>
                <a:t>2 </a:t>
              </a:r>
              <a:r>
                <a:rPr b="1" lang="en-IE" sz="2800" spc="-1" strike="noStrike">
                  <a:solidFill>
                    <a:srgbClr val="ffff00"/>
                  </a:solidFill>
                  <a:latin typeface="Arial"/>
                </a:rPr>
                <a:t>(mM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TextBox 9"/>
          <p:cNvSpPr/>
          <p:nvPr/>
        </p:nvSpPr>
        <p:spPr>
          <a:xfrm>
            <a:off x="187560" y="2349360"/>
            <a:ext cx="8870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s pH and 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can both easily be measured, possibl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estimate [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(normally ~ 24 mEq/L in arterial blo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an estimate [acid or base] required to correct imbalanc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10"/>
          <p:cNvSpPr/>
          <p:nvPr/>
        </p:nvSpPr>
        <p:spPr>
          <a:xfrm>
            <a:off x="170640" y="3686040"/>
            <a:ext cx="7809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To maintain pH of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7.4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, 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: H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20:1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– if rati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hanges, so too will p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Box 11"/>
          <p:cNvSpPr/>
          <p:nvPr/>
        </p:nvSpPr>
        <p:spPr>
          <a:xfrm>
            <a:off x="230040" y="4673520"/>
            <a:ext cx="8750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When enough 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added to halve [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, pH would dro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to 6.0, </a:t>
            </a:r>
            <a:r>
              <a:rPr b="1" lang="en-IE" sz="2400" spc="-1" strike="noStrike" u="sng">
                <a:solidFill>
                  <a:srgbClr val="66ff33"/>
                </a:solidFill>
                <a:uFillTx/>
                <a:latin typeface="Arial"/>
              </a:rPr>
              <a:t>BUT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, H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O +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→ ventilation↑ and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remo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12"/>
          <p:cNvSpPr/>
          <p:nvPr/>
        </p:nvSpPr>
        <p:spPr>
          <a:xfrm>
            <a:off x="165960" y="5826240"/>
            <a:ext cx="70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uffering means that </a:t>
            </a:r>
            <a:r>
              <a:rPr b="1" lang="en-IE" sz="2400" spc="-1" strike="noStrike" u="sng">
                <a:solidFill>
                  <a:srgbClr val="00b0f0"/>
                </a:solidFill>
                <a:uFillTx/>
                <a:latin typeface="Arial"/>
              </a:rPr>
              <a:t>pH only drops to ~ 7.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1958760" y="428760"/>
            <a:ext cx="50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ef0bf5"/>
                </a:solidFill>
                <a:latin typeface="Arial"/>
              </a:rPr>
              <a:t>1) Bicarbonate buffer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C183-9D02-4AC0-BDDB-AE45DBCC1573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179280" y="1285920"/>
            <a:ext cx="8701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uffering power of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/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system (against acids but 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ases) usually only limited by depletion of 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6207120" y="3743280"/>
            <a:ext cx="2755800" cy="2430360"/>
          </a:xfrm>
          <a:prstGeom prst="rect">
            <a:avLst/>
          </a:prstGeom>
          <a:ln w="0">
            <a:noFill/>
          </a:ln>
        </p:spPr>
      </p:pic>
      <p:grpSp>
        <p:nvGrpSpPr>
          <p:cNvPr id="426" name="Group 13"/>
          <p:cNvGrpSpPr/>
          <p:nvPr/>
        </p:nvGrpSpPr>
        <p:grpSpPr>
          <a:xfrm>
            <a:off x="216720" y="2286000"/>
            <a:ext cx="7903800" cy="3283560"/>
            <a:chOff x="216720" y="2286000"/>
            <a:chExt cx="7903800" cy="3283560"/>
          </a:xfrm>
        </p:grpSpPr>
        <p:sp>
          <p:nvSpPr>
            <p:cNvPr id="427" name="TextBox 14"/>
            <p:cNvSpPr/>
            <p:nvPr/>
          </p:nvSpPr>
          <p:spPr>
            <a:xfrm>
              <a:off x="216720" y="2286000"/>
              <a:ext cx="7903800" cy="32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ff33"/>
                </a:buClr>
                <a:buSzPct val="9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As pH of a 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/H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IE" sz="24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solution depends on the ratio 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H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IE" sz="24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: P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rather than [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IE" sz="24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] and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a) [H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IE" sz="2400" spc="-1" strike="noStrike" baseline="30000">
                  <a:solidFill>
                    <a:srgbClr val="ffffff"/>
                  </a:solidFill>
                  <a:latin typeface="Arial"/>
                </a:rPr>
                <a:t>-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] is controlled mainly by kidneys, whilst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b) P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is controlled by lung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pH can be expressed as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ffffff"/>
                  </a:solidFill>
                  <a:latin typeface="Arial"/>
                </a:rPr>
                <a:t>                         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800" spc="-1" strike="noStrike">
                  <a:solidFill>
                    <a:srgbClr val="ef0bf5"/>
                  </a:solidFill>
                  <a:latin typeface="Arial"/>
                </a:rPr>
                <a:t>             </a:t>
              </a:r>
              <a:r>
                <a:rPr b="1" lang="en-IE" sz="2800" spc="-1" strike="noStrike">
                  <a:solidFill>
                    <a:srgbClr val="eb8803"/>
                  </a:solidFill>
                  <a:latin typeface="Arial"/>
                </a:rPr>
                <a:t>pH  = constant +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8" name="Group 11"/>
            <p:cNvGrpSpPr/>
            <p:nvPr/>
          </p:nvGrpSpPr>
          <p:grpSpPr>
            <a:xfrm>
              <a:off x="4286880" y="4548960"/>
              <a:ext cx="1505160" cy="1020600"/>
              <a:chOff x="4286880" y="4548960"/>
              <a:chExt cx="1505160" cy="1020600"/>
            </a:xfrm>
          </p:grpSpPr>
          <p:sp>
            <p:nvSpPr>
              <p:cNvPr id="429" name="Rectangle 6"/>
              <p:cNvSpPr/>
              <p:nvPr/>
            </p:nvSpPr>
            <p:spPr>
              <a:xfrm>
                <a:off x="4286880" y="4548960"/>
                <a:ext cx="1505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800" spc="-1" strike="noStrike">
                    <a:solidFill>
                      <a:srgbClr val="eb8803"/>
                    </a:solidFill>
                    <a:latin typeface="Arial"/>
                  </a:rPr>
                  <a:t>kidneys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Rectangle 8"/>
              <p:cNvSpPr/>
              <p:nvPr/>
            </p:nvSpPr>
            <p:spPr>
              <a:xfrm>
                <a:off x="4500360" y="5049000"/>
                <a:ext cx="112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800" spc="-1" strike="noStrike">
                    <a:solidFill>
                      <a:srgbClr val="eb8803"/>
                    </a:solidFill>
                    <a:latin typeface="Arial"/>
                  </a:rPr>
                  <a:t>lungs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Straight Connector 10"/>
              <p:cNvSpPr/>
              <p:nvPr/>
            </p:nvSpPr>
            <p:spPr>
              <a:xfrm>
                <a:off x="4362480" y="5121360"/>
                <a:ext cx="1359000" cy="1440"/>
              </a:xfrm>
              <a:prstGeom prst="line">
                <a:avLst/>
              </a:prstGeom>
              <a:ln w="28440">
                <a:solidFill>
                  <a:srgbClr val="61b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Text Box 4"/>
          <p:cNvSpPr/>
          <p:nvPr/>
        </p:nvSpPr>
        <p:spPr>
          <a:xfrm>
            <a:off x="1938960" y="-2700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12"/>
          <p:cNvSpPr/>
          <p:nvPr/>
        </p:nvSpPr>
        <p:spPr>
          <a:xfrm>
            <a:off x="2030040" y="642960"/>
            <a:ext cx="50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ef0bf5"/>
                </a:solidFill>
                <a:latin typeface="Arial"/>
              </a:rPr>
              <a:t>1) Bicarbonate buffer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02D9-1D05-4FA7-9D69-0826EA0A795E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890360" y="-28440"/>
            <a:ext cx="5453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2) Phosphate Buffer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4"/>
          <p:cNvSpPr/>
          <p:nvPr/>
        </p:nvSpPr>
        <p:spPr>
          <a:xfrm>
            <a:off x="308880" y="1157400"/>
            <a:ext cx="85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hosphate buffer system not important as extracellular fl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uffer (concentration too low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5"/>
          <p:cNvSpPr/>
          <p:nvPr/>
        </p:nvSpPr>
        <p:spPr>
          <a:xfrm>
            <a:off x="294120" y="2035080"/>
            <a:ext cx="81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However, major </a:t>
            </a:r>
            <a:r>
              <a:rPr b="1" lang="en-IE" sz="2400" spc="-1" strike="noStrike">
                <a:solidFill>
                  <a:srgbClr val="00b0f0"/>
                </a:solidFill>
                <a:latin typeface="Arial"/>
              </a:rPr>
              <a:t>INTRACELLULAR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buffer and 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RENAL TUBULAR FLUID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858600" y="3571920"/>
            <a:ext cx="6595560" cy="8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trong acid converted to weak acid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ess effect on p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Box 7"/>
          <p:cNvSpPr/>
          <p:nvPr/>
        </p:nvSpPr>
        <p:spPr>
          <a:xfrm>
            <a:off x="336960" y="3027240"/>
            <a:ext cx="610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ain components are HP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1055880" y="4944960"/>
            <a:ext cx="67478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+ H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trong base converted to weak bas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ess effect on p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4"/>
          <p:cNvSpPr/>
          <p:nvPr/>
        </p:nvSpPr>
        <p:spPr>
          <a:xfrm>
            <a:off x="1896120" y="311040"/>
            <a:ext cx="5287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3) Protein Buf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293040" y="4235400"/>
            <a:ext cx="867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boxyl an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ino groups on plasma proteins are eff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e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243360" y="2871720"/>
            <a:ext cx="879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 60 - 70% of total chemical buffering of body fluids is lo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cellularly, mostly due to intracellular protei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46600" y="14922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s among most plentiful buffers in body, particula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y concentrated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NTRACELLULARL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1265040" y="469728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RCOOH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Arial"/>
              </a:rPr>
              <a:t>↔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RCOO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+ H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1590480" y="5213520"/>
            <a:ext cx="527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RNH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Arial"/>
              </a:rPr>
              <a:t>↔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RNH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+ H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9:34:33Z</dcterms:created>
  <dc:creator>Computer Centre</dc:creator>
  <dc:description/>
  <dc:language>en-US</dc:language>
  <cp:lastModifiedBy>DR.AHMAD</cp:lastModifiedBy>
  <dcterms:modified xsi:type="dcterms:W3CDTF">2016-05-01T06:37:52Z</dcterms:modified>
  <cp:revision>539</cp:revision>
  <dc:subject/>
  <dc:title>Slide 1</dc:title>
</cp:coreProperties>
</file>