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724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08440" y="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73200" y="4642920"/>
            <a:ext cx="53784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0844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4A36-71BA-4D3A-87B4-67FCCFEBEC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0844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A138-647F-436E-8551-03226F18077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73200" y="4642920"/>
            <a:ext cx="53784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0844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9520-B08F-49D9-8200-C4DD4E1E84A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73200" y="4642920"/>
            <a:ext cx="53784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E112-0631-4BC9-A35F-1CCBDDC8A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38FC-306A-42D8-A587-D1851E65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8E44-2402-4AC3-8D5C-17A3C98BF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5E7B-1398-4CA9-80C0-603C96471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2834-FC6C-431B-BF45-7289F4B0E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A263-C353-4734-BE7A-2D9C2166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3A10-3E13-4933-8EA8-83F585A8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D350-0478-47BE-9EA8-9621E431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D850-48A2-43E4-8EA7-D177B65E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9477-B896-48C0-AB47-5D9DFEBF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F907-2A2B-4CE7-AE87-55C8E980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6280-F295-4AD1-A61D-C4DB394A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6D5A-963B-4226-B845-092F728F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60DE-2D6B-4880-95EC-CA07FAC7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D6A9-017B-4929-A7BB-F5338862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88F9-8475-4742-9D97-05C436A24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A287-15B0-4783-8357-B01FA8254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349E8-3D77-4A29-A3E2-D3EAA1146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12AFD-DFC9-4217-8655-B63ED051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C312E-009F-4266-A271-F4094148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E4CD9-49B3-498D-A8E4-5F9C4A43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E4C73-BE50-41DD-92B3-28FFA29E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3059-D62E-4F4B-BE36-3FBF7929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766D3-1C65-49EE-AC1F-0150D4EB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B3F48-F94C-47F1-9E17-199914A5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FA8EC-5A20-41A1-BDEB-10D29F67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6EE07-84F3-42A4-9C0A-0B43BD9E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DBC30-FA41-418E-A8B0-233D44EC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06F15-3AD9-4FAC-A633-EF70CCB7B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7AEA6-4C2E-4FC6-883F-75C4188D7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B02A9-34E1-4AD4-812E-9C7D2FADA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753B9-CF2F-4677-A6CC-61BF0EAE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4A2A4-FB1F-4886-8CF2-2CB31E49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6F7F-64B1-41A5-9C4A-31E960CF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574E6-8D3D-4F91-A1C5-1A5A47EC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2DC36-9D05-4F72-B282-CCC356FF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E90A9-90F7-40E6-8943-53201ECF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A302B-FBDD-4039-AB8F-BDC342DF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0DA34-64CC-4BB5-BDFB-C3663921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F9E7E-BBC9-4F67-AA51-157E4D29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49ADF-D9A0-4AC1-9C7A-569C46C5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8B6FD-0811-4CED-9D74-135C70CAE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B8103-A30C-412B-BD07-ACC7CBC47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6D5E0-F1EB-46A5-9677-823DF372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403E-10CD-4AED-B3C2-AAC702F0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3AE05-D66F-487B-8976-6912D08C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5029A-8AB6-480C-AC69-723CB2BB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FF01A-307F-4457-9311-F147A954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47621-CDD3-42C3-B888-89F496FC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AB9EC-07C7-4283-B87D-3C5226C1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08556-BF4F-4DCE-B659-823EFC18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CCBBB-EC2D-4902-8524-18D2BF1C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D5822-7CA2-42B4-BEB4-991E413F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395AE-77D3-4AA9-8AC2-3B91898B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18676-F4F4-442A-AEA0-3A3E48041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1621-5D95-4EF9-8239-E1416A2B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A4102-60EA-4A84-91A9-993C49663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77443-CB38-4FB4-9BA0-3B0C933C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48815-8343-4342-87F7-B4C46DC4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3705F-4C19-4E78-9964-4A921FAA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D36B1-0989-4131-909E-FFB0DAED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D40C5-6CD8-4C21-B5E6-18EE7BC4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8C1FB-3035-4E3C-93D8-91598E4E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04EF4-E67F-46AE-841E-6A15FD96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47157-E240-4ECC-89D1-DFF37BED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CCBA2-E396-4987-9A70-42A86124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FBBD-CC87-4A0A-AC24-63DDEAD1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EAC46-C571-4BF7-9831-1B1CB8D8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EEB8B-8A3F-49E2-A8DC-6935C772B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C0BF2-FFCD-426D-B523-1335B02A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BB086-AE84-4228-9602-07320D83D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3E041-E7C3-41CD-928E-979F09B3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EDD8B-1666-42FB-89BF-68E20968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A8942-5C81-4AE4-A739-E1DF786C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297AF-4F10-44CC-A70D-6A4B4BC5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0593E-74E5-4BA1-A80B-41E06BDF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67D73-6C5F-48AC-B4DF-46B15571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3AC6-B0C7-4833-B055-F39D504D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8A08A-135B-47D8-82BA-D6A8B3AD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9F136-BE2C-41C8-BD9A-E28BCEB3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AA7F4-A447-4517-827E-9040C28D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9AF67-2BFE-4B4C-AA16-82ED5D5BA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F8E8B-D64F-4439-A9B8-C7883C8D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4630-8575-4523-8EC0-E09B37CB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C3BE-4851-43D7-A3F0-289E9C6861D3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F922-5633-49FE-B21C-23EB5161D98A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E9C3-DC7E-4F1B-A0A9-739A241109C3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01B4-DC0E-44D3-93DB-F4C16ABB9ECE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1FE5-62D1-42BF-905D-0E8A4C42C40D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42ED-44C8-4DE5-8011-F94A5127BEC7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8080" y="121752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520" y="1282680"/>
              <a:ext cx="950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8080" y="128232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520" y="1370160"/>
            <a:ext cx="128880" cy="131400"/>
            <a:chOff x="8669520" y="1370160"/>
            <a:chExt cx="12888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1080" y="137016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520" y="1435320"/>
              <a:ext cx="954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1080" y="143496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2960" y="147312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400" y="1538280"/>
              <a:ext cx="950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2960" y="153792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3CEF-CCAF-4EFE-9CA0-8E2752D24D6D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hmeda@ksu.edu.sa" TargetMode="Externa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3"/>
          <p:cNvSpPr/>
          <p:nvPr/>
        </p:nvSpPr>
        <p:spPr>
          <a:xfrm>
            <a:off x="1950840" y="1413000"/>
            <a:ext cx="492948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66"/>
                </a:solidFill>
                <a:latin typeface="Arial"/>
              </a:rPr>
              <a:t>(Renal Physiology 1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id-Base Balance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id Base Dis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2643480" y="3849840"/>
            <a:ext cx="368424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Corbel"/>
              </a:rPr>
              <a:t>Ahmad Ahme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aahmeda@ksu.edu.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Corbel"/>
              </a:rPr>
              <a:t>Cell phone: 05363134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Slide Number Placeholder 6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B56D-53EF-4CF0-A783-7FDC651BFB6E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B6AA-5CBF-4A42-9BA2-2F11A49A5CAD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2"/>
          <p:cNvSpPr/>
          <p:nvPr/>
        </p:nvSpPr>
        <p:spPr>
          <a:xfrm>
            <a:off x="390600" y="1643040"/>
            <a:ext cx="8610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Can occur in response t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buClr>
                <a:srgbClr val="d6ecff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High protein diet - protein catabolism produ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phosphoric acid and sulphuric ac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2) High fat diet  - fat catabolism produces fatty aci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3) Heavy exercise – stimulates anaerobic metabolism, producing lactic ac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4) Addition of fixed acids (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.g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diabetic ketoacidosi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5) Severe diarrhoea – loss of bicarbonate from intesti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6) Alterations in renal function (inability to excrete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7) Tissue hypoxia (produces lactic aci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8) Ingested substances such as methanol, aspirin (acetylsalicylic acid), ethylene glyc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352440" y="165960"/>
            <a:ext cx="825336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tabolic Acid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14200" y="714240"/>
            <a:ext cx="83962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aused by either i) </a:t>
            </a:r>
            <a:r>
              <a:rPr b="1" lang="en-US" sz="2400" spc="-1" strike="noStrike">
                <a:solidFill>
                  <a:srgbClr val="ff0000"/>
                </a:solidFill>
                <a:latin typeface="Corbel"/>
              </a:rPr>
              <a:t>INCREASED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acid </a:t>
            </a: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production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i)</a:t>
            </a: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rbel"/>
              </a:rPr>
              <a:t>IMPAIRED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acid </a:t>
            </a: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excretion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CFF6-906A-4B89-BA65-F1E56C612F9B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2"/>
          <p:cNvSpPr/>
          <p:nvPr/>
        </p:nvSpPr>
        <p:spPr>
          <a:xfrm>
            <a:off x="533520" y="714240"/>
            <a:ext cx="83962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spcBef>
                <a:spcPts val="700"/>
              </a:spcBef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First line of defence is shift of buffering reactions to the left to neutralise excess acid (for bicarbonate, cell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  <a:ea typeface="Arial"/>
              </a:rPr>
              <a:t>*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&amp; bone buffer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Picture 3" descr=""/>
          <p:cNvPicPr/>
          <p:nvPr/>
        </p:nvPicPr>
        <p:blipFill>
          <a:blip r:embed="rId1"/>
          <a:stretch/>
        </p:blipFill>
        <p:spPr>
          <a:xfrm>
            <a:off x="1643040" y="1890720"/>
            <a:ext cx="5759640" cy="96696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2"/>
          <p:cNvSpPr/>
          <p:nvPr/>
        </p:nvSpPr>
        <p:spPr>
          <a:xfrm>
            <a:off x="495360" y="720"/>
            <a:ext cx="825336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tabolic Acid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5"/>
          <p:cNvSpPr/>
          <p:nvPr/>
        </p:nvSpPr>
        <p:spPr>
          <a:xfrm>
            <a:off x="135000" y="5618160"/>
            <a:ext cx="9866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f0bf5"/>
                </a:solidFill>
                <a:latin typeface="Arial"/>
                <a:ea typeface="ＭＳ Ｐゴシック"/>
              </a:rPr>
              <a:t> </a:t>
            </a:r>
            <a:r>
              <a:rPr b="1" lang="en-GB" sz="2800" spc="-1" strike="noStrike" u="sng">
                <a:solidFill>
                  <a:srgbClr val="ef0bf5"/>
                </a:solidFill>
                <a:uFillTx/>
                <a:latin typeface="Arial"/>
                <a:ea typeface="ＭＳ Ｐゴシック"/>
              </a:rPr>
              <a:t>Characterised by DECREASED [HCO</a:t>
            </a:r>
            <a:r>
              <a:rPr b="1" lang="en-GB" sz="2800" spc="-1" strike="noStrike" u="sng" baseline="-25000">
                <a:solidFill>
                  <a:srgbClr val="ef0bf5"/>
                </a:solidFill>
                <a:uFillTx/>
                <a:latin typeface="Arial"/>
                <a:ea typeface="ＭＳ Ｐゴシック"/>
              </a:rPr>
              <a:t>3</a:t>
            </a:r>
            <a:r>
              <a:rPr b="1" lang="en-GB" sz="2800" spc="-1" strike="noStrike" u="sng" baseline="30000">
                <a:solidFill>
                  <a:srgbClr val="ef0bf5"/>
                </a:solidFill>
                <a:uFillTx/>
                <a:latin typeface="Arial"/>
                <a:ea typeface="ＭＳ Ｐゴシック"/>
              </a:rPr>
              <a:t>-</a:t>
            </a:r>
            <a:r>
              <a:rPr b="1" lang="en-GB" sz="2800" spc="-1" strike="noStrike" u="sng">
                <a:solidFill>
                  <a:srgbClr val="ef0bf5"/>
                </a:solidFill>
                <a:uFillTx/>
                <a:latin typeface="Arial"/>
                <a:ea typeface="ＭＳ Ｐゴシック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f0bf5"/>
                </a:solidFill>
                <a:latin typeface="Arial"/>
                <a:ea typeface="ＭＳ Ｐゴシック"/>
              </a:rPr>
              <a:t>    </a:t>
            </a:r>
            <a:r>
              <a:rPr b="1" lang="en-GB" sz="2800" spc="-1" strike="noStrike" u="sng">
                <a:solidFill>
                  <a:srgbClr val="ef0bf5"/>
                </a:solidFill>
                <a:uFillTx/>
                <a:latin typeface="Arial"/>
                <a:ea typeface="ＭＳ Ｐゴシック"/>
              </a:rPr>
              <a:t>(&lt;25mM) and pH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490680" y="2857680"/>
            <a:ext cx="75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Metabolic acidosis increases ventilation rate </a:t>
            </a:r>
            <a:r>
              <a:rPr b="0" i="1" lang="en-IE" sz="2400" spc="-1" strike="noStrike">
                <a:solidFill>
                  <a:srgbClr val="ffffff"/>
                </a:solidFill>
                <a:latin typeface="Arial"/>
              </a:rPr>
              <a:t>v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chemoreceptor activ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473040" y="3787920"/>
            <a:ext cx="8528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ncreased expiration of 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reduces P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levels whi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ncreases pH of ECF (respiratory compensatio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492120" y="4691160"/>
            <a:ext cx="9302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Acidosis </a:t>
            </a:r>
            <a:r>
              <a:rPr b="1" lang="en-IE" sz="2400" spc="-1" strike="noStrike">
                <a:solidFill>
                  <a:srgbClr val="ff0000"/>
                </a:solidFill>
                <a:latin typeface="Arial"/>
              </a:rPr>
              <a:t>INCREASES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renal </a:t>
            </a:r>
            <a:r>
              <a:rPr b="1" lang="en-IE" sz="2400" spc="-1" strike="noStrike">
                <a:solidFill>
                  <a:srgbClr val="ffff00"/>
                </a:solidFill>
                <a:latin typeface="Arial"/>
              </a:rPr>
              <a:t>SECRETION </a:t>
            </a:r>
            <a:r>
              <a:rPr b="0" lang="en-IE" sz="2400" spc="-1" strike="noStrike">
                <a:solidFill>
                  <a:srgbClr val="ffff00"/>
                </a:solidFill>
                <a:latin typeface="Arial"/>
              </a:rPr>
              <a:t>of H</a:t>
            </a:r>
            <a:r>
              <a:rPr b="0" lang="en-IE" sz="24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IE" sz="2400" spc="-1" strike="noStrike">
                <a:solidFill>
                  <a:srgbClr val="00b0f0"/>
                </a:solidFill>
                <a:latin typeface="Arial"/>
              </a:rPr>
              <a:t>ABSORPTION</a:t>
            </a:r>
            <a:r>
              <a:rPr b="0" lang="en-IE" sz="2400" spc="-1" strike="noStrike">
                <a:solidFill>
                  <a:srgbClr val="00b0f0"/>
                </a:solidFill>
                <a:latin typeface="Arial"/>
              </a:rPr>
              <a:t> of 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</a:rPr>
              <a:t>HCO</a:t>
            </a:r>
            <a:r>
              <a:rPr b="0" lang="en-GB" sz="2400" spc="-1" strike="noStrike" baseline="-25000">
                <a:solidFill>
                  <a:srgbClr val="00b0f0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00b0f0"/>
                </a:solidFill>
                <a:latin typeface="Arial"/>
              </a:rPr>
              <a:t>-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ECF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[H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] increa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43F3-C608-4C3C-BEBB-9615CCD74B09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2437560" y="344520"/>
            <a:ext cx="4399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Davenport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Acid-base alt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Picture 4" descr="Davenport diagram-fig 30"/>
          <p:cNvPicPr/>
          <p:nvPr/>
        </p:nvPicPr>
        <p:blipFill>
          <a:blip r:embed="rId1"/>
          <a:stretch/>
        </p:blipFill>
        <p:spPr>
          <a:xfrm>
            <a:off x="3556080" y="1835280"/>
            <a:ext cx="4730760" cy="39700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4"/>
          <p:cNvSpPr/>
          <p:nvPr/>
        </p:nvSpPr>
        <p:spPr>
          <a:xfrm>
            <a:off x="579240" y="171468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Metabolic Acido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650160" y="2214720"/>
            <a:ext cx="20505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↓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lasma pH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↓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lasma [HCO</a:t>
            </a:r>
            <a:r>
              <a:rPr b="1" lang="en-GB" sz="1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GB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]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↓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co</a:t>
            </a:r>
            <a:r>
              <a:rPr b="1" lang="en-GB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592E-F616-4F2D-976C-4111F04D1C07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495360" y="154800"/>
            <a:ext cx="825336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tabolic Acid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2"/>
          <p:cNvSpPr/>
          <p:nvPr/>
        </p:nvSpPr>
        <p:spPr>
          <a:xfrm>
            <a:off x="293760" y="1071720"/>
            <a:ext cx="86104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Corbel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Corbel"/>
              </a:rPr>
              <a:t>*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Uptake of excess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by cells is accompanied, in part, by </a:t>
            </a:r>
            <a:r>
              <a:rPr b="1" lang="en-US" sz="2400" spc="-1" strike="noStrike">
                <a:solidFill>
                  <a:srgbClr val="0099ff"/>
                </a:solidFill>
                <a:latin typeface="Corbel"/>
              </a:rPr>
              <a:t>LOSS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of </a:t>
            </a: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intra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ellular K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(and 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) to </a:t>
            </a: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extra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ellular fluid to maint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1" lang="en-US" sz="2400" spc="-1" strike="noStrike">
                <a:solidFill>
                  <a:srgbClr val="ef0bf5"/>
                </a:solidFill>
                <a:latin typeface="Corbel"/>
              </a:rPr>
              <a:t>ELECTRONEUTRALITY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285840" y="2714760"/>
            <a:ext cx="86104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us, metabolic acidosis often associated with </a:t>
            </a:r>
            <a:r>
              <a:rPr b="1" lang="en-US" sz="2400" spc="-1" strike="noStrike">
                <a:solidFill>
                  <a:srgbClr val="66ff33"/>
                </a:solidFill>
                <a:latin typeface="Corbel"/>
              </a:rPr>
              <a:t>INCREA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Corbe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Corbel"/>
              </a:rPr>
              <a:t>plasma [K</a:t>
            </a:r>
            <a:r>
              <a:rPr b="1" lang="en-US" sz="2400" spc="-1" strike="noStrike" baseline="30000">
                <a:solidFill>
                  <a:srgbClr val="66ff33"/>
                </a:solidFill>
                <a:latin typeface="Corbel"/>
              </a:rPr>
              <a:t>+</a:t>
            </a:r>
            <a:r>
              <a:rPr b="1" lang="en-US" sz="2400" spc="-1" strike="noStrike">
                <a:solidFill>
                  <a:srgbClr val="66ff33"/>
                </a:solidFill>
                <a:latin typeface="Corbel"/>
              </a:rPr>
              <a:t>]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lative to that expected from state of potass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al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2"/>
          <p:cNvSpPr/>
          <p:nvPr/>
        </p:nvSpPr>
        <p:spPr>
          <a:xfrm>
            <a:off x="293760" y="4286160"/>
            <a:ext cx="86104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Corbe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rbel"/>
              </a:rPr>
              <a:t>HYPERKALEMIA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can develop even though body K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stores a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iminish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299880" y="5357880"/>
            <a:ext cx="86108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Cation shift is </a:t>
            </a:r>
            <a:r>
              <a:rPr b="1" lang="en-GB" sz="2400" spc="-1" strike="noStrike">
                <a:solidFill>
                  <a:srgbClr val="ffc000"/>
                </a:solidFill>
                <a:latin typeface="Corbel"/>
              </a:rPr>
              <a:t>REVERSED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with correction of acido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ADB1-D3E5-47FE-93A5-B7863B8376E4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2"/>
          <p:cNvSpPr/>
          <p:nvPr/>
        </p:nvSpPr>
        <p:spPr>
          <a:xfrm>
            <a:off x="533520" y="1112760"/>
            <a:ext cx="86104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1) Excessive vomiting – loss of HCl from stomach (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retention 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(duodenal) bicarbonate in circulatio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2) Alterations in renal function (↑ excretion of titratable ac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i="1" lang="en-GB" sz="2000" spc="-1" strike="noStrike">
                <a:solidFill>
                  <a:srgbClr val="ffffff"/>
                </a:solidFill>
                <a:latin typeface="Corbel"/>
              </a:rPr>
              <a:t>e.g.,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thiazide and loop diuretics 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N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reabsorption 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excre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of H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3) Excessive ingestion of bicarbonate antacids paired with renal fail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4)  Volume contraction (</a:t>
            </a:r>
            <a:r>
              <a:rPr b="0" i="1" lang="en-GB" sz="2000" spc="-1" strike="noStrike">
                <a:solidFill>
                  <a:srgbClr val="ffffff"/>
                </a:solidFill>
                <a:latin typeface="Corbel"/>
              </a:rPr>
              <a:t>e.g 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i="1" lang="en-GB" sz="2000" spc="-1" strike="noStrike">
                <a:solidFill>
                  <a:srgbClr val="ffffff"/>
                </a:solidFill>
                <a:latin typeface="Corbel"/>
              </a:rPr>
              <a:t>via 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diuretic therapy 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plasma [HC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rbel"/>
              </a:rPr>
              <a:t>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rbel"/>
              </a:rPr>
              <a:t>-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]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5) Excess aldosterone (stimulates collecting duct  H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-ATPases to excrete H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)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2"/>
          <p:cNvSpPr/>
          <p:nvPr/>
        </p:nvSpPr>
        <p:spPr>
          <a:xfrm>
            <a:off x="495360" y="165960"/>
            <a:ext cx="825336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tabolic Alkal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655560" y="4235400"/>
            <a:ext cx="8358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ncrease in pH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EDUCES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ventilation rate, eleva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P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lev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642960" y="5094360"/>
            <a:ext cx="8072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Reduction in renal absorption and ↑ excretion of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n the nephron.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6"/>
          <p:cNvSpPr/>
          <p:nvPr/>
        </p:nvSpPr>
        <p:spPr>
          <a:xfrm>
            <a:off x="168120" y="5792760"/>
            <a:ext cx="8786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f0bf5"/>
                </a:solidFill>
                <a:latin typeface="Arial"/>
                <a:ea typeface="ＭＳ Ｐゴシック"/>
              </a:rPr>
              <a:t> </a:t>
            </a:r>
            <a:r>
              <a:rPr b="1" lang="en-GB" sz="2800" spc="-1" strike="noStrike">
                <a:solidFill>
                  <a:srgbClr val="ef0bf5"/>
                </a:solidFill>
                <a:latin typeface="Arial"/>
                <a:ea typeface="ＭＳ Ｐゴシック"/>
              </a:rPr>
              <a:t>Characterised by ELEVATED plasma [HCO</a:t>
            </a:r>
            <a:r>
              <a:rPr b="1" lang="en-GB" sz="2800" spc="-1" strike="noStrike" baseline="-25000">
                <a:solidFill>
                  <a:srgbClr val="ef0bf5"/>
                </a:solidFill>
                <a:latin typeface="Arial"/>
                <a:ea typeface="ＭＳ Ｐゴシック"/>
              </a:rPr>
              <a:t>3</a:t>
            </a:r>
            <a:r>
              <a:rPr b="1" lang="en-GB" sz="2800" spc="-1" strike="noStrike" baseline="30000">
                <a:solidFill>
                  <a:srgbClr val="ef0bf5"/>
                </a:solidFill>
                <a:latin typeface="Arial"/>
                <a:ea typeface="ＭＳ Ｐゴシック"/>
              </a:rPr>
              <a:t>-</a:t>
            </a:r>
            <a:r>
              <a:rPr b="1" lang="en-GB" sz="2800" spc="-1" strike="noStrike">
                <a:solidFill>
                  <a:srgbClr val="ef0bf5"/>
                </a:solidFill>
                <a:latin typeface="Arial"/>
                <a:ea typeface="ＭＳ Ｐゴシック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f0bf5"/>
                </a:solidFill>
                <a:latin typeface="Arial"/>
                <a:ea typeface="ＭＳ Ｐゴシック"/>
              </a:rPr>
              <a:t>    </a:t>
            </a:r>
            <a:r>
              <a:rPr b="1" lang="en-GB" sz="2800" spc="-1" strike="noStrike">
                <a:solidFill>
                  <a:srgbClr val="ef0bf5"/>
                </a:solidFill>
                <a:latin typeface="Arial"/>
                <a:ea typeface="ＭＳ Ｐゴシック"/>
              </a:rPr>
              <a:t>and p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-71640" y="668160"/>
            <a:ext cx="88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latively rare phenomenon that can occur in response t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8"/>
          <p:cNvSpPr/>
          <p:nvPr/>
        </p:nvSpPr>
        <p:spPr>
          <a:xfrm>
            <a:off x="214200" y="3751200"/>
            <a:ext cx="864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oss of acid ↑ dissociation of 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↑ H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6C26-B8B0-44B6-828B-DA93458F4102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2437560" y="344520"/>
            <a:ext cx="4399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Davenport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Acid-base alt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Picture 4" descr="Davenport diagram-fig 30"/>
          <p:cNvPicPr/>
          <p:nvPr/>
        </p:nvPicPr>
        <p:blipFill>
          <a:blip r:embed="rId1"/>
          <a:stretch/>
        </p:blipFill>
        <p:spPr>
          <a:xfrm>
            <a:off x="3556080" y="1835280"/>
            <a:ext cx="4730760" cy="397008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4"/>
          <p:cNvSpPr/>
          <p:nvPr/>
        </p:nvSpPr>
        <p:spPr>
          <a:xfrm>
            <a:off x="579240" y="171468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Metabolic Alkalo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704160" y="2214720"/>
            <a:ext cx="280656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lasma pH,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lasma [HCO</a:t>
            </a:r>
            <a:r>
              <a:rPr b="1" lang="en-GB" sz="1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GB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] ,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Pco</a:t>
            </a:r>
            <a:r>
              <a:rPr b="1" lang="en-GB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4"/>
          <p:cNvSpPr/>
          <p:nvPr/>
        </p:nvSpPr>
        <p:spPr>
          <a:xfrm>
            <a:off x="2008440" y="60480"/>
            <a:ext cx="5034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Acid-Base Imbalan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Summar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492120" y="1071720"/>
            <a:ext cx="775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id-base balance can be altered in one of four way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) respiratory acidosis or alkal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i) metabolic acidosis or alkal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494280" y="4286160"/>
            <a:ext cx="865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METABOLIC ACID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used b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↑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roduction / intak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r ↓[bicarbonate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486000" y="5184720"/>
            <a:ext cx="796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f0bf5"/>
                </a:solidFill>
                <a:latin typeface="Arial"/>
              </a:rPr>
              <a:t>METABOLIC ALKAL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used b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↓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roductio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↑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limination of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or ↑ in [bicarbonate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498960" y="2357280"/>
            <a:ext cx="8009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SPIRATORY ACID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used b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↓ elimination 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 secondary to either ↓ respiration or gas ex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513720" y="3216240"/>
            <a:ext cx="8140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7fd13b"/>
                </a:solidFill>
                <a:latin typeface="Arial"/>
              </a:rPr>
              <a:t>RESPIRATORY ALKAL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used b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↑ elimination 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by hyperventilatio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5" descr=""/>
          <p:cNvPicPr/>
          <p:nvPr/>
        </p:nvPicPr>
        <p:blipFill>
          <a:blip r:embed="rId1"/>
          <a:srcRect l="23660" t="39286" r="10715" b="25003"/>
          <a:stretch/>
        </p:blipFill>
        <p:spPr>
          <a:xfrm>
            <a:off x="46080" y="1859040"/>
            <a:ext cx="9063000" cy="308268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2"/>
          <p:cNvSpPr/>
          <p:nvPr/>
        </p:nvSpPr>
        <p:spPr>
          <a:xfrm>
            <a:off x="495360" y="176040"/>
            <a:ext cx="825336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cid / Base Disord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B45A-88E8-4E43-BABB-7ECDFD15DBA8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1015560" y="100080"/>
            <a:ext cx="72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Analysis of Acid-Base Disord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6"/>
          <p:cNvSpPr/>
          <p:nvPr/>
        </p:nvSpPr>
        <p:spPr>
          <a:xfrm>
            <a:off x="322200" y="928800"/>
            <a:ext cx="834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Analysis aimed at identifying underlying cause  of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such that appropriate therapy can be initi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350280" y="1955880"/>
            <a:ext cx="81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In addition to usual history taking and physical finding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sampling of arterial blood can yield valuable inform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397080" y="3027240"/>
            <a:ext cx="777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Analysis of blood sample data is straightforward i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approached systematically either using the Daven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nomogram or flow diagra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6" name="Picture 4" descr="Davenport diagram-fig 30"/>
          <p:cNvPicPr/>
          <p:nvPr/>
        </p:nvPicPr>
        <p:blipFill>
          <a:blip r:embed="rId1"/>
          <a:stretch/>
        </p:blipFill>
        <p:spPr>
          <a:xfrm>
            <a:off x="3000240" y="4286160"/>
            <a:ext cx="28083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4558-B343-4C50-BBDC-3C26FA3C709F}" type="slidenum">
              <a:rPr b="0" lang="en-GB" sz="1200" spc="-1" strike="noStrike">
                <a:solidFill>
                  <a:srgbClr val="d6ec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2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How to Analyze an AB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826920" y="1415880"/>
            <a:ext cx="784872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=  80 – 100 mmH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.   p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=  7.35 – 7.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cido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lt;7.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kalo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gt;7.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=  35 – 45 mmH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cido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gt;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kalo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lt;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=  22 – 26 mmol/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cidotic          &lt; 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kalo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gt; 2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5"/>
          <p:cNvSpPr/>
          <p:nvPr/>
        </p:nvSpPr>
        <p:spPr>
          <a:xfrm>
            <a:off x="684360" y="2138400"/>
            <a:ext cx="7704000" cy="25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o explain the principles of blood gas and acid-base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o interpret blood gas analysis and diagnose various acid base disor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escribe causes of acid base disor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Understand use of acid base nomo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2228040" y="406440"/>
            <a:ext cx="47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arning 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Slide Number Placeholder 7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5C28-379A-4744-8D50-336C96BB8703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6D39-60D7-4FCC-BF88-FC0C4004B8F6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1015560" y="100080"/>
            <a:ext cx="72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Analysis of Acid-Base Disord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Picture 3" descr="approach for the analysis of simple acid-base disorders - fig 36.6.JPG"/>
          <p:cNvPicPr/>
          <p:nvPr/>
        </p:nvPicPr>
        <p:blipFill>
          <a:blip r:embed="rId1"/>
          <a:stretch/>
        </p:blipFill>
        <p:spPr>
          <a:xfrm>
            <a:off x="3733920" y="928800"/>
            <a:ext cx="5367240" cy="4846680"/>
          </a:xfrm>
          <a:prstGeom prst="rect">
            <a:avLst/>
          </a:prstGeom>
          <a:ln w="0">
            <a:noFill/>
          </a:ln>
        </p:spPr>
      </p:pic>
      <p:sp>
        <p:nvSpPr>
          <p:cNvPr id="463" name="TextBox 4"/>
          <p:cNvSpPr/>
          <p:nvPr/>
        </p:nvSpPr>
        <p:spPr>
          <a:xfrm>
            <a:off x="18000" y="1214280"/>
            <a:ext cx="33627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pH = 7.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[H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] = 16mEq/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PCO2 = 30 mm H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Box 5"/>
          <p:cNvSpPr/>
          <p:nvPr/>
        </p:nvSpPr>
        <p:spPr>
          <a:xfrm>
            <a:off x="14040" y="28576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1) Evaluate pH - 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Box 6"/>
          <p:cNvSpPr/>
          <p:nvPr/>
        </p:nvSpPr>
        <p:spPr>
          <a:xfrm>
            <a:off x="41040" y="3344760"/>
            <a:ext cx="3705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2) Metabolic or respiratory sour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[HCO</a:t>
            </a:r>
            <a:r>
              <a:rPr b="0" lang="en-IE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IE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] &lt; 24mM = metabo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Box 7"/>
          <p:cNvSpPr/>
          <p:nvPr/>
        </p:nvSpPr>
        <p:spPr>
          <a:xfrm>
            <a:off x="36360" y="4354560"/>
            <a:ext cx="31114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3) Analysis of compensato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respo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   ↓ 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PCO</a:t>
            </a:r>
            <a:r>
              <a:rPr b="0" lang="en-IE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– respirato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compens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Box 8"/>
          <p:cNvSpPr/>
          <p:nvPr/>
        </p:nvSpPr>
        <p:spPr>
          <a:xfrm>
            <a:off x="475200" y="5878440"/>
            <a:ext cx="819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Mixed acid-base disorders can also occur (</a:t>
            </a:r>
            <a:r>
              <a:rPr b="0" i="1" lang="en-IE" sz="18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emphysema with diarrhea)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which an appropriate compensatory response has not occurr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EF79-217C-418F-9AB8-48C995C90517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Content Placeholder 2"/>
          <p:cNvSpPr/>
          <p:nvPr/>
        </p:nvSpPr>
        <p:spPr>
          <a:xfrm>
            <a:off x="685800" y="522360"/>
            <a:ext cx="79246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) A 50 year-old man with history of type 2 diabetes was admitted to the emergency department with history of polyuria. On examination he had rapid and deep breathing. Blood analysis showed glucose level of 400 mg/dl.     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 following is the arterial blood analysis report of  this patient: 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H = 7.1,  PC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= 40 mmHg and HC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 = 18 mmol/L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Normal reference ranges: PCO2 = 36.0-46.0 mmHg, HCO3- = 22.0-26.0 mmol/L)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hat is the acid base disturbance in this cas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F722-9CD0-4972-BD85-D733FABE604B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Content Placeholder 2"/>
          <p:cNvSpPr/>
          <p:nvPr/>
        </p:nvSpPr>
        <p:spPr>
          <a:xfrm>
            <a:off x="685800" y="457200"/>
            <a:ext cx="7772400" cy="45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Calibri"/>
              </a:rPr>
              <a:t>2) PH= 7.12, PaCO2= 60mmHg, HCO3‾ = 24meq/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268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a) Compensated metabolic acid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268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b) Uncompensated metabolic acidosi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268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c) Compensated respiratory acidosi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268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d) Uncompensated respiratory acidosi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5A83-4D4F-4FB0-B97D-17D6F566AFE3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Content Placeholder 2"/>
          <p:cNvSpPr/>
          <p:nvPr/>
        </p:nvSpPr>
        <p:spPr>
          <a:xfrm>
            <a:off x="685800" y="457200"/>
            <a:ext cx="7772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d6ecff"/>
              </a:buClr>
              <a:buSzPct val="95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Calibri"/>
              </a:rPr>
              <a:t>PH= 7.51, PaCO2= 40mmHg, HCO3‾ = 31meq/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-457200">
              <a:lnSpc>
                <a:spcPct val="115000"/>
              </a:lnSpc>
              <a:buClr>
                <a:srgbClr val="ffffff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Normal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-457200">
              <a:lnSpc>
                <a:spcPct val="115000"/>
              </a:lnSpc>
              <a:buClr>
                <a:srgbClr val="ffffff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Compensated respiratory acidosi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-457200">
              <a:lnSpc>
                <a:spcPct val="115000"/>
              </a:lnSpc>
              <a:buClr>
                <a:srgbClr val="ffffff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Uncompensated respiratory alkal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-457200">
              <a:lnSpc>
                <a:spcPct val="115000"/>
              </a:lnSpc>
              <a:buClr>
                <a:srgbClr val="ffffff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Uncompensated metabolic alkalosi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542C-63C0-411F-B14F-C55541F41245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539640" y="692280"/>
            <a:ext cx="815184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74 y-o </a:t>
            </a:r>
            <a:r>
              <a:rPr b="0" lang="en-US" sz="2400" spc="-1" strike="noStrike">
                <a:solidFill>
                  <a:srgbClr val="ffffff"/>
                </a:solidFill>
                <a:latin typeface="Webdings"/>
                <a:ea typeface="Webdings"/>
              </a:rPr>
              <a:t>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with hx chronic renal failure and chronic diuretic therapy was admitted to ICU comatose and severely dehydrated.  On 40% oxygen her ABG &amp; Vital Sig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7.5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30/90 mmH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55 mmH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ul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20/m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92 mmH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5/m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2 mmol/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4"/>
          <p:cNvSpPr/>
          <p:nvPr/>
        </p:nvSpPr>
        <p:spPr>
          <a:xfrm>
            <a:off x="847800" y="4724280"/>
            <a:ext cx="775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Interpretation:  compensated metabol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lkalo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WordArt 2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8" name="Slide Number Placeholder 2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8460-6A60-414F-BEC3-0D4DB2D58B68}" type="slidenum"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3E1D-EAB2-4EE6-9BD3-73369C4DC3FA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556560" y="2286000"/>
            <a:ext cx="809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  <a:ea typeface="Arial"/>
              </a:rPr>
              <a:t>Disturbances of Acid-Bas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  <a:ea typeface="Arial"/>
              </a:rPr>
              <a:t>Bala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4"/>
          <p:cNvSpPr/>
          <p:nvPr/>
        </p:nvSpPr>
        <p:spPr>
          <a:xfrm>
            <a:off x="665280" y="809640"/>
            <a:ext cx="788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Disturbances of Acid-Base Bal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535320" y="1762200"/>
            <a:ext cx="82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id-base disturbances may be either </a:t>
            </a:r>
            <a:r>
              <a:rPr b="0" lang="en-GB" sz="2400" spc="-1" strike="noStrike">
                <a:solidFill>
                  <a:srgbClr val="66ff33"/>
                </a:solidFill>
                <a:latin typeface="Arial"/>
              </a:rPr>
              <a:t>RESPIRATOR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ef0bf5"/>
                </a:solidFill>
                <a:latin typeface="Arial"/>
              </a:rPr>
              <a:t>METABOL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542520" y="2739960"/>
            <a:ext cx="79239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 problems due to a respiratory disorder result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RESPIRATOR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cidosis or alkalo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pH problems arising from acids or bases of a non-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igin result in </a:t>
            </a:r>
            <a:r>
              <a:rPr b="1" lang="en-GB" sz="2400" spc="-1" strike="noStrike">
                <a:solidFill>
                  <a:srgbClr val="ef0bf5"/>
                </a:solidFill>
                <a:latin typeface="Arial"/>
              </a:rPr>
              <a:t>METABOL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cidosis or alkalo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0" y="928440"/>
            <a:ext cx="915192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b8803"/>
                </a:solidFill>
                <a:latin typeface="Arial"/>
                <a:ea typeface="Arial"/>
              </a:rPr>
              <a:t>Respiratory Acidosi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ssociated with 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  <a:ea typeface="Arial"/>
              </a:rPr>
              <a:t>RESPIRATORY FAILUR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.g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COPDs like emphysema)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  <a:ea typeface="Arial"/>
              </a:rPr>
              <a:t>Inadequate alveolar ventilation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  <a:ea typeface="Arial"/>
              </a:rPr>
              <a:t>Impaired gas diffusion (</a:t>
            </a:r>
            <a:r>
              <a:rPr b="0" i="1" lang="en-GB" sz="1700" spc="-1" strike="noStrike">
                <a:solidFill>
                  <a:srgbClr val="ffffff"/>
                </a:solidFill>
                <a:latin typeface="Arial"/>
                <a:ea typeface="Arial"/>
              </a:rPr>
              <a:t>e.g.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  <a:ea typeface="Arial"/>
              </a:rPr>
              <a:t> pulmonary oedema)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Characterised by ↑ Pco</a:t>
            </a:r>
            <a:r>
              <a:rPr b="1" lang="en-GB" sz="2000" spc="-1" strike="noStrike" baseline="-25000">
                <a:solidFill>
                  <a:srgbClr val="ef0bf5"/>
                </a:solidFill>
                <a:latin typeface="Arial"/>
                <a:ea typeface="Arial"/>
              </a:rPr>
              <a:t>2</a:t>
            </a:r>
            <a:r>
              <a:rPr b="1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(hypercapnia) and ↓ plasma pH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nitial response is increased conversion of C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to H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nd  HC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INCREASE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in ECF [H</a:t>
            </a:r>
            <a:r>
              <a:rPr b="0" lang="en-GB" sz="2000" spc="-1" strike="noStrike" baseline="30000">
                <a:solidFill>
                  <a:srgbClr val="ef0bf5"/>
                </a:solidFill>
                <a:latin typeface="Arial"/>
                <a:ea typeface="Arial"/>
              </a:rPr>
              <a:t>+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] </a:t>
            </a:r>
            <a:r>
              <a:rPr b="1" lang="en-GB" sz="2000" spc="-1" strike="noStrike" u="sng">
                <a:solidFill>
                  <a:srgbClr val="ef0bf5"/>
                </a:solidFill>
                <a:uFillTx/>
                <a:latin typeface="Arial"/>
                <a:ea typeface="Arial"/>
              </a:rPr>
              <a:t>and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plasma [HCO</a:t>
            </a:r>
            <a:r>
              <a:rPr b="0" lang="en-GB" sz="2000" spc="-1" strike="noStrike" baseline="-25000">
                <a:solidFill>
                  <a:srgbClr val="ef0bf5"/>
                </a:solidFill>
                <a:latin typeface="Arial"/>
                <a:ea typeface="Arial"/>
              </a:rPr>
              <a:t>3</a:t>
            </a:r>
            <a:r>
              <a:rPr b="0" lang="en-GB" sz="2000" spc="-1" strike="noStrike" baseline="30000">
                <a:solidFill>
                  <a:srgbClr val="ef0bf5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]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66ff33"/>
                </a:solidFill>
                <a:latin typeface="Arial"/>
                <a:ea typeface="Arial"/>
              </a:rPr>
              <a:t>INCREASED </a:t>
            </a: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i) renal </a:t>
            </a:r>
            <a:r>
              <a:rPr b="1" lang="en-IE" sz="2000" spc="-1" strike="noStrike">
                <a:solidFill>
                  <a:srgbClr val="ffff00"/>
                </a:solidFill>
                <a:latin typeface="Arial"/>
                <a:ea typeface="Arial"/>
              </a:rPr>
              <a:t>SECRETION OF H</a:t>
            </a:r>
            <a:r>
              <a:rPr b="1" lang="en-IE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 and ii) </a:t>
            </a:r>
            <a:r>
              <a:rPr b="1" lang="en-IE" sz="2000" spc="-1" strike="noStrike">
                <a:solidFill>
                  <a:srgbClr val="0099ff"/>
                </a:solidFill>
                <a:latin typeface="Arial"/>
                <a:ea typeface="Arial"/>
              </a:rPr>
              <a:t>ABSORPTION OF </a:t>
            </a:r>
            <a:r>
              <a:rPr b="1" lang="en-GB" sz="2000" spc="-1" strike="noStrike">
                <a:solidFill>
                  <a:srgbClr val="0099ff"/>
                </a:solidFill>
                <a:latin typeface="Arial"/>
                <a:ea typeface="Arial"/>
              </a:rPr>
              <a:t>HCO</a:t>
            </a:r>
            <a:r>
              <a:rPr b="1" lang="en-GB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3</a:t>
            </a:r>
            <a:r>
              <a:rPr b="1" lang="en-GB" sz="2000" spc="-1" strike="noStrike" baseline="30000">
                <a:solidFill>
                  <a:srgbClr val="0099ff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baseline="30000">
                <a:solidFill>
                  <a:srgbClr val="0099ff"/>
                </a:solidFill>
                <a:latin typeface="Arial"/>
                <a:ea typeface="Arial"/>
              </a:rPr>
              <a:t>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 COMPENSATORY MECHANISM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- ACUTELY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,1 mEq/L [HCO</a:t>
            </a:r>
            <a:r>
              <a:rPr b="0" lang="en-GB" sz="2000" spc="-1" strike="noStrike" baseline="-25000">
                <a:solidFill>
                  <a:srgbClr val="ef0bf5"/>
                </a:solidFill>
                <a:latin typeface="Arial"/>
                <a:ea typeface="Arial"/>
              </a:rPr>
              <a:t>3</a:t>
            </a:r>
            <a:r>
              <a:rPr b="0" lang="en-GB" sz="2000" spc="-1" strike="noStrike" baseline="30000">
                <a:solidFill>
                  <a:srgbClr val="ef0bf5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] per 10 mm Hg </a:t>
            </a:r>
            <a:r>
              <a:rPr b="0" lang="en-GB" sz="2000" spc="-1" strike="noStrike">
                <a:solidFill>
                  <a:srgbClr val="ef0bf5"/>
                </a:solidFill>
                <a:latin typeface="Symbol"/>
                <a:ea typeface="Symbol"/>
              </a:rPr>
              <a:t>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in Pco</a:t>
            </a:r>
            <a:r>
              <a:rPr b="0" lang="en-GB" sz="2000" spc="-1" strike="noStrike" baseline="-25000">
                <a:solidFill>
                  <a:srgbClr val="ef0bf5"/>
                </a:solidFill>
                <a:latin typeface="Arial"/>
                <a:ea typeface="Arial"/>
              </a:rPr>
              <a:t>2 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(tissue buffering)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CHRONICALLY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, 3.5 mEq/L [HCO</a:t>
            </a:r>
            <a:r>
              <a:rPr b="0" lang="en-GB" sz="2000" spc="-1" strike="noStrike" baseline="-25000">
                <a:solidFill>
                  <a:srgbClr val="ef0bf5"/>
                </a:solidFill>
                <a:latin typeface="Arial"/>
                <a:ea typeface="Arial"/>
              </a:rPr>
              <a:t>3</a:t>
            </a:r>
            <a:r>
              <a:rPr b="0" lang="en-GB" sz="2000" spc="-1" strike="noStrike" baseline="30000">
                <a:solidFill>
                  <a:srgbClr val="ef0bf5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] per 10 mm Hg </a:t>
            </a:r>
            <a:r>
              <a:rPr b="0" lang="en-GB" sz="2000" spc="-1" strike="noStrike">
                <a:solidFill>
                  <a:srgbClr val="ef0bf5"/>
                </a:solidFill>
                <a:latin typeface="Symbol"/>
                <a:ea typeface="Symbol"/>
              </a:rPr>
              <a:t>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in Pco</a:t>
            </a:r>
            <a:r>
              <a:rPr b="0" lang="en-GB" sz="2000" spc="-1" strike="noStrike" baseline="-25000">
                <a:solidFill>
                  <a:srgbClr val="ef0bf5"/>
                </a:solidFill>
                <a:latin typeface="Arial"/>
                <a:ea typeface="Arial"/>
              </a:rPr>
              <a:t>2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( renal acid excretion)</a:t>
            </a: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Rectangle 2"/>
          <p:cNvSpPr/>
          <p:nvPr/>
        </p:nvSpPr>
        <p:spPr>
          <a:xfrm>
            <a:off x="495360" y="165960"/>
            <a:ext cx="825336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spiratory Acid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3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10F5-10A8-4CF3-B227-ABBA894DF330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2386440" y="344520"/>
            <a:ext cx="4399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Davenport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Acid-base alt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Picture 4" descr="Davenport diagram-fig 30"/>
          <p:cNvPicPr/>
          <p:nvPr/>
        </p:nvPicPr>
        <p:blipFill>
          <a:blip r:embed="rId1"/>
          <a:stretch/>
        </p:blipFill>
        <p:spPr>
          <a:xfrm>
            <a:off x="3484440" y="1744560"/>
            <a:ext cx="4730760" cy="397044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4"/>
          <p:cNvSpPr/>
          <p:nvPr/>
        </p:nvSpPr>
        <p:spPr>
          <a:xfrm>
            <a:off x="581040" y="171468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ff"/>
                </a:solidFill>
                <a:latin typeface="Arial"/>
              </a:rPr>
              <a:t>Respiratory Acido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679680" y="2214720"/>
            <a:ext cx="25045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f0bf5"/>
                </a:solidFill>
                <a:latin typeface="Arial"/>
              </a:rPr>
              <a:t>↓ </a:t>
            </a:r>
            <a:r>
              <a:rPr b="1" lang="en-GB" sz="1800" spc="-1" strike="noStrike">
                <a:solidFill>
                  <a:srgbClr val="ef0bf5"/>
                </a:solidFill>
                <a:latin typeface="Arial"/>
              </a:rPr>
              <a:t>plasma pH, ↑ Pco</a:t>
            </a:r>
            <a:r>
              <a:rPr b="1" lang="en-GB" sz="1800" spc="-1" strike="noStrike" baseline="-25000">
                <a:solidFill>
                  <a:srgbClr val="ef0bf5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ef0bf5"/>
                </a:solidFill>
                <a:latin typeface="Arial"/>
              </a:rPr>
              <a:t>,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f0bf5"/>
                </a:solidFill>
                <a:latin typeface="Arial"/>
              </a:rPr>
              <a:t>↑ </a:t>
            </a:r>
            <a:r>
              <a:rPr b="1" lang="en-GB" sz="1800" spc="-1" strike="noStrike">
                <a:solidFill>
                  <a:srgbClr val="ef0bf5"/>
                </a:solidFill>
                <a:latin typeface="Arial"/>
              </a:rPr>
              <a:t>plasma [HCO</a:t>
            </a:r>
            <a:r>
              <a:rPr b="1" lang="en-GB" sz="1800" spc="-1" strike="noStrike" baseline="-25000">
                <a:solidFill>
                  <a:srgbClr val="ef0bf5"/>
                </a:solidFill>
                <a:latin typeface="Arial"/>
              </a:rPr>
              <a:t>3</a:t>
            </a:r>
            <a:r>
              <a:rPr b="1" lang="en-GB" sz="1800" spc="-1" strike="noStrike" baseline="30000">
                <a:solidFill>
                  <a:srgbClr val="ef0bf5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ef0bf5"/>
                </a:solidFill>
                <a:latin typeface="Arial"/>
              </a:rPr>
              <a:t>]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533520" y="112536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53520" indent="-2944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  <a:ea typeface="Arial"/>
              </a:rPr>
              <a:t>Respiratory Alkalosi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36120" indent="-245520">
              <a:lnSpc>
                <a:spcPct val="10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Reduced plasma Pco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(hypocapnia) and elevated pH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36120" indent="-245520">
              <a:lnSpc>
                <a:spcPct val="10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Caused by increased gas exchange mainly due to </a:t>
            </a:r>
            <a:r>
              <a:rPr b="1" lang="en-GB" sz="2200" spc="-1" strike="noStrike">
                <a:solidFill>
                  <a:srgbClr val="ef0bf5"/>
                </a:solidFill>
                <a:latin typeface="Arial"/>
                <a:ea typeface="Arial"/>
              </a:rPr>
              <a:t>HYPERVENTILATIO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855720" indent="-196560">
              <a:lnSpc>
                <a:spcPct val="100000"/>
              </a:lnSpc>
              <a:spcBef>
                <a:spcPts val="499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nxiety / fear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855720" indent="-196560">
              <a:lnSpc>
                <a:spcPct val="100000"/>
              </a:lnSpc>
              <a:spcBef>
                <a:spcPts val="499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igh altitud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855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f0bf5"/>
                </a:solidFill>
                <a:latin typeface="Arial"/>
                <a:ea typeface="Arial"/>
              </a:rPr>
              <a:t>- Characterised by ↓ Pco</a:t>
            </a:r>
            <a:r>
              <a:rPr b="1" lang="en-GB" sz="2800" spc="-1" strike="noStrike" baseline="-25000">
                <a:solidFill>
                  <a:srgbClr val="ef0bf5"/>
                </a:solidFill>
                <a:latin typeface="Arial"/>
                <a:ea typeface="Arial"/>
              </a:rPr>
              <a:t>2</a:t>
            </a:r>
            <a:r>
              <a:rPr b="1" lang="en-GB" sz="2800" spc="-1" strike="noStrike">
                <a:solidFill>
                  <a:srgbClr val="ef0bf5"/>
                </a:solidFill>
                <a:latin typeface="Arial"/>
                <a:ea typeface="Arial"/>
              </a:rPr>
              <a:t> and ↑ plasma pH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8557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Reduction in P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hifts buffering reaction to the lef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36120" indent="-245520">
              <a:lnSpc>
                <a:spcPct val="10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Arial"/>
                <a:ea typeface="Arial"/>
              </a:rPr>
              <a:t>DECREASE 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Arial"/>
              </a:rPr>
              <a:t>in ECF [H</a:t>
            </a:r>
            <a:r>
              <a:rPr b="0" lang="en-GB" sz="22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Arial"/>
              </a:rPr>
              <a:t>] </a:t>
            </a:r>
            <a:r>
              <a:rPr b="0" lang="en-GB" sz="2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nd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Arial"/>
              </a:rPr>
              <a:t> plasma [HCO</a:t>
            </a:r>
            <a:r>
              <a:rPr b="0" lang="en-GB" sz="22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3</a:t>
            </a:r>
            <a:r>
              <a:rPr b="0" lang="en-GB" sz="22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Arial"/>
              </a:rPr>
              <a:t>]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0000"/>
                </a:solidFill>
                <a:latin typeface="Arial"/>
                <a:ea typeface="Arial"/>
              </a:rPr>
              <a:t>DECREASED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i) renal </a:t>
            </a:r>
            <a:r>
              <a:rPr b="1" lang="en-IE" sz="2400" spc="-1" strike="noStrike">
                <a:solidFill>
                  <a:srgbClr val="ffff00"/>
                </a:solidFill>
                <a:latin typeface="Arial"/>
                <a:ea typeface="Arial"/>
              </a:rPr>
              <a:t>SECRETION</a:t>
            </a:r>
            <a:r>
              <a:rPr b="0" lang="en-IE" sz="2400" spc="-1" strike="noStrike">
                <a:solidFill>
                  <a:srgbClr val="ffff00"/>
                </a:solidFill>
                <a:latin typeface="Arial"/>
                <a:ea typeface="Arial"/>
              </a:rPr>
              <a:t> of H</a:t>
            </a:r>
            <a:r>
              <a:rPr b="0" lang="en-IE" sz="24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0" lang="en-IE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nd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ii) </a:t>
            </a:r>
            <a:r>
              <a:rPr b="1" lang="en-IE" sz="2400" spc="-1" strike="noStrike">
                <a:solidFill>
                  <a:srgbClr val="0099ff"/>
                </a:solidFill>
                <a:latin typeface="Arial"/>
                <a:ea typeface="Arial"/>
              </a:rPr>
              <a:t>ABSORPTION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of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H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(still an excess of H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relative to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is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COMPENSATORY MECHANISM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Rectangle 2"/>
          <p:cNvSpPr/>
          <p:nvPr/>
        </p:nvSpPr>
        <p:spPr>
          <a:xfrm>
            <a:off x="495360" y="165960"/>
            <a:ext cx="825336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spiratory Alkal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2386440" y="6215040"/>
            <a:ext cx="26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ffffff"/>
                </a:solidFill>
                <a:latin typeface="Arial"/>
              </a:rPr>
              <a:t>(see G &amp;H, p.396-7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E0AD-6CA7-4543-BE95-3C9B3400F2D6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2437560" y="344520"/>
            <a:ext cx="4399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Davenport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Acid-base alt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Picture 4" descr="Davenport diagram-fig 30"/>
          <p:cNvPicPr/>
          <p:nvPr/>
        </p:nvPicPr>
        <p:blipFill>
          <a:blip r:embed="rId1"/>
          <a:stretch/>
        </p:blipFill>
        <p:spPr>
          <a:xfrm>
            <a:off x="3556080" y="1835280"/>
            <a:ext cx="4730760" cy="39700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"/>
          <p:cNvSpPr/>
          <p:nvPr/>
        </p:nvSpPr>
        <p:spPr>
          <a:xfrm>
            <a:off x="581400" y="17146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Respiratory Alkalo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648000" y="2214720"/>
            <a:ext cx="25045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↑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lasma pH,↓ Pco</a:t>
            </a:r>
            <a:r>
              <a:rPr b="1" lang="en-GB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,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↓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lasma [HCO</a:t>
            </a:r>
            <a:r>
              <a:rPr b="1" lang="en-GB" sz="1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GB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]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4"/>
          <p:cNvSpPr/>
          <p:nvPr/>
        </p:nvSpPr>
        <p:spPr>
          <a:xfrm>
            <a:off x="1149840" y="100080"/>
            <a:ext cx="69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Metabolic Acidosis &amp; Alkal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6"/>
          <p:cNvSpPr/>
          <p:nvPr/>
        </p:nvSpPr>
        <p:spPr>
          <a:xfrm>
            <a:off x="-440280" y="1041480"/>
            <a:ext cx="908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tabolic acidosis and alkalosis includes all situations 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an those in which primary problem is respirat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-382320" y="2090880"/>
            <a:ext cx="92707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y definition, metabolic acidosis and alkalosis cannot be du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 excess retention or loss of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  <a:ea typeface="ＭＳ Ｐゴシック"/>
              </a:rPr>
              <a:t>does arterial Pco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Arial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  <a:ea typeface="ＭＳ Ｐゴシック"/>
              </a:rPr>
              <a:t> remain unchanged in these cas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-478080" y="3392640"/>
            <a:ext cx="176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6"/>
          <p:cNvSpPr/>
          <p:nvPr/>
        </p:nvSpPr>
        <p:spPr>
          <a:xfrm>
            <a:off x="-414360" y="3886200"/>
            <a:ext cx="96602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↑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] in acidosis will reflexly stimulate ventilation to lower P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versely, ventilation will be inhibited in alkalosis to rest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-410400" y="5216400"/>
            <a:ext cx="9414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member, plasma P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changes during metabolic acidosis 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kalosis are 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ul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of, not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u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of, compensatory ref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ponses to non-respiratory abnormal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09:34:33Z</dcterms:created>
  <dc:creator>Computer Centre</dc:creator>
  <dc:description/>
  <dc:language>en-US</dc:language>
  <cp:lastModifiedBy>Ahmad Ahmeda</cp:lastModifiedBy>
  <dcterms:modified xsi:type="dcterms:W3CDTF">2016-05-02T04:16:09Z</dcterms:modified>
  <cp:revision>520</cp:revision>
  <dc:subject/>
  <dc:title>Slide 1</dc:title>
</cp:coreProperties>
</file>