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</p:sldIdLst>
  <p:sldSz cx="9144000" cy="6858000"/>
  <p:notesSz cx="672465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7248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145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08440" y="0"/>
            <a:ext cx="29145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808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73200" y="4642920"/>
            <a:ext cx="53784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0" y="9283680"/>
            <a:ext cx="29145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08440" y="9283680"/>
            <a:ext cx="29145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CC49B-E126-41D5-8061-45A0A517F5E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08440" y="9283680"/>
            <a:ext cx="29145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D8899-0FE8-4581-B23F-1DAAFF85E3F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8080" cy="366552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73200" y="4642920"/>
            <a:ext cx="53784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08440" y="9283680"/>
            <a:ext cx="29145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4CB21-482F-483C-AE95-EC06695E85A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8080" cy="366552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73200" y="4642920"/>
            <a:ext cx="53784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FCD5-5413-4F8C-BC0B-EEAA37DD6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EEC6-672F-4748-96F1-66C22550C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D780-4658-494A-A1E8-362063FAE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9BA1-40E2-4E8B-A0D6-80348F1E2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5B004-E316-42BA-845C-55CF00680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3C4FD-E8E1-4B41-98DC-6A2054E89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4822F-E621-4F8E-AB37-9E480E777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EAF96-B763-4E54-8B17-1212CDCE1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0B8AB-007B-47B0-B239-604A5873C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5B827-5279-4C01-BB42-FE406F6E2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C7CE1-7B5B-4205-9B86-2A218C1E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E0CE-679D-4555-8EAE-DD5760E34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79A42-AB9C-4843-9E13-A9749A7E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2B9B0-9BB1-4549-893B-304B7629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E4DBA-91CF-489F-8A51-CB4C75BD1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CF3CA-D4BE-42F0-BDD9-CEA5BDD2F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08AA8-72B5-41D6-9DFB-8C91EF93C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1CE4C-F1BE-45CE-A424-F782355A5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2A543-E713-4616-93A4-9B509EA75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24D00-6D4E-4BE3-9CF4-38B67B249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31C03-21B5-4B15-B1E3-BB87E8BE6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C0771-4278-404E-99E9-CF863C6AB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1272-BD51-459C-92A5-8F7C7DC36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A8DCC-5AB4-496F-8C65-05B97807E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F832E-07D6-4266-B757-C4BEA9AD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13E31-AD19-48A3-8032-2E2B1862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024EA-FEE2-456C-B468-1D6266A7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38B9F-431B-40A3-A77E-65FEEB48C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FA8A7-1F28-4EFA-87D6-1D848E4EB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B0178-D149-4A59-9407-DC4CA3135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C3876-0761-4EE7-B946-9D225FF4D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896B3-97A1-47E0-989A-E61FB71AC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A0017-AE44-4612-A820-D7ED8FE4F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5BC8-B1E3-4EE3-9D85-F43415D8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61976-2A8B-4E69-8F31-70651D90E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547EE-392C-4B1F-BF69-8E11F09E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D8FB1-B66B-43C5-8259-2AF3623F4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6DA60-4AAD-4EBE-974B-78E5F111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E8A7A-FEF2-4FA4-9317-4451AE1A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BE238-6E79-43E6-A061-BF2DB5F4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135BA-635A-4681-950D-B7D7E3E3F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92011-E26E-4442-A1D2-A968EB6FD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01647-7208-438D-992F-5B74A7111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0E560-B995-450F-AB54-396F7E714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F237-813A-4FE1-A43E-F8F4A27D4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31086-AF49-4AA5-AB63-B02E41920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8934D-5B2D-4524-9FF5-BF6E14428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9FD49-AA8E-4DD2-B841-A3EE95BBC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306D7-1957-4438-A2D0-D046A7AA4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339AE-BDC4-4CD2-AF35-A004BDE56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CC3B5-A51B-40B1-80F9-9469BBAE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01BEB-22D2-4BCC-B061-61F6F438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AC57E-85CE-4355-83F6-B2404E2C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2FA08-A27F-4459-8ACD-A67C4288E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EBB09-3A19-44DF-81DD-C0DFD6918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10ED-E395-4AC3-AB24-AC2A86C58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70E3C-4F0E-44E4-9870-2B7C2CBB8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4BC3D-A939-489D-93D9-2915ED82A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51609-EBB9-4AF1-A19B-46A736FEE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89AFF-1895-4931-A969-66B7D8F83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3B669-80B3-4AF3-8D81-D39111266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5DDD0-A271-42C2-A875-6A80E9663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BD80B-525F-4505-AC93-FDFC24681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450AB-4318-47AA-9F19-28FCFE43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87935-B01F-46F6-989F-45E7291C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E74FB-7345-4EF2-94FB-9F0D27EF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9FCD-624A-4A2C-995E-5F99421B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2174C-1813-44A4-AD0F-D8BDE942B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D1CB5-AD2B-4C99-A69C-18CA9881F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6BEB3-BB6F-4CE9-A8A1-78E2440B7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E5A070-23AD-44F6-8875-0C781F7FA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D971A4-8CBF-49AD-83B0-47AAC01B1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225E50-F977-4B22-8621-94DFCD7B6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68785-6575-4649-99B0-36647C47D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E8499-5894-40CA-9761-585974E8C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07BDD0-5CCC-4DAD-8871-41C99030E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98557-7D8F-4F7C-A046-4468C13F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E44C-2541-47C3-BD41-5D027A24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77FDF1-98DB-440E-8FC4-0E0D11F2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B6A1EE-E16D-495C-BEA4-4272BCCD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DE8AA-A47C-4172-A199-62FBE09C1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C37040-9917-4B12-9430-339C23F20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15C897-E42A-4B95-A2C9-6D2A1FCF8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31C7-7FCC-477A-8244-3A997236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87BE-CD11-4AD0-A72E-65E067B7E539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539EA-A70E-4C95-8EC5-26F2DC092046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4B6B0-E3A8-4364-90B8-179E8A4949DB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2D7B2-044A-4F42-B21C-C687F26A6A90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47CC5-8FCA-4401-9147-C0B1133A7BBB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DB88E-7E86-447D-BCD0-9B969CF11289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520" y="1217520"/>
            <a:ext cx="128880" cy="131400"/>
            <a:chOff x="8516520" y="1217520"/>
            <a:chExt cx="12888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8080" y="1217520"/>
              <a:ext cx="673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520" y="1282680"/>
              <a:ext cx="950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8080" y="1282320"/>
              <a:ext cx="673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520" y="1370160"/>
            <a:ext cx="128880" cy="131400"/>
            <a:chOff x="8669520" y="1370160"/>
            <a:chExt cx="12888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31080" y="1370160"/>
              <a:ext cx="673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520" y="1435320"/>
              <a:ext cx="954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31080" y="1434960"/>
              <a:ext cx="673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400" y="1473120"/>
            <a:ext cx="128880" cy="131400"/>
            <a:chOff x="8321400" y="1473120"/>
            <a:chExt cx="12888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82960" y="1473120"/>
              <a:ext cx="673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400" y="1538280"/>
              <a:ext cx="950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82960" y="1537920"/>
              <a:ext cx="673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5DC7D-3868-4F0C-9815-1D6346408BB1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ahmeda@ksu.edu.sa" TargetMode="External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3"/>
          <p:cNvSpPr/>
          <p:nvPr/>
        </p:nvSpPr>
        <p:spPr>
          <a:xfrm>
            <a:off x="1950840" y="1413000"/>
            <a:ext cx="492948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0066"/>
                </a:solidFill>
                <a:latin typeface="Arial"/>
              </a:rPr>
              <a:t>(Renal Physiology 1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cid-Base Balance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cid Base Disor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2643480" y="3849840"/>
            <a:ext cx="3684240" cy="14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Corbel"/>
              </a:rPr>
              <a:t>Ahmad Ahme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 u="sng">
                <a:solidFill>
                  <a:srgbClr val="eb8803"/>
                </a:solidFill>
                <a:uFillTx/>
                <a:latin typeface="Corbel"/>
                <a:hlinkClick r:id="rId1"/>
              </a:rPr>
              <a:t>aahmeda@ksu.edu.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Corbel"/>
              </a:rPr>
              <a:t>Cell phone: 053631345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Slide Number Placeholder 6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82BB9-AF97-483E-9E99-569A0C82432C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8CE8F-5C51-42D2-AD76-93E7E47D33F4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Rectangle 2"/>
          <p:cNvSpPr/>
          <p:nvPr/>
        </p:nvSpPr>
        <p:spPr>
          <a:xfrm>
            <a:off x="390600" y="1643040"/>
            <a:ext cx="86104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Can occur in response to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buClr>
                <a:srgbClr val="d6ecff"/>
              </a:buClr>
              <a:buSzPct val="9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High protein diet - protein catabolism produ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phosphoric acid and sulphuric ac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2) High fat diet  - fat catabolism produces fatty aci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3) Heavy exercise – stimulates anaerobic metabolism, producing lactic ac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4) Addition of fixed acids (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e.g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diabetic ketoacidosi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5) Severe diarrhoea – loss of bicarbonate from intesti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6) Alterations in renal function (inability to excrete H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7) Tissue hypoxia (produces lactic aci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8) Ingested substances such as methanol, aspirin (acetylsalicylic acid), ethylene glyco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Rectangle 2"/>
          <p:cNvSpPr/>
          <p:nvPr/>
        </p:nvSpPr>
        <p:spPr>
          <a:xfrm>
            <a:off x="352440" y="165960"/>
            <a:ext cx="825336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etabolic Acido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214200" y="714240"/>
            <a:ext cx="839628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aused by either i) </a:t>
            </a:r>
            <a:r>
              <a:rPr b="1" lang="en-US" sz="2400" spc="-1" strike="noStrike">
                <a:solidFill>
                  <a:srgbClr val="ff0000"/>
                </a:solidFill>
                <a:latin typeface="Corbel"/>
              </a:rPr>
              <a:t>INCREASED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acid </a:t>
            </a:r>
            <a:r>
              <a:rPr b="1" i="1" lang="en-US" sz="2400" spc="-1" strike="noStrike">
                <a:solidFill>
                  <a:srgbClr val="ffffff"/>
                </a:solidFill>
                <a:latin typeface="Corbel"/>
              </a:rPr>
              <a:t>production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ii)</a:t>
            </a: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rbel"/>
              </a:rPr>
              <a:t>IMPAIRED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acid </a:t>
            </a:r>
            <a:r>
              <a:rPr b="1" i="1" lang="en-US" sz="2400" spc="-1" strike="noStrike">
                <a:solidFill>
                  <a:srgbClr val="ffffff"/>
                </a:solidFill>
                <a:latin typeface="Corbel"/>
              </a:rPr>
              <a:t>excretion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4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1D67B-AF78-4C8B-BEDB-E94A925546FC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Rectangle 2"/>
          <p:cNvSpPr/>
          <p:nvPr/>
        </p:nvSpPr>
        <p:spPr>
          <a:xfrm>
            <a:off x="533520" y="714240"/>
            <a:ext cx="839628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1120" indent="-342720">
              <a:spcBef>
                <a:spcPts val="700"/>
              </a:spcBef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First line of defence is shift of buffering reactions to the left to neutralise excess acid (for bicarbonate, cell</a:t>
            </a:r>
            <a:r>
              <a:rPr b="1" lang="en-GB" sz="2400" spc="-1" strike="noStrike">
                <a:solidFill>
                  <a:srgbClr val="66ff33"/>
                </a:solidFill>
                <a:latin typeface="Arial"/>
                <a:ea typeface="Arial"/>
              </a:rPr>
              <a:t>*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&amp; bone buffer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3" name="Picture 3" descr=""/>
          <p:cNvPicPr/>
          <p:nvPr/>
        </p:nvPicPr>
        <p:blipFill>
          <a:blip r:embed="rId1"/>
          <a:stretch/>
        </p:blipFill>
        <p:spPr>
          <a:xfrm>
            <a:off x="1643040" y="1890720"/>
            <a:ext cx="5759640" cy="966960"/>
          </a:xfrm>
          <a:prstGeom prst="rect">
            <a:avLst/>
          </a:prstGeom>
          <a:ln w="0">
            <a:noFill/>
          </a:ln>
        </p:spPr>
      </p:pic>
      <p:sp>
        <p:nvSpPr>
          <p:cNvPr id="414" name="Rectangle 2"/>
          <p:cNvSpPr/>
          <p:nvPr/>
        </p:nvSpPr>
        <p:spPr>
          <a:xfrm>
            <a:off x="495360" y="720"/>
            <a:ext cx="825336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etabolic Acido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5"/>
          <p:cNvSpPr/>
          <p:nvPr/>
        </p:nvSpPr>
        <p:spPr>
          <a:xfrm>
            <a:off x="135000" y="5618160"/>
            <a:ext cx="98661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f0bf5"/>
                </a:solidFill>
                <a:latin typeface="Arial"/>
                <a:ea typeface="ＭＳ Ｐゴシック"/>
              </a:rPr>
              <a:t> </a:t>
            </a:r>
            <a:r>
              <a:rPr b="1" lang="en-GB" sz="2800" spc="-1" strike="noStrike" u="sng">
                <a:solidFill>
                  <a:srgbClr val="ef0bf5"/>
                </a:solidFill>
                <a:uFillTx/>
                <a:latin typeface="Arial"/>
                <a:ea typeface="ＭＳ Ｐゴシック"/>
              </a:rPr>
              <a:t>Characterised by DECREASED [HCO</a:t>
            </a:r>
            <a:r>
              <a:rPr b="1" lang="en-GB" sz="2800" spc="-1" strike="noStrike" u="sng" baseline="-25000">
                <a:solidFill>
                  <a:srgbClr val="ef0bf5"/>
                </a:solidFill>
                <a:uFillTx/>
                <a:latin typeface="Arial"/>
                <a:ea typeface="ＭＳ Ｐゴシック"/>
              </a:rPr>
              <a:t>3</a:t>
            </a:r>
            <a:r>
              <a:rPr b="1" lang="en-GB" sz="2800" spc="-1" strike="noStrike" u="sng" baseline="30000">
                <a:solidFill>
                  <a:srgbClr val="ef0bf5"/>
                </a:solidFill>
                <a:uFillTx/>
                <a:latin typeface="Arial"/>
                <a:ea typeface="ＭＳ Ｐゴシック"/>
              </a:rPr>
              <a:t>-</a:t>
            </a:r>
            <a:r>
              <a:rPr b="1" lang="en-GB" sz="2800" spc="-1" strike="noStrike" u="sng">
                <a:solidFill>
                  <a:srgbClr val="ef0bf5"/>
                </a:solidFill>
                <a:uFillTx/>
                <a:latin typeface="Arial"/>
                <a:ea typeface="ＭＳ Ｐゴシック"/>
              </a:rPr>
              <a:t>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f0bf5"/>
                </a:solidFill>
                <a:latin typeface="Arial"/>
                <a:ea typeface="ＭＳ Ｐゴシック"/>
              </a:rPr>
              <a:t>    </a:t>
            </a:r>
            <a:r>
              <a:rPr b="1" lang="en-GB" sz="2800" spc="-1" strike="noStrike" u="sng">
                <a:solidFill>
                  <a:srgbClr val="ef0bf5"/>
                </a:solidFill>
                <a:uFillTx/>
                <a:latin typeface="Arial"/>
                <a:ea typeface="ＭＳ Ｐゴシック"/>
              </a:rPr>
              <a:t>(&lt;25mM) and pH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Rectangle 6"/>
          <p:cNvSpPr/>
          <p:nvPr/>
        </p:nvSpPr>
        <p:spPr>
          <a:xfrm>
            <a:off x="490680" y="2857680"/>
            <a:ext cx="75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Metabolic acidosis increases ventilation rate </a:t>
            </a:r>
            <a:r>
              <a:rPr b="0" i="1" lang="en-IE" sz="2400" spc="-1" strike="noStrike">
                <a:solidFill>
                  <a:srgbClr val="ffffff"/>
                </a:solidFill>
                <a:latin typeface="Arial"/>
              </a:rPr>
              <a:t>v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chemoreceptor activ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Rectangle 7"/>
          <p:cNvSpPr/>
          <p:nvPr/>
        </p:nvSpPr>
        <p:spPr>
          <a:xfrm>
            <a:off x="473040" y="3787920"/>
            <a:ext cx="8528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Increased expiration of 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reduces P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levels whi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increases pH of ECF (respiratory compensatio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8"/>
          <p:cNvSpPr/>
          <p:nvPr/>
        </p:nvSpPr>
        <p:spPr>
          <a:xfrm>
            <a:off x="492120" y="4691160"/>
            <a:ext cx="9302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Acidosis </a:t>
            </a:r>
            <a:r>
              <a:rPr b="1" lang="en-IE" sz="2400" spc="-1" strike="noStrike">
                <a:solidFill>
                  <a:srgbClr val="ff0000"/>
                </a:solidFill>
                <a:latin typeface="Arial"/>
              </a:rPr>
              <a:t>INCREASES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renal </a:t>
            </a:r>
            <a:r>
              <a:rPr b="1" lang="en-IE" sz="2400" spc="-1" strike="noStrike">
                <a:solidFill>
                  <a:srgbClr val="ffff00"/>
                </a:solidFill>
                <a:latin typeface="Arial"/>
              </a:rPr>
              <a:t>SECRETION </a:t>
            </a:r>
            <a:r>
              <a:rPr b="0" lang="en-IE" sz="2400" spc="-1" strike="noStrike">
                <a:solidFill>
                  <a:srgbClr val="ffff00"/>
                </a:solidFill>
                <a:latin typeface="Arial"/>
              </a:rPr>
              <a:t>of H</a:t>
            </a:r>
            <a:r>
              <a:rPr b="0" lang="en-IE" sz="24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IE" sz="2400" spc="-1" strike="noStrike">
                <a:solidFill>
                  <a:srgbClr val="00b0f0"/>
                </a:solidFill>
                <a:latin typeface="Arial"/>
              </a:rPr>
              <a:t>ABSORPTION</a:t>
            </a:r>
            <a:r>
              <a:rPr b="0" lang="en-IE" sz="2400" spc="-1" strike="noStrike">
                <a:solidFill>
                  <a:srgbClr val="00b0f0"/>
                </a:solidFill>
                <a:latin typeface="Arial"/>
              </a:rPr>
              <a:t> of </a:t>
            </a:r>
            <a:r>
              <a:rPr b="0" lang="en-GB" sz="2400" spc="-1" strike="noStrike">
                <a:solidFill>
                  <a:srgbClr val="00b0f0"/>
                </a:solidFill>
                <a:latin typeface="Arial"/>
              </a:rPr>
              <a:t>HCO</a:t>
            </a:r>
            <a:r>
              <a:rPr b="0" lang="en-GB" sz="2400" spc="-1" strike="noStrike" baseline="-25000">
                <a:solidFill>
                  <a:srgbClr val="00b0f0"/>
                </a:solidFill>
                <a:latin typeface="Arial"/>
              </a:rPr>
              <a:t>3</a:t>
            </a:r>
            <a:r>
              <a:rPr b="0" lang="en-GB" sz="2400" spc="-1" strike="noStrike" baseline="30000">
                <a:solidFill>
                  <a:srgbClr val="00b0f0"/>
                </a:solidFill>
                <a:latin typeface="Arial"/>
              </a:rPr>
              <a:t>-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ECF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[H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] increa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lide Number Placeholder 1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9298E-7172-40F8-8D0B-B313026611FE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4"/>
          <p:cNvSpPr/>
          <p:nvPr/>
        </p:nvSpPr>
        <p:spPr>
          <a:xfrm>
            <a:off x="2437560" y="344520"/>
            <a:ext cx="43992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Davenport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Acid-base alt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1" name="Picture 4" descr="Davenport diagram-fig 30"/>
          <p:cNvPicPr/>
          <p:nvPr/>
        </p:nvPicPr>
        <p:blipFill>
          <a:blip r:embed="rId1"/>
          <a:stretch/>
        </p:blipFill>
        <p:spPr>
          <a:xfrm>
            <a:off x="3556080" y="1835280"/>
            <a:ext cx="4730760" cy="397008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4"/>
          <p:cNvSpPr/>
          <p:nvPr/>
        </p:nvSpPr>
        <p:spPr>
          <a:xfrm>
            <a:off x="579240" y="1714680"/>
            <a:ext cx="22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Metabolic Acido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650160" y="2214720"/>
            <a:ext cx="205056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↓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lasma pH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↓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lasma [HCO</a:t>
            </a:r>
            <a:r>
              <a:rPr b="1" lang="en-GB" sz="1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GB" sz="1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]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↓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co</a:t>
            </a:r>
            <a:r>
              <a:rPr b="1" lang="en-GB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75871-1D7C-4C9F-A012-A694E799F1A7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2"/>
          <p:cNvSpPr/>
          <p:nvPr/>
        </p:nvSpPr>
        <p:spPr>
          <a:xfrm>
            <a:off x="495360" y="154800"/>
            <a:ext cx="825336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etabolic Acido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2"/>
          <p:cNvSpPr/>
          <p:nvPr/>
        </p:nvSpPr>
        <p:spPr>
          <a:xfrm>
            <a:off x="293760" y="1071720"/>
            <a:ext cx="86104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112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Corbel"/>
              </a:rPr>
              <a:t> </a:t>
            </a:r>
            <a:r>
              <a:rPr b="1" lang="en-US" sz="2400" spc="-1" strike="noStrike">
                <a:solidFill>
                  <a:srgbClr val="66ff33"/>
                </a:solidFill>
                <a:latin typeface="Corbel"/>
              </a:rPr>
              <a:t>* 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Uptake of excess 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rbe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by cells is accompanied, in part, by </a:t>
            </a:r>
            <a:r>
              <a:rPr b="1" lang="en-US" sz="2400" spc="-1" strike="noStrike">
                <a:solidFill>
                  <a:srgbClr val="0099ff"/>
                </a:solidFill>
                <a:latin typeface="Corbel"/>
              </a:rPr>
              <a:t>LOSS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of </a:t>
            </a:r>
            <a:r>
              <a:rPr b="1" i="1" lang="en-US" sz="2400" spc="-1" strike="noStrike">
                <a:solidFill>
                  <a:srgbClr val="ffffff"/>
                </a:solidFill>
                <a:latin typeface="Corbel"/>
              </a:rPr>
              <a:t>intra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ellular K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rbe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 (and N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rbe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) to </a:t>
            </a:r>
            <a:r>
              <a:rPr b="1" i="1" lang="en-US" sz="2400" spc="-1" strike="noStrike">
                <a:solidFill>
                  <a:srgbClr val="ffffff"/>
                </a:solidFill>
                <a:latin typeface="Corbel"/>
              </a:rPr>
              <a:t>extra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ellular fluid to maint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1" lang="en-US" sz="2400" spc="-1" strike="noStrike">
                <a:solidFill>
                  <a:srgbClr val="ef0bf5"/>
                </a:solidFill>
                <a:latin typeface="Corbel"/>
              </a:rPr>
              <a:t>ELECTRONEUTRALITY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angle 2"/>
          <p:cNvSpPr/>
          <p:nvPr/>
        </p:nvSpPr>
        <p:spPr>
          <a:xfrm>
            <a:off x="285840" y="2714760"/>
            <a:ext cx="86104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1120" indent="-342720"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Corbe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us, metabolic acidosis often associated with </a:t>
            </a:r>
            <a:r>
              <a:rPr b="1" lang="en-US" sz="2400" spc="-1" strike="noStrike">
                <a:solidFill>
                  <a:srgbClr val="66ff33"/>
                </a:solidFill>
                <a:latin typeface="Corbel"/>
              </a:rPr>
              <a:t>INCREA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Corbe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en-US" sz="2400" spc="-1" strike="noStrike">
                <a:solidFill>
                  <a:srgbClr val="66ff33"/>
                </a:solidFill>
                <a:latin typeface="Corbel"/>
              </a:rPr>
              <a:t>plasma [K</a:t>
            </a:r>
            <a:r>
              <a:rPr b="1" lang="en-US" sz="2400" spc="-1" strike="noStrike" baseline="30000">
                <a:solidFill>
                  <a:srgbClr val="66ff33"/>
                </a:solidFill>
                <a:latin typeface="Corbel"/>
              </a:rPr>
              <a:t>+</a:t>
            </a:r>
            <a:r>
              <a:rPr b="1" lang="en-US" sz="2400" spc="-1" strike="noStrike">
                <a:solidFill>
                  <a:srgbClr val="66ff33"/>
                </a:solidFill>
                <a:latin typeface="Corbel"/>
              </a:rPr>
              <a:t>] 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relative to that expected from state of potass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bala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2"/>
          <p:cNvSpPr/>
          <p:nvPr/>
        </p:nvSpPr>
        <p:spPr>
          <a:xfrm>
            <a:off x="293760" y="4286160"/>
            <a:ext cx="861048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1120" indent="-342720"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Corbe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rbel"/>
              </a:rPr>
              <a:t>HYPERKALEMIA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can develop even though body K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rbe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stores a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diminish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299880" y="5357880"/>
            <a:ext cx="861084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1120" indent="-342720"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Cation shift is </a:t>
            </a:r>
            <a:r>
              <a:rPr b="1" lang="en-GB" sz="2400" spc="-1" strike="noStrike">
                <a:solidFill>
                  <a:srgbClr val="ffc000"/>
                </a:solidFill>
                <a:latin typeface="Corbel"/>
              </a:rPr>
              <a:t>REVERSED</a:t>
            </a: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 with correction of acidos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E5821-F952-4ADB-896F-6B3DC4B5D457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angle 2"/>
          <p:cNvSpPr/>
          <p:nvPr/>
        </p:nvSpPr>
        <p:spPr>
          <a:xfrm>
            <a:off x="533520" y="1112760"/>
            <a:ext cx="8610480" cy="27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1) Excessive vomiting – loss of HCl from stomach (</a:t>
            </a:r>
            <a:r>
              <a:rPr b="0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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 retention o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(duodenal) bicarbonate in circulation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2) Alterations in renal function (↑ excretion of titratable ac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      </a:t>
            </a:r>
            <a:r>
              <a:rPr b="0" i="1" lang="en-GB" sz="2000" spc="-1" strike="noStrike">
                <a:solidFill>
                  <a:srgbClr val="ffffff"/>
                </a:solidFill>
                <a:latin typeface="Corbel"/>
              </a:rPr>
              <a:t>e.g.,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 thiazide and loop diuretics </a:t>
            </a:r>
            <a:r>
              <a:rPr b="0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N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rbel"/>
              </a:rPr>
              <a:t>+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 reabsorption </a:t>
            </a:r>
            <a:r>
              <a:rPr b="0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excre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      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of H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rbel"/>
              </a:rPr>
              <a:t>+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3) Excessive ingestion of bicarbonate antacids paired with renal fail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4)  Volume contraction (</a:t>
            </a:r>
            <a:r>
              <a:rPr b="0" i="1" lang="en-GB" sz="2000" spc="-1" strike="noStrike">
                <a:solidFill>
                  <a:srgbClr val="ffffff"/>
                </a:solidFill>
                <a:latin typeface="Corbel"/>
              </a:rPr>
              <a:t>e.g 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i="1" lang="en-GB" sz="2000" spc="-1" strike="noStrike">
                <a:solidFill>
                  <a:srgbClr val="ffffff"/>
                </a:solidFill>
                <a:latin typeface="Corbel"/>
              </a:rPr>
              <a:t>via 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diuretic therapy </a:t>
            </a:r>
            <a:r>
              <a:rPr b="0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 plasma [HCO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rbel"/>
              </a:rPr>
              <a:t>3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rbel"/>
              </a:rPr>
              <a:t>-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]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5) Excess aldosterone (stimulates collecting duct  H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rbel"/>
              </a:rPr>
              <a:t>+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-ATPases to excrete H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rbel"/>
              </a:rPr>
              <a:t>+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)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angle 2"/>
          <p:cNvSpPr/>
          <p:nvPr/>
        </p:nvSpPr>
        <p:spPr>
          <a:xfrm>
            <a:off x="495360" y="165960"/>
            <a:ext cx="825336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etabolic Alkalo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Rectangle 4"/>
          <p:cNvSpPr/>
          <p:nvPr/>
        </p:nvSpPr>
        <p:spPr>
          <a:xfrm>
            <a:off x="655560" y="4235400"/>
            <a:ext cx="83581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Increase in pH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REDUCES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ventilation rate, eleva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P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leve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642960" y="5094360"/>
            <a:ext cx="80722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Reduction in renal absorption and ↑ excretion of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in the nephron.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Rectangle 6"/>
          <p:cNvSpPr/>
          <p:nvPr/>
        </p:nvSpPr>
        <p:spPr>
          <a:xfrm>
            <a:off x="168120" y="5792760"/>
            <a:ext cx="87868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f0bf5"/>
                </a:solidFill>
                <a:latin typeface="Arial"/>
                <a:ea typeface="ＭＳ Ｐゴシック"/>
              </a:rPr>
              <a:t> </a:t>
            </a:r>
            <a:r>
              <a:rPr b="1" lang="en-GB" sz="2800" spc="-1" strike="noStrike">
                <a:solidFill>
                  <a:srgbClr val="ef0bf5"/>
                </a:solidFill>
                <a:latin typeface="Arial"/>
                <a:ea typeface="ＭＳ Ｐゴシック"/>
              </a:rPr>
              <a:t>Characterised by ELEVATED plasma [HCO</a:t>
            </a:r>
            <a:r>
              <a:rPr b="1" lang="en-GB" sz="2800" spc="-1" strike="noStrike" baseline="-25000">
                <a:solidFill>
                  <a:srgbClr val="ef0bf5"/>
                </a:solidFill>
                <a:latin typeface="Arial"/>
                <a:ea typeface="ＭＳ Ｐゴシック"/>
              </a:rPr>
              <a:t>3</a:t>
            </a:r>
            <a:r>
              <a:rPr b="1" lang="en-GB" sz="2800" spc="-1" strike="noStrike" baseline="30000">
                <a:solidFill>
                  <a:srgbClr val="ef0bf5"/>
                </a:solidFill>
                <a:latin typeface="Arial"/>
                <a:ea typeface="ＭＳ Ｐゴシック"/>
              </a:rPr>
              <a:t>-</a:t>
            </a:r>
            <a:r>
              <a:rPr b="1" lang="en-GB" sz="2800" spc="-1" strike="noStrike">
                <a:solidFill>
                  <a:srgbClr val="ef0bf5"/>
                </a:solidFill>
                <a:latin typeface="Arial"/>
                <a:ea typeface="ＭＳ Ｐゴシック"/>
              </a:rPr>
              <a:t>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f0bf5"/>
                </a:solidFill>
                <a:latin typeface="Arial"/>
                <a:ea typeface="ＭＳ Ｐゴシック"/>
              </a:rPr>
              <a:t>    </a:t>
            </a:r>
            <a:r>
              <a:rPr b="1" lang="en-GB" sz="2800" spc="-1" strike="noStrike">
                <a:solidFill>
                  <a:srgbClr val="ef0bf5"/>
                </a:solidFill>
                <a:latin typeface="Arial"/>
                <a:ea typeface="ＭＳ Ｐゴシック"/>
              </a:rPr>
              <a:t>and p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Rectangle 7"/>
          <p:cNvSpPr/>
          <p:nvPr/>
        </p:nvSpPr>
        <p:spPr>
          <a:xfrm>
            <a:off x="-71640" y="668160"/>
            <a:ext cx="88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latively rare phenomenon that can occur in response to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Rectangle 8"/>
          <p:cNvSpPr/>
          <p:nvPr/>
        </p:nvSpPr>
        <p:spPr>
          <a:xfrm>
            <a:off x="214200" y="3751200"/>
            <a:ext cx="864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oss of acid ↑ dissociation of H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3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↑ H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ＭＳ Ｐゴシック"/>
              </a:rPr>
              <a:t>-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5" nodeType="after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289" nodeType="afterEffect" fill="hold" presetClass="entr" presetID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02" nodeType="afterEffect" fill="hold" presetClass="entr" presetID="10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Slide Number Placeholder 1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28E19-2A6C-47FF-A3B3-127FCF646F20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Text Box 4"/>
          <p:cNvSpPr/>
          <p:nvPr/>
        </p:nvSpPr>
        <p:spPr>
          <a:xfrm>
            <a:off x="2437560" y="344520"/>
            <a:ext cx="43992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Davenport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Acid-base alt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0" name="Picture 4" descr="Davenport diagram-fig 30"/>
          <p:cNvPicPr/>
          <p:nvPr/>
        </p:nvPicPr>
        <p:blipFill>
          <a:blip r:embed="rId1"/>
          <a:stretch/>
        </p:blipFill>
        <p:spPr>
          <a:xfrm>
            <a:off x="3556080" y="1835280"/>
            <a:ext cx="4730760" cy="3970080"/>
          </a:xfrm>
          <a:prstGeom prst="rect">
            <a:avLst/>
          </a:prstGeom>
          <a:ln w="0">
            <a:noFill/>
          </a:ln>
        </p:spPr>
      </p:pic>
      <p:sp>
        <p:nvSpPr>
          <p:cNvPr id="441" name="Rectangle 4"/>
          <p:cNvSpPr/>
          <p:nvPr/>
        </p:nvSpPr>
        <p:spPr>
          <a:xfrm>
            <a:off x="579240" y="171468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Metabolic Alkalo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704160" y="2214720"/>
            <a:ext cx="280656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Symbol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lasma pH, </a:t>
            </a:r>
            <a:r>
              <a:rPr b="1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lasma [HCO</a:t>
            </a:r>
            <a:r>
              <a:rPr b="1" lang="en-GB" sz="1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GB" sz="1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] ,</a:t>
            </a:r>
            <a:r>
              <a:rPr b="1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Pco</a:t>
            </a:r>
            <a:r>
              <a:rPr b="1" lang="en-GB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4"/>
          <p:cNvSpPr/>
          <p:nvPr/>
        </p:nvSpPr>
        <p:spPr>
          <a:xfrm>
            <a:off x="2008440" y="60480"/>
            <a:ext cx="50346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Acid-Base Imbalan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(Summar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492120" y="1071720"/>
            <a:ext cx="775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id-base balance can be altered in one of four way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i) respiratory acidosis or alkal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ii) metabolic acidosis or alkal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494280" y="4286160"/>
            <a:ext cx="865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METABOLIC ACIDOS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aused b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↑ 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production / intak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r ↓[bicarbonate]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4"/>
          <p:cNvSpPr/>
          <p:nvPr/>
        </p:nvSpPr>
        <p:spPr>
          <a:xfrm>
            <a:off x="486000" y="5184720"/>
            <a:ext cx="796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f0bf5"/>
                </a:solidFill>
                <a:latin typeface="Arial"/>
              </a:rPr>
              <a:t>METABOLIC ALKALOS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aused b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↓ 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production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↑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limination of 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or ↑ in [bicarbonate]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498960" y="2357280"/>
            <a:ext cx="80092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SPIRATORY ACIDOS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aused b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↓ elimination o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, secondary to either ↓ respiration or gas exchan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4"/>
          <p:cNvSpPr/>
          <p:nvPr/>
        </p:nvSpPr>
        <p:spPr>
          <a:xfrm>
            <a:off x="513720" y="3216240"/>
            <a:ext cx="81403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7fd13b"/>
                </a:solidFill>
                <a:latin typeface="Arial"/>
              </a:rPr>
              <a:t>RESPIRATORY ALKALOS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aused b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↑ elimination o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(by hyperventilatio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Picture 5" descr=""/>
          <p:cNvPicPr/>
          <p:nvPr/>
        </p:nvPicPr>
        <p:blipFill>
          <a:blip r:embed="rId1"/>
          <a:srcRect l="23660" t="39286" r="10715" b="25003"/>
          <a:stretch/>
        </p:blipFill>
        <p:spPr>
          <a:xfrm>
            <a:off x="46080" y="1859040"/>
            <a:ext cx="9063000" cy="308268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2"/>
          <p:cNvSpPr/>
          <p:nvPr/>
        </p:nvSpPr>
        <p:spPr>
          <a:xfrm>
            <a:off x="495360" y="176040"/>
            <a:ext cx="825336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cid / Base Disord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38F09-F790-4C14-B875-7DBE4E096D9F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4"/>
          <p:cNvSpPr/>
          <p:nvPr/>
        </p:nvSpPr>
        <p:spPr>
          <a:xfrm>
            <a:off x="1015560" y="100080"/>
            <a:ext cx="72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Analysis of Acid-Base Disord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6"/>
          <p:cNvSpPr/>
          <p:nvPr/>
        </p:nvSpPr>
        <p:spPr>
          <a:xfrm>
            <a:off x="322200" y="928800"/>
            <a:ext cx="834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Analysis aimed at identifying underlying cause  of diso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such that appropriate therapy can be initia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6"/>
          <p:cNvSpPr/>
          <p:nvPr/>
        </p:nvSpPr>
        <p:spPr>
          <a:xfrm>
            <a:off x="350280" y="1955880"/>
            <a:ext cx="810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In addition to usual history taking and physical finding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sampling of arterial blood can yield valuable inform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 Box 6"/>
          <p:cNvSpPr/>
          <p:nvPr/>
        </p:nvSpPr>
        <p:spPr>
          <a:xfrm>
            <a:off x="397080" y="3027240"/>
            <a:ext cx="777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Analysis of blood sample data is straightforward if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approached systematically either using the Daven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nomogram or flow diagra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6" name="Picture 4" descr="Davenport diagram-fig 30"/>
          <p:cNvPicPr/>
          <p:nvPr/>
        </p:nvPicPr>
        <p:blipFill>
          <a:blip r:embed="rId1"/>
          <a:stretch/>
        </p:blipFill>
        <p:spPr>
          <a:xfrm>
            <a:off x="3000240" y="4286160"/>
            <a:ext cx="280836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0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28BA3-E3E1-4E0F-B91F-60027AA6A522}" type="slidenum">
              <a:rPr b="0" lang="en-GB" sz="1200" spc="-1" strike="noStrike">
                <a:solidFill>
                  <a:srgbClr val="d6ec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ectangle 2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How to Analyze an AB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3"/>
          <p:cNvSpPr/>
          <p:nvPr/>
        </p:nvSpPr>
        <p:spPr>
          <a:xfrm>
            <a:off x="826920" y="1415880"/>
            <a:ext cx="7848720" cy="50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=  80 – 100 mmH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.   p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=  7.35 – 7.4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cidot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&lt;7.3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kalot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&gt;7.4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=  35 – 45 mmH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cidot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&gt;4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kalot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&lt;3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=  22 – 26 mmol/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cidotic          &lt; 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kalot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&gt; 2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5"/>
          <p:cNvSpPr/>
          <p:nvPr/>
        </p:nvSpPr>
        <p:spPr>
          <a:xfrm>
            <a:off x="684360" y="2138400"/>
            <a:ext cx="7704000" cy="25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o explain the principles of blood gas and acid-base analy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o interpret blood gas analysis and diagnose various acid base disor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Describe causes of acid base disor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Understand use of acid base nomogr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2228040" y="406440"/>
            <a:ext cx="47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arning Objectiv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Slide Number Placeholder 7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7E23A-C224-4F5F-933F-5D93563B95A8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4DFD9-9F6E-4E32-82E9-0CB2BAC08004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 Box 4"/>
          <p:cNvSpPr/>
          <p:nvPr/>
        </p:nvSpPr>
        <p:spPr>
          <a:xfrm>
            <a:off x="1015560" y="100080"/>
            <a:ext cx="72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Analysis of Acid-Base Disord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2" name="Picture 3" descr="approach for the analysis of simple acid-base disorders - fig 36.6.JPG"/>
          <p:cNvPicPr/>
          <p:nvPr/>
        </p:nvPicPr>
        <p:blipFill>
          <a:blip r:embed="rId1"/>
          <a:stretch/>
        </p:blipFill>
        <p:spPr>
          <a:xfrm>
            <a:off x="3733920" y="928800"/>
            <a:ext cx="5367240" cy="4846680"/>
          </a:xfrm>
          <a:prstGeom prst="rect">
            <a:avLst/>
          </a:prstGeom>
          <a:ln w="0">
            <a:noFill/>
          </a:ln>
        </p:spPr>
      </p:pic>
      <p:sp>
        <p:nvSpPr>
          <p:cNvPr id="463" name="TextBox 4"/>
          <p:cNvSpPr/>
          <p:nvPr/>
        </p:nvSpPr>
        <p:spPr>
          <a:xfrm>
            <a:off x="18000" y="1214280"/>
            <a:ext cx="33627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pH = 7.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[H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IE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] = 16mEq/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PCO2 = 30 mm H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Box 5"/>
          <p:cNvSpPr/>
          <p:nvPr/>
        </p:nvSpPr>
        <p:spPr>
          <a:xfrm>
            <a:off x="14040" y="28576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1) Evaluate pH -  ac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TextBox 6"/>
          <p:cNvSpPr/>
          <p:nvPr/>
        </p:nvSpPr>
        <p:spPr>
          <a:xfrm>
            <a:off x="41040" y="3344760"/>
            <a:ext cx="37058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2) Metabolic or respiratory sour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[HCO</a:t>
            </a:r>
            <a:r>
              <a:rPr b="0" lang="en-IE" sz="1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IE" sz="1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] &lt; 24mM = metabol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Box 7"/>
          <p:cNvSpPr/>
          <p:nvPr/>
        </p:nvSpPr>
        <p:spPr>
          <a:xfrm>
            <a:off x="36360" y="4354560"/>
            <a:ext cx="31114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3) Analysis of compensator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respon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    ↓ </a:t>
            </a: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PCO</a:t>
            </a:r>
            <a:r>
              <a:rPr b="0" lang="en-IE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 – respirator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compens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TextBox 8"/>
          <p:cNvSpPr/>
          <p:nvPr/>
        </p:nvSpPr>
        <p:spPr>
          <a:xfrm>
            <a:off x="475200" y="5878440"/>
            <a:ext cx="819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Mixed acid-base disorders can also occur (</a:t>
            </a:r>
            <a:r>
              <a:rPr b="0" i="1" lang="en-IE" sz="18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 emphysema with diarrhea) i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which an appropriate compensatory response has not occurr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4BB01-0959-4DD1-B841-2CC217F475D9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Content Placeholder 2"/>
          <p:cNvSpPr/>
          <p:nvPr/>
        </p:nvSpPr>
        <p:spPr>
          <a:xfrm>
            <a:off x="685800" y="522360"/>
            <a:ext cx="79246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) A 50 year-old man with history of type 2 diabetes was admitted to the emergency department with history of polyuria. On examination he had rapid and deep breathing. Blood analysis showed glucose level of 400 mg/dl.     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he following is the arterial blood analysis report of  this patient: 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H = 7.1,  PC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= 40 mmHg and HC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- = 18 mmol/L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Normal reference ranges: PCO2 = 36.0-46.0 mmHg, HCO3- = 22.0-26.0 mmol/L)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What is the acid base disturbance in this case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B9773-0462-40AF-9E37-5134F18694AA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Content Placeholder 2"/>
          <p:cNvSpPr/>
          <p:nvPr/>
        </p:nvSpPr>
        <p:spPr>
          <a:xfrm>
            <a:off x="685800" y="457200"/>
            <a:ext cx="7772400" cy="45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Calibri"/>
              </a:rPr>
              <a:t>2) PH= 7.12, PaCO2= 60mmHg, HCO3‾ = 24meq/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268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Calibri"/>
              </a:rPr>
              <a:t>a) Compensated metabolic acido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268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Calibri"/>
              </a:rPr>
              <a:t>b) Uncompensated metabolic acidosi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268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Calibri"/>
              </a:rPr>
              <a:t>c) Compensated respiratory acidosi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268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Calibri"/>
              </a:rPr>
              <a:t>d) Uncompensated respiratory acidosi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94E5C-56D8-4694-BF68-00BC0771B448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Content Placeholder 2"/>
          <p:cNvSpPr/>
          <p:nvPr/>
        </p:nvSpPr>
        <p:spPr>
          <a:xfrm>
            <a:off x="685800" y="457200"/>
            <a:ext cx="77724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d6ecff"/>
              </a:buClr>
              <a:buSzPct val="95000"/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Calibri"/>
              </a:rPr>
              <a:t>PH= 7.51, PaCO2= 40mmHg, HCO3‾ = 31meq/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4080" indent="-457200">
              <a:lnSpc>
                <a:spcPct val="115000"/>
              </a:lnSpc>
              <a:buClr>
                <a:srgbClr val="ffffff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Calibri"/>
              </a:rPr>
              <a:t>Normal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4080" indent="-457200">
              <a:lnSpc>
                <a:spcPct val="115000"/>
              </a:lnSpc>
              <a:buClr>
                <a:srgbClr val="ffffff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Calibri"/>
              </a:rPr>
              <a:t>Compensated respiratory acidosi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4080" indent="-457200">
              <a:lnSpc>
                <a:spcPct val="115000"/>
              </a:lnSpc>
              <a:buClr>
                <a:srgbClr val="ffffff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Calibri"/>
              </a:rPr>
              <a:t>Uncompensated respiratory alkalo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4080" indent="-457200">
              <a:lnSpc>
                <a:spcPct val="115000"/>
              </a:lnSpc>
              <a:buClr>
                <a:srgbClr val="ffffff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Calibri"/>
              </a:rPr>
              <a:t>Uncompensated metabolic alkalosi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9E8E9-23D4-4488-A6ED-361A2F391413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 Box 3"/>
          <p:cNvSpPr/>
          <p:nvPr/>
        </p:nvSpPr>
        <p:spPr>
          <a:xfrm>
            <a:off x="539640" y="692280"/>
            <a:ext cx="8151840" cy="31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74 y-o </a:t>
            </a:r>
            <a:r>
              <a:rPr b="0" lang="en-US" sz="2400" spc="-1" strike="noStrike">
                <a:solidFill>
                  <a:srgbClr val="ffffff"/>
                </a:solidFill>
                <a:latin typeface="Webdings"/>
                <a:ea typeface="Webdings"/>
              </a:rPr>
              <a:t>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with hx chronic renal failure and chronic diuretic therapy was admitted to ICU comatose and severely dehydrated.  On 40% oxygen her ABG &amp; Vital Sig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7.5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30/90 mmH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55 mmH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ul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20/m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92 mmH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5/m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2 mmol/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Text Box 4"/>
          <p:cNvSpPr/>
          <p:nvPr/>
        </p:nvSpPr>
        <p:spPr>
          <a:xfrm>
            <a:off x="847800" y="4724280"/>
            <a:ext cx="775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Interpretation:  compensated metaboli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lkalos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WordArt 2"/>
          <p:cNvSpPr txBox="1"/>
          <p:nvPr/>
        </p:nvSpPr>
        <p:spPr>
          <a:xfrm>
            <a:off x="2057400" y="1371600"/>
            <a:ext cx="54864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ank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78" name="Slide Number Placeholder 2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BAF93-6D18-4CB8-8D1F-8006114BCC67}" type="slidenum"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D8AEC-A682-45AF-92BD-CF3708587BA4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556560" y="2286000"/>
            <a:ext cx="8097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  <a:ea typeface="Arial"/>
              </a:rPr>
              <a:t>Disturbances of Acid-Base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  <a:ea typeface="Arial"/>
              </a:rPr>
              <a:t>Balan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4"/>
          <p:cNvSpPr/>
          <p:nvPr/>
        </p:nvSpPr>
        <p:spPr>
          <a:xfrm>
            <a:off x="665280" y="809640"/>
            <a:ext cx="788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Disturbances of Acid-Base Bal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535320" y="1762200"/>
            <a:ext cx="82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id-base disturbances may be either </a:t>
            </a:r>
            <a:r>
              <a:rPr b="0" lang="en-GB" sz="2400" spc="-1" strike="noStrike">
                <a:solidFill>
                  <a:srgbClr val="66ff33"/>
                </a:solidFill>
                <a:latin typeface="Arial"/>
              </a:rPr>
              <a:t>RESPIRATOR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ef0bf5"/>
                </a:solidFill>
                <a:latin typeface="Arial"/>
              </a:rPr>
              <a:t>METABOLIC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542520" y="2739960"/>
            <a:ext cx="79239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H problems due to a respiratory disorder result i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RESPIRATOR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cidosis or alkalos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pH problems arising from acids or bases of a non-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igin result in </a:t>
            </a:r>
            <a:r>
              <a:rPr b="1" lang="en-GB" sz="2400" spc="-1" strike="noStrike">
                <a:solidFill>
                  <a:srgbClr val="ef0bf5"/>
                </a:solidFill>
                <a:latin typeface="Arial"/>
              </a:rPr>
              <a:t>METABOLIC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cidosis or alkalos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0" y="928440"/>
            <a:ext cx="915192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b8803"/>
                </a:solidFill>
                <a:latin typeface="Arial"/>
                <a:ea typeface="Arial"/>
              </a:rPr>
              <a:t>Respiratory Acidosi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49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Associated with </a:t>
            </a:r>
            <a:r>
              <a:rPr b="1" lang="en-GB" sz="2000" spc="-1" strike="noStrike">
                <a:solidFill>
                  <a:srgbClr val="66ff33"/>
                </a:solidFill>
                <a:latin typeface="Arial"/>
                <a:ea typeface="Arial"/>
              </a:rPr>
              <a:t>RESPIRATORY FAILUR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e.g.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COPDs like emphysema)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425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  <a:ea typeface="Arial"/>
              </a:rPr>
              <a:t>Inadequate alveolar ventilation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425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  <a:ea typeface="Arial"/>
              </a:rPr>
              <a:t>Impaired gas diffusion (</a:t>
            </a:r>
            <a:r>
              <a:rPr b="0" i="1" lang="en-GB" sz="1700" spc="-1" strike="noStrike">
                <a:solidFill>
                  <a:srgbClr val="ffffff"/>
                </a:solidFill>
                <a:latin typeface="Arial"/>
                <a:ea typeface="Arial"/>
              </a:rPr>
              <a:t>e.g.</a:t>
            </a:r>
            <a:r>
              <a:rPr b="0" lang="en-GB" sz="1700" spc="-1" strike="noStrike">
                <a:solidFill>
                  <a:srgbClr val="ffffff"/>
                </a:solidFill>
                <a:latin typeface="Arial"/>
                <a:ea typeface="Arial"/>
              </a:rPr>
              <a:t> pulmonary oedema)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49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Characterised by ↑ Pco</a:t>
            </a:r>
            <a:r>
              <a:rPr b="1" lang="en-GB" sz="2000" spc="-1" strike="noStrike" baseline="-25000">
                <a:solidFill>
                  <a:srgbClr val="ef0bf5"/>
                </a:solidFill>
                <a:latin typeface="Arial"/>
                <a:ea typeface="Arial"/>
              </a:rPr>
              <a:t>2</a:t>
            </a:r>
            <a:r>
              <a:rPr b="1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 (hypercapnia) and ↓ plasma pH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nitial response is increased conversion of CO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to H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and  HCO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49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INCREASE</a:t>
            </a:r>
            <a:r>
              <a:rPr b="0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 in ECF [H</a:t>
            </a:r>
            <a:r>
              <a:rPr b="0" lang="en-GB" sz="2000" spc="-1" strike="noStrike" baseline="30000">
                <a:solidFill>
                  <a:srgbClr val="ef0bf5"/>
                </a:solidFill>
                <a:latin typeface="Arial"/>
                <a:ea typeface="Arial"/>
              </a:rPr>
              <a:t>+</a:t>
            </a:r>
            <a:r>
              <a:rPr b="0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] </a:t>
            </a:r>
            <a:r>
              <a:rPr b="1" lang="en-GB" sz="2000" spc="-1" strike="noStrike" u="sng">
                <a:solidFill>
                  <a:srgbClr val="ef0bf5"/>
                </a:solidFill>
                <a:uFillTx/>
                <a:latin typeface="Arial"/>
                <a:ea typeface="Arial"/>
              </a:rPr>
              <a:t>and</a:t>
            </a:r>
            <a:r>
              <a:rPr b="0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 plasma [HCO</a:t>
            </a:r>
            <a:r>
              <a:rPr b="0" lang="en-GB" sz="2000" spc="-1" strike="noStrike" baseline="-25000">
                <a:solidFill>
                  <a:srgbClr val="ef0bf5"/>
                </a:solidFill>
                <a:latin typeface="Arial"/>
                <a:ea typeface="Arial"/>
              </a:rPr>
              <a:t>3</a:t>
            </a:r>
            <a:r>
              <a:rPr b="0" lang="en-GB" sz="2000" spc="-1" strike="noStrike" baseline="30000">
                <a:solidFill>
                  <a:srgbClr val="ef0bf5"/>
                </a:solidFill>
                <a:latin typeface="Arial"/>
                <a:ea typeface="Arial"/>
              </a:rPr>
              <a:t>-</a:t>
            </a:r>
            <a:r>
              <a:rPr b="0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]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66ff33"/>
                </a:solidFill>
                <a:latin typeface="Arial"/>
                <a:ea typeface="Arial"/>
              </a:rPr>
              <a:t>INCREASED </a:t>
            </a: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i) renal </a:t>
            </a:r>
            <a:r>
              <a:rPr b="1" lang="en-IE" sz="2000" spc="-1" strike="noStrike">
                <a:solidFill>
                  <a:srgbClr val="ffff00"/>
                </a:solidFill>
                <a:latin typeface="Arial"/>
                <a:ea typeface="Arial"/>
              </a:rPr>
              <a:t>SECRETION OF H</a:t>
            </a:r>
            <a:r>
              <a:rPr b="1" lang="en-IE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+</a:t>
            </a: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 and ii) </a:t>
            </a:r>
            <a:r>
              <a:rPr b="1" lang="en-IE" sz="2000" spc="-1" strike="noStrike">
                <a:solidFill>
                  <a:srgbClr val="0099ff"/>
                </a:solidFill>
                <a:latin typeface="Arial"/>
                <a:ea typeface="Arial"/>
              </a:rPr>
              <a:t>ABSORPTION OF </a:t>
            </a:r>
            <a:r>
              <a:rPr b="1" lang="en-GB" sz="2000" spc="-1" strike="noStrike">
                <a:solidFill>
                  <a:srgbClr val="0099ff"/>
                </a:solidFill>
                <a:latin typeface="Arial"/>
                <a:ea typeface="Arial"/>
              </a:rPr>
              <a:t>HCO</a:t>
            </a:r>
            <a:r>
              <a:rPr b="1" lang="en-GB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3</a:t>
            </a:r>
            <a:r>
              <a:rPr b="1" lang="en-GB" sz="2000" spc="-1" strike="noStrike" baseline="30000">
                <a:solidFill>
                  <a:srgbClr val="0099ff"/>
                </a:solidFill>
                <a:latin typeface="Arial"/>
                <a:ea typeface="Arial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baseline="30000">
                <a:solidFill>
                  <a:srgbClr val="0099ff"/>
                </a:solidFill>
                <a:latin typeface="Arial"/>
                <a:ea typeface="Arial"/>
              </a:rPr>
              <a:t>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i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 COMPENSATORY MECHANISM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- ACUTELY</a:t>
            </a:r>
            <a:r>
              <a:rPr b="0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 ,1 mEq/L [HCO</a:t>
            </a:r>
            <a:r>
              <a:rPr b="0" lang="en-GB" sz="2000" spc="-1" strike="noStrike" baseline="-25000">
                <a:solidFill>
                  <a:srgbClr val="ef0bf5"/>
                </a:solidFill>
                <a:latin typeface="Arial"/>
                <a:ea typeface="Arial"/>
              </a:rPr>
              <a:t>3</a:t>
            </a:r>
            <a:r>
              <a:rPr b="0" lang="en-GB" sz="2000" spc="-1" strike="noStrike" baseline="30000">
                <a:solidFill>
                  <a:srgbClr val="ef0bf5"/>
                </a:solidFill>
                <a:latin typeface="Arial"/>
                <a:ea typeface="Arial"/>
              </a:rPr>
              <a:t>-</a:t>
            </a:r>
            <a:r>
              <a:rPr b="0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] per 10 mm Hg </a:t>
            </a:r>
            <a:r>
              <a:rPr b="0" lang="en-GB" sz="2000" spc="-1" strike="noStrike">
                <a:solidFill>
                  <a:srgbClr val="ef0bf5"/>
                </a:solidFill>
                <a:latin typeface="Symbol"/>
                <a:ea typeface="Symbol"/>
              </a:rPr>
              <a:t></a:t>
            </a:r>
            <a:r>
              <a:rPr b="0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 in Pco</a:t>
            </a:r>
            <a:r>
              <a:rPr b="0" lang="en-GB" sz="2000" spc="-1" strike="noStrike" baseline="-25000">
                <a:solidFill>
                  <a:srgbClr val="ef0bf5"/>
                </a:solidFill>
                <a:latin typeface="Arial"/>
                <a:ea typeface="Arial"/>
              </a:rPr>
              <a:t>2 </a:t>
            </a:r>
            <a:r>
              <a:rPr b="0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(tissue buffering)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-</a:t>
            </a:r>
            <a:r>
              <a:rPr b="0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CHRONICALLY</a:t>
            </a:r>
            <a:r>
              <a:rPr b="0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, 3.5 mEq/L [HCO</a:t>
            </a:r>
            <a:r>
              <a:rPr b="0" lang="en-GB" sz="2000" spc="-1" strike="noStrike" baseline="-25000">
                <a:solidFill>
                  <a:srgbClr val="ef0bf5"/>
                </a:solidFill>
                <a:latin typeface="Arial"/>
                <a:ea typeface="Arial"/>
              </a:rPr>
              <a:t>3</a:t>
            </a:r>
            <a:r>
              <a:rPr b="0" lang="en-GB" sz="2000" spc="-1" strike="noStrike" baseline="30000">
                <a:solidFill>
                  <a:srgbClr val="ef0bf5"/>
                </a:solidFill>
                <a:latin typeface="Arial"/>
                <a:ea typeface="Arial"/>
              </a:rPr>
              <a:t>-</a:t>
            </a:r>
            <a:r>
              <a:rPr b="0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] per 10 mm Hg </a:t>
            </a:r>
            <a:r>
              <a:rPr b="0" lang="en-GB" sz="2000" spc="-1" strike="noStrike">
                <a:solidFill>
                  <a:srgbClr val="ef0bf5"/>
                </a:solidFill>
                <a:latin typeface="Symbol"/>
                <a:ea typeface="Symbol"/>
              </a:rPr>
              <a:t></a:t>
            </a:r>
            <a:r>
              <a:rPr b="0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 in Pco</a:t>
            </a:r>
            <a:r>
              <a:rPr b="0" lang="en-GB" sz="2000" spc="-1" strike="noStrike" baseline="-25000">
                <a:solidFill>
                  <a:srgbClr val="ef0bf5"/>
                </a:solidFill>
                <a:latin typeface="Arial"/>
                <a:ea typeface="Arial"/>
              </a:rPr>
              <a:t>2</a:t>
            </a:r>
            <a:r>
              <a:rPr b="0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( renal acid excretion)</a:t>
            </a: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7" name="Rectangle 2"/>
          <p:cNvSpPr/>
          <p:nvPr/>
        </p:nvSpPr>
        <p:spPr>
          <a:xfrm>
            <a:off x="495360" y="165960"/>
            <a:ext cx="825336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spiratory Acido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3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3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3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3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3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Slide Number Placeholder 1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48737-C1E6-4C7B-9450-ABEF19B7AD27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 Box 4"/>
          <p:cNvSpPr/>
          <p:nvPr/>
        </p:nvSpPr>
        <p:spPr>
          <a:xfrm>
            <a:off x="2386440" y="344520"/>
            <a:ext cx="43992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Davenport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Acid-base alt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0" name="Picture 4" descr="Davenport diagram-fig 30"/>
          <p:cNvPicPr/>
          <p:nvPr/>
        </p:nvPicPr>
        <p:blipFill>
          <a:blip r:embed="rId1"/>
          <a:stretch/>
        </p:blipFill>
        <p:spPr>
          <a:xfrm>
            <a:off x="3484440" y="1744560"/>
            <a:ext cx="4730760" cy="3970440"/>
          </a:xfrm>
          <a:prstGeom prst="rect">
            <a:avLst/>
          </a:prstGeom>
          <a:ln w="0">
            <a:noFill/>
          </a:ln>
        </p:spPr>
      </p:pic>
      <p:sp>
        <p:nvSpPr>
          <p:cNvPr id="391" name="Rectangle 4"/>
          <p:cNvSpPr/>
          <p:nvPr/>
        </p:nvSpPr>
        <p:spPr>
          <a:xfrm>
            <a:off x="581040" y="1714680"/>
            <a:ext cx="24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ff"/>
                </a:solidFill>
                <a:latin typeface="Arial"/>
              </a:rPr>
              <a:t>Respiratory Acido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679680" y="2214720"/>
            <a:ext cx="250452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f0bf5"/>
                </a:solidFill>
                <a:latin typeface="Arial"/>
              </a:rPr>
              <a:t>↓ </a:t>
            </a:r>
            <a:r>
              <a:rPr b="1" lang="en-GB" sz="1800" spc="-1" strike="noStrike">
                <a:solidFill>
                  <a:srgbClr val="ef0bf5"/>
                </a:solidFill>
                <a:latin typeface="Arial"/>
              </a:rPr>
              <a:t>plasma pH, ↑ Pco</a:t>
            </a:r>
            <a:r>
              <a:rPr b="1" lang="en-GB" sz="1800" spc="-1" strike="noStrike" baseline="-25000">
                <a:solidFill>
                  <a:srgbClr val="ef0bf5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ef0bf5"/>
                </a:solidFill>
                <a:latin typeface="Arial"/>
              </a:rPr>
              <a:t>,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f0bf5"/>
                </a:solidFill>
                <a:latin typeface="Arial"/>
              </a:rPr>
              <a:t>↑ </a:t>
            </a:r>
            <a:r>
              <a:rPr b="1" lang="en-GB" sz="1800" spc="-1" strike="noStrike">
                <a:solidFill>
                  <a:srgbClr val="ef0bf5"/>
                </a:solidFill>
                <a:latin typeface="Arial"/>
              </a:rPr>
              <a:t>plasma [HCO</a:t>
            </a:r>
            <a:r>
              <a:rPr b="1" lang="en-GB" sz="1800" spc="-1" strike="noStrike" baseline="-25000">
                <a:solidFill>
                  <a:srgbClr val="ef0bf5"/>
                </a:solidFill>
                <a:latin typeface="Arial"/>
              </a:rPr>
              <a:t>3</a:t>
            </a:r>
            <a:r>
              <a:rPr b="1" lang="en-GB" sz="1800" spc="-1" strike="noStrike" baseline="30000">
                <a:solidFill>
                  <a:srgbClr val="ef0bf5"/>
                </a:solidFill>
                <a:latin typeface="Arial"/>
              </a:rPr>
              <a:t>-</a:t>
            </a:r>
            <a:r>
              <a:rPr b="1" lang="en-GB" sz="1800" spc="-1" strike="noStrike">
                <a:solidFill>
                  <a:srgbClr val="ef0bf5"/>
                </a:solidFill>
                <a:latin typeface="Arial"/>
              </a:rPr>
              <a:t>]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533520" y="112536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53520" indent="-2944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Arial"/>
                <a:ea typeface="Arial"/>
              </a:rPr>
              <a:t>Respiratory Alkalosi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36120" indent="-245520">
              <a:lnSpc>
                <a:spcPct val="100000"/>
              </a:lnSpc>
              <a:spcBef>
                <a:spcPts val="5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Reduced plasma Pco</a:t>
            </a:r>
            <a:r>
              <a:rPr b="0" lang="en-GB" sz="2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 (hypocapnia) and elevated pH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36120" indent="-245520">
              <a:lnSpc>
                <a:spcPct val="100000"/>
              </a:lnSpc>
              <a:spcBef>
                <a:spcPts val="5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Caused by increased gas exchange mainly due to </a:t>
            </a:r>
            <a:r>
              <a:rPr b="1" lang="en-GB" sz="2200" spc="-1" strike="noStrike">
                <a:solidFill>
                  <a:srgbClr val="ef0bf5"/>
                </a:solidFill>
                <a:latin typeface="Arial"/>
                <a:ea typeface="Arial"/>
              </a:rPr>
              <a:t>HYPERVENTILATION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2" marL="855720" indent="-196560">
              <a:lnSpc>
                <a:spcPct val="100000"/>
              </a:lnSpc>
              <a:spcBef>
                <a:spcPts val="499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Anxiety / fear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855720" indent="-196560">
              <a:lnSpc>
                <a:spcPct val="100000"/>
              </a:lnSpc>
              <a:spcBef>
                <a:spcPts val="499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High altitud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855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f0bf5"/>
                </a:solidFill>
                <a:latin typeface="Arial"/>
                <a:ea typeface="Arial"/>
              </a:rPr>
              <a:t>- Characterised by ↓ Pco</a:t>
            </a:r>
            <a:r>
              <a:rPr b="1" lang="en-GB" sz="2800" spc="-1" strike="noStrike" baseline="-25000">
                <a:solidFill>
                  <a:srgbClr val="ef0bf5"/>
                </a:solidFill>
                <a:latin typeface="Arial"/>
                <a:ea typeface="Arial"/>
              </a:rPr>
              <a:t>2</a:t>
            </a:r>
            <a:r>
              <a:rPr b="1" lang="en-GB" sz="2800" spc="-1" strike="noStrike">
                <a:solidFill>
                  <a:srgbClr val="ef0bf5"/>
                </a:solidFill>
                <a:latin typeface="Arial"/>
                <a:ea typeface="Arial"/>
              </a:rPr>
              <a:t> and ↑ plasma pH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2" marL="8557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 marL="353520" indent="-2944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Reduction in P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shifts buffering reaction to the lef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36120" indent="-245520">
              <a:lnSpc>
                <a:spcPct val="100000"/>
              </a:lnSpc>
              <a:spcBef>
                <a:spcPts val="5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00"/>
                </a:solidFill>
                <a:latin typeface="Arial"/>
                <a:ea typeface="Arial"/>
              </a:rPr>
              <a:t>DECREASE </a:t>
            </a:r>
            <a:r>
              <a:rPr b="0" lang="en-GB" sz="2200" spc="-1" strike="noStrike">
                <a:solidFill>
                  <a:srgbClr val="ffff00"/>
                </a:solidFill>
                <a:latin typeface="Arial"/>
                <a:ea typeface="Arial"/>
              </a:rPr>
              <a:t>in ECF [H</a:t>
            </a:r>
            <a:r>
              <a:rPr b="0" lang="en-GB" sz="22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+</a:t>
            </a:r>
            <a:r>
              <a:rPr b="0" lang="en-GB" sz="2200" spc="-1" strike="noStrike">
                <a:solidFill>
                  <a:srgbClr val="ffff00"/>
                </a:solidFill>
                <a:latin typeface="Arial"/>
                <a:ea typeface="Arial"/>
              </a:rPr>
              <a:t>] </a:t>
            </a:r>
            <a:r>
              <a:rPr b="0" lang="en-GB" sz="2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and</a:t>
            </a:r>
            <a:r>
              <a:rPr b="0" lang="en-GB" sz="2200" spc="-1" strike="noStrike">
                <a:solidFill>
                  <a:srgbClr val="ffff00"/>
                </a:solidFill>
                <a:latin typeface="Arial"/>
                <a:ea typeface="Arial"/>
              </a:rPr>
              <a:t> plasma [HCO</a:t>
            </a:r>
            <a:r>
              <a:rPr b="0" lang="en-GB" sz="22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3</a:t>
            </a:r>
            <a:r>
              <a:rPr b="0" lang="en-GB" sz="22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-</a:t>
            </a:r>
            <a:r>
              <a:rPr b="0" lang="en-GB" sz="2200" spc="-1" strike="noStrike">
                <a:solidFill>
                  <a:srgbClr val="ffff00"/>
                </a:solidFill>
                <a:latin typeface="Arial"/>
                <a:ea typeface="Arial"/>
              </a:rPr>
              <a:t>]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53520" indent="-2944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0000"/>
                </a:solidFill>
                <a:latin typeface="Arial"/>
                <a:ea typeface="Arial"/>
              </a:rPr>
              <a:t>DECREASED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i) renal </a:t>
            </a:r>
            <a:r>
              <a:rPr b="1" lang="en-IE" sz="2400" spc="-1" strike="noStrike">
                <a:solidFill>
                  <a:srgbClr val="ffff00"/>
                </a:solidFill>
                <a:latin typeface="Arial"/>
                <a:ea typeface="Arial"/>
              </a:rPr>
              <a:t>SECRETION</a:t>
            </a:r>
            <a:r>
              <a:rPr b="0" lang="en-IE" sz="2400" spc="-1" strike="noStrike">
                <a:solidFill>
                  <a:srgbClr val="ffff00"/>
                </a:solidFill>
                <a:latin typeface="Arial"/>
                <a:ea typeface="Arial"/>
              </a:rPr>
              <a:t> of H</a:t>
            </a:r>
            <a:r>
              <a:rPr b="0" lang="en-IE" sz="24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+</a:t>
            </a:r>
            <a:r>
              <a:rPr b="0" lang="en-IE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IE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nd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ii) </a:t>
            </a:r>
            <a:r>
              <a:rPr b="1" lang="en-IE" sz="2400" spc="-1" strike="noStrike">
                <a:solidFill>
                  <a:srgbClr val="0099ff"/>
                </a:solidFill>
                <a:latin typeface="Arial"/>
                <a:ea typeface="Arial"/>
              </a:rPr>
              <a:t>ABSORPTION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of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H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(still an excess of H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relative to H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)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is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COMPENSATORY MECHANISM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4" name="Rectangle 2"/>
          <p:cNvSpPr/>
          <p:nvPr/>
        </p:nvSpPr>
        <p:spPr>
          <a:xfrm>
            <a:off x="495360" y="165960"/>
            <a:ext cx="825336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spiratory Alkalo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Rectangle 3"/>
          <p:cNvSpPr/>
          <p:nvPr/>
        </p:nvSpPr>
        <p:spPr>
          <a:xfrm>
            <a:off x="2386440" y="6215040"/>
            <a:ext cx="26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ffffff"/>
                </a:solidFill>
                <a:latin typeface="Arial"/>
              </a:rPr>
              <a:t>(see G &amp;H, p.396-7</a:t>
            </a: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3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lide Number Placeholder 1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90BB0-8142-4665-AA0F-69F047046FE8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4"/>
          <p:cNvSpPr/>
          <p:nvPr/>
        </p:nvSpPr>
        <p:spPr>
          <a:xfrm>
            <a:off x="2437560" y="344520"/>
            <a:ext cx="43992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Davenport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Acid-base alt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8" name="Picture 4" descr="Davenport diagram-fig 30"/>
          <p:cNvPicPr/>
          <p:nvPr/>
        </p:nvPicPr>
        <p:blipFill>
          <a:blip r:embed="rId1"/>
          <a:stretch/>
        </p:blipFill>
        <p:spPr>
          <a:xfrm>
            <a:off x="3556080" y="1835280"/>
            <a:ext cx="4730760" cy="397008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4"/>
          <p:cNvSpPr/>
          <p:nvPr/>
        </p:nvSpPr>
        <p:spPr>
          <a:xfrm>
            <a:off x="581400" y="1714680"/>
            <a:ext cx="25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Respiratory Alkalo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5"/>
          <p:cNvSpPr/>
          <p:nvPr/>
        </p:nvSpPr>
        <p:spPr>
          <a:xfrm>
            <a:off x="648000" y="2214720"/>
            <a:ext cx="250452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↑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lasma pH,↓ Pco</a:t>
            </a:r>
            <a:r>
              <a:rPr b="1" lang="en-GB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,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↓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lasma [HCO</a:t>
            </a:r>
            <a:r>
              <a:rPr b="1" lang="en-GB" sz="1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GB" sz="1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]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4"/>
          <p:cNvSpPr/>
          <p:nvPr/>
        </p:nvSpPr>
        <p:spPr>
          <a:xfrm>
            <a:off x="1149840" y="100080"/>
            <a:ext cx="691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Metabolic Acidosis &amp; Alkalo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Rectangle 6"/>
          <p:cNvSpPr/>
          <p:nvPr/>
        </p:nvSpPr>
        <p:spPr>
          <a:xfrm>
            <a:off x="-440280" y="1041480"/>
            <a:ext cx="908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etabolic acidosis and alkalosis includes all situations o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han those in which primary problem is respirato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ectangle 6"/>
          <p:cNvSpPr/>
          <p:nvPr/>
        </p:nvSpPr>
        <p:spPr>
          <a:xfrm>
            <a:off x="-382320" y="2090880"/>
            <a:ext cx="927072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y definition, metabolic acidosis and alkalosis cannot be du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 excess retention or loss of 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- </a:t>
            </a:r>
            <a:r>
              <a:rPr b="0" lang="en-US" sz="2400" spc="-1" strike="noStrike">
                <a:solidFill>
                  <a:srgbClr val="66ff33"/>
                </a:solidFill>
                <a:latin typeface="Arial"/>
                <a:ea typeface="ＭＳ Ｐゴシック"/>
              </a:rPr>
              <a:t>does arterial Pco</a:t>
            </a:r>
            <a:r>
              <a:rPr b="0" lang="en-US" sz="2400" spc="-1" strike="noStrike" baseline="-25000">
                <a:solidFill>
                  <a:srgbClr val="66ff33"/>
                </a:solidFill>
                <a:latin typeface="Arial"/>
                <a:ea typeface="ＭＳ Ｐゴシック"/>
              </a:rPr>
              <a:t>2</a:t>
            </a:r>
            <a:r>
              <a:rPr b="0" lang="en-US" sz="2400" spc="-1" strike="noStrike">
                <a:solidFill>
                  <a:srgbClr val="66ff33"/>
                </a:solidFill>
                <a:latin typeface="Arial"/>
                <a:ea typeface="ＭＳ Ｐゴシック"/>
              </a:rPr>
              <a:t> remain unchanged in these cas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6"/>
          <p:cNvSpPr/>
          <p:nvPr/>
        </p:nvSpPr>
        <p:spPr>
          <a:xfrm>
            <a:off x="-478080" y="3392640"/>
            <a:ext cx="176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O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6"/>
          <p:cNvSpPr/>
          <p:nvPr/>
        </p:nvSpPr>
        <p:spPr>
          <a:xfrm>
            <a:off x="-414360" y="3886200"/>
            <a:ext cx="966024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↑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[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] in acidosis will reflexly stimulate ventilation to lower P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versely, ventilation will be inhibited in alkalosis to rest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[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]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6"/>
          <p:cNvSpPr/>
          <p:nvPr/>
        </p:nvSpPr>
        <p:spPr>
          <a:xfrm>
            <a:off x="-410400" y="5216400"/>
            <a:ext cx="94143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member, plasma P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changes during metabolic acidosis 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kalosis are 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ul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of, not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au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of, compensatory ref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ponses to non-respiratory abnormali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2T09:34:33Z</dcterms:created>
  <dc:creator>Computer Centre</dc:creator>
  <dc:description/>
  <dc:language>en-US</dc:language>
  <cp:lastModifiedBy>Ahmad Ahmeda</cp:lastModifiedBy>
  <dcterms:modified xsi:type="dcterms:W3CDTF">2016-05-02T04:16:09Z</dcterms:modified>
  <cp:revision>520</cp:revision>
  <dc:subject/>
  <dc:title>Slide 1</dc:title>
</cp:coreProperties>
</file>